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97742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0D8E-BCDC-4BA8-84D7-482BB35A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68B5-5DE3-417D-A00F-6D77376A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F3BD-2618-4AED-9E4B-EFABC0AE9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439B-DEAF-470B-9442-A797045D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613F-24CF-4F21-B5DD-F568B6E48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2A1F-DD70-4CE4-84F7-6001E5DC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77ED-9F4F-45CF-80C4-02AF0408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1D92-DC41-44C1-93A5-6D352912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42DC-2AC4-4EDA-AADC-649C3386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CBE6-4306-47CD-B3F4-C4EB619F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A686-CA6B-43C7-A5BD-578D014D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3143-99B0-4C77-933D-3934AE01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6736-C3C8-4A19-8FD5-6039791A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638C-0B2F-45A6-A750-9BFA4BD0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2213-E6DA-4EA0-B454-F2A4AFEE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C4B0-BE64-4455-A30E-0ABE6E59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5DA9-290B-4AC6-AAC6-B13707EA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0E1B-6F93-4798-976A-AE984CAE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5C0C-4E66-4DBC-91DF-F2238EFC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CF74-A7E7-4339-A994-7DCEE544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FB88-75B3-4667-AA00-33939D1A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CC1F-86B1-401A-99CB-66E0A673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9192-1DEC-4328-A934-C1E2C049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FA38-4450-4DF0-89E1-8FA5EE6A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ffffcc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6911-B638-4468-B264-0B0B958B3A4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ffffcc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21E2-25FD-4EDE-816C-622D2EC0980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50000">
              <a:srgbClr val="ffffcc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66"/>
                </a:solidFill>
                <a:latin typeface="Bookman Old Style"/>
              </a:rPr>
              <a:t>Prim. mr. sc. Josip Čulig, dr. med.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Bookman Old Style"/>
              </a:rPr>
              <a:t>VJEŠTINA PREZENTACIJ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5105520"/>
            <a:ext cx="4952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Bookman Old Style"/>
              </a:rPr>
              <a:t>Visoka zdravstvena ško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Bookman Old Style"/>
              </a:rPr>
              <a:t>Management u zdravstv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57600" y="3429000"/>
          <a:ext cx="152388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3429000"/>
                    <a:ext cx="15238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EE5D-F917-4F10-BBDA-73285C270D94}" type="slidenum">
              <a:t>1</a:t>
            </a:fld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50000">
              <a:srgbClr val="ffffcc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Bookman Old Style"/>
              </a:rPr>
              <a:t>P - O - W - E - R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Produce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-  prikupite materijal o 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   temi koju želite       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   prezentira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Organize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-  razvrstajte materij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Write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-  3 - 7 poruk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Edit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-  struktura prezentacij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Refine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-  kontinuiran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   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obogaćujte svoj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   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predavanja novim                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   podacima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046A-3630-4B34-A0CD-8B4DCDC09728}" type="slidenum">
              <a:t>10</a:t>
            </a:fld>
          </a:p>
        </p:txBody>
      </p:sp>
    </p:spTree>
  </p:cSld>
  <p:transition>
    <p:checker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50000">
              <a:srgbClr val="ffffcc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Bookman Old Style"/>
              </a:rPr>
              <a:t>STRUKTURA PREZENTACIJE (1)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5800" y="2604960"/>
          <a:ext cx="7848720" cy="421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04960"/>
                    <a:ext cx="7848720" cy="42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76212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AE07-7D1B-4489-93F3-8A37A32099B6}" type="slidenum">
              <a:t>11</a:t>
            </a:fld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50000">
              <a:srgbClr val="ffffcc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71440" y="990720"/>
            <a:ext cx="68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Bookman Old Style"/>
              </a:rPr>
              <a:t>STRUKTURA PREZENTACIJE (2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066680" y="2286000"/>
          <a:ext cx="7689960" cy="48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0"/>
                    <a:ext cx="7689960" cy="48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429000" y="2590920"/>
            <a:ext cx="893880" cy="192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A0A2-F695-4DDC-81FD-032E2A8F59D3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50000">
              <a:srgbClr val="ffffcc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Bookman Old Style"/>
              </a:rPr>
              <a:t>OSOBNA PRIPREMA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176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glas (mikrofon?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naglasc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fraz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pojavno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fizičke karakteristik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376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iskustv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energij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osjećaj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stil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osobno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6479-DB07-450F-9274-8C7110144E65}" type="slidenum">
              <a:t>13</a:t>
            </a:fld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50000">
              <a:srgbClr val="ffffcc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66"/>
                </a:solidFill>
                <a:latin typeface="Bookman Old Style"/>
              </a:rPr>
              <a:t>“</a:t>
            </a:r>
            <a:r>
              <a:rPr b="1" lang="en-GB" sz="3200" spc="-1" strike="noStrike">
                <a:solidFill>
                  <a:srgbClr val="ffcc66"/>
                </a:solidFill>
                <a:latin typeface="Bookman Old Style"/>
              </a:rPr>
              <a:t>GOVORNIK JE LOŠ AKO NEMA ŠTO REĆI”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cc66"/>
                </a:solidFill>
                <a:latin typeface="Bookman Old Style"/>
              </a:rPr>
              <a:t>                      Voltaire</a:t>
            </a:r>
            <a:br>
              <a:rPr sz="3200"/>
            </a:br>
            <a:br>
              <a:rPr sz="3600"/>
            </a:br>
            <a:br>
              <a:rPr sz="3600"/>
            </a:br>
            <a:r>
              <a:rPr b="1" lang="en-GB" sz="3400" spc="-1" strike="noStrike">
                <a:solidFill>
                  <a:srgbClr val="0033cc"/>
                </a:solidFill>
                <a:latin typeface="Bookman Old Style"/>
              </a:rPr>
              <a:t>DOBAR GOVORNIK JE OSOBA KOJA KAŽE ŠTO OSJEĆA I OSJEĆA ŠTO KAŽE!</a:t>
            </a:r>
            <a:endParaRPr b="0" i="1" lang="en-US" sz="3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57C6-482C-4395-BED1-29BA24AADE05}" type="slidenum">
              <a:t>14</a:t>
            </a:fld>
          </a:p>
        </p:txBody>
      </p:sp>
    </p:spTree>
  </p:cSld>
  <p:transition>
    <p:checker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50000">
              <a:srgbClr val="ffffcc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904760"/>
            <a:ext cx="861048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66"/>
                </a:solidFill>
                <a:latin typeface="Bookman Old Style"/>
              </a:rPr>
              <a:t>DRŽITE SE ISPLANIRANOG VREMENA! 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33cc"/>
                </a:solidFill>
                <a:latin typeface="Bookman Old Style"/>
              </a:rPr>
              <a:t>ZAVRŠITE SA ZAKLJUČCIMA!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9A46-EB34-466B-8111-6C0FA2F64DA6}" type="slidenum">
              <a:t>15</a:t>
            </a:fld>
          </a:p>
        </p:txBody>
      </p:sp>
    </p:spTree>
  </p:cSld>
  <p:transition>
    <p:checker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50000">
              <a:srgbClr val="ffffcc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Bookman Old Style"/>
              </a:rPr>
              <a:t>KAKO UNAPRIJEDITI VJEŠTINU PREZENTIRANJA?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2438280"/>
            <a:ext cx="67816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Bookman Old Style"/>
              </a:rPr>
              <a:t>Moramo vjerovati da je to moguće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Bookman Old Style"/>
              </a:rPr>
              <a:t>Znati da je to poželjno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Bookman Old Style"/>
              </a:rPr>
              <a:t>Željeti da se to dogodi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Bookman Old Style"/>
              </a:rPr>
              <a:t>Raditi na tome uvijek iznova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C948-EB29-4094-84B5-F8FA8FE861D2}" type="slidenum">
              <a:t>2</a:t>
            </a:fld>
          </a:p>
        </p:txBody>
      </p:sp>
    </p:spTree>
  </p:cSld>
  <p:transition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50000">
              <a:srgbClr val="ffffcc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Bookman Old Style"/>
              </a:rPr>
              <a:t>OSNOVNI POSTULATI DOBRE PREZENTACIJE: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budite prirodn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analizirajte prezentaciju i zabilježite poželjne izmje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osigurajte slušanost auditorija (ozvučenj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ne okrivljavajte auditorij za propuste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ne dopustite ometanje za vrijeme prezentacije         pisane bilješke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5638680"/>
            <a:ext cx="685800" cy="152640"/>
          </a:xfrm>
          <a:custGeom>
            <a:avLst/>
            <a:gdLst>
              <a:gd name="textAreaLeft" fmla="*/ 106920 w 685800"/>
              <a:gd name="textAreaRight" fmla="*/ 600120 w 685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91520" y="5638680"/>
            <a:ext cx="685800" cy="152640"/>
          </a:xfrm>
          <a:custGeom>
            <a:avLst/>
            <a:gdLst>
              <a:gd name="textAreaLeft" fmla="*/ 106920 w 685800"/>
              <a:gd name="textAreaRight" fmla="*/ 600120 w 685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1676520" cy="11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3F5A-BC29-4406-924C-7A7F936DE2E7}" type="slidenum">
              <a:t>3</a:t>
            </a:fld>
          </a:p>
        </p:txBody>
      </p:sp>
    </p:spTree>
  </p:cSld>
  <p:transition>
    <p:checker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50000">
              <a:srgbClr val="ffffcc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Bookman Old Style"/>
              </a:rPr>
              <a:t>OSNOVNI POSTULATI DOBRE PREZENTACIJE (2):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81532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vizualna pomagala       govor tijel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   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višeznačnost         nerazumljiv gov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govorite istin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govorite jednostavno (razumljivo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vodite računa o naglašavanju i stankam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2819520"/>
            <a:ext cx="609480" cy="152280"/>
          </a:xfrm>
          <a:custGeom>
            <a:avLst/>
            <a:gdLst>
              <a:gd name="textAreaLeft" fmla="*/ 95040 w 609480"/>
              <a:gd name="textAreaRight" fmla="*/ 533520 w 6094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2895480"/>
            <a:ext cx="609480" cy="152640"/>
          </a:xfrm>
          <a:custGeom>
            <a:avLst/>
            <a:gdLst>
              <a:gd name="textAreaLeft" fmla="*/ 95040 w 609480"/>
              <a:gd name="textAreaRight" fmla="*/ 533520 w 60948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352680"/>
            <a:ext cx="609480" cy="152640"/>
          </a:xfrm>
          <a:custGeom>
            <a:avLst/>
            <a:gdLst>
              <a:gd name="textAreaLeft" fmla="*/ 95040 w 609480"/>
              <a:gd name="textAreaRight" fmla="*/ 533520 w 60948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352680"/>
            <a:ext cx="609480" cy="152640"/>
          </a:xfrm>
          <a:custGeom>
            <a:avLst/>
            <a:gdLst>
              <a:gd name="textAreaLeft" fmla="*/ 95040 w 609480"/>
              <a:gd name="textAreaRight" fmla="*/ 533520 w 60948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3F1D-439E-4B2A-8E42-D929684DBAB0}" type="slidenum">
              <a:t>4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50000">
              <a:srgbClr val="ffffcc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Bookman Old Style"/>
              </a:rPr>
              <a:t>5. ZAPOVIJEDI DOBRE PREZENTACIJE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Bookman Old Style"/>
              </a:rPr>
              <a:t>1)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 PRIPREMA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analizirajte auditorij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organizirajte “tehniku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provjerite vrijeme i 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mjest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pripremite</a:t>
            </a:r>
            <a:r>
              <a:rPr b="0" lang="en-GB" sz="2800" spc="-1" strike="noStrike">
                <a:solidFill>
                  <a:srgbClr val="0033cc"/>
                </a:solidFill>
                <a:latin typeface="Bookman Old Style"/>
              </a:rPr>
              <a:t> 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se!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28195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335268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388620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480060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6513-686F-489E-A688-06EDA7158037}" type="slidenum">
              <a:t>5</a:t>
            </a:fld>
          </a:p>
        </p:txBody>
      </p:sp>
    </p:spTree>
  </p:cSld>
  <p:transition>
    <p:checke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50000">
              <a:srgbClr val="ffffcc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20280" y="1905120"/>
            <a:ext cx="824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Bookman Old Style"/>
              </a:rPr>
              <a:t> </a:t>
            </a:r>
            <a:r>
              <a:rPr b="1" lang="en-GB" sz="2800" spc="-1" strike="noStrike">
                <a:solidFill>
                  <a:srgbClr val="ffcc00"/>
                </a:solidFill>
                <a:latin typeface="Bookman Old Style"/>
              </a:rPr>
              <a:t>2)</a:t>
            </a:r>
            <a:r>
              <a:rPr b="0" lang="en-GB" sz="2800" spc="-1" strike="noStrike">
                <a:solidFill>
                  <a:srgbClr val="0033cc"/>
                </a:solidFill>
                <a:latin typeface="Bookman Old Style"/>
              </a:rPr>
              <a:t> 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SVRHA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zadaci i ciljevi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kako privući pozorno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predstavite se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osigurajte uvjerljivo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izbjegavajte neugodne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situacij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probudite osjećajno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205740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243828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289548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32767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380988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457200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7F84-0E1E-4DB7-9D40-0642B0F7DE27}" type="slidenum">
              <a:t>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50000">
              <a:srgbClr val="ffffcc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88960" y="2666880"/>
            <a:ext cx="74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Bookman Old Style"/>
              </a:rPr>
              <a:t> </a:t>
            </a:r>
            <a:r>
              <a:rPr b="1" lang="en-GB" sz="2800" spc="-1" strike="noStrike">
                <a:solidFill>
                  <a:srgbClr val="ffcc00"/>
                </a:solidFill>
                <a:latin typeface="Bookman Old Style"/>
              </a:rPr>
              <a:t>3)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 NAZOČNOST      budite na prezentaciji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29000" y="28195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6F90-F539-4A96-B1D2-F21FFC9F8B95}" type="slidenum">
              <a:t>7</a:t>
            </a:fld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50000">
              <a:srgbClr val="ffffcc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72040" y="2590920"/>
            <a:ext cx="847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Bookman Old Style"/>
              </a:rPr>
              <a:t>  </a:t>
            </a:r>
            <a:r>
              <a:rPr b="1" lang="en-GB" sz="2800" spc="-1" strike="noStrike">
                <a:solidFill>
                  <a:srgbClr val="ffcc00"/>
                </a:solidFill>
                <a:latin typeface="Bookman Old Style"/>
              </a:rPr>
              <a:t>4)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 STRAST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    pokažite i dokažite svoj 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    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osobni odnos prema        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    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materiji koju prezentirate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274320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2006-AB08-43A2-BB88-709C7B08BCF8}" type="slidenum">
              <a:t>8</a:t>
            </a:fld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50000">
              <a:srgbClr val="ffffcc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87080" y="2590920"/>
            <a:ext cx="854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Bookman Old Style"/>
              </a:rPr>
              <a:t>5)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 OSOBNOST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ponašajte se prirodno, ne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Bookman Old Style"/>
              </a:rPr>
              <a:t>glumite drugu osobu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274320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6F4C-B9F7-4DC2-AE96-1CBA7E60142E}" type="slidenum">
              <a:t>9</a:t>
            </a:fld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6:49:49Z</dcterms:created>
  <dc:creator>Jelena</dc:creator>
  <dc:description/>
  <dc:language>en-US</dc:language>
  <cp:lastModifiedBy>dr. Josip Čulig</cp:lastModifiedBy>
  <cp:lastPrinted>2002-06-12T13:20:13Z</cp:lastPrinted>
  <dcterms:modified xsi:type="dcterms:W3CDTF">2002-12-09T11:15:15Z</dcterms:modified>
  <cp:revision>19</cp:revision>
  <dc:subject/>
  <dc:title>Prim. mr. sc. Josip Čulig, dr. med.</dc:title>
</cp:coreProperties>
</file>