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C76-EB25-4C83-9BF9-1820F39D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40D-C5ED-4897-BF83-EB6EE68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51E-4E41-459C-A8B3-DD92EC9E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543-6A5C-426F-9B37-99E9B5EC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4D2-0B81-4EFF-B48E-068C48F7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AA6-605E-4DB7-A8B8-6E53FDF3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F34-D5DA-4B94-B0B5-3CA40B7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B1B-458F-456C-8945-04B854C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D5B-B871-486F-BCD0-C29A57B2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F9BF-21B6-44A6-B8D1-F25A4DA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8B3E-D9EA-42A5-B906-1F7BA50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59D-C700-4EED-A5CF-B1A17380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35A9-D951-428E-9895-919096A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3510-E7B7-43BC-B5F0-1C377D0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425-EB44-49AC-9E80-7B1A1A2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84D-FE22-468F-8B2E-FEC4F27F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1A97-88B5-4567-A440-40F8500C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A5C-4190-4019-AFEC-9223B5B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621-1F33-4322-A102-5B3B413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218-9FE8-48ED-B0AD-9BF9D3D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065-4ED6-44B9-806B-DE94F8FF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9DC-539E-4763-886C-7C283F0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1F8-CFAB-4206-978E-E91DD42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ED-8332-4FEE-9FCE-4F3CFD5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A1A-E4D2-4D35-AB3B-21E8D406B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93E-B8FD-4FD2-AC44-D2A799FF24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KARDIOVASKULAR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3352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60020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669E-C959-4409-838C-210F474F4467}" type="slidenum">
              <a:t>1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OREMEĆAJI RITMA uzrokuju smanjenje udarnog volumena sr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rad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ah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Mehanizmi antiaritmičkog učin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N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C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tjecaj na K ka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recep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CC8-6850-4437-98E9-CCE2951ADD05}" type="slidenum">
              <a:t>10</a:t>
            </a:fld>
          </a:p>
        </p:txBody>
      </p:sp>
    </p:spTree>
  </p:cSld>
  <p:transition>
    <p:strips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lasifikacija antiaritmik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1880" y="1447920"/>
          <a:ext cx="44938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4938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1523880"/>
            <a:ext cx="0" cy="4648320"/>
          </a:xfrm>
          <a:prstGeom prst="line">
            <a:avLst/>
          </a:prstGeom>
          <a:ln w="9360">
            <a:solidFill>
              <a:srgbClr val="002f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F8A-33B2-4321-AF2A-5D7349614AD4}" type="slidenum">
              <a:t>11</a:t>
            </a:fld>
          </a:p>
        </p:txBody>
      </p:sp>
    </p:spTree>
  </p:cSld>
  <p:transition>
    <p:cover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GINA PEKTORIS (stenokardija)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e sindrom boli kao posljedice ishemije miokar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ZROK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jčešće aterosklero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oronarnih krvnih ž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68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2670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8D6-F728-4A05-BBD2-D7978D481354}" type="slidenum">
              <a:t>12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NITRATI - gliceriltrinitrat,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zosorbitinitrat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slobađa NO (dušični monoksid) koji u glatkim mišićima djeluje dilatacij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G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staje cGMP koji uzrokuje dilataciju glatkih miši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5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495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3F1-77B2-41E8-9407-EB9C92720701}" type="slidenum">
              <a:t>13</a:t>
            </a:fld>
          </a:p>
        </p:txBody>
      </p:sp>
    </p:spTree>
  </p:cSld>
  <p:transition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BLOKATORI - koče refleksnu aktivaciju simpatikus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u frekvenciju srca, smanjuj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kontraktilnost         smanjuju potreb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iokarda za kisiko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429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AF9-9103-4F2B-B710-C922A7B87B8A}" type="slidenum">
              <a:t>14</a:t>
            </a:fld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1828800" cy="1828800"/>
          </a:xfrm>
          <a:prstGeom prst="rect">
            <a:avLst/>
          </a:prstGeom>
          <a:ln w="9360">
            <a:solidFill>
              <a:srgbClr val="66ffcc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BLOKATORI Ca KANAL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eriferni otpor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otrebu miokar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 kisik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erapam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ltiaz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ifedi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2362320"/>
            <a:ext cx="381240" cy="152280"/>
          </a:xfrm>
          <a:custGeom>
            <a:avLst/>
            <a:gdLst>
              <a:gd name="textAreaLeft" fmla="*/ 59400 w 381240"/>
              <a:gd name="textAreaRight" fmla="*/ 333720 w 3812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D5B-77F7-4839-A226-95E88A4D7365}" type="slidenum">
              <a:t>15</a:t>
            </a:fld>
          </a:p>
        </p:txBody>
      </p:sp>
    </p:spTree>
  </p:cSld>
  <p:transition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OVIŠENI KRVNI TLAK - povećan periferni otpor, povećan minutni volumen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URETIC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manjuju volumen tekućine u krvoto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IMPATOLITIC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smanjuju vazokonstriktorni tonus simpatikusa, smanjuju minutni volumen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ZODILATATOR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latiraju glatke mišiće krvnih ž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LOKATORI RENIN - ANGIOTENZINSKOG SUSTAVA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konvertirajući enzim angiotenzina, blokiraju angiotenzinske recep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E92-6AF7-4F36-9A72-C733B8EDC0C2}" type="slidenum">
              <a:t>16</a:t>
            </a:fld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Hemodinamski učinci simpatolitik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523880"/>
          <a:ext cx="7602480" cy="50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0248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153280" y="16765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387-2BB9-49B9-9CB4-BA02F797D2A2}" type="slidenum">
              <a:t>17</a:t>
            </a:fld>
          </a:p>
        </p:txBody>
      </p:sp>
    </p:spTree>
  </p:cSld>
  <p:transition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TEROSKLEROTSKI PLAKOV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u stijenci krvnih žila sastoje se od li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MG-CaA reduktaz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regulira količinu kolester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TATINI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blokiraju reduktazu u j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ovastatin, simvastatin, provastatin, atorva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02B-C0ED-4E71-AE6D-6827F32DAC74}" type="slidenum">
              <a:t>18</a:t>
            </a:fld>
          </a:p>
        </p:txBody>
      </p:sp>
    </p:spTree>
  </p:cSld>
  <p:transition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ARDIOVASKULARNE BOLEST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1. Uzrok mortalite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025-06A8-41F2-984A-A21D341A1D2B}" type="slidenum">
              <a:t>2</a:t>
            </a:fld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Rizični faktor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05120"/>
          <a:ext cx="7762680" cy="47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05120"/>
                    <a:ext cx="776268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AF8-F714-4CFB-AE4B-57B5B2A7049B}" type="slidenum">
              <a:t>3</a:t>
            </a:fld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ARDIOTON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inotropni lijekovi)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rdioaktivni glikozidi, inhibitori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sfodiester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ARIT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lokatori Na kanala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C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IJEKOVI ZA ANGINU PEKTO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itrati, 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a 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HIPERTENZIV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diuretici, simpatolitici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azodilatatori, blokatori renin-angiotenzinsk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IPOLIPE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HMG-Co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duktaze, stimulatori lipoprotein lipaze, nia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C1C-9151-42E2-B809-670328C6ED13}" type="slidenum">
              <a:t>4</a:t>
            </a:fld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Bookman Old Style"/>
              </a:rPr>
              <a:t>Ca ++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- ima središnju ulogu u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           procesu kontrakcij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) Povećava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) Povećava afinitet kontraktilni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teina prema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) Tvari koje djeluju na ob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ehaniz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E45-884A-44F6-8BA6-B23FD8423ED6}" type="slidenum">
              <a:t>5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TORI  FOSFODIESTERA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rečavaju razgradnju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ovećavaju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M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IL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ratkotrajna parental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imj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8A3-5A57-49F0-904E-C921B35F5C8D}" type="slidenum">
              <a:t>6</a:t>
            </a:fld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SIMPATOMIMETIC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BUT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aminomimetici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P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c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ceptora u srcu dovodi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višenja cAMP-a i pov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ja koncentracije 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E2E-6CD8-44BF-AA8C-1DAB229D67AE}" type="slidenum">
              <a:t>7</a:t>
            </a:fld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OPAMIN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ećava glomerularnu filtraciju i natriurezu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azodilatacija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 oslobađanje NA - DA 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ceptore na sr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DOZA: 2 - 4 mikrograma/k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187-808A-44A5-8FB6-F38E6823FB33}" type="slidenum">
              <a:t>8</a:t>
            </a:fld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ARDIOTONICI - digoksin, medigoksin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ljka </a:t>
            </a: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Digital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1785. g. W. Wi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ATP-a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većavaju unutarstaničnu koncentraciju Ca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ARDIOVASKULARNI UČIN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inotropno - povećavaju snag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batmotropno - povećavaju ekscit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dromotropno - smanjuju brzinu provođenja podraž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kronotropno - smanjuju frekvenciju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FA0-501C-4E63-AF5B-6BABAC117636}" type="slidenum">
              <a:t>9</a:t>
            </a:fld>
          </a:p>
        </p:txBody>
      </p:sp>
    </p:spTree>
  </p:cSld>
  <p:transition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3:27:54Z</dcterms:created>
  <dc:creator>Jelena</dc:creator>
  <dc:description/>
  <dc:language>en-US</dc:language>
  <cp:lastModifiedBy>KERAMEIKOS d.o.o.</cp:lastModifiedBy>
  <dcterms:modified xsi:type="dcterms:W3CDTF">2003-01-28T12:24:17Z</dcterms:modified>
  <cp:revision>27</cp:revision>
  <dc:subject/>
  <dc:title>FARMAKOLOGIJA KARDIOVASKULARNOG SUSTAVA</dc:title>
</cp:coreProperties>
</file>