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6FF-4FF6-4D3E-A4D6-D3ABB0C0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64E-952B-4E06-9F6A-7484F77C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176-F05E-4143-8070-B5369546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535-124F-466D-B66D-BFA35B6F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EFB-47F0-44B5-A97F-2079CA42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6984-367D-4AA3-BCE8-BEB2D01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437-F1F6-4DEA-91F6-B0CE47FD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8B81-F11F-49DA-AF6F-C50F515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478E-F6CF-4BE7-B34A-4E61B155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899-5EF0-4338-9E87-125538D1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74D1-1ABB-4ACD-BCD6-6B5BE313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ADA-8DE4-4FB6-877B-BAF47305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0841-040A-42A6-8739-41EA80FF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9C6B-13D9-4C27-9A37-F4A3906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ED8D-9A87-4988-8DE6-DDB0CFBF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4823-3F9C-41B8-B15F-25157F8B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8636-4908-4F13-9F92-3B73056D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CE5-62BE-4ECA-BF0C-EBEE4774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99D-4201-4FF2-A310-49556478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60C-C040-4843-9AB8-B61F4F12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D63-E209-4613-9BA5-C5F6269D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BE9-84F3-4D85-B88D-C080956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0EB-40BD-4F2D-83FF-AFEC3F70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471-7AD8-4569-9F69-4E28771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911-2625-46C0-BBA0-94C284D11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7D4-66D9-4F3A-B961-5F4C7179E8A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OPĆA FARMAKOLOGIJA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Bookman Old Style"/>
              </a:rPr>
              <a:t>Osnovna literatu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Farmakoterapijski</a:t>
            </a:r>
            <a:r>
              <a:rPr b="1" lang="en-US" sz="2400" spc="-1" strike="noStrike">
                <a:solidFill>
                  <a:srgbClr val="00cc99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priručnik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3. izdanje, Med-Ekon d.d., 2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Interna medicin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2. izdanje, Naprijed, 199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(4. poglavl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Medicinska farmakologija</a:t>
            </a:r>
            <a:r>
              <a:rPr b="0" lang="en-US" sz="2400" spc="-1" strike="noStrike">
                <a:solidFill>
                  <a:srgbClr val="ccecff"/>
                </a:solidFill>
                <a:latin typeface="Bookman Old Style"/>
              </a:rPr>
              <a:t>, Medicinska naklada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A97-EFCF-45EB-A9D2-256D8151EDA2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lanak 2. (Zakon o lijekovima i medicinskim proizvodi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otov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oizvodi koji se stavljaju u promet pod nazivom odabranim od proizvođač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Imunološki lijekov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cjepiva, serumi, alergeni, antigen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Radioaktiv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visoke tehnologije/biotehnologi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iz ljudske krvi ili plazme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albumin, faktori zgrušavanj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rirodni lijekov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F51-F972-49AA-93C2-D26C7EED0FC4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ijekovi s vitaminima, odnosno mineralim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Tvari kemijskog, mineralnog, biljnog, životinjskog ili ljudskog podrijetl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koje se koriste za proizvodnju lijeko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Magistraln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pripremaju se u ljekarni prema liječničkom receptu za specifičnog (pojedinačnog) bolesnik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Galenski pripravc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izrađuju se u ljekarnama do 100 dnevno, prema postupku opisanom u farmakopej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Krv i krvni sastojc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220-6824-478B-BBDE-DE4AE730A6A6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DRIJETLO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Mineral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jod, talk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Životinjsk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inzulin, antitoksin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Biljno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brokula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Kemijska sintez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acetilsalicilna kiselina, vitamin C,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Semisintetski lijekovi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- prirodne ljekovite tvari koje se dodatno prerađuj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64D-A26E-4642-92E9-4B2631723B70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rganske prirodne ljekovite tvari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- nalaze se u biljkama i životinjama, a nazivaju se više prema biološkim, nego kemijskim svojstvima</a:t>
            </a:r>
            <a:endParaRPr b="0" lang="en-US" sz="2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lkalo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bazične tvari koje sadrže duš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likozid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spojevi različitih šeć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apo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glikozidi koji se pjene u vo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Masti i mas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esteri masnih kiselina (ricinu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Eterična ulj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ako hlapljivi spojevi specifičnog mir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Treslovine i tanin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adstringen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Gorke tvar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(amara) - ksilostein, vrlo otrovan (pospješuje probav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Sluz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viskozne tekućine (macerat sljezovog korijen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Bookman Old Style"/>
              </a:rPr>
              <a:t>Antibiotic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proizvodi mikroorganizama koji djeluju inhibitorno na rast drugih mikroorganiz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4BA-946B-4C71-BA11-5DC2D82B2FE4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         </a:t>
            </a: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ASIFIKACIJA I NAZIVI LIJEKOVA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a) Farmakodinam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hanizmu djelovanja</a:t>
            </a:r>
            <a:br>
              <a:rPr sz="2200"/>
            </a:br>
            <a:r>
              <a:rPr b="1" lang="en-US" sz="2200" spc="-1" strike="noStrike">
                <a:solidFill>
                  <a:srgbClr val="66ffcc"/>
                </a:solidFill>
                <a:latin typeface="Bookman Old Style"/>
              </a:rPr>
              <a:t>b) Farmakoterapijska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- prema medicinskoj upotrebi</a:t>
            </a:r>
            <a:endParaRPr b="0" lang="en-US" sz="2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DINAM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agonisti kal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eta blok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sinte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staglan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95680" y="24382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S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ihipertenz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hipertenziv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- Antiaritm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rotuupalni lijeko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ntitrombo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F60-6C4C-4710-B2C5-B7D73A47C6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ATC (ATK)</a:t>
            </a:r>
            <a:r>
              <a:rPr b="0" lang="en-US" sz="4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- klasifikacij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natomsko - terapijsko - kemij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eporuka S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pr. A 10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limentarni sust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ijekovi za liječenje šećerne bole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zu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114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648320"/>
            <a:ext cx="228600" cy="759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5257800"/>
            <a:ext cx="228600" cy="763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359-C943-473C-86CF-CE83159AB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AZIVI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Tradicionaln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talk, morfin, rici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emijski naziv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askorbinska kise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rički nazivi (INN)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izonijazid (izonikotinska kiselina hidraz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Zaštićena imen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Sumame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man Old Style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(azitromic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4B9-DCEB-4030-936D-01890737C919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Djelovanje i primjena lijek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1066680"/>
          <a:ext cx="7745400" cy="54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7454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99F-E918-4692-9479-D3ACB87B5581}" type="slidenum">
              <a:t>17</a:t>
            </a:fld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67080" y="4114800"/>
            <a:ext cx="152640" cy="1600200"/>
          </a:xfrm>
          <a:prstGeom prst="downArrow">
            <a:avLst>
              <a:gd name="adj1" fmla="val 50000"/>
              <a:gd name="adj2" fmla="val 26208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Sudbina lijeka u organizmu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295280"/>
            <a:ext cx="5257800" cy="132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UČIN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NEVEZ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200400"/>
            <a:ext cx="5181480" cy="14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Krvna cirkul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VEZANI LIJ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Vezani lijek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etabol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SORP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809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IZLUČIV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029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RASPODJ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5638680"/>
            <a:ext cx="2819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TABOLIZ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K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105520"/>
            <a:ext cx="2514600" cy="1066680"/>
          </a:xfrm>
          <a:custGeom>
            <a:avLst/>
            <a:gdLst>
              <a:gd name="textAreaLeft" fmla="*/ 721800 w 2514600"/>
              <a:gd name="textAreaRight" fmla="*/ 2153880 w 25146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16765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182880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8862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388620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04812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1240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79132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C8A-D672-4E1B-989A-A3F690370E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Prolaz lijekova kroz stanične membrane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e se membrane sastoje o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lipida i protein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tanična je membrana selektivn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opusna; voda i neke drug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molekule mogu brzo proći kroz nju, 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drugih je prolaz ograničen ili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priječe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67C-653F-47FB-9FB5-BC2E13337069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o lijekovima, odnosno, znanost o međudjelovanju lijeka i organiz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FARMAC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znanost i struka koja se bavi pripremom i izradom lijeko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man Old Style"/>
              </a:rPr>
              <a:t>KLINIČKA FARMAKOLOGIJA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 je specijalnost znanstvenog proučavanja djelovanja lijekova na čov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4F2-9D54-4F45-959F-6F6A2BF4F32B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Mehanizmi prolaza lijekova kroz membranu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5232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posolubil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z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ni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akšana difu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nocit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B6A-9BAA-482F-8F46-79B3AF837D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LOŠKA RASPOLOŽIVOST</a:t>
            </a:r>
            <a:r>
              <a:rPr b="0" lang="en-US" sz="32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kon peroralne primjene označava postotak lijeka koji dospije u opću cirkulaciju i raspoloživ je za farmakološko djelovanj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BIOEKVIVALENTNOST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- dva su lijeka jednake bioraspoloživosti.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6B3-0C8E-45FF-8145-769A89A420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Eliminaci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Ekskrecija nepromijenjenog lijek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Biotransformacij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Prvi prolaz kroz jetr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Izlučivanje bubrez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lomerularna filtr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novna apsorpcija u tubul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ubularna sekre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A96-2538-42FF-B612-FC5C4F11398C}" type="slidenum">
              <a:t>22</a:t>
            </a:fld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ze biotransformacije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1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ksid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Reduk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Hidro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Deza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romjene 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st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0988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2. FA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Konjugacija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kuronsk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mpornom kiseli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Aminokiselin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Glutation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0680" y="548568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IZLUČI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088-E757-4C4F-AF6F-DA2970EEAA06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Farmakokinetski parametr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05160" y="5986440"/>
          <a:ext cx="287640" cy="1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5986440"/>
                    <a:ext cx="287640" cy="1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0360" y="2035080"/>
            <a:ext cx="3021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a stal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zinom izluč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jek s brzin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lučivanja ovisno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ncentrac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Graf%20-%20Opća%20farmakologijazelena%20copy" descr=""/>
          <p:cNvPicPr/>
          <p:nvPr/>
        </p:nvPicPr>
        <p:blipFill>
          <a:blip r:embed="rId5">
            <a:lum contrast="78000"/>
          </a:blip>
          <a:stretch/>
        </p:blipFill>
        <p:spPr>
          <a:xfrm>
            <a:off x="1143000" y="1600200"/>
            <a:ext cx="3352680" cy="434340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5B0-2408-445A-B52C-0AA127F4F22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</a:t>
            </a:r>
            <a:r>
              <a:rPr b="1" lang="en-US" sz="3200" spc="-1" strike="noStrike" baseline="30000">
                <a:solidFill>
                  <a:srgbClr val="66ffcc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/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poluvrijeme eliminacije, vrijeme potrebno da se koncentracija lijeka spusti na polovi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C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maksimalna koncentracija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T ma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vrijeme potrebno za postizanje maksimalne koncentracije lijeka u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UC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- površina ispod krivulje eliminacije lijeka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112-473B-4950-B740-2482E515A039}" type="slidenum">
              <a:t>25</a:t>
            </a:fld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RECEPTOR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- mjesto u organizmu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a koje djeluje lijek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ecifični recep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vezano mjesto lije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egulatorni prote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3160" y="45712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MODEL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“KLJUČ - KLJUČAON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27C-0F43-4E01-8F90-795B9A4C22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Vrste 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GONIST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EKSCITATOR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MIME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LITIC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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NTAGONISTI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kemij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farmakokinet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na razini receptor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) 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b) nekompetitivn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c) fiziološ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2004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65760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4191120"/>
            <a:ext cx="762120" cy="152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269-2171-428C-A2BB-69895BF484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lekularni mehanizmi djelovanja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zikalnim svojstv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emijskom reakcij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loženim biokemijsk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oces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enzimatski susta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ionski kan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) fiziološki recep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FEA-7A9B-43CA-BA6C-AB28B2DFD5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Čimbenici koji modificiraju djelovanje lijekov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z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b i spol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rste 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nje boles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ološka varijabi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asljedna reaktivnost na lijek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leran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hifilaks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atska, fizička ili metabolička ovisno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ergija na lijeko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9810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4382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8954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7339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911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51055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56272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94360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480-4EE5-4197-9814-97F45B919D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POVIJEST MODERNE FARMAKOLOGIJ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HIPOKRAT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(460-355. B. C.) - PRIMUM NON NOCERE - Ponekad je dobar lijek kad se ne uzme ništa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PARACELSUS</a:t>
            </a:r>
            <a:r>
              <a:rPr b="0" lang="en-US" sz="26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493-1541) - Sve je otrov i ništa nije bezazleno, samo o doziranju ovisi da li je nešto otrovno ili nije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OSLER</a:t>
            </a:r>
            <a:r>
              <a:rPr b="0" lang="en-US" sz="2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1865) - Čovjek ima urođenu težnju za uzimanjem lijekova. To je jedno od obilježja koje čovjeka razlikuje od životin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57B-A0CD-4B1F-BBC4-34E8A021B96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Istovremena primjena 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više lijekov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erg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agoniz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kcije (farmakokinetske, farmakodinams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pragmaz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2DC-0D2A-4C8A-BED5-700E3C4BA0C8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Neželjena i štetna </a:t>
            </a:r>
            <a:br>
              <a:rPr sz="4400"/>
            </a:b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jelovanja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NUSPOJA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je štetno neželj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e lije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mjenjenog 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uobičajenoj doz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OTRO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 pojavljuje kad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oza na mjes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jelovanja dovolj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el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CD0-7C6C-4C51-8853-A28A09E004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Štetne reakcije na lijekove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Otrovanj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) prevelika do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) hiperreaktiv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Genetski poremećaji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diosinkrazi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Karcinogenost, teratogenost, mutag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erg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Nezrelost organiz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Posredne štetne reakcije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npr. poremećaj crijevne fl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0F2-0462-4463-BA20-D527F244C6E9}" type="slidenum">
              <a:t>32</a:t>
            </a:fld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Istraživanje novih lijeko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o probiranje, scre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rmakološki prof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etklinička istraž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dbina u organiz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dinam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kine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ksi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8862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4343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8006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4290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4C8-119C-47A1-9CD6-D6B6C88FA097}" type="slidenum">
              <a:t>33</a:t>
            </a:fld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998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linička ispitiv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zdravi dobrovolj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kliničk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aćenje lijekova u klinič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ontrolirani usporedni poku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ekonomske stud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aćenje nuspo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22096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666880"/>
            <a:ext cx="380880" cy="15264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5053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39625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4419720"/>
            <a:ext cx="380880" cy="152280"/>
          </a:xfrm>
          <a:custGeom>
            <a:avLst/>
            <a:gdLst>
              <a:gd name="textAreaLeft" fmla="*/ 59400 w 380880"/>
              <a:gd name="textAreaRight" fmla="*/ 333360 w 380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A67-0211-452F-A3B3-34C8974D291F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L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uprotno se liječi suprot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iegoriy (1735-18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štanje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me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rg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HOMEOPATIJA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 slično se liječi sličn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ahnemann (1755-18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činak lijekova povećava se njihovim razrijeđenj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81A-4304-486B-AA9D-2B1CE68F559E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RVI FARMAKOLOŠKI LABORATORIJ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osnovan je 1846. godine u Dorpatu (Estonija). Rudolf Buckheim ustanovljuje farmakologiju kao eksperimentalnu struku, nasuprot dotadašnjoj praksi prenošenja iskustva.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U Hrvatskoj je prvi farmakološki laboratorij osnovan 1919. godine na Šalati.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E12-9948-47BF-B517-D655D866E2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MODERNA KLINIČKA </a:t>
            </a:r>
            <a:br>
              <a:rPr sz="3600"/>
            </a:b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FARMAKOLOGIJ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Claude Bernar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865) - Moral ne zabranjuje provođenje pokusa na susjedima ili na nama samima. Zabranjeni su samo oni pokusi koji mogu naškod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homas Lew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34) - Principi kliničkog ispitivanja lijekova - rano kliničko ispitivanje k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Harry Gol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952) - Čovjek je prikladna studija čovječan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linička medicina + farmakologija = klinička farmakolog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B4DA-CEDD-468F-99B1-F8ADB686BDFF}" type="slidenum">
              <a:t>6</a:t>
            </a:fld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KINE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kako se lijek ponaša u organizmu od mjesta primjene do izluči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plikacija, distribucija, biotransformacija, elimina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FARMAKODINAM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učava mehanizam djelovanja lijekova; kako lijek utječe na funkcije organizma, pojačavanje ili supresija, poboljšanje bolesti, doze, nuspoj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0C3-362A-4A43-BAE1-DBDA88707DAC}" type="slidenum">
              <a:t>7</a:t>
            </a:fld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TERAP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imj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armakoloških spoznaja u medicinskoj p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GRAF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receptura) - propisi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TOKSIKOLOGI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znanost o interakciji tvari 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čovj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FARMAKOPEJ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propisi o sastav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vojstvima, postupcima za ispitivanje čistoće, čuvanj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jeko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FICIN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farmakopejs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MAGISTRAL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ljekarnič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Bookman Old Style"/>
              </a:rPr>
              <a:t>OPSOLENTNI LIJEKOV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- zastarje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390-6010-48D1-AA3A-F1B052B2628A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LEGISLATIV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- zakoni i propisi koji su obvezatni za liječnika i farmaceuta, a osiguravaju pravilnu primjenu i postupak s lijekovima, u cilju sprečavanja štetnog utjecaja na lju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cc"/>
                </a:solidFill>
                <a:latin typeface="Bookman Old Style"/>
              </a:rPr>
              <a:t>ZAKON O LIJEKOVIMA I MEDICINSKIM PROIZVODIM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 Zastupnički dom Sabora RH, 1997. “… ovim se Zakonom utvrđuje način ispitivanja, proizvodnje i izradbe, promet, provjera kakvoće, oglašavanje i obavještavanje, nadzor nad lijekovima i medicinskim proizvodima…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ća farmakologij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B5E-B1A9-43CF-A36F-C5BA84D365DD}" type="slidenum">
              <a:t>9</a:t>
            </a:fld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1:19:38Z</dcterms:created>
  <dc:creator>Jelena</dc:creator>
  <dc:description/>
  <dc:language>en-US</dc:language>
  <cp:lastModifiedBy>KERAMEIKOS d.o.o.</cp:lastModifiedBy>
  <dcterms:modified xsi:type="dcterms:W3CDTF">2003-01-31T09:46:03Z</dcterms:modified>
  <cp:revision>43</cp:revision>
  <dc:subject/>
  <dc:title>OPĆA FARMAKOLOGIJA Prim. mr. sc. Josip Čulig, dr. med.</dc:title>
</cp:coreProperties>
</file>