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764-65F9-4765-BBA5-731B4175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D05-D117-470D-B2C8-28C45695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21B-4FC6-4090-985A-6B1F9DD4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F97-F66D-4CC1-958B-FB4D0543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FA76-EFE5-447A-BDE3-58997F56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924-07AE-4FA9-AA76-E9F0F4B2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EAC-8788-4DEA-A973-EB4158D2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1B5-01F8-4B1C-87FE-65BCC8E5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AEA-4430-447D-A5E6-74901487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511B-5D3D-42CF-B8E0-7CC190D1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D1B9-3A6D-4858-8506-FD03F07E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B6C-BAA1-4077-A103-55CD629D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83ED-2B7E-4695-A316-AA80F665E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E090-DECD-4EDA-890C-DBA09FBB6D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Bookman Old Style"/>
              </a:rPr>
              <a:t>SUSTAV PROCJENE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Bookman Old Style"/>
              </a:rPr>
              <a:t>RADNOG UČIN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240" y="129528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Prim. mr. sc. Josip Čulig, dr. 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Ključni čimbenici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procjene učink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1. Planiranje i organizi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odredi smjernice i način rada kojim će se postići zadani cilje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alociraj resurse i planiraj pojedinačne aktiv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2. Upravljanje i delegi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uzimaj u obzir sposobnost osoba na koje prenosiš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EA2F-4C81-4A96-8510-1A01866655B1}" type="slidenum">
              <a:t>10</a:t>
            </a:fld>
          </a:p>
        </p:txBody>
      </p:sp>
    </p:spTree>
  </p:cSld>
  <p:transition spd="med">
    <p:cover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904760" y="2057040"/>
            <a:ext cx="617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3. Prosuđivanje i odluč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donosi pravovremene i jasne odluke koje se temelje na stvarnim poda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4. Kvaliteta usl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slušaj korisnike i anticipiraj njihove potre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zadovoljstvo korisnika je na vrhu liste priorite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Ključni čimbenici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procjene učink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4C0-A64A-4A3C-AF3B-8395FD333462}" type="slidenum">
              <a:t>11</a:t>
            </a:fld>
          </a:p>
        </p:txBody>
      </p:sp>
    </p:spTree>
  </p:cSld>
  <p:transition>
    <p:checker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Ključni čimbenici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procjene učink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5. Planiranje i upravljanje rezulta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Bookman Old Style"/>
              </a:rPr>
              <a:t>kontinuirano prati rezultate poslo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Bookman Old Style"/>
              </a:rPr>
              <a:t>pravovremeno informiraj, komuniciraj, korigiraj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B02-9FF9-45D4-9941-DFF9A648FF43}" type="slidenum">
              <a:t>12</a:t>
            </a:fld>
          </a:p>
        </p:txBody>
      </p:sp>
    </p:spTree>
  </p:cSld>
  <p:transition spd="med">
    <p:split dir="out" orient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Ključni čimbenici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procjene učink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240" y="2286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6. Poticanje timskog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pojedinac ne može uspjeti bez timske suradnje, ma koliko bio sposoba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7. Inicij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postavljaj zahtjevne standar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potiči i prihvaćaj inicijativ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potiči osobni razvo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25D-BD83-4BA7-9087-BC8F791620C0}" type="slidenum">
              <a:t>13</a:t>
            </a:fld>
          </a:p>
        </p:txBody>
      </p:sp>
    </p:spTree>
  </p:cSld>
  <p:transition>
    <p:checker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Ključni čimbenici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procjene učink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8. Usmena komun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što ja mogu učiniti za V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slušaj! Teška, ali diferentna sposobno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sudjeluj na sastancima timov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9. Pisana komun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jasno iznosi idej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6666-4E44-4692-8654-49B7396A7B79}" type="slidenum">
              <a:t>14</a:t>
            </a:fld>
          </a:p>
        </p:txBody>
      </p:sp>
    </p:spTree>
  </p:cSld>
  <p:transition spd="med">
    <p:randomBar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Ključni čimbenici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procjene učinka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10. Sposobnost učenja i anal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primjenjuj nove informacij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analiziraj, predlaži promje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budi prilagodljiv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budi domišlja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11. Upravljanje procesima i kontr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uvodi standardne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provjerava pojedine dijelove procesa (Milestones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185E-42FF-4BC1-89DA-2CA3E119FDF8}" type="slidenum">
              <a:t>15</a:t>
            </a:fld>
          </a:p>
        </p:txBody>
      </p:sp>
    </p:spTree>
  </p:cSld>
  <p:transition spd="slow">
    <p:randomBar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828440" y="2286000"/>
            <a:ext cx="6248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12. Up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drži se pl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drži se dogovorenih postup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13. Planiranje i upravljanj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financijskim resurs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drži se “cost - benefit” an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prati troškove i rezul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Ključni čimbenici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procjene učinka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FC8-E6F2-4B2F-A2CB-2D135A17CB29}" type="slidenum">
              <a:t>16</a:t>
            </a:fld>
          </a:p>
        </p:txBody>
      </p:sp>
    </p:spTree>
  </p:cSld>
  <p:transition>
    <p:checker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Ključni čimbenici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procjene učinka (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22096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14. Pregova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komuniciraj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dogovaraj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razmjenjuj stavove i idej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15. Sposobnost uvjeravan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i rješavanja konfli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stvaranje pozitivnog ozračja 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ti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849-2858-44AA-BDD0-F2BE4D97867E}" type="slidenum">
              <a:t>17</a:t>
            </a:fld>
          </a:p>
        </p:txBody>
      </p:sp>
    </p:spTree>
  </p:cSld>
  <p:transition>
    <p:checker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ZAKLJUČA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Bookman Old Style"/>
              </a:rPr>
              <a:t>A. Ostvarivanje dogovorenog ci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Bookman Old Style"/>
              </a:rPr>
              <a:t>B. Ostvaren cilj prije vremena, uz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Bookman Old Style"/>
              </a:rPr>
              <a:t>    </a:t>
            </a:r>
            <a:r>
              <a:rPr b="1" lang="en-US" sz="3200" spc="-1" strike="noStrike">
                <a:solidFill>
                  <a:srgbClr val="3333cc"/>
                </a:solidFill>
                <a:latin typeface="Bookman Old Style"/>
              </a:rPr>
              <a:t>manje troškov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Bookman Old Style"/>
              </a:rPr>
              <a:t>C. Cilj ostvaren, profit osigura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Bookman Old Style"/>
              </a:rPr>
              <a:t>    </a:t>
            </a:r>
            <a:r>
              <a:rPr b="1" lang="en-US" sz="3200" spc="-1" strike="noStrike">
                <a:solidFill>
                  <a:srgbClr val="3333cc"/>
                </a:solidFill>
                <a:latin typeface="Bookman Old Style"/>
              </a:rPr>
              <a:t>tim je stekao dodatnu reputacij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Bookman Old Style"/>
              </a:rPr>
              <a:t>    </a:t>
            </a:r>
            <a:r>
              <a:rPr b="1" lang="en-US" sz="3200" spc="-1" strike="noStrike">
                <a:solidFill>
                  <a:srgbClr val="3333cc"/>
                </a:solidFill>
                <a:latin typeface="Bookman Old Style"/>
              </a:rPr>
              <a:t>(lider u sektoru, inovativan,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6B4-87BA-4A34-9348-953F9C83D06C}" type="slidenum">
              <a:t>18</a:t>
            </a:fld>
          </a:p>
        </p:txBody>
      </p:sp>
    </p:spTree>
  </p:cSld>
  <p:transition spd="slow"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KLJUČNA OSOBINA MANAGERA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JE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UPRAVLJANJE LJUDSKIM POTENCIJALI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B5D-E3A2-4554-8C34-A803EA1AB0E5}" type="slidenum">
              <a:t>2</a:t>
            </a:fld>
          </a:p>
        </p:txBody>
      </p:sp>
    </p:spTree>
  </p:cSld>
  <p:transition>
    <p:checke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MJERENJE RADNOG UČIN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CIL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Profit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 - </a:t>
            </a: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“MUS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Povećanje proizvodnje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 - </a:t>
            </a: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“MUS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Dodana vrijednost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 - </a:t>
            </a: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“BONUS”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2C0E-1E21-4366-8E04-52CC910AF30A}" type="slidenum">
              <a:t>3</a:t>
            </a:fld>
          </a:p>
        </p:txBody>
      </p:sp>
    </p:spTree>
  </p:cSld>
  <p:transition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TEMELJ OCJENJIVANJA          PRAVE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Doprinos timskom radu ovisno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individualnim osobinama, a to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zn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profesionalna vje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inicij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kvaliteta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radna discip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okman Old Style"/>
              </a:rPr>
              <a:t>kreativ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99072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53B4-4E9D-47C7-B7A6-94DFA1F4A20B}" type="slidenum">
              <a:t>4</a:t>
            </a:fld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Manager mora definirati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ciljeve z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76720" y="2514600"/>
            <a:ext cx="2743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Bookman Old Style"/>
              </a:rPr>
              <a:t>t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Bookman Old Style"/>
              </a:rPr>
              <a:t>svako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Bookman Old Style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Bookman Old Style"/>
              </a:rPr>
              <a:t>pojedi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581280" y="4495680"/>
            <a:ext cx="182880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71F2-63D2-4028-9915-1248E3320D8F}" type="slidenum">
              <a:t>5</a:t>
            </a:fld>
          </a:p>
        </p:txBody>
      </p:sp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Bookman Old Style"/>
              </a:rPr>
              <a:t>Manager mora cilj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komunicir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usuglasiti s timom i sa</a:t>
            </a: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svakim pojedinc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nadzirati izvršenje </a:t>
            </a: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za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Bookman Old Style"/>
              </a:rPr>
              <a:t>procijeniti prav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24382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30481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41148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51814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817-0FAB-4E5E-A415-08F7AB07E157}" type="slidenum">
              <a:t>6</a:t>
            </a:fld>
          </a:p>
        </p:txBody>
      </p:sp>
    </p:spTree>
  </p:cSld>
  <p:transition>
    <p:split dir="in" orient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Pogreške u procesu procjenjivanj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14240" y="21337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Prvi doj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Uprosječ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Ekstremiz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Pristra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Nedoslje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Miješanje krite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Narcisoi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Bookman Old Style"/>
              </a:rPr>
              <a:t>Slabo pamć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286000"/>
            <a:ext cx="817560" cy="237960"/>
          </a:xfrm>
          <a:custGeom>
            <a:avLst/>
            <a:gdLst/>
            <a:ahLst/>
            <a:rect l="l" t="t" r="r" b="b"/>
            <a:pathLst>
              <a:path w="515" h="150">
                <a:moveTo>
                  <a:pt x="79" y="36"/>
                </a:moveTo>
                <a:cubicBezTo>
                  <a:pt x="83" y="55"/>
                  <a:pt x="80" y="77"/>
                  <a:pt x="91" y="93"/>
                </a:cubicBezTo>
                <a:cubicBezTo>
                  <a:pt x="98" y="103"/>
                  <a:pt x="113" y="104"/>
                  <a:pt x="125" y="104"/>
                </a:cubicBezTo>
                <a:cubicBezTo>
                  <a:pt x="208" y="104"/>
                  <a:pt x="291" y="97"/>
                  <a:pt x="374" y="93"/>
                </a:cubicBezTo>
                <a:cubicBezTo>
                  <a:pt x="311" y="0"/>
                  <a:pt x="355" y="22"/>
                  <a:pt x="238" y="36"/>
                </a:cubicBezTo>
                <a:cubicBezTo>
                  <a:pt x="201" y="90"/>
                  <a:pt x="207" y="102"/>
                  <a:pt x="260" y="138"/>
                </a:cubicBezTo>
                <a:cubicBezTo>
                  <a:pt x="336" y="134"/>
                  <a:pt x="415" y="150"/>
                  <a:pt x="487" y="127"/>
                </a:cubicBezTo>
                <a:cubicBezTo>
                  <a:pt x="515" y="118"/>
                  <a:pt x="460" y="60"/>
                  <a:pt x="430" y="59"/>
                </a:cubicBezTo>
                <a:cubicBezTo>
                  <a:pt x="287" y="56"/>
                  <a:pt x="143" y="59"/>
                  <a:pt x="0" y="59"/>
                </a:cubicBezTo>
              </a:path>
            </a:pathLst>
          </a:custGeom>
          <a:solidFill>
            <a:srgbClr val="ffffff"/>
          </a:solidFill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2743200"/>
            <a:ext cx="817560" cy="237960"/>
          </a:xfrm>
          <a:custGeom>
            <a:avLst/>
            <a:gdLst/>
            <a:ahLst/>
            <a:rect l="l" t="t" r="r" b="b"/>
            <a:pathLst>
              <a:path w="515" h="150">
                <a:moveTo>
                  <a:pt x="79" y="36"/>
                </a:moveTo>
                <a:cubicBezTo>
                  <a:pt x="83" y="55"/>
                  <a:pt x="80" y="77"/>
                  <a:pt x="91" y="93"/>
                </a:cubicBezTo>
                <a:cubicBezTo>
                  <a:pt x="98" y="103"/>
                  <a:pt x="113" y="104"/>
                  <a:pt x="125" y="104"/>
                </a:cubicBezTo>
                <a:cubicBezTo>
                  <a:pt x="208" y="104"/>
                  <a:pt x="291" y="97"/>
                  <a:pt x="374" y="93"/>
                </a:cubicBezTo>
                <a:cubicBezTo>
                  <a:pt x="311" y="0"/>
                  <a:pt x="355" y="22"/>
                  <a:pt x="238" y="36"/>
                </a:cubicBezTo>
                <a:cubicBezTo>
                  <a:pt x="201" y="90"/>
                  <a:pt x="207" y="102"/>
                  <a:pt x="260" y="138"/>
                </a:cubicBezTo>
                <a:cubicBezTo>
                  <a:pt x="336" y="134"/>
                  <a:pt x="415" y="150"/>
                  <a:pt x="487" y="127"/>
                </a:cubicBezTo>
                <a:cubicBezTo>
                  <a:pt x="515" y="118"/>
                  <a:pt x="460" y="60"/>
                  <a:pt x="430" y="59"/>
                </a:cubicBezTo>
                <a:cubicBezTo>
                  <a:pt x="287" y="56"/>
                  <a:pt x="143" y="59"/>
                  <a:pt x="0" y="59"/>
                </a:cubicBezTo>
              </a:path>
            </a:pathLst>
          </a:custGeom>
          <a:solidFill>
            <a:srgbClr val="ffffff"/>
          </a:solidFill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4267080"/>
            <a:ext cx="817560" cy="238320"/>
          </a:xfrm>
          <a:custGeom>
            <a:avLst/>
            <a:gdLst/>
            <a:ahLst/>
            <a:rect l="l" t="t" r="r" b="b"/>
            <a:pathLst>
              <a:path w="515" h="150">
                <a:moveTo>
                  <a:pt x="79" y="36"/>
                </a:moveTo>
                <a:cubicBezTo>
                  <a:pt x="83" y="55"/>
                  <a:pt x="80" y="77"/>
                  <a:pt x="91" y="93"/>
                </a:cubicBezTo>
                <a:cubicBezTo>
                  <a:pt x="98" y="103"/>
                  <a:pt x="113" y="104"/>
                  <a:pt x="125" y="104"/>
                </a:cubicBezTo>
                <a:cubicBezTo>
                  <a:pt x="208" y="104"/>
                  <a:pt x="291" y="97"/>
                  <a:pt x="374" y="93"/>
                </a:cubicBezTo>
                <a:cubicBezTo>
                  <a:pt x="311" y="0"/>
                  <a:pt x="355" y="22"/>
                  <a:pt x="238" y="36"/>
                </a:cubicBezTo>
                <a:cubicBezTo>
                  <a:pt x="201" y="90"/>
                  <a:pt x="207" y="102"/>
                  <a:pt x="260" y="138"/>
                </a:cubicBezTo>
                <a:cubicBezTo>
                  <a:pt x="336" y="134"/>
                  <a:pt x="415" y="150"/>
                  <a:pt x="487" y="127"/>
                </a:cubicBezTo>
                <a:cubicBezTo>
                  <a:pt x="515" y="118"/>
                  <a:pt x="460" y="60"/>
                  <a:pt x="430" y="59"/>
                </a:cubicBezTo>
                <a:cubicBezTo>
                  <a:pt x="287" y="56"/>
                  <a:pt x="143" y="59"/>
                  <a:pt x="0" y="59"/>
                </a:cubicBezTo>
              </a:path>
            </a:pathLst>
          </a:custGeom>
          <a:solidFill>
            <a:srgbClr val="ffffff"/>
          </a:solidFill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3809880"/>
            <a:ext cx="817560" cy="238320"/>
          </a:xfrm>
          <a:custGeom>
            <a:avLst/>
            <a:gdLst/>
            <a:ahLst/>
            <a:rect l="l" t="t" r="r" b="b"/>
            <a:pathLst>
              <a:path w="515" h="150">
                <a:moveTo>
                  <a:pt x="79" y="36"/>
                </a:moveTo>
                <a:cubicBezTo>
                  <a:pt x="83" y="55"/>
                  <a:pt x="80" y="77"/>
                  <a:pt x="91" y="93"/>
                </a:cubicBezTo>
                <a:cubicBezTo>
                  <a:pt x="98" y="103"/>
                  <a:pt x="113" y="104"/>
                  <a:pt x="125" y="104"/>
                </a:cubicBezTo>
                <a:cubicBezTo>
                  <a:pt x="208" y="104"/>
                  <a:pt x="291" y="97"/>
                  <a:pt x="374" y="93"/>
                </a:cubicBezTo>
                <a:cubicBezTo>
                  <a:pt x="311" y="0"/>
                  <a:pt x="355" y="22"/>
                  <a:pt x="238" y="36"/>
                </a:cubicBezTo>
                <a:cubicBezTo>
                  <a:pt x="201" y="90"/>
                  <a:pt x="207" y="102"/>
                  <a:pt x="260" y="138"/>
                </a:cubicBezTo>
                <a:cubicBezTo>
                  <a:pt x="336" y="134"/>
                  <a:pt x="415" y="150"/>
                  <a:pt x="487" y="127"/>
                </a:cubicBezTo>
                <a:cubicBezTo>
                  <a:pt x="515" y="118"/>
                  <a:pt x="460" y="60"/>
                  <a:pt x="430" y="59"/>
                </a:cubicBezTo>
                <a:cubicBezTo>
                  <a:pt x="287" y="56"/>
                  <a:pt x="143" y="59"/>
                  <a:pt x="0" y="59"/>
                </a:cubicBezTo>
              </a:path>
            </a:pathLst>
          </a:custGeom>
          <a:solidFill>
            <a:srgbClr val="ffffff"/>
          </a:solidFill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3276720"/>
            <a:ext cx="817560" cy="237960"/>
          </a:xfrm>
          <a:custGeom>
            <a:avLst/>
            <a:gdLst/>
            <a:ahLst/>
            <a:rect l="l" t="t" r="r" b="b"/>
            <a:pathLst>
              <a:path w="515" h="150">
                <a:moveTo>
                  <a:pt x="79" y="36"/>
                </a:moveTo>
                <a:cubicBezTo>
                  <a:pt x="83" y="55"/>
                  <a:pt x="80" y="77"/>
                  <a:pt x="91" y="93"/>
                </a:cubicBezTo>
                <a:cubicBezTo>
                  <a:pt x="98" y="103"/>
                  <a:pt x="113" y="104"/>
                  <a:pt x="125" y="104"/>
                </a:cubicBezTo>
                <a:cubicBezTo>
                  <a:pt x="208" y="104"/>
                  <a:pt x="291" y="97"/>
                  <a:pt x="374" y="93"/>
                </a:cubicBezTo>
                <a:cubicBezTo>
                  <a:pt x="311" y="0"/>
                  <a:pt x="355" y="22"/>
                  <a:pt x="238" y="36"/>
                </a:cubicBezTo>
                <a:cubicBezTo>
                  <a:pt x="201" y="90"/>
                  <a:pt x="207" y="102"/>
                  <a:pt x="260" y="138"/>
                </a:cubicBezTo>
                <a:cubicBezTo>
                  <a:pt x="336" y="134"/>
                  <a:pt x="415" y="150"/>
                  <a:pt x="487" y="127"/>
                </a:cubicBezTo>
                <a:cubicBezTo>
                  <a:pt x="515" y="118"/>
                  <a:pt x="460" y="60"/>
                  <a:pt x="430" y="59"/>
                </a:cubicBezTo>
                <a:cubicBezTo>
                  <a:pt x="287" y="56"/>
                  <a:pt x="143" y="59"/>
                  <a:pt x="0" y="59"/>
                </a:cubicBezTo>
              </a:path>
            </a:pathLst>
          </a:custGeom>
          <a:solidFill>
            <a:srgbClr val="ffffff"/>
          </a:solidFill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800600"/>
            <a:ext cx="817560" cy="237960"/>
          </a:xfrm>
          <a:custGeom>
            <a:avLst/>
            <a:gdLst/>
            <a:ahLst/>
            <a:rect l="l" t="t" r="r" b="b"/>
            <a:pathLst>
              <a:path w="515" h="150">
                <a:moveTo>
                  <a:pt x="79" y="36"/>
                </a:moveTo>
                <a:cubicBezTo>
                  <a:pt x="83" y="55"/>
                  <a:pt x="80" y="77"/>
                  <a:pt x="91" y="93"/>
                </a:cubicBezTo>
                <a:cubicBezTo>
                  <a:pt x="98" y="103"/>
                  <a:pt x="113" y="104"/>
                  <a:pt x="125" y="104"/>
                </a:cubicBezTo>
                <a:cubicBezTo>
                  <a:pt x="208" y="104"/>
                  <a:pt x="291" y="97"/>
                  <a:pt x="374" y="93"/>
                </a:cubicBezTo>
                <a:cubicBezTo>
                  <a:pt x="311" y="0"/>
                  <a:pt x="355" y="22"/>
                  <a:pt x="238" y="36"/>
                </a:cubicBezTo>
                <a:cubicBezTo>
                  <a:pt x="201" y="90"/>
                  <a:pt x="207" y="102"/>
                  <a:pt x="260" y="138"/>
                </a:cubicBezTo>
                <a:cubicBezTo>
                  <a:pt x="336" y="134"/>
                  <a:pt x="415" y="150"/>
                  <a:pt x="487" y="127"/>
                </a:cubicBezTo>
                <a:cubicBezTo>
                  <a:pt x="515" y="118"/>
                  <a:pt x="460" y="60"/>
                  <a:pt x="430" y="59"/>
                </a:cubicBezTo>
                <a:cubicBezTo>
                  <a:pt x="287" y="56"/>
                  <a:pt x="143" y="59"/>
                  <a:pt x="0" y="59"/>
                </a:cubicBezTo>
              </a:path>
            </a:pathLst>
          </a:custGeom>
          <a:solidFill>
            <a:srgbClr val="ffffff"/>
          </a:solidFill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4120"/>
            <a:ext cx="817560" cy="237960"/>
          </a:xfrm>
          <a:custGeom>
            <a:avLst/>
            <a:gdLst/>
            <a:ahLst/>
            <a:rect l="l" t="t" r="r" b="b"/>
            <a:pathLst>
              <a:path w="515" h="150">
                <a:moveTo>
                  <a:pt x="79" y="36"/>
                </a:moveTo>
                <a:cubicBezTo>
                  <a:pt x="83" y="55"/>
                  <a:pt x="80" y="77"/>
                  <a:pt x="91" y="93"/>
                </a:cubicBezTo>
                <a:cubicBezTo>
                  <a:pt x="98" y="103"/>
                  <a:pt x="113" y="104"/>
                  <a:pt x="125" y="104"/>
                </a:cubicBezTo>
                <a:cubicBezTo>
                  <a:pt x="208" y="104"/>
                  <a:pt x="291" y="97"/>
                  <a:pt x="374" y="93"/>
                </a:cubicBezTo>
                <a:cubicBezTo>
                  <a:pt x="311" y="0"/>
                  <a:pt x="355" y="22"/>
                  <a:pt x="238" y="36"/>
                </a:cubicBezTo>
                <a:cubicBezTo>
                  <a:pt x="201" y="90"/>
                  <a:pt x="207" y="102"/>
                  <a:pt x="260" y="138"/>
                </a:cubicBezTo>
                <a:cubicBezTo>
                  <a:pt x="336" y="134"/>
                  <a:pt x="415" y="150"/>
                  <a:pt x="487" y="127"/>
                </a:cubicBezTo>
                <a:cubicBezTo>
                  <a:pt x="515" y="118"/>
                  <a:pt x="460" y="60"/>
                  <a:pt x="430" y="59"/>
                </a:cubicBezTo>
                <a:cubicBezTo>
                  <a:pt x="287" y="56"/>
                  <a:pt x="143" y="59"/>
                  <a:pt x="0" y="59"/>
                </a:cubicBezTo>
              </a:path>
            </a:pathLst>
          </a:custGeom>
          <a:solidFill>
            <a:srgbClr val="ffffff"/>
          </a:solidFill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5867280"/>
            <a:ext cx="817560" cy="238320"/>
          </a:xfrm>
          <a:custGeom>
            <a:avLst/>
            <a:gdLst/>
            <a:ahLst/>
            <a:rect l="l" t="t" r="r" b="b"/>
            <a:pathLst>
              <a:path w="515" h="150">
                <a:moveTo>
                  <a:pt x="79" y="36"/>
                </a:moveTo>
                <a:cubicBezTo>
                  <a:pt x="83" y="55"/>
                  <a:pt x="80" y="77"/>
                  <a:pt x="91" y="93"/>
                </a:cubicBezTo>
                <a:cubicBezTo>
                  <a:pt x="98" y="103"/>
                  <a:pt x="113" y="104"/>
                  <a:pt x="125" y="104"/>
                </a:cubicBezTo>
                <a:cubicBezTo>
                  <a:pt x="208" y="104"/>
                  <a:pt x="291" y="97"/>
                  <a:pt x="374" y="93"/>
                </a:cubicBezTo>
                <a:cubicBezTo>
                  <a:pt x="311" y="0"/>
                  <a:pt x="355" y="22"/>
                  <a:pt x="238" y="36"/>
                </a:cubicBezTo>
                <a:cubicBezTo>
                  <a:pt x="201" y="90"/>
                  <a:pt x="207" y="102"/>
                  <a:pt x="260" y="138"/>
                </a:cubicBezTo>
                <a:cubicBezTo>
                  <a:pt x="336" y="134"/>
                  <a:pt x="415" y="150"/>
                  <a:pt x="487" y="127"/>
                </a:cubicBezTo>
                <a:cubicBezTo>
                  <a:pt x="515" y="118"/>
                  <a:pt x="460" y="60"/>
                  <a:pt x="430" y="59"/>
                </a:cubicBezTo>
                <a:cubicBezTo>
                  <a:pt x="287" y="56"/>
                  <a:pt x="143" y="59"/>
                  <a:pt x="0" y="59"/>
                </a:cubicBezTo>
              </a:path>
            </a:pathLst>
          </a:custGeom>
          <a:solidFill>
            <a:srgbClr val="ffffff"/>
          </a:solidFill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B2A-60E2-4D3F-99B1-E7E43D474D50}" type="slidenum">
              <a:t>7</a:t>
            </a:fld>
          </a:p>
        </p:txBody>
      </p:sp>
    </p:spTree>
  </p:cSld>
  <p:transition>
    <p:checker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TEHNIKE RAZGOV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2840" y="2133360"/>
            <a:ext cx="3886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Bookman Old Style"/>
              </a:rPr>
              <a:t>Reci i sluša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Bookman Old Style"/>
              </a:rPr>
              <a:t>Reci i objas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Bookman Old Style"/>
              </a:rPr>
              <a:t>Riješi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C59-7DD4-40B6-9D0B-81D8E26F5354}" type="slidenum">
              <a:t>8</a:t>
            </a:fld>
          </a:p>
        </p:txBody>
      </p:sp>
    </p:spTree>
  </p:cSld>
  <p:transition spd="med"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ookman Old Style"/>
              </a:rPr>
              <a:t>PLANIRANJE RAZGOV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ookman Old Style"/>
              </a:rPr>
              <a:t>Odredi ciljeve i dnevni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ookman Old Style"/>
              </a:rPr>
              <a:t>Pripremi pit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ookman Old Style"/>
              </a:rPr>
              <a:t>Strukturiraj: uvod, analiza, pitanja, ocjene, prijedlo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ookman Old Style"/>
              </a:rPr>
              <a:t>Predvidi moguće probl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ookman Old Style"/>
              </a:rPr>
              <a:t>Održi komunikaci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ookman Old Style"/>
              </a:rPr>
              <a:t>Zaključi, konstatiraj - ne ostavljaj dojam nedoreče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ookman Old Style"/>
              </a:rPr>
              <a:t>Zapiši zaključke, budi siguran da je sugovornik shvatio is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22E-5031-4863-9B17-17219990C7D9}" type="slidenum">
              <a:t>9</a:t>
            </a:fld>
          </a:p>
        </p:txBody>
      </p:sp>
    </p:spTree>
  </p:cSld>
  <p:transition spd="med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06:51:41Z</dcterms:created>
  <dc:creator>Jelena</dc:creator>
  <dc:description/>
  <dc:language>en-US</dc:language>
  <cp:lastModifiedBy>dr. Josip Čulig</cp:lastModifiedBy>
  <dcterms:modified xsi:type="dcterms:W3CDTF">2002-12-09T11:16:30Z</dcterms:modified>
  <cp:revision>14</cp:revision>
  <dc:subject/>
  <dc:title>SUSTAV PROCJENE  RADNOG UČINKA</dc:title>
</cp:coreProperties>
</file>