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1BD-55D6-4F03-B2E0-1D41CC5C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C29-4FDE-4B4C-A2EC-4A0F38A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A4D-086D-46A0-87E2-8D1C5BF3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862-639C-41FA-ABD3-C69DD28A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0158-D629-449A-BA7E-38071D7B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43AB-DD08-4C62-8FC1-95EF6AD9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7D0E-5FCB-4A7F-8DD7-6D9FB22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0912-D2DA-4306-9000-7E101125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71F7-4131-4011-862E-7C5DC8E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DCB3-C67A-4841-9C2F-AF68B10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572C-43D9-4660-ACE5-4645987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FAC-14DC-4AB9-960D-8F1B9C4C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4F6F-34E2-4E7B-B76D-492E1B9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435E-96F9-4E78-BB89-14EEE2C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2E3A-1F5E-4C4A-9D4B-C9E33172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1A7E-B250-40D2-B712-C9A3CBCA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2C4F-B790-403F-A1A2-4EA43DE9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BDC-8F3A-4C74-A215-13F9620A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C7C-2AEB-4CFD-B2F4-5E75B3E5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505-4437-4741-A457-A2F468A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FA7-1E19-492F-ABA8-E841E7EF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67E-081F-4A52-AD94-EDC0A9F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9FC-EFAA-458D-85A2-A6C7AB3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A25-8D2B-4770-B02F-66FEDB9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424-9886-40F2-895F-5CB7E09D096A}" type="slidenum"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C11-9C4E-4AD4-B271-1B93C81ADA3E}" type="slidenum">
              <a:rPr b="0" lang="hr-H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841640" y="281952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Zavod za kliničku farmakologiju Interne klinike KBC Reb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440" y="1125360"/>
            <a:ext cx="7883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ccecff"/>
                </a:solidFill>
                <a:latin typeface="Verdana"/>
              </a:rPr>
              <a:t>PRIMJENA ANTIMIKROBNIH LIJEKOVA</a:t>
            </a: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8720" y="11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MJENA ANTIMIKROBNIH LIJEKOVA U INFEKCIJAMA UROGENITALNOG SUSTA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11080" y="1506600"/>
          <a:ext cx="8317080" cy="5234040"/>
        </p:xfrm>
        <a:graphic>
          <a:graphicData uri="http://schemas.openxmlformats.org/drawingml/2006/table">
            <a:tbl>
              <a:tblPr/>
              <a:tblGrid>
                <a:gridCol w="3240360"/>
                <a:gridCol w="5076720"/>
              </a:tblGrid>
              <a:tr h="16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ekomplicirani cistitis u žen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moksicilin kroz 3 dana; trimetoprim+sulfa; nitrofurantoin; cefaleksin u sredinama sa rezistentnom E. coli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especifični uretritis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(negonokokni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zitromicin 1g jedna doz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doksiciklin 2x100 mg/7 d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komplicirani urinarni infekt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vo rješavanje komplikacije (kamenac, tumor, cistroureteralni refluks, strano tijelo), a zatim tek antimikrobni lijek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bakterijska vaginoz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etronidazol ili klindamicin kroz 7 dana (djelotvorni i lokalni pripravci istih lijekova-krema, gel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8720" y="11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MJENA ANTIMIKROBNIH LIJEKOVA U INFEKCIJAMA RESPIRATORNOG SUSTA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63640" y="1682640"/>
          <a:ext cx="8316720" cy="4626000"/>
        </p:xfrm>
        <a:graphic>
          <a:graphicData uri="http://schemas.openxmlformats.org/drawingml/2006/table">
            <a:tbl>
              <a:tblPr/>
              <a:tblGrid>
                <a:gridCol w="3184200"/>
                <a:gridCol w="51325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kutni bronhitis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 20-70% odraslih bolesnika virusne etiologije, naročito u zimskim mjesecim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 djece &gt; 60% virusne etiologije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ntimikrobni lijekovi skromnog značenj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kutna egzacerbacija kroničnog bronhitis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opravdana primjena antimikrobnih lijekova: amoksicilin, azitromicin, tetraciklin, cefuroksim aksetil za sredine sa rezistentnim H.influenzae (u nas 30%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tipična pneumonija (intersticijska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tetraciklin, azitromicin, kinoloni (moksifloksacin-cijena!!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8720" y="5335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NEUMONI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557360"/>
            <a:ext cx="8064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Etiološka dg. važnost poznavanja uzročnika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ccff"/>
                </a:solidFill>
                <a:latin typeface="Verdana"/>
              </a:rPr>
              <a:t>Iskašljaj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– najlakše se dobije, najmanje vrijedi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ccff"/>
                </a:solidFill>
                <a:latin typeface="Verdana"/>
              </a:rPr>
              <a:t>Hemokultura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– u 30-50% bolesnika pozitivna, ali se ne uzim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ccff"/>
                </a:solidFill>
                <a:latin typeface="Verdana"/>
              </a:rPr>
              <a:t>Aspirat bronha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– vrijedan, ali tehnički komplicira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ccff"/>
                </a:solidFill>
                <a:latin typeface="Verdana"/>
              </a:rPr>
              <a:t>Pleuralna tekućina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– (rijetko pozitivna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ccff"/>
                </a:solidFill>
                <a:latin typeface="Verdana"/>
              </a:rPr>
              <a:t>Serologija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– (dugo se čeka, epidemiološka važnost)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M. pneumonia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H. influenza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Legionell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8720" y="5335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AMBULANTNA PNEUMONI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628640"/>
            <a:ext cx="806436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neumokok: penicilin G, cefalosp. I.generacije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  i gen., azitromicin (eritromicin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H. influenzae: a. cefuroksim, amoksicili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Klebsiella: cefuroksim + aminoglikozid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M. pneumoniae: azitromicin, eritromicin,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tetraciklin, doksicikli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Legionella: eritromicin, azitromicin, kinoloni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(moksifloksacin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Streptokok: penicilin ali odgovor koji puta za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 nekoliko dan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8720" y="5335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NEUMONI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557360"/>
            <a:ext cx="8172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Uz konkomitantne bolesti ili stanj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lkoholičari institucionalizirani: S. pneumoniae, anaerobi (peni.+metronidazol), alergični na penicilin-klindamici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spiracija-besvjesno stanje, teškoće s gutanjem: anaerobi (penicilin ili klindamicin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KOBP: H. influenzae, S. pneumoniae (cefuroksim, penicilin, azitromicin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Cistična fibroza: stafilokok, P. aeruginosa (kinolon, klindamicin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8720" y="11592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MJENA ANTIMIKROBNIH LIJEKOVA U INFEKCIJAMA GASTROINTESTINALNOG SUSTA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42920" y="1581120"/>
          <a:ext cx="7956720" cy="2160720"/>
        </p:xfrm>
        <a:graphic>
          <a:graphicData uri="http://schemas.openxmlformats.org/drawingml/2006/table">
            <a:tbl>
              <a:tblPr/>
              <a:tblGrid>
                <a:gridCol w="1800360"/>
                <a:gridCol w="61563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INFEKCIJE USNE ŠUPLJIN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gingivitis, peridentalni apsc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značajno učešće anaerobnih uzročnik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otrebna primjena: klindamicin, metronidazol ili penicilin G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grešk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mjena cefalosporina, kombinacije trim.+sulfa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042920" y="3789360"/>
          <a:ext cx="7956720" cy="2951280"/>
        </p:xfrm>
        <a:graphic>
          <a:graphicData uri="http://schemas.openxmlformats.org/drawingml/2006/table">
            <a:tbl>
              <a:tblPr/>
              <a:tblGrid>
                <a:gridCol w="1657440"/>
                <a:gridCol w="62992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GASTROENTERIT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lj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 20-40% bolesnika virusne etiologije, antimikrobni lijekovi nepotrebni-produžuju kliconoštv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.typh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mpicilin ili kinolon kroz 12-14 dan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higell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mpicilin ili kinolon kroz 5 dan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ljev na putovanj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opravdana profilaksa; započeti 24 h prije puta trim.+sulfa, doksiciklin, norfloksaci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8720" y="5335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KOLECISTIT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4720" y="1773360"/>
            <a:ext cx="784836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namneza: najčešće tipična, nekoliko recidiva 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 bilijarna opstrukcij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Uzročnici: E. coli, Enterobacteriacea,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Enterokoki, Proteu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Sterilizacija žuči nemoguća!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Th: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cefuroksim 1.5 g/8 h iv. ili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mpicilin 1g/6h iv. (akutni) ili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ceftriakso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mpicilin+gentamicin+metronidazol (kronični recidivirajući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8720" y="4618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MJENA ANTIMIKROBNIH LIJEKO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63640" y="1557360"/>
          <a:ext cx="8316720" cy="5232240"/>
        </p:xfrm>
        <a:graphic>
          <a:graphicData uri="http://schemas.openxmlformats.org/drawingml/2006/table">
            <a:tbl>
              <a:tblPr/>
              <a:tblGrid>
                <a:gridCol w="3060720"/>
                <a:gridCol w="525600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dijabetičko stopalo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značajno prisustvo anaeroba klindamicin, amoksicilin+klav.kis.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 težim oblicima ciproflokacin (2x500mg)+klindamicin (3x600mg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INFEKCIJE KOŽE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lijek izbora penicilin G, alternativa azitromicin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erizipel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furunkul, karbunkul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z kirurški zahvat incizija kloksacilin 4x500 mg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anaricij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z kirurški zahvat kloksacilin 4x500 mg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ekomplicirana ran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e treba antimikrobni lijek, a lokalna primjena antimikrobnog lijeka pogreška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8720" y="4618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Symbol"/>
                <a:ea typeface="Symbol"/>
              </a:rPr>
              <a:t></a:t>
            </a: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HEMOLITIČKI STREPTOKOK GRUPE A (BHSG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1557360"/>
            <a:ext cx="29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ecff"/>
                </a:solidFill>
                <a:latin typeface="Verdana"/>
              </a:rPr>
              <a:t>KLICONOŠTVO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1500120"/>
            <a:ext cx="43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ecff"/>
                </a:solidFill>
                <a:latin typeface="Verdana"/>
              </a:rPr>
              <a:t>PRIJENOS INFEKCIJ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1480" y="1971720"/>
            <a:ext cx="403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cce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često u grlu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cce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rijetko u nosu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rijetko prenose boles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192564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iz nosa +++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iz grla +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zaraznost najveća u ak. fazi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213000"/>
            <a:ext cx="33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ecff"/>
                </a:solidFill>
                <a:latin typeface="Verdana"/>
              </a:rPr>
              <a:t>TERAPIJ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3080" y="3328920"/>
            <a:ext cx="331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ecff"/>
                </a:solidFill>
                <a:latin typeface="Verdana"/>
              </a:rPr>
              <a:t>CILJ TERAPIJ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(u infekciji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364500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pen G 1.2 mil.j.; 600000 za djecu &lt;30 kg sa ili bez prokain peni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pen V 2x500-1000 mg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makroli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cefalosporin I. generacije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03840" y="3963960"/>
            <a:ext cx="347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89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eliminacija BHSGA iz grla i prevencija RG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89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spriječiti gnojne komplikacije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89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ubrzati klinički oporavak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5978520"/>
            <a:ext cx="82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ecff"/>
                </a:solidFill>
                <a:latin typeface="Verdana"/>
              </a:rPr>
              <a:t>NEMA REZISTENTNOG BHSGA!!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54936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OFILAKSA REUMATSKE GROZNICE (R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515960"/>
            <a:ext cx="24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RIMARN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188748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89b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adekvatna terapija infekcija hemolitičkog streptokoka grupe 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3% ak. infekcija u epid. završava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reumatskom groznicom (RG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ccecff"/>
                </a:solidFill>
                <a:latin typeface="Verdana"/>
              </a:rPr>
              <a:t>PENICILIN LIJEK IZBORA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(prokain pen G, fenoksimetilpenicili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15764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SEKUNDARN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450216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89b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nakon preboljele RG svaka streptokokna infekcija potencijalni recidiv (roditelji, odgajatelji, nastavnic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TRAJANJE ? 5 g; - 20 g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ccecff"/>
                </a:solidFill>
                <a:latin typeface="Verdana"/>
              </a:rPr>
              <a:t>LIJEK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 benzatin benzil penicilin (BBP) 1.2 mil.j./3 tj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fenoksimetil penicilin (FMP) 2 x 250 m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620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NCIPI PRIMJENE ANTIBIOTI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1766880"/>
            <a:ext cx="7559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Kultura bioloških uzoraka (npr. nekoliko hemokultura u susp. sepsi, pneumoniji, osteomijelitisu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Samo febrilitet nije indikacija za antibiotik (osim u imuno-kompromitiranih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ntibiotik ne predugo (većinom još 2 dana nakon nestanka simptoma u imunokompetentnih i 3 dana u imunokompromitiranih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9892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NALAZ BHSG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76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Verdana"/>
              </a:rPr>
              <a:t>razlike kliconoštva i recidiva BHSGA faringitis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170028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KLICONOŠTVO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8720" y="2598840"/>
            <a:ext cx="446400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simptomi virusne infekcije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neodgovarajuće godišnje dob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slab odgovor na antimikrobnu terapiju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pozitivan nalaz BHSGA izvan atak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nepromijenjen AST ili ADB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isti serotip BHSG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6200" y="1492200"/>
            <a:ext cx="388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RECIDIVI BHSGA FARINGITIS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0720" y="2608200"/>
            <a:ext cx="3708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simptomi BHSGA faringitis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godišnje doba (uglavnom zima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značajan odgovor na penicili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negativan nalaz BHSGA između atak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promjena AST ili ADB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buClr>
                <a:srgbClr val="89b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Verdana"/>
              </a:rPr>
              <a:t>različiti serotip BHSG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2880" y="564660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BHSGA</a:t>
            </a: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- beta hemolitički streptokok grupe 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AST</a:t>
            </a: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- antistreptolizinski tit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ADB</a:t>
            </a: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ccecff"/>
                </a:solidFill>
                <a:latin typeface="Verdana"/>
              </a:rPr>
              <a:t>- antideoksiribonukleaza B (imunološki lab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2920" y="2117880"/>
            <a:ext cx="0" cy="576000"/>
          </a:xfrm>
          <a:prstGeom prst="line">
            <a:avLst/>
          </a:prstGeom>
          <a:ln w="28440">
            <a:solidFill>
              <a:srgbClr val="89b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2276640"/>
            <a:ext cx="0" cy="431640"/>
          </a:xfrm>
          <a:prstGeom prst="line">
            <a:avLst/>
          </a:prstGeom>
          <a:ln w="28440">
            <a:solidFill>
              <a:srgbClr val="89b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05080" y="4618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LIJEČENJE KLICONOŠTVA BHSG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068480"/>
            <a:ext cx="56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eaeaea"/>
                </a:solidFill>
                <a:latin typeface="Verdana"/>
              </a:rPr>
              <a:t>u većine kliconoša nepotrebno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67652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Izuzeci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2178000"/>
            <a:ext cx="77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pozitivna obiteljska 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ping-pong infekcije u obitelj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uznemirenost u obitelj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epidemija u zatvorenim kolektivi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izbijanje epidemija RG ili S. glomerulonefritis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planirana tonzilektomija u kroničnih kliconoš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34920" y="4811760"/>
            <a:ext cx="45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ELIMINACIJA BHSGA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22936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penicilin (10 dana) + rifampicin 20mg/kg/d (4da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i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klindamicin 20 mg/kg/d u 3 doze (7 da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44720" y="189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OFILAKSA U KONZERVATIVNIM STRUKA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631880"/>
          <a:ext cx="8280720" cy="4719600"/>
        </p:xfrm>
        <a:graphic>
          <a:graphicData uri="http://schemas.openxmlformats.org/drawingml/2006/table">
            <a:tbl>
              <a:tblPr/>
              <a:tblGrid>
                <a:gridCol w="2735280"/>
                <a:gridCol w="1824120"/>
                <a:gridCol w="372132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OLEST ILI STANJ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ROFILAKS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OSTUPA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Reumatska groznic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marn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dekvatna terapija infekcije streptokokom grupe A, benzatin penicilin G 600.000-1.200.000 j. im. jednokratn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ekundarn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1.200.000 j. benzatin penicilina svaka 3 tjedna, penicilin V 2x250 mg/dan trajno kroz 5 godina ili do 20. godine život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plenektomira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vakcina ili antibioti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enicilin V 125mg svakih 12 h–djeca. 250mg svakih 12 h–odrasli (kroz 3 god.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4720" y="11592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OFILAKSA U KONZERVATIVNIM STRUKAM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nastav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5200" y="1773360"/>
          <a:ext cx="8280360" cy="4300560"/>
        </p:xfrm>
        <a:graphic>
          <a:graphicData uri="http://schemas.openxmlformats.org/drawingml/2006/table">
            <a:tbl>
              <a:tblPr/>
              <a:tblGrid>
                <a:gridCol w="1728720"/>
                <a:gridCol w="2447640"/>
                <a:gridCol w="4104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OLEST ILI STANJ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ROFILAK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OSTUPA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36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Bakterijski endokarditi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mjetni zalisci, preboljeli endokarditis, većina kongenitalnih srčanih grešaka, stečene srčane greške, hipertrofična kardiomiopatija, prolaps mitralnog zaliska sa regurgitacijo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 zahvatima na zubima, ustima ili gornjem respiratornom traktu amoksicilin 2g 1 h prije zahvata. U slučaju alergije na penicilin - klindamicin 600mg te ponoviti za 6 sati. Pri zahvatima na genitourinarnom ili probavnom traktu: amoksicilin 2g+gentamicin 80mg iv. zatim amoksicilin 1.5g 6 h. U slučaju alergije na penicilin-vankomicin 1g+gentamicin 80mg, ponoviti za 8 sati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44720" y="189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OFILAKSA U KONZERVATIVNIM STRUKAM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nastav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26920" y="1211400"/>
          <a:ext cx="8280720" cy="5486400"/>
        </p:xfrm>
        <a:graphic>
          <a:graphicData uri="http://schemas.openxmlformats.org/drawingml/2006/table">
            <a:tbl>
              <a:tblPr/>
              <a:tblGrid>
                <a:gridCol w="2016360"/>
                <a:gridCol w="3097080"/>
                <a:gridCol w="31672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OLEST ILI STANJ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ROFILAK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OSTUPA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Opetovane infekcije urinarnog trak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žene generativne dob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itrofurantoin 50mg prije spavanja (uz normalnu funkciju bubrega), trim+sulfa ½ tbl prije spavanja uz nefarmakološke mje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neumocistis carinii, pneumonij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imunokompromitirani (AIDS, imunosupresivna th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trim+sulfa 2 x tjedno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2 x 2 tb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eningitis uzrokovan H. influenzae tip 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osobe bliskog kontak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rifampicin 20 mg/kg tjel.tež. u jednokratnoj dozi kroz 4 d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. meningitidi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osobe bliskog kontak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rifampicin 2x600mg/4 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Kolonizacija s MR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zdravstveni radnici, bolesnici pred op. zahvat sa sternotomijo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upirocin 2% mast 2 puta na dan u vestibulum nosa kroz 5 d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44720" y="189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OFILAKSA U KONZERVATIVNIM STRUKAM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nastav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26920" y="1631880"/>
          <a:ext cx="8280720" cy="4719600"/>
        </p:xfrm>
        <a:graphic>
          <a:graphicData uri="http://schemas.openxmlformats.org/drawingml/2006/table">
            <a:tbl>
              <a:tblPr/>
              <a:tblGrid>
                <a:gridCol w="2808360"/>
                <a:gridCol w="1873440"/>
                <a:gridCol w="3598920"/>
              </a:tblGrid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OLEST ILI STANJ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ROFILAKS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OSTUPA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1368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umnjiv seksualni kontakt +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N. gonorrhoea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ceftriakson 125 mg im. ili azitromicin 1 g po. ili ciprofloksacin 250 mg po., sve u jednoj dozi, ili doksiciklin 2x100 mg / 7 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Žrtve silovanj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eksualno prenosive bole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ceftriakson 125 mg im. + azitromicin 1 g po. + metronidazol 2 g, sve jednokratn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5760">
                      <a:solidFill>
                        <a:srgbClr val="89b0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ljev na putovanj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samo prva 2 tjedna ako je boravak duži od 14 dan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576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ciprofloksacin 2x250 mg/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9b0ff"/>
                      </a:solidFill>
                    </a:lnL>
                    <a:lnR w="13680">
                      <a:solidFill>
                        <a:srgbClr val="89b0ff"/>
                      </a:solidFill>
                    </a:lnR>
                    <a:lnT w="5760">
                      <a:solidFill>
                        <a:srgbClr val="89b0ff"/>
                      </a:solidFill>
                    </a:lnT>
                    <a:lnB w="13680">
                      <a:solidFill>
                        <a:srgbClr val="89b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404640"/>
            <a:ext cx="7848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NCIPI PRIMJENE ANTIBIOTIK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aeaea"/>
                </a:solidFill>
                <a:latin typeface="Verdana"/>
              </a:rPr>
              <a:t>nastav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541520"/>
            <a:ext cx="824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Uzroci neuspjeha terapije koja je trajala 2 do 3 dan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uzročnik je rezisten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nedovoljna penetracija u tkivo na mjestu infekcij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nedjelotvornost </a:t>
            </a:r>
            <a:r>
              <a:rPr b="0" i="1" lang="hr-HR" sz="2400" spc="-1" strike="noStrike">
                <a:solidFill>
                  <a:srgbClr val="ccecff"/>
                </a:solidFill>
                <a:latin typeface="Verdana"/>
              </a:rPr>
              <a:t>in viv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apsces, strano tijelo, imunodeficijencij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9b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nebakterijski uzrok (febrilitet uzrokovan lijekovima, virusna infekcij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očetna empirijska terapij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Lokalna primjena rijetko indicirana uključujući infekcije kože i ok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Cijena (stariji lijekovi su jeftiniji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404640"/>
            <a:ext cx="7848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NCIPI PRIMJENE ANTIBIOTIK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aeaea"/>
                </a:solidFill>
                <a:latin typeface="Verdana"/>
              </a:rPr>
              <a:t>nastav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612800"/>
            <a:ext cx="799308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erioperativna profilaksa (uglavnom 1 doza 1 sat prije operacije 1 antimikrobni lijek – najčešće cefazolin 1 g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Oprez na alergiju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9b0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Individualno podešavanje terapije (dob, imuni status, metaboličko stanje, uhranjenost, ravnoteža vode i elektrolita, funkcija bubrega i jetre itd!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404640"/>
            <a:ext cx="7848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RINCIPI PRIMJENE ANTIBIOTIK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aeaea"/>
                </a:solidFill>
                <a:latin typeface="Verdana"/>
              </a:rPr>
              <a:t>nastav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530360"/>
            <a:ext cx="79930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spcBef>
                <a:spcPts val="326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Kombinacija antimikrobnih lijekova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326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249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249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249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249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1301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U izboru antibiotika važni su: aerobni/anaerobni okoliš, penetracija lijeka u tkivo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326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Razlikovati bolničku od izvanbolničke infekcij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spcBef>
                <a:spcPts val="326"/>
              </a:spcBef>
              <a:buClr>
                <a:srgbClr val="89b0ff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Interakcije (hrana, drugi lijekovi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30400" y="1898640"/>
            <a:ext cx="6934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90000"/>
              </a:lnSpc>
              <a:buClr>
                <a:srgbClr val="89b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miješane infekcij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buClr>
                <a:srgbClr val="89b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empirijska primje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buClr>
                <a:srgbClr val="89b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Symbol"/>
                <a:ea typeface="Symbol"/>
              </a:rPr>
              <a:t>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rezistencija nekih speciesa (</a:t>
            </a:r>
            <a:r>
              <a:rPr b="0" i="1" lang="hr-HR" sz="2400" spc="-1" strike="noStrike">
                <a:solidFill>
                  <a:srgbClr val="ccecff"/>
                </a:solidFill>
                <a:latin typeface="Verdana"/>
              </a:rPr>
              <a:t>Klebsiella, Pseudomonas, Serratia, M. tbc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buClr>
                <a:srgbClr val="89b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sinergističko djelovanje (npr. u endokarditisu i u imunokompromitiranih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404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POTROŠNJA ANTIMIKROBNIH LIJEKO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3640" y="1628640"/>
            <a:ext cx="831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U Hrvatskoj 2002 među prvih 10 lijekova po financijskoj potrošnji 2 antimikrobna lijeka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moksicilin + klavulanska kiselin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zitromici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25-30% hospitaliziranih prima antimikrobni lijek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50% dobiva antimikrobni lijek u profilaksi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20% hospitaliziranih na antimikrobnoj terapiji neopravdano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ntimikrobni lijekovi djelotvorni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niske intrinzičke toksičnosti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40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NAJČEŠĆE GREŠKE U PRIMJENI ANTIMIKROBNIH LIJEKO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566720"/>
            <a:ext cx="784872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rimjena antimikrobnog lijeka kao antipiretik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Nepotrebna profilaktička primjena (edem pluća, hepatalna koma, jednostavna kirurška rana, elektivna operacija na neinficiranom terenu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okušaj rješavanja kliconoštva (S. aureus u vestibulumu nosa, beta hemolitički streptokok u ždrijelu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89b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Trajna primjena antimikrobnog lijeka u nosioca trajnog urinarnog katetera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260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AKUTNI FARINGITIS I TONZILIT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(u zimskim mjesecima 70% virusn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57360"/>
            <a:ext cx="817272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Klinička slika: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nagli nastup, disfagija, </a:t>
            </a:r>
            <a:r>
              <a:rPr b="0" lang="hr-HR" sz="2600" spc="-1" strike="noStrike">
                <a:solidFill>
                  <a:srgbClr val="ccecff"/>
                </a:solidFill>
                <a:latin typeface="Symbol"/>
                <a:ea typeface="Symbol"/>
              </a:rPr>
              <a:t>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 temp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Dg: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bris, krvna slika (leukocitoza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Th: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eni G 1.2 mil.j. benzatin (1x) u jedan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gluteus i 1.200.000 j. prokainpenicilin u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drugi gluteu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ili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peni V 250 mg/8 h u 10 dana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(pridržavanje, važno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ili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azitromicin 5 ili 3 dana (1.5 g)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(streptokok već 3. dan reagira!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Th: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Recidiva? Zaštita bliske okoline 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600" spc="-1" strike="noStrike">
                <a:solidFill>
                  <a:srgbClr val="ccecff"/>
                </a:solidFill>
                <a:latin typeface="Verdana"/>
              </a:rPr>
              <a:t>(nepotrebna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69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OTITIS MEDIA, SINUITIS ACUTA</a:t>
            </a:r>
            <a:r>
              <a:rPr b="1" lang="hr-HR" sz="2800" spc="-1" strike="noStrike">
                <a:solidFill>
                  <a:srgbClr val="ccccff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1628640"/>
            <a:ext cx="78487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Dekongestija sluznice nosa – vazokonstrik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Uzročnici: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S. pneumoniae, H. influenzae,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Moraxella c.</a:t>
            </a:r>
            <a:r>
              <a:rPr b="0" lang="hr-HR" sz="2400" spc="-1" strike="noStrike">
                <a:solidFill>
                  <a:srgbClr val="ccccff"/>
                </a:solidFill>
                <a:latin typeface="Verdana"/>
              </a:rPr>
              <a:t>*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Th: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amoksicil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amoksicilin + klav. kis. (lokalna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osjetljivost H. influenzae)</a:t>
            </a:r>
            <a:r>
              <a:rPr b="0" lang="hr-HR" sz="2400" spc="-1" strike="noStrike">
                <a:solidFill>
                  <a:srgbClr val="ccccff"/>
                </a:solidFill>
                <a:latin typeface="Verdana"/>
              </a:rPr>
              <a:t>**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azitromicin, eritromic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trimetoprim+sulfametoksaz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Greška: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ukapavanje kapi kortikosteroida i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antimikrobnog lijeka (Geokorton) u 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ccecff"/>
                </a:solidFill>
                <a:latin typeface="Verdana"/>
              </a:rPr>
              <a:t>vanjski slušni hodn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635472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ccff"/>
                </a:solidFill>
                <a:latin typeface="Verdana"/>
              </a:rPr>
              <a:t>*</a:t>
            </a:r>
            <a:r>
              <a:rPr b="0" lang="hr-HR" sz="1800" spc="-1" strike="noStrike">
                <a:solidFill>
                  <a:srgbClr val="ccecff"/>
                </a:solidFill>
                <a:latin typeface="Verdana"/>
              </a:rPr>
              <a:t> u kroničnoj upali metronidazol ili klindamicin; </a:t>
            </a:r>
            <a:r>
              <a:rPr b="0" lang="hr-HR" sz="1800" spc="-1" strike="noStrike">
                <a:solidFill>
                  <a:srgbClr val="ccccff"/>
                </a:solidFill>
                <a:latin typeface="Verdana"/>
              </a:rPr>
              <a:t>**</a:t>
            </a:r>
            <a:r>
              <a:rPr b="0" lang="hr-HR" sz="1800" spc="-1" strike="noStrike">
                <a:solidFill>
                  <a:srgbClr val="ccecff"/>
                </a:solidFill>
                <a:latin typeface="Verdana"/>
              </a:rPr>
              <a:t> rijetko uzročnik otitisa; </a:t>
            </a:r>
            <a:r>
              <a:rPr b="0" lang="hr-HR" sz="1800" spc="-1" strike="noStrike">
                <a:solidFill>
                  <a:srgbClr val="ccccff"/>
                </a:solidFill>
                <a:latin typeface="Verdana"/>
              </a:rPr>
              <a:t>***</a:t>
            </a:r>
            <a:r>
              <a:rPr b="0" lang="hr-HR" sz="1800" spc="-1" strike="noStrike">
                <a:solidFill>
                  <a:srgbClr val="ccecff"/>
                </a:solidFill>
                <a:latin typeface="Verdana"/>
              </a:rPr>
              <a:t> djeca više probavnih nuspojav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7:21:21Z</dcterms:created>
  <dc:creator>Tamara</dc:creator>
  <dc:description/>
  <dc:language>en-US</dc:language>
  <cp:lastModifiedBy>Tamara</cp:lastModifiedBy>
  <dcterms:modified xsi:type="dcterms:W3CDTF">2004-01-02T11:15:18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542490</vt:r8>
  </property>
  <property fmtid="{D5CDD505-2E9C-101B-9397-08002B2CF9AE}" pid="3" name="_AuthorEmail">
    <vt:lpwstr>tamara@zkf.hr</vt:lpwstr>
  </property>
  <property fmtid="{D5CDD505-2E9C-101B-9397-08002B2CF9AE}" pid="4" name="_AuthorEmailDisplayName">
    <vt:lpwstr>Tamara Herceg Bojković</vt:lpwstr>
  </property>
  <property fmtid="{D5CDD505-2E9C-101B-9397-08002B2CF9AE}" pid="5" name="_EmailSubject">
    <vt:lpwstr>Studentski seminari</vt:lpwstr>
  </property>
</Properties>
</file>