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97F-8666-43DD-833F-C569F0E8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40D-D25D-4425-A02A-6213442B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891E6-C1E3-49F5-9225-AB82F790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8A40F-3737-4553-A27D-7A6F8C3A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7EEB7-401F-43CC-B0B3-799E85F3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9E56B-029A-41BA-9317-3A3629C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40416-6087-449B-9016-16AC668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C215-E30F-40AD-97BB-6711803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692D6-E844-406C-BB00-AC765028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9919E-DB4B-45E3-8434-0D5E3D38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B6A86-69F2-4FB4-A078-13D9072E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FB7A-27CF-4DE4-9473-F8E09C3C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400-3FA5-45F1-AAD4-A36D0A61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B3C1F-A5AB-41C1-92CC-B4DCB8EB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1AB48-AEF6-49AB-8A4A-DA26E40A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05506-0A91-441B-B43A-9C32864B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28218-3841-4FDB-8F48-EABD447B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CCD8C-CF3F-4E7A-B60D-13C4631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88A27-6582-4499-8347-C6665320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8E728-F390-4CF6-8599-D89D71CE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C5198-6B5C-417A-A16D-AD22B55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E7B05-07C1-4013-9E45-69996472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FBA71-84D5-4B5B-94F9-E943AFB9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BE2-6F01-4615-93CA-4C7834DA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AB1B1-6780-4810-962F-77C482B6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0E7E5-5AD1-4930-A390-89423F73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1C8D1-EF74-4FC5-AE14-F86486D3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342BF-D7F6-4A16-A07D-D7752B61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0DDDC-8E33-4AA6-BAEB-E23E5413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F8D2F-D080-4D8B-AF97-85AF563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E1746-15AB-4A34-AF46-EA25AB6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7386D-37E8-4BAA-9E4F-1E8E715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06A56-2251-41AE-9C24-AAFE874C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7AAEC-509F-4C62-950D-A1B9EDD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A0D5-9D0F-4965-825F-9243DDEA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AAE87-34B0-4144-8E58-B66528BE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C5DB9-D4ED-461E-A97A-1BE2C95F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71181-6F70-4BAC-AB01-6B62812D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1C0DC-D46C-4D46-A43E-674857F0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E9328-F8A9-4924-849A-5EDEF06C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9ECC9-AD47-4AB0-82D5-C802FE9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12240-D1B4-484D-82B7-C175A16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A43CD-7D15-4027-9EE6-284B57C6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44075-496E-4069-8C2F-470EA499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AD4F7-C213-4339-92BE-BF7B319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17DD-CAE3-470E-A6F0-C93C406E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1F0D2-70F0-426F-B785-1573897C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A8565-38FE-44BD-884E-776A21E3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2CFB8-1DA1-420C-A12F-FBD6E265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F12A9-CCEF-4786-9149-8195F8B8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875E9-990E-43DC-8131-89F32B2F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52E9-CD07-41EB-AEF9-0AFDEE47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B38D-AB82-40F6-8F12-63E6C591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883D-FA0A-4EC8-84DB-6EFEA174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0B7B-50B9-4705-B1F3-45CC3A37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6580-925D-4528-936A-72821E68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8AB-618C-45DD-8244-206CD4F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1C8-3569-4049-877E-8CC5196D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86A8-2244-4AED-81FA-B4B64FB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4045-D9E3-4744-AF2C-FBB05D28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AE82-DCE4-44DA-B7A4-05F0E53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8C70-5C45-4BCC-BC7B-B0BD96D0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B3DE-DA3A-408B-BCB6-FF1AD381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1F1E-697A-4B54-85EB-5DA6AADA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3D29-D80E-4EDB-BAF6-225C4DE8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A483-CCD6-46A7-80D2-79C98B6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35D4-C0E0-4CF3-B3E2-D757AA67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B37-95F3-4D83-A703-01F29653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BC57-D67A-453A-B754-93E6A97C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25B5-A204-4036-B1AC-F6642D6B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8A49-EA07-4158-BE53-7F59EB5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3922-218A-4346-BFB8-0413920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48DF-927F-4CFE-9333-60F32C5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E4DB-BAFA-419C-B150-F8C68042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AA48-BB13-4FBC-9CEF-D9F2F1F3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3CAE-9BCC-4FE4-BAC0-56736568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45DC-D8F5-4327-9830-109C8722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A989-ACE9-4DF5-B730-3902B4F1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CB1-497F-499B-AD61-B962C38C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7CD2-86B7-451E-BE68-93F0673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ED8D-5527-485F-B8C4-EAADE2EA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0379-0537-4338-B962-17DC43A2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8AD1-CE80-478E-97CB-32F1035C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76B7-0C53-4EBD-8AE6-A78C94E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EDC3-DB50-46C6-A8EA-2F4A613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B5A8-1635-42F0-845D-9A267119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610D-2743-4747-A2FD-9134F671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272F-B2F5-4991-95D1-8723D6D7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917B-5BB6-4746-90D5-EC9DA05E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E3D-FB1F-4305-9F64-0560C12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CF12-0DC9-4589-A32B-F40D52C7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C5D6-0ADD-4DEB-A6F1-335B9F94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BE7B-AC50-4BFE-B719-4271288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A72D4-E8E0-4A02-A138-1288FD22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93BE-3F5B-4063-87B9-5E2C50D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96120-CF34-4D66-A631-6FA9B06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BDA6-14C2-4C55-AD30-1670C1EF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FB7A-0477-466E-B97D-3943068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7AD8-A9B2-4A26-98E2-3095332F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9374-A9FE-4997-BD80-12BF4CD2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381-9A75-4371-8252-2B897107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22AC-E8AA-4BA5-BDBB-5BB90DF7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0D53-D4B8-4AD7-8FA6-76EC90CF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712EB-F835-4F53-A2E7-4A8B470A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F441-92F5-4FB5-99EA-7927E29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9CC51-FC3F-4922-ABA5-7A533A6E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4E525-AA74-4073-889E-464B5E9D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EE93A-F7A3-4CDC-AD92-52583A40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6ADBD-AD90-4F1D-A1C7-9A3A952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8581-46D8-4886-ACB4-F8EAFAC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5FFF7-7283-4328-A058-5A4D78F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360-3AE5-4874-A919-6280A06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C12DB-2578-47B8-9CE1-530EB18D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11EF-EB61-4C68-A544-4FE6416B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E0B2-C686-4AEE-902F-EA5FAF23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0FB59-6484-4C21-A329-19C38ECD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40FDE-D38C-42D2-89A9-7780D159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4876-7A1D-4336-AEBC-399970DA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A1F94-3DFF-49FA-BC03-78F9E556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198D4-C2E9-4DA6-AD8D-EBEECA6C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DDEF-FA20-4F64-94E4-9AADDD21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B44C-82AF-4B7E-B11A-2743F9B2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BCD-F8DE-4579-BA0B-B6917CE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70BDF-8718-4713-9B12-DE195210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E4869-533E-44F2-B264-4D97030C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26CC9-C5A8-4D73-8B58-05FB2B82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97929-01EF-493B-BBD3-9D07B460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FB491-97CC-40D3-9C33-C00F678D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2AD1-DE38-407D-B0C7-DAB8E5D7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E7E5C-080D-42A7-BF9A-D6DAB982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BA4C0-35BD-42D7-BD25-B804AA7E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65773-4D90-4B46-9792-21291B02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EA5FB-32E4-4133-964E-17DE1DA4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A1E-C5CC-4A52-A834-4AEC47A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FE6D9-FC55-401E-9A2A-71AE9602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B07E9-E763-4BB7-BAA2-9E7C77C3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1AAE-7BE0-473E-AB71-6FDD3CE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1314A-1CA1-40E5-8F45-C72E1D2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BBB65-83C7-447F-B1ED-7CEDAE95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D2EF-7BD1-4E92-B002-1F5A1E84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B6F26-C767-4432-A3B2-16029EB0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95F83-5BDF-4E76-BBB5-2C3F23F1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079C8-82CD-4D8C-802A-5E654C8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D6278-4A44-40D1-94E3-B63D656F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5BFB-4912-4600-8044-5CD4751BE7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avokutni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Pravokutni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Dijagram toka: Postupak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ijagram toka: Postupak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1BF-E02E-41B2-90C7-643F57C1AF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9ABA-F421-428F-8DFF-12326319F7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8143-A086-4DC0-9EE6-0976164EB51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44A-A75A-4CC0-AF27-5F9123F0C4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493-7BA4-4224-AD92-8141CF6BDD5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avokutni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avokutni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FCE-6ABA-4D93-BFCA-271CD05802D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262D-A355-4FBB-8107-E248618875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A711-0A5F-430E-B1E5-E766859CC04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2B3-2252-414E-B75A-2901F9B5C5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avokutni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avokutni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85CD-1A31-4946-AA7E-F98F97B297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092A-6402-4FD9-8D90-F43B8A14597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ETVARANJE MODELA PODATAKA U RELA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ježb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normalizirana relacij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UčesnikUtrke (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ŠifraUtrke, OlimpijskiBroj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NazivUtrke, ImePrezimeTrkača, ŠifraDržave, NazivDržave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 slijedeće funkcionalne zavisnosti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Utrke, OlimpijskiBroj -&gt; NazivUtrke, ImePrezimeTrkača, ŠifraDržave, NazivDrža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Utrke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Utrk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limpijskiBroj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mePrezimeTrkača, ŠifraDržave, NazivDržav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Države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Držav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ormalizirati zadanu relaciju do 3NF (Obavezno objasniti postupak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395360" y="1714680"/>
            <a:ext cx="6772320" cy="4182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1857240" y="1785960"/>
            <a:ext cx="69548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929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500120" y="2000160"/>
            <a:ext cx="6854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ORMALIZ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ježb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dana je relacij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Edukacija (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Gill Sans MT"/>
              </a:rPr>
              <a:t>Đak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, Škola,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Gill Sans MT"/>
              </a:rPr>
              <a:t>Učitelj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etpostavimo da postoje slijedeće funkcionalne zavisnosti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Đak, Učitelj --&gt; Šk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čitelj --&gt; Šk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spitati u kojoj je normalnoj formi zadana relacija (odnosno u kojima nije), te izvršiti potrebnu normalizaciju da se relacija prevede u 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3NF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slijedeća normalizirana relaci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KOKTEL (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KoktelID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NazivKoktela, NačinPripreme, TipČašeID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NazivTipaČaše,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RedBrSastojka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SastojakID, NazivSastojka, Količina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JedMjereID, NazivJedMjer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Pretpostavimo da postoje slijedeće funkcionalne zavisnosti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KoktelID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Koktela, NačinPripreme, TipČašeID, NazivTipaČaš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TipČaše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TipaČaš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KoktelID,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RedBrSastoj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 -&gt; SastojakID, NazivSastojka, Količina, JedMjere, 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stojak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Sastojka, JedMjereID, 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JedMjere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 kojoj je normalnoj formi zadana relacija? Normalizirajte zadanu relaciju postupno do 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BCNF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normalizirana relaci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RasporedVozila (ŠifraGaraže, RegBroj, NazivGaraže, GaražnoMesto, ŠifraTipaVozila, NazivTipaVozila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 slijedeće funkcionalne zavisnosti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Garaže, RegBroj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 NazivGaraže, GaražnoMesto, ŠifraTipaVozila,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Garaže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Garaž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RegBroj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ŠifraTipaVozila, 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TipaVozila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TipaVozila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Šifra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ormalizirajte zadanu relaciju direktnom primjenom BCNF  i objasnite postupa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47:19Z</dcterms:created>
  <dc:creator>Marasović Renco</dc:creator>
  <dc:description/>
  <dc:language>en-US</dc:language>
  <cp:lastModifiedBy>Marasović Renco</cp:lastModifiedBy>
  <dcterms:modified xsi:type="dcterms:W3CDTF">2009-04-09T12:53:13Z</dcterms:modified>
  <cp:revision>23</cp:revision>
  <dc:subject/>
  <dc:title>MODELIRANJE PODATAKA</dc:title>
</cp:coreProperties>
</file>