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56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41.png" ContentType="image/png"/>
  <Override PartName="/ppt/media/image3.jpeg" ContentType="image/jpeg"/>
  <Override PartName="/ppt/media/image36.png" ContentType="image/png"/>
  <Override PartName="/ppt/media/image9.jpeg" ContentType="image/jpeg"/>
  <Override PartName="/ppt/media/image35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8.png" ContentType="image/png"/>
  <Override PartName="/ppt/media/image44.png" ContentType="image/png"/>
  <Override PartName="/ppt/media/image40.jpeg" ContentType="image/jpeg"/>
  <Override PartName="/ppt/media/image80.png" ContentType="image/png"/>
  <Override PartName="/ppt/media/image8.jpeg" ContentType="image/jpeg"/>
  <Override PartName="/ppt/media/image39.jpeg" ContentType="image/jpeg"/>
  <Override PartName="/ppt/media/image16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75.png" ContentType="image/png"/>
  <Override PartName="/ppt/media/image60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17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4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5.jpeg" ContentType="image/jpeg"/>
  <Override PartName="/ppt/media/image15.jpeg" ContentType="image/jpeg"/>
  <Override PartName="/ppt/media/image78.png" ContentType="image/png"/>
  <Override PartName="/ppt/media/image23.jpeg" ContentType="image/jpeg"/>
  <Override PartName="/ppt/media/image65.jpeg" ContentType="image/jpeg"/>
  <Override PartName="/ppt/media/image49.png" ContentType="image/png"/>
  <Override PartName="/ppt/media/image64.jpeg" ContentType="image/jpeg"/>
  <Override PartName="/ppt/media/image70.png" ContentType="image/png"/>
  <Override PartName="/ppt/media/image38.jpeg" ContentType="image/jpeg"/>
  <Override PartName="/ppt/media/image76.png" ContentType="image/png"/>
  <Override PartName="/ppt/media/image73.jpeg" ContentType="image/jpeg"/>
  <Override PartName="/ppt/media/image72.jpeg" ContentType="image/jpeg"/>
  <Override PartName="/ppt/media/image69.png" ContentType="image/png"/>
  <Override PartName="/ppt/media/image67.jpeg" ContentType="image/jpeg"/>
  <Override PartName="/ppt/media/image14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42.png" ContentType="image/png"/>
  <Override PartName="/ppt/media/image19.jpeg" ContentType="image/jpeg"/>
  <Override PartName="/ppt/media/image2.jpeg" ContentType="image/jpeg"/>
  <Override PartName="/ppt/media/image57.png" ContentType="image/png"/>
  <Override PartName="/ppt/media/image24.jpeg" ContentType="image/jpeg"/>
  <Override PartName="/ppt/media/image59.png" ContentType="image/png"/>
  <Override PartName="/ppt/media/image66.jpeg" ContentType="image/jpeg"/>
  <Override PartName="/ppt/media/image37.jpeg" ContentType="image/jpeg"/>
  <Override PartName="/ppt/media/image50.jpeg" ContentType="image/jpeg"/>
  <Override PartName="/ppt/media/image81.png" ContentType="image/png"/>
  <Override PartName="/ppt/media/image7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F04B-4A4B-48C7-B50D-B61DC658AD00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2CD8-937C-4F5E-B69A-7B25E335AB4D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CF18-401B-4F5D-BB0E-6601664FF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3D99-35E0-4B32-85AE-86B28F27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C2D9-4FC9-449F-AB43-CE3F86C2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63936-6ACB-4D7E-B6E8-C73DB3EB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EA77-4B2A-4428-987F-EDE2BAE8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58DD-6588-4C54-91CA-55712BF1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48BB-5EE3-45DC-B3E2-AF0F136B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7C78-343B-4EA1-8581-44C368F9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729E-35B9-4AD7-B7CE-C5FCC15B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9885-C22D-4707-9D67-D547473C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5420-6A57-4555-A4C8-D7C62196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679D-27B9-4B5F-99C6-BEE8D7D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9D64-4659-4DCF-B8F5-D177E2E0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94B4-9633-4F27-B91E-91D462E7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A53F-04BB-44B3-9144-057EEF98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583E-52ED-41F4-B78D-26E80FA8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3851-F210-42F4-A2FF-60C243D3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F951-F2E3-418B-B3A1-AE12DF25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1FCD1-3ABD-40E2-8D30-8967F56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6CFA6-8D7C-4FBB-B8FD-B6CACAF0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3CFC-1E1B-420E-8A27-55D44BB0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69CB-5381-4CFF-A7E9-290CC107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A287-BF4B-459C-B676-38682B2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71F9-D195-4E80-A806-1755F69F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B13EA-D750-42AB-811D-160A87B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1179-7DE5-4CFC-954F-143D33D39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C410-CA52-4B31-8B2A-CC5EA9EE5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2.hgk.hr/znakovi/izvorno/izvorno.asp" TargetMode="External"/><Relationship Id="rId2" Type="http://schemas.openxmlformats.org/officeDocument/2006/relationships/hyperlink" Target="http://www2.hgk.hr/znakovi/izvorno/izvorno.asp" TargetMode="External"/><Relationship Id="rId3" Type="http://schemas.openxmlformats.org/officeDocument/2006/relationships/hyperlink" Target="http://www2.hgk.hr/znakovi/izvorno/izvorno.asp" TargetMode="External"/><Relationship Id="rId4" Type="http://schemas.openxmlformats.org/officeDocument/2006/relationships/hyperlink" Target="http://www2.hgk.hr/znakovi/izvorno/izvorno.asp" TargetMode="External"/><Relationship Id="rId5" Type="http://schemas.openxmlformats.org/officeDocument/2006/relationships/hyperlink" Target="http://www2.hgk.hr/znakovi/izvorno/izvorno.asp" TargetMode="External"/><Relationship Id="rId6" Type="http://schemas.openxmlformats.org/officeDocument/2006/relationships/hyperlink" Target="http://www2.hgk.hr/znakovi/izvorno/izvorno.asp" TargetMode="External"/><Relationship Id="rId7" Type="http://schemas.openxmlformats.org/officeDocument/2006/relationships/hyperlink" Target="http://www2.hgk.hr/znakovi/kvaliteta/kvaliteta.asp" TargetMode="External"/><Relationship Id="rId8" Type="http://schemas.openxmlformats.org/officeDocument/2006/relationships/hyperlink" Target="http://www2.hgk.hr/znakovi/kvaliteta/kvaliteta.asp" TargetMode="External"/><Relationship Id="rId9" Type="http://schemas.openxmlformats.org/officeDocument/2006/relationships/hyperlink" Target="http://www2.hgk.hr/znakovi/kvaliteta/kvaliteta.asp" TargetMode="External"/><Relationship Id="rId10" Type="http://schemas.openxmlformats.org/officeDocument/2006/relationships/hyperlink" Target="http://www2.hgk.hr/znakovi/kvaliteta/kvaliteta.asp" TargetMode="External"/><Relationship Id="rId11" Type="http://schemas.openxmlformats.org/officeDocument/2006/relationships/hyperlink" Target="http://www2.hgk.hr/znakovi/kvaliteta/kvaliteta.asp" TargetMode="External"/><Relationship Id="rId12" Type="http://schemas.openxmlformats.org/officeDocument/2006/relationships/hyperlink" Target="http://www2.hgk.hr/znakovi/kvaliteta/kvaliteta.asp" TargetMode="External"/><Relationship Id="rId13" Type="http://schemas.openxmlformats.org/officeDocument/2006/relationships/image" Target="../media/image35.png"/><Relationship Id="rId14" Type="http://schemas.openxmlformats.org/officeDocument/2006/relationships/image" Target="../media/image36.png"/><Relationship Id="rId15" Type="http://schemas.openxmlformats.org/officeDocument/2006/relationships/image" Target="../media/image37.jpeg"/><Relationship Id="rId16" Type="http://schemas.openxmlformats.org/officeDocument/2006/relationships/image" Target="../media/image38.jpeg"/><Relationship Id="rId17" Type="http://schemas.openxmlformats.org/officeDocument/2006/relationships/image" Target="../media/image39.jpeg"/><Relationship Id="rId18" Type="http://schemas.openxmlformats.org/officeDocument/2006/relationships/image" Target="../media/image40.jpe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227628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ŽIŠNI ASPEKT PROIZVOD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1877-5FED-4A44-9887-C0AB8E3D4F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 provedbi politike proizvoda potrebno je razlikova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oizvod u užem smisli (product item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iniju proizvoda (product line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oizvodni program ili mix proizvoda (product m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D03A-A3B4-429F-8FFC-7E7C6A1F57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duct i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izvod u užem smislu predstavlja svaki pojedinačni proizvod, koji se po svojim svojstvima razlikuje od ostalih proizvoda u proizvodnom programu gospodarskog subjekta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 Meler,M.: Osnove marketinga, Ekonomski fakultet u Osijeku, Osijek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80360" y="333360"/>
            <a:ext cx="1385640" cy="13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89EF-2164-4411-AE6B-5DC99BC89E4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izvod u užem smislu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3360" y="1981080"/>
            <a:ext cx="3738600" cy="1868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614920" y="1981080"/>
            <a:ext cx="2119320" cy="1868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477800" y="3998880"/>
            <a:ext cx="1982880" cy="1868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545080" y="4095720"/>
            <a:ext cx="2200320" cy="1768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885080" y="333360"/>
            <a:ext cx="1042920" cy="115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2F63-1AB1-4B22-9614-25CD3E4216A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duct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0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ovrsni, ali istodobno i međusobno po svojim svojstvima različiti proizvodi koji zadovoljavaju istu vrstu potreba potrošača čine liniju proizvoda.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456000" cy="2349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95880" y="4532400"/>
            <a:ext cx="3400560" cy="1139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524720" y="260280"/>
            <a:ext cx="1403280" cy="13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7C262-90A8-4085-9544-E350A7D1CA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duct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roizvodni program čini ukupnost linija proizvo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050920" y="357336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187280" y="357336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4211640" y="3284640"/>
            <a:ext cx="1625760" cy="2031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2916360" y="3284640"/>
            <a:ext cx="1562040" cy="2031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1763640" y="515772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900000" y="515772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0" y="5084640"/>
            <a:ext cx="1219320" cy="1524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5796000" y="5300640"/>
            <a:ext cx="1219320" cy="141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4932360" y="5334120"/>
            <a:ext cx="1219320" cy="1523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3995640" y="5445000"/>
            <a:ext cx="1219320" cy="1413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2843280" y="5334120"/>
            <a:ext cx="121896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8359920" y="5877000"/>
            <a:ext cx="784080" cy="981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8271000" y="4797360"/>
            <a:ext cx="873000" cy="1092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/>
          <a:stretch/>
        </p:blipFill>
        <p:spPr>
          <a:xfrm>
            <a:off x="8097840" y="3500280"/>
            <a:ext cx="1046160" cy="130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6"/>
          <a:stretch/>
        </p:blipFill>
        <p:spPr>
          <a:xfrm>
            <a:off x="8213760" y="2276640"/>
            <a:ext cx="930240" cy="11635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7"/>
          <a:stretch/>
        </p:blipFill>
        <p:spPr>
          <a:xfrm>
            <a:off x="8180280" y="981000"/>
            <a:ext cx="963720" cy="1135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6381720"/>
            <a:ext cx="27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9999ff"/>
                </a:solidFill>
                <a:latin typeface="Arial"/>
              </a:rPr>
              <a:t>Meler,M.: Osnove marketinga, Ekonomski fakultet u Osijeku, Osijek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C59D7-9CB0-417B-B8FB-B8441D4A209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Kvaliteta predstavlja stupanj sposobnosti određene marke za izvršenje njezinih funkcij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(trajnost, pouzdanost, točnost, lakoću rukovanja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Kvalitet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je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stal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dominirajuć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 problem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upravljanja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i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jedan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od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klju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nih elemenata strategije svakog poduze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ć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35244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39840" y="47628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2.Kvaliteta proizvoda - općen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E42E-3FD5-4C19-8568-363B023A51A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774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Gospodarski subjekt mora provoditi politiku kvalitete koja počiva na sljedećim načeli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razmjerno visoka kvaliteta proizvo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kvaliteta mora neprekidno biti najmanje na istoj razin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neprekidno treba težiti i poboljšanju kvalite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Visoku razinu kvalitete prati i visoka cij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620640"/>
            <a:ext cx="67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2.Kvaliteta proizvoda - općen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63050-AF3A-4C01-8464-F8D142BFDF9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310760" y="1271160"/>
            <a:ext cx="7005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Sred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Viso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ajviš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pcexpo02_tmtaparty_gericom1.jpg"/>
          <p:cNvPicPr/>
          <p:nvPr/>
        </p:nvPicPr>
        <p:blipFill>
          <a:blip r:embed="rId1"/>
          <a:stretch/>
        </p:blipFill>
        <p:spPr>
          <a:xfrm>
            <a:off x="5429160" y="1357200"/>
            <a:ext cx="1540080" cy="1714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p6715.jpg"/>
          <p:cNvPicPr/>
          <p:nvPr/>
        </p:nvPicPr>
        <p:blipFill>
          <a:blip r:embed="rId2"/>
          <a:stretch/>
        </p:blipFill>
        <p:spPr>
          <a:xfrm>
            <a:off x="1714680" y="4000680"/>
            <a:ext cx="2101680" cy="17143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5"/>
          <p:cNvSpPr/>
          <p:nvPr/>
        </p:nvSpPr>
        <p:spPr>
          <a:xfrm>
            <a:off x="4929120" y="328608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Lucida Sans Unicode"/>
              </a:rPr>
              <a:t>Niska kvaliteta – </a:t>
            </a:r>
            <a:r>
              <a:rPr b="0" lang="en-US" sz="1800" spc="-1" strike="noStrike">
                <a:solidFill>
                  <a:srgbClr val="002060"/>
                </a:solidFill>
                <a:latin typeface="Lucida Sans Unicode"/>
              </a:rPr>
              <a:t>Geri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3286080" y="564372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Lucida Sans Unicode"/>
              </a:rPr>
              <a:t>Visoka kvaliteta – 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48420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Razine kvalit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34E1-7B16-4A19-BC06-64E3A8EDA20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487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vedene su i norme standarda ISO 9000, te ISO 9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SO - International Organization for 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Hrvatski zavod za norme- član 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iso9000_2000.jpg"/>
          <p:cNvPicPr/>
          <p:nvPr/>
        </p:nvPicPr>
        <p:blipFill>
          <a:blip r:embed="rId1"/>
          <a:stretch/>
        </p:blipFill>
        <p:spPr>
          <a:xfrm>
            <a:off x="3143160" y="4071960"/>
            <a:ext cx="2897280" cy="21733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08000" y="55548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Standardizacija kvalit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34FA-937D-4087-94A1-DBA76C6037F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342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zvorno hrvatsko – 98 proizvoda </a:t>
            </a:r>
            <a:r>
              <a:rPr b="0" lang="hr-HR" sz="13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Hrvatska kvaliteta – 195 proizvoda </a:t>
            </a:r>
            <a:r>
              <a:rPr b="0" lang="hr-HR" sz="13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2060"/>
                </a:solidFill>
                <a:latin typeface="Arial"/>
              </a:rPr>
              <a:t>4 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2.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gk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hr/znakovi/izvorno/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zvorno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.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s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002060"/>
                </a:solidFill>
                <a:latin typeface="Arial"/>
              </a:rPr>
              <a:t>5 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ttp://www2.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hgk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.hr/znakovi/kvaliteta/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kvaliteta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.</a:t>
            </a:r>
            <a:r>
              <a:rPr b="0" lang="hr-HR" sz="1300" spc="-1" strike="noStrike" u="sng">
                <a:solidFill>
                  <a:srgbClr val="666699"/>
                </a:solidFill>
                <a:uFillTx/>
                <a:latin typeface="Arial"/>
                <a:hlinkClick r:id="rId12"/>
              </a:rPr>
              <a:t>as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73600" indent="-191520">
              <a:spcBef>
                <a:spcPts val="3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izvorno_180.gif"/>
          <p:cNvPicPr/>
          <p:nvPr/>
        </p:nvPicPr>
        <p:blipFill>
          <a:blip r:embed="rId13"/>
          <a:stretch/>
        </p:blipFill>
        <p:spPr>
          <a:xfrm>
            <a:off x="755640" y="2857680"/>
            <a:ext cx="2278080" cy="22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kvaliteta_180.gif"/>
          <p:cNvPicPr/>
          <p:nvPr/>
        </p:nvPicPr>
        <p:blipFill>
          <a:blip r:embed="rId14"/>
          <a:stretch/>
        </p:blipFill>
        <p:spPr>
          <a:xfrm>
            <a:off x="3398760" y="2714760"/>
            <a:ext cx="2227320" cy="2226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74920" y="5554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rvatske oznake za kvalite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5"/>
          <a:stretch/>
        </p:blipFill>
        <p:spPr>
          <a:xfrm>
            <a:off x="6210360" y="2751120"/>
            <a:ext cx="799920" cy="1397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6"/>
          <a:stretch/>
        </p:blipFill>
        <p:spPr>
          <a:xfrm>
            <a:off x="7794720" y="2535120"/>
            <a:ext cx="1170000" cy="1943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7"/>
          <a:stretch/>
        </p:blipFill>
        <p:spPr>
          <a:xfrm>
            <a:off x="6066000" y="4406760"/>
            <a:ext cx="658800" cy="1686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8"/>
          <a:stretch/>
        </p:blipFill>
        <p:spPr>
          <a:xfrm>
            <a:off x="7507440" y="4838760"/>
            <a:ext cx="1373040" cy="118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DAB8-3DB5-42CF-9735-A6448D8BE1E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ŽIŠ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906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jvažniji dio okruženja gospodarskog subjekta je tržiš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marketinškog motrišta, tržište je polazna i završna točka svih marketinških napora gospodarskog subjek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62640" y="2127240"/>
            <a:ext cx="2959200" cy="312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133AA-622C-4ECF-AE69-F9A4C2AD08D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Svaki proizvod ima jednu </a:t>
            </a:r>
            <a:r>
              <a:rPr b="1" lang="en-US" sz="2500" spc="-1" strike="noStrike">
                <a:solidFill>
                  <a:srgbClr val="002060"/>
                </a:solidFill>
                <a:latin typeface="Arial"/>
              </a:rPr>
              <a:t>temeljnu</a:t>
            </a: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 funkciju za koju je namijenjen, a može imati i neke </a:t>
            </a:r>
            <a:r>
              <a:rPr b="1" lang="en-US" sz="2500" spc="-1" strike="noStrike">
                <a:solidFill>
                  <a:srgbClr val="002060"/>
                </a:solidFill>
                <a:latin typeface="Arial"/>
              </a:rPr>
              <a:t>sporedne</a:t>
            </a: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 funkcije, jer one predstavljaju i osnovu za promocijsko djelovanj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One moraju biti rezultat istraživanja tržišta – moraju odgovarati potrebama i željama potrošača tako da se ponekad mogu mijenjati ovisno o njim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Stvaranje novih i korisnijih funkcija proizvoda iziskuje i dodatne troškove, pa time i povećanje cijen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19280" y="48420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3. Funkcionalnost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24EE-E567-4BBD-A8E7-AC6556836B1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455480"/>
            <a:ext cx="85788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Kada inženjeri projektiraju novi proizvod, taj proizvod bi trebao osigurati odgovarajući nivo funkcionalnosti ili uslu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360" indent="-2145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Arial"/>
              </a:rPr>
              <a:t>Potencijalni kupci definiraju željenu funkcionalnost proizvoda, a inženjer kreira dizajn proizvoda kako bi se osigurala dana funkcional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203640" y="4221000"/>
            <a:ext cx="3981240" cy="2505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692360" y="48420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3. Funkcionalnost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C0CD-29EF-4D07-8A70-2D4ECF1CFD3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6300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Svaki proizvod ima tri ključna svojstva. Ta se svojstva vezuju 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Fizičke osobine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pripadaju težina, veličina i trajnost, kvaliteta, dizajn i lakoća upotr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Nefizičke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(pridodate)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osobine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su sve pridodane osobine proizvoda kao servisne usluge, krediti, jamstva, imidž, dostava i upute za upotr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Korisnost proizvoda za potrošača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najvažnija osobina sa stajališta marketinga. Svaki proizvod da bi bio uspješan na tržištu mora posjedovati ovu osob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Ta se osobina svodi na spoznaju o tome što proizvod znači potrošaču, iz čega se mogu izvesti motivi kup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0280" y="6093000"/>
            <a:ext cx="5075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konomski fakultet Rijeka, str.31.,3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35280" y="48420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3. Funkcionalnost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1182-6D36-4978-BF01-0D395291EA6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346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unkcionalnost proizvoda u najvećoj mjeri proizlazi iz </a:t>
            </a:r>
            <a:r>
              <a:rPr b="1" lang="en-US" sz="1900" spc="-1" strike="noStrike">
                <a:solidFill>
                  <a:srgbClr val="002060"/>
                </a:solidFill>
                <a:latin typeface="Arial"/>
              </a:rPr>
              <a:t>konstrukcijske izvedbe</a:t>
            </a: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 proizvoda, pa je u većoj mjeri izražena kod proizvoda trajne potrošnje, negoli kod proizvoda kratkotrajne potrošn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Kod proizvoda kratkotrajne potrošnje funkcionalnost će se čak možda prije odnositi na ambalažu negoli na sam proizvo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Dizajn ambalaže je usmjeren komunikaciji s korisnikom kojeg upućuje na funkcionalnost proizvoda istovremeno ga osvajajući svojom originalnošć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6929280" y="2611440"/>
            <a:ext cx="1713240" cy="26989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7"/>
          <p:cNvSpPr/>
          <p:nvPr/>
        </p:nvSpPr>
        <p:spPr>
          <a:xfrm>
            <a:off x="175680" y="6453360"/>
            <a:ext cx="2780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str.1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48420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3. Funkcionalnost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E036-9002-4103-A231-9C770ADC9F6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04360" y="1628640"/>
            <a:ext cx="799164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arka je naziv, fraza, simbol, dizajn ili njihova kombinacija, i koristi se sa ciljem da se proizvod učini prepoznatljiv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1"/>
          <a:stretch/>
        </p:blipFill>
        <p:spPr>
          <a:xfrm>
            <a:off x="5715000" y="2357280"/>
            <a:ext cx="3209760" cy="37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4134600" y="6429240"/>
            <a:ext cx="4819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konomski fakultet Rijeka, str.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468360" y="2421000"/>
            <a:ext cx="5327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Potrebno je razlikov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Ime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arke – dio marke koji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ože izgovoriti, a sadrži riječ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brojeve ili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Znak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arke – grafički pri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Zaštitni znak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– marka ili d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marke koji je registriran 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zaštićen od uporabe drug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60720" y="48420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4. Mark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4948-6496-4230-AEF9-858DCCBE6D9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Karakterist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a strane prodav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Razlikovanje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ovećanje kontrole u kanalima distrib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a strane potrošač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dentifikacija proizvoda i raspolaganje jamstvom o jedinstvenosti kvalitete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963000" y="6165720"/>
            <a:ext cx="48196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konomski fakultet Rijeka, str.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720" y="484200"/>
            <a:ext cx="63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4. Mark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A0D4-9E32-4A9A-A1AC-0900D6D087B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628280"/>
            <a:ext cx="5986440" cy="36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Vrste mar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2060"/>
                </a:solidFill>
                <a:latin typeface="Arial"/>
              </a:rPr>
              <a:t>Marke proizvođača –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marka koja je stvorena i u vlasništvu je proizvođača proizvo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2060"/>
                </a:solidFill>
                <a:latin typeface="Arial"/>
              </a:rPr>
              <a:t>Privatne marke –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marka koja je stvorena i u vlasništvu je trgovca na veliko i trgovca na malo (npr. </a:t>
            </a:r>
            <a:r>
              <a:rPr b="0" i="1" lang="hr-HR" sz="2100" spc="-1" strike="noStrike">
                <a:solidFill>
                  <a:srgbClr val="002060"/>
                </a:solidFill>
                <a:latin typeface="Arial"/>
              </a:rPr>
              <a:t>Konzum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 ima </a:t>
            </a:r>
            <a:r>
              <a:rPr b="0" i="1" lang="hr-HR" sz="2100" spc="-1" strike="noStrike">
                <a:solidFill>
                  <a:srgbClr val="002060"/>
                </a:solidFill>
                <a:latin typeface="Arial"/>
              </a:rPr>
              <a:t>K+,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hr-HR" sz="2100" spc="-1" strike="noStrike">
                <a:solidFill>
                  <a:srgbClr val="002060"/>
                </a:solidFill>
                <a:latin typeface="Arial"/>
              </a:rPr>
              <a:t>Billa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 ima </a:t>
            </a:r>
            <a:r>
              <a:rPr b="0" i="1" lang="hr-HR" sz="2100" spc="-1" strike="noStrike">
                <a:solidFill>
                  <a:srgbClr val="002060"/>
                </a:solidFill>
                <a:latin typeface="Arial"/>
              </a:rPr>
              <a:t>Clever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2060"/>
                </a:solidFill>
                <a:latin typeface="Arial"/>
              </a:rPr>
              <a:t>Generičke marke –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proizvodi bez mar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6357960" y="3408480"/>
            <a:ext cx="1143000" cy="981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6500880" y="2303640"/>
            <a:ext cx="792000" cy="680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3"/>
          <a:stretch/>
        </p:blipFill>
        <p:spPr>
          <a:xfrm>
            <a:off x="6429240" y="4572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1"/>
          <p:cNvSpPr/>
          <p:nvPr/>
        </p:nvSpPr>
        <p:spPr>
          <a:xfrm>
            <a:off x="4078080" y="6165720"/>
            <a:ext cx="50756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konomski fakultet Rijeka, str.35.,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24000" y="55548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4. Mark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7C69-C703-4E00-9BA4-E84FD35F2D0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01200" y="14558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Obilježavanje uključ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Deklaracija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Oznake atesta ili certifi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Tehnička up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Jamstveni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EAN-k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ô</a:t>
            </a: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Uputa za upotrebu i ču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Croatian Quality, Croatian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Markice na proizv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Arial"/>
              </a:rPr>
              <a:t>Znak zaštite okoliš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559120" y="6429240"/>
            <a:ext cx="3121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str.190.,19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1112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4. Mark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3E4A-F50A-4FFF-B965-6B4121373CC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4000" y="3160440"/>
            <a:ext cx="46083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Arial"/>
              </a:rPr>
              <a:t>Na njoj se nalaz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Marka proizv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Zaštitni zna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Naziv tvrtk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i drugi informacijski sadržaji pormocijskog karaktera ili zakonski propis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1"/>
          <a:stretch/>
        </p:blipFill>
        <p:spPr>
          <a:xfrm>
            <a:off x="5572080" y="3348000"/>
            <a:ext cx="2143080" cy="2206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3"/>
          <p:cNvSpPr/>
          <p:nvPr/>
        </p:nvSpPr>
        <p:spPr>
          <a:xfrm>
            <a:off x="826920" y="1628640"/>
            <a:ext cx="7921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astavni dio obilježavanja proizvoda, u pravilu sastavni dio ambala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4276080" y="6165720"/>
            <a:ext cx="4829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Ekonomski fakultet u Osijeku, str.1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48420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Etik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974F-E07C-495F-997E-FA7EA9611DE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5. CIJ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731600"/>
            <a:ext cx="40323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ijena je novčani iskaz vrijednosti proizvoda, ona predstavlja sredstvo, a ne cilj ostvarivanja marketing-politike i mora biti u skladu sa svojstvima proizvo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iljevi kojim se teži prilikom određivanja cijena s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sta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st prod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ksimalizacija dob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dstvo u kvaliteti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izv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hr-HR" sz="7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2560" y="2079720"/>
            <a:ext cx="2077920" cy="1673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883040" y="4071960"/>
            <a:ext cx="3575160" cy="1719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wii price.jpg"/>
          <p:cNvPicPr/>
          <p:nvPr/>
        </p:nvPicPr>
        <p:blipFill>
          <a:blip r:embed="rId3"/>
          <a:stretch/>
        </p:blipFill>
        <p:spPr>
          <a:xfrm>
            <a:off x="3059280" y="5013360"/>
            <a:ext cx="1373040" cy="110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2E7F-DEB3-4CF7-AF11-C2240384E42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Gospodarski i drugi subjekti pod utjecajem tržišnih promjena grade aktivan odnos prema proiz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Strategija proizvoda – skup kriterija, načela i aktivnosti na temelju kojih se odlučuje o razvoju proizvo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FRI, Rijeka,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1476360" y="62064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31920" indent="-2325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7d"/>
                </a:solidFill>
                <a:latin typeface="Arial"/>
              </a:rPr>
              <a:t>Uv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1A297-B1E1-41A3-B58F-38205D7E029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čela na kojima se temelji cijen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biti prihvatljiva za potrošače na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osigurati daljnje poslovanje gospodarskog sub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osigurati povećanje tržišnog udj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biti konkurentna na trži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biti u funkciji stabilizacije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ra održavati odgovarajuću stopu dobi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A72D-2922-4162-8A9B-AB150CDF0CB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likom uvođenja novog proizvoda na tržište potrebno je voditi računa o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adiju u životnom ciklusu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jenovnoj elastičnosti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ijenama konkur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ilu kupnje potroš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ferencijaciji cijena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jerama ekonomske politike na području ci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D145-4603-45CE-A53B-AB974F24D02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00280" y="1125360"/>
            <a:ext cx="7443720" cy="47530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Koraci pri određivanju cije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izbor cjenovnih cilj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utvrđenje potraž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procjena troš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analiza troškova, cijena i ponude konkur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odabir metode oblikovanja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odabir konačne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BA065-D546-4209-8EF5-C8347FE3FDA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većanje pro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nastupanje s nižim cijenama(strategija     penetracij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u što kraćem vremenu ostvariti što veću prodaj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većanje tržišnog udj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bolji uvjeti na tržišt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tržišne mogućnosti i prijetnj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275"/>
              </a:spcBef>
              <a:buClr>
                <a:srgbClr val="2da2b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Grbac, B., Osvajanje ciljnog tržišta,EFRI, 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627120"/>
            <a:ext cx="64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iljevi orijentirani na proda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0702-A062-4FA0-A2ED-C8AE0C7B955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Maksimalizacija dobiti – povećanje prodaje ili smanjivanje troškova(vrlo osjetlj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ovrat uloženi sredstava- fokusirani su na određivanje cijena kojim će se povratiti sredstva uložena na razvoj i proizvodnju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Loše strane- cijene su nekad postavljene previsoko a nekada prenisk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Grbac, B., Osvajanje ciljnog tržišta,EFRI, 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48420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iljevi orijentirani na do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7F2D7-3586-43B8-B3AB-416B1E1C0EE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Status quo ciljev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ćenje konkurencije-svaka tvrtka ima svoje sudionike na tržištu koji prate variranje ci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cjenovne aktivnosti-aktivnosti usmjerene na dodavanju novih karakteristika proizvodu,povećanje kvalitete,nova ambalaža it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BAB09-6843-47F6-A496-448EF9BEEFE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Kupci i cijen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sihološke cijene-djeluju na kupca tako da ga motiviraju da kupi određeni proizvod (npr.149 Kn izgleda znatno manje od 150 K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sprodajne cijene-kupci vole rasprod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npr.1 parfem vrijedi 105 Kn,a dva takva ista parfema u paketu vrijedi 200 K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B4B8-B9C0-4028-A128-EF2C89DEEBA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osebne kategorije cij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stiž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a je rezultat prestižne potraž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inimal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e su u funkciji zaštite najčešće poljoprivrednih proizvođač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terval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e su dvije cijene između kojih se kreće cijena nekog proizvo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irigiran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e su fiksno određene od države s ciljem uravnoteženog razvoja pojedinih gospodarskih djelat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Tahom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voj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ijena kada za jedan proizvod postoje dvije cij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0C74D-71CD-4A57-B8BD-3B4DA2E1261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ojam “psiholoških cijen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sihološke cijene su one koje djeluju na psihu kupca na način da ih dodatno motivira na kupnju proizvoda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znato je kako su neparni brojevi, u cijeni proizvoda, kupcu prihvatljiviji od parni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upcima su simpatični brojevi 0,3,6,8,9, a brojevi 1,4,7 im nisu simpatični, dok su brojevi 2 i 5 razmjerno indiferentn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92D8-6272-4045-9C9B-2C87AE1B9F4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6.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ZAJN- moćno oružje u borbi za opstanak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95960" y="1981080"/>
            <a:ext cx="2749320" cy="1871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951520" y="3995640"/>
            <a:ext cx="1436760" cy="1871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835280" y="4149720"/>
            <a:ext cx="2793960" cy="1778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187280" y="6165720"/>
            <a:ext cx="35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8 Časopis Market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A1DC-F2B7-4141-880B-80BA294E6C6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57608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Razvijanje strategije proizvoda je bitno jer se jedino prodajom proizvoda na tržištu osigurava osnova napret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od proizvodom se podrazumijeva sve ono što je ponuđeno na tržištu s ciljem da se zadovolje potrebe ili želje potroša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Grbac,B.: Osvajanje ciljnog tržišta, EFRI, Rijeka,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5840" y="555480"/>
            <a:ext cx="64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Pristupi u definiranju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07B27-0F52-415A-9B5C-82D732EEDC8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Granična promocijska aktivnost (dizajn) zahtje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funkcijske zahtjeve </a:t>
            </a: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(upotrebljivost, svrsiishodnost, koris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estetske zahtjeve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(skladnost, privlačnost, ljepota, harmoničnost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ekonomske zahtjeve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(s aspekta proizvodnje i potrošnje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Rad na dizajnu je proces kojim se zahtjevima marketinga daje fizički obl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Marketing i dizajn su uzročno-posljedično povez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Meler,M., Osnove marketinga, EFOS Osijek,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3120" y="369720"/>
            <a:ext cx="6500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6.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9FB2-5E0F-491E-A2B4-E0B991F5C07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Uloga dizajna u proizvodnji i plasma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zajn je danas uz promidžbu najmoćnije oružje u nemilosrdnoj borbi za opstanak na tržiš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i možemo proizvesti kvalitetan  proizvod, međutim znamo li ga kvalitetno zapakirati i dostojno predstaviti, sljedeći je ozbiljan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9 Časopis Marketing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953D-DA71-4A3F-8BE0-222234C6D5B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6836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tvaralačka aktivnost čiji je cilj određivati formalne kvalitete industrijski proizvedenih predm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nokia_n81_8gb_p04.jpg"/>
          <p:cNvPicPr/>
          <p:nvPr/>
        </p:nvPicPr>
        <p:blipFill>
          <a:blip r:embed="rId1"/>
          <a:stretch/>
        </p:blipFill>
        <p:spPr>
          <a:xfrm>
            <a:off x="971640" y="3228840"/>
            <a:ext cx="2523960" cy="2071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pink_motorola_m1000.JPG"/>
          <p:cNvPicPr/>
          <p:nvPr/>
        </p:nvPicPr>
        <p:blipFill>
          <a:blip r:embed="rId2"/>
          <a:stretch/>
        </p:blipFill>
        <p:spPr>
          <a:xfrm>
            <a:off x="5292720" y="2992320"/>
            <a:ext cx="2214720" cy="2237040"/>
          </a:xfrm>
          <a:prstGeom prst="rect">
            <a:avLst/>
          </a:prstGeom>
          <a:ln w="0">
            <a:noFill/>
          </a:ln>
        </p:spPr>
      </p:pic>
      <p:sp>
        <p:nvSpPr>
          <p:cNvPr id="266" name="Content Placeholder 1"/>
          <p:cNvSpPr/>
          <p:nvPr/>
        </p:nvSpPr>
        <p:spPr>
          <a:xfrm>
            <a:off x="468360" y="4941720"/>
            <a:ext cx="48355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ontent Placeholder 1"/>
          <p:cNvSpPr/>
          <p:nvPr/>
        </p:nvSpPr>
        <p:spPr>
          <a:xfrm>
            <a:off x="468360" y="4869000"/>
            <a:ext cx="48355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Primjer mobitela za muško o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tent Placeholder 1"/>
          <p:cNvSpPr/>
          <p:nvPr/>
        </p:nvSpPr>
        <p:spPr>
          <a:xfrm>
            <a:off x="4308480" y="4865760"/>
            <a:ext cx="48355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2060"/>
                </a:solidFill>
                <a:latin typeface="Arial"/>
              </a:rPr>
              <a:t>Primjer mobitela za žensko o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43120" y="369720"/>
            <a:ext cx="6500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6.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99BD-58B9-4E07-B8ED-9FFEBF0A8B3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Dizajn fizičke sredine dijele s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dizajn urbanog okruže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dizajn građevinskog okruže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-dizajn opreme i proizvod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Styling- intervencija u dotjerivanju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Redizajn- proces preoblikovanja postojećeg (zastarjelog)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275"/>
              </a:spcBef>
              <a:buClr>
                <a:srgbClr val="2da2b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Meler,M., Osnove marketinga, EFOS Osijek,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43120" y="369720"/>
            <a:ext cx="6500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6.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884F4-6365-405C-AD00-F917FB124C4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Vrste dizajn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Grafički –naljepnice,plakat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Industrijski-strojevi,automobil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Tekstilni-materijali,krojev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1982880" cy="2664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2638440" cy="24670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6516720" y="3571920"/>
            <a:ext cx="2043000" cy="26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501F-5D85-49AC-BBAA-2CBA0DAD13F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AMBALAŽA –” posude različitog oblika i veličine, načinjene od različitih materijala u kojima se roba drži u tijeku prometa, a isto tako i tanje fleksibilne materijale koji su samo izrezani na odgovarajuće dimenzije i eventualno grafički obrađene, a služe za zamotavanje roba. “ (Stričevi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555480"/>
            <a:ext cx="55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7. Ambalaž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373A-7DCE-4B9D-A52C-8FCBF719C2E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Utjecaj ambalaž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ojim izgledom ambalaža privlači pozornost potrošača(ili odbija) i tržištu upućuje funkciju i ideju proizvoda, kao i ukupan imidž tvrt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mbalaža je omot, sve ono što proizvod plasira: boca, kutija, paketić, tuba, kakva kanta, konzerva, teglica, vrećica i košara ili papirić, drvo, slama, itd., a ponekad i sam og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li, ambalaža je mnogo više od opreme; ona je i škrinjica koja skriva znanje i blago oglašivač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C216-2E2A-4037-BB89-A22EF4FE24B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Ambalaza za hranu - brašno"/>
          <p:cNvPicPr/>
          <p:nvPr/>
        </p:nvPicPr>
        <p:blipFill>
          <a:blip r:embed="rId2"/>
          <a:stretch/>
        </p:blipFill>
        <p:spPr>
          <a:xfrm>
            <a:off x="1214280" y="1143000"/>
            <a:ext cx="2286000" cy="2247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1071360" y="3517920"/>
            <a:ext cx="232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Papirna ambala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9" descr="Drvena ambalaža - maslinovo ulje"/>
          <p:cNvPicPr/>
          <p:nvPr/>
        </p:nvPicPr>
        <p:blipFill>
          <a:blip r:embed="rId3"/>
          <a:stretch/>
        </p:blipFill>
        <p:spPr>
          <a:xfrm>
            <a:off x="5248440" y="1428840"/>
            <a:ext cx="1904760" cy="19047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10"/>
          <p:cNvSpPr/>
          <p:nvPr/>
        </p:nvSpPr>
        <p:spPr>
          <a:xfrm>
            <a:off x="5247360" y="351792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Drvena ambala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1" descr="Kartonska ambalaža - riblje konzerve"/>
          <p:cNvPicPr/>
          <p:nvPr/>
        </p:nvPicPr>
        <p:blipFill>
          <a:blip r:embed="rId4"/>
          <a:stretch/>
        </p:blipFill>
        <p:spPr>
          <a:xfrm>
            <a:off x="1576440" y="394956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2941560" y="58690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Kartonska ambala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4" descr="Ambalaža za konzervu"/>
          <p:cNvPicPr/>
          <p:nvPr/>
        </p:nvPicPr>
        <p:blipFill>
          <a:blip r:embed="rId5"/>
          <a:stretch/>
        </p:blipFill>
        <p:spPr>
          <a:xfrm>
            <a:off x="4816440" y="394956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771640" y="48420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Vrste ambalaž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8996-0A90-4522-9A3C-7224D7E614B7}" type="slidenum">
              <a:t>4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4857840" y="471492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Arial"/>
              </a:rPr>
              <a:t>Ambalaža za cd-dvd-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2" descr="Mapa za publikacije - specijalni karton + metal"/>
          <p:cNvPicPr/>
          <p:nvPr/>
        </p:nvPicPr>
        <p:blipFill>
          <a:blip r:embed="rId2"/>
          <a:stretch/>
        </p:blipFill>
        <p:spPr>
          <a:xfrm>
            <a:off x="857160" y="1576440"/>
            <a:ext cx="2786040" cy="3095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3" descr="Ambalaža za CD - DVD - VHS"/>
          <p:cNvPicPr/>
          <p:nvPr/>
        </p:nvPicPr>
        <p:blipFill>
          <a:blip r:embed="rId3"/>
          <a:stretch/>
        </p:blipFill>
        <p:spPr>
          <a:xfrm>
            <a:off x="5143680" y="142884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4"/>
          <p:cNvSpPr/>
          <p:nvPr/>
        </p:nvSpPr>
        <p:spPr>
          <a:xfrm>
            <a:off x="785880" y="48578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Mapa-fascikl od specijalnog kart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71640" y="484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Vrste ambalaž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2A3F-4A0D-44F1-9EC7-B31BDF9357FA}" type="slidenum">
              <a:t>48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rotektivna (zaštitna)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distribucijska (skladišno-transportno-manipulativ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komunikacijska (tržišno-prodaj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porabna (korisnič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ekolo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84360" y="484200"/>
            <a:ext cx="65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Funkcije ambalaž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CB61C-2E41-4E50-A4F9-41B5BC434C9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ontent Placeholder 3" descr="acer-tm8000-350x300.jpg"/>
          <p:cNvPicPr/>
          <p:nvPr/>
        </p:nvPicPr>
        <p:blipFill>
          <a:blip r:embed="rId1"/>
          <a:stretch/>
        </p:blipFill>
        <p:spPr>
          <a:xfrm>
            <a:off x="1285920" y="2058840"/>
            <a:ext cx="1854000" cy="136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e-banking-logo.jpg"/>
          <p:cNvPicPr/>
          <p:nvPr/>
        </p:nvPicPr>
        <p:blipFill>
          <a:blip r:embed="rId2"/>
          <a:stretch/>
        </p:blipFill>
        <p:spPr>
          <a:xfrm>
            <a:off x="3714840" y="1643040"/>
            <a:ext cx="152244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Subaru-Impreza-WRX-01.jpg"/>
          <p:cNvPicPr/>
          <p:nvPr/>
        </p:nvPicPr>
        <p:blipFill>
          <a:blip r:embed="rId3"/>
          <a:stretch/>
        </p:blipFill>
        <p:spPr>
          <a:xfrm>
            <a:off x="714240" y="3714840"/>
            <a:ext cx="230688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ounter-strike-16.jpg"/>
          <p:cNvPicPr/>
          <p:nvPr/>
        </p:nvPicPr>
        <p:blipFill>
          <a:blip r:embed="rId4"/>
          <a:stretch/>
        </p:blipFill>
        <p:spPr>
          <a:xfrm>
            <a:off x="3714840" y="371484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SW-WIN-V-B-64-D-E.jpg"/>
          <p:cNvPicPr/>
          <p:nvPr/>
        </p:nvPicPr>
        <p:blipFill>
          <a:blip r:embed="rId5"/>
          <a:stretch/>
        </p:blipFill>
        <p:spPr>
          <a:xfrm>
            <a:off x="6500880" y="3857760"/>
            <a:ext cx="1682640" cy="1857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e5fc0deb4e6443d79da645ff8cf4fc64.jpg"/>
          <p:cNvPicPr/>
          <p:nvPr/>
        </p:nvPicPr>
        <p:blipFill>
          <a:blip r:embed="rId6"/>
          <a:stretch/>
        </p:blipFill>
        <p:spPr>
          <a:xfrm>
            <a:off x="5857920" y="1357200"/>
            <a:ext cx="1887480" cy="1571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16720" y="26028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izvo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E9640-9777-42DF-984E-6A404E86DFD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mbalaža se može zaštititi kao industrijsko vlasništvo i to ka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dustrijski dizajn (oblič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Žig (tradema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Umjetničko dj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40D4C-A878-46F6-A23A-0AD4DD6E9CE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 uvjetima sve žešće tržišne utakmice dizajn ambalaže postaje važno sredstvo konkurentske borbe i diferencir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AMBALAŽA PRODAJE PROIZ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790640" y="4195800"/>
            <a:ext cx="2205000" cy="1754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981760" y="4124160"/>
            <a:ext cx="1974960" cy="18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9829-B3E9-47EB-A933-C8E6D9697D1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mbalaža kao industrijski diza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dustrijski dizajn je zapravo vanjski izgled proizvoda koji je najvažniji pri normalnoj upotrebi. Industrijskim dizajnom širi se ambalaža prostorno(oblik ili obris) i plošno(šare, crte ili bo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E0FA-503A-44E4-BB7E-8F5BB2A39FA9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kod"/>
          <p:cNvPicPr/>
          <p:nvPr/>
        </p:nvPicPr>
        <p:blipFill>
          <a:blip r:embed="rId1"/>
          <a:stretch/>
        </p:blipFill>
        <p:spPr>
          <a:xfrm>
            <a:off x="826920" y="1557360"/>
            <a:ext cx="2600640" cy="11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6" name="Picture 5" descr="kod 2"/>
          <p:cNvPicPr/>
          <p:nvPr/>
        </p:nvPicPr>
        <p:blipFill>
          <a:blip r:embed="rId2"/>
          <a:stretch/>
        </p:blipFill>
        <p:spPr>
          <a:xfrm>
            <a:off x="4643280" y="1619280"/>
            <a:ext cx="2711520" cy="12398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57120" y="3571920"/>
            <a:ext cx="83520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Crtični kôd ili barkôd (eng. barcode) način je označavanja proizvoda nizom tamnih i svijetlih crta koje se sastoje od odgovarajućeg EAN broja (European Article Number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Sadrži 13 kodnih odredni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90000"/>
              </a:lnSpc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Kod</a:t>
            </a:r>
            <a:r>
              <a:rPr b="0" lang="en-US" sz="2500" spc="-1" strike="noStrike">
                <a:solidFill>
                  <a:srgbClr val="002060"/>
                </a:solidFill>
                <a:latin typeface="Arial"/>
                <a:ea typeface="Arial"/>
              </a:rPr>
              <a:t>ô</a:t>
            </a:r>
            <a:r>
              <a:rPr b="0" lang="hr-HR" sz="2500" spc="-1" strike="noStrike">
                <a:solidFill>
                  <a:srgbClr val="002060"/>
                </a:solidFill>
                <a:latin typeface="Arial"/>
              </a:rPr>
              <a:t>vi od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0772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1 do 3 predstavljaju kodirane odrednice zemlje proizvođać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0772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4 do 8 služe da identifikaciju proizvođać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0772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8 do 12 služe za identifikaciju proizvo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07720">
              <a:lnSpc>
                <a:spcPct val="90000"/>
              </a:lnSpc>
              <a:spcBef>
                <a:spcPts val="47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13 predstavlja tzv.kontrolni ili modularni k</a:t>
            </a:r>
            <a:r>
              <a:rPr b="0" lang="en-US" sz="1900" spc="-1" strike="noStrike">
                <a:solidFill>
                  <a:srgbClr val="002060"/>
                </a:solidFill>
                <a:latin typeface="Arial"/>
                <a:ea typeface="Arial"/>
              </a:rPr>
              <a:t>ô</a:t>
            </a:r>
            <a:r>
              <a:rPr b="0" lang="hr-HR" sz="1900" spc="-1" strike="noStrike">
                <a:solidFill>
                  <a:srgbClr val="002060"/>
                </a:solidFill>
                <a:latin typeface="Arial"/>
              </a:rPr>
              <a:t>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3146040" y="2996640"/>
            <a:ext cx="24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EAN 13 crtični kôdo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4323600" y="6429240"/>
            <a:ext cx="4829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Ekonomski fakultet u Osijeku, str.1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76360" y="54936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8. Obilježavanje i oprem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EA25-8563-46F4-BADA-3974BD8F8F1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3789360"/>
            <a:ext cx="80755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Arial"/>
              </a:rPr>
              <a:t>Karakteristik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ušteđuje rad osoblja na ispisivanju cijen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smanjuje se mogućnost manipuliranja potrošači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u svakom se trenu može reagirati za nabavu rob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90000"/>
              </a:lnSpc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Arial"/>
              </a:rPr>
              <a:t>omogućuje jednostavno obavljanje svakodnevne inventure te znatno brže usluživanje kupac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2736720" cy="15206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6"/>
          <p:cNvSpPr/>
          <p:nvPr/>
        </p:nvSpPr>
        <p:spPr>
          <a:xfrm>
            <a:off x="3710880" y="335700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EAN 13 crtični kô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4323600" y="6429240"/>
            <a:ext cx="48290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2060"/>
                </a:solidFill>
                <a:latin typeface="Arial"/>
              </a:rPr>
              <a:t>Meler,M.: Osnove marketinga, Ekonomski fakultet u Osijeku, str.19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5554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EAN - k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6873-4AD2-4FF0-B934-B4E14CE0233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RFID (radio frequency identification) – elektronički postupak identifikacije i obiljež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ntegrirani krug s malom tiskanom anten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Odašiljač razaznaje proizvod koji prolazi pokraj ant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080" indent="-252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Danas stvarnost je da se na taj način obilježavaju životinje (pr. goveda), paketi, složene pošiljke, putovnice, automobili, it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986200" y="62712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RF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53A2-CA61-4796-8489-75CD3A7741E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41300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Cilj je pratiti proizvod od proizvodnje do otpada bilo gdje bilo k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 slučaju kvara saznat će se gdje je taj proizvod naručen, proizveden, it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vodi se apsolutna kontrola protoka robe i njene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Ogromne ušt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E92F7-0B88-4A57-9E36-6DEF32BBA06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egativne poslje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2060"/>
                </a:solidFill>
                <a:latin typeface="Arial"/>
              </a:rPr>
              <a:t>-job killer – otpuštanje ljud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2060"/>
                </a:solidFill>
                <a:latin typeface="Arial"/>
              </a:rPr>
              <a:t>-ugrađivanjem u putovnice ili injektiranjem pod kožu ljud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2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Clipboard021.jpg"/>
          <p:cNvPicPr/>
          <p:nvPr/>
        </p:nvPicPr>
        <p:blipFill>
          <a:blip r:embed="rId1"/>
          <a:stretch/>
        </p:blipFill>
        <p:spPr>
          <a:xfrm>
            <a:off x="3132000" y="3567240"/>
            <a:ext cx="2722680" cy="258588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3286080" y="61437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2060"/>
                </a:solidFill>
                <a:latin typeface="Arial"/>
              </a:rPr>
              <a:t>RFID-tag veličine nok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461E-9255-4CE0-980C-0617E33BD7A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rimj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automatske naplate cestarina, </a:t>
            </a:r>
            <a:br>
              <a:rPr sz="2800"/>
            </a:b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- bezkontaktne kartice za kontrolu pristupa ljudi kontroliranim zonama, </a:t>
            </a:r>
            <a:br>
              <a:rPr sz="2800"/>
            </a:b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- bezkontaktne kreditne kartice </a:t>
            </a:r>
            <a:br>
              <a:rPr sz="2800"/>
            </a:b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- obilježavanje životinja i njihovo praćenje od rođenja do klaonice, </a:t>
            </a:r>
            <a:br>
              <a:rPr sz="2800"/>
            </a:br>
            <a:r>
              <a:rPr b="0" lang="vi-VN" sz="2800" spc="-1" strike="noStrike">
                <a:solidFill>
                  <a:srgbClr val="002060"/>
                </a:solidFill>
                <a:latin typeface="Arial"/>
              </a:rPr>
              <a:t>- obilježavanje prtljage na aerodromima za automatski transport unutar aerodroma i mnoge dr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8320" indent="-230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59BF-BB52-4E7E-9885-A7DC0FF6D74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rimjena RFID-a će donijete ušt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Praktična rješenja – otvaranje vrata, plaćanje karte, kupovine hrane iz automata, i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RFID oznake će u sebi sadržavati mnogo osobni podataka što nije povolj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Društvena kontrola pojedinca će biti lagana i gotovo potp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Zloupotrebe će biti svakodnev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27280" y="6271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Kritiziranje RFID-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5380-28F1-47B8-8AF5-C4270EEC603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Arial"/>
              </a:rPr>
              <a:t>Neopipljiva razina proizvo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koristi koje proizvod mora imati da bi mogao zadovoljiti određenu potrebu ili žel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Arial"/>
              </a:rPr>
              <a:t>Opipljiva razina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sama bit proizvoda (hardwar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060"/>
                </a:solidFill>
                <a:latin typeface="Arial"/>
              </a:rPr>
              <a:t>Obogaćivanje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2060"/>
                </a:solidFill>
                <a:latin typeface="Arial"/>
              </a:rPr>
              <a:t>dostava,kreditiranje,jamstvo i serv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Grbac,B.: Osvajanje ciljnog tržišta, EFRI, Rijeka,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627120"/>
            <a:ext cx="41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Tri razine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1895-82F9-475B-8275-67D23104995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9. Usluge, servis potrošač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2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Usluge potrošačima predstavljaju graničnu promocijsku aktivnost koja ima cilj kupcu, odnosno potrošaču, olakšati kupnju i uporabu, odnosno korištenje proizvoda, obično trajne potroš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hr-HR" sz="900" spc="-1" strike="noStrike">
                <a:solidFill>
                  <a:srgbClr val="000000"/>
                </a:solidFill>
                <a:latin typeface="Times New Roman"/>
              </a:rPr>
              <a:t>Meler,M.: Osnove marketinga, Ekonomski fakultet u Osijeku, Osijek,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454720" y="2192400"/>
            <a:ext cx="3066840" cy="36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4681-A2A0-4918-9BCC-05BC6DDF58D2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Najznačajnije usluge potrošačima koje se u praksi javljaju su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savjetovanje potrošača o načinu uporabe ili rukovanja proizvodom, mogućnost reklamacije i povrata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izvršenje besplatnih popravaka u određenom jamstvenom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ogućnost nabave rezervnih dijelova i popravaka izvan jamstvenog ro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besplatna dorada proizvo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besplatna montaža i/ili puštanje u rad, te demonstracija rada/korištenja proizvo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različiti modaliteti kreditiranja kupnje proizvo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besplatan prijevoz proizvoda do kućanstva kupca (i do 50 km)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zo Previšić i Stjepan Bratko</a:t>
            </a: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rketing 20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E0AC-6481-47F4-8A06-A172547B56E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Najznačajnije usluge potrošačima koje se javljaju u prak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Različiti modeli kreditiranja kupnje proizv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Besplatan prijevoz proizvoda do kućanstva kup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Besplatna montaža i puštanje u rad, te demonstr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avjetovanje u načinu upotre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ogućnost reklamacije i pov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zvršenje besplatnih popravaka za vrijeme trajanja jam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0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ogućnost nabave rezervnih dijelova i popravaka izvan jamstvenog ro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BF30-A524-481C-A0BA-32DE4522D2E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Garanci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29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rancija za proizvod je jamstvo kojim se davalac garancije obvezuje da će obaviti sve zakonom propisane ili dobrovoljno preuzete obveze prema kupcu u svezi s prodanim proizvo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rancija obuhvaća obveze njezina davatelja da se na njegov račun u primjerenom roku uklone kvarovi i nedostaci na proizvodu u garancijskom razdoblju, pod uvjetom da se proizvod upotrebljava na propisani nač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snovni smisao garancije jeste da proizvođač garantira da će proizvod funkcionirati u ispravnom sta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rancijski rok, koji počinje teći od dana prodaje proizvoda kupcu, izražava se različito i ovisno o vrsti proizvod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remenski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ksploatacijski ili kombini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Garancija često služi kao element diferenciranja od konkur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8101080" y="2708280"/>
          <a:ext cx="8190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2708280"/>
                    <a:ext cx="8190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7812000" y="5661000"/>
          <a:ext cx="115272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0" y="5661000"/>
                    <a:ext cx="11527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743960" y="216000"/>
          <a:ext cx="1400040" cy="12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43960" y="216000"/>
                    <a:ext cx="140004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971640" y="5805360"/>
            <a:ext cx="287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ahoma"/>
              </a:rPr>
              <a:t>14 Kotler P. ; Marketinška znanja od a do ž; Mate, Zagreb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FBB6-5C43-4E60-BCDE-0A15DAD1839F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Ova stavka se razlikuje od proizvođača do proizvođa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Garancije razlikujemo po vremenskoj osno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Vremenska osnova ovisi o kvaliteti proizvo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U tom vremenu proizvođač garantira da će proizvod funkcionirati bez kvar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240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11280" y="555480"/>
            <a:ext cx="51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Garancija (jamst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C6321-4533-4B49-88B8-48291106C4C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vo nekih kompanija koje su uz pomoć dojmljivih jamstava stvorile nepokolebive pristaš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Hampton Inn jamči da će njegove sobe «pružiti potpuno zadovoljstvo, ili je noćenje besplatno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Loblaws (Kanada) nudi da će hranu vlastite marke zamijeniti nacionalnim markama ako potrošač smatra da Loblaws nema bolju vrij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Xerox zamjenjuje svaki Xeroxov proizvod u roku od 3 godine sve dok kupac nije potpuno zadovol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A.T.Cross zamjenjuje svoja nalivpera i kemijske olovke doživotno. Kupac poštom pošalje kompaniji pokidano nalivpero ili kemijsku olovku, a kompanija ga popravlja ili zamjenjuje besplatno i šalje kupc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turn će uzeti natrag svoj novi automobil unutar roka od 30 dana ako kupac nije zadovol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5 Mihajlo Aćimivić;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0445-9D2E-47A5-84B5-C643D946E4E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Ovisno o garanciji većina kupaca se odlučuje da li će kupiti proizvod ili 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azličite usluge servisiranja kvarnog proiz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Garancija često služi kao element diferenciranja od konkuren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A73A2-2C5A-4442-A3D1-F72E761EF51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ervisiranje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619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ervisiranje proizvoda, kao jedna od osnovnih funkcija marketinga uslužna je djelatnost kojoj je zadatak održavanje i popravljanje proizvedenih i prodanih gotovih proizv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ervis može biti presudan za odluku o kupnji, jer se uz pružanje sigurnosti za rad kupljenog proizvoda, opskrbom rezervnih dijelova, kvalitetom i vremenom izvršavanja svojih zadataka te programom usluga, prilagođuje željama i potrebama kupa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7 JozoPrevišić i Stjepan Bratko; Marketing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64000" y="1916280"/>
          <a:ext cx="357984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916280"/>
                    <a:ext cx="357984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9413-B98C-4EC7-A7F3-C867624AAC0A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običajeni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iterij za procjenu kvalitete usluge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uzdanost u pružanju uslug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slovnost i dogovorno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mpeten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istupa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sret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omunikacija s korisniko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Kredibil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igu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zumijevanje za korisn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pipljivi elemen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11B4-FE74-4C2A-A504-B806527577F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10. Image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2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zraz imidž potječe od latinske imenice imago što znač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l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l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tjelovlje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dodž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JozoPrevišić i Stjepan Bratko; Marketing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065560" y="1981080"/>
            <a:ext cx="321012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F0E0-2AE3-4B69-9526-7F526BBD0F0D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ŽIŠNI ASPEKT PROIZV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izvodni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teta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unkcionalnost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rka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jena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zajn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mbalaža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ilježavanje i opremanj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luge (servis) potrošač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-432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"Image"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1A39-7C0C-494F-9BB9-BA4C0F3BFA8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7283520" y="981000"/>
          <a:ext cx="186048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3520" y="981000"/>
                    <a:ext cx="186048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276120" y="148428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ma Balentič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Imidž je «predodžba ili slika o nečemu, psihološko-sociološka kategorija koja predstavlja ukupnost dojmova koje je o pojedincu, poduzeću, korporaciji, instituciji pa i čitavoj državi stekla javnost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ma Kelleru i Sudaru imidž 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«Mentalna slika o proizvodu, osobi, proizvođaču, procesu ili situaciji. To je cjeloviti psihološki konstrukt dosadašnjeg iskustva, predodžbi, stavova, mišljenja, predrasuda, što pojedinac ili grupa formira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ema Robertu Worcesteru korporativni imidž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«Rezultat interakcije svih iskustava, impresija, vjerovanja i osjećaja koje ljudi imaju o kompaniji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5549760"/>
          <a:ext cx="208764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549760"/>
                    <a:ext cx="208764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17EC-586F-436B-A88E-A7AA627F3EC6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je način na koji javnost percepira tvrtku ili njezine proizv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Meler, M.: Osnove marketinga, EFOS, 2005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je doživljajna struktura stavova, mišljenja, uvjerenja, predrasuda i ranijih iskustava koju o određenom proizvodu imajukrajnji potrošači, trgovci, dobavljači i drugi sudionici u poslovnom i tržišnom zbivanj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08000" y="555480"/>
            <a:ext cx="64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7d"/>
                </a:solidFill>
                <a:latin typeface="Arial"/>
              </a:rPr>
              <a:t>10. Image proizv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9BA8-CB8C-4F92-B126-8AD465CAB48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Odstupanja od predpostavljanja prosječne moguće kvalitete predstavlja ono što nazivamo dobar, odnosno loš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Stvaranje željenog imag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ajvažniji elementi koncepcije image-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– subjek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– 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3D4F1-95CA-4753-8F1F-EF1457959EA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mage – subjekt je komunikacijska ciljna skupina kojoj je namjenjen objekt od čijeg mišljenja ovisi prihvatljivost ob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mage – subjekti mogu b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Najšira ja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Ciljni segmenti potrošača, poslovni svijet, biračko tijelo, zaposleni, investitori i bank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D702-1ABD-4150-B6EF-DF52BC888C5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14320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Bez obzira o kojem se objektu ili subjektu radi oblikovanje željenog image-a u osnovi je jedna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otrebno je razlikova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marke proiz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Image gospodarskog subjek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D49C-6AA5-47E3-9CB7-6539A9E646E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Na sve te vrste image-a utječu isti činitel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060"/>
                </a:solidFill>
                <a:latin typeface="Arial"/>
              </a:rPr>
              <a:t>Osobine i kvaliteta proizvoda, promocijske aktivnosti vezane za proiz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Jednom narušen image teško je vrat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Image se prvenstveno stvara zbog povećanja tržišnog udjela i zbog smanjenja troškova promo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4BFF-3444-472F-BDF9-4E3C0F1DB991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mage u marketingu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midž u marketingu podrazumijeva «emocionalnu predodžbu ili sliku o određenom marketinškom objektu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izvodu (brand, product image), poduzeću, osobi, naciji i sl. odnosn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midž je skup uvjerenja, ideja, stavova, dojmova, stereotipa, predrasuda koje o izvjesnom objektu ima subjekt», a oni se kod subjekta  se stvaraju pod utjecajem psiholoških (percepcija, stavovi, osobnost, motivacija, interes, iskustvo i očekivanja) i socijalnih čimbenika (kultura, obitelj, referentne grupe, zanimanje, životni stil, vlastiti imid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900" spc="-1" strike="noStrike">
                <a:solidFill>
                  <a:srgbClr val="000000"/>
                </a:solidFill>
                <a:latin typeface="Arial"/>
              </a:rPr>
              <a:t>19 JozoPrevišić i Stjepan Bratko; Marketing 20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0D38-7AB8-4BB1-81B7-2BB3FCBC37DD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Izgradnja jakog imidža, rast profita ostvaruje se iz dva razlog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bog povećanja tržišnog udj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bog smanjenja troškova promocije (prije svega ekonomske propagan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midž proizvoda je zapravo doživljena kvaliteta proizvoda (ali i gospodarskog subjekta) od pojedinca ili javno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73B2-FC85-4161-ACB3-BCBA6A715657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Halo-efekt” 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Halo-efekt možemo definirati kao tendenciju ljudi da sude o pojedinačnim osobitostima nekog objekta u uvjetima njihove generalne impresije o strukturi kojoj objekt prip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o znači da se kućanica, ukoliko primjerice ima dobar sud o «Saponia» jednako tako pridavati pozitivne atribute svakom drugom, pa tako i svakom novom, proizvodu «Saponije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eler,M.: Osnove marketinga, Ekonomski fakultet u Osijeku, Osijek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300720" y="404640"/>
          <a:ext cx="151128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404640"/>
                    <a:ext cx="151128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8E43-AD66-4EB9-984A-39AC8DBC2E8C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920" y="585720"/>
            <a:ext cx="79567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Mogu li biti ljudi lojalni nekoj marki?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Nepobitno je da su neki ljudi iznimno lojalni nekim mark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Vlasnik motora Hearley Davidson ne bi ga mijenjao ni kad bi bio uvjeren da neka druga marka ima bolje performa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orisnici Apele Macintosha ne bi ga zamijenili Microsoftom čak i kad bi time dobili neke pred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oklonici BMW-a ne žele prijeći na Merce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ažemo da neka kompanija uživa veliku odanost kad poveći broj potrošača ne želi njezine marke zamijeniti drug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JozoPrevišić i Stjepan Bratko; Marketing 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B28A-FA8D-49C2-89D4-654BEB581B18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9930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roizvodni progaram, (mix proizvod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Philip Kotler : "Mix proizvoda je skup svih linija proizvoda i artikala koji određeni prodavač nudi kupcima na prodaju"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30A7-6D73-4934-B163-3CB3ABD48E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roizvodni program ili miks proizvoda je kombinacija svih proizvoda s kojima gospodarski ili drugi subjekti nastupaju na tržiš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060"/>
                </a:solidFill>
                <a:latin typeface="Arial"/>
              </a:rPr>
              <a:t>Proizvodni program pojedine tvrtke određen je širinom, dubinom, dužinom i konzistentnošć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1920" indent="-2325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2060"/>
                </a:solidFill>
                <a:latin typeface="Arial"/>
              </a:rPr>
              <a:t>Grbac,B.: Osvajanje ciljnog tržišta, EFRI, Rijeka,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62064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7d"/>
                </a:solidFill>
                <a:latin typeface="Arial"/>
              </a:rPr>
              <a:t>1. Proizvodni</a:t>
            </a: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84033-94E8-4D4B-9BF4-590D0B8104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23:24:40Z</dcterms:created>
  <dc:creator>Miro Zecevic</dc:creator>
  <dc:description/>
  <dc:language>en-US</dc:language>
  <cp:lastModifiedBy>Mane Medic</cp:lastModifiedBy>
  <dcterms:modified xsi:type="dcterms:W3CDTF">2008-05-20T11:45:57Z</dcterms:modified>
  <cp:revision>39</cp:revision>
  <dc:subject/>
  <dc:title>TRŽIŠNI ASPEKT PROIZVODA</dc:title>
</cp:coreProperties>
</file>