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ng" ContentType="image/png"/>
  <Override PartName="/ppt/media/image56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7.png" ContentType="image/png"/>
  <Override PartName="/ppt/media/image46.png" ContentType="image/png"/>
  <Override PartName="/ppt/media/image45.png" ContentType="image/png"/>
  <Override PartName="/ppt/media/image41.png" ContentType="image/png"/>
  <Override PartName="/ppt/media/image3.jpeg" ContentType="image/jpeg"/>
  <Override PartName="/ppt/media/image36.png" ContentType="image/png"/>
  <Override PartName="/ppt/media/image9.jpeg" ContentType="image/jpeg"/>
  <Override PartName="/ppt/media/image35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8.png" ContentType="image/png"/>
  <Override PartName="/ppt/media/image44.png" ContentType="image/png"/>
  <Override PartName="/ppt/media/image40.jpeg" ContentType="image/jpeg"/>
  <Override PartName="/ppt/media/image80.png" ContentType="image/png"/>
  <Override PartName="/ppt/media/image8.jpeg" ContentType="image/jpeg"/>
  <Override PartName="/ppt/media/image39.jpeg" ContentType="image/jpeg"/>
  <Override PartName="/ppt/media/image16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75.png" ContentType="image/png"/>
  <Override PartName="/ppt/media/image60.png" ContentType="image/png"/>
  <Override PartName="/ppt/media/image63.jpeg" ContentType="image/jpeg"/>
  <Override PartName="/ppt/media/image71.png" ContentType="image/png"/>
  <Override PartName="/ppt/media/image6.jpeg" ContentType="image/jpeg"/>
  <Override PartName="/ppt/media/image17.jpeg" ContentType="image/jpeg"/>
  <Override PartName="/ppt/media/image74.png" ContentType="image/png"/>
  <Override PartName="/ppt/media/image61.jpeg" ContentType="image/jpeg"/>
  <Override PartName="/ppt/media/image77.png" ContentType="image/png"/>
  <Override PartName="/ppt/media/image4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25.jpeg" ContentType="image/jpeg"/>
  <Override PartName="/ppt/media/image15.jpeg" ContentType="image/jpeg"/>
  <Override PartName="/ppt/media/image78.png" ContentType="image/png"/>
  <Override PartName="/ppt/media/image23.jpeg" ContentType="image/jpeg"/>
  <Override PartName="/ppt/media/image65.jpeg" ContentType="image/jpeg"/>
  <Override PartName="/ppt/media/image49.png" ContentType="image/png"/>
  <Override PartName="/ppt/media/image64.jpeg" ContentType="image/jpeg"/>
  <Override PartName="/ppt/media/image70.png" ContentType="image/png"/>
  <Override PartName="/ppt/media/image38.jpeg" ContentType="image/jpeg"/>
  <Override PartName="/ppt/media/image76.png" ContentType="image/png"/>
  <Override PartName="/ppt/media/image73.jpeg" ContentType="image/jpeg"/>
  <Override PartName="/ppt/media/image72.jpeg" ContentType="image/jpeg"/>
  <Override PartName="/ppt/media/image69.png" ContentType="image/png"/>
  <Override PartName="/ppt/media/image67.jpeg" ContentType="image/jpeg"/>
  <Override PartName="/ppt/media/image14.jpeg" ContentType="image/jpeg"/>
  <Override PartName="/ppt/media/image68.jpeg" ContentType="image/jpeg"/>
  <Override PartName="/ppt/media/image79.png" ContentType="image/png"/>
  <Override PartName="/ppt/media/image26.jpeg" ContentType="image/jpeg"/>
  <Override PartName="/ppt/media/image42.png" ContentType="image/png"/>
  <Override PartName="/ppt/media/image19.jpeg" ContentType="image/jpeg"/>
  <Override PartName="/ppt/media/image2.jpeg" ContentType="image/jpeg"/>
  <Override PartName="/ppt/media/image57.png" ContentType="image/png"/>
  <Override PartName="/ppt/media/image24.jpeg" ContentType="image/jpeg"/>
  <Override PartName="/ppt/media/image59.png" ContentType="image/png"/>
  <Override PartName="/ppt/media/image66.jpeg" ContentType="image/jpeg"/>
  <Override PartName="/ppt/media/image37.jpeg" ContentType="image/jpeg"/>
  <Override PartName="/ppt/media/image50.jpeg" ContentType="image/jpeg"/>
  <Override PartName="/ppt/media/image81.png" ContentType="image/png"/>
  <Override PartName="/ppt/media/image7.jpeg" ContentType="image/jpeg"/>
  <Override PartName="/ppt/media/image1.gif" ContentType="image/gif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C3D1-0DF4-4BD5-B798-C535ED1544A3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9261-AD6F-46B0-A0BA-CA9B3A96591C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D075-D4B6-42D5-908E-8671471DC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1B565-2D35-41C7-8A6D-610578E4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396EF-096A-4998-B295-73C09302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2FB4E-293E-4AF3-9D30-2F5FDEC1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C6B6-1F02-4B28-859C-C2E46F1C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4189-B9D8-408D-AC93-979D4D0D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9640-44C3-4B55-B70A-D1E50C20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5ABB-3997-4623-9706-0514F669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F9C3-B4D7-423D-AFBB-D7FAC244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5AB0-7127-4DA8-AA97-493F29E7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161E-B8F0-4AC6-86FB-3FF4B832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F722-373D-4B09-9BBB-172C17D9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2BFD1-7810-47FF-8FCD-027BA4AB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BBF2-5EA7-4DA2-8FB6-BBC57DD4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438B-0D17-4DAD-8F40-20EF061B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D960-5C11-4380-9589-2BCC56F2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D535-FAA7-4376-82A7-3C0F532F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7DA7-B85D-429C-AA8D-D48FC4A4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D207D-3530-4622-AD62-DCAA1BF6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2DEA7-B292-4BC2-99E9-B9E6EFE5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D15AB-5211-46CF-9B42-0CAF36CE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FE8E5-9755-42A8-A7C6-8F7620A0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E2A70-947E-4DF2-B398-49C76C5A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807F5-188F-4D6B-A462-703AF2A2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1C1DA-16D2-440A-A1F9-B508549C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5010-0ED5-4B23-AE73-6149E11C1A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B521-CEDB-4D34-AC45-8D43CB02E4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image" Target="../media/image30.jpeg"/><Relationship Id="rId17" Type="http://schemas.openxmlformats.org/officeDocument/2006/relationships/image" Target="../media/image31.jpeg"/><Relationship Id="rId1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2.hgk.hr/znakovi/izvorno/izvorno.asp" TargetMode="External"/><Relationship Id="rId2" Type="http://schemas.openxmlformats.org/officeDocument/2006/relationships/hyperlink" Target="http://www2.hgk.hr/znakovi/izvorno/izvorno.asp" TargetMode="External"/><Relationship Id="rId3" Type="http://schemas.openxmlformats.org/officeDocument/2006/relationships/hyperlink" Target="http://www2.hgk.hr/znakovi/izvorno/izvorno.asp" TargetMode="External"/><Relationship Id="rId4" Type="http://schemas.openxmlformats.org/officeDocument/2006/relationships/hyperlink" Target="http://www2.hgk.hr/znakovi/izvorno/izvorno.asp" TargetMode="External"/><Relationship Id="rId5" Type="http://schemas.openxmlformats.org/officeDocument/2006/relationships/hyperlink" Target="http://www2.hgk.hr/znakovi/izvorno/izvorno.asp" TargetMode="External"/><Relationship Id="rId6" Type="http://schemas.openxmlformats.org/officeDocument/2006/relationships/hyperlink" Target="http://www2.hgk.hr/znakovi/izvorno/izvorno.asp" TargetMode="External"/><Relationship Id="rId7" Type="http://schemas.openxmlformats.org/officeDocument/2006/relationships/hyperlink" Target="http://www2.hgk.hr/znakovi/kvaliteta/kvaliteta.asp" TargetMode="External"/><Relationship Id="rId8" Type="http://schemas.openxmlformats.org/officeDocument/2006/relationships/hyperlink" Target="http://www2.hgk.hr/znakovi/kvaliteta/kvaliteta.asp" TargetMode="External"/><Relationship Id="rId9" Type="http://schemas.openxmlformats.org/officeDocument/2006/relationships/hyperlink" Target="http://www2.hgk.hr/znakovi/kvaliteta/kvaliteta.asp" TargetMode="External"/><Relationship Id="rId10" Type="http://schemas.openxmlformats.org/officeDocument/2006/relationships/hyperlink" Target="http://www2.hgk.hr/znakovi/kvaliteta/kvaliteta.asp" TargetMode="External"/><Relationship Id="rId11" Type="http://schemas.openxmlformats.org/officeDocument/2006/relationships/hyperlink" Target="http://www2.hgk.hr/znakovi/kvaliteta/kvaliteta.asp" TargetMode="External"/><Relationship Id="rId12" Type="http://schemas.openxmlformats.org/officeDocument/2006/relationships/hyperlink" Target="http://www2.hgk.hr/znakovi/kvaliteta/kvaliteta.asp" TargetMode="External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image" Target="../media/image37.jpeg"/><Relationship Id="rId16" Type="http://schemas.openxmlformats.org/officeDocument/2006/relationships/image" Target="../media/image38.jpeg"/><Relationship Id="rId17" Type="http://schemas.openxmlformats.org/officeDocument/2006/relationships/image" Target="../media/image39.jpeg"/><Relationship Id="rId18" Type="http://schemas.openxmlformats.org/officeDocument/2006/relationships/image" Target="../media/image40.jpe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png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7040" y="227628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ŽIŠNI ASPEKT PROIZVOD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46A0-FEAF-42EA-BB37-3190DA5E053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U provedbi politike proizvoda potrebno je razlikovat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roizvod u užem smisli (product item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liniju proizvoda (product line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roizvodni program ili mix proizvoda (product mi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4BA4B-8EEE-434F-882F-C2515E11FE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oduct i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izvod u užem smislu predstavlja svaki pojedinačni proizvod, koji se po svojim svojstvima razlikuje od ostalih proizvoda u proizvodnom programu gospodarskog subjekta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 Meler,M.: Osnove marketinga, Ekonomski fakultet u Osijeku, Osijek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80360" y="333360"/>
            <a:ext cx="1385640" cy="133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9459E-682F-42C7-8149-79EE03C1755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oizvod u užem smisl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3360" y="1981080"/>
            <a:ext cx="3738600" cy="1868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614920" y="1981080"/>
            <a:ext cx="2119320" cy="1868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477800" y="3998880"/>
            <a:ext cx="1982880" cy="1868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545080" y="4095720"/>
            <a:ext cx="2200320" cy="1768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7885080" y="333360"/>
            <a:ext cx="1042920" cy="115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73A10-6FCC-4B97-9B9F-E97EE80B5F3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oduct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0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stovrsni, ali istodobno i međusobno po svojim svojstvima različiti proizvodi koji zadovoljavaju istu vrstu potreba potrošača čine liniju proizvoda.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Meler,M.: Osnove marketinga, Ekonomski fakultet u Osijeku, Osijek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292720" y="1989000"/>
            <a:ext cx="3456000" cy="2349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95880" y="4532400"/>
            <a:ext cx="3400560" cy="1139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524720" y="260280"/>
            <a:ext cx="1403280" cy="13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A8C46-646A-429A-9A75-8AFB2025347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oduct 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roizvodni program čini ukupnost linija proizvo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1219320" cy="1524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1219320" cy="1524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187280" y="3573360"/>
            <a:ext cx="1219320" cy="1524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4211640" y="3284640"/>
            <a:ext cx="1625760" cy="2031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2916360" y="3284640"/>
            <a:ext cx="1562040" cy="2031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1763640" y="5157720"/>
            <a:ext cx="1219320" cy="1524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900000" y="5157720"/>
            <a:ext cx="1219320" cy="1524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0" y="5084640"/>
            <a:ext cx="1219320" cy="1524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5796000" y="5300640"/>
            <a:ext cx="1219320" cy="1413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0"/>
          <a:stretch/>
        </p:blipFill>
        <p:spPr>
          <a:xfrm>
            <a:off x="4932360" y="5334120"/>
            <a:ext cx="1219320" cy="1523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1"/>
          <a:stretch/>
        </p:blipFill>
        <p:spPr>
          <a:xfrm>
            <a:off x="3995640" y="5445000"/>
            <a:ext cx="1219320" cy="1413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2843280" y="5334120"/>
            <a:ext cx="1218960" cy="1523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3"/>
          <a:stretch/>
        </p:blipFill>
        <p:spPr>
          <a:xfrm>
            <a:off x="8359920" y="5877000"/>
            <a:ext cx="784080" cy="981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4"/>
          <a:stretch/>
        </p:blipFill>
        <p:spPr>
          <a:xfrm>
            <a:off x="8271000" y="4797360"/>
            <a:ext cx="873000" cy="1092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5"/>
          <a:stretch/>
        </p:blipFill>
        <p:spPr>
          <a:xfrm>
            <a:off x="8097840" y="3500280"/>
            <a:ext cx="1046160" cy="1308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6"/>
          <a:stretch/>
        </p:blipFill>
        <p:spPr>
          <a:xfrm>
            <a:off x="8213760" y="2276640"/>
            <a:ext cx="930240" cy="1163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7"/>
          <a:stretch/>
        </p:blipFill>
        <p:spPr>
          <a:xfrm>
            <a:off x="8180280" y="981000"/>
            <a:ext cx="963720" cy="1135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6381720"/>
            <a:ext cx="270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9999ff"/>
                </a:solidFill>
                <a:latin typeface="Arial"/>
              </a:rPr>
              <a:t>Meler,M.: Osnove marketinga, Ekonomski fakultet u Osijeku, Osijek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D9187-2D8F-48DF-9024-9EAEFE2995F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Kvaliteta predstavlja stupanj sposobnosti određene marke za izvršenje njezinih funkcija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(trajnost, pouzdanost, točnost, lakoću rukovanja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Kvaliteta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je </a:t>
            </a: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postala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dominirajuć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 problem </a:t>
            </a: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upravljanja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i </a:t>
            </a: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jedan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od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klju</a:t>
            </a: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nih elemenata strategije svakog poduze</a:t>
            </a: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ć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35244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39840" y="476280"/>
            <a:ext cx="67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2.Kvaliteta proizvoda - općen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B72E0-E662-417E-B14C-514558E17EC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Gospodarski subjekt mora provoditi politiku kvalitete koja počiva na sljedećim načeli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razmjerno visoka kvaliteta proizvod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kvaliteta mora neprekidno biti najmanje na istoj razin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neprekidno treba težiti i poboljšanju kvalite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Visoku razinu kvalitete prati i visoka cij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2000" y="620640"/>
            <a:ext cx="67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2.Kvaliteta proizvoda - općen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F762C-1166-4D75-AFCB-D047E53ED14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310760" y="1271160"/>
            <a:ext cx="7005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N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Sred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Viso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Najviš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pcexpo02_tmtaparty_gericom1.jpg"/>
          <p:cNvPicPr/>
          <p:nvPr/>
        </p:nvPicPr>
        <p:blipFill>
          <a:blip r:embed="rId1"/>
          <a:stretch/>
        </p:blipFill>
        <p:spPr>
          <a:xfrm>
            <a:off x="5429160" y="1357200"/>
            <a:ext cx="1540080" cy="1714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p6715.jpg"/>
          <p:cNvPicPr/>
          <p:nvPr/>
        </p:nvPicPr>
        <p:blipFill>
          <a:blip r:embed="rId2"/>
          <a:stretch/>
        </p:blipFill>
        <p:spPr>
          <a:xfrm>
            <a:off x="1714680" y="4000680"/>
            <a:ext cx="2101680" cy="17143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5"/>
          <p:cNvSpPr/>
          <p:nvPr/>
        </p:nvSpPr>
        <p:spPr>
          <a:xfrm>
            <a:off x="4929120" y="32860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Lucida Sans Unicode"/>
              </a:rPr>
              <a:t>Niska kvaliteta – </a:t>
            </a:r>
            <a:r>
              <a:rPr b="0" lang="en-US" sz="1800" spc="-1" strike="noStrike">
                <a:solidFill>
                  <a:srgbClr val="002060"/>
                </a:solidFill>
                <a:latin typeface="Lucida Sans Unicode"/>
              </a:rPr>
              <a:t>Geri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3286080" y="56437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Lucida Sans Unicode"/>
              </a:rPr>
              <a:t>Visoka kvaliteta – 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48420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Razine kvalit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E1D42-4849-4226-83E3-8340E7F7E38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487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uvedene su i norme standarda ISO 9000, te ISO 9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ISO - International Organization for Standar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Hrvatski zavod za norme- član 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iso9000_2000.jpg"/>
          <p:cNvPicPr/>
          <p:nvPr/>
        </p:nvPicPr>
        <p:blipFill>
          <a:blip r:embed="rId1"/>
          <a:stretch/>
        </p:blipFill>
        <p:spPr>
          <a:xfrm>
            <a:off x="3143160" y="4071960"/>
            <a:ext cx="2897280" cy="2173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908000" y="55548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Standardizacija kvalit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9B543-1D38-428B-AC0E-848F71E35D5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342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73600" indent="-191520">
              <a:spcBef>
                <a:spcPts val="3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Izvorno hrvatsko – 98 proizvoda </a:t>
            </a:r>
            <a:r>
              <a:rPr b="0" lang="hr-HR" sz="13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spcBef>
                <a:spcPts val="3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Hrvatska kvaliteta – 195 proizvoda </a:t>
            </a:r>
            <a:r>
              <a:rPr b="0" lang="hr-HR" sz="13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spcBef>
                <a:spcPts val="3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2060"/>
                </a:solidFill>
                <a:latin typeface="Arial"/>
              </a:rPr>
              <a:t>4 </a:t>
            </a:r>
            <a:r>
              <a:rPr b="0" lang="hr-HR" sz="13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2.</a:t>
            </a:r>
            <a:r>
              <a:rPr b="0" lang="hr-HR" sz="13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gk</a:t>
            </a:r>
            <a:r>
              <a:rPr b="0" lang="hr-HR" sz="13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.hr/znakovi/izvorno/</a:t>
            </a:r>
            <a:r>
              <a:rPr b="0" lang="hr-HR" sz="13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izvorno</a:t>
            </a:r>
            <a:r>
              <a:rPr b="0" lang="hr-HR" sz="13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.</a:t>
            </a:r>
            <a:r>
              <a:rPr b="0" lang="hr-HR" sz="13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as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spcBef>
                <a:spcPts val="3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2060"/>
                </a:solidFill>
                <a:latin typeface="Arial"/>
              </a:rPr>
              <a:t>5 </a:t>
            </a:r>
            <a:r>
              <a:rPr b="0" lang="hr-HR" sz="13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http://www2.</a:t>
            </a:r>
            <a:r>
              <a:rPr b="0" lang="hr-HR" sz="13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hgk</a:t>
            </a:r>
            <a:r>
              <a:rPr b="0" lang="hr-HR" sz="13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.hr/znakovi/kvaliteta/</a:t>
            </a:r>
            <a:r>
              <a:rPr b="0" lang="hr-HR" sz="13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kvaliteta</a:t>
            </a:r>
            <a:r>
              <a:rPr b="0" lang="hr-HR" sz="13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.</a:t>
            </a:r>
            <a:r>
              <a:rPr b="0" lang="hr-HR" sz="13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as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spcBef>
                <a:spcPts val="3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izvorno_180.gif"/>
          <p:cNvPicPr/>
          <p:nvPr/>
        </p:nvPicPr>
        <p:blipFill>
          <a:blip r:embed="rId13"/>
          <a:stretch/>
        </p:blipFill>
        <p:spPr>
          <a:xfrm>
            <a:off x="755640" y="2857680"/>
            <a:ext cx="2278080" cy="2277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kvaliteta_180.gif"/>
          <p:cNvPicPr/>
          <p:nvPr/>
        </p:nvPicPr>
        <p:blipFill>
          <a:blip r:embed="rId14"/>
          <a:stretch/>
        </p:blipFill>
        <p:spPr>
          <a:xfrm>
            <a:off x="3398760" y="2714760"/>
            <a:ext cx="2227320" cy="2226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474920" y="55548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rvatske oznake za kvalite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5"/>
          <a:stretch/>
        </p:blipFill>
        <p:spPr>
          <a:xfrm>
            <a:off x="6210360" y="2751120"/>
            <a:ext cx="799920" cy="1397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6"/>
          <a:stretch/>
        </p:blipFill>
        <p:spPr>
          <a:xfrm>
            <a:off x="7794720" y="2535120"/>
            <a:ext cx="1170000" cy="1943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7"/>
          <a:stretch/>
        </p:blipFill>
        <p:spPr>
          <a:xfrm>
            <a:off x="6066000" y="4406760"/>
            <a:ext cx="658800" cy="1686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8"/>
          <a:stretch/>
        </p:blipFill>
        <p:spPr>
          <a:xfrm>
            <a:off x="7507440" y="4838760"/>
            <a:ext cx="1373040" cy="118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1B954-715B-47F0-8FA8-5696B132738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TRŽIŠ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906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jvažniji dio okruženja gospodarskog subjekta je tržiš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 marketinškog motrišta, tržište je polazna i završna točka svih marketinških napora gospodarskog subjek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62640" y="2127240"/>
            <a:ext cx="2959200" cy="312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3944D-042E-4231-9C5F-02BFA717061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Arial"/>
              </a:rPr>
              <a:t>Svaki proizvod ima jednu </a:t>
            </a:r>
            <a:r>
              <a:rPr b="1" lang="en-US" sz="2500" spc="-1" strike="noStrike">
                <a:solidFill>
                  <a:srgbClr val="002060"/>
                </a:solidFill>
                <a:latin typeface="Arial"/>
              </a:rPr>
              <a:t>temeljnu</a:t>
            </a:r>
            <a:r>
              <a:rPr b="0" lang="en-US" sz="2500" spc="-1" strike="noStrike">
                <a:solidFill>
                  <a:srgbClr val="002060"/>
                </a:solidFill>
                <a:latin typeface="Arial"/>
              </a:rPr>
              <a:t> funkciju za koju je namijenjen, a može imati i neke </a:t>
            </a:r>
            <a:r>
              <a:rPr b="1" lang="en-US" sz="2500" spc="-1" strike="noStrike">
                <a:solidFill>
                  <a:srgbClr val="002060"/>
                </a:solidFill>
                <a:latin typeface="Arial"/>
              </a:rPr>
              <a:t>sporedne</a:t>
            </a:r>
            <a:r>
              <a:rPr b="0" lang="en-US" sz="2500" spc="-1" strike="noStrike">
                <a:solidFill>
                  <a:srgbClr val="002060"/>
                </a:solidFill>
                <a:latin typeface="Arial"/>
              </a:rPr>
              <a:t> funkcije, jer one predstavljaju i osnovu za promocijsko djelovanj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Arial"/>
              </a:rPr>
              <a:t>One moraju biti rezultat istraživanja tržišta – moraju odgovarati potrebama i željama potrošača tako da se ponekad mogu mijenjati ovisno o njim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Arial"/>
              </a:rPr>
              <a:t>Stvaranje novih i korisnijih funkcija proizvoda iziskuje i dodatne troškove, pa time i povećanje cijen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19280" y="48420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3. Funkcionalnost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FECE3-8E8C-4882-9F13-7F8D99B4DA8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455480"/>
            <a:ext cx="85788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Kada inženjeri projektiraju novi proizvod, taj proizvod bi trebao osigurati odgovarajući nivo funkcionalnosti ili uslu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6360" indent="-2145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Potencijalni kupci definiraju željenu funkcionalnost proizvoda, a inženjer kreira dizajn proizvoda kako bi se osigurala dana funkcionaln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3981240" cy="25052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692360" y="48420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3. Funkcionalnost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CA483-D0EF-4372-8C52-370CBE86882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630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Svaki proizvod ima tri ključna svojstva. Ta se svojstva vezuju 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Fizičke osobine</a:t>
            </a: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 – </a:t>
            </a:r>
            <a:r>
              <a:rPr b="0" lang="hr-HR" sz="1800" spc="-1" strike="noStrike">
                <a:solidFill>
                  <a:srgbClr val="002060"/>
                </a:solidFill>
                <a:latin typeface="Arial"/>
              </a:rPr>
              <a:t>pripadaju težina, veličina i trajnost, kvaliteta, dizajn i lakoća upotre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Nefizičke</a:t>
            </a: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 (pridodate) </a:t>
            </a: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osobine</a:t>
            </a: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 – </a:t>
            </a:r>
            <a:r>
              <a:rPr b="0" lang="hr-HR" sz="1800" spc="-1" strike="noStrike">
                <a:solidFill>
                  <a:srgbClr val="002060"/>
                </a:solidFill>
                <a:latin typeface="Arial"/>
              </a:rPr>
              <a:t>su sve pridodane osobine proizvoda kao servisne usluge, krediti, jamstva, imidž, dostava i upute za upotre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Korisnost proizvoda za potrošača</a:t>
            </a: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 – </a:t>
            </a:r>
            <a:r>
              <a:rPr b="0" lang="hr-HR" sz="1800" spc="-1" strike="noStrike">
                <a:solidFill>
                  <a:srgbClr val="002060"/>
                </a:solidFill>
                <a:latin typeface="Arial"/>
              </a:rPr>
              <a:t>najvažnija osobina sa stajališta marketinga. Svaki proizvod da bi bio uspješan na tržištu mora posjedovati ovu osobi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2060"/>
                </a:solidFill>
                <a:latin typeface="Arial"/>
              </a:rPr>
              <a:t>Ta se osobina svodi na spoznaju o tome što proizvod znači potrošaču, iz čega se mogu izvesti motivi kupn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0280" y="6093000"/>
            <a:ext cx="50756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Grbac,B.: Osvajanje ciljnog tržišta, Ekonomski fakultet Rijeka, str.31.,3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48420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3. Funkcionalnost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C2D4-2487-41F3-A131-9844AA0B644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6346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Funkcionalnost proizvoda u najvećoj mjeri proizlazi iz </a:t>
            </a:r>
            <a:r>
              <a:rPr b="1" lang="en-US" sz="1900" spc="-1" strike="noStrike">
                <a:solidFill>
                  <a:srgbClr val="002060"/>
                </a:solidFill>
                <a:latin typeface="Arial"/>
              </a:rPr>
              <a:t>konstrukcijske izvedbe</a:t>
            </a: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 proizvoda, pa je u većoj mjeri izražena kod proizvoda trajne potrošnje, negoli kod proizvoda kratkotrajne potrošnj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Kod proizvoda kratkotrajne potrošnje funkcionalnost će se čak možda prije odnositi na ambalažu negoli na sam proizvo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Dizajn ambalaže je usmjeren komunikaciji s korisnikom kojeg upućuje na funkcionalnost proizvoda istovremeno ga osvajajući svojom originalnošć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6929280" y="2611440"/>
            <a:ext cx="1713240" cy="26989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7"/>
          <p:cNvSpPr/>
          <p:nvPr/>
        </p:nvSpPr>
        <p:spPr>
          <a:xfrm>
            <a:off x="175680" y="6453360"/>
            <a:ext cx="27806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Meler,M.: Osnove marketinga, str.19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19280" y="48420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3. Funkcionalnost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57133-8DEA-4B8F-9F1D-13D0FDD0031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04360" y="1628640"/>
            <a:ext cx="799164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Marka je naziv, fraza, simbol, dizajn ili njihova kombinacija, i koristi se sa ciljem da se proizvod učini prepoznatljiv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1"/>
          <a:stretch/>
        </p:blipFill>
        <p:spPr>
          <a:xfrm>
            <a:off x="5715000" y="2357280"/>
            <a:ext cx="3209760" cy="3714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8"/>
          <p:cNvSpPr/>
          <p:nvPr/>
        </p:nvSpPr>
        <p:spPr>
          <a:xfrm>
            <a:off x="4134600" y="6429240"/>
            <a:ext cx="4819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Grbac,B.: Osvajanje ciljnog tržišta, Ekonomski fakultet Rijeka, str.3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468360" y="2421000"/>
            <a:ext cx="5327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Potrebno je razlikova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Ime </a:t>
            </a: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marke – dio marke koji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može izgovoriti, a sadrži riječ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brojeve ili s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Znak </a:t>
            </a: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marke – grafički prik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Zaštitni znak</a:t>
            </a: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 – marka ili d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marke koji je registriran 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zaštićen od uporabe drug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60720" y="484200"/>
            <a:ext cx="63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4. Marka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D7A6F-029B-478F-990C-185E724E8CC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5760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Karakterist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a strane prodavač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Razlikovanje proiz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ovećanje kontrole u kanalima distribu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a strane potrošač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dentifikacija proizvoda i raspolaganje jamstvom o jedinstvenosti kvalitete proiz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963000" y="6165720"/>
            <a:ext cx="4819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Grbac,B.: Osvajanje ciljnog tržišta, Ekonomski fakultet Rijeka, str.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60720" y="484200"/>
            <a:ext cx="63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4. Marka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D4CD7-C9E3-4E9A-8860-523EA8C0020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628280"/>
            <a:ext cx="5986440" cy="36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Vrste mar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2060"/>
                </a:solidFill>
                <a:latin typeface="Arial"/>
              </a:rPr>
              <a:t>Marke proizvođača – </a:t>
            </a:r>
            <a:r>
              <a:rPr b="0" lang="hr-HR" sz="2100" spc="-1" strike="noStrike">
                <a:solidFill>
                  <a:srgbClr val="002060"/>
                </a:solidFill>
                <a:latin typeface="Arial"/>
              </a:rPr>
              <a:t>marka koja je stvorena i u vlasništvu je proizvođača proizvo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2060"/>
                </a:solidFill>
                <a:latin typeface="Arial"/>
              </a:rPr>
              <a:t>Privatne marke – </a:t>
            </a:r>
            <a:r>
              <a:rPr b="0" lang="hr-HR" sz="2100" spc="-1" strike="noStrike">
                <a:solidFill>
                  <a:srgbClr val="002060"/>
                </a:solidFill>
                <a:latin typeface="Arial"/>
              </a:rPr>
              <a:t>marka koja je stvorena i u vlasništvu je trgovca na veliko i trgovca na malo (npr. </a:t>
            </a:r>
            <a:r>
              <a:rPr b="0" i="1" lang="hr-HR" sz="2100" spc="-1" strike="noStrike">
                <a:solidFill>
                  <a:srgbClr val="002060"/>
                </a:solidFill>
                <a:latin typeface="Arial"/>
              </a:rPr>
              <a:t>Konzum</a:t>
            </a:r>
            <a:r>
              <a:rPr b="0" lang="hr-HR" sz="2100" spc="-1" strike="noStrike">
                <a:solidFill>
                  <a:srgbClr val="002060"/>
                </a:solidFill>
                <a:latin typeface="Arial"/>
              </a:rPr>
              <a:t> ima </a:t>
            </a:r>
            <a:r>
              <a:rPr b="0" i="1" lang="hr-HR" sz="2100" spc="-1" strike="noStrike">
                <a:solidFill>
                  <a:srgbClr val="002060"/>
                </a:solidFill>
                <a:latin typeface="Arial"/>
              </a:rPr>
              <a:t>K+,</a:t>
            </a:r>
            <a:r>
              <a:rPr b="0" lang="hr-HR" sz="21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hr-HR" sz="2100" spc="-1" strike="noStrike">
                <a:solidFill>
                  <a:srgbClr val="002060"/>
                </a:solidFill>
                <a:latin typeface="Arial"/>
              </a:rPr>
              <a:t>Billa</a:t>
            </a:r>
            <a:r>
              <a:rPr b="0" lang="hr-HR" sz="2100" spc="-1" strike="noStrike">
                <a:solidFill>
                  <a:srgbClr val="002060"/>
                </a:solidFill>
                <a:latin typeface="Arial"/>
              </a:rPr>
              <a:t> ima </a:t>
            </a:r>
            <a:r>
              <a:rPr b="0" i="1" lang="hr-HR" sz="2100" spc="-1" strike="noStrike">
                <a:solidFill>
                  <a:srgbClr val="002060"/>
                </a:solidFill>
                <a:latin typeface="Arial"/>
              </a:rPr>
              <a:t>Clever</a:t>
            </a:r>
            <a:r>
              <a:rPr b="0" lang="hr-HR" sz="21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2060"/>
                </a:solidFill>
                <a:latin typeface="Arial"/>
              </a:rPr>
              <a:t>Generičke marke – </a:t>
            </a:r>
            <a:r>
              <a:rPr b="0" lang="hr-HR" sz="2100" spc="-1" strike="noStrike">
                <a:solidFill>
                  <a:srgbClr val="002060"/>
                </a:solidFill>
                <a:latin typeface="Arial"/>
              </a:rPr>
              <a:t>proizvodi bez mark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6357960" y="3408480"/>
            <a:ext cx="1143000" cy="981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6500880" y="2303640"/>
            <a:ext cx="792000" cy="680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"/>
          <p:cNvPicPr/>
          <p:nvPr/>
        </p:nvPicPr>
        <p:blipFill>
          <a:blip r:embed="rId3"/>
          <a:stretch/>
        </p:blipFill>
        <p:spPr>
          <a:xfrm>
            <a:off x="6429240" y="4572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1"/>
          <p:cNvSpPr/>
          <p:nvPr/>
        </p:nvSpPr>
        <p:spPr>
          <a:xfrm>
            <a:off x="4078080" y="6165720"/>
            <a:ext cx="50756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Grbac,B.: Osvajanje ciljnog tržišta, Ekonomski fakultet Rijeka, str.35.,3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24000" y="55548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4. Marka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ADBC5-5C6C-4D0A-A5EF-A788E238E23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01200" y="14558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Obilježavanje uključ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Deklaracija proiz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Oznake atesta ili certifi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Tehnička up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Jamstveni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EAN-k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ô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Uputa za upotrebu i ču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Croatian Quality, Croatian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Markice na proizv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Znak zaštite okoliš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5559120" y="6429240"/>
            <a:ext cx="3121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Meler,M.: Osnove marketinga, str.190.,19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40000" y="41112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4. Marka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6AB79-28CF-4CAF-A28C-EE9211E758B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84000" y="3160440"/>
            <a:ext cx="4608360" cy="22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2060"/>
                </a:solidFill>
                <a:latin typeface="Arial"/>
              </a:rPr>
              <a:t>Na njoj se nalaz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2060"/>
                </a:solidFill>
                <a:latin typeface="Arial"/>
              </a:rPr>
              <a:t>Marka proizvo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2060"/>
                </a:solidFill>
                <a:latin typeface="Arial"/>
              </a:rPr>
              <a:t>Zaštitni zna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2060"/>
                </a:solidFill>
                <a:latin typeface="Arial"/>
              </a:rPr>
              <a:t>Naziv tvrtk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2060"/>
                </a:solidFill>
                <a:latin typeface="Arial"/>
              </a:rPr>
              <a:t>i drugi informacijski sadržaji pormocijskog karaktera ili zakonski propis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9" descr=""/>
          <p:cNvPicPr/>
          <p:nvPr/>
        </p:nvPicPr>
        <p:blipFill>
          <a:blip r:embed="rId1"/>
          <a:stretch/>
        </p:blipFill>
        <p:spPr>
          <a:xfrm>
            <a:off x="5572080" y="3348000"/>
            <a:ext cx="2143080" cy="22068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3"/>
          <p:cNvSpPr/>
          <p:nvPr/>
        </p:nvSpPr>
        <p:spPr>
          <a:xfrm>
            <a:off x="826920" y="1628640"/>
            <a:ext cx="7921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astavni dio obilježavanja proizvoda, u pravilu sastavni dio ambala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4276080" y="6165720"/>
            <a:ext cx="4829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Meler,M.: Osnove marketinga, Ekonomski fakultet u Osijeku, str.19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4842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Etik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A7F59-8E0B-4DFC-A155-2A2655A5EB9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5. CIJ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731600"/>
            <a:ext cx="403236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ijena je novčani iskaz vrijednosti proizvoda, ona predstavlja sredstvo, a ne cilj ostvarivanja marketing-politike i mora biti u skladu sa svojstvima proizvo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iljevi kojim se teži prilikom određivanja cijena s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psta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st prod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ksimalizacija dob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odstvo u kvaliteti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hr-HR" sz="700" spc="-1" strike="noStrike">
                <a:solidFill>
                  <a:srgbClr val="000000"/>
                </a:solidFill>
                <a:latin typeface="Arial"/>
              </a:rPr>
              <a:t>Meler,M.: Osnove marketinga, Ekonomski fakultet u Osijeku, Osijek, 200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632560" y="2079720"/>
            <a:ext cx="2077920" cy="1673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883040" y="4071960"/>
            <a:ext cx="3575160" cy="1719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wii price.jpg"/>
          <p:cNvPicPr/>
          <p:nvPr/>
        </p:nvPicPr>
        <p:blipFill>
          <a:blip r:embed="rId3"/>
          <a:stretch/>
        </p:blipFill>
        <p:spPr>
          <a:xfrm>
            <a:off x="3059280" y="5013360"/>
            <a:ext cx="1373040" cy="110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F20DC-5D2F-4BC3-8ED2-E746B9D63B2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Gospodarski i drugi subjekti pod utjecajem tržišnih promjena grade aktivan odnos prema proizv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Strategija proizvoda – skup kriterija, načela i aktivnosti na temelju kojih se odlučuje o razvoju proizvo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Grbac,B.: Osvajanje ciljnog tržišta, EFRI, Rijeka,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1476360" y="62064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31920" indent="-2325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7d"/>
                </a:solidFill>
                <a:latin typeface="Arial"/>
              </a:rPr>
              <a:t>Uv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68741-8015-4233-AAB0-4AB52AF35BF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Načela na kojima se temelji cijen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ra biti prihvatljiva za potrošače na trži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ra osigurati daljnje poslovanje gospodarskog sub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ra osigurati povećanje tržišnog udj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ra biti konkurentna na trži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ra biti u funkciji stabilizacije tržiš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ra održavati odgovarajuću stopu dobi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02F87-8CC5-442E-9895-5DED97C5DC8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likom uvođenja novog proizvoda na tržište potrebno je voditi računa o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tadiju u životnom ciklusu proizv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jenovnoj elastičnosti potraž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ama konkure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tilu kupnje potroš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ferencijaciji cijena proizv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ama ekonomske politike na području ci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49EB3-D3D6-49C4-ADDD-DDBBFEF957D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700280" y="1125360"/>
            <a:ext cx="7443720" cy="475308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oraci pri određivanju cije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izbor cjenovnih cilj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utvrđenje potraž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procjena trošk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analiza troškova, cijena i ponude konkure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odabir metode oblikovanja ci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odabir konačne ci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81893-B5DE-42E2-93E9-168ED5E3CC8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Povećanje pro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-nastupanje s nižim cijenama(strategija     penetracij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-u što kraćem vremenu ostvariti što veću prodaj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Povećanje tržišnog udj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bolji uvjeti na tržišt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-tržišne mogućnosti i prijetnj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275"/>
              </a:spcBef>
              <a:buClr>
                <a:srgbClr val="2da2b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2060"/>
                </a:solidFill>
                <a:latin typeface="Arial"/>
              </a:rPr>
              <a:t>Grbac, B., Osvajanje ciljnog tržišta,EFRI, 20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87280" y="627120"/>
            <a:ext cx="64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iljevi orijentirani na proda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4F514-6B84-48EA-BC89-D1159BD53FF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Maksimalizacija dobiti – povećanje prodaje ili smanjivanje troškova(vrlo osjetlj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Povrat uloženi sredstava- fokusirani su na određivanje cijena kojim će se povratiti sredstva uložena na razvoj i proizvodnju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Loše strane- cijene su nekad postavljene previsoko a nekada prenisk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2060"/>
                </a:solidFill>
                <a:latin typeface="Arial"/>
              </a:rPr>
              <a:t>Grbac, B., Osvajanje ciljnog tržišta,EFRI, 20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32000" y="484200"/>
            <a:ext cx="63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iljevi orijentirani na do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AD009-20BA-465C-8ED6-0CBFD51ABCD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Status quo ciljev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aćenje konkurencije-svaka tvrtka ima svoje sudionike na tržištu koji prate variranje ci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cjenovne aktivnosti-aktivnosti usmjerene na dodavanju novih karakteristika proizvodu,povećanje kvalitete,nova ambalaža i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EC496-680E-486F-8386-AE480036D91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Kupci i cijen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sihološke cijene-djeluju na kupca tako da ga motiviraju da kupi određeni proizvod (npr.149 Kn izgleda znatno manje od 150 K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sprodajne cijene-kupci vole rasprod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npr.1 parfem vrijedi 105 Kn,a dva takva ista parfema u paketu vrijedi 200 K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9C468-54E2-413F-A281-73AA2267B68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osebne kategorije cij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ahom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estižn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cijena je rezultat prestižne potražn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ahom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Minimaln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cijene su u funkciji zaštite najčešće poljoprivrednih proizvođač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ahom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ntervaln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cijene su dvije cijene između kojih se kreće cijena nekog proizvo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ahom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irigiran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cijene su fiksno određene od države s ciljem uravnoteženog razvoja pojedinih gospodarskih djelat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ahom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vojn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cijena kada za jedan proizvod postoje dvije cij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16FD2-6A63-4DCE-8C33-ED9EA1BE7AA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ojam “psiholoških cijen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sihološke cijene su one koje djeluju na psihu kupca na način da ih dodatno motivira na kupnju proizvoda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znato je kako su neparni brojevi, u cijeni proizvoda, kupcu prihvatljiviji od parni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upcima su simpatični brojevi 0,3,6,8,9, a brojevi 1,4,7 im nisu simpatični, dok su brojevi 2 i 5 razmjerno indiferentn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eler,M.: Osnove marketinga, Ekonomski fakultet u Osijeku, Osijek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3A5EA-E89C-4A3C-9233-6AF8ABF8656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6. DIZA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ZAJN- moćno oružje u borbi za opstanak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295960" y="1981080"/>
            <a:ext cx="2749320" cy="1871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951520" y="3995640"/>
            <a:ext cx="1436760" cy="1871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835280" y="4149720"/>
            <a:ext cx="2793960" cy="17780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187280" y="6165720"/>
            <a:ext cx="35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8 Časopis Market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298DB-FBF1-4C73-A199-981D5A599D9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5760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Razvijanje strategije proizvoda je bitno jer se jedino prodajom proizvoda na tržištu osigurava osnova napr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Pod proizvodom se podrazumijeva sve ono što je ponuđeno na tržištu s ciljem da se zadovolje potrebe ili želje potrošač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Grbac,B.: Osvajanje ciljnog tržišta, EFRI, Rijeka,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5840" y="555480"/>
            <a:ext cx="64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Pristupi u definiranju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A73A0-755F-4CAB-B2A7-EB8B86403BC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Granična promocijska aktivnost (dizajn) zahtje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-funkcijske zahtjeve </a:t>
            </a:r>
            <a:r>
              <a:rPr b="0" lang="hr-HR" sz="1800" spc="-1" strike="noStrike">
                <a:solidFill>
                  <a:srgbClr val="002060"/>
                </a:solidFill>
                <a:latin typeface="Arial"/>
              </a:rPr>
              <a:t>(upotrebljivost, svrsiishodnost, koris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-estetske zahtjeve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r-HR" sz="2100" spc="-1" strike="noStrike">
                <a:solidFill>
                  <a:srgbClr val="002060"/>
                </a:solidFill>
                <a:latin typeface="Arial"/>
              </a:rPr>
              <a:t>(skladnost, privlačnost, ljepota, harmoničnost…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-ekonomske zahtjeve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r-HR" sz="2100" spc="-1" strike="noStrike">
                <a:solidFill>
                  <a:srgbClr val="002060"/>
                </a:solidFill>
                <a:latin typeface="Arial"/>
              </a:rPr>
              <a:t>(s aspekta proizvodnje i potrošnje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Rad na dizajnu je proces kojim se zahtjevima marketinga daje fizički obl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Marketing i dizajn su uzročno-posljedično povez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2060"/>
                </a:solidFill>
                <a:latin typeface="Arial"/>
              </a:rPr>
              <a:t>Meler,M., Osnove marketinga, EFOS Osijek,20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43120" y="369720"/>
            <a:ext cx="65008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6. DIZA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4DE11-5342-40F9-96FF-46BCF4C5AFD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Uloga dizajna u proizvodnji i plasma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zajn je danas uz promidžbu najmoćnije oružje u nemilosrdnoj borbi za opstanak na tržiš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i možemo proizvesti kvalitetan  proizvod, međutim znamo li ga kvalitetno zapakirati i dostojno predstaviti, sljedeći je ozbiljan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9 Časopis Marketing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E7841-4D4E-4CE9-8757-6B5B62B3B8E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6836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tvaralačka aktivnost čiji je cilj određivati formalne kvalitete industrijski proizvedenih predm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nokia_n81_8gb_p04.jpg"/>
          <p:cNvPicPr/>
          <p:nvPr/>
        </p:nvPicPr>
        <p:blipFill>
          <a:blip r:embed="rId1"/>
          <a:stretch/>
        </p:blipFill>
        <p:spPr>
          <a:xfrm>
            <a:off x="971640" y="3228840"/>
            <a:ext cx="2523960" cy="2071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pink_motorola_m1000.JPG"/>
          <p:cNvPicPr/>
          <p:nvPr/>
        </p:nvPicPr>
        <p:blipFill>
          <a:blip r:embed="rId2"/>
          <a:stretch/>
        </p:blipFill>
        <p:spPr>
          <a:xfrm>
            <a:off x="5292720" y="2992320"/>
            <a:ext cx="2214720" cy="2237040"/>
          </a:xfrm>
          <a:prstGeom prst="rect">
            <a:avLst/>
          </a:prstGeom>
          <a:ln w="0">
            <a:noFill/>
          </a:ln>
        </p:spPr>
      </p:pic>
      <p:sp>
        <p:nvSpPr>
          <p:cNvPr id="266" name="Content Placeholder 1"/>
          <p:cNvSpPr/>
          <p:nvPr/>
        </p:nvSpPr>
        <p:spPr>
          <a:xfrm>
            <a:off x="468360" y="4941720"/>
            <a:ext cx="48355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ontent Placeholder 1"/>
          <p:cNvSpPr/>
          <p:nvPr/>
        </p:nvSpPr>
        <p:spPr>
          <a:xfrm>
            <a:off x="468360" y="4869000"/>
            <a:ext cx="48355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Primjer mobitela za muško o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tent Placeholder 1"/>
          <p:cNvSpPr/>
          <p:nvPr/>
        </p:nvSpPr>
        <p:spPr>
          <a:xfrm>
            <a:off x="4308480" y="4865760"/>
            <a:ext cx="48355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Primjer mobitela za žensko o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43120" y="369720"/>
            <a:ext cx="65008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6. DIZA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F10B2-AA0A-415F-9811-0ED1BEAA279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Dizajn fizičke sredine dijele se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-dizajn urbanog okružen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-dizajn građevinskog okružen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-dizajn opreme i proizvod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Styling- intervencija u dotjerivanju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Redizajn- proces preoblikovanja postojećeg (zastarjelog)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275"/>
              </a:spcBef>
              <a:buClr>
                <a:srgbClr val="2da2b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2060"/>
                </a:solidFill>
                <a:latin typeface="Arial"/>
              </a:rPr>
              <a:t>Meler,M., Osnove marketinga, EFOS Osijek,20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43120" y="369720"/>
            <a:ext cx="65008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6. DIZA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25E4F-7EE5-4F09-B936-ECC9EB4F64F4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Vrste dizajn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Grafički –naljepnice,plakat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Industrijski-strojevi,automobil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Tekstilni-materijali,krojev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924360" y="3573360"/>
            <a:ext cx="1982880" cy="2664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11280" y="3573360"/>
            <a:ext cx="2638440" cy="24670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6516720" y="3571920"/>
            <a:ext cx="2043000" cy="26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290AD-7E70-43EB-8C6E-95CD2A3BB79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AMBALAŽA –” posude različitog oblika i veličine, načinjene od različitih materijala u kojima se roba drži u tijeku prometa, a isto tako i tanje fleksibilne materijale koji su samo izrezani na odgovarajuće dimenzije i eventualno grafički obrađene, a služe za zamotavanje roba. “ (Stričevi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03280" y="555480"/>
            <a:ext cx="55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7. Ambalaža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A41A3-B051-435F-85CF-573B74CE504E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Utjecaj ambalaž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ojim izgledom ambalaža privlači pozornost potrošača(ili odbija) i tržištu upućuje funkciju i ideju proizvoda, kao i ukupan imidž tvrt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mbalaža je omot, sve ono što proizvod plasira: boca, kutija, paketić, tuba, kakva kanta, konzerva, teglica, vrećica i košara ili papirić, drvo, slama, itd., a ponekad i sam ogl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li, ambalaža je mnogo više od opreme; ona je i škrinjica koja skriva znanje i blago oglašivač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eler,M.: Osnove marketinga, Ekonomski fakultet u Osijeku, Osijek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788A2-AB74-4FB9-8EA4-5C86DE65D875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Ambalaza za hranu - brašno"/>
          <p:cNvPicPr/>
          <p:nvPr/>
        </p:nvPicPr>
        <p:blipFill>
          <a:blip r:embed="rId2"/>
          <a:stretch/>
        </p:blipFill>
        <p:spPr>
          <a:xfrm>
            <a:off x="1214280" y="1143000"/>
            <a:ext cx="2286000" cy="22478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1071360" y="3517920"/>
            <a:ext cx="232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Papirna ambalaž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9" descr="Drvena ambalaža - maslinovo ulje"/>
          <p:cNvPicPr/>
          <p:nvPr/>
        </p:nvPicPr>
        <p:blipFill>
          <a:blip r:embed="rId3"/>
          <a:stretch/>
        </p:blipFill>
        <p:spPr>
          <a:xfrm>
            <a:off x="5248440" y="142884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10"/>
          <p:cNvSpPr/>
          <p:nvPr/>
        </p:nvSpPr>
        <p:spPr>
          <a:xfrm>
            <a:off x="5247360" y="351792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Drvena ambalaž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1" descr="Kartonska ambalaža - riblje konzerve"/>
          <p:cNvPicPr/>
          <p:nvPr/>
        </p:nvPicPr>
        <p:blipFill>
          <a:blip r:embed="rId4"/>
          <a:stretch/>
        </p:blipFill>
        <p:spPr>
          <a:xfrm>
            <a:off x="1576440" y="394956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3"/>
          <p:cNvSpPr/>
          <p:nvPr/>
        </p:nvSpPr>
        <p:spPr>
          <a:xfrm>
            <a:off x="2941560" y="586908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Kartonska ambalaž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4" descr="Ambalaža za konzervu"/>
          <p:cNvPicPr/>
          <p:nvPr/>
        </p:nvPicPr>
        <p:blipFill>
          <a:blip r:embed="rId5"/>
          <a:stretch/>
        </p:blipFill>
        <p:spPr>
          <a:xfrm>
            <a:off x="4816440" y="394956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771640" y="48420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Vrste ambalaž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A66A5-BF9C-4883-B595-CC8DE0845460}" type="slidenum">
              <a:t>4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5"/>
          <p:cNvSpPr/>
          <p:nvPr/>
        </p:nvSpPr>
        <p:spPr>
          <a:xfrm>
            <a:off x="4857840" y="471492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Ambalaža za cd-dvd-v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2" descr="Mapa za publikacije - specijalni karton + metal"/>
          <p:cNvPicPr/>
          <p:nvPr/>
        </p:nvPicPr>
        <p:blipFill>
          <a:blip r:embed="rId2"/>
          <a:stretch/>
        </p:blipFill>
        <p:spPr>
          <a:xfrm>
            <a:off x="857160" y="1576440"/>
            <a:ext cx="2786040" cy="3095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Ambalaža za CD - DVD - VHS"/>
          <p:cNvPicPr/>
          <p:nvPr/>
        </p:nvPicPr>
        <p:blipFill>
          <a:blip r:embed="rId3"/>
          <a:stretch/>
        </p:blipFill>
        <p:spPr>
          <a:xfrm>
            <a:off x="5143680" y="1428840"/>
            <a:ext cx="3024000" cy="30240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4"/>
          <p:cNvSpPr/>
          <p:nvPr/>
        </p:nvSpPr>
        <p:spPr>
          <a:xfrm>
            <a:off x="785880" y="485784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Mapa-fascikl od specijalnog kart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71640" y="4842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Vrste ambalaž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40660-6418-4524-B162-41E2A434C8B8}" type="slidenum">
              <a:t>48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protektivna (zaštitna)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distribucijska (skladišno-transportno-manipulativ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komunikacijska (tržišno-prodaj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uporabna (korisnič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ekolo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484360" y="484200"/>
            <a:ext cx="65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Funkcije ambalaž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E2976-00AC-46FB-9E21-0BDE1E35FF9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Content Placeholder 3" descr="acer-tm8000-350x300.jpg"/>
          <p:cNvPicPr/>
          <p:nvPr/>
        </p:nvPicPr>
        <p:blipFill>
          <a:blip r:embed="rId1"/>
          <a:stretch/>
        </p:blipFill>
        <p:spPr>
          <a:xfrm>
            <a:off x="1285920" y="2058840"/>
            <a:ext cx="1854000" cy="1363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e-banking-logo.jpg"/>
          <p:cNvPicPr/>
          <p:nvPr/>
        </p:nvPicPr>
        <p:blipFill>
          <a:blip r:embed="rId2"/>
          <a:stretch/>
        </p:blipFill>
        <p:spPr>
          <a:xfrm>
            <a:off x="3714840" y="1643040"/>
            <a:ext cx="1522440" cy="1428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Subaru-Impreza-WRX-01.jpg"/>
          <p:cNvPicPr/>
          <p:nvPr/>
        </p:nvPicPr>
        <p:blipFill>
          <a:blip r:embed="rId3"/>
          <a:stretch/>
        </p:blipFill>
        <p:spPr>
          <a:xfrm>
            <a:off x="714240" y="3714840"/>
            <a:ext cx="2306880" cy="1500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counter-strike-16.jpg"/>
          <p:cNvPicPr/>
          <p:nvPr/>
        </p:nvPicPr>
        <p:blipFill>
          <a:blip r:embed="rId4"/>
          <a:stretch/>
        </p:blipFill>
        <p:spPr>
          <a:xfrm>
            <a:off x="3714840" y="371484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SW-WIN-V-B-64-D-E.jpg"/>
          <p:cNvPicPr/>
          <p:nvPr/>
        </p:nvPicPr>
        <p:blipFill>
          <a:blip r:embed="rId5"/>
          <a:stretch/>
        </p:blipFill>
        <p:spPr>
          <a:xfrm>
            <a:off x="6500880" y="3857760"/>
            <a:ext cx="1682640" cy="1857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e5fc0deb4e6443d79da645ff8cf4fc64.jpg"/>
          <p:cNvPicPr/>
          <p:nvPr/>
        </p:nvPicPr>
        <p:blipFill>
          <a:blip r:embed="rId6"/>
          <a:stretch/>
        </p:blipFill>
        <p:spPr>
          <a:xfrm>
            <a:off x="5857920" y="1357200"/>
            <a:ext cx="1887480" cy="1571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916720" y="260280"/>
            <a:ext cx="20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izvo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80654-F5F1-4CFE-AB57-92D575D6436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Ambalaža se može zaštititi kao industrijsko vlasništvo i to ka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dustrijski dizajn (oblič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Žig (tradema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Umjetničko dj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47018-EA48-4443-9DE9-0A0AE37013C0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U uvjetima sve žešće tržišne utakmice dizajn ambalaže postaje važno sredstvo konkurentske borbe i diferencir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AMBALAŽA PRODAJE PROIZ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790640" y="4195800"/>
            <a:ext cx="2205000" cy="1754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5981760" y="4124160"/>
            <a:ext cx="1974960" cy="18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09342-4F94-4B71-BAEC-B5C59C5E6BEF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Ambalaža kao industrijski diza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ustrijski dizajn je zapravo vanjski izgled proizvoda koji je najvažniji pri normalnoj upotrebi. Industrijskim dizajnom širi se ambalaža prostorno(oblik ili obris) i plošno(šare, crte ili boj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193C6-44E8-43C7-8B9F-137DAA88C57C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kod"/>
          <p:cNvPicPr/>
          <p:nvPr/>
        </p:nvPicPr>
        <p:blipFill>
          <a:blip r:embed="rId1"/>
          <a:stretch/>
        </p:blipFill>
        <p:spPr>
          <a:xfrm>
            <a:off x="826920" y="1557360"/>
            <a:ext cx="2600640" cy="11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6" name="Picture 5" descr="kod 2"/>
          <p:cNvPicPr/>
          <p:nvPr/>
        </p:nvPicPr>
        <p:blipFill>
          <a:blip r:embed="rId2"/>
          <a:stretch/>
        </p:blipFill>
        <p:spPr>
          <a:xfrm>
            <a:off x="4643280" y="1619280"/>
            <a:ext cx="2711520" cy="12398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57120" y="3571920"/>
            <a:ext cx="8352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lnSpc>
                <a:spcPct val="9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2060"/>
                </a:solidFill>
                <a:latin typeface="Arial"/>
              </a:rPr>
              <a:t>Crtični kôd ili barkôd (eng. barcode) način je označavanja proizvoda nizom tamnih i svijetlih crta koje se sastoje od odgovarajućeg EAN broja (European Article Number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Sadrži 13 kodnih odredn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Kod</a:t>
            </a:r>
            <a:r>
              <a:rPr b="0" lang="en-US" sz="2500" spc="-1" strike="noStrike">
                <a:solidFill>
                  <a:srgbClr val="002060"/>
                </a:solidFill>
                <a:latin typeface="Arial"/>
                <a:ea typeface="Arial"/>
              </a:rPr>
              <a:t>ô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vi od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07720">
              <a:lnSpc>
                <a:spcPct val="9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2060"/>
                </a:solidFill>
                <a:latin typeface="Arial"/>
              </a:rPr>
              <a:t>1 do 3 predstavljaju kodirane odrednice zemlje proizvođać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07720">
              <a:lnSpc>
                <a:spcPct val="9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2060"/>
                </a:solidFill>
                <a:latin typeface="Arial"/>
              </a:rPr>
              <a:t>4 do 8 služe da identifikaciju proizvođać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07720">
              <a:lnSpc>
                <a:spcPct val="9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2060"/>
                </a:solidFill>
                <a:latin typeface="Arial"/>
              </a:rPr>
              <a:t>8 do 12 služe za identifikaciju proizvo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07720">
              <a:lnSpc>
                <a:spcPct val="9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2060"/>
                </a:solidFill>
                <a:latin typeface="Arial"/>
              </a:rPr>
              <a:t>13 predstavlja tzv.kontrolni ili modularni k</a:t>
            </a:r>
            <a:r>
              <a:rPr b="0" lang="en-US" sz="1900" spc="-1" strike="noStrike">
                <a:solidFill>
                  <a:srgbClr val="002060"/>
                </a:solidFill>
                <a:latin typeface="Arial"/>
                <a:ea typeface="Arial"/>
              </a:rPr>
              <a:t>ô</a:t>
            </a:r>
            <a:r>
              <a:rPr b="0" lang="hr-HR" sz="1900" spc="-1" strike="noStrike">
                <a:solidFill>
                  <a:srgbClr val="002060"/>
                </a:solidFill>
                <a:latin typeface="Arial"/>
              </a:rPr>
              <a:t>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3146040" y="2996640"/>
            <a:ext cx="24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</a:rPr>
              <a:t>EAN 13 crtični kôdo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4323600" y="6429240"/>
            <a:ext cx="4829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Meler,M.: Osnove marketinga, Ekonomski fakultet u Osijeku, str.19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76360" y="54936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8. Obilježavanje i oprem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C9378-89A4-4DAA-B054-C77DC6440F1F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95280" y="3789360"/>
            <a:ext cx="80755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Karakteristik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9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Arial"/>
              </a:rPr>
              <a:t>ušteđuje rad osoblja na ispisivanju cijen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9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Arial"/>
              </a:rPr>
              <a:t>smanjuje se mogućnost manipuliranja potrošači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9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Arial"/>
              </a:rPr>
              <a:t>u svakom se trenu može reagirati za nabavu rob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9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Arial"/>
              </a:rPr>
              <a:t>omogućuje jednostavno obavljanje svakodnevne inventure te znatno brže usluživanje kupa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3203640" y="1700280"/>
            <a:ext cx="2736720" cy="152064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6"/>
          <p:cNvSpPr/>
          <p:nvPr/>
        </p:nvSpPr>
        <p:spPr>
          <a:xfrm>
            <a:off x="3710880" y="335700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</a:rPr>
              <a:t>EAN 13 crtični kô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4323600" y="6429240"/>
            <a:ext cx="4829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Meler,M.: Osnove marketinga, Ekonomski fakultet u Osijeku, str.19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68360" y="5554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EAN - k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E282E-BF18-4ABE-BF19-A6371BAB4AAC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RFID (radio frequency identification) – elektronički postupak identifikacije i obilježa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Integrirani krug s malom tiskanom anten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Odašiljač razaznaje proizvod koji prolazi pokraj a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Danas stvarnost je da se na taj način obilježavaju životinje (pr. goveda), paketi, složene pošiljke, putovnice, automobili, it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86200" y="62712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RF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DBA7F-F6D1-4D64-BDC6-010DA26713DB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Cilj je pratiti proizvod od proizvodnje do otpada bilo gdje bilo k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U slučaju kvara saznat će se gdje je taj proizvod naručen, proizveden, itd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Uvodi se apsolutna kontrola protoka robe i njene kval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Ogromne ušt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B48FD-4BD3-4D7A-AF2D-8D8CBEAFD924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Negativne poslje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2060"/>
                </a:solidFill>
                <a:latin typeface="Arial"/>
              </a:rPr>
              <a:t>-job killer – otpuštanje ljud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2060"/>
                </a:solidFill>
                <a:latin typeface="Arial"/>
              </a:rPr>
              <a:t>-ugrađivanjem u putovnice ili injektiranjem pod kožu ljud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Clipboard021.jpg"/>
          <p:cNvPicPr/>
          <p:nvPr/>
        </p:nvPicPr>
        <p:blipFill>
          <a:blip r:embed="rId1"/>
          <a:stretch/>
        </p:blipFill>
        <p:spPr>
          <a:xfrm>
            <a:off x="3132000" y="3567240"/>
            <a:ext cx="2722680" cy="25858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4"/>
          <p:cNvSpPr/>
          <p:nvPr/>
        </p:nvSpPr>
        <p:spPr>
          <a:xfrm>
            <a:off x="3286080" y="61437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</a:rPr>
              <a:t>RFID-tag veličine nok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39D2E-CC86-4FEB-8440-D50CE75FFB3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Primje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0" lang="vi-VN" sz="2800" spc="-1" strike="noStrike">
                <a:solidFill>
                  <a:srgbClr val="002060"/>
                </a:solidFill>
                <a:latin typeface="Arial"/>
              </a:rPr>
              <a:t>automatske naplate cestarina, </a:t>
            </a:r>
            <a:br>
              <a:rPr sz="2800"/>
            </a:br>
            <a:r>
              <a:rPr b="0" lang="vi-VN" sz="2800" spc="-1" strike="noStrike">
                <a:solidFill>
                  <a:srgbClr val="002060"/>
                </a:solidFill>
                <a:latin typeface="Arial"/>
              </a:rPr>
              <a:t>- bezkontaktne kartice za kontrolu pristupa ljudi kontroliranim zonama, </a:t>
            </a:r>
            <a:br>
              <a:rPr sz="2800"/>
            </a:br>
            <a:r>
              <a:rPr b="0" lang="vi-VN" sz="2800" spc="-1" strike="noStrike">
                <a:solidFill>
                  <a:srgbClr val="002060"/>
                </a:solidFill>
                <a:latin typeface="Arial"/>
              </a:rPr>
              <a:t>- bezkontaktne kreditne kartice </a:t>
            </a:r>
            <a:br>
              <a:rPr sz="2800"/>
            </a:br>
            <a:r>
              <a:rPr b="0" lang="vi-VN" sz="2800" spc="-1" strike="noStrike">
                <a:solidFill>
                  <a:srgbClr val="002060"/>
                </a:solidFill>
                <a:latin typeface="Arial"/>
              </a:rPr>
              <a:t>- obilježavanje životinja i njihovo praćenje od rođenja do klaonice, </a:t>
            </a:r>
            <a:br>
              <a:rPr sz="2800"/>
            </a:br>
            <a:r>
              <a:rPr b="0" lang="vi-VN" sz="2800" spc="-1" strike="noStrike">
                <a:solidFill>
                  <a:srgbClr val="002060"/>
                </a:solidFill>
                <a:latin typeface="Arial"/>
              </a:rPr>
              <a:t>- obilježavanje prtljage na aerodromima za automatski transport unutar aerodroma i mnoge dr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B7766-830F-4D90-8109-D0A9E4707842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Primjena RFID-a će donijete ušt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Praktična rješenja – otvaranje vrata, plaćanje karte, kupovine hrane iz automata, i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RFID oznake će u sebi sadržavati mnogo osobni podataka što nije povolj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Društvena kontrola pojedinca će biti lagana i gotovo potp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Zloupotrebe će biti svakodnev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627280" y="62712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Kritiziranje RFID-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EBF08-FBD4-48DA-8756-A4CEB09C7AB6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2060"/>
                </a:solidFill>
                <a:latin typeface="Arial"/>
              </a:rPr>
              <a:t>Neopipljiva razina proizvo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2060"/>
                </a:solidFill>
                <a:latin typeface="Arial"/>
              </a:rPr>
              <a:t>koristi koje proizvod mora imati da bi mogao zadovoljiti određenu potrebu ili želj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2060"/>
                </a:solidFill>
                <a:latin typeface="Arial"/>
              </a:rPr>
              <a:t>Opipljiva razina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2060"/>
                </a:solidFill>
                <a:latin typeface="Arial"/>
              </a:rPr>
              <a:t>sama bit proizvoda (hardwar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2060"/>
                </a:solidFill>
                <a:latin typeface="Arial"/>
              </a:rPr>
              <a:t>Obogaćivanje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2060"/>
                </a:solidFill>
                <a:latin typeface="Arial"/>
              </a:rPr>
              <a:t>dostava,kreditiranje,jamstvo i serv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2060"/>
                </a:solidFill>
                <a:latin typeface="Arial"/>
              </a:rPr>
              <a:t>Grbac,B.: Osvajanje ciljnog tržišta, EFRI, Rijeka,20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627120"/>
            <a:ext cx="41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Tri razine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AAAD9-3572-4E7A-8DB3-AC3A43FDC10B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9. Usluge, servis potrošač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32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Usluge potrošačima predstavljaju graničnu promocijsku aktivnost koja ima cilj kupcu, odnosno potrošaču, olakšati kupnju i uporabu, odnosno korištenje proizvoda, obično trajne potrošn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hr-HR" sz="900" spc="-1" strike="noStrike">
                <a:solidFill>
                  <a:srgbClr val="000000"/>
                </a:solidFill>
                <a:latin typeface="Times New Roman"/>
              </a:rPr>
              <a:t>Meler,M.: Osnove marketinga, Ekonomski fakultet u Osijeku, Osijek, 20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5454720" y="2192400"/>
            <a:ext cx="3066840" cy="36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22432-B3E2-41D1-A5D3-442E2901B9BA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Najznačajnije usluge potrošačima koje se u praksi javljaju su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savjetovanje potrošača o načinu uporabe ili rukovanja proizvodom, mogućnost reklamacije i povrata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izvršenje besplatnih popravaka u određenom jamstvenom ro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mogućnost nabave rezervnih dijelova i popravaka izvan jamstvenog ro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besplatna dorada proizvo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besplatna montaža i/ili puštanje u rad, te demonstracija rada/korištenja proizvo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različiti modaliteti kreditiranja kupnje proizvo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besplatan prijevoz proizvoda do kućanstva kupca (i do 50 km)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zo Previšić i Stjepan Bratko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rketing 20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E68AA-6531-4AD5-9655-E66B1094B246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Najznačajnije usluge potrošačima koje se javljaju u prak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0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Različiti modeli kreditiranja kupnje proiz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0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Besplatan prijevoz proizvoda do kućanstva kup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0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Besplatna montaža i puštanje u rad, te demonstr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0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avjetovanje u načinu upotr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0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ogućnost reklamacije i pov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0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zvršenje besplatnih popravaka za vrijeme trajanja jam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0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ogućnost nabave rezervnih dijelova i popravaka izvan jamstvenog ro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0A8DF-DD1C-43E4-ADDB-743E89E584DB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Garancij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829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Garancija za proizvod je jamstvo kojim se davalac garancije obvezuje da će obaviti sve zakonom propisane ili dobrovoljno preuzete obveze prema kupcu u svezi s prodanim proizvo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Garancija obuhvaća obveze njezina davatelja da se na njegov račun u primjerenom roku uklone kvarovi i nedostaci na proizvodu u garancijskom razdoblju, pod uvjetom da se proizvod upotrebljava na propisani nač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snovni smisao garancije jeste da proizvođač garantira da će proizvod funkcionirati u ispravnom sta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Garancijski rok, koji počinje teći od dana prodaje proizvoda kupcu, izražava se različito i ovisno o vrsti proizvod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remensk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eksploatacijski ili kombinir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Garancija često služi kao element diferenciranja od konkure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8101080" y="2708280"/>
          <a:ext cx="8190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1080" y="2708280"/>
                    <a:ext cx="8190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7812000" y="5661000"/>
          <a:ext cx="1152720" cy="8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12000" y="5661000"/>
                    <a:ext cx="115272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7743960" y="216000"/>
          <a:ext cx="1400040" cy="12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43960" y="216000"/>
                    <a:ext cx="140004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971640" y="5805360"/>
            <a:ext cx="287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14 Kotler P. ; Marketinška znanja od a do ž; Mate, Zagreb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2B923-31D9-4DDC-9ECB-FAD500C60EAA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Ova stavka se razlikuje od proizvođača do proizvođ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Garancije razlikujemo po vremenskoj osn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Vremenska osnova ovisi o kvaliteti proizvo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U tom vremenu proizvođač garantira da će proizvod funkcionirati bez kvar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411280" y="555480"/>
            <a:ext cx="51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Garancija (jamstv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BD3AE-1D18-424D-AF89-CCDCCB0D4DB8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vo nekih kompanija koje su uz pomoć dojmljivih jamstava stvorile nepokolebive pristaš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Hampton Inn jamči da će njegove sobe «pružiti potpuno zadovoljstvo, ili je noćenje besplatno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Loblaws (Kanada) nudi da će hranu vlastite marke zamijeniti nacionalnim markama ako potrošač smatra da Loblaws nema bolju vrijed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Xerox zamjenjuje svaki Xeroxov proizvod u roku od 3 godine sve dok kupac nije potpuno zadovol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.T.Cross zamjenjuje svoja nalivpera i kemijske olovke doživotno. Kupac poštom pošalje kompaniji pokidano nalivpero ili kemijsku olovku, a kompanija ga popravlja ili zamjenjuje besplatno i šalje kupc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aturn će uzeti natrag svoj novi automobil unutar roka od 30 dana ako kupac nije zadovol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15 Mihajlo Aćimivić;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ECC42-BFDA-4E8A-A949-EFC76C23C9CA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Ovisno o garanciji većina kupaca se odlučuje da li će kupiti proizvod ili 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azličite usluge servisiranja kvarnog proizv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Garancija često služi kao element diferenciranja od konkuren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F9590-2952-498E-94F3-32F74ACA13E6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ervisiranje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619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ervisiranje proizvoda, kao jedna od osnovnih funkcija marketinga uslužna je djelatnost kojoj je zadatak održavanje i popravljanje proizvedenih i prodanih gotovih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ervis može biti presudan za odluku o kupnji, jer se uz pružanje sigurnosti za rad kupljenog proizvoda, opskrbom rezervnih dijelova, kvalitetom i vremenom izvršavanja svojih zadataka te programom usluga, prilagođuje željama i potrebama kupa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7 JozoPrevišić i Stjepan Bratko; Marketing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5364000" y="1916280"/>
          <a:ext cx="3579840" cy="37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1916280"/>
                    <a:ext cx="3579840" cy="37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FA039-0847-41FC-BDEF-95CDD802838A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običajeni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riterij za procjenu kvalitete usluge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uzdanost u pružanju uslug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slovnost i dogovornos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ompeten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istupač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usret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omunikacija s korisniko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redibili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igu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Razumijevanje za korisnik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pipljivi element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9B4E4-7B9F-4468-AADC-A43035ED143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10. Image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32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zraz imidž potječe od latinske imenice imago što znač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li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i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bli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tjelovlje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dodž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JozoPrevišić i Stjepan Bratko; Marketing 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5065560" y="1981080"/>
            <a:ext cx="321012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88C21-070E-4A0A-B2CA-1EC61F1BCEC1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TRŽIŠNI ASPEKT PROIZV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4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32000" indent="-4320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izvodni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valiteta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unkcionalnost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arka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ijena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zajn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mbalaža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bilježavanje i opremanj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sluge (servis) potrošač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"Image"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D1F30-A932-493D-8E9E-8887B2B2FBC9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7283520" y="981000"/>
          <a:ext cx="186048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3520" y="981000"/>
                    <a:ext cx="186048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276120" y="1484280"/>
            <a:ext cx="760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ema Balentič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midž je «predodžba ili slika o nečemu, psihološko-sociološka kategorija koja predstavlja ukupnost dojmova koje je o pojedincu, poduzeću, korporaciji, instituciji pa i čitavoj državi stekla javnost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ema Kelleru i Sudaru imidž 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«Mentalna slika o proizvodu, osobi, proizvođaču, procesu ili situaciji. To je cjeloviti psihološki konstrukt dosadašnjeg iskustva, predodžbi, stavova, mišljenja, predrasuda, što pojedinac ili grupa formira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ema Robertu Worcesteru korporativni imidž 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«Rezultat interakcije svih iskustava, impresija, vjerovanja i osjećaja koje ljudi imaju o kompaniji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5549760"/>
          <a:ext cx="2087640" cy="13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49760"/>
                    <a:ext cx="208764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13736-1947-464C-87B7-50E7FB2D1465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Image je način na koji javnost percepira tvrtku ili njezine proizv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1100" spc="-1" strike="noStrike">
                <a:solidFill>
                  <a:srgbClr val="002060"/>
                </a:solidFill>
                <a:latin typeface="Arial"/>
              </a:rPr>
              <a:t>Meler, M.: Osnove marketinga, EFOS, 200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Image je doživljajna struktura stavova, mišljenja, uvjerenja, predrasuda i ranijih iskustava koju o određenom proizvodu imajukrajnji potrošači, trgovci, dobavljači i drugi sudionici u poslovnom i tržišnom zbivanj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08000" y="555480"/>
            <a:ext cx="64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7d"/>
                </a:solidFill>
                <a:latin typeface="Arial"/>
              </a:rPr>
              <a:t>10. Image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D7DE-96E0-4E51-9741-2E6A5F4FF55B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Odstupanja od predpostavljanja prosječne moguće kvalitete predstavlja ono što nazivamo dobar, odnosno loš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Stvaranje željenog image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Najvažniji elementi koncepcije image-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Image – subjek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Image – ob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D0090-741A-4BF0-87F1-6CC43CF44F61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Image – subjekt je komunikacijska ciljna skupina kojoj je namjenjen objekt od čijeg mišljenja ovisi prihvatljivost objek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Image – subjekti mogu b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Najšira ja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Ciljni segmenti potrošača, poslovni svijet, biračko tijelo, zaposleni, investitori i bank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1D0B5-3709-45C3-A0DC-776528651C82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7200" y="143208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Bez obzira o kojem se objektu ili subjektu radi oblikovanje željenog image-a u osnovi je jedna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Potrebno je razlikovat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Imag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Image mark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Image gospodarskog sub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0FBC8-870C-4D64-A50C-A3BCA1917514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Na sve te vrste image-a utječu isti činitelj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Osobine i kvaliteta proizvoda, promocijske aktivnosti vezane za proizv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Jednom narušen image teško je vrat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Image se prvenstveno stvara zbog povećanja tržišnog udjela i zbog smanjenja troškova promo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07208-8DBE-4408-9809-518A32CF6CD4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mage u marketingu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midž u marketingu podrazumijeva «emocionalnu predodžbu ili sliku o određenom marketinškom objekt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izvodu (brand, product image), poduzeću, osobi, naciji i sl. odnosn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midž je skup uvjerenja, ideja, stavova, dojmova, stereotipa, predrasuda koje o izvjesnom objektu ima subjekt», a oni se kod subjekta  se stvaraju pod utjecajem psiholoških (percepcija, stavovi, osobnost, motivacija, interes, iskustvo i očekivanja) i socijalnih čimbenika (kultura, obitelj, referentne grupe, zanimanje, životni stil, vlastiti imid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19 JozoPrevišić i Stjepan Bratko; Marketing 20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8DB3D-9124-4066-AA14-BDEE3B3FDA5A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Izgradnja jakog imidža, rast profita ostvaruje se iz dva razloga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bog povećanja tržišnog udje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bog smanjenja troškova promocije (prije svega ekonomske propagan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midž proizvoda je zapravo doživljena kvaliteta proizvoda (ali i gospodarskog subjekta) od pojedinca ili javnos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4FB03-053B-412B-8023-99FDC03143E3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Halo-efekt” 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Halo-efekt možemo definirati kao tendenciju ljudi da sude o pojedinačnim osobitostima nekog objekta u uvjetima njihove generalne impresije o strukturi kojoj objekt pripa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 znači da se kućanica, ukoliko primjerice ima dobar sud o «Saponia» jednako tako pridavati pozitivne atribute svakom drugom, pa tako i svakom novom, proizvodu «Saponije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Meler,M.: Osnove marketinga, Ekonomski fakultet u Osijeku, Osijek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6300720" y="404640"/>
          <a:ext cx="1511280" cy="10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404640"/>
                    <a:ext cx="151128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4D95C-4375-4ECC-898B-943BF0DE734D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920" y="585720"/>
            <a:ext cx="79567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ogu li biti ljudi lojalni nekoj marki?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epobitno je da su neki ljudi iznimno lojalni nekim marka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lasnik motora Hearley Davidson ne bi ga mijenjao ni kad bi bio uvjeren da neka druga marka ima bolje performan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risnici Apele Macintosha ne bi ga zamijenili Microsoftom čak i kad bi time dobili neke pred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klonici BMW-a ne žele prijeći na Merce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ažemo da neka kompanija uživa veliku odanost kad poveći broj potrošača ne želi njezine marke zamijeniti drug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JozoPrevišić i Stjepan Bratko; Marketing 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DA9F8-83D9-4277-A822-86E6F97BF335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799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-6094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roizvodni progaram, (mix proizvoda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hilip Kotler : "Mix proizvoda je skup svih linija proizvoda i artikala koji određeni prodavač nudi kupcima na prodaju"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939F7-E105-407D-91AA-C99A8677D5D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Proizvodni program ili miks proizvoda je kombinacija svih proizvoda s kojima gospodarski ili drugi subjekti nastupaju na tržišt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Proizvodni program pojedine tvrtke određen je širinom, dubinom, dužinom i konzistentnošć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2060"/>
                </a:solidFill>
                <a:latin typeface="Arial"/>
              </a:rPr>
              <a:t>Grbac,B.: Osvajanje ciljnog tržišta, EFRI, Rijeka,20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2360" y="620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7d"/>
                </a:solidFill>
                <a:latin typeface="Arial"/>
              </a:rPr>
              <a:t>1. Proizvodni</a:t>
            </a: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29573-1EA4-4287-BFAC-D8AC547B90B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23:24:40Z</dcterms:created>
  <dc:creator>Miro Zecevic</dc:creator>
  <dc:description/>
  <dc:language>en-US</dc:language>
  <cp:lastModifiedBy>Mane Medic</cp:lastModifiedBy>
  <dcterms:modified xsi:type="dcterms:W3CDTF">2008-05-20T11:45:57Z</dcterms:modified>
  <cp:revision>39</cp:revision>
  <dc:subject/>
  <dc:title>TRŽIŠNI ASPEKT PROIZVODA</dc:title>
</cp:coreProperties>
</file>