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wmf" ContentType="image/x-wmf"/>
  <Override PartName="/ppt/media/image8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F16-065F-44CC-A25B-56A21A9E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DBE-7067-4706-B5A9-2913CA21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B67-F7DC-4037-AF04-995B75FD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440D-F82F-4272-9073-B4D8435B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BE20-9B74-47DE-8EEB-97A1A0D3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948A-CDA1-4F87-94DC-AD5C6F2F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45E0-C1C0-42AA-86A6-1AB030A7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4A36-1BFE-4B36-81AA-E4C40820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3F57-C6D3-4DC6-A05D-6552E0A9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442E-3402-4A08-BB9A-15FCD07C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0DEC-36CC-4D2B-B79E-6E685917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362-6D56-4AEB-A59B-A969C17F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A4D9-18F9-409E-9EE8-2E3AEDE0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FCA7-A40B-4B53-9261-C7B7D934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6E2E-51C3-44DF-B1E4-9013332B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FA44-BA26-4B51-B1C7-8B89DAA9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9988-FB27-412E-B616-FEC1421D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46F-013B-4E98-B56F-79495DDE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ECC-68C1-4816-B38A-1CEABEFE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D5F-1958-4FD2-B616-49A20ED7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8A9-D3AD-4DCD-974A-68550793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C91-B21A-4568-BC90-AD28432D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1AD-4084-4D19-B3BD-B7FDB17B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70D-7DF9-4384-90C4-67E5BB45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5E78-AA6E-4198-8C90-685DA275D7A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9809-0240-4D09-B394-E596E4FABD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12000" y="5229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Denis Dolin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Marija Mateš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Dina R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773360"/>
            <a:ext cx="7993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200" spc="-1" strike="noStrike">
                <a:solidFill>
                  <a:srgbClr val="ccecff"/>
                </a:solidFill>
                <a:latin typeface="Arial"/>
              </a:rPr>
              <a:t>NYSE</a:t>
            </a:r>
            <a:endParaRPr b="0" lang="en-US" sz="2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ČLANOV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Citicorp Securities Services, In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First Clearing LL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J. P. Morgan Invest, LLC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cDonald Investments In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errill Lynch Professional Clearing Cor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erdiue Securities, LLC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ccecff"/>
                </a:solidFill>
                <a:latin typeface="Arial"/>
              </a:rPr>
              <a:t>ČLANOVI - </a:t>
            </a:r>
            <a:r>
              <a:rPr b="0" lang="hr-HR" sz="5400" spc="-1" strike="noStrike">
                <a:solidFill>
                  <a:srgbClr val="ccecff"/>
                </a:solidFill>
                <a:latin typeface="Arial"/>
                <a:ea typeface="Times New Roman"/>
              </a:rPr>
              <a:t>Floor Brokers</a:t>
            </a:r>
            <a:r>
              <a:rPr b="0" lang="hr-HR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rimaju kupovne i prodajne naloge od jav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vrst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house broker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commission broker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38080" indent="-380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ade za brokerske ku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ć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 koje su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č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nvovi NY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dependent brok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amostalni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č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novi burz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povezuju broke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dodijeljen im je određen broj dionic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imaju svoj 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Trading 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os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odr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</a:rPr>
              <a:t>ž</a:t>
            </a: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avanje pravednosti, konkurencije i efikasnost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4 fukcije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Aukcionar 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• Ag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Katalist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Verdana"/>
              </a:rPr>
              <a:t>• Deal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ČLANOVI - Specijalisti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rednosti kotiranja na NYS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fikasno, fer i sigurno aukcijsko tržišt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jveći je izvoru kapitala s najboljom likvidnošć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gućnost za značajan ra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versifikacija investicijskog portfelj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lja poslovna očekiva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jpoštenije cjenovno vrednovan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Kotiranje na NYS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2800 kompanij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18000 mlrd US$ tržišne kapitalizac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vodeće američke kompanije - ''blue chip''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470 neameričkih kompanija iz 53 zemlj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6000 mlrd US$ tržišne kapitalizac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igraju sve veću ulog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broj im je porastao gotovo pet pu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1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UVJETI kotiranja na NYS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ve dionice moraju biti registrirane kod SEC-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rtka mora udovoljiti strogim financijskim i regulacijskim kriterijima bur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vije skupine standard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onstantni uvjeti kotiranja 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vjeti uvrštavanja dionica na NY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9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291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1. Konstantni standardi kotiranja na NYS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870120"/>
          <a:ext cx="9144000" cy="59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70120"/>
                    <a:ext cx="914400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. Uvrštavanje dionica na NYS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ove kotacije dionica postižu se kroz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četne javne ponud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(initial public offerings – IPOs)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rijenosom kotiranja s drugih burzi 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unakrsnim kotiranjima stranih kompanija na burzama diljem svije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različiti su uvjeti uvrštavanja domaćih i stranih kompani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Arial"/>
              </a:rPr>
              <a:t>Minimalni kvantitativni standardi uvrštavanja am. dionica</a:t>
            </a: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7600" y="714240"/>
          <a:ext cx="9063000" cy="608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714240"/>
                    <a:ext cx="9063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aknade za kotiranje </a:t>
            </a:r>
            <a:br>
              <a:rPr sz="4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siječanj 2003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Originalna naknada =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iginalna naknada u užem smisl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cijena uvrštavanja kompanije na burzu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dnokratne je narav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ća se u fiksnom iznosu ($ 36800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 inicijalne nakna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cijena uvrštavanja dionica u kotaciju burz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ća se po milijunu uvrštenih dion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todom lomljene regres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120" y="5562720"/>
          <a:ext cx="7543800" cy="1035000"/>
        </p:xfrm>
        <a:graphic>
          <a:graphicData uri="http://schemas.openxmlformats.org/drawingml/2006/table">
            <a:tbl>
              <a:tblPr/>
              <a:tblGrid>
                <a:gridCol w="5248080"/>
                <a:gridCol w="2295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inimal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iginal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knad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1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simalna original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knad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25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adrža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vijesni razvoj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NYSE dan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Mis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Organizac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Članov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otiranje na burz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rading flo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Trgovan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Tehnolog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Vrijednosn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Sigurnosni susta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Formiranje cije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Indeks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ck 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Zaključ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aknade za kotiranje</a:t>
            </a:r>
            <a:br>
              <a:rPr sz="4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siječanj 2003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Kontinuirana (godišnja) nakna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veza dospijeva 1. siječnja za kotiranje u godini koja slije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ća se po milijunu uvrštenih dion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5562720"/>
          <a:ext cx="7543800" cy="1035000"/>
        </p:xfrm>
        <a:graphic>
          <a:graphicData uri="http://schemas.openxmlformats.org/drawingml/2006/table">
            <a:tbl>
              <a:tblPr/>
              <a:tblGrid>
                <a:gridCol w="5248080"/>
                <a:gridCol w="2295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inimal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ntinuira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knad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3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simalna kontinuirana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knad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50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62120" y="4267080"/>
          <a:ext cx="7543800" cy="533160"/>
        </p:xfrm>
        <a:graphic>
          <a:graphicData uri="http://schemas.openxmlformats.org/drawingml/2006/table">
            <a:tbl>
              <a:tblPr/>
              <a:tblGrid>
                <a:gridCol w="4821120"/>
                <a:gridCol w="27226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knada po milijunu dionica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$ 9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ADING FLOO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lavna prostorij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+ četiri manje prostorij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kupno 446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0 punktova trgova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500 brokerskih kabi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Verdana"/>
                <a:ea typeface="Times New Roman"/>
              </a:rPr>
              <a:t>Trgovanje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Times New Roman"/>
              </a:rPr>
              <a:t> na burz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65530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pojedinac mora otvoriti račun kod brokerske tvrtk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vrste nalog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Market Ord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Limit Ord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dnevni naloz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''good 'til canceled''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top Ord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jedinica trgovanja se naziva round lot  = 100 dionic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1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9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1371600" cy="1268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Verdana"/>
                <a:ea typeface="Times New Roman"/>
              </a:rPr>
              <a:t>Kronologija trgovanja na NYSE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1303200" cy="1303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105520" y="1295280"/>
            <a:ext cx="1303200" cy="1303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4960" y="8380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Invest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15238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8400" y="11746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09800" y="68580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Broker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tvrt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5400" y="11746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16002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22800" y="6858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CM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SuperDot</a:t>
            </a:r>
            <a:r>
              <a:rPr b="1" lang="hr-HR" sz="1800" spc="-1" strike="noStrike">
                <a:solidFill>
                  <a:srgbClr val="003b7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543800" y="1295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553080" y="160020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1280" y="12193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35520" y="685800"/>
            <a:ext cx="13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Trgovins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punk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7467480" y="403848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458200" y="281952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950240" y="30481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76480" y="56386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Specij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4648320" y="3886200"/>
            <a:ext cx="1330200" cy="16765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25" name=""/>
          <p:cNvSpPr/>
          <p:nvPr/>
        </p:nvSpPr>
        <p:spPr>
          <a:xfrm rot="19260000">
            <a:off x="5943600" y="2971800"/>
            <a:ext cx="1447920" cy="304920"/>
          </a:xfrm>
          <a:prstGeom prst="leftArrow">
            <a:avLst>
              <a:gd name="adj1" fmla="val 50000"/>
              <a:gd name="adj2" fmla="val 11871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59880" y="30481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69360" y="5715000"/>
            <a:ext cx="9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Flo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Bro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4960" y="43434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6172200" y="4952880"/>
            <a:ext cx="1143000" cy="534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438280" y="3886200"/>
            <a:ext cx="1524240" cy="16002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31160" y="563868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Izvješće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transakc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3581280" y="4952880"/>
            <a:ext cx="990720" cy="457200"/>
          </a:xfrm>
          <a:custGeom>
            <a:avLst/>
            <a:gdLst>
              <a:gd name="textAreaLeft" fmla="*/ 154800 w 990720"/>
              <a:gd name="textAreaRight" fmla="*/ 834480 w 990720"/>
              <a:gd name="textAreaTop" fmla="*/ 154080 h 457200"/>
              <a:gd name="textAreaBottom" fmla="*/ 30312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7281"/>
                </a:moveTo>
                <a:lnTo>
                  <a:pt x="11144" y="7281"/>
                </a:lnTo>
                <a:lnTo>
                  <a:pt x="11144" y="0"/>
                </a:lnTo>
                <a:lnTo>
                  <a:pt x="21600" y="10800"/>
                </a:lnTo>
                <a:lnTo>
                  <a:pt x="11144" y="21600"/>
                </a:lnTo>
                <a:lnTo>
                  <a:pt x="11144" y="14319"/>
                </a:lnTo>
                <a:lnTo>
                  <a:pt x="3375" y="14319"/>
                </a:lnTo>
                <a:close/>
              </a:path>
              <a:path w="21600" h="21600">
                <a:moveTo>
                  <a:pt x="0" y="7281"/>
                </a:moveTo>
                <a:lnTo>
                  <a:pt x="675" y="7281"/>
                </a:lnTo>
                <a:lnTo>
                  <a:pt x="675" y="14319"/>
                </a:lnTo>
                <a:lnTo>
                  <a:pt x="0" y="14319"/>
                </a:lnTo>
                <a:close/>
              </a:path>
              <a:path w="21600" h="21600">
                <a:moveTo>
                  <a:pt x="1350" y="7281"/>
                </a:moveTo>
                <a:lnTo>
                  <a:pt x="2700" y="7281"/>
                </a:lnTo>
                <a:lnTo>
                  <a:pt x="2700" y="14319"/>
                </a:lnTo>
                <a:lnTo>
                  <a:pt x="1350" y="1431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43434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666880"/>
            <a:ext cx="380880" cy="1143000"/>
          </a:xfrm>
          <a:prstGeom prst="upArrow">
            <a:avLst>
              <a:gd name="adj1" fmla="val 50000"/>
              <a:gd name="adj2" fmla="val 7502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228600" y="3962520"/>
            <a:ext cx="1454040" cy="1476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752480" y="4876920"/>
            <a:ext cx="838440" cy="380880"/>
          </a:xfrm>
          <a:prstGeom prst="leftArrow">
            <a:avLst>
              <a:gd name="adj1" fmla="val 50000"/>
              <a:gd name="adj2" fmla="val 550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2160" y="556272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Tick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ecff"/>
                </a:solidFill>
                <a:latin typeface="Verdana"/>
              </a:rPr>
              <a:t>ta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90800" y="43750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73680" y="31240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1905120"/>
            <a:ext cx="838080" cy="304560"/>
          </a:xfrm>
          <a:prstGeom prst="leftArrow">
            <a:avLst>
              <a:gd name="adj1" fmla="val 50000"/>
              <a:gd name="adj2" fmla="val 6879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82600" y="21654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Tehnologija Trading Floor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temelji se na najsuvremenijoj tehnologi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apacitet burze – trgovina 6 milijardi dionica po da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dosadašnji rekord - 2,37 milijardi dionica po danu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(listopad 2001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SuperDOT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(Designated Order Turnaround Syste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Broker Booth Support System 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(BBSS)</a:t>
            </a: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5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9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9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3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7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Tehnologija Trading Floor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3-D Trading Floor</a:t>
            </a:r>
            <a:r>
              <a:rPr b="0" lang="hr-HR" sz="28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Network NY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Direct+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e-Brok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MarkeTrac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Ostal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(NYSEnet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Institutional XPress…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Consolidated Tape System (CT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3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7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1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5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9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3500"/>
                            </p:stCondLst>
                            <p:childTnLst>
                              <p:par>
                                <p:cTn id="9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3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4000"/>
                            </p:stCondLst>
                            <p:childTnLst>
                              <p:par>
                                <p:cTn id="9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7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4500"/>
                            </p:stCondLst>
                            <p:childTnLst>
                              <p:par>
                                <p:cTn id="9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1" dur="5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rijednosnice na NYS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41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3558 vrijednosnica kompan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2745 domaćih i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475 strani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2563 izdanja običnih dion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363 izdanja preferencijalnih dion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627 izdanja izveden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5 izdanja varan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1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9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3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7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Obveznice kotirane na NYS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trguje se preko Exchange's Automated Bond System (AB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više 2000 izdanja obvezn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orporativne (najveći udi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85% su čiste (nekonvertibilne obveznic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15% su konvertibilne obvezn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agencijs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držav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0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7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1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5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9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3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ccecff"/>
                </a:solidFill>
                <a:latin typeface="Arial"/>
              </a:rPr>
              <a:t>New York Futures Exchange</a:t>
            </a: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 (NYFE)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družnica NYSE za terminsku trgovin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lutama (¥ $ £ € CHF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žavnim i agencijskim vrijednosnim papir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rtifikatima o depozi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rminskim ugovorima na temelju burzovnih indek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7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igurnosni sustav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Insider trading – protuzakoni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Stock Wat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ompjutorski sustav koji konstantno prati trgovanje i automatski označava neuobičajenu količinu ili cijenu za bilo koju dionic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VIJSNI RAZV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792. Buttonwood Tree Agre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17. New York Stock and Exchange Bo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63 NY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adzorna piramid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248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ffff"/>
                </a:solidFill>
                <a:latin typeface="Verdana"/>
              </a:rPr>
              <a:t>Sporov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Verdana"/>
              </a:rPr>
              <a:t>arbitraža</a:t>
            </a: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 – omogućava rješavanje sporova brzo i pravedno od strane nepristranih oso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ffffff"/>
                </a:solidFill>
                <a:latin typeface="Verdana"/>
              </a:rPr>
              <a:t>Securities Investor Protection Corporation (SIP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osnovao ju je Kong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okriva troškove od 500.000 $ po osob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5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9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3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7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iranje cij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717200"/>
            <a:ext cx="54864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Na cijenu dionice utječe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ponuda i potražnja za tom dionic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financijska stabilnost kompan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stanje sektora u kojem se nalazi kompani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trendovi u gospodarstv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bull mar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bear mar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svjetski i nacionalni događa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3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7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1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9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3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7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eks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Composite Index (NY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U.S. 100 Index (NY.I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International 100 Index (NYI.I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World Leaders Index (NYL.I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TMT Index (NYY.I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NYSE Sector Index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7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1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5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9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Composite Index (NYA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reiran 1966. god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jeri zajedničko kretanje svih dionica koje su uvrštene na NY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mogućuje investitorima da prate trendove unutar američkog tržiš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dopunjuje ga ostalih 5 indek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U.S. 100 Index (NY.I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jeri kretanje 100 najvećih američkih dionica uvrštenih na NY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sastoji se od blue-chip kompanija koje zadovoljavaju visoke kriterije uvrštavanja na NY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78487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9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International 100 Index (NYI.I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ključuje 100 najvećih neameričkih dionica kojima se trguje na NY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84582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0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"/>
                            </p:stCondLst>
                            <p:childTnLst>
                              <p:par>
                                <p:cTn id="12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World Leaders Index (NYL.I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jeri kretanja 200 vodećih kompanija iz 10 industrijskih sektora i svih regija svije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845820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Technology-Media-Telecom (TMT) Index (NYY.I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mogućuje investitorima praćenje kretanja dionica 100 vodećih kompanija tehnološkog sekto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61084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NYSE Sector Index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kreirani su 8. siječnja 2004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sastoji se od 3 pojedinačna index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Energy Index</a:t>
            </a:r>
            <a:r>
              <a:rPr b="0" lang="hr-HR" sz="2400" spc="-1" strike="noStrike" baseline="30000">
                <a:solidFill>
                  <a:srgbClr val="ffffff"/>
                </a:solidFill>
                <a:latin typeface="Verdana"/>
              </a:rPr>
              <a:t>SM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 - NYE.I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Financial Index</a:t>
            </a:r>
            <a:r>
              <a:rPr b="0" lang="hr-HR" sz="2400" spc="-1" strike="noStrike" baseline="30000">
                <a:solidFill>
                  <a:srgbClr val="ffffff"/>
                </a:solidFill>
                <a:latin typeface="Verdana"/>
              </a:rPr>
              <a:t>SM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 - NYK.I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NYSE Healthcare Index</a:t>
            </a:r>
            <a:r>
              <a:rPr b="0" lang="hr-HR" sz="2400" spc="-1" strike="noStrike" baseline="30000">
                <a:solidFill>
                  <a:srgbClr val="ffffff"/>
                </a:solidFill>
                <a:latin typeface="Verdana"/>
              </a:rPr>
              <a:t>SM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 - NYP.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KRA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500"/>
                            </p:stCondLst>
                            <p:childTnLst>
                              <p:par>
                                <p:cTn id="13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7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5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3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VIJESNI RAZV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65. 10 Broad Stre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78. telef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886. promet preko 1 mil. US$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VIJESNI RAZVOJ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15. Promijenjen sustav kotacija cije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66. Kompozitni inde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67. Prva žena č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92. – 200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bljetnic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YSE DAN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jveća svjetska bur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366 člano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558 vrijednosn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800 tvrtk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nevni prosjek trgovanja iznosi preko 1.2 mlrd dion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2 0.014 -0.02797 0.021 -0.04661 C 0.04 -0.09988 0.045 -0.15182 0.031 -0.15982 C 0.017 -0.16914 -0.01 -0.13185 -0.029 -0.07858 C -0.039 -0.05061 -0.045 -0.02397 -0.047 -0.004 C -0.05 0.01199 -0.051 0.02797 -0.051 0.04661 C -0.051 0.10654 -0.038 0.15582 -0.023 0.15582 C -0.008 0.15582 0.005 0.10654 0.005 0.04661 C 0.005 0.01865 0.002 -0.00799 -0.003 -0.02664 C -0.005 -0.04262 -0.01 -0.05993 -0.016 -0.07724 C -0.036 -0.13185 -0.063 -0.16914 -0.077 -0.15982 C -0.091 -0.15049 -0.086 -0.09988 -0.066 -0.04528 C -0.058 -0.01998 -0.047 0.00133 -0.036 0.01598 C -0.028 0.0293 -0.019 0.04129 -0.007 0.05327 C 0.029 0.09189 0.065 0.10921 0.075 0.09323 C 0.084 0.07724 0.064 0.03329 0.028 -0.004 C 0.013 -0.01998 -0.003 -0.03196 -0.016 -0.03995 C -0.028 -0.04794 -0.043 -0.0546 -0.059 -0.0586 C -0.103 -0.07192 -0.141 -0.06792 -0.144 -0.04661 C -0.148 -0.02664 -0.115 0 -0.071 0.01332 C -0.051 0.01865 -0.032 0.02131 -0.017 0.01998 C -0.004 0.01998 0.01 0.01731 0.025 0.01332 C 0.069 0 0.102 -0.02797 0.098 -0.04794 C 0.095 -0.06792 0.057 -0.07325 0.013 -0.05993 C -0.008 -0.05327 -0.027 -0.04395 -0.04 -0.03329 C -0.051 -0.0253 -0.062 -0.01598 -0.074 -0.004 C -0.109 0.03463 -0.13 0.07724 -0.12 0.09323 C -0.111 0.10921 -0.074 0.09189 -0.039 0.0546 C -0.022 0.03596 -0.008 0.01731 0 0 Z">
                                      <p:cBhvr>
                                        <p:cTn id="16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600"/>
                            </p:stCondLst>
                            <p:childTnLst>
                              <p:par>
                                <p:cTn id="1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600"/>
                            </p:stCondLst>
                            <p:childTnLst>
                              <p:par>
                                <p:cTn id="1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600"/>
                            </p:stCondLst>
                            <p:childTnLst>
                              <p:par>
                                <p:cTn id="1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600"/>
                            </p:stCondLst>
                            <p:childTnLst>
                              <p:par>
                                <p:cTn id="1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600"/>
                            </p:stCondLst>
                            <p:childTnLst>
                              <p:par>
                                <p:cTn id="2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ISIJ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davanje vrijednosti kapita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ticanje povjerenja i razumijevanja procesa trgova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uženje kao forum za relevantna pitanja nacionalne i međunarodne politik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ORGANIZACIJ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17. 12. 2003. SEC je odobrio promjene u nadzornoj hijerarhi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Board of Direc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Board of Execut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CEO - John A. Th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ČLANOV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oduzeće ili pojedinac koje kupi mjesto na burz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ešetarsko-trgovinske tvrtke, slobodni trgovci i specijalist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Prvi članovi bili su osnivači burze – njih 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Cijena mjest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1800. – 25 $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1999. – 2,65 mil. $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danas – 1,5 mil. $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17:40:49Z</dcterms:created>
  <dc:creator>Dina</dc:creator>
  <dc:description/>
  <dc:language>en-US</dc:language>
  <cp:lastModifiedBy>Dina</cp:lastModifiedBy>
  <dcterms:modified xsi:type="dcterms:W3CDTF">2004-05-11T14:38:29Z</dcterms:modified>
  <cp:revision>55</cp:revision>
  <dc:subject/>
  <dc:title>Slide 1</dc:title>
</cp:coreProperties>
</file>