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731C-BA88-431E-A1FF-DE9D5CC28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B8EE-60FB-4F39-9090-FD421425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1056-EFD6-4B32-AE72-2103F52C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3747-3578-4A4F-9F5C-8C51DC7C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3667-F79D-4717-A2C8-75B2FE21D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4973-3C48-4CBF-B35A-0FFAF186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C854-5766-439A-A9B7-B6F8923F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11D7-3CBB-44CB-92E9-351C4F39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B0A0-FD2E-486C-A3CD-9815BC47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49A9-C7D4-4C51-B9D7-1E9526CB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4833-39E4-4686-A95F-BC2900A7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EB9F-6B87-4D0B-B313-1F276C98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9A85-F9E3-49DC-B2B5-444ED04E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6F04-ED5F-465D-9887-A6BC9127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93CF-3C39-459C-BA69-C7F45D3F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3CC3-2AB1-48EB-89E2-D30792EB0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EC29-3AC8-4CEB-88A2-34F719658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9CD7-8D13-41BC-8FB1-7E99955B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E4D7-C01C-48C6-99D5-80569009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C3B5-CA31-4AA8-9CDC-893EC4FC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FE1A-4B46-413E-BA1B-CB1B45F3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DF4C-773E-41BB-A07B-545EDFF3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498E-7B12-4053-8369-D84F5F71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B864-BDC9-4A90-8093-DDE9A320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8738-A71F-4FB3-BBFB-936FC1F022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C39D-B283-49A4-A5E9-477CA587CF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4960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9ff17"/>
                </a:solidFill>
                <a:latin typeface="Times New Roman"/>
              </a:rPr>
              <a:t>JAPANSKA  PROIZVODNA </a:t>
            </a:r>
            <a:br>
              <a:rPr sz="5400"/>
            </a:br>
            <a:r>
              <a:rPr b="1" lang="en-US" sz="5400" spc="-1" strike="noStrike">
                <a:solidFill>
                  <a:srgbClr val="e9ff17"/>
                </a:solidFill>
                <a:latin typeface="Times New Roman"/>
              </a:rPr>
              <a:t>FILOZOFIJA</a:t>
            </a:r>
            <a:r>
              <a:rPr b="0" lang="en-US" sz="4800" spc="-1" strike="noStrike">
                <a:solidFill>
                  <a:srgbClr val="7b46d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68360" y="4076280"/>
            <a:ext cx="813744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8000" spc="-1" strike="noStrike">
                <a:solidFill>
                  <a:srgbClr val="ffffff"/>
                </a:solidFill>
                <a:latin typeface="Times New Roman"/>
              </a:rPr>
              <a:t>20 KLJUČEVA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Odabrane međunarodne reference (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u="sng">
                <a:solidFill>
                  <a:srgbClr val="e9ff17"/>
                </a:solidFill>
                <a:uFillTx/>
                <a:latin typeface="Times New Roman"/>
              </a:rPr>
              <a:t>Uključujući i 60 tvrtki u Sloveniji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orenje, Velenje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(kućanski aparat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kraemeco, Kranj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(electrical met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va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Kranj 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(guma, kemijski proizvodi, trgovina, turizam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grad,Velenje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(građevinarstv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anika, Kranj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(obuć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Nazarje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(mali aparati za kućanstv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eklarna Hrastnik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, Hrastnik (stakl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v, Postojna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(plastik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lo tiskarna, Ljubljana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(tiskanj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kroj, Mozirje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(odjeć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dilnica Litija, Litija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(predionic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ogt, Bl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ejsk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Dobrava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(automobilski dijelov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kra Mehanizmi, Lipnica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(elektronik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denska Zdravilišče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Radenci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(topli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dravilišče Laško, Laško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(topli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0 ključeva u Hrvatskoj (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e9ff17"/>
                </a:solidFill>
                <a:uFillTx/>
                <a:latin typeface="Times New Roman"/>
              </a:rPr>
              <a:t>Primjenjuje je i 50 hrvatskih tvrtki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7b46d0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Badel 186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Chrom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7b46d0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0000"/>
                </a:solidFill>
                <a:latin typeface="Times New Roman"/>
              </a:rPr>
              <a:t>Đuro Đaković Specijalna vozila d.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7b46d0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Em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Euroc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Kord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Kra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Potoma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Spač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Vart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Končar metalne konstruk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Končar generator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Končar mali električni strojev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Končar elektroni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Lab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0 ključeva u Hrvatskoj (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7b46d0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Ivanč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Čat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Pell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7b46d0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0000"/>
                </a:solidFill>
                <a:latin typeface="Times New Roman"/>
              </a:rPr>
              <a:t>Đuro Đaković Aparati d.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7b46d0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Es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Dilj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Are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7b46d0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0000"/>
                </a:solidFill>
                <a:latin typeface="Times New Roman"/>
              </a:rPr>
              <a:t>Đuro Đaković Montaža d.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7b46d0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Zrinsk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Borovo kožna obuć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Zračna luka Zagre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Hoteli Baš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Sig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Luka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Modern 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T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BM Euromo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0 ključeva u Hrvatskoj (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7b46d0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Holci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Rav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Zagor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Gale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Uljanik strojograd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Pri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IKS PAVI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Končar Električna vozi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Končar Kućanski apara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Automehani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F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Bionatu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Piram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Dalstroj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Trgome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LipaM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ZG Ho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Gradska Plinara Zagre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rvatski program – osnovne karakterist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1500"/>
              </a:spcAft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vesticija hrvatske Vlade u ovaj program je 2 milijuna Eura kroz period od 3 god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1500"/>
              </a:spcAft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odišnji neto trošak za dvogodišnje sudjelovanje u programu u rasponu od 30,000 EUR za manje tvrtke do 150,000 EUR za veće tvrt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1500"/>
              </a:spcAft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nistarstvo sudjeluje u financiranju programa putem povrata 40% troško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1500"/>
              </a:spcAft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financiranje je ograničeno na tvrtke koje imaju stabilnu poslovnu osnovu i zadovoljavaju određene kriteri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1500"/>
              </a:spcAft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 I krug bilo je uključeno 10 tvrtki, u II 23, a ukupno je pristupilo 50 tvrtk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azivi pojedinih ključeva (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Racionalizacija sustava / Usklađivanje cilje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Čišćenje i organiziran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Aktivnosti u malim grup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Smanjenje međufaznih zalih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Tehnologija brzih promjena / prilagodba alata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Kaizen operacija (poboljšanje operacij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Proizvodnja bez nadgledan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Spajanje / vezanje proizvodn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Održavanje strojeva i opr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Radna discipl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azivi pojedinih ključeva (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1.</a:t>
            </a:r>
            <a:r>
              <a:rPr b="1" lang="en-US" sz="2400" spc="-1" strike="noStrike">
                <a:solidFill>
                  <a:srgbClr val="7b46d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amstvo kvalit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2. Razvijanje kvalitete dobavljač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3. Eliminiranje gubitaka i rasip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4. Ovlaštenje zaposlenika za poboljšan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5. Svestranost vještina i unakrsna obu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6. Planiranje proizvodn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7. Kontrola efikas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8. Upotreba informacijske tehnologi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9. Štednja energije i materij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. Vodeća tehnologija i potrebne vješt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b46d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ljuč 1: Čišćenje i organizir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7040" y="2280960"/>
            <a:ext cx="7929720" cy="35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t ovog ključa, jednog od četiri stupa nositelja cije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grama, je olakšavanje posla sustavnom primjen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hnike čišćenja i organiziranj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vaj ključ stvara funkcionalna radna mjesta koji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 ljudi zadovoljniji, što istovremeno vodi 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većanja produktivnost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ljuč 2: Racionalizacija sustava /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Usklađivanje cilje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7040" y="2571840"/>
            <a:ext cx="7929720" cy="27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lavni cilj ovog ključa je definirati mjerljive ciljeve z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ve razine upravljanja koji su u skladu sa strateškim ciljem tvrtk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ljuč 2 osnažuje sustav upravljanja poduzeć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ljuč 3: Aktivnosti u malim grup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7040" y="2355480"/>
            <a:ext cx="7929720" cy="32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Aktivnosti u malim grupama povećavaju znanje zaposlenika i potiču poboljšanja radnih mjesta, a fokusiraju se na poboljšanja tamo gdje se odvij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stvarni posa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Za uspjeh ovog ključa nužno je da manageri aktivno podrže i ohrabre zaposlenike koji predlažu sugestij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ff17"/>
                </a:solidFill>
                <a:latin typeface="Times New Roman"/>
              </a:rPr>
              <a:t>Japanska  proizvodna filozofija</a:t>
            </a:r>
            <a:r>
              <a:rPr b="0" lang="en-US" sz="4800" spc="-1" strike="noStrike">
                <a:solidFill>
                  <a:srgbClr val="7b46d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68360" y="1844280"/>
            <a:ext cx="81374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4360" y="1792440"/>
            <a:ext cx="755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1341360"/>
            <a:ext cx="7777440" cy="54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apa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isoki stupanj automatiziranja proizvodnj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“tvornice bez ljudi”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ces racionalizacij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bog izuzetno značajnih rezultata u povećanju efikasnosti proizvodnje, proces racionalizacij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 svijetu je poznat ka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Japanska proizvodna  filozofij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ljuč 4: Smanjivanje međufaznih zali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7040" y="2426760"/>
            <a:ext cx="7929720" cy="31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eća količina nedovršenog rada u procesu stvara negativne financijske učinke, a ima i druge negativne indirektne učink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manjivanje količine nedovršenog rada i zaliha u procesu, ukazat će i na sve probleme i nepotrebne aktivnosti, čije uklanjanje omogućuje poboljšanje efikasnost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ljuč 5: Tehnologija brzih promjena / prilagodba al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7040" y="2499840"/>
            <a:ext cx="792972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ljuč konkurentnosti tvrtke leži u fleksibilnosti i ispunjavanju zahtjeva kupaca, a ključ 5 cilja upravo na poboljšanje tih dviju komponenata, ujedno smanjujući vrijeme potrebno za promjene alata u proizvodnim tvrtkama te vrijeme prelaska s jednog procesa na drug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 uslužnim djelatnost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Times New Roman"/>
              </a:rPr>
              <a:t>Ključ 6: Kaizen (poboljšanje) oper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Bit ovog ključa je da poticanje sustavnih, a ne ad hoc, poboljšanja na razini procesa može dramatično povećati produktivno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Analiziranjem operacija koje dodaju vrijednost, kombiniranjem i pojednostavljenjem operacija ili njihovim eliminiranjem, poboljšavaju se realni troškovi i proizvodno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Izvrsnost proizvoda i usluga ojačava se procesom sastavljenim samo od aktivnosti koje dodaju vrijedno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ljuč 7: Proizvodnja bez nadgledan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6880" y="2355480"/>
            <a:ext cx="792972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Ključ 7 koncentrira se na postizanje 0 stope grešaka u proizvodnj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Poboljšavanjem strojeva i opreme eliminira se monitoring cijelog ciklusa, pa rad strojeva ne iziskuje nikakvu kontrolu, što omogućava proizvodnju kvalitetnih proizvoda bez grešk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ljuč 8: Vezana proizvodn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7040" y="2138040"/>
            <a:ext cx="792972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Bit ovog ključa jest uspostava ujednačenog, brzog tijeka procesa, vizualnim upravljanjem razinom zaliha i uvođenjem učinkovite komunikacije i suradnje između upstream i downstream proc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Kontinuirana optimizacija postiže se kombiniranjem i pojednostavljenjem procesa i proizvodnih linija te eliminiranjem nepotrebnih zalih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ljuč 9: Održavanje strojeva i opre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6880" y="2500200"/>
            <a:ext cx="7929720" cy="26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državanje strojeva i opreme učinkovito je ako se provodi kao zajednički zadatak radnika na strojevima i odjela održavan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ilj je povećati stopu operativnosti opreme (EOR) ili ukupnu stopu učinkovitosti opreme (OEE) na više od 95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ljuč 10: Radna discipl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17040" y="2281320"/>
            <a:ext cx="792972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vaj ključ je usmjeren na stvaranje pozitivne radne atmosfere, kvalitetnog reda u radu i visokog stupnja posvećenosti posl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ljuč 11: Jamstvo kvalit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7040" y="2426760"/>
            <a:ext cx="79297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snovni koncept ovog ključa je postizanje kvalitete procesa, uključivanjem djelatnika iz proizvodnog proc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ilj je stvoriti radnu okolinu usredotočenu na kvalitetu i na prevenciju grešaka i usmjerenu na otkrivanje temeljnog uzroka problema i razvijanje proizvodnje bez grešak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ljuč 12: Razvijanje kvalitete dobavljač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7040" y="2209680"/>
            <a:ext cx="7929720" cy="36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Ovaj ključ proširuje poboljšanje kvalitete i unapređenje radnih mjesta na dobavljače, zbog sveukupne koristi koja se tako postiže u lancu dobavljača i kupa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Dobavljači su zrcalna slika tvrtke; npr. Ako vaši dobavljači dostavljaju komponente slabe kvalitete, ako informacije ili usluge stižu s kašnjenjem, to će sigurno rezultirati kašnjenjima i problemima s kvalitetom u vašem pogon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2320" y="336240"/>
            <a:ext cx="79790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ljuč 13: Eliminiranje gubita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7040" y="2138040"/>
            <a:ext cx="792972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t ovog ključa je stvaranje pozitivnog stava prema identificiranju i eliminiranju gubitaka već u samoj proizvodnj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todologija se temelji na participativnom pristupu svih, koji identificiranje gubitaka vide kao mogućnost unapređen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ff17"/>
                </a:solidFill>
                <a:latin typeface="Times New Roman"/>
              </a:rPr>
              <a:t>Japanska  proizvodna filozofija</a:t>
            </a:r>
            <a:r>
              <a:rPr b="0" lang="en-US" sz="4800" spc="-1" strike="noStrike">
                <a:solidFill>
                  <a:srgbClr val="7b46d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68360" y="1844280"/>
            <a:ext cx="81374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4360" y="1792440"/>
            <a:ext cx="755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1628640"/>
            <a:ext cx="8280360" cy="49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Dvije su osnovne pretpostavke za ostvarenje japanske proizvodne filozofij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odbojnost prema rasipanju koja je nastala iz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duboke svijesti o nedostatku prirodnih resurs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razvijene navike i urođeni entuzijazam z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kontinuiranim poboljšanjem postojećeg (Kaize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ljuč 14: Ovlaštenje zaposlenika za poboljšan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49360" y="2280960"/>
            <a:ext cx="7927920" cy="26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snovna svrha ovoga ključa je olakšati radne zadatke i promovirati poboljšan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snovna metodologija je stvaranje radionice za poboljšanje i ovlaštenje ljudi da koriste tu radionicu za osmišljavanje i primjenu vlastitih poboljšan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ljuč 15: Svestranost vještina i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akrsna obu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49360" y="1991880"/>
            <a:ext cx="7927920" cy="40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Brza reakcija na zahtjeve klijenata zahtijeva fleksibilnost radnih mjesta pa je ovaj ključ usredotočen na razvoj zaposlenika kako bi mogli uspješno odgovoriti izazov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Unakrsna obuka i svestranost vještina koriste i organizaciji i zaposlenicima, koji postaju vredniji za organizaciju i zadovoljniji poslo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Unakrsna obuka se planira i odvija na nivou grup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ljuč 16: Planiranje proizvod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7040" y="2209680"/>
            <a:ext cx="792972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vaj ključ se bavi načinom na koji organizacija efikasnim planiranjem proizvodnje i kontrolom procesa osigurava pravovremenu isporuku svojih proizvoda klijent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ljuč 17: Kontrola efikas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t ovoga ključa je motiviranje zaposlenika za ostvarenje realističnih rezultat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ažno je da zaposlenici, paralelno s ostvarenjem poboljšane efikasnosti neprestano sami određuju nove cilje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vo nije kontrola efikasnosti nametnuta od strane menadžmenta, već je ovo vizualno isticanje rezultata efikasnosti na lako razumljiv i relevantan način, u svakoj točki proizvodnje, kako bi se poboljšanja proizvodnosti mogla mjeriti i nagradit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ljuč 18: Upotreba informacijske tehnologi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7040" y="2499840"/>
            <a:ext cx="7929720" cy="23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judski faktor je obično najveće usko grlo kod razvoja informacijskih sustav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azvoj računalnog softvera i aplikacija koordinira se i kroz druge ključeve s unapređenjem efikasnosti proc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ljuč 19: Štednja energije i materija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7040" y="2280960"/>
            <a:ext cx="79297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t ovog ključa je da se štednjom energije i materijala, poboljšanjem iskoristivosti materijala odnosno smanjenjem gubitaka, mogu postići velike uštede u cijelom sustav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ljuč 20: Vodeća tehnologija i potrebne vješt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7040" y="2280960"/>
            <a:ext cx="792972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vaj ključ je usmjeren na usporedbu s najboljom praksom specifične industrij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ko se dobivaju informacije o tome što je kritično za razvoj tehnologije specifične tvrtke ili industrije, pri čemu su vrlo važni brzina razvoja tehnološke podrške uključujući dizajn procesa i proizvoda te sposobnost zaposlenika da savladaju vještine korištenja nove tehnologij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Times New Roman"/>
              </a:rPr>
              <a:t>Konfiguracija ciljev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0 </a:t>
            </a:r>
            <a:r>
              <a:rPr b="1" lang="hr-HR" sz="3200" spc="-1" strike="noStrike">
                <a:solidFill>
                  <a:srgbClr val="ffffff"/>
                </a:solidFill>
                <a:latin typeface="Times New Roman"/>
              </a:rPr>
              <a:t>ključe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987640" y="907920"/>
            <a:ext cx="5422680" cy="5603760"/>
            <a:chOff x="2987640" y="907920"/>
            <a:chExt cx="5422680" cy="5603760"/>
          </a:xfrm>
        </p:grpSpPr>
        <p:grpSp>
          <p:nvGrpSpPr>
            <p:cNvPr id="246" name=""/>
            <p:cNvGrpSpPr/>
            <p:nvPr/>
          </p:nvGrpSpPr>
          <p:grpSpPr>
            <a:xfrm>
              <a:off x="2987640" y="907920"/>
              <a:ext cx="5422320" cy="1739880"/>
              <a:chOff x="2987640" y="907920"/>
              <a:chExt cx="5422320" cy="1739880"/>
            </a:xfrm>
          </p:grpSpPr>
          <p:sp>
            <p:nvSpPr>
              <p:cNvPr id="247" name=""/>
              <p:cNvSpPr/>
              <p:nvPr/>
            </p:nvSpPr>
            <p:spPr>
              <a:xfrm>
                <a:off x="3009960" y="929880"/>
                <a:ext cx="1324080" cy="44460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426120" y="1028520"/>
                <a:ext cx="3358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hr-HR" sz="1700" spc="-1" strike="noStrike">
                    <a:solidFill>
                      <a:srgbClr val="ffffff"/>
                    </a:solidFill>
                    <a:latin typeface="Arial"/>
                  </a:rPr>
                  <a:t>Cilj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341960" y="929880"/>
                <a:ext cx="4045680" cy="44460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952960" y="1028520"/>
                <a:ext cx="11908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700" spc="-1" strike="noStrike">
                    <a:solidFill>
                      <a:srgbClr val="ffffff"/>
                    </a:solidFill>
                    <a:latin typeface="Arial"/>
                  </a:rPr>
                  <a:t>20 K</a:t>
                </a:r>
                <a:r>
                  <a:rPr b="1" i="1" lang="hr-HR" sz="1700" spc="-1" strike="noStrike">
                    <a:solidFill>
                      <a:srgbClr val="ffffff"/>
                    </a:solidFill>
                    <a:latin typeface="Arial"/>
                  </a:rPr>
                  <a:t>ljučeva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987640" y="907920"/>
                <a:ext cx="792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987640" y="907920"/>
                <a:ext cx="180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987640" y="907920"/>
                <a:ext cx="22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987640" y="907920"/>
                <a:ext cx="22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003480" y="923760"/>
                <a:ext cx="648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003480" y="923760"/>
                <a:ext cx="6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003480" y="923760"/>
                <a:ext cx="180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03480" y="923760"/>
                <a:ext cx="648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003480" y="923760"/>
                <a:ext cx="6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003480" y="923760"/>
                <a:ext cx="180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009960" y="907920"/>
                <a:ext cx="13240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009960" y="907920"/>
                <a:ext cx="1324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09960" y="923760"/>
                <a:ext cx="132408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009960" y="923760"/>
                <a:ext cx="1324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334040" y="907920"/>
                <a:ext cx="219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334040" y="907920"/>
                <a:ext cx="219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334040" y="923760"/>
                <a:ext cx="2196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334040" y="923760"/>
                <a:ext cx="219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356360" y="907920"/>
                <a:ext cx="4031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356360" y="907920"/>
                <a:ext cx="4031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356360" y="923760"/>
                <a:ext cx="403164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356360" y="923760"/>
                <a:ext cx="4031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402040" y="907920"/>
                <a:ext cx="792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402040" y="907920"/>
                <a:ext cx="180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388000" y="907920"/>
                <a:ext cx="219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388000" y="907920"/>
                <a:ext cx="219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388000" y="923760"/>
                <a:ext cx="612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388000" y="923760"/>
                <a:ext cx="6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8388000" y="923760"/>
                <a:ext cx="14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388000" y="923760"/>
                <a:ext cx="612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388000" y="923760"/>
                <a:ext cx="6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388000" y="923760"/>
                <a:ext cx="14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987640" y="929880"/>
                <a:ext cx="7920" cy="444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987640" y="929880"/>
                <a:ext cx="1800" cy="44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003480" y="929880"/>
                <a:ext cx="6480" cy="444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003480" y="929880"/>
                <a:ext cx="1800" cy="44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334040" y="929880"/>
                <a:ext cx="7920" cy="444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334040" y="929880"/>
                <a:ext cx="1440" cy="44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388000" y="929880"/>
                <a:ext cx="6120" cy="444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388000" y="929880"/>
                <a:ext cx="1440" cy="44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402040" y="929880"/>
                <a:ext cx="7920" cy="444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402040" y="929880"/>
                <a:ext cx="1800" cy="44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41960" y="1374480"/>
                <a:ext cx="441360" cy="246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519080" y="14126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10000"/>
                    </a:solidFill>
                    <a:latin typeface="Arial"/>
                  </a:rPr>
                  <a:t>1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791600" y="1374480"/>
                <a:ext cx="3596400" cy="246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873680" y="1412640"/>
                <a:ext cx="1637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300" spc="-1" strike="noStrike">
                    <a:solidFill>
                      <a:srgbClr val="ffffff"/>
                    </a:solidFill>
                    <a:latin typeface="Arial"/>
                  </a:rPr>
                  <a:t>Čišćenje i organizacija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987640" y="1374480"/>
                <a:ext cx="7920" cy="24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987640" y="1374480"/>
                <a:ext cx="1800" cy="246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03480" y="1374480"/>
                <a:ext cx="6480" cy="24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003480" y="1374480"/>
                <a:ext cx="1800" cy="246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334040" y="1374480"/>
                <a:ext cx="7920" cy="24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334040" y="1374480"/>
                <a:ext cx="1440" cy="246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783680" y="1374480"/>
                <a:ext cx="7920" cy="24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783680" y="1374480"/>
                <a:ext cx="1440" cy="246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388000" y="1374480"/>
                <a:ext cx="6120" cy="24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8388000" y="1374480"/>
                <a:ext cx="1440" cy="246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402040" y="1374480"/>
                <a:ext cx="7920" cy="24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8402040" y="1374480"/>
                <a:ext cx="1800" cy="246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341960" y="1628640"/>
                <a:ext cx="441360" cy="2426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519080" y="16617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10000"/>
                    </a:solidFill>
                    <a:latin typeface="Arial"/>
                  </a:rPr>
                  <a:t>2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341960" y="1871280"/>
                <a:ext cx="441360" cy="3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791600" y="1628640"/>
                <a:ext cx="3596400" cy="2426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877280" y="1661760"/>
                <a:ext cx="3283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300" spc="-1" strike="noStrike">
                    <a:solidFill>
                      <a:srgbClr val="ffffff"/>
                    </a:solidFill>
                    <a:latin typeface="Arial"/>
                  </a:rPr>
                  <a:t>Racionalizacija sustava </a:t>
                </a:r>
                <a:r>
                  <a:rPr b="0" lang="en-US" sz="1300" spc="-1" strike="noStrike">
                    <a:solidFill>
                      <a:srgbClr val="ffffff"/>
                    </a:solidFill>
                    <a:latin typeface="Arial"/>
                  </a:rPr>
                  <a:t>/ </a:t>
                </a:r>
                <a:r>
                  <a:rPr b="0" lang="hr-HR" sz="1300" spc="-1" strike="noStrike">
                    <a:solidFill>
                      <a:srgbClr val="ffffff"/>
                    </a:solidFill>
                    <a:latin typeface="Arial"/>
                  </a:rPr>
                  <a:t>Usklađivanje ciljeva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791600" y="1871280"/>
                <a:ext cx="359640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987640" y="1620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87640" y="1620720"/>
                <a:ext cx="7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987640" y="1620720"/>
                <a:ext cx="180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03480" y="1620720"/>
                <a:ext cx="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003480" y="1620720"/>
                <a:ext cx="6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03480" y="1620720"/>
                <a:ext cx="180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334040" y="1620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334040" y="1620720"/>
                <a:ext cx="7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334040" y="162072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341960" y="1620720"/>
                <a:ext cx="441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341960" y="1620720"/>
                <a:ext cx="441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783680" y="1620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783680" y="1620720"/>
                <a:ext cx="7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783680" y="162072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91600" y="1620720"/>
                <a:ext cx="3596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91600" y="1620720"/>
                <a:ext cx="3596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8402040" y="1620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402040" y="1620720"/>
                <a:ext cx="7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402040" y="1620720"/>
                <a:ext cx="180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8388000" y="1620720"/>
                <a:ext cx="61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8388000" y="1620720"/>
                <a:ext cx="6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8388000" y="162072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987640" y="1628640"/>
                <a:ext cx="792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987640" y="1628640"/>
                <a:ext cx="180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003480" y="1628640"/>
                <a:ext cx="648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03480" y="1628640"/>
                <a:ext cx="180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334040" y="1628640"/>
                <a:ext cx="792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34040" y="1628640"/>
                <a:ext cx="144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783680" y="1628640"/>
                <a:ext cx="792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83680" y="1628640"/>
                <a:ext cx="144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8388000" y="1628640"/>
                <a:ext cx="612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8388000" y="1628640"/>
                <a:ext cx="144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8402040" y="1628640"/>
                <a:ext cx="792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8402040" y="1628640"/>
                <a:ext cx="180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341960" y="1882440"/>
                <a:ext cx="441360" cy="2430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519080" y="1915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10000"/>
                    </a:solidFill>
                    <a:latin typeface="Arial"/>
                  </a:rPr>
                  <a:t>3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341960" y="2125440"/>
                <a:ext cx="441360" cy="3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791600" y="1882440"/>
                <a:ext cx="3596400" cy="2430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875480" y="1915920"/>
                <a:ext cx="2021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300" spc="-1" strike="noStrike">
                    <a:solidFill>
                      <a:srgbClr val="ffffff"/>
                    </a:solidFill>
                    <a:latin typeface="Arial"/>
                  </a:rPr>
                  <a:t>Aktivnosti u malim grupama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791600" y="2125440"/>
                <a:ext cx="359640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987640" y="1874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987640" y="1874520"/>
                <a:ext cx="7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987640" y="1874520"/>
                <a:ext cx="180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003480" y="1874520"/>
                <a:ext cx="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003480" y="1874520"/>
                <a:ext cx="6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003480" y="1874520"/>
                <a:ext cx="180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334040" y="1874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334040" y="1874520"/>
                <a:ext cx="7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334040" y="187452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341960" y="1874520"/>
                <a:ext cx="441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341960" y="1874520"/>
                <a:ext cx="441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783680" y="1874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783680" y="1874520"/>
                <a:ext cx="7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783680" y="187452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91600" y="1874520"/>
                <a:ext cx="3596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791600" y="1874520"/>
                <a:ext cx="3596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402040" y="1874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402040" y="1874520"/>
                <a:ext cx="7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402040" y="1874520"/>
                <a:ext cx="180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388000" y="1874520"/>
                <a:ext cx="61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388000" y="1874520"/>
                <a:ext cx="6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388000" y="187452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987640" y="1882440"/>
                <a:ext cx="7920" cy="24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987640" y="1882440"/>
                <a:ext cx="1800" cy="246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003480" y="1882440"/>
                <a:ext cx="6480" cy="24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003480" y="1882440"/>
                <a:ext cx="1800" cy="246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334040" y="1882440"/>
                <a:ext cx="7920" cy="24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334040" y="1882440"/>
                <a:ext cx="1440" cy="246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83680" y="1882440"/>
                <a:ext cx="7920" cy="24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783680" y="1882440"/>
                <a:ext cx="1440" cy="246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388000" y="1882440"/>
                <a:ext cx="6120" cy="24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388000" y="1882440"/>
                <a:ext cx="1440" cy="246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8402040" y="1882440"/>
                <a:ext cx="7920" cy="24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8402040" y="1882440"/>
                <a:ext cx="1800" cy="246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009960" y="1374480"/>
                <a:ext cx="1324080" cy="24624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009960" y="1620720"/>
                <a:ext cx="1324080" cy="2124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338640" y="1650600"/>
                <a:ext cx="686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hr-HR" sz="1300" spc="-1" strike="noStrike">
                    <a:solidFill>
                      <a:srgbClr val="ffff00"/>
                    </a:solidFill>
                    <a:latin typeface="Arial"/>
                  </a:rPr>
                  <a:t>Osnažite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009960" y="1833120"/>
                <a:ext cx="1324080" cy="212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274560" y="1833120"/>
                <a:ext cx="1033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hr-HR" sz="1300" spc="-1" strike="noStrike">
                    <a:solidFill>
                      <a:srgbClr val="ffff00"/>
                    </a:solidFill>
                    <a:latin typeface="Arial"/>
                  </a:rPr>
                  <a:t>radno mjesto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009960" y="2045880"/>
                <a:ext cx="1324080" cy="3333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341960" y="2133360"/>
                <a:ext cx="441360" cy="245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474080" y="2169720"/>
                <a:ext cx="183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10000"/>
                    </a:solidFill>
                    <a:latin typeface="Arial"/>
                  </a:rPr>
                  <a:t>10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791600" y="2133360"/>
                <a:ext cx="3596400" cy="2458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872600" y="2169720"/>
                <a:ext cx="1207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300" spc="-1" strike="noStrike">
                    <a:solidFill>
                      <a:srgbClr val="ffffff"/>
                    </a:solidFill>
                    <a:latin typeface="Arial"/>
                  </a:rPr>
                  <a:t>Radna disciplina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987640" y="2125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987640" y="2125440"/>
                <a:ext cx="7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987640" y="2125440"/>
                <a:ext cx="180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03480" y="2125440"/>
                <a:ext cx="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003480" y="2125440"/>
                <a:ext cx="6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003480" y="2125440"/>
                <a:ext cx="180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34040" y="2125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334040" y="2125440"/>
                <a:ext cx="7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334040" y="212544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341960" y="2125440"/>
                <a:ext cx="441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341960" y="2125440"/>
                <a:ext cx="441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783680" y="2125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783680" y="2125440"/>
                <a:ext cx="7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783680" y="212544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791600" y="2125440"/>
                <a:ext cx="3596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791600" y="2125440"/>
                <a:ext cx="3596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402040" y="2125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402040" y="2125440"/>
                <a:ext cx="7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402040" y="2125440"/>
                <a:ext cx="180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388000" y="2125440"/>
                <a:ext cx="61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388000" y="2125440"/>
                <a:ext cx="6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388000" y="212544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987640" y="2133360"/>
                <a:ext cx="792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987640" y="2133360"/>
                <a:ext cx="180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003480" y="2133360"/>
                <a:ext cx="648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003480" y="2133360"/>
                <a:ext cx="180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334040" y="2133360"/>
                <a:ext cx="792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334040" y="2133360"/>
                <a:ext cx="144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783680" y="2133360"/>
                <a:ext cx="792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783680" y="2133360"/>
                <a:ext cx="144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8388000" y="2133360"/>
                <a:ext cx="612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8388000" y="2133360"/>
                <a:ext cx="144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402040" y="2133360"/>
                <a:ext cx="792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402040" y="2133360"/>
                <a:ext cx="180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341960" y="2401560"/>
                <a:ext cx="441360" cy="2430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519080" y="24364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10000"/>
                    </a:solidFill>
                    <a:latin typeface="Arial"/>
                  </a:rPr>
                  <a:t>7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341960" y="2644560"/>
                <a:ext cx="441360" cy="3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791600" y="2401560"/>
                <a:ext cx="3596400" cy="2430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875120" y="2436480"/>
                <a:ext cx="1811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300" spc="-1" strike="noStrike">
                    <a:solidFill>
                      <a:srgbClr val="ffffff"/>
                    </a:solidFill>
                    <a:latin typeface="Arial"/>
                  </a:rPr>
                  <a:t>Proizvodnja bez nadzora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791600" y="2644560"/>
                <a:ext cx="359640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987640" y="2379240"/>
                <a:ext cx="792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987640" y="23792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003480" y="2379240"/>
                <a:ext cx="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003480" y="2379240"/>
                <a:ext cx="6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03480" y="2379240"/>
                <a:ext cx="180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003480" y="2393640"/>
                <a:ext cx="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03480" y="2393640"/>
                <a:ext cx="6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03480" y="2393640"/>
                <a:ext cx="180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2987640" y="2379240"/>
              <a:ext cx="5422320" cy="1281240"/>
              <a:chOff x="2987640" y="2379240"/>
              <a:chExt cx="5422320" cy="1281240"/>
            </a:xfrm>
          </p:grpSpPr>
          <p:sp>
            <p:nvSpPr>
              <p:cNvPr id="448" name=""/>
              <p:cNvSpPr/>
              <p:nvPr/>
            </p:nvSpPr>
            <p:spPr>
              <a:xfrm>
                <a:off x="3009960" y="2379240"/>
                <a:ext cx="13240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009960" y="2379240"/>
                <a:ext cx="1324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009960" y="2393640"/>
                <a:ext cx="13240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009960" y="2393640"/>
                <a:ext cx="1324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34040" y="2379240"/>
                <a:ext cx="219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34040" y="2379240"/>
                <a:ext cx="219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334040" y="2393640"/>
                <a:ext cx="219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334040" y="2393640"/>
                <a:ext cx="219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356360" y="2379240"/>
                <a:ext cx="42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356360" y="2379240"/>
                <a:ext cx="427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356360" y="2393640"/>
                <a:ext cx="42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356360" y="2393640"/>
                <a:ext cx="427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783680" y="2379240"/>
                <a:ext cx="219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783680" y="2379240"/>
                <a:ext cx="219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783680" y="2393640"/>
                <a:ext cx="219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783680" y="2393640"/>
                <a:ext cx="219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805640" y="2379240"/>
                <a:ext cx="3582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805640" y="2379240"/>
                <a:ext cx="3582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805640" y="2393640"/>
                <a:ext cx="3582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805640" y="2393640"/>
                <a:ext cx="3582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8388000" y="2379240"/>
                <a:ext cx="61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388000" y="2379240"/>
                <a:ext cx="6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388000" y="237924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388000" y="2393640"/>
                <a:ext cx="61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388000" y="2393640"/>
                <a:ext cx="6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388000" y="239364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402040" y="2379240"/>
                <a:ext cx="792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402040" y="23792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987640" y="2401560"/>
                <a:ext cx="7920" cy="24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987640" y="2401560"/>
                <a:ext cx="1800" cy="246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003480" y="2401560"/>
                <a:ext cx="6480" cy="24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003480" y="2401560"/>
                <a:ext cx="1800" cy="246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334040" y="2401560"/>
                <a:ext cx="7920" cy="24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334040" y="2401560"/>
                <a:ext cx="1440" cy="246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783680" y="2401560"/>
                <a:ext cx="7920" cy="24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783680" y="2401560"/>
                <a:ext cx="1440" cy="246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388000" y="2401560"/>
                <a:ext cx="6120" cy="24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388000" y="2401560"/>
                <a:ext cx="1440" cy="246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402040" y="2401560"/>
                <a:ext cx="7920" cy="24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8402040" y="2401560"/>
                <a:ext cx="1800" cy="246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341960" y="2655720"/>
                <a:ext cx="441360" cy="2426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519080" y="26906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10000"/>
                    </a:solidFill>
                    <a:latin typeface="Arial"/>
                  </a:rPr>
                  <a:t>9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341960" y="2898360"/>
                <a:ext cx="441360" cy="3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791600" y="2655720"/>
                <a:ext cx="3596400" cy="2426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876560" y="2690640"/>
                <a:ext cx="2149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300" spc="-1" strike="noStrike">
                    <a:solidFill>
                      <a:srgbClr val="ffffff"/>
                    </a:solidFill>
                    <a:latin typeface="Arial"/>
                  </a:rPr>
                  <a:t>Održavanje strojeva i opreme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791600" y="2898360"/>
                <a:ext cx="359640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987640" y="2647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987640" y="2647800"/>
                <a:ext cx="7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987640" y="2647800"/>
                <a:ext cx="180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003480" y="2647800"/>
                <a:ext cx="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003480" y="2647800"/>
                <a:ext cx="6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003480" y="2647800"/>
                <a:ext cx="180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334040" y="2647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334040" y="2647800"/>
                <a:ext cx="7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334040" y="264780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341960" y="2647800"/>
                <a:ext cx="441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341960" y="2647800"/>
                <a:ext cx="441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783680" y="2647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783680" y="2647800"/>
                <a:ext cx="7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783680" y="264780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791600" y="2647800"/>
                <a:ext cx="3596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791600" y="2647800"/>
                <a:ext cx="3596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402040" y="2647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402040" y="2647800"/>
                <a:ext cx="7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8402040" y="2647800"/>
                <a:ext cx="180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388000" y="2647800"/>
                <a:ext cx="61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388000" y="2647800"/>
                <a:ext cx="6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388000" y="264780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987640" y="2655720"/>
                <a:ext cx="792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987640" y="2655720"/>
                <a:ext cx="180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003480" y="2655720"/>
                <a:ext cx="648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003480" y="2655720"/>
                <a:ext cx="180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334040" y="2655720"/>
                <a:ext cx="792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334040" y="2655720"/>
                <a:ext cx="144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783680" y="2655720"/>
                <a:ext cx="792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783680" y="2655720"/>
                <a:ext cx="144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388000" y="2655720"/>
                <a:ext cx="612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388000" y="2655720"/>
                <a:ext cx="144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402040" y="2655720"/>
                <a:ext cx="792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8402040" y="2655720"/>
                <a:ext cx="180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341960" y="2906280"/>
                <a:ext cx="441360" cy="246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474080" y="2944440"/>
                <a:ext cx="183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10000"/>
                    </a:solidFill>
                    <a:latin typeface="Arial"/>
                  </a:rPr>
                  <a:t>11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791600" y="2906280"/>
                <a:ext cx="3596400" cy="246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74040" y="2944440"/>
                <a:ext cx="1619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300" spc="-1" strike="noStrike">
                    <a:solidFill>
                      <a:srgbClr val="ffffff"/>
                    </a:solidFill>
                    <a:latin typeface="Arial"/>
                  </a:rPr>
                  <a:t>Osiguravanje kvalitete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987640" y="289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987640" y="2898360"/>
                <a:ext cx="7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987640" y="2898360"/>
                <a:ext cx="180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003480" y="2898360"/>
                <a:ext cx="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003480" y="2898360"/>
                <a:ext cx="6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003480" y="2898360"/>
                <a:ext cx="180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334040" y="289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334040" y="2898360"/>
                <a:ext cx="7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334040" y="289836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341960" y="2898360"/>
                <a:ext cx="441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41960" y="2898360"/>
                <a:ext cx="441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783680" y="289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783680" y="2898360"/>
                <a:ext cx="7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783680" y="289836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791600" y="2898360"/>
                <a:ext cx="3596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791600" y="2898360"/>
                <a:ext cx="3596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8402040" y="289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8402040" y="2898360"/>
                <a:ext cx="7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402040" y="2898360"/>
                <a:ext cx="180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388000" y="2898360"/>
                <a:ext cx="61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388000" y="2898360"/>
                <a:ext cx="6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388000" y="289836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987640" y="2906280"/>
                <a:ext cx="7920" cy="24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987640" y="2906280"/>
                <a:ext cx="1800" cy="246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003480" y="2906280"/>
                <a:ext cx="6480" cy="24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003480" y="2906280"/>
                <a:ext cx="1800" cy="246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334040" y="2906280"/>
                <a:ext cx="7920" cy="24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334040" y="2906280"/>
                <a:ext cx="1440" cy="246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783680" y="2906280"/>
                <a:ext cx="7920" cy="24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783680" y="2906280"/>
                <a:ext cx="1440" cy="246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388000" y="2906280"/>
                <a:ext cx="6120" cy="24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388000" y="2906280"/>
                <a:ext cx="1440" cy="246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402040" y="2906280"/>
                <a:ext cx="7920" cy="24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402040" y="2906280"/>
                <a:ext cx="1800" cy="246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341960" y="3160440"/>
                <a:ext cx="441360" cy="245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474080" y="3198600"/>
                <a:ext cx="183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10000"/>
                    </a:solidFill>
                    <a:latin typeface="Arial"/>
                  </a:rPr>
                  <a:t>12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791600" y="3160440"/>
                <a:ext cx="3596400" cy="2458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873320" y="3198600"/>
                <a:ext cx="1591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300" spc="-1" strike="noStrike">
                    <a:solidFill>
                      <a:srgbClr val="ffffff"/>
                    </a:solidFill>
                    <a:latin typeface="Arial"/>
                  </a:rPr>
                  <a:t>Razvijanje dobavljača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987640" y="3152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987640" y="3152520"/>
                <a:ext cx="7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987640" y="3152520"/>
                <a:ext cx="180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003480" y="3152520"/>
                <a:ext cx="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003480" y="3152520"/>
                <a:ext cx="6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003480" y="3152520"/>
                <a:ext cx="180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334040" y="3152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334040" y="3152520"/>
                <a:ext cx="7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334040" y="315252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341960" y="3152520"/>
                <a:ext cx="441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1960" y="3152520"/>
                <a:ext cx="441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783680" y="3152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783680" y="3152520"/>
                <a:ext cx="7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783680" y="315252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791600" y="3152520"/>
                <a:ext cx="3596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791600" y="3152520"/>
                <a:ext cx="3596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402040" y="3152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402040" y="3152520"/>
                <a:ext cx="7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8402040" y="3152520"/>
                <a:ext cx="180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8388000" y="3152520"/>
                <a:ext cx="61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8388000" y="3152520"/>
                <a:ext cx="6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388000" y="315252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987640" y="3160440"/>
                <a:ext cx="792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987640" y="3160440"/>
                <a:ext cx="180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003480" y="3160440"/>
                <a:ext cx="648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003480" y="3160440"/>
                <a:ext cx="180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334040" y="3160440"/>
                <a:ext cx="792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334040" y="3160440"/>
                <a:ext cx="144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783680" y="3160440"/>
                <a:ext cx="792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783680" y="3160440"/>
                <a:ext cx="144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388000" y="3160440"/>
                <a:ext cx="612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388000" y="3160440"/>
                <a:ext cx="144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402040" y="3160440"/>
                <a:ext cx="792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402040" y="3160440"/>
                <a:ext cx="180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009960" y="2401560"/>
                <a:ext cx="1324080" cy="4669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403440" y="2685600"/>
                <a:ext cx="9241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hr-HR" sz="1300" spc="-1" strike="noStrike">
                    <a:solidFill>
                      <a:srgbClr val="ffff00"/>
                    </a:solidFill>
                    <a:latin typeface="Arial"/>
                  </a:rPr>
                  <a:t>Poboljšanje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009960" y="2868480"/>
                <a:ext cx="1324080" cy="212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176640" y="286848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hr-HR" sz="1300" spc="-1" strike="noStrike">
                    <a:solidFill>
                      <a:srgbClr val="ffff00"/>
                    </a:solidFill>
                    <a:latin typeface="Arial"/>
                  </a:rPr>
                  <a:t>       </a:t>
                </a:r>
                <a:r>
                  <a:rPr b="1" i="1" lang="hr-HR" sz="1300" spc="-1" strike="noStrike">
                    <a:solidFill>
                      <a:srgbClr val="ffff00"/>
                    </a:solidFill>
                    <a:latin typeface="Arial"/>
                  </a:rPr>
                  <a:t>kvalitete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009960" y="3081240"/>
                <a:ext cx="1324080" cy="5760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341960" y="3414600"/>
                <a:ext cx="441360" cy="2426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474080" y="3447720"/>
                <a:ext cx="183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10000"/>
                    </a:solidFill>
                    <a:latin typeface="Arial"/>
                  </a:rPr>
                  <a:t>15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341960" y="3657240"/>
                <a:ext cx="441360" cy="3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791600" y="3414600"/>
                <a:ext cx="3596400" cy="2426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875840" y="3447720"/>
                <a:ext cx="2323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300" spc="-1" strike="noStrike">
                    <a:solidFill>
                      <a:srgbClr val="ffffff"/>
                    </a:solidFill>
                    <a:latin typeface="Arial"/>
                  </a:rPr>
                  <a:t>Korisnost vještina i razna obuka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791600" y="3657240"/>
                <a:ext cx="359640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987640" y="340632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987640" y="3406320"/>
                <a:ext cx="7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987640" y="3406320"/>
                <a:ext cx="1800" cy="8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003480" y="3406320"/>
                <a:ext cx="64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003480" y="3406320"/>
                <a:ext cx="6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003480" y="3406320"/>
                <a:ext cx="1800" cy="8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334040" y="340632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334040" y="3406320"/>
                <a:ext cx="7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334040" y="3406320"/>
                <a:ext cx="1440" cy="8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341960" y="3406320"/>
                <a:ext cx="441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341960" y="3406320"/>
                <a:ext cx="441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783680" y="340632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783680" y="3406320"/>
                <a:ext cx="7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783680" y="3406320"/>
                <a:ext cx="1440" cy="8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791600" y="3406320"/>
                <a:ext cx="35964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791600" y="3406320"/>
                <a:ext cx="3596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8402040" y="340632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402040" y="3406320"/>
                <a:ext cx="7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402040" y="3406320"/>
                <a:ext cx="1800" cy="8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388000" y="3406320"/>
                <a:ext cx="61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8388000" y="3406320"/>
                <a:ext cx="6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388000" y="3406320"/>
                <a:ext cx="1440" cy="8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987640" y="3414600"/>
                <a:ext cx="792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987640" y="3414600"/>
                <a:ext cx="180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003480" y="3414600"/>
                <a:ext cx="648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003480" y="3414600"/>
                <a:ext cx="180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334040" y="3414600"/>
                <a:ext cx="792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334040" y="3414600"/>
                <a:ext cx="144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783680" y="3414600"/>
                <a:ext cx="792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783680" y="3414600"/>
                <a:ext cx="144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8388000" y="3414600"/>
                <a:ext cx="612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388000" y="3414600"/>
                <a:ext cx="144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402040" y="3414600"/>
                <a:ext cx="792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2987640" y="3414600"/>
              <a:ext cx="5422320" cy="1523880"/>
              <a:chOff x="2987640" y="3414600"/>
              <a:chExt cx="5422320" cy="1523880"/>
            </a:xfrm>
          </p:grpSpPr>
          <p:sp>
            <p:nvSpPr>
              <p:cNvPr id="649" name=""/>
              <p:cNvSpPr/>
              <p:nvPr/>
            </p:nvSpPr>
            <p:spPr>
              <a:xfrm>
                <a:off x="8402040" y="3414600"/>
                <a:ext cx="180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341960" y="3679560"/>
                <a:ext cx="441360" cy="245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474080" y="3717720"/>
                <a:ext cx="183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10000"/>
                    </a:solidFill>
                    <a:latin typeface="Arial"/>
                  </a:rPr>
                  <a:t>13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791600" y="3679560"/>
                <a:ext cx="3596400" cy="2458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873320" y="3717720"/>
                <a:ext cx="1436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300" spc="-1" strike="noStrike">
                    <a:solidFill>
                      <a:srgbClr val="ffffff"/>
                    </a:solidFill>
                    <a:latin typeface="Arial"/>
                  </a:rPr>
                  <a:t>Uklanjanje gubitaka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987640" y="3657240"/>
                <a:ext cx="792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987640" y="36572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003480" y="3657240"/>
                <a:ext cx="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003480" y="3657240"/>
                <a:ext cx="6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003480" y="3657240"/>
                <a:ext cx="180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003480" y="3671640"/>
                <a:ext cx="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003480" y="3671640"/>
                <a:ext cx="6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003480" y="3671640"/>
                <a:ext cx="180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009960" y="3657240"/>
                <a:ext cx="13240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009960" y="3657240"/>
                <a:ext cx="1324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009960" y="3671640"/>
                <a:ext cx="13240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009960" y="3671640"/>
                <a:ext cx="1324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334040" y="3657240"/>
                <a:ext cx="219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334040" y="3657240"/>
                <a:ext cx="219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334040" y="3671640"/>
                <a:ext cx="219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334040" y="3671640"/>
                <a:ext cx="219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356360" y="3657240"/>
                <a:ext cx="42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356360" y="3657240"/>
                <a:ext cx="427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356360" y="3671640"/>
                <a:ext cx="42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356360" y="3671640"/>
                <a:ext cx="427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783680" y="3657240"/>
                <a:ext cx="219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783680" y="3657240"/>
                <a:ext cx="219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783680" y="3671640"/>
                <a:ext cx="219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783680" y="3671640"/>
                <a:ext cx="219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805640" y="3657240"/>
                <a:ext cx="3582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805640" y="3657240"/>
                <a:ext cx="3582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805640" y="3671640"/>
                <a:ext cx="3582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805640" y="3671640"/>
                <a:ext cx="3582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388000" y="3657240"/>
                <a:ext cx="61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388000" y="3657240"/>
                <a:ext cx="6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388000" y="365724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388000" y="3671640"/>
                <a:ext cx="61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8388000" y="3671640"/>
                <a:ext cx="6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388000" y="367164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402040" y="3657240"/>
                <a:ext cx="792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402040" y="36572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987640" y="3679560"/>
                <a:ext cx="792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987640" y="3679560"/>
                <a:ext cx="180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003480" y="3679560"/>
                <a:ext cx="648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003480" y="3679560"/>
                <a:ext cx="180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334040" y="3679560"/>
                <a:ext cx="792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334040" y="3679560"/>
                <a:ext cx="144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783680" y="3679560"/>
                <a:ext cx="792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783680" y="3679560"/>
                <a:ext cx="144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388000" y="3679560"/>
                <a:ext cx="612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388000" y="3679560"/>
                <a:ext cx="144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402040" y="3679560"/>
                <a:ext cx="792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8402040" y="3679560"/>
                <a:ext cx="180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341960" y="3933720"/>
                <a:ext cx="441360" cy="245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474080" y="3971520"/>
                <a:ext cx="183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10000"/>
                    </a:solidFill>
                    <a:latin typeface="Arial"/>
                  </a:rPr>
                  <a:t>14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791600" y="3933720"/>
                <a:ext cx="3596400" cy="2458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878360" y="3971520"/>
                <a:ext cx="3228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300" spc="-1" strike="noStrike">
                    <a:solidFill>
                      <a:srgbClr val="ffffff"/>
                    </a:solidFill>
                    <a:latin typeface="Arial"/>
                  </a:rPr>
                  <a:t>Ovlašćivanje zaposlenih u svrhu poboljšanja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987640" y="392544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987640" y="3925440"/>
                <a:ext cx="7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2987640" y="3925440"/>
                <a:ext cx="1800" cy="8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003480" y="3925440"/>
                <a:ext cx="64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03480" y="3925440"/>
                <a:ext cx="6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003480" y="3925440"/>
                <a:ext cx="1800" cy="8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334040" y="392544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4334040" y="3925440"/>
                <a:ext cx="7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334040" y="3925440"/>
                <a:ext cx="1440" cy="8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341960" y="3925440"/>
                <a:ext cx="441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341960" y="3925440"/>
                <a:ext cx="441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783680" y="392544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783680" y="3925440"/>
                <a:ext cx="7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4783680" y="3925440"/>
                <a:ext cx="1440" cy="8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4791600" y="3925440"/>
                <a:ext cx="35964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791600" y="3925440"/>
                <a:ext cx="3596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402040" y="392544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402040" y="3925440"/>
                <a:ext cx="7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402040" y="3925440"/>
                <a:ext cx="1800" cy="8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388000" y="3925440"/>
                <a:ext cx="61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388000" y="3925440"/>
                <a:ext cx="6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8388000" y="3925440"/>
                <a:ext cx="1440" cy="8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987640" y="3933720"/>
                <a:ext cx="792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987640" y="3933720"/>
                <a:ext cx="180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3003480" y="3933720"/>
                <a:ext cx="648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003480" y="3933720"/>
                <a:ext cx="180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334040" y="3933720"/>
                <a:ext cx="792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334040" y="3933720"/>
                <a:ext cx="144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783680" y="3933720"/>
                <a:ext cx="792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783680" y="3933720"/>
                <a:ext cx="144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388000" y="3933720"/>
                <a:ext cx="612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8388000" y="3933720"/>
                <a:ext cx="144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8402040" y="3933720"/>
                <a:ext cx="792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8402040" y="3933720"/>
                <a:ext cx="180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4341960" y="4187520"/>
                <a:ext cx="441360" cy="2430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4519080" y="42224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10000"/>
                    </a:solidFill>
                    <a:latin typeface="Arial"/>
                  </a:rPr>
                  <a:t>6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341960" y="4430520"/>
                <a:ext cx="441360" cy="3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791600" y="4187520"/>
                <a:ext cx="3596400" cy="2430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4873680" y="4222440"/>
                <a:ext cx="1527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1300" spc="-1" strike="noStrike">
                    <a:solidFill>
                      <a:srgbClr val="ffffff"/>
                    </a:solidFill>
                    <a:latin typeface="Arial"/>
                  </a:rPr>
                  <a:t>Optimizacija procesa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791600" y="4430520"/>
                <a:ext cx="359640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987640" y="41796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987640" y="4179600"/>
                <a:ext cx="7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987640" y="4179600"/>
                <a:ext cx="180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03480" y="4179600"/>
                <a:ext cx="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003480" y="4179600"/>
                <a:ext cx="6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003480" y="4179600"/>
                <a:ext cx="180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334040" y="41796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334040" y="4179600"/>
                <a:ext cx="7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334040" y="417960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341960" y="4179600"/>
                <a:ext cx="441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4341960" y="4179600"/>
                <a:ext cx="441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4783680" y="41796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783680" y="4179600"/>
                <a:ext cx="7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783680" y="417960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791600" y="4179600"/>
                <a:ext cx="3596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4791600" y="4179600"/>
                <a:ext cx="3596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8402040" y="41796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8402040" y="4179600"/>
                <a:ext cx="7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8402040" y="4179600"/>
                <a:ext cx="180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8388000" y="4179600"/>
                <a:ext cx="61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8388000" y="4179600"/>
                <a:ext cx="6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8388000" y="417960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987640" y="4187520"/>
                <a:ext cx="7920" cy="24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987640" y="4187520"/>
                <a:ext cx="1800" cy="246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003480" y="4187520"/>
                <a:ext cx="6480" cy="24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003480" y="4187520"/>
                <a:ext cx="1800" cy="246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334040" y="4187520"/>
                <a:ext cx="7920" cy="24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334040" y="4187520"/>
                <a:ext cx="1440" cy="246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783680" y="4187520"/>
                <a:ext cx="7920" cy="24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783680" y="4187520"/>
                <a:ext cx="1440" cy="246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8388000" y="4187520"/>
                <a:ext cx="6120" cy="24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388000" y="4187520"/>
                <a:ext cx="1440" cy="246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8402040" y="4187520"/>
                <a:ext cx="7920" cy="24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8402040" y="4187520"/>
                <a:ext cx="1800" cy="246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341960" y="4441680"/>
                <a:ext cx="441360" cy="2426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472640" y="4476600"/>
                <a:ext cx="183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10000"/>
                    </a:solidFill>
                    <a:latin typeface="Arial"/>
                  </a:rPr>
                  <a:t>17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341960" y="4684320"/>
                <a:ext cx="441360" cy="3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791600" y="4441680"/>
                <a:ext cx="3596400" cy="2426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873680" y="4476600"/>
                <a:ext cx="14821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300" spc="-1" strike="noStrike">
                    <a:solidFill>
                      <a:srgbClr val="ffffff"/>
                    </a:solidFill>
                    <a:latin typeface="Arial"/>
                  </a:rPr>
                  <a:t>Kontrola uspješnosti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791600" y="4684320"/>
                <a:ext cx="359640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2987640" y="4433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987640" y="4433760"/>
                <a:ext cx="7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987640" y="4433760"/>
                <a:ext cx="180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003480" y="4433760"/>
                <a:ext cx="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03480" y="4433760"/>
                <a:ext cx="6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003480" y="4433760"/>
                <a:ext cx="180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334040" y="4433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334040" y="4433760"/>
                <a:ext cx="7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4334040" y="443376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4341960" y="4433760"/>
                <a:ext cx="441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4341960" y="4433760"/>
                <a:ext cx="441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783680" y="4433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783680" y="4433760"/>
                <a:ext cx="7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783680" y="443376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791600" y="4433760"/>
                <a:ext cx="3596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791600" y="4433760"/>
                <a:ext cx="3596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8402040" y="4433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8402040" y="4433760"/>
                <a:ext cx="7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8402040" y="4433760"/>
                <a:ext cx="180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8388000" y="4433760"/>
                <a:ext cx="61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8388000" y="4433760"/>
                <a:ext cx="6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8388000" y="443376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987640" y="4441680"/>
                <a:ext cx="792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987640" y="4441680"/>
                <a:ext cx="180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03480" y="4441680"/>
                <a:ext cx="648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003480" y="4441680"/>
                <a:ext cx="180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334040" y="4441680"/>
                <a:ext cx="792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334040" y="4441680"/>
                <a:ext cx="144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783680" y="4441680"/>
                <a:ext cx="792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783680" y="4441680"/>
                <a:ext cx="144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8388000" y="4441680"/>
                <a:ext cx="612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8388000" y="4441680"/>
                <a:ext cx="144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8402040" y="4441680"/>
                <a:ext cx="792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8402040" y="4441680"/>
                <a:ext cx="180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09960" y="3679560"/>
                <a:ext cx="1324080" cy="2458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009960" y="3925440"/>
                <a:ext cx="1324080" cy="212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495600" y="3955680"/>
                <a:ext cx="823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hr-HR" sz="1300" spc="-1" strike="noStrike">
                    <a:solidFill>
                      <a:srgbClr val="ffff00"/>
                    </a:solidFill>
                    <a:latin typeface="Arial"/>
                  </a:rPr>
                  <a:t>Smanjenje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009960" y="4138200"/>
                <a:ext cx="1324080" cy="1825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284280" y="4138200"/>
                <a:ext cx="9151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hr-HR" sz="1300" spc="-1" strike="noStrike">
                    <a:solidFill>
                      <a:srgbClr val="ffff00"/>
                    </a:solidFill>
                    <a:latin typeface="Arial"/>
                  </a:rPr>
                  <a:t>     </a:t>
                </a:r>
                <a:r>
                  <a:rPr b="1" i="1" lang="hr-HR" sz="1300" spc="-1" strike="noStrike">
                    <a:solidFill>
                      <a:srgbClr val="ffff00"/>
                    </a:solidFill>
                    <a:latin typeface="Arial"/>
                  </a:rPr>
                  <a:t>troškova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009960" y="4320720"/>
                <a:ext cx="1324080" cy="1810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192840" y="4320720"/>
                <a:ext cx="978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300" spc="-1" strike="noStrike">
                    <a:solidFill>
                      <a:srgbClr val="ffff00"/>
                    </a:solidFill>
                    <a:latin typeface="Arial"/>
                  </a:rPr>
                  <a:t>(</a:t>
                </a:r>
                <a:r>
                  <a:rPr b="1" i="1" lang="hr-HR" sz="1300" spc="-1" strike="noStrike">
                    <a:solidFill>
                      <a:srgbClr val="ffff00"/>
                    </a:solidFill>
                    <a:latin typeface="Arial"/>
                  </a:rPr>
                  <a:t>Poboljšanje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009960" y="4501800"/>
                <a:ext cx="1324080" cy="212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150360" y="4501800"/>
                <a:ext cx="1207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hr-HR" sz="1300" spc="-1" strike="noStrike">
                    <a:solidFill>
                      <a:srgbClr val="ffff00"/>
                    </a:solidFill>
                    <a:latin typeface="Arial"/>
                  </a:rPr>
                  <a:t>Produktivnosti)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009960" y="4714560"/>
                <a:ext cx="1324080" cy="2239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341960" y="4692240"/>
                <a:ext cx="441360" cy="246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472640" y="4730400"/>
                <a:ext cx="183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10000"/>
                    </a:solidFill>
                    <a:latin typeface="Arial"/>
                  </a:rPr>
                  <a:t>19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791600" y="4692240"/>
                <a:ext cx="3596400" cy="246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4879080" y="4730400"/>
                <a:ext cx="2990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300" spc="-1" strike="noStrike">
                    <a:solidFill>
                      <a:srgbClr val="ffffff"/>
                    </a:solidFill>
                    <a:latin typeface="Arial"/>
                  </a:rPr>
                  <a:t>Racionalna upotreba energije i materijala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2987640" y="4684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987640" y="4684320"/>
                <a:ext cx="7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2987640" y="4684320"/>
                <a:ext cx="180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003480" y="4684320"/>
                <a:ext cx="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003480" y="4684320"/>
                <a:ext cx="6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003480" y="4684320"/>
                <a:ext cx="180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334040" y="4684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334040" y="4684320"/>
                <a:ext cx="7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334040" y="468432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341960" y="4684320"/>
                <a:ext cx="441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341960" y="4684320"/>
                <a:ext cx="441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783680" y="4684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783680" y="4684320"/>
                <a:ext cx="7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783680" y="468432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4791600" y="4684320"/>
                <a:ext cx="3596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2987640" y="4684320"/>
              <a:ext cx="5422320" cy="1281240"/>
              <a:chOff x="2987640" y="4684320"/>
              <a:chExt cx="5422320" cy="1281240"/>
            </a:xfrm>
          </p:grpSpPr>
          <p:sp>
            <p:nvSpPr>
              <p:cNvPr id="850" name=""/>
              <p:cNvSpPr/>
              <p:nvPr/>
            </p:nvSpPr>
            <p:spPr>
              <a:xfrm>
                <a:off x="4791600" y="4684320"/>
                <a:ext cx="3596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8402040" y="4684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402040" y="4684320"/>
                <a:ext cx="7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402040" y="4684320"/>
                <a:ext cx="180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388000" y="4684320"/>
                <a:ext cx="61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8388000" y="4684320"/>
                <a:ext cx="6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388000" y="468432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987640" y="4692240"/>
                <a:ext cx="7920" cy="24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987640" y="4692240"/>
                <a:ext cx="1800" cy="246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003480" y="4692240"/>
                <a:ext cx="6480" cy="24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003480" y="4692240"/>
                <a:ext cx="1800" cy="246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334040" y="4692240"/>
                <a:ext cx="7920" cy="24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334040" y="4692240"/>
                <a:ext cx="1440" cy="246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783680" y="4692240"/>
                <a:ext cx="7920" cy="24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783680" y="4692240"/>
                <a:ext cx="1440" cy="246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388000" y="4692240"/>
                <a:ext cx="6120" cy="24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8388000" y="4692240"/>
                <a:ext cx="1440" cy="246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8402040" y="4692240"/>
                <a:ext cx="7920" cy="24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8402040" y="4692240"/>
                <a:ext cx="1800" cy="246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341960" y="4960800"/>
                <a:ext cx="441360" cy="2426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519080" y="49957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10000"/>
                    </a:solidFill>
                    <a:latin typeface="Arial"/>
                  </a:rPr>
                  <a:t>5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341960" y="5203440"/>
                <a:ext cx="441360" cy="50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791600" y="4960800"/>
                <a:ext cx="3596400" cy="2426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875480" y="4995720"/>
                <a:ext cx="182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300" spc="-1" strike="noStrike">
                    <a:solidFill>
                      <a:srgbClr val="ffffff"/>
                    </a:solidFill>
                    <a:latin typeface="Arial"/>
                  </a:rPr>
                  <a:t>Tehnologija brze izmjene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791600" y="5203440"/>
                <a:ext cx="3596400" cy="50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2987640" y="4938480"/>
                <a:ext cx="792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987640" y="493848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03480" y="4938480"/>
                <a:ext cx="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003480" y="4938480"/>
                <a:ext cx="6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003480" y="4938480"/>
                <a:ext cx="180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003480" y="4954320"/>
                <a:ext cx="648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003480" y="4954320"/>
                <a:ext cx="6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03480" y="4954320"/>
                <a:ext cx="180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009960" y="4938480"/>
                <a:ext cx="13240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009960" y="4938480"/>
                <a:ext cx="1324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009960" y="4954320"/>
                <a:ext cx="132408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009960" y="4954320"/>
                <a:ext cx="1324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334040" y="4938480"/>
                <a:ext cx="219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334040" y="4938480"/>
                <a:ext cx="219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334040" y="4954320"/>
                <a:ext cx="219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334040" y="4954320"/>
                <a:ext cx="219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356360" y="4938480"/>
                <a:ext cx="42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356360" y="4938480"/>
                <a:ext cx="427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356360" y="4954320"/>
                <a:ext cx="42732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356360" y="4954320"/>
                <a:ext cx="427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783680" y="4938480"/>
                <a:ext cx="219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783680" y="4938480"/>
                <a:ext cx="219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783680" y="4954320"/>
                <a:ext cx="219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783680" y="4954320"/>
                <a:ext cx="219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805640" y="4938480"/>
                <a:ext cx="3582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805640" y="4938480"/>
                <a:ext cx="3582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805640" y="4954320"/>
                <a:ext cx="3582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805640" y="4954320"/>
                <a:ext cx="3582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8388000" y="4938480"/>
                <a:ext cx="61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8388000" y="4938480"/>
                <a:ext cx="6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8388000" y="493848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8388000" y="4954320"/>
                <a:ext cx="612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8388000" y="4954320"/>
                <a:ext cx="6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8388000" y="4954320"/>
                <a:ext cx="144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8402040" y="4938480"/>
                <a:ext cx="792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8402040" y="493848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2987640" y="4960800"/>
                <a:ext cx="7920" cy="247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987640" y="4960800"/>
                <a:ext cx="1800" cy="247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03480" y="4960800"/>
                <a:ext cx="6480" cy="247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003480" y="4960800"/>
                <a:ext cx="1800" cy="247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334040" y="4960800"/>
                <a:ext cx="7920" cy="247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334040" y="4960800"/>
                <a:ext cx="1440" cy="247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783680" y="4960800"/>
                <a:ext cx="7920" cy="247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783680" y="4960800"/>
                <a:ext cx="1440" cy="247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8388000" y="4960800"/>
                <a:ext cx="6120" cy="247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8388000" y="4960800"/>
                <a:ext cx="1440" cy="247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8402040" y="4960800"/>
                <a:ext cx="7920" cy="247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8402040" y="4960800"/>
                <a:ext cx="1800" cy="247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4341960" y="5214600"/>
                <a:ext cx="441360" cy="2430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519080" y="52495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10000"/>
                    </a:solidFill>
                    <a:latin typeface="Arial"/>
                  </a:rPr>
                  <a:t>4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4341960" y="5457600"/>
                <a:ext cx="441360" cy="46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4791600" y="5214600"/>
                <a:ext cx="3596400" cy="2430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872600" y="5249520"/>
                <a:ext cx="1253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300" spc="-1" strike="noStrike">
                    <a:solidFill>
                      <a:srgbClr val="ffffff"/>
                    </a:solidFill>
                    <a:latin typeface="Arial"/>
                  </a:rPr>
                  <a:t>Smanjenje zaliha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4791600" y="5457600"/>
                <a:ext cx="3596400" cy="46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2987640" y="5208480"/>
                <a:ext cx="792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2987640" y="5208480"/>
                <a:ext cx="7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2987640" y="5208480"/>
                <a:ext cx="180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003480" y="5208480"/>
                <a:ext cx="648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03480" y="5208480"/>
                <a:ext cx="6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003480" y="5208480"/>
                <a:ext cx="180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4334040" y="5208480"/>
                <a:ext cx="792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334040" y="5208480"/>
                <a:ext cx="7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4334040" y="5208480"/>
                <a:ext cx="14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4341960" y="5208480"/>
                <a:ext cx="44136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4341960" y="5208480"/>
                <a:ext cx="441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783680" y="5208480"/>
                <a:ext cx="792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783680" y="5208480"/>
                <a:ext cx="7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4783680" y="5208480"/>
                <a:ext cx="14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4791600" y="5208480"/>
                <a:ext cx="359640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4791600" y="5208480"/>
                <a:ext cx="3596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8402040" y="5208480"/>
                <a:ext cx="792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8402040" y="5208480"/>
                <a:ext cx="7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8402040" y="5208480"/>
                <a:ext cx="180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8388000" y="5208480"/>
                <a:ext cx="612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8388000" y="5208480"/>
                <a:ext cx="6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8388000" y="5208480"/>
                <a:ext cx="14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987640" y="5214600"/>
                <a:ext cx="7920" cy="247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987640" y="5214600"/>
                <a:ext cx="1800" cy="247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003480" y="5214600"/>
                <a:ext cx="6480" cy="247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03480" y="5214600"/>
                <a:ext cx="1800" cy="247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334040" y="5214600"/>
                <a:ext cx="7920" cy="247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334040" y="5214600"/>
                <a:ext cx="1440" cy="247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783680" y="5214600"/>
                <a:ext cx="7920" cy="247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783680" y="5214600"/>
                <a:ext cx="1440" cy="247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8388000" y="5214600"/>
                <a:ext cx="6120" cy="247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8388000" y="5214600"/>
                <a:ext cx="1440" cy="247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8402040" y="5214600"/>
                <a:ext cx="7920" cy="247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8402040" y="5214600"/>
                <a:ext cx="1800" cy="247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341960" y="5465520"/>
                <a:ext cx="441360" cy="245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475880" y="5503680"/>
                <a:ext cx="183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10000"/>
                    </a:solidFill>
                    <a:latin typeface="Arial"/>
                  </a:rPr>
                  <a:t>16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791600" y="5465520"/>
                <a:ext cx="3596400" cy="2458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874040" y="5503680"/>
                <a:ext cx="1619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300" spc="-1" strike="noStrike">
                    <a:solidFill>
                      <a:srgbClr val="ffffff"/>
                    </a:solidFill>
                    <a:latin typeface="Arial"/>
                  </a:rPr>
                  <a:t>Planiranje proizvodnje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2987640" y="54576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987640" y="5457600"/>
                <a:ext cx="7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2987640" y="5457600"/>
                <a:ext cx="180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003480" y="5457600"/>
                <a:ext cx="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003480" y="5457600"/>
                <a:ext cx="6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003480" y="5457600"/>
                <a:ext cx="180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4334040" y="54576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334040" y="5457600"/>
                <a:ext cx="7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334040" y="545760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341960" y="5457600"/>
                <a:ext cx="441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341960" y="5457600"/>
                <a:ext cx="441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783680" y="54576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783680" y="5457600"/>
                <a:ext cx="7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783680" y="545760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4791600" y="5457600"/>
                <a:ext cx="3596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791600" y="5457600"/>
                <a:ext cx="3596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8402040" y="54576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8402040" y="5457600"/>
                <a:ext cx="7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8402040" y="5457600"/>
                <a:ext cx="180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8388000" y="5457600"/>
                <a:ext cx="61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8388000" y="5457600"/>
                <a:ext cx="6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8388000" y="545760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2987640" y="5465520"/>
                <a:ext cx="792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2987640" y="5465520"/>
                <a:ext cx="180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3003480" y="5465520"/>
                <a:ext cx="648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3003480" y="5465520"/>
                <a:ext cx="180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4334040" y="5465520"/>
                <a:ext cx="792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4334040" y="5465520"/>
                <a:ext cx="144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4783680" y="5465520"/>
                <a:ext cx="792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783680" y="5465520"/>
                <a:ext cx="144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8388000" y="5465520"/>
                <a:ext cx="612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388000" y="5465520"/>
                <a:ext cx="144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8402040" y="5465520"/>
                <a:ext cx="792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8402040" y="5465520"/>
                <a:ext cx="180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3009960" y="4960800"/>
                <a:ext cx="1324080" cy="212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3165120" y="4992480"/>
                <a:ext cx="9241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hr-HR" sz="1300" spc="-1" strike="noStrike">
                    <a:solidFill>
                      <a:srgbClr val="ffff00"/>
                    </a:solidFill>
                    <a:latin typeface="Arial"/>
                  </a:rPr>
                  <a:t>Poboljšanje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3009960" y="5173560"/>
                <a:ext cx="1324080" cy="1825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3134160" y="5173560"/>
                <a:ext cx="1107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hr-HR" sz="1300" spc="-1" strike="noStrike">
                    <a:solidFill>
                      <a:srgbClr val="ffff00"/>
                    </a:solidFill>
                    <a:latin typeface="Arial"/>
                  </a:rPr>
                  <a:t>toka procesa</a:t>
                </a:r>
                <a:r>
                  <a:rPr b="1" i="1" lang="en-US" sz="1300" spc="-1" strike="noStrike">
                    <a:solidFill>
                      <a:srgbClr val="ffff00"/>
                    </a:solidFill>
                    <a:latin typeface="Arial"/>
                  </a:rPr>
                  <a:t> /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3009960" y="5356080"/>
                <a:ext cx="1324080" cy="1825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3115080" y="5356080"/>
                <a:ext cx="1116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hr-HR" sz="1300" spc="-1" strike="noStrike">
                    <a:solidFill>
                      <a:srgbClr val="ffff00"/>
                    </a:solidFill>
                    <a:latin typeface="Arial"/>
                  </a:rPr>
                  <a:t>smanje </a:t>
                </a:r>
                <a:r>
                  <a:rPr b="1" i="1" lang="en-US" sz="1300" spc="-1" strike="noStrike">
                    <a:solidFill>
                      <a:srgbClr val="ffff00"/>
                    </a:solidFill>
                    <a:latin typeface="Arial"/>
                  </a:rPr>
                  <a:t>WIP</a:t>
                </a:r>
                <a:r>
                  <a:rPr b="1" i="1" lang="hr-HR" sz="1300" spc="-1" strike="noStrike">
                    <a:solidFill>
                      <a:srgbClr val="ffff00"/>
                    </a:solidFill>
                    <a:latin typeface="Arial"/>
                  </a:rPr>
                  <a:t>-a</a:t>
                </a:r>
                <a:r>
                  <a:rPr b="1" i="1" lang="en-US" sz="1300" spc="-1" strike="noStrike">
                    <a:solidFill>
                      <a:srgbClr val="ffff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3009960" y="5538600"/>
                <a:ext cx="1324080" cy="1807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3388320" y="5538600"/>
                <a:ext cx="430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300" spc="-1" strike="noStrike">
                    <a:solidFill>
                      <a:srgbClr val="ffff00"/>
                    </a:solidFill>
                    <a:latin typeface="Arial"/>
                  </a:rPr>
                  <a:t>/ </a:t>
                </a:r>
                <a:r>
                  <a:rPr b="1" i="1" lang="hr-HR" sz="1300" spc="-1" strike="noStrike">
                    <a:solidFill>
                      <a:srgbClr val="ffff00"/>
                    </a:solidFill>
                    <a:latin typeface="Arial"/>
                  </a:rPr>
                  <a:t>brža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009960" y="5719320"/>
                <a:ext cx="1324080" cy="212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3363840" y="5719320"/>
                <a:ext cx="586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hr-HR" sz="1300" spc="-1" strike="noStrike">
                    <a:solidFill>
                      <a:srgbClr val="ffff00"/>
                    </a:solidFill>
                    <a:latin typeface="Arial"/>
                  </a:rPr>
                  <a:t>predaja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3009960" y="5932080"/>
                <a:ext cx="1324080" cy="334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4341960" y="5719320"/>
                <a:ext cx="441360" cy="246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4519080" y="57574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10000"/>
                    </a:solidFill>
                    <a:latin typeface="Arial"/>
                  </a:rPr>
                  <a:t>8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791600" y="5719320"/>
                <a:ext cx="3596400" cy="246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873680" y="5757480"/>
                <a:ext cx="1518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300" spc="-1" strike="noStrike">
                    <a:solidFill>
                      <a:srgbClr val="ffffff"/>
                    </a:solidFill>
                    <a:latin typeface="Arial"/>
                  </a:rPr>
                  <a:t>Povezivanje procesa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987640" y="5711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987640" y="5711400"/>
                <a:ext cx="7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987640" y="5711400"/>
                <a:ext cx="180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3003480" y="5711400"/>
                <a:ext cx="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003480" y="5711400"/>
                <a:ext cx="6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003480" y="5711400"/>
                <a:ext cx="180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334040" y="5711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334040" y="5711400"/>
                <a:ext cx="7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4334040" y="571140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341960" y="5711400"/>
                <a:ext cx="441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341960" y="5711400"/>
                <a:ext cx="441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783680" y="5711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783680" y="5711400"/>
                <a:ext cx="7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4783680" y="571140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791600" y="5711400"/>
                <a:ext cx="3596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791600" y="5711400"/>
                <a:ext cx="3596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8402040" y="5711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8402040" y="5711400"/>
                <a:ext cx="7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8402040" y="5711400"/>
                <a:ext cx="180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388000" y="5711400"/>
                <a:ext cx="61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8388000" y="5711400"/>
                <a:ext cx="6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8388000" y="571140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987640" y="5719320"/>
                <a:ext cx="7920" cy="24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987640" y="5719320"/>
                <a:ext cx="1800" cy="246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003480" y="5719320"/>
                <a:ext cx="6480" cy="24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3003480" y="5719320"/>
                <a:ext cx="1800" cy="246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4334040" y="5719320"/>
                <a:ext cx="7920" cy="24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4334040" y="5719320"/>
                <a:ext cx="1440" cy="246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4783680" y="5719320"/>
                <a:ext cx="7920" cy="24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4783680" y="5719320"/>
                <a:ext cx="1440" cy="246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388000" y="5719320"/>
                <a:ext cx="6120" cy="24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8388000" y="5719320"/>
                <a:ext cx="1440" cy="246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8402040" y="5719320"/>
                <a:ext cx="7920" cy="24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402040" y="5719320"/>
                <a:ext cx="1800" cy="246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50" name=""/>
            <p:cNvSpPr/>
            <p:nvPr/>
          </p:nvSpPr>
          <p:spPr>
            <a:xfrm>
              <a:off x="4342320" y="5989320"/>
              <a:ext cx="441360" cy="243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472640" y="602280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10000"/>
                  </a:solidFill>
                  <a:latin typeface="Arial"/>
                </a:rPr>
                <a:t>18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791600" y="5989320"/>
              <a:ext cx="3596760" cy="243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876200" y="6022800"/>
              <a:ext cx="2314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300" spc="-1" strike="noStrike">
                  <a:solidFill>
                    <a:srgbClr val="ffffff"/>
                  </a:solidFill>
                  <a:latin typeface="Arial"/>
                </a:rPr>
                <a:t>Korištenje informatičkih sistem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009960" y="5965560"/>
              <a:ext cx="13244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009960" y="5965560"/>
              <a:ext cx="132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009960" y="5981400"/>
              <a:ext cx="13244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009960" y="5981400"/>
              <a:ext cx="132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334400" y="5965560"/>
              <a:ext cx="219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334400" y="596556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334400" y="5981400"/>
              <a:ext cx="219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334400" y="598140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356360" y="5965560"/>
              <a:ext cx="4273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356360" y="5965560"/>
              <a:ext cx="42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356360" y="5981400"/>
              <a:ext cx="4273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356360" y="5981400"/>
              <a:ext cx="42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783680" y="5965560"/>
              <a:ext cx="219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783680" y="596556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783680" y="5981400"/>
              <a:ext cx="219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783680" y="598140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805640" y="5965560"/>
              <a:ext cx="3582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805640" y="5965560"/>
              <a:ext cx="3582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805640" y="5981400"/>
              <a:ext cx="3582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8388360" y="5965560"/>
              <a:ext cx="61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8388360" y="596556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8388360" y="5965560"/>
              <a:ext cx="14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8388360" y="5981400"/>
              <a:ext cx="61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8388360" y="598140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8388360" y="5981400"/>
              <a:ext cx="14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8402400" y="5965560"/>
              <a:ext cx="792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402400" y="5965560"/>
              <a:ext cx="18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334400" y="5989320"/>
              <a:ext cx="1440" cy="246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783680" y="5989320"/>
              <a:ext cx="1440" cy="246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8388360" y="5989320"/>
              <a:ext cx="6120" cy="246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8388360" y="5989320"/>
              <a:ext cx="1440" cy="246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8402400" y="5989320"/>
              <a:ext cx="7920" cy="246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402400" y="5989320"/>
              <a:ext cx="1800" cy="246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009960" y="5989320"/>
              <a:ext cx="1324440" cy="2761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227040" y="6082920"/>
              <a:ext cx="531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r-HR" sz="1300" spc="-1" strike="noStrike">
                  <a:solidFill>
                    <a:srgbClr val="ffff00"/>
                  </a:solidFill>
                  <a:latin typeface="Arial"/>
                </a:rPr>
                <a:t>Razvoj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009960" y="6265440"/>
              <a:ext cx="1324440" cy="2127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177000" y="6265440"/>
              <a:ext cx="878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r-HR" sz="1300" spc="-1" strike="noStrike">
                  <a:solidFill>
                    <a:srgbClr val="ffff00"/>
                  </a:solidFill>
                  <a:latin typeface="Arial"/>
                </a:rPr>
                <a:t>tehnologij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342320" y="6243480"/>
              <a:ext cx="441360" cy="24264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472640" y="627660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10000"/>
                  </a:solidFill>
                  <a:latin typeface="Arial"/>
                </a:rPr>
                <a:t>2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791600" y="6243480"/>
              <a:ext cx="3596760" cy="242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878360" y="6276600"/>
              <a:ext cx="3109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300" spc="-1" strike="noStrike">
                  <a:solidFill>
                    <a:srgbClr val="ffffff"/>
                  </a:solidFill>
                  <a:latin typeface="Arial"/>
                </a:rPr>
                <a:t>Vodeća tehnologija / Korištenje tehnologij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334400" y="623556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334400" y="6235560"/>
              <a:ext cx="14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342320" y="6235560"/>
              <a:ext cx="441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342320" y="6235560"/>
              <a:ext cx="441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783680" y="623556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783680" y="6235560"/>
              <a:ext cx="14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791600" y="6235560"/>
              <a:ext cx="3596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791600" y="6235560"/>
              <a:ext cx="359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402400" y="623556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402400" y="623556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8402400" y="6235560"/>
              <a:ext cx="18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8388360" y="6235560"/>
              <a:ext cx="61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388360" y="623556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8388360" y="6235560"/>
              <a:ext cx="14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009960" y="6489360"/>
              <a:ext cx="13244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009960" y="6489360"/>
              <a:ext cx="1324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009960" y="6505200"/>
              <a:ext cx="1324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334400" y="6243480"/>
              <a:ext cx="1440" cy="24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334400" y="6489360"/>
              <a:ext cx="219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334400" y="6489360"/>
              <a:ext cx="21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334400" y="6505200"/>
              <a:ext cx="21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356360" y="6489360"/>
              <a:ext cx="4273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356360" y="6489360"/>
              <a:ext cx="427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356360" y="6505200"/>
              <a:ext cx="427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783680" y="6243480"/>
              <a:ext cx="1440" cy="24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783680" y="6489360"/>
              <a:ext cx="219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783680" y="6489360"/>
              <a:ext cx="21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783680" y="6505200"/>
              <a:ext cx="21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805640" y="6489360"/>
              <a:ext cx="3582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805640" y="6505200"/>
              <a:ext cx="3582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388360" y="6243480"/>
              <a:ext cx="6120" cy="245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388360" y="6243480"/>
              <a:ext cx="1440" cy="24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8402400" y="6243480"/>
              <a:ext cx="7920" cy="245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8402400" y="6243480"/>
              <a:ext cx="1800" cy="24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8402400" y="6489360"/>
              <a:ext cx="79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402400" y="6489360"/>
              <a:ext cx="180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388360" y="6505200"/>
              <a:ext cx="21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8388360" y="6489360"/>
              <a:ext cx="61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8388360" y="648936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8388360" y="6489360"/>
              <a:ext cx="14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8388360" y="6489360"/>
              <a:ext cx="61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8388360" y="648936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8388360" y="6489360"/>
              <a:ext cx="14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990880" y="5925960"/>
              <a:ext cx="0" cy="577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003480" y="5932080"/>
              <a:ext cx="0" cy="578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0" name=""/>
          <p:cNvSpPr/>
          <p:nvPr/>
        </p:nvSpPr>
        <p:spPr>
          <a:xfrm>
            <a:off x="1331280" y="1484280"/>
            <a:ext cx="136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Motivaci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igurn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1403640" y="2708280"/>
            <a:ext cx="111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Kvalite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455480" y="40752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roškov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474920" y="527832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Isporu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330920" y="602136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ehnologi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17040" y="309240"/>
            <a:ext cx="7929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vjeti za uspje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713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žetak karakteristika tvrtki koje su ostvarile nagli napred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 programu 20 ključeva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p menadžment uvijek pokazuje pozitivan stav prema napretk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su implementirani samo lakši ključevi, nego svih 2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iljevi tvrtke i ciljevi 20 Ključeva su ujednače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ši menadžment redovito ocjenjuje status 20 Ključeva – pridržavanjem toga izbjegava se zastoj u implementacij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šerazinski sastanci osiguravaju da su korporativni ciljevi potpuno shvaćeni od strane zaposlenika i što, kada i kako ih implementirat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toji čvrsto uvjerenje da će tvrtka biti sposobna postići ogromne rezultate kroz 20 ključeva – no za to je ipak potrebno vrijem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Što čini 20 ključeva različitim od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rugih programa i metodologija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Provjeren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sustav koji pruža trajne rezul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Sustav koji </a:t>
            </a: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uključuje i motivira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sve zaposlen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Opsežan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operativni susta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Praktičan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susta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Sustav koji je </a:t>
            </a: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primjenjiv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u različitim kulturama i razinama ekonomske razvije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Sustav </a:t>
            </a: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primjenjiv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u proizvodnji, rudarstvu i uslužnim djelatnosti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6560" y="1196640"/>
            <a:ext cx="78598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vrtke koje nađu način da udruže sve umove – iskoriste svaki djelić strastvene energije, unesu uzbuđenje u živote ljudi, motiviraju ih da dolaze na posao u potrazi za boljim načinom rada – svakog dana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– to će biti tvrtke koje će pobjeđivati.”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5157720"/>
            <a:ext cx="88200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e9ff17"/>
                </a:solidFill>
                <a:latin typeface="Times New Roman"/>
              </a:rPr>
              <a:t>Jack Welch</a:t>
            </a:r>
            <a:r>
              <a:rPr b="0" lang="hr-HR" sz="2800" spc="-1" strike="noStrike">
                <a:solidFill>
                  <a:srgbClr val="e9ff17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9ff17"/>
                </a:solidFill>
                <a:latin typeface="Times New Roman"/>
              </a:rPr>
              <a:t>nekadašnji predsjednik odbora i direktor General Elect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90040" y="280800"/>
            <a:ext cx="7626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imes New Roman"/>
              </a:rPr>
              <a:t>Što je 20 program ključeva i koje su koristi provođenja 20 ključeva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4582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u="sng">
                <a:solidFill>
                  <a:srgbClr val="e9ff17"/>
                </a:solidFill>
                <a:uFillTx/>
                <a:latin typeface="Times New Roman"/>
              </a:rPr>
              <a:t>ŠTO JE 20 KLJUČEVA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Metodologija koju je razvio Iwao Kobayashi, a temelji se na Toyotainom proizvodnom sustavu (Toyota Production System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Metodologija koja omogućuje lakše postizanje strateških ciljeva tvrtk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Sveobuhvatan i praktičan program neprekidnog unapređen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ključeva</a:t>
            </a: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 20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područja poslovnih imperativ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Univerzalna metoda benchmarking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Uključuje sve zaposlenike tvrtk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" dur="1" fill="hold"/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463320"/>
            <a:ext cx="80740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Times New Roman"/>
              </a:rPr>
              <a:t>Progra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20 </a:t>
            </a:r>
            <a:r>
              <a:rPr b="1" lang="hr-HR" sz="3200" spc="-1" strike="noStrike">
                <a:solidFill>
                  <a:srgbClr val="ffffff"/>
                </a:solidFill>
                <a:latin typeface="Times New Roman"/>
              </a:rPr>
              <a:t>ključev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3200" spc="-1" strike="noStrike">
                <a:solidFill>
                  <a:srgbClr val="ffffff"/>
                </a:solidFill>
                <a:latin typeface="Times New Roman"/>
              </a:rPr>
              <a:t>je kreiran z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Postizanje poslovnih strateških ciljeva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Povećanje brzine kod učenja i inovacije organizacije – konstituiranje organizaci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Potaknuti i motivirati zaposlen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Povećati zadovoljstvo klijenata i udjela na tržištu kroz bolju, bržu i jeftiniju uslugu i proizvode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cd100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e9ff17"/>
                </a:solidFill>
                <a:latin typeface="Times New Roman"/>
              </a:rPr>
              <a:t>Kako bi se postigao dugoročno održivi</a:t>
            </a:r>
            <a:r>
              <a:rPr b="1" lang="en-US" sz="2400" spc="-1" strike="noStrike">
                <a:solidFill>
                  <a:srgbClr val="e9ff17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e9ff17"/>
                </a:solidFill>
                <a:latin typeface="Times New Roman"/>
              </a:rPr>
              <a:t>poslovni uspje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Što je program 20 ključeva i koje su koristi provođenja 20 ključeva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u="sng">
                <a:solidFill>
                  <a:srgbClr val="e9ff17"/>
                </a:solidFill>
                <a:uFillTx/>
                <a:latin typeface="Times New Roman"/>
              </a:rPr>
              <a:t>ZAŠTO TVRTKE PRIMJENJUJU 20 KLJUČEVA 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Kako bi objedinile sve inicijative unapređenja u jednom program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Kako bi uključile i potakle sve zaposlenike i na taj način povećale inovativno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Kako bi razvile potpun potencijal zaposlenik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Kako bi brže i lakše dosegle strateške ciljeve tvrtk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Kako bi povećale produktivnost i smanjile vremenske cikluse u proizvodnj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Kako bi povećale zadovoljstvo klijenata i konkurentnost na tržiš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Kako bi smanjile troško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Kako bi povećale prof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0 ključeva u globalnoj primje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08000" y="2492280"/>
            <a:ext cx="5343840" cy="36417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50920" y="765000"/>
            <a:ext cx="85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Metodologija se pokazala uspješnom u mnogim zemljama 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raznim kulturama širom svijeta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700000" y="2060640"/>
            <a:ext cx="4862880" cy="1947960"/>
            <a:chOff x="2700000" y="2060640"/>
            <a:chExt cx="4862880" cy="1947960"/>
          </a:xfrm>
        </p:grpSpPr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6219720" y="2060640"/>
              <a:ext cx="1343160" cy="8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 flipH="1">
              <a:off x="2700000" y="2675160"/>
              <a:ext cx="3429000" cy="1333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91440" y="2897280"/>
              <a:ext cx="998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Odabrane međunarodne reference (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096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e9ff17"/>
                </a:solidFill>
                <a:uFillTx/>
                <a:latin typeface="Times New Roman"/>
              </a:rPr>
              <a:t>Više od 700 tvrtki širom svijeta primjenjuje ovu metodologiju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armag, </a:t>
            </a: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Germany (strojevi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illiton-Samancor Chrome, </a:t>
            </a: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South Africa, U.K. (rudarstv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dbury, Swaziland</a:t>
            </a: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, U.K. (čokolada, slatkiš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lumbus Stainless Steel,</a:t>
            </a: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 South Afric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(čeli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dim, </a:t>
            </a: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The Netherlands (dijelovi za motor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illette, </a:t>
            </a: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Germany (brijaći aparat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otel Schindlerhof, </a:t>
            </a: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Germany (hotel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onica </a:t>
            </a: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Minolta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ckaging, Jap</a:t>
            </a: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an (pakiranje fil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malat, </a:t>
            </a: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Sout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Afri</a:t>
            </a: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 (mliječni proizvod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ittards, </a:t>
            </a: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U.K. (koža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SzPct val="16467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anyo Electric, Jap</a:t>
            </a: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 (električni aparat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SzPct val="16467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iko, </a:t>
            </a: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Japan (ručni satov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SzPct val="16467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emens </a:t>
            </a: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EW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, </a:t>
            </a: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Germany (elektronik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SzPct val="16467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oolworths,</a:t>
            </a: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 Sout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Afri</a:t>
            </a: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 (distribucija hran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09:38:16Z</dcterms:created>
  <dc:creator>Korisnik</dc:creator>
  <dc:description/>
  <dc:language>en-US</dc:language>
  <cp:lastModifiedBy>Korisnik</cp:lastModifiedBy>
  <dcterms:modified xsi:type="dcterms:W3CDTF">2008-12-18T10:05:43Z</dcterms:modified>
  <cp:revision>12</cp:revision>
  <dc:subject/>
  <dc:title>JAPANSKA </dc:title>
</cp:coreProperties>
</file>