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3B7-7706-4D48-858F-CCF25D38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425-DE66-42A0-9F2A-7DA8BE08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E4A-4D6A-4588-AABA-7AD2DDB1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0B8-F84D-43FF-A8A2-137ADE51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4462-A7E3-48C7-A0CF-FBA2A111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1BCF-C79B-4F0B-857F-F6884B2D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B05F-D71A-4BE0-A1D8-FF0AE7A3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3B1-19C5-431A-91AE-921DD443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3CE7-937D-497F-BC73-D30DD2B1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45C0-DDD4-4D43-A778-39EDB5EC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B98E-00EF-40C8-8233-04189B59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9ED-1D9C-423F-812C-73BA1AF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9BD3-92DE-450C-A0F6-ACF7DDC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35EA-5C43-437A-9294-CE29A14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D8D8-DD06-4868-84B9-76128C37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F527-0113-4981-A3D5-25EE7C9B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9F02-E250-4768-902F-9E1882F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7C9-B077-47FD-8530-5814D031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B01-4944-4949-9FBE-7460FF5B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C7C-D3E5-47A1-A4C5-9137C125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C82-6A79-4E19-9E24-DD3F0CC5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56D-0E2D-4EAE-BC1D-5A12622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EA8-077D-47C9-80B7-A94F099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1BA-1416-403C-8331-DD83D8C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99D6-F284-4F8F-AB6A-8C948DF4D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F1CC-F318-44D9-925C-5547533038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OPĆA FARMAKOLOGIJA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Bookman Old Style"/>
              </a:rPr>
              <a:t>Osnovna literatu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Farmakoterapijski</a:t>
            </a:r>
            <a:r>
              <a:rPr b="1" lang="en-US" sz="2400" spc="-1" strike="noStrike">
                <a:solidFill>
                  <a:srgbClr val="00cc99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priručnik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3. izdanje, Med-Ekon d.d., 2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Interna medicin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2. izdanje, Naprijed, 199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(4. poglavl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Medicinska farmakologij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Medicinska naklada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0E7-8F50-410B-B0D6-C335EF75CAE7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lanak 2. (Zakon o lijekovima i medicinskim proizvodi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otov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oizvodi koji se stavljaju u promet pod nazivom odabranim od proizvođač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Imunološk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cjepiva, serumi, alergeni, antigen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Radioaktiv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visoke tehnologije/biotehnologi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iz ljudske krvi ili plazme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albumin, faktori zgrušavan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rirod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547-C53F-4F03-89FE-F0A0D8F62535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s vitaminima, odnosno mineralim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Tvari kemijskog, mineralnog, biljnog, životinjskog ili ljudskog podrijetl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koje se koriste za proizvodnju lijeko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Magistraln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ipremaju se u ljekarni prema liječničkom receptu za specifičnog (pojedinačnog) bolesnik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alensk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izrađuju se u ljekarnama do 100 dnevno, prema postupku opisanom u farmakopej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Krv i krvni sastojc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6E5-8CFB-4A27-8277-A65DC7642294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DRIJETLO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Mineral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jod, talk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Životinjsk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inzulin, antitoksin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Bilj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brokula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Kemijska sintez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acetilsalicilna kiselina, vitamin C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Semisintetski lijekovi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prirodne ljekovite tvari koje se dodatno prerađuj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EB8-8857-403A-872C-FA09420C74B9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rganske prirodne ljekovite tvari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- nalaze se u biljkama i životinjama, a nazivaju se više prema biološkim, nego kemijskim svojstvima</a:t>
            </a:r>
            <a:endParaRPr b="0" lang="en-US" sz="2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lkalo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bazične tvari koje sadrže duš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likoz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spojevi različitih šeć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apo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glikozidi koji se pjene u v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Masti i mas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esteri masnih kiselina (ricinu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Eterič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ako hlapljivi spojevi specifičnog mir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Treslovine i ta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adstringen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orke tvar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(amara) - ksilostein, vrlo otrovan (pospješuje probav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luz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viskozne tekućine (macerat sljezovog korijen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ntibiotic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proizvodi mikroorganizama koji djeluju inhibitorno na rast drugih mikroorganiz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FB2-6DDA-4ACF-8A6F-3FD32E29756D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        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ASIFIKACIJA I NAZIVI LIJEKOVA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a) Farmakodinam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hanizmu djelovanja</a:t>
            </a: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b) Farmakoterapij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dicinskoj upotrebi</a:t>
            </a:r>
            <a:endParaRPr b="0" lang="en-US" sz="2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DINAM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agonisti kal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95680" y="24382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ihipertenz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hipertenziv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- Antiaritm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rotuupalni lijeko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trombo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9F3-AEE1-405A-910B-0BFC080F9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ATC (ATK)</a:t>
            </a:r>
            <a:r>
              <a:rPr b="0" lang="en-US" sz="4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- klasifikacij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atomsko - terapijsko - kemij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eporuka S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pr. A 10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limentarni sust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ijekovi za liječenje šećerne bole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zu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114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648320"/>
            <a:ext cx="228600" cy="759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5257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BDA-B829-40C5-959B-62BA25E279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AZIVI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Tradicionaln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talk, morfin, rici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emijsk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askorbinska kise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rički nazivi (INN)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zonijazid (izonikotinska kiselina hidraz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Zaštićena ime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umame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man Old Style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(azitromic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78A-2AE1-4421-9077-838A3F344A82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Djelovanje i primjena lijek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1066680"/>
          <a:ext cx="7745400" cy="54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7454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6FD-62FA-47E3-8F09-14DBD94047F4}" type="slidenum">
              <a:t>17</a:t>
            </a:fld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67080" y="4114800"/>
            <a:ext cx="152640" cy="1600200"/>
          </a:xfrm>
          <a:prstGeom prst="downArrow">
            <a:avLst>
              <a:gd name="adj1" fmla="val 50000"/>
              <a:gd name="adj2" fmla="val 26208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Sudbina lijeka u organizmu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295280"/>
            <a:ext cx="5257800" cy="132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UČIN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NE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200400"/>
            <a:ext cx="5181480" cy="14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Krvna cirkul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VEZANI LIJ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Vezani lijek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etabol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SORP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809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IZLUČIV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029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5638680"/>
            <a:ext cx="2819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TABOL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105520"/>
            <a:ext cx="2514600" cy="1066680"/>
          </a:xfrm>
          <a:custGeom>
            <a:avLst/>
            <a:gdLst>
              <a:gd name="textAreaLeft" fmla="*/ 721800 w 2514600"/>
              <a:gd name="textAreaRight" fmla="*/ 2153880 w 25146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16765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182880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8862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388620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04812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1240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79132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1AC-C4AC-47BF-862B-E3B5593875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Prolaz lijekova kroz stanične membrane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e se membrane sastoje o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lipida i protein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a je membrana selektivn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opusna; voda i neke drug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molekule mogu brzo proći kroz nju, 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drugih je prolaz ograničen ili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priječe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892-0B3F-4AA3-A888-99ACFCEF1908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o lijekovima, odnosno, znanost o međudjelovanju lijeka i organiz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C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i struka koja se bavi pripremom i izradom lijeko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KLINIČKA 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specijalnost znanstvenog proučavanja djelovanja lijekova na čov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F57-8EC7-4B41-98EA-05B850745869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Mehanizmi prolaza lijekova kroz membranu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5232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posolubil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ni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akšana 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nocit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CF8-38D7-4732-8DDE-AD43C4E470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LOŠKA RASPOLOŽIVOST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kon peroralne primjene označava postotak lijeka koji dospije u opću cirkulaciju i raspoloživ je za farmakološko djelovanj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EKVIVALENTNOST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- dva su lijeka jednake bioraspoloživosti.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613-8EB6-4988-8989-C3E8370D8A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Eliminaci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Ekskrecija nepromijenjenog li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Biotransformacij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vi prolaz kroz jetr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Izlučivanje bubrez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lomerularna filtr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novna apsorpcija u tubul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ubularna sekre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5D7-42F8-43A3-AE9A-173FF3F60184}" type="slidenum">
              <a:t>22</a:t>
            </a:fld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ze biotransformacije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1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ksid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Reduk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Hidro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Deza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romjene 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st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0988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2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onjugacija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kuronsk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mporn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Aminokiselin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tatio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0680" y="548568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IZLUČI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1E7-1B19-473E-8176-67B112FF398E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Farmakokinetski parametr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05160" y="5986440"/>
          <a:ext cx="287640" cy="1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5986440"/>
                    <a:ext cx="287640" cy="1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0360" y="2035080"/>
            <a:ext cx="3021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a stal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zinom izluč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 brzi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lučivanja ovisno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centrac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Graf%20-%20Opća%20farmakologijazelena%20copy" descr=""/>
          <p:cNvPicPr/>
          <p:nvPr/>
        </p:nvPicPr>
        <p:blipFill>
          <a:blip r:embed="rId5">
            <a:lum contrast="78000"/>
          </a:blip>
          <a:stretch/>
        </p:blipFill>
        <p:spPr>
          <a:xfrm>
            <a:off x="1143000" y="1600200"/>
            <a:ext cx="3352680" cy="434340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547-B925-4349-B97D-6F1FD315AAE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</a:t>
            </a:r>
            <a:r>
              <a:rPr b="1" lang="en-US" sz="3200" spc="-1" strike="noStrike" baseline="30000">
                <a:solidFill>
                  <a:srgbClr val="66ffcc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/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oluvrijeme eliminacije, vrijeme potrebno da se koncentracija lijeka spusti na polovi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C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maksimalna koncentracija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vrijeme potrebno za postizanje maksimalne koncentracije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UC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površina ispod krivulje eliminacije lije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33A-2F00-43B6-A2F5-E72105EF8ACD}" type="slidenum">
              <a:t>25</a:t>
            </a:fld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RECEPTOR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mjesto u organizmu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a koje djeluje lijek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ecifični recep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vezano mjesto lije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egulatorni prote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3160" y="45712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MODEL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“KLJUČ - KLJUČAON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E35-91D8-496F-94EA-6DCAC60D07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Vrste 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GONIST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EKSCITATOR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MIME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LI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NTAGONISTI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kemij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farmakokinet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na razini receptor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) 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b) ne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c) fiziološ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2004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6576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419112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0F0-2D9E-44C5-99D2-EF45CF3FCB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lekularni mehanizmi djelovanja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zikalnim svojstv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emijskom reak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loženim biokemijsk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oces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enzimatski sust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ionski kan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) fiziološki recep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FD9-AE2F-418B-AB33-B29B087E59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Čimbenici koji modificiraju djelovanje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z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b i spol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rst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nje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ološka varijabi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asljedna reaktivnost na lijek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leran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hifilaks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atska, fizička ili metabolička ovisno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ergija na lijeko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9810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4382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8954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7339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911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51055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5627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94360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83A-96A9-4339-8D21-3D5C5C9B89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VIJEST MODERNE FARMAKOLOGIJ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HIPOKRAT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(460-355. B. C.) - PRIMUM NON NOCERE - Ponekad je dobar lijek kad se ne uzme ništa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ARACELSUS</a:t>
            </a:r>
            <a:r>
              <a:rPr b="0" lang="en-US" sz="26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493-1541) - Sve je otrov i ništa nije bezazleno, samo o doziranju ovisi da li je nešto otrovno ili nije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SLER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865) - Čovjek ima urođenu težnju za uzimanjem lijekova. To je jedno od obilježja koje čovjeka razlikuje od životin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44D-9E0B-4949-AFFF-C90BFE238DE9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Istovremena primjena 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više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erg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agon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kcije (farmakokinetske, farmakodinams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pragma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BB1-9F58-48B0-80F8-630E638126F9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eželjena i štetna </a:t>
            </a:r>
            <a:br>
              <a:rPr sz="4400"/>
            </a:b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NUSPOJA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je štetno neželj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e lije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jenjenog 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uobičajenoj doz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OTRO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 pojavljuje kad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oza na mjes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a dovolj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el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B0A-6A51-443F-99EF-65620E00ED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Štetne reakcije na lijekov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trovanj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prevelika do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hiperreaktiv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tski poremećaj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diosinkrazi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arcinogenost, teratogenost, mutag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erg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zrelost organiz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osredne štetne reakcije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npr. poremećaj crijevne fl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AE1-0236-4833-A430-08BA811794A9}" type="slidenum">
              <a:t>32</a:t>
            </a:fld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Istraživanje novih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o probiranje, scre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i prof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etklinička istraž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dbina u organiz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dinam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kine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ksi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8862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4343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8006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4290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F71-1AD5-4959-992E-8239AD7BF779}" type="slidenum">
              <a:t>33</a:t>
            </a:fld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998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linička ispit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zdravi dobrovolj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kliničk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aćenje lijekova u klinič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usporedn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ekonomske stud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aćenje nuspo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22096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6668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5053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39625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44197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7AF-99E0-43C6-93CD-EE4ED6D24885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protno se liječi suprot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iegoriy (1735-18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štanje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me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rg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HOME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lično se liječi slič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ahnemann (1755-18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činak lijekova povećava se njihovim razrijeđenj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517-1B1C-4253-9FEA-74D6363E01C9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RVI FARMAKOLOŠKI LABORATORIJ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osnovan je 1846. godine u Dorpatu (Estonija). Rudolf Buckheim ustanovljuje farmakologiju kao eksperimentalnu struku, nasuprot dotadašnjoj praksi prenošenja iskustva.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U Hrvatskoj je prvi farmakološki laboratorij osnovan 1919. godine na Šalati.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9E6-7D27-446D-97F5-2D7AF1DE0D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DERNA KLINIČKA </a:t>
            </a:r>
            <a:br>
              <a:rPr sz="3600"/>
            </a:b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FARMAKOLOGIJ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Claude Bernar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865) - Moral ne zabranjuje provođenje pokusa na susjedima ili na nama samima. Zabranjeni su samo oni pokusi koji mogu naškod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homas Lew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34) - Principi kliničkog ispitivanja lijekova - rano kliničko ispitivanje k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Harry Gol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52) - Čovjek je prikladna studija čovječan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inička medicina + farmakologija = klinička farma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2E9-8D9F-47FA-8A81-13CDE068DA72}" type="slidenum">
              <a:t>6</a:t>
            </a:fld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KINE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kako se lijek ponaša u organizmu od mjesta primjene do izluči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plikacija, distribucija, biotransformacija, eli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DINAM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mehanizam djelovanja lijekova; kako lijek utječe na funkcije organizma, pojačavanje ili supresija, poboljšanje bolesti, doze, nuspoj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EE3-2552-4445-BC32-DB615C38FD85}" type="slidenum">
              <a:t>7</a:t>
            </a:fld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imj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loških spoznaja u medicins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GRAF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receptura) - propis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OKSIKOLOG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znanost o interakciji tvari 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ovj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PE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opisi o sastav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vojstvima, postupcima za ispitivanje čistoće, čuvanj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FICIN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farmakopejs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MAGISTR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jekarnič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PSOLENT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zastarje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5A9-8DE5-4374-89D2-CB1F8CF06A8C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EGISLATIV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zakoni i propisi koji su obvezatni za liječnika i farmaceuta, a osiguravaju pravilnu primjenu i postupak s lijekovima, u cilju sprečavanja štetnog utjecaja na lju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ZAKON O LIJEKOVIMA I MEDICINSKIM PROIZVODIM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 Zastupnički dom Sabora RH, 1997. “… ovim se Zakonom utvrđuje način ispitivanja, proizvodnje i izradbe, promet, provjera kakvoće, oglašavanje i obavještavanje, nadzor nad lijekovima i medicinskim proizvodima…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B55-2153-4E72-91C9-37DD46A286E6}" type="slidenum">
              <a:t>9</a:t>
            </a:fld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1:19:38Z</dcterms:created>
  <dc:creator>Jelena</dc:creator>
  <dc:description/>
  <dc:language>en-US</dc:language>
  <cp:lastModifiedBy>KERAMEIKOS d.o.o.</cp:lastModifiedBy>
  <dcterms:modified xsi:type="dcterms:W3CDTF">2003-01-31T09:46:03Z</dcterms:modified>
  <cp:revision>43</cp:revision>
  <dc:subject/>
  <dc:title>OPĆA FARMAKOLOGIJA Prim. mr. sc. Josip Čulig, dr. med.</dc:title>
</cp:coreProperties>
</file>