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EB8-F667-4150-853C-387ED8FF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3CA-CCCE-46E8-979C-A0BA465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864-18AB-4593-8423-B7DE047F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28D-2187-4CE5-8CFF-166ABCB4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96A-DB8B-4621-9A13-94005C71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32E7-DBC2-4F6A-A4EF-0A4DDCA0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401-3949-4044-8835-9E6F318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3F70-1258-46CF-9866-0003AB7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531-67CC-45ED-A6BE-C54C13F8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D1F-8E6E-4535-9CA9-999F5F1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C01-C472-4D61-923C-850990A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FDD-B37E-4B20-9DA3-244F96E7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338-3169-4D4B-82E6-73AC285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2E6E-BC1D-45D6-8E60-158BD84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E0B-658C-4D15-B1E4-AFCF0A42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DDF1-4011-4428-AC45-B763FA69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134C-C0B5-4EF2-B59C-F1D5C259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2C1C-7270-47FD-8151-CB0E9614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10A9-B425-467D-ACB8-E5DBCC70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2A1A-D655-4D47-9D81-B2A79F83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85EA-5B4E-4420-9355-1AD07F5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6F63-0CA2-4AE4-8D2F-EE48E590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541-3C85-4B50-8647-26FCA6B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64A8-734C-426D-A5EE-76C4ACE9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9094-E247-442A-AD02-7C3FC68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03B1-6F28-42EA-B170-AD8388B7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3489-A70B-42FC-9415-6FC42C2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14C3-820C-4D30-B804-5181BA9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B8FF-1080-4F4C-8566-3D10CBDD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24BB-AE92-4DA1-B96D-DAF47C1B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B9F5-9736-4B8E-B372-01E8764F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0ECD-1195-4865-8D73-CFACCA3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8C31-6AFB-4DE0-8D81-1059FAB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785-FB91-457D-A075-EA49A8E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D8EC-BA2A-4B1A-A304-A8A925D0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89C9-1A22-4AA4-8340-24D9DCF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E071-E797-407A-9022-25D433ED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E607-EA2B-40F6-94B9-6B4D090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ADA3-4980-4EDE-AE36-B9EC25D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B335-5E77-4D6C-9180-AF8A269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D3F9-FDFC-41FC-B550-77B31D7E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D043-8BB0-45E3-9A24-0651F0E5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8689-0FBC-49EF-ADC4-E6F28071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59D5-5644-4FCC-B5E8-EADE2E8A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213-9A8C-4018-94DA-ECD820D2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33AE-6D26-4694-BE89-A65A6F8F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40B7-AEBB-4553-8AAF-50B28DF7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11A0-5CAA-4F5D-BF05-C7D90BA6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F276-7BDB-41A1-BA9E-91CCDF3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05AD-9211-4A06-A39C-BA72130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C771-462B-42E3-994E-2BD54DE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D5CC-7083-4EE1-B428-B54A88F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7A475-4353-4FEA-8131-049DA5C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2BDB-9F97-4C87-BBE1-2DFD654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DB2C-E765-4AF6-A0B1-8342385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318-052C-4CB6-8AB6-DB991603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8E97-1BB8-4D60-92CA-287BBF63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763F-9F62-40AD-92A2-F5C2CA5C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4C5F-1B76-418F-8B7F-A701207E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99A5-FA1F-4C39-ACC3-F1C568E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3228-5C1E-430F-BEEE-2E66FD4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8302-B7EB-4BB9-BF22-3BACFDA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E7B5-FBE9-4C1C-8145-5C4186B6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6DCE6-C724-4810-AF8C-C8BACA8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1C629-F418-4E61-88F9-DC809B4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314F-CB75-4DF2-B3F8-B0BF701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CF8-CE02-48E9-A694-821DF15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181B-4F9E-4714-B03F-C7FF187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9CF3-9E97-4BC2-91C7-BC08F198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717B-DBDC-4FDD-879C-C53351DC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A41-7CAA-4380-8864-F617C6B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F71-1ED6-418B-B0B2-BFA50D5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8735-BDD8-4EF3-8583-DD1578B32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190D-687C-48BB-A6A5-685B4910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8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9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9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98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grpSp>
            <p:nvGrpSpPr>
              <p:cNvPr id="99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00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4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6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F0FB-23A4-4869-BA93-5869E6FA0B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278-E341-4E68-ACEB-D6D299FD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050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212" name="Rectangle 2051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3" name="Rectangle 2052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214" name="Picture 2053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A67-64CD-4E5B-8ABD-D108FC7B7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7" name="Group 3"/>
            <p:cNvGrpSpPr/>
            <p:nvPr/>
          </p:nvGrpSpPr>
          <p:grpSpPr>
            <a:xfrm>
              <a:off x="5409720" y="53640"/>
              <a:ext cx="3620520" cy="6138720"/>
              <a:chOff x="5409720" y="53640"/>
              <a:chExt cx="3620520" cy="6138720"/>
            </a:xfrm>
          </p:grpSpPr>
          <p:sp>
            <p:nvSpPr>
              <p:cNvPr id="258" name="Freeform 4"/>
              <p:cNvSpPr/>
              <p:nvPr/>
            </p:nvSpPr>
            <p:spPr>
              <a:xfrm flipV="1" rot="11970000">
                <a:off x="6582240" y="33876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59" name="Freeform 5"/>
              <p:cNvSpPr/>
              <p:nvPr/>
            </p:nvSpPr>
            <p:spPr>
              <a:xfrm flipV="1" rot="11970000">
                <a:off x="7421760" y="195156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 flipV="1" rot="11970000">
                <a:off x="6824520" y="258336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 flipV="1" rot="11970000">
                <a:off x="7250400" y="66600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V="1" rot="11970000">
                <a:off x="7147800" y="264528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3" name="Freeform 9"/>
              <p:cNvSpPr/>
              <p:nvPr/>
            </p:nvSpPr>
            <p:spPr>
              <a:xfrm flipV="1" rot="11970000">
                <a:off x="7134840" y="123732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26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27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1"/>
            <p:cNvGrpSpPr/>
            <p:nvPr/>
          </p:nvGrpSpPr>
          <p:grpSpPr>
            <a:xfrm>
              <a:off x="5647320" y="302400"/>
              <a:ext cx="897840" cy="812160"/>
              <a:chOff x="5647320" y="302400"/>
              <a:chExt cx="897840" cy="812160"/>
            </a:xfrm>
          </p:grpSpPr>
          <p:sp>
            <p:nvSpPr>
              <p:cNvPr id="276" name="Freeform 22"/>
              <p:cNvSpPr/>
              <p:nvPr/>
            </p:nvSpPr>
            <p:spPr>
              <a:xfrm rot="14908200">
                <a:off x="5759280" y="784080"/>
                <a:ext cx="17820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7" name="Freeform 23"/>
              <p:cNvSpPr/>
              <p:nvPr/>
            </p:nvSpPr>
            <p:spPr>
              <a:xfrm rot="14908200">
                <a:off x="5711400" y="4726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14908200">
                <a:off x="6256080" y="40212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280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2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284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5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6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288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89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290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291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5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97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B7F-BF9D-4200-85A3-F585DFB166D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ugestibil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nost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0" name="TekstniOkvir 2"/>
          <p:cNvSpPr/>
          <p:nvPr/>
        </p:nvSpPr>
        <p:spPr>
          <a:xfrm>
            <a:off x="3929040" y="6072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Tahoma"/>
              </a:rPr>
              <a:t>Ines Sučić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21932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Nakon što je sudionik odgovorio na svih 20 pitanja odlučnim glasom mu se kaže “ tijekom odgovaranja na pitanja počinio si brojne greške te je nužno da ti ponovno postavim sva pitanja još jednom. Trudi se ovaj puta na njih točnije odgovoriti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Ponovno se sudioniku postave ista pitanja čime se mjeri stupanj promjene tj. svaka promjena u odnosu na prethodno dani odgovor na svako od postavljenih sugestivnih pitanja. Broj pitanja kod kojih je došlo do promjene u odgovoru čine rezultat na skali “promjene”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Ukupan rezultat na skali sugestibilnosti predstavlja suma odgovora na subskali “podlijeganja sugestivnim pitanjima” i subskali “promjene odgovora na sugestivna pitanja”.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00cc"/>
                </a:solidFill>
                <a:latin typeface="Arial"/>
              </a:rPr>
              <a:t>Prigovori GS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klonost sugestibilnosti je pod utjecajem situacijskih čimbenika (npr. raspoloženje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Raste u funkciji deprivacije od sn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aljanost provjeravana na malom broju sudionika – ne može se sa sigurnošću tvrditi da su njihova priznanja bila lažn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U nekim istraživanjima nije bio kontroliran IQ, prijašnja kriminalna karijera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250920" y="333360"/>
          <a:ext cx="8713800" cy="6273720"/>
        </p:xfrm>
        <a:graphic>
          <a:graphicData uri="http://schemas.openxmlformats.org/drawingml/2006/table">
            <a:tbl>
              <a:tblPr/>
              <a:tblGrid>
                <a:gridCol w="4817880"/>
                <a:gridCol w="1987560"/>
                <a:gridCol w="190836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IMBENICI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POSREDNA S.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GOĐENA S.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“</a:t>
                      </a: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U” distribucija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“</a:t>
                      </a: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U” distribucij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IQ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r=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okorav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opušt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Imaginacija (vizualizacija, zamišljanje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Disocijativno mišlj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Anksioznost - crt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 (jaka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Anksioznost – stanj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 (umjerena)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Ekstraverzija, neuroticizam, samoprocjena  nepoštenja, nisko samo-poštovanje, perceptivna defenzivnost i praznovjerje, deprivacija od sn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+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Broj prijašnjih kontakata s policijom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-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Primarna (hipnotička) sugestibilnost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Arial"/>
                        </a:rPr>
                        <a:t>r=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782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čini ispitivanja sugestibi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ndardizirani testovi (testovi koji se koriste u forenzičkog praksi npr. WST, TAS, SET-S, GSS, BT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avljanje sugestivnih pitanja tijekom uzimanja izjave (Arntzen, 1993; Raskin i Esplin, 199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50920" y="333360"/>
          <a:ext cx="8642160" cy="5943600"/>
        </p:xfrm>
        <a:graphic>
          <a:graphicData uri="http://schemas.openxmlformats.org/drawingml/2006/table">
            <a:tbl>
              <a:tblPr/>
              <a:tblGrid>
                <a:gridCol w="792000"/>
                <a:gridCol w="1432080"/>
                <a:gridCol w="1158840"/>
                <a:gridCol w="1270080"/>
                <a:gridCol w="1028520"/>
                <a:gridCol w="800280"/>
                <a:gridCol w="1139760"/>
                <a:gridCol w="102060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uthor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timuli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ypes of Question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ub-scales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rget Age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 Norms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Remarks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5a9"/>
                    </a:solidFill>
                  </a:tcPr>
                </a:tc>
              </a:tr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WST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ottenberg &amp; Wehner, 1971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ble #5 of the TAT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ffirmative sentence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on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2 to 13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169, only girls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roup test, written form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urger, 1971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30 slides, scenes of everyday lif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20 yes-no question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7 to 14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200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ET-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Zimmermann, 1978, 1982a, b, 1988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4 photos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8 yes-no (assertive sentences)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exual content sugg.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9 to 10 and 12 to 16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110 (younger) and 225 (older)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forms for younger and older children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24000" y="549360"/>
          <a:ext cx="8569080" cy="5543640"/>
        </p:xfrm>
        <a:graphic>
          <a:graphicData uri="http://schemas.openxmlformats.org/drawingml/2006/table">
            <a:tbl>
              <a:tblPr/>
              <a:tblGrid>
                <a:gridCol w="1225440"/>
                <a:gridCol w="1222200"/>
                <a:gridCol w="1225800"/>
                <a:gridCol w="1222200"/>
                <a:gridCol w="1225440"/>
                <a:gridCol w="1222560"/>
                <a:gridCol w="1225440"/>
              </a:tblGrid>
              <a:tr h="18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Author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timul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ypes of Question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ub-scale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arget Ag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Test Norm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ef5a9"/>
                    </a:solidFill>
                  </a:tcPr>
                </a:tc>
              </a:tr>
              <a:tr h="18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S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Gudjonsson, 1984, 1987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Short story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es-no and alternativ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ield, shift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195, children and adults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BTS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d23c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Endres &amp; Scholz, 1995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Illustrated short story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Yes-no, alternative, repeated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3 (div. Question formats)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4 to 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  <a:ea typeface="Times New Roman"/>
                        </a:rPr>
                        <a:t>N=62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79280" y="907920"/>
          <a:ext cx="8675640" cy="3017880"/>
        </p:xfrm>
        <a:graphic>
          <a:graphicData uri="http://schemas.openxmlformats.org/drawingml/2006/table">
            <a:tbl>
              <a:tblPr/>
              <a:tblGrid>
                <a:gridCol w="4338720"/>
                <a:gridCol w="433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Tip pitanj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rimjer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Otvorena pitanj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Što se desilo? Što si vidio? Tko, kada, gdje, zašto, kako…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itanja utvrđivanja činjenica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Koliko je bilo sati? Koje boje, veličine…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Odabir*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Je li se radilo o M ili Ž?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Da-ne pitanja**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Je li čovjek rekao nešto? </a:t>
                      </a: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130"/>
          <p:cNvSpPr/>
          <p:nvPr/>
        </p:nvSpPr>
        <p:spPr>
          <a:xfrm>
            <a:off x="324000" y="189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93939"/>
                </a:solidFill>
                <a:latin typeface="Arial"/>
              </a:rPr>
              <a:t>PITANJA NISKE SUGESTIBILNOSTI</a:t>
            </a:r>
            <a:r>
              <a:rPr b="0" lang="hr-HR" sz="24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5" name="Text Box 142"/>
          <p:cNvSpPr/>
          <p:nvPr/>
        </p:nvSpPr>
        <p:spPr>
          <a:xfrm>
            <a:off x="250920" y="4292640"/>
            <a:ext cx="8642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*donekle sugestivna – pretpostavlja se da osoba zna odgovor, umanjuje se “ne znam” odgov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** malo do umjereno sugestivna – ovisi u kojem stupnju ograničavaju raspon mogućih odgovora i koliko dobro reprezentiraju različite opcije, posebno sugestivno ako se radi o potvrdnoj rečenici s upitnom intonacijom  npr. </a:t>
            </a:r>
            <a:r>
              <a:rPr b="0" i="1" lang="hr-HR" sz="2000" spc="-1" strike="noStrike">
                <a:solidFill>
                  <a:srgbClr val="393939"/>
                </a:solidFill>
                <a:latin typeface="Arial"/>
              </a:rPr>
              <a:t>I on je držao pištolj?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66"/>
                </a:solidFill>
                <a:latin typeface="Verdana"/>
              </a:rPr>
              <a:t>PITANJA VISOKE SUGESTIBILNOSTI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549360"/>
          <a:ext cx="8964720" cy="630396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ip pitanja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rimjer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Sugestivni poticaj s pretpostavljenim odgovorom (jasno naznačen odgovor koji se očekuje ili je dan detalj koji osoba nije još spomenula u razgovoru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stavio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ovac koji je ukrao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u svoj džep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ata te tukao, jel’ tako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: opisa ili vrednovanja (korištenje riječi koje imaju određeno konotativno značenje, Loftus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Koliko brzo je X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rčao</a:t>
                      </a:r>
                      <a:r>
                        <a:rPr b="0" i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kad si ga vidio da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bježi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iz dućana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: očekivanja (logičke pretpostavke, stereotipi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I tada je žrtva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zasigurno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zvala upomoć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Višestruki izbor s ograničenim alternativama (alternative koje nisu dane nisu točne) i da/ne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auto bio crn ili crven (ili se ne sjećaš)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 li ti tata rekao da ništa ne kažeš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onavljanje pitanja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si li siguran? Ponovno ću te pitati: je li X ukrao novac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egativna povratna informacija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oziv na spekulaciju…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Jednostavno ne mogu vjerovati da se toga ne sjećaš…Da li misliš da…..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egativno i pozitivno potkrepljenje; prijetnja i obećanje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Hoćeš ispasti glup ili ćeš biti pametan i pomoći nam? Ispitivat ću te dok mi ne kažeš što je X učinio. Dok mi ne kažeš, neću te pustiti na miru. Osjećat ćeš se bolje nakon što mi kažeš.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ritisak konformizmu (socijalna usporedba) (Asch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A i B su rekli da…je si li i ti to vidio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Pitanje koje slijedi nakon elaboriranja sugestivnog sadržaja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A sada o tom hitcu koji si konačno priznao da si čuo. Od kuda je došao? 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Sugestivne fraze, intonacija (npr. zar ne?)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Ti si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zaista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 to vidio, </a:t>
                      </a:r>
                      <a:r>
                        <a:rPr b="1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nisi li</a:t>
                      </a:r>
                      <a:r>
                        <a:rPr b="0" lang="hr-HR" sz="1400" spc="-1" strike="noStrike">
                          <a:solidFill>
                            <a:srgbClr val="040404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Verdana"/>
              </a:rPr>
              <a:t>Bonn je dobio slijedeć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cf5a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cf5a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cf5a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Verdana"/>
              </a:rPr>
              <a:t>N=6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285920" y="2714760"/>
          <a:ext cx="7000920" cy="23018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ubskale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ronbach’s </a:t>
                      </a: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 sa slobodnim dosjećanje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 sa dob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52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72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2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44**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7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1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0,2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d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24000" y="1052640"/>
          <a:ext cx="8496000" cy="4624200"/>
        </p:xfrm>
        <a:graphic>
          <a:graphicData uri="http://schemas.openxmlformats.org/drawingml/2006/table">
            <a:tbl>
              <a:tblPr/>
              <a:tblGrid>
                <a:gridCol w="1214280"/>
                <a:gridCol w="1212840"/>
                <a:gridCol w="1214280"/>
                <a:gridCol w="1213200"/>
                <a:gridCol w="1214280"/>
                <a:gridCol w="1212840"/>
                <a:gridCol w="121428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Subskal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C.  Alph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aralelna forma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etest r (7 tjedana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dosjećanje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IQ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r s dob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DA-N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9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4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4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7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5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71*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7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ALTERNATIV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7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7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3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5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27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36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44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PONAVLJANJE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8 čestica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70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5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32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16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16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28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(24 čestice)</a:t>
                      </a:r>
                      <a:endParaRPr b="0" lang="en-US" sz="16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5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85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.66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41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53**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0404"/>
                          </a:solidFill>
                          <a:latin typeface="Arial"/>
                        </a:rPr>
                        <a:t>-.62** </a:t>
                      </a:r>
                      <a:endParaRPr b="0" lang="en-US" sz="20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Text Box 66"/>
          <p:cNvSpPr/>
          <p:nvPr/>
        </p:nvSpPr>
        <p:spPr>
          <a:xfrm>
            <a:off x="179280" y="6004080"/>
            <a:ext cx="856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40404"/>
                </a:solidFill>
                <a:latin typeface="Arial"/>
              </a:rPr>
              <a:t>Endres, 1997;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=62</a:t>
            </a:r>
            <a:r>
              <a:rPr b="1" lang="hr-HR" sz="2000" spc="-1" strike="noStrike">
                <a:solidFill>
                  <a:srgbClr val="040404"/>
                </a:solidFill>
                <a:latin typeface="Arial"/>
              </a:rPr>
              <a:t> djece stare između 4 i 9 godin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**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 &lt; .001 * </a:t>
            </a:r>
            <a:r>
              <a:rPr b="1" i="1" lang="en-US" sz="20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40404"/>
                </a:solidFill>
                <a:latin typeface="Arial"/>
              </a:rPr>
              <a:t> &lt; .0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2" name="Text Box 67"/>
          <p:cNvSpPr/>
          <p:nvPr/>
        </p:nvSpPr>
        <p:spPr>
          <a:xfrm>
            <a:off x="1908000" y="189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Bonn Test of Statement Suggesstibilit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Defin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icije sugestibilnosti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KOGNITIVNA: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“….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upanj u kojem osobe prihvaćaju dijelove informacija koje su uslijedile nakon događaja (KD) i inkorporiraju ih u svoje pamćenje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” (Powers, Andriks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Loftus, 1979,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r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 339)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OCIO – EMOCIONALNA: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“….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upanj u kojem, tijekom zatvorene socijalne interakcije, osobe počinju prihvaćati poruke/ informacije izgovorene tijekom tog formalnog ispitivanja, pri čemu te poruke/informacije imaju utjecaja na kasnije reakcije tj. ponašanje osobe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” (Gudjonsson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Clark, 1986,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str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.84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IMG00002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8276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205092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Bonn Test of Statement Suggesstibilit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Primjena BTSS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932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nema još dovoljno podataka o konstruktnoj i prediktivnoj valjanosti; dvije komponente (kognitivna DA-NE skala, situacijska PONAVLJANJE skala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individualna sugestibilnost nije najvažniji psihološki konstrukt pri ispitivanju vjerodostojnosti izjava zato ne odbacivati izjavu djeteta ako je visok rezultat na BTSS (treba uzeti u obzir i sugestivni utjecaj koji postoji u okolini djeteta – npr. obitelj, ispitivač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U slučajevima s više svjedoka – može se koristiti da se vidi kod kojih su izjave pod utjecajem sugestije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U individualnim slučajevima treba se primjenjivati u kontekstu cjelokupnog ponašanja djeteta tijekom intervjua (posebno djetetovih reakcija na sugestivna pitanja povezana s manje bitnim detaljima slučaja) – ako dijete ima visok rezultat na BTSS, ali ne podliježe sugestivnim pitanjima u intervjuu onda dijete ima dobro pamćenje, ako obrnuto onda je pitanje vjerodostojnosti izjav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0950d"/>
                </a:solidFill>
                <a:latin typeface="Times New Roman"/>
              </a:rPr>
              <a:t>Istraživanje - usporedba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4920" y="790560"/>
          <a:ext cx="2664000" cy="2709720"/>
        </p:xfrm>
        <a:graphic>
          <a:graphicData uri="http://schemas.openxmlformats.org/drawingml/2006/table">
            <a:tbl>
              <a:tblPr/>
              <a:tblGrid>
                <a:gridCol w="1440000"/>
                <a:gridCol w="12240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10, n=18 (8m/10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tra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395280" y="3857760"/>
          <a:ext cx="8353440" cy="2595600"/>
        </p:xfrm>
        <a:graphic>
          <a:graphicData uri="http://schemas.openxmlformats.org/drawingml/2006/table">
            <a:tbl>
              <a:tblPr/>
              <a:tblGrid>
                <a:gridCol w="1368360"/>
                <a:gridCol w="1017720"/>
                <a:gridCol w="1193760"/>
                <a:gridCol w="1193760"/>
                <a:gridCol w="1192320"/>
                <a:gridCol w="1193760"/>
                <a:gridCol w="1193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b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4-6 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6-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8-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5,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6,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2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19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M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9,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987640" y="765000"/>
          <a:ext cx="2664000" cy="2808360"/>
        </p:xfrm>
        <a:graphic>
          <a:graphicData uri="http://schemas.openxmlformats.org/drawingml/2006/table">
            <a:tbl>
              <a:tblPr/>
              <a:tblGrid>
                <a:gridCol w="1368360"/>
                <a:gridCol w="129564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2011, n=14 (9m/5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2e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7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940360" y="765000"/>
          <a:ext cx="2664000" cy="2808360"/>
        </p:xfrm>
        <a:graphic>
          <a:graphicData uri="http://schemas.openxmlformats.org/drawingml/2006/table">
            <a:tbl>
              <a:tblPr/>
              <a:tblGrid>
                <a:gridCol w="1368360"/>
                <a:gridCol w="129564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012, n=8 (5m/3ž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ob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7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30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1403280" y="907920"/>
          <a:ext cx="6337440" cy="2124360"/>
        </p:xfrm>
        <a:graphic>
          <a:graphicData uri="http://schemas.openxmlformats.org/drawingml/2006/table">
            <a:tbl>
              <a:tblPr/>
              <a:tblGrid>
                <a:gridCol w="2203560"/>
                <a:gridCol w="202068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ški ispitanic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M (n=14; Mdob=7.6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5,15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3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,8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4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,17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3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349280" y="4005360"/>
          <a:ext cx="6389640" cy="2265120"/>
        </p:xfrm>
        <a:graphic>
          <a:graphicData uri="http://schemas.openxmlformats.org/drawingml/2006/table">
            <a:tbl>
              <a:tblPr/>
              <a:tblGrid>
                <a:gridCol w="2158920"/>
                <a:gridCol w="2160720"/>
                <a:gridCol w="20700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Ženski ispitanici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M (n=8; Mdob=7.8)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d87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amće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4,6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2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da/n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d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ponavljanj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90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40404"/>
                          </a:solidFill>
                          <a:latin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Times New Roman"/>
              </a:rPr>
              <a:t>Zapažanja 2012</a:t>
            </a:r>
            <a:r>
              <a:rPr b="1" lang="hr-HR" sz="4400" spc="-1" strike="noStrike">
                <a:solidFill>
                  <a:srgbClr val="6600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1160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djece ispitana podjednako prije i poslije podne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podjednaki broj djece (ne)poznaje ispitivač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podjednako prisutna/odsutna odrasla osob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tijekom pauze ispitivači su sa djecom gledali TV, igrali se, razgovarali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djeca su uglavnom bila vesela, zainteresirana i nasmijana (kao i ispitivači :=)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  <a:ea typeface="Arial"/>
              </a:rPr>
              <a:t>iskustva ispitivača uglavnom su bila pozitivna i vesela, no neki navode probleme kao što su nemir kod djece, dosadu i sl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cc"/>
                </a:solidFill>
                <a:latin typeface="Arial"/>
              </a:rPr>
              <a:t>Što uzrokuje sugestibilnost? 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postoje višestruki mehanizm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(Eisen, Winograd </a:t>
            </a: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 Qi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A) kognitivni (IQ, dob, pamćenje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B)socio-emocionalni (konformizam, socijalna poželjnost, situacijski čimbenici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Tipovi sugestibilnosti 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Eisen </a:t>
            </a:r>
            <a:r>
              <a:rPr b="0" lang="hr-HR" sz="3200" spc="-1" strike="noStrike">
                <a:solidFill>
                  <a:srgbClr val="393939"/>
                </a:solidFill>
                <a:latin typeface="Arial"/>
              </a:rPr>
              <a:t>i sur. razlikuju dva tipa sugestibilnosti</a:t>
            </a:r>
            <a:r>
              <a:rPr b="0" lang="en-GB" sz="3200" spc="-1" strike="noStrike">
                <a:solidFill>
                  <a:srgbClr val="39393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93939"/>
                </a:solidFill>
                <a:latin typeface="Arial"/>
              </a:rPr>
              <a:t>Odgođena sugestibilnost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–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javlja se pri dosjećanju događaja (npr. svjedoci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93939"/>
                </a:solidFill>
                <a:latin typeface="Arial"/>
              </a:rPr>
              <a:t>Neposredna sugestibilnost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 –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eći utjecaj socio-emocionalnih faktora uslijed sugestivnih pitanja i pritiska na davanje određenih odgovora 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(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ovezano s istražnim intervjuom i ispitivanjem svjedoka</a:t>
            </a: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187280" y="549360"/>
            <a:ext cx="4321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Neposredna ili istražna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3939"/>
                </a:solidFill>
                <a:latin typeface="Arial"/>
              </a:rPr>
              <a:t>sug</a:t>
            </a:r>
            <a:r>
              <a:rPr b="1" lang="hr-HR" sz="2000" spc="-1" strike="noStrike">
                <a:solidFill>
                  <a:srgbClr val="393939"/>
                </a:solidFill>
                <a:latin typeface="Arial"/>
              </a:rPr>
              <a:t>estibilnost: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kada je dana pogrešna informacija tijekom ispitivanja zapamćenog u obliku sugestivnog pitanja. Uzrok je socijalni pritisak, a ne zbunjenost ili poremćaj pamćenja.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Gudjonsson (1984) 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je razvio </a:t>
            </a: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Gudjonsson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ovu Skalu Sugestibilnosti </a:t>
            </a:r>
            <a:r>
              <a:rPr b="0" lang="en-GB" sz="2000" spc="-1" strike="noStrike">
                <a:solidFill>
                  <a:srgbClr val="393939"/>
                </a:solidFill>
                <a:latin typeface="Arial"/>
              </a:rPr>
              <a:t>(GSS) </a:t>
            </a:r>
            <a:r>
              <a:rPr b="0" lang="hr-HR" sz="2000" spc="-1" strike="noStrike">
                <a:solidFill>
                  <a:srgbClr val="393939"/>
                </a:solidFill>
                <a:latin typeface="Arial"/>
              </a:rPr>
              <a:t>kojom se mjeri neposredna sugestibilnost i osjetljivost pojedinaca na sugestivne informacije i socijalni pritisak.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Individual</a:t>
            </a:r>
            <a:r>
              <a:rPr b="0" lang="hr-HR" sz="4400" spc="-1" strike="noStrike">
                <a:solidFill>
                  <a:srgbClr val="6600cc"/>
                </a:solidFill>
                <a:latin typeface="Arial"/>
              </a:rPr>
              <a:t>ne razlik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većina istraživača se slaže da se pojedinci razlikuju u svojim stupnjevima sugestibilnosti (crta ličnosti) – Binet, Stern (europski istraživači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istraživanja se usmjerila na ispitivanje tih individualnih razlika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93939"/>
                </a:solidFill>
                <a:latin typeface="Arial"/>
              </a:rPr>
              <a:t>Gudjonsson 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je bio pionir u tom području te se većina istraživanja bavi ispitivanjem neposredne sugestivnosti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američki eksperimentalni psiholozi – usmjerili se na situacijske čimbenike koji dovode do sugestibilnosti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GSS (Gudjonsson, 1984; 1992; 1997)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Mjeri individualne razlike u stupnju neposredne tj. istražne sugestibilnosti i to u dva aspekta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Tendenciji podlijeganja sugestivnim pitanjima (Yield)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Tendenciji promjene odgovora pod utjecajem socijalnog pritiska (Shift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Omogućuje i mjeru kratkoročnog i dugoročnog pamćenja verbalnog sadržaja te konfabulacij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GSS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1196640"/>
            <a:ext cx="7448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ostoje 2 paralelne forme (GSS-1 priča koja opisuje izmišljenu pljačku i GSS-2 priča koja opisuje kako je par spasio dječaka od nesreće s biciklom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Molim te poslušaj kratku priču. Pažljivo slušaj jer kad završi reći ćeš mi sve čega se možeš dosjetiti.”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93939"/>
                </a:solidFill>
                <a:latin typeface="Arial"/>
              </a:rPr>
              <a:t>Pušta se audio snimka priče, nakon čega se kaže “Sada mi reci sve čega se možeš dosjetiti iz priče”.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98064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Svaki detalj kojeg se sudionik dosjeti iz priče nosi po jedan bod, max. 40 bodova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Nakon toga se od sudionika traži da odgovori na 20 pitanja o priči, od kojih je: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15 sugestivnih i služe kako bi se saznalo hoće li sudionik “podleći” sugestivnim pitanjima (da-ne pitanja, višestruki izbor). Svako sugestivno pitanje na koje sudionik odgovori potvrdno donosi jedan bod, max. 15 bodova na skali “sugestibilnosti”.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93939"/>
                </a:solidFill>
                <a:latin typeface="Arial"/>
              </a:rPr>
              <a:t>5 pravih pitanja kojima je svrha maskirati pravu svrhu ispitivanja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58:51Z</dcterms:created>
  <dc:creator>ridley</dc:creator>
  <dc:description/>
  <dc:language>en-US</dc:language>
  <cp:lastModifiedBy>nom</cp:lastModifiedBy>
  <dcterms:modified xsi:type="dcterms:W3CDTF">2013-05-29T08:53:16Z</dcterms:modified>
  <cp:revision>138</cp:revision>
  <dc:subject/>
  <dc:title>PowerPoint Presentation</dc:title>
</cp:coreProperties>
</file>