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F79-1484-41CB-A344-72DD8838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321-F88E-4014-999E-051D95BF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75A-6199-48C6-B9AE-38D11175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484-91AE-46D7-ADF8-9E96FBFF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3520-FC3E-4507-AD00-8424102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B5A-9557-4FFC-BD1A-99257E95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92B8-2052-49B4-8C57-337E6A86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AFFE-CE84-43EA-8321-03E1DD2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E492-96EA-4B0A-8A19-689D1575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064F-CDC6-4BCC-885F-C8990C4C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6A93-C5B4-4B83-9264-38AF5162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D29-D82E-4415-BBDB-A6471672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8E14-837E-4AE8-ABB0-79E0BC92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8EB4-B288-4A31-8637-7F2945A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78C2-523F-4A3D-A01B-8CD5A2CF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75C6-B10D-4366-AA2D-FAA16E66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F6BC-4C02-40D7-8D38-BA107694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AA7-7D8D-479F-98F6-0617B930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7B1-EC5B-4EFE-AA6D-81B47325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96B-E3D8-4F1D-A32B-7D95D623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728-76E4-448A-BF4B-063102FD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B3D-6E4D-4435-9BD9-D16054A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E7E-CE1D-4504-A654-9C24C64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221-1B43-4169-8D5E-45D8BAD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84C0-1E04-4D0C-BA50-22408AB65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48E-FE3D-44FA-8133-9B763DA0F29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BOL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ain-man-women%20copy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16400" cy="28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F25C-86E4-48DA-A48A-D6C95A6EA827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Mjesto djelovanj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752480"/>
            <a:ext cx="2666880" cy="762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OSFOLIPI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895480"/>
            <a:ext cx="2666880" cy="762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RAHIDONSK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KISE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514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6196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3276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2767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4419720"/>
            <a:ext cx="3504960" cy="761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UKOTRIE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419720"/>
            <a:ext cx="3429000" cy="761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ROSTAGLAND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581280"/>
            <a:ext cx="2362320" cy="7621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pooksigena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3581280"/>
            <a:ext cx="2514600" cy="7621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klooksigena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334120"/>
            <a:ext cx="3581280" cy="990360"/>
          </a:xfrm>
          <a:prstGeom prst="ellipse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G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PG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mboksan, prostacik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91C-5A4E-4438-B3B8-5240501C496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ARACETA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ALICIL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IRAZOL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DERIVATI OCTENE KISELINE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indometacin, diklofe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DERIVATI PROPIONSKE KISELINE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ibupro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KSIKAM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- piroksik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FENAM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ELEOKS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362-4D2D-4765-BB57-DC7401A4A003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INHIBITORI PROSTAGLANDIN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ROTUUPAL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- pretežno COX-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ALGETSKI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- pretežno COX-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ANTIPIRETSK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98108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Djeluju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4D2-DA50-4EA1-ABD8-A6B3C113AC13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Ciklooksigenaz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Izofo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OX 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konstruktivni enzim (citoprotektivni učinak u sluznici želuca, inhibicija agregacije tromboci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COX 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zomer, enzim koji induciraju medijatori upale (IL-1, TNF, mitogen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283-8654-45E4-A82C-571D0E39D4E2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Prednosti selektivne </a:t>
            </a:r>
            <a:br>
              <a:rPr sz="3600"/>
            </a:b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inhibicije COX-2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odjednaka djelotvornost kao klasični NS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ena učestalost nuspojava vezanih uz gastrointestinalni trak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EE0-134E-4B10-A132-5AA7DBCD9A39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bol2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476800" cy="2438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Sekundarni analgeti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520" y="20570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depres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epilep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da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sihotropni lijek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timigren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išićni relaksa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Hladnoć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F3B-4F2B-4100-9E14-A53C29323A29}" type="slidenum">
              <a:t>15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efinicija bol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(lat. dolor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Bol je neugodan osjetilni i emocionalni doživljaj povezan sa stvarnim ili potencijalnim oštećenjem tki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114800"/>
            <a:ext cx="7848720" cy="4572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029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finicija međunarodnog udruženja za istraživanje b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8C3-4429-462A-928D-9BDDD7B8306F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Bol u ljudskom životu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66% ljudi barem jednom tijekom života osjeti 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40% ljudi osjeća bol koja traje 6 mjese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1/3 populacije industrijskih zemalja boluje od kronične b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15 - 20%  ljudi ima dugotrajnu 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ajčešće se radi o populaciji između 45 - 64 godine živ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740-914C-4C46-875E-F4FFE95EA766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62920" y="2666880"/>
            <a:ext cx="1143000" cy="1067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819520"/>
            <a:ext cx="1143000" cy="1066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rovođenje osjeta bol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ocicep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inalni živ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ralježnična možd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ala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oždana k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2133720"/>
            <a:ext cx="99072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743200"/>
            <a:ext cx="9907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657600"/>
            <a:ext cx="114300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4114800"/>
            <a:ext cx="1143000" cy="1066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724280"/>
            <a:ext cx="1143000" cy="1067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5334120"/>
            <a:ext cx="1143000" cy="10666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5943600"/>
            <a:ext cx="76176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5410080"/>
            <a:ext cx="1143000" cy="1067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C2F-73C7-4F8E-A9BD-FED72A2CA931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Vrste bol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MEHAN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ciceptorska - pobuđivanje nocicep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uropatska - poremećaji živčano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st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POVRŠIN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utana, epikritič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DUBO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matska i potpornih tkiva, protopat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VISCERAL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z tjelesnih šupljina u unutrašnje organe,   neprecizno prezenti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C87-0DDA-45F2-AD2D-B57B1CC7B8E2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1219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NALGETIC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manjuju osjet boli, ali          ne mijenjaju značajnije stanje svije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590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PIOID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nhibiraju ili modificiraju prijenos bolnih impulsa u SŽ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0384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OPIOIDNI ANALGETIC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prečavaju nastajanje bolnih impulsa na periferi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609-1E2E-4069-BD3D-2BC6F8D00FDA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NKEFAL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metionin enkefalin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eucin enkef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NDORFINI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endorf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Wingdings"/>
                <a:ea typeface="Wingdings"/>
              </a:rPr>
              <a:t></a:t>
            </a: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INORFIN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dinorfin A i B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i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eoendorf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ENDOGENI OPIOI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D9E-579A-42F0-8C3C-305955403B02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OPIOIDNI RECEPTORI 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-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,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</a:t>
            </a:r>
            <a:r>
              <a:rPr b="0" lang="en-US" sz="3600" spc="-1" strike="noStrike">
                <a:solidFill>
                  <a:srgbClr val="66ffcc"/>
                </a:solidFill>
                <a:latin typeface="Bookman Old Style"/>
              </a:rPr>
              <a:t>, </a:t>
            </a:r>
            <a:r>
              <a:rPr b="0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5840" y="1143000"/>
          <a:ext cx="74376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143000"/>
                    <a:ext cx="7437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91C-8ACD-4246-9A1E-97F93B31CB0C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MORFIN - učinc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Analgez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Eufor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epresija respiraci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epresija refleksa kašl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Mučn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Povraćan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Mioz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onus glatkih mišića u G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pazam sfinktera Odd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onus mokraćnog mjehur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Hipotenzi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slobađanje histam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05520" y="2057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05520" y="38858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345-4AEC-409C-A96D-E4440E1FE8AD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3:13:41Z</dcterms:created>
  <dc:creator>Jelena</dc:creator>
  <dc:description/>
  <dc:language>en-US</dc:language>
  <cp:lastModifiedBy>KERAMEIKOS d.o.o.</cp:lastModifiedBy>
  <dcterms:modified xsi:type="dcterms:W3CDTF">2003-01-31T09:00:25Z</dcterms:modified>
  <cp:revision>16</cp:revision>
  <dc:subject/>
  <dc:title>FARMAKOLOGIJA BOLI</dc:title>
</cp:coreProperties>
</file>