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D02-AA02-4263-851A-DE0858FF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6AA-D1EF-4680-9E05-99D59DD8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1EC-DA4C-4E46-B0E2-06DD0A43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A90-37AB-41C6-9C41-6A66E4DD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F84-1CF7-470B-ADCA-5BDEA226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FFF-5E9E-4CCF-BC68-8F7B9493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75E-5E54-4E5D-AC68-8238460F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5CF-311F-4B0B-928E-088CF60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FF4-A1A5-4D2D-A2D6-AE2BCAAB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437-993A-4753-87E7-B039132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CC6-62B7-4904-A749-EB5C85B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34B-1781-4899-9739-2E57FB72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DD17-59D4-4C12-848D-9E7DFCE1863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Značajke ruralnog gospodarstva u Hrvatsk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U cilju ocjene razvijenosti ruralnog gospodarstva potrebno je učiniti sektorsku analizu kojom se može utvrditi zastupljenost pojedinih gospodarskih djelatnosti u zaposlenosti kao i vrijednost BDP koji tu nasta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U Hrvatskoj službena statistika ne prati rezultate poslovanja tvrtki prema tipu naselja. Zbog toga se ovakve analize uglavnom oslanjaju na različite ankete i procjene stručnjaka. Konkretnih podataka nema. Izuzetak su pokazatelji za poljoprivrednu proizvodnju jer je to jedina gospodarska grana koja se najvećim djelom odvija u ruralnom prostoru. Može se reći da je ruralno gospodarstvo obilježeno dominacijom poljoprivrednih aktivnosti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00000"/>
                </a:solidFill>
                <a:latin typeface="Arial"/>
              </a:rPr>
              <a:t>Multifunkcionalni ruralni razvoj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Putevi razvoj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Razvijanje ne-poljoprivrednih djelatnosti u ruralnim područjima diverzificira se socio-profesionalna strukura i doprinosi modernizaciji ruralnih područj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- nositelji razvoja: ruralno stanovništvo, poslovni ljudi izvan ruralnog područja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tvaranje pretpostavki za dvojnu aktivnost na OP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za  kombiniranje dviju ili više različitih djelatnosti na vlastitom gospodarstvu, primjerice poljoprivrede i turizma, poljoprivrede i prerade, poljoprivrede i obrtničkih usluga i s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- nositelji razvoja: stanovništvo koje živi na OP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onsolidacija (okrupnjavanje i uređivanje) poljoprivrednog zemljiš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rosječno OPG veliko je oko 2,7 ha obradive površ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prosječno OPG sastoji se iz 5-6 parc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okrupnjavanja poljoprivrednih zemljišnih čestica nužno je sa aspekta uštede u proizvodnim troškov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mjere okrupnjavanja su komasacija i arondacija, melioracijski i infrastrukturni zahvati (kanalska i putna mrež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komasacijom i arondacijom se radi grupiranje poljoprivre-dnih čestica jednog vlasnika u jednu ili manji broj čestica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melioracijskim i infrastrukturnim zahvatima popravljaju se osobine poljoprivrednog zemljišta (plodnost, vodozračni režim) i uređuje kanalska i putna mrež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9999"/>
                </a:solidFill>
                <a:latin typeface="Arial"/>
              </a:rPr>
              <a:t>Pretpostavke razvitka konkurentne poljoprivredne proizvod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končavanje privatizacije i transformacije poljoprivredno-prerađivačkih dioničkih  društava  (ex-kombina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icanje neposrednih stranih ulaganja u poljoprivredno-prerađivačku industr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strukturiranja poljoprivrednih tvrtki, posebice prehrambeno-prerađivačkih kapac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strukturiranje O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ijanje clustera-vertikalnih i horizontal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icanje standardizacije ulaznih sirovina, proizvodnih pogona,  laboratorija,  kao i kakvoće gotovih 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ijanje  izvornog hrvatskog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boljšanje upravljačkih znanja, razvoj prodajnih kanala i ekonomske promidžbe proizvod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9999"/>
                </a:solidFill>
                <a:latin typeface="Arial"/>
              </a:rPr>
              <a:t>Razvitak poljoprivrede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na faz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ehnička preobrazb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podrazumjeva proces mehanizacije:  uvođenje traktora, kombajna i drugih strojeva; te proces kemizacije: primjena mineralnih gnojiva i sredstva za zašti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na faza -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uvremena tehnološka revolucij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rad na pronalascima i introdukciji bioloških i genetskih inovacija, nove metode ishrane bilja i životinja te ekonomičnija organizacija proizvod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blici tehnološkog progresa u poljopriv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cesivan t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e angažiranje radne snage seljačkog gospodar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većana potreba za kvlificiranijim ra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većanje materijalnih efe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ecesivan t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tedi” radnu sna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većava produktivnost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tavlja nezaposlenim dio radnih potencijala s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Agrarna struktura</a:t>
            </a:r>
            <a:br>
              <a:rPr sz="40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/gospodarsko-socijalna slika ruralnih područja/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tribucija  poljoprivrednih gospodarstava prema veličini im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izvodna orijentacija poljoprivrednih gospodar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ocio-ekonomska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će gospodarsko okruž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74600" y="336600"/>
          <a:ext cx="849960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336600"/>
                    <a:ext cx="849960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oljoprivredna gospodarstava prema socio-ekonomskim tipovima (u 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916280"/>
          <a:ext cx="8540640" cy="4437000"/>
        </p:xfrm>
        <a:graphic>
          <a:graphicData uri="http://schemas.openxmlformats.org/drawingml/2006/table">
            <a:tbl>
              <a:tblPr/>
              <a:tblGrid>
                <a:gridCol w="1390680"/>
                <a:gridCol w="1050840"/>
                <a:gridCol w="1541520"/>
                <a:gridCol w="896760"/>
                <a:gridCol w="1551240"/>
                <a:gridCol w="911160"/>
                <a:gridCol w="1198440"/>
              </a:tblGrid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 gospodarstv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joprivred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podarstv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šovita gospodarstv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up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9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šovita poljoprivredna  gospodarst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tivno novija pojava u strukturi seljačke ekonom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iteljska poljoprivredna gospodarstva seljaka-rad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tala su kao proizvod nepotpune industrijal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ina ovih gospodarstva pripada skupini malih i srednjih O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a gospodarstva zaostaju u tehnološkom smislu za modernim tržišno-orijentiranim OP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eličina OPG Hrvatske i raspoloživo poljoprivredno zemljiš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1680" y="1700280"/>
          <a:ext cx="8540640" cy="4489560"/>
        </p:xfrm>
        <a:graphic>
          <a:graphicData uri="http://schemas.openxmlformats.org/drawingml/2006/table">
            <a:tbl>
              <a:tblPr/>
              <a:tblGrid>
                <a:gridCol w="1893960"/>
                <a:gridCol w="1582560"/>
                <a:gridCol w="1351080"/>
                <a:gridCol w="2361960"/>
                <a:gridCol w="1351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ičina gospodarst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gospodar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k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položivo zemljište (h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k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1 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.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-2 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9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3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1-3 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1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5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1-5 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7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.7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1-10 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4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.2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ći od 10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8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.8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 gospodarst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.5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2.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izvodna orijentacija O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40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i dio OPG u Hrvatskoj, zbog malih posjeda, prakticira diverzificiran proizvodni program uz različite oblike zapošljavanja izvan vlastitog OP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diverzifikacija ili svaštarenje u poljoprivredi – to znači da jedno OPG proizvodi mnogo vrsta različitih proizvoda (povrće, voće, pšenicu, kukuruz, perad, ovce, koze, svinje, goveda i dr.) u cilju zadovoljavanja prehrambenih potreba kućanstva (autokonz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mješovita gospodarstva – komplementiranje različitih djelatnosti: </a:t>
            </a: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dvojna aktivnost radno sposobnih članova, tj. kombiniranje radnog odnosa izvan gospodarstva i rad na OP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48:28Z</dcterms:created>
  <dc:creator>Snježana Tolić</dc:creator>
  <dc:description/>
  <dc:language>en-US</dc:language>
  <cp:lastModifiedBy>WinXP User</cp:lastModifiedBy>
  <dcterms:modified xsi:type="dcterms:W3CDTF">2006-12-15T13:39:19Z</dcterms:modified>
  <cp:revision>10</cp:revision>
  <dc:subject/>
  <dc:title>Ruralno gospodarstvo</dc:title>
</cp:coreProperties>
</file>