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6DA-78B9-44AB-8BF5-69A53126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355-F724-4D0D-9102-8D5B035B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EED-E04C-4CA4-98CC-D5C08AF7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AA0-9B31-46E0-9E04-16628A55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DFD2-0E5C-4E76-9440-507F9DE1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5189-7458-4DCE-9CD7-D2BA4F7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27D4-6CE1-4F99-A20E-F325EF7E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01D9-A7D7-4E79-AF56-D06543A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F899-7526-4A71-BA25-49CB3999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DA85-4325-482A-A80C-9EC09D6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EFBE-DEE6-4DEB-83F0-8FB0719E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A1C-9CFE-4666-8116-58C179FE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A6EF-5E93-4B5C-8149-50F934A8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E852-119D-4FE1-96F6-929D39B1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2891-FA67-43CA-BF82-6CC652AA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ADA3-CBF5-4DE7-98D6-59CD1D62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20760"/>
            <a:ext cx="264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C5E8-D7EE-41E0-BC34-FC137168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974-8E68-445B-96AB-CAA3A490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E689-2E5A-4F00-8079-24E88580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2DB-D201-4997-B751-96A73DFD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2d6bc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28C-E77D-4232-AB22-BAE0F1A5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811-33BE-4094-ABF6-B915D503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2076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4A6-284E-4896-8AAD-7E79E8BE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076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6A4-6318-4554-9529-C927914F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0"/>
            <a:ext cx="9132840" cy="1125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2" name="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0" y="-11160"/>
            <a:ext cx="2341440" cy="1123560"/>
            <a:chOff x="0" y="-11160"/>
            <a:chExt cx="2341440" cy="1123560"/>
          </a:xfrm>
        </p:grpSpPr>
        <p:graphicFrame>
          <p:nvGraphicFramePr>
            <p:cNvPr id="6" name=""/>
            <p:cNvGraphicFramePr/>
            <p:nvPr/>
          </p:nvGraphicFramePr>
          <p:xfrm>
            <a:off x="1103400" y="-11160"/>
            <a:ext cx="1238040" cy="112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3400" y="-11160"/>
                      <a:ext cx="1238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0" y="-11160"/>
            <a:ext cx="1170000" cy="1123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-11160"/>
                      <a:ext cx="1170000" cy="112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FC53-151B-4EDB-B9DB-9C10F1A918EA}" type="slidenum">
              <a:rPr b="0" lang="en-US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" name="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C2F-F4BD-423C-8553-9B29E9CF1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2520" y="551484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528d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96080" y="0"/>
            <a:ext cx="3247920" cy="2781360"/>
          </a:xfrm>
          <a:prstGeom prst="rect">
            <a:avLst/>
          </a:prstGeom>
          <a:solidFill>
            <a:srgbClr val="2d6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61" name="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8756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84320" y="0"/>
            <a:ext cx="301176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6bc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d6bc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SzPct val="60000"/>
              <a:buFont typeface="Wingdings 2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3720" y="281916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Bill G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d528d"/>
                </a:solidFill>
                <a:latin typeface="Arial"/>
              </a:rPr>
              <a:t>The man who could buy anything</a:t>
            </a: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6bc7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800000" cy="2347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5589720"/>
            <a:ext cx="172728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99. “Business @ the Speed of Thought”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25 languag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60 countr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Best-seller lists of the New York Times,The Wall Street Journal..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165564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6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95. “The Road Ahead”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No. 1 spot on the New York Times´ bestseller list for 7 week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2305080" cy="33512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9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98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708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1d528d"/>
                </a:solidFill>
                <a:latin typeface="Arial Black"/>
              </a:rPr>
              <a:t>www.microsoft.com/billgates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8002440" cy="4814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19640" y="0"/>
            <a:ext cx="48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Bill and Melinda with Queen Elisabeth II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ll Gates´ ma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16000" y="1631880"/>
            <a:ext cx="7128000" cy="4456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Gates founded Corbis – the world´s largest resource of visual inform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348000" y="189000"/>
            <a:ext cx="4680000" cy="503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3666960" cy="2438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5651640" y="2997360"/>
            <a:ext cx="249552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ll &amp; Melind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554544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Ann  Winbl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Bill´s ˝ex˝- girlfriend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257652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3.2 b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organizations working in global health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2 b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improve learning opportuniti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477 m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community projects in the Pacific Northwes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$ 488 million </a:t>
            </a:r>
            <a:r>
              <a:rPr b="0" lang="hr-HR" sz="32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to special projects and annual giving campaign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0" lang="hr-HR" sz="4000" spc="-1" strike="noStrike">
                <a:solidFill>
                  <a:srgbClr val="1d528d"/>
                </a:solidFill>
                <a:latin typeface="Arial"/>
              </a:rPr>
              <a:t>Thank you for your attention!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50920" y="3645000"/>
            <a:ext cx="2734920" cy="2592000"/>
            <a:chOff x="250920" y="3645000"/>
            <a:chExt cx="2734920" cy="2592000"/>
          </a:xfrm>
        </p:grpSpPr>
        <p:sp>
          <p:nvSpPr>
            <p:cNvPr id="112" name=""/>
            <p:cNvSpPr/>
            <p:nvPr/>
          </p:nvSpPr>
          <p:spPr>
            <a:xfrm>
              <a:off x="250920" y="3645000"/>
              <a:ext cx="2734920" cy="2592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920" y="3645000"/>
              <a:ext cx="2734920" cy="25920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b7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200" y="3814560"/>
              <a:ext cx="2376360" cy="22525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0200" y="3814560"/>
              <a:ext cx="2376360" cy="2252520"/>
            </a:xfrm>
            <a:prstGeom prst="ellipse">
              <a:avLst/>
            </a:prstGeom>
            <a:gradFill rotWithShape="0">
              <a:gsLst>
                <a:gs pos="0">
                  <a:srgbClr val="7b4a00"/>
                </a:gs>
                <a:gs pos="100000">
                  <a:srgbClr val="ff9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9000" y="3927240"/>
              <a:ext cx="2139120" cy="2027160"/>
            </a:xfrm>
            <a:prstGeom prst="ellipse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2421000"/>
            <a:ext cx="5327640" cy="215892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ff9900"/>
              </a:gs>
              <a:gs pos="100000">
                <a:srgbClr val="fedca9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012000" y="3716280"/>
            <a:ext cx="2663280" cy="2520720"/>
            <a:chOff x="6012000" y="3716280"/>
            <a:chExt cx="2663280" cy="2520720"/>
          </a:xfrm>
        </p:grpSpPr>
        <p:sp>
          <p:nvSpPr>
            <p:cNvPr id="120" name=""/>
            <p:cNvSpPr/>
            <p:nvPr/>
          </p:nvSpPr>
          <p:spPr>
            <a:xfrm>
              <a:off x="6012000" y="3716280"/>
              <a:ext cx="2663280" cy="252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d6bc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2000" y="3716280"/>
              <a:ext cx="2663280" cy="2520720"/>
            </a:xfrm>
            <a:prstGeom prst="ellipse">
              <a:avLst/>
            </a:prstGeom>
            <a:gradFill rotWithShape="0">
              <a:gsLst>
                <a:gs pos="0">
                  <a:srgbClr val="2d6bc7"/>
                </a:gs>
                <a:gs pos="100000">
                  <a:srgbClr val="86a9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86600" y="3881160"/>
              <a:ext cx="2314080" cy="2190600"/>
            </a:xfrm>
            <a:prstGeom prst="ellipse">
              <a:avLst/>
            </a:prstGeom>
            <a:gradFill rotWithShape="0">
              <a:gsLst>
                <a:gs pos="0">
                  <a:srgbClr val="18396b"/>
                </a:gs>
                <a:gs pos="50000">
                  <a:srgbClr val="2d6bc7"/>
                </a:gs>
                <a:gs pos="100000">
                  <a:srgbClr val="18396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86600" y="3881160"/>
              <a:ext cx="2314080" cy="2190600"/>
            </a:xfrm>
            <a:prstGeom prst="ellipse">
              <a:avLst/>
            </a:prstGeom>
            <a:gradFill rotWithShape="0">
              <a:gsLst>
                <a:gs pos="0">
                  <a:srgbClr val="153360"/>
                </a:gs>
                <a:gs pos="100000">
                  <a:srgbClr val="2d6bc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02160" y="3990960"/>
              <a:ext cx="2083320" cy="1971360"/>
            </a:xfrm>
            <a:prstGeom prst="ellipse">
              <a:avLst/>
            </a:prstGeom>
            <a:gradFill rotWithShape="0">
              <a:gsLst>
                <a:gs pos="0">
                  <a:srgbClr val="14315b"/>
                </a:gs>
                <a:gs pos="100000">
                  <a:srgbClr val="2d6b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132000" y="3645000"/>
            <a:ext cx="2734920" cy="2665080"/>
            <a:chOff x="3132000" y="3645000"/>
            <a:chExt cx="2734920" cy="2665080"/>
          </a:xfrm>
        </p:grpSpPr>
        <p:sp>
          <p:nvSpPr>
            <p:cNvPr id="126" name=""/>
            <p:cNvSpPr/>
            <p:nvPr/>
          </p:nvSpPr>
          <p:spPr>
            <a:xfrm>
              <a:off x="3132000" y="3645000"/>
              <a:ext cx="2734920" cy="2665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32000" y="3645000"/>
              <a:ext cx="2734920" cy="26650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b7b7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11280" y="3819240"/>
              <a:ext cx="2376360" cy="23162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11280" y="3819240"/>
              <a:ext cx="2376360" cy="2316240"/>
            </a:xfrm>
            <a:prstGeom prst="ellipse">
              <a:avLst/>
            </a:prstGeom>
            <a:gradFill rotWithShape="0">
              <a:gsLst>
                <a:gs pos="0">
                  <a:srgbClr val="4a4a7b"/>
                </a:gs>
                <a:gs pos="100000">
                  <a:srgbClr val="99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0080" y="3935160"/>
              <a:ext cx="2139120" cy="2084040"/>
            </a:xfrm>
            <a:prstGeom prst="ellipse">
              <a:avLst/>
            </a:prstGeom>
            <a:gradFill rotWithShape="0">
              <a:gsLst>
                <a:gs pos="0">
                  <a:srgbClr val="464675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905120" y="1905120"/>
            <a:ext cx="487656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e5e5fe"/>
              </a:gs>
              <a:gs pos="100000">
                <a:srgbClr val="9999ff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1d528d"/>
                </a:solidFill>
                <a:latin typeface="Arial"/>
              </a:rPr>
              <a:t>3 PART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437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formation &amp; Educ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62520" y="46530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hilanthropy &amp;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vate Lif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Who is William H. Gates?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252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950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9520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48040" y="23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9162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Chairman and chief software architect of Microsoft Corporation</a:t>
            </a: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781360"/>
            <a:ext cx="2158920" cy="1297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d6bc7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4365720"/>
            <a:ext cx="453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Revenue: US $ 36.84 billion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Employs 55.000 people in 85 countri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1557360"/>
            <a:ext cx="7488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    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WORLD   </a:t>
            </a:r>
            <a:r>
              <a:rPr b="0" lang="hr-HR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691 billionairs and $ 2,2 trillion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                     </a:t>
            </a:r>
            <a:r>
              <a:rPr b="0" lang="hr-HR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average $ 3 billion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BILL GATES  </a:t>
            </a:r>
            <a:r>
              <a:rPr b="0" lang="hr-HR" sz="20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1d528d"/>
                </a:solidFill>
                <a:latin typeface="Arial"/>
              </a:rPr>
              <a:t>   $ 46 billion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26640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17484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Public Elementary Schoo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Private Lakeside Schoo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73. Harvard University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5640" y="4162320"/>
            <a:ext cx="338472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1975. started MICROSOFT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              </a:t>
            </a: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with Paul ALLEN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2592720" cy="93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3789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d528d"/>
                </a:solidFill>
                <a:latin typeface="Wingdings"/>
                <a:ea typeface="Wingdings"/>
              </a:rPr>
              <a:t></a:t>
            </a: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1d528d"/>
                </a:solidFill>
                <a:latin typeface="Arial"/>
              </a:rPr>
              <a:t>so called because it provided microcomputer softwar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d528d"/>
                </a:solidFill>
                <a:latin typeface="Arial"/>
              </a:rPr>
              <a:t>...which influence we may clearly see today in our lives..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2060640"/>
            <a:ext cx="6912000" cy="5302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14315b"/>
              </a:gs>
              <a:gs pos="50000">
                <a:srgbClr val="2d6bc7"/>
              </a:gs>
              <a:gs pos="100000">
                <a:srgbClr val="14315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o advance &amp; improve software tehnology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924280"/>
            <a:ext cx="5830920" cy="504720"/>
          </a:xfrm>
          <a:prstGeom prst="roundRect">
            <a:avLst>
              <a:gd name="adj" fmla="val 12796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o make it eas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645000"/>
            <a:ext cx="6048360" cy="6220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o make it more cost-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581360"/>
            <a:ext cx="8136000" cy="503280"/>
          </a:xfrm>
          <a:prstGeom prst="roundRect">
            <a:avLst>
              <a:gd name="adj" fmla="val 19046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o make it more enjoyable for people to use computers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39:26Z</dcterms:created>
  <dc:creator>Darija</dc:creator>
  <dc:description/>
  <cp:keywords/>
  <dc:language>en-US</dc:language>
  <cp:lastModifiedBy>Darija Tödtling</cp:lastModifiedBy>
  <dcterms:modified xsi:type="dcterms:W3CDTF">2006-07-07T17:30:01Z</dcterms:modified>
  <cp:revision>8</cp:revision>
  <dc:subject/>
  <dc:title>          Bill G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21033</vt:lpwstr>
  </property>
</Properties>
</file>