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DD0-7424-4725-AEA1-80FA1DB0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7E5-5D20-4982-A69B-05662B9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937-3002-4B87-9F42-3B548F75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569-77EC-418D-8508-90098D31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3422-2D59-4F14-9973-C4F49778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AFF3-5BC9-43D8-8DC2-AF75CBE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246-E109-4CC4-80C9-1E59DFC3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467-113F-46D3-9123-9B1FDD32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C6A-C5BB-4A75-8891-F0E294E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901-67CC-4286-A889-3D59026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F4D-2876-44F7-A94E-352E67E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FC7-BD9D-4BF1-A567-3140C0FB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F18E-B023-43E3-B959-66EF21C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40AB-E45A-4FEE-AD88-617E85C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98F-02B2-463D-8E17-0CEA2CD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5B0-A1E1-4571-9938-C1FFD6A3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306-E713-4E36-B769-A8B34C5A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864-3493-49A1-BFC0-E41CDCC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61E-E8A9-41F6-BA8F-535A51A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943-9982-4BA7-A162-A40B365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75B-BC4C-43EB-ACB8-CED8F224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833-1CC9-42DA-AB5C-6CBF2C2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5E5-C5CB-416C-AFA0-2ECC4E3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5C6-BA9C-4987-9153-B6C4001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F4B-D114-4E55-87ED-8F8A35D38FA1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79F-230F-4714-8262-5F0EF678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Bill G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d528d"/>
                </a:solidFill>
                <a:latin typeface="Arial"/>
              </a:rPr>
              <a:t>The man who could buy anything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800000" cy="2347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5589720"/>
            <a:ext cx="172728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99. “Business @ the Speed of Thought”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25 languag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60 countr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Best-seller lists of the New York Times,The Wall Street Journal..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65564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95. “The Road Ahead”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No. 1 spot on the New York Times´ bestseller list for 7 week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2305080" cy="3351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708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d528d"/>
                </a:solidFill>
                <a:latin typeface="Arial Black"/>
              </a:rPr>
              <a:t>www.microsoft.com/billgate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8002440" cy="481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19640" y="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ill and Melinda with Queen Elisabeth II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l Gates´ ma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16000" y="1631880"/>
            <a:ext cx="71280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Gates founded Corbis – the world´s largest resource of visual 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4680000" cy="503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3666960" cy="243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651640" y="2997360"/>
            <a:ext cx="24955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l &amp; Melin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55454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Ann  Winbl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Bill´s ˝ex˝- girlfriend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25765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3.2 b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organizations working in global health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2 b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improve learning opportunit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477 m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community projects in the Pacific Northwes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488 m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special projects and annual giving campaign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0" lang="hr-HR" sz="4000" spc="-1" strike="noStrike">
                <a:solidFill>
                  <a:srgbClr val="1d528d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3645000"/>
            <a:ext cx="2734920" cy="2592000"/>
            <a:chOff x="250920" y="3645000"/>
            <a:chExt cx="2734920" cy="2592000"/>
          </a:xfrm>
        </p:grpSpPr>
        <p:sp>
          <p:nvSpPr>
            <p:cNvPr id="112" name=""/>
            <p:cNvSpPr/>
            <p:nvPr/>
          </p:nvSpPr>
          <p:spPr>
            <a:xfrm>
              <a:off x="250920" y="3645000"/>
              <a:ext cx="2734920" cy="2592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3645000"/>
              <a:ext cx="2734920" cy="259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b7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200" y="3814560"/>
              <a:ext cx="2376360" cy="22525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0200" y="3814560"/>
              <a:ext cx="2376360" cy="2252520"/>
            </a:xfrm>
            <a:prstGeom prst="ellipse">
              <a:avLst/>
            </a:prstGeom>
            <a:gradFill rotWithShape="0">
              <a:gsLst>
                <a:gs pos="0">
                  <a:srgbClr val="7b4a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9000" y="3927240"/>
              <a:ext cx="2139120" cy="202716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421000"/>
            <a:ext cx="532764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ff9900"/>
              </a:gs>
              <a:gs pos="100000">
                <a:srgbClr val="fedca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12000" y="3716280"/>
            <a:ext cx="2663280" cy="2520720"/>
            <a:chOff x="6012000" y="3716280"/>
            <a:chExt cx="2663280" cy="2520720"/>
          </a:xfrm>
        </p:grpSpPr>
        <p:sp>
          <p:nvSpPr>
            <p:cNvPr id="120" name=""/>
            <p:cNvSpPr/>
            <p:nvPr/>
          </p:nvSpPr>
          <p:spPr>
            <a:xfrm>
              <a:off x="6012000" y="3716280"/>
              <a:ext cx="2663280" cy="252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d6bc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2000" y="3716280"/>
              <a:ext cx="2663280" cy="2520720"/>
            </a:xfrm>
            <a:prstGeom prst="ellipse">
              <a:avLst/>
            </a:prstGeom>
            <a:gradFill rotWithShape="0">
              <a:gsLst>
                <a:gs pos="0">
                  <a:srgbClr val="2d6bc7"/>
                </a:gs>
                <a:gs pos="100000">
                  <a:srgbClr val="86a9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86600" y="3881160"/>
              <a:ext cx="2314080" cy="2190600"/>
            </a:xfrm>
            <a:prstGeom prst="ellipse">
              <a:avLst/>
            </a:prstGeom>
            <a:gradFill rotWithShape="0">
              <a:gsLst>
                <a:gs pos="0">
                  <a:srgbClr val="18396b"/>
                </a:gs>
                <a:gs pos="50000">
                  <a:srgbClr val="2d6bc7"/>
                </a:gs>
                <a:gs pos="100000">
                  <a:srgbClr val="1839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86600" y="3881160"/>
              <a:ext cx="2314080" cy="2190600"/>
            </a:xfrm>
            <a:prstGeom prst="ellipse">
              <a:avLst/>
            </a:prstGeom>
            <a:gradFill rotWithShape="0">
              <a:gsLst>
                <a:gs pos="0">
                  <a:srgbClr val="153360"/>
                </a:gs>
                <a:gs pos="100000">
                  <a:srgbClr val="2d6b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160" y="3990960"/>
              <a:ext cx="2083320" cy="1971360"/>
            </a:xfrm>
            <a:prstGeom prst="ellipse">
              <a:avLst/>
            </a:prstGeom>
            <a:gradFill rotWithShape="0">
              <a:gsLst>
                <a:gs pos="0">
                  <a:srgbClr val="14315b"/>
                </a:gs>
                <a:gs pos="100000">
                  <a:srgbClr val="2d6b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32000" y="3645000"/>
            <a:ext cx="2734920" cy="2665080"/>
            <a:chOff x="3132000" y="3645000"/>
            <a:chExt cx="2734920" cy="2665080"/>
          </a:xfrm>
        </p:grpSpPr>
        <p:sp>
          <p:nvSpPr>
            <p:cNvPr id="126" name=""/>
            <p:cNvSpPr/>
            <p:nvPr/>
          </p:nvSpPr>
          <p:spPr>
            <a:xfrm>
              <a:off x="3132000" y="3645000"/>
              <a:ext cx="2734920" cy="2665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2000" y="3645000"/>
              <a:ext cx="2734920" cy="266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b7b7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11280" y="3819240"/>
              <a:ext cx="2376360" cy="23162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1280" y="3819240"/>
              <a:ext cx="2376360" cy="2316240"/>
            </a:xfrm>
            <a:prstGeom prst="ellipse">
              <a:avLst/>
            </a:prstGeom>
            <a:gradFill rotWithShape="0">
              <a:gsLst>
                <a:gs pos="0">
                  <a:srgbClr val="4a4a7b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0080" y="3935160"/>
              <a:ext cx="2139120" cy="208404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905120" y="19051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e5e5fe"/>
              </a:gs>
              <a:gs pos="100000">
                <a:srgbClr val="9999ff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d528d"/>
                </a:solidFill>
                <a:latin typeface="Arial"/>
              </a:rPr>
              <a:t>3 PAR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437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formation &amp; Educ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520" y="46530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hilanthropy &amp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vate Lif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Who is William H. Gates?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252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50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52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4804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16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Chairman and chief software architect of Microsoft Corporation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781360"/>
            <a:ext cx="2158920" cy="12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6bc7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436572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Revenue: US $ 36.84 billion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Employs 55.000 people in 85 countri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557360"/>
            <a:ext cx="7488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   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WORLD 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691 billionairs and $ 2,2 trillion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                   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average $ 3 billion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BILL GATES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$ 46 billion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1748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Public Elementary Schoo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Private Lakeside Schoo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73. Harvard University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5640" y="4162320"/>
            <a:ext cx="338472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75. started MICROSOFT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with Paul ALLE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2592720" cy="93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3789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so called because it provided microcomputer softwar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...which influence we may clearly see today in our lives..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2060640"/>
            <a:ext cx="6912000" cy="5302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advance &amp; improve software tehnolo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924280"/>
            <a:ext cx="5830920" cy="5047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make it eas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645000"/>
            <a:ext cx="6048360" cy="622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make it more cost-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581360"/>
            <a:ext cx="8136000" cy="5032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o make it more enjoyable for people to use computer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39:26Z</dcterms:created>
  <dc:creator>Darija</dc:creator>
  <dc:description/>
  <cp:keywords/>
  <dc:language>en-US</dc:language>
  <cp:lastModifiedBy>Darija Tödtling</cp:lastModifiedBy>
  <dcterms:modified xsi:type="dcterms:W3CDTF">2006-07-07T17:30:01Z</dcterms:modified>
  <cp:revision>8</cp:revision>
  <dc:subject/>
  <dc:title>          Bill G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