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3D9-6353-4D9D-8396-F1679603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684-222D-4990-8286-471F560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DD9-F227-4F29-AE8C-8CBCCF1C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CA7-41A9-4451-ACF1-0D2DAC5B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454-B9B3-4221-9F59-AC49D65F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C8C-1AF8-4C2F-9566-1B1107A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C36-A914-458E-AF8F-EFC3CBC0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80F-64ED-4088-81B0-2D00F3F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9D2-0594-4EDC-B47D-2B47E3C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1BB-7AC8-47FC-8865-EE90B25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CAE-040F-4807-B5F7-923236D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CAA-2A9C-4820-87AB-DB2BB03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F89-8E2B-4F00-B27F-CEEB6AF6F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Bookman Old Style"/>
              </a:rPr>
              <a:t>VJEŠTINE UPRAVLJANJA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Bookman Old Style"/>
              </a:rPr>
              <a:t>- KREATIVNOST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isoka zdravstvena š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nagement u sestrinst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E4A-206C-4A2D-8192-141F083DF193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2. USTRAJNOST - RIGID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tereotipi na temelju “životn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i radnog iskust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esposobnost povezivanja naizgled različitih po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7F0-3277-44B9-A77F-0C76CBC89E4B}" type="slidenum">
              <a:t>10</a:t>
            </a:fld>
          </a:p>
        </p:txBody>
      </p:sp>
    </p:spTree>
  </p:cSld>
  <p:transition>
    <p:split dir="out" orient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REDUCIRANJE - SAŽIMAN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ograniča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esposobnost razlikovanja važnog od nevažnog, preuveličavanje složenosti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5BC-B99A-4220-8B76-6A22D792FD96}" type="slidenum">
              <a:t>11</a:t>
            </a:fld>
          </a:p>
        </p:txBody>
      </p:sp>
    </p:spTree>
  </p:cSld>
  <p:transition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SAMODOPADLJIV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epostavljanje pitanja “zašto”, “kako”,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esklonost razmišlj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2E2-34A2-4AEE-81F6-A2DEB83C12DD}" type="slidenum">
              <a:t>12</a:t>
            </a:fld>
          </a:p>
        </p:txBody>
      </p:sp>
    </p:spTree>
  </p:cSld>
  <p:transition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4. FAZE KREATIVNOG RAZMIŠLJ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5867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. PRIPREMA - najviše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ože poboljš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2. INKUB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3. ILUM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4. VER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BC3-235B-4451-A6A6-7A4BFA090A17}" type="slidenum">
              <a:t>13</a:t>
            </a:fld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DEFINIRANJE PROBL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8440" y="2438280"/>
            <a:ext cx="5334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traženje analogije i korištenje metaf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elabor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JANUSKO razmiš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A08-29D6-4B7E-B042-C7019152647C}" type="slidenum">
              <a:t>14</a:t>
            </a:fld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9140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ALTER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2840" y="25142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brainstorm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ubdivi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ovezivanj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trib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C8F-00F5-4076-BB12-ECA43912FC55}" type="slidenum">
              <a:t>15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RAZVIJANJE KREATIVNOSTI KOD DRUGI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680" y="27432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formiranje tim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dgledanje i potic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građi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65B-CAE3-4A56-A2D6-34CDBBB3779D}" type="slidenum">
              <a:t>16</a:t>
            </a:fld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KREATIVNOST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e skup osobina koje omogućavaju pojedincu uočavanje, otkrivanje, predviđanje, kombiniranje stvari i pojava na nov, originalan nač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E5C-1A2E-4E0F-B1F6-E8D51EB69304}" type="slidenum">
              <a:t>2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INOVATIVNOST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e transformacija novih ideja u novu uslugu ili stv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363-0B14-4DD9-9B76-66E5F2A933FE}" type="slidenum">
              <a:t>3</a:t>
            </a:fld>
          </a:p>
        </p:txBody>
      </p:sp>
    </p:spTree>
  </p:cSld>
  <p:transition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MOZ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Lijeva polo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erb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kvenc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og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nalitič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a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sudb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733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Desna polo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verb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imul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intetič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tu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mo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uočava cjelovit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OMINIRA U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KREATIVNOM PROCES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25A-6EF9-43D7-903F-B2E348440CF0}" type="slidenum">
              <a:t>4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9999ff"/>
                </a:solidFill>
                <a:latin typeface="Bookman Old Style"/>
              </a:rPr>
              <a:t>KREAT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vore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sklonost kriti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konvenciona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divergentnog mišlj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icijat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motivir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amopouzd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široki inter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premnost na promj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9999ff"/>
                </a:solidFill>
                <a:latin typeface="Bookman Old Style"/>
              </a:rPr>
              <a:t>NEKREAT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prihvaćanje nov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sklonost komprom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onvenciona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konvergentnog mišlj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poticanje vanjskim fakto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sigur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Bookman Old Style"/>
              </a:rPr>
              <a:t>nazainteresir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dvidiv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6D7-12DE-416C-9650-1B216656B869}" type="slidenum">
              <a:t>5</a:t>
            </a:fld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ff"/>
                </a:solidFill>
                <a:latin typeface="Bookman Old Style"/>
              </a:rPr>
              <a:t>KONCEPTUALNE ZAPRE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ormalno obrazovanje i iskustvo može smanjiti kreativno rješavanje problem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judi iznad 40. godine života, samo su u 2% slučajeva kreativn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9E9-BBF5-4B01-B0E7-2CC37A81F582}" type="slidenum">
              <a:t>6</a:t>
            </a:fld>
          </a:p>
        </p:txBody>
      </p:sp>
    </p:spTree>
  </p:cSld>
  <p:transition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KREATIVNO SE RAZMIŠLJANJE MOŽE POBOLJŠATI VJEŽBO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5A7-DFED-402A-9A73-1EC4D6259135}" type="slidenum">
              <a:t>7</a:t>
            </a:fld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JEŽ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nceptual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er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oda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dluč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vant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vosmis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bo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2520" y="1371600"/>
            <a:ext cx="251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lo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ačuna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it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ig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jehur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arf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e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a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u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90512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4382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97180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42900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96252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4956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9528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48640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01992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47712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37160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466-B94B-487E-B67E-B03C6D3FA403}" type="slidenum">
              <a:t>8</a:t>
            </a:fld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KONCEPTUALNE ZAPRE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Bookman Old Style"/>
              </a:rPr>
              <a:t>1. POSTOJA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Bookman Old Style"/>
              </a:rPr>
              <a:t>vertikalno razmišljanje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ne razmatra alternativne moguć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Bookman Old Style"/>
              </a:rPr>
              <a:t>verbalno razmišljanje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alternativni jezici (vizualni, simboli, emocije,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9CB-D5BD-4CF5-AEC1-0FC5894D67E1}" type="slidenum">
              <a:t>9</a:t>
            </a:fld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9:16:30Z</dcterms:created>
  <dc:creator>Jelena</dc:creator>
  <dc:description/>
  <dc:language>en-US</dc:language>
  <cp:lastModifiedBy>dr. Josip Čulig</cp:lastModifiedBy>
  <dcterms:modified xsi:type="dcterms:W3CDTF">2002-12-09T11:13:45Z</dcterms:modified>
  <cp:revision>11</cp:revision>
  <dc:subject/>
  <dc:title>VJEŠTINE UPRAVLJANJA - KREATIVNOST -</dc:title>
</cp:coreProperties>
</file>