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2D3-33C7-40DB-B246-63ADCC7E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248-EF47-4257-92FC-2986B11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D39-BC63-40D1-B873-B9B02405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1D8-2421-4B88-97EC-FAD8406E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8D0-B60E-416B-A1E7-0E919DDF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EA43-E3C0-459D-907B-6B7388CA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B497-2347-4836-912E-11134021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AA01-6B88-4414-9CBE-20C0DF6A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B59F-EF18-4082-9C23-AE42413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AA4E-17CE-458B-8E0E-9BFD8FD9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A673-CE0B-43D6-B950-1645FAB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1CF-FD3F-479F-B623-E5B7DC2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4BB1-B60A-40A4-B782-52F2183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0B9-080F-4460-8E04-D703128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30A-F26C-45D9-BFFF-462046A6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5F14-F922-4DAC-8CF0-635150D1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791D-17AA-46DF-9507-B506EE60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4DB-AB32-45A7-BF70-440E7FA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A94-BA66-41C0-8D0D-63E0225E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176-4833-404B-AF15-8FE8643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B31-3763-4D72-9C03-4C119CBF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16A-5B27-4AF5-A6E4-3CD33C1D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A8B-2EDE-47A4-A856-7C229A8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51D-6C8A-4958-90EE-FF771FA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61C-5EEE-4771-8112-A91E8F95D8B5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ADBA-EEF4-4877-80F3-2C053E1850EA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Tahoma"/>
              </a:rPr>
              <a:t>TR</a:t>
            </a:r>
            <a:r>
              <a:rPr b="0" lang="hr-HR" sz="4800" spc="-1" strike="noStrike">
                <a:solidFill>
                  <a:srgbClr val="b2b2b2"/>
                </a:solidFill>
                <a:latin typeface="Tahoma"/>
              </a:rPr>
              <a:t>ŽIŠTE DOBAR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Maksimaliziranje profi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2349360"/>
          <a:ext cx="8569080" cy="4291200"/>
        </p:xfrm>
        <a:graphic>
          <a:graphicData uri="http://schemas.openxmlformats.org/drawingml/2006/table">
            <a:tbl>
              <a:tblPr/>
              <a:tblGrid>
                <a:gridCol w="1222200"/>
                <a:gridCol w="1230480"/>
                <a:gridCol w="1222200"/>
                <a:gridCol w="1366920"/>
                <a:gridCol w="1068480"/>
                <a:gridCol w="1236600"/>
                <a:gridCol w="12222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lič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upni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anični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sječni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j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upni prih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9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,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9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,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00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00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68360" y="170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luka konkurencijskog poduzeća o ponud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Maksimaliziranje profi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33720"/>
            <a:ext cx="914400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kupni se profit maksimizira kada se prodajom dodatne proizvodnje dalje ne može zaraditi bilo kakav dodatni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 točki maksimalnog profita, posljednja proizvedena jedinica donosi prihod jednak trošku te jedi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pravilo za ponudu poduzeća u savršenoj konkurenciji: Poduzeće koje maksimizira profit proizvodit će na onoj razini na kojoj je granični trošak jednak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cije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Maksimaliziranje profi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276640"/>
            <a:ext cx="813600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uzeće koje maksimizira profit odredit će da mu proizvodnja bude na onoj razini pri kojoj je granični trošak jednak cijeni; grafički, to znači da je krivulja graničnog troška poduzeća ujedno i njegova krivulja ponu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g rentabilnosti 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(break even point)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ili točka pokrića znači jednakost ukupnog prihoda i ukupnog troška, ali i prosječnog prihoda (granični prihod, cijena) i prosječnog ukupnog troš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Maksimaliziranje profi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9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nuda poduzeća u savršenoj konkurencij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5753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ekidanje proizvodn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00280"/>
            <a:ext cx="8964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kratkom roku poduzeća će prestati raditi  kad više ne mogu pokrivati varijabilne trošk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točki C cijena je manja od prosječnog troška, ali poduzeće će još uvijek nastavljati proizvoditi jer je gubitak manji od fiksnih troškova i sve dok razlika ukupnog prihoda i ukupnih varijabilnih troškova pokriva neki dio fiksnih trošk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Pravilo prestanka rada ili prekidanja proizvodnj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: Kada cijena padne tako nisko da su ukupni prihodi manji od varijabilnog troška, i kada je cijena manja od prosječnog varijabilnog troška poduzeće će minimalizirati svoje gubitke prestankom 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točka prestanka rad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– kritično niska cijena pri kojoj su prihodi jednaki varijabilnom trošku. Iznad ove točke poduzeće će proizvoditi uzduž krivulje graničnog troška jer bi, premda posluje s gubitkom, više novca gubilo prestankom rada, a pri cijenama ispod točke prestanka rada, poduzeće uopće neće proizvoditi jer će prestankom rada gubiti samo fiksne troško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ekidanje proizvodn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96268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19280" y="184464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Točka pokrića i točka prestanka poslo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ekidanje proizvodn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1916280"/>
            <a:ext cx="8208720" cy="46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dugom vremenskom razdoblju pojava gubitka nužno nameće i pitanje napuštanja tržišta, a to će se desiti ukoliko je ukupni prihod manji od ukupnog tro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tome će slučaju prosječni prihod (cijena) biti manji od prosječnog ukupnog tro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lazak slijedi ukoliko je: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Ukupni prihod &lt; Ukupni trošak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jer je tada -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Prosječni prihod (cijena) &lt; Prosječni ukupni troš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akle, krivulja ponude identična je krivulji graničnog troška, ali u onom području cijena u kojem je cijena veća od prosječnog ukupnog tro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Dugoročna ravnoteža u uvjetima savršene konkurenci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73454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116000" y="2349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avnoteža u kratkom ro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Dugoročna ravnoteža u uvjetima savršene konkurenci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916280"/>
            <a:ext cx="849780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li, u dugom vremenskom razdoblju nije tako – profit privlači nove konkurente, a ukoliko imo mnogo novih poduzeća, pad cijene uzrokuje pojavu gubit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gubitak izaziva iseljavanje poduzeća pa proces dugoročnog prilagođavanja traje sve dok profit svih savršenih konkurenata ne bude sveden na nu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ugoročna ravnoteža znači da nema niti useljavanja niti iseljavanja poduzeća, a cijena je jednaka minimalnom prosječnom ukupnom trošku savršenih konkuren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Dugoročna ravnoteža u uvjetima savršene konkurenci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7417080" cy="2808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26920" y="1916280"/>
            <a:ext cx="79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ugoročna ravnoteža u uvjetima savršene konkuren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2637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) Trži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7082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b) Savršeni konku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Tahoma"/>
              </a:rPr>
              <a:t>TR</a:t>
            </a:r>
            <a:r>
              <a:rPr b="0" lang="hr-HR" sz="4800" spc="-1" strike="noStrike">
                <a:solidFill>
                  <a:srgbClr val="b2b2b2"/>
                </a:solidFill>
                <a:latin typeface="Tahoma"/>
              </a:rPr>
              <a:t>ŽIŠTE DOBAR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8497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 obzirom na broj poduzeća (ponuđača) tržište se dijeli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441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avršenu konkuren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716040" indent="-441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no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716040" indent="-441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nopolističku konkuren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716040" indent="-441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ligo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Dugoročna ravnoteža u uvjetima savršene konkurenci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762200"/>
            <a:ext cx="849600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akle, dugoročna ravnoteža znači da je ekonomski profit (pozitivna razlika između ukupnog prihoda i ukupnog troška) jednaka nu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što savršeni konkurenti ostaju na tržištu, iako im je ekonomski profit jednak nuli? Zbog tzv. normalnog prof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kupni trošak moguće je podijeliti na eksplicitni (računovodstveni) i implicitni ili oportunitetni troš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portunitetni trošak je trošak svih čimbenika proizvodnje koje nije potrebno kupovati od drugih poduzeća ili to je trošak alternative koju smo propustili realizi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ormalni profit (koji postoji kada je ukupni prihod jednak ukupnom trošku – eksplicitnom i implicitnom) predstavlja onaj dio ukupnog prihoda koji pokriva upravo implicitni troš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Dugoročna ravnoteža u uvjetima savršene konkurencij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2060640"/>
            <a:ext cx="8496000" cy="51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uvjetima savršene konkurencije oportunitetni troškovi ograničeni su potražnjama i ponudama tako da je cijena za tržena dobra približno jednaka oportunitetnom troš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ugoročna ravnoteža znači i jednakost cijene i graničnog troška pa s tim u vezi razlikujemo alokacijsku efikasnost i alokacijsku neefikas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alokacijska efikasnost (C=GT)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– resursi su alocirani na način da njihova najbolja alternativna uporaba znači proizvodnju iste vrijed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alokacijska neefikasnost (C&lt;GT ili C&gt;GT)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ugoročna ravnoteža u uvjetima savršene konkurencije znači i jednakost cijene i minimalnog prosječnog ukupnog trošk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Pojam i oblic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060640"/>
            <a:ext cx="8496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pol znači postojanje jednog proizvođača-ponuđača jedinstvenog proizvoda (riječ je o proizvodu koji nema bliskog supstituta) koji je, na ovaj ili onaj način, zaštićen od pojave potencijalne konkuren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obzirom na načine onemogućavanja konkurencije razlikujemo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zakonski (legalni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monopo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nastaje na zakonskoj osnovi utvrđenim povlasticama i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prirodni monopo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ada poduzeće monopolizira prirodne resurse ili uslijed ekonomije razmjera (neprekidnim obaranjem cijene poduzeće istiskuje sve konkurente s tržišta i postaje monopolis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97080" y="0"/>
            <a:ext cx="50749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Pojam i oblic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060640"/>
            <a:ext cx="849600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pol znači postojanje jednog proizvođača-ponuđača jedinstvenog proizvoda (riječ je o proizvodu koji nema bliskog supstituta) koji je, na ovaj ili onaj način, zaštićen od pojave potencijalne konkuren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obzirom na načine onemogućavanja konkurencije razlikuje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zakonski (legalni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monopo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nastaje na zakonskoj osnovi utvrđenim povlastica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46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prirodni monopo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kada poduzeće monopolizira prirodne resurse ili uslijed ekonomije razmjera (neprekidnim obaranjem cijene poduzeće istiskuje sve konkurente s tržišta i postaje monopoli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2060640"/>
            <a:ext cx="84960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tražnja s kojom se sučeljava monopolist je tržišna potražnja (koja je padajućeg oblik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rivulja tržišna potražnje je istovremeno i krivulja prosječnog prihoda monop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jena je jednaka samo prosječnom prihodu, a granični je prihod manji od prosječnog (cije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što? monopolist je </a:t>
            </a: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"price-maker"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- on određuje cijenu; može birati između različitih cijena određenih tržišnom potražnjom (ako zahtijeva nižu cijenu, potraživana će količina biti već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457280"/>
            <a:ext cx="8496360" cy="60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bog toga se granični prihod monopola javlja kao razlika između povećanja ukupnog prihoda uslijed povećanja realizirane proizvodnje (količine) i smanjenja ukupnog prihoda uslijed smanjenja cij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ve dok smanjenje cijene proizvoda znači pozitivan granični prihod, ukupni prihod raste (u tom je području potražnja cjenovno elastična Ec&gt;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ada je: granični prihod monopola = 0, ukupni prihod se ne mijenja, on je maksimalan, tada je potražnja jedinično (stabilno) elastič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ko smanjenje cijene znači negativan granični prihod, ukupni prihod opada, a tržišna je potražnja cjenovno neeleastična 0&lt;Ec&lt;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dručje tržišne potražnje zanimljivo za monopol je onaj segment koji znači rast ukupnog prihoda, koji znači pozitivan granični prihod i cjenovno elastičnu potražnj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457280"/>
            <a:ext cx="849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1182600"/>
          <a:ext cx="8209080" cy="567540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liči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pni priho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nični priho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57520" y="1989000"/>
            <a:ext cx="5628960" cy="4592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5892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ični i prosječni prihod monop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kupni prihod monop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697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954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Maksimaliziranje profita; ukupni prihod, uk. trošak i profit</a:t>
            </a:r>
            <a:r>
              <a:rPr b="0" lang="hr-H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1628640"/>
            <a:ext cx="864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 tablici je prikazana količina proizvodnje koja znači maksimalni ekonomski profit pomoću ukupnog prihoda i ukupnog tro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55640" y="2717640"/>
          <a:ext cx="7129440" cy="4259520"/>
        </p:xfrm>
        <a:graphic>
          <a:graphicData uri="http://schemas.openxmlformats.org/drawingml/2006/table">
            <a:tbl>
              <a:tblPr/>
              <a:tblGrid>
                <a:gridCol w="1079640"/>
                <a:gridCol w="1873080"/>
                <a:gridCol w="1325520"/>
                <a:gridCol w="1425600"/>
                <a:gridCol w="1425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traživana količ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pni prih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pni troš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8497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vršena konkurencija je ekstremni, najoštriji oblik konkurencije za koju se smatra da je samo teorijski moguć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Uvjeti savršene konkurenci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ojanje velikog broja proizvođača istog proiz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ojanje velikog broja ku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graničena mobilnost svih resu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vršena obaviještenost kupaca i proizvođača o svim tržišnim podacima (transparentnost tržiš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181440" y="189000"/>
            <a:ext cx="954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Maksimaliziranje profita; ukupni prihod, uk. trošak i profit</a:t>
            </a:r>
            <a:r>
              <a:rPr b="0" lang="hr-H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16286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konomski profit se javlja nakon prve prijelomne točke i nestaje nakon druge (najveći je pri proizvodnji 3 jedinice proizvod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5242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189000"/>
            <a:ext cx="954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Maksimaliziranje profita; granični prihod, gr. trošak i profit</a:t>
            </a:r>
            <a:r>
              <a:rPr b="0" lang="hr-H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1341360"/>
            <a:ext cx="8640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ličinu proizvodnje koja maksimizira profit moguće je odrediti i pomoću graničnog prihoda i graničnog tro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rijede ista pravila kao i kod savršene konkurencije: monopol će povećavati proizvodnju sve dok je gr. prihod veći od gr. troška i obrnu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2793960"/>
          <a:ext cx="9144000" cy="4046400"/>
        </p:xfrm>
        <a:graphic>
          <a:graphicData uri="http://schemas.openxmlformats.org/drawingml/2006/table">
            <a:tbl>
              <a:tblPr/>
              <a:tblGrid>
                <a:gridCol w="1143000"/>
                <a:gridCol w="1144440"/>
                <a:gridCol w="1141560"/>
                <a:gridCol w="1143000"/>
                <a:gridCol w="1143000"/>
                <a:gridCol w="1378080"/>
                <a:gridCol w="1079280"/>
                <a:gridCol w="9716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lič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. priho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. priho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. troša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. uk. troša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. troša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f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181440" y="189000"/>
            <a:ext cx="954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Maksimaliziranje profita; granični prihod, gr. trošak i profit</a:t>
            </a:r>
            <a:r>
              <a:rPr b="0" lang="hr-H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14130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 grafikonu je prikazano sjecište krivulja graničnog prihoda i graničnog troška ukazuje na profitno maksimalizirajuću količinu proizvod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769080" cy="3743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24000" y="61563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 može u dugom vremenskom roku ostvariti i ekonomski profit (zahvaljujući činjenici što je zaštićen od konkurencij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612720" y="18900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jelomna točka u uvjetima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1413000"/>
            <a:ext cx="86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o uslijed smanjenja tržišne potražnje njena crta, pri optimalnoj količini proizvodnje (koja je određena jednakošću graničnog prihoda i graničnog troška) dodiruje krivulju prosječnog ukupnog troška, monopol realizira samo normalni pro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konomski profit je jednak nuli, budući da je prosječni prihod jednak prosječnom ukupnom trošku, odnosno ukupni je prihod jednak ukupnom troš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720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612720" y="18900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jelomna točka u uvjetima monopol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413000"/>
            <a:ext cx="8640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vaki output i manji i veći od optimalnog K vodi monopol u gubitak, jer je tada prosječni ukupni trošak veći od prosječnog prih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ko je pri svim razinama proizvodnje prosječni ukupni trošak veći od prosječnog prihoda, monopol ne može izbjeći </a:t>
            </a: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gubi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11280" y="3084480"/>
            <a:ext cx="5553000" cy="3773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372360" y="3573360"/>
            <a:ext cx="27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 u takvoj situaciji može minimalizirati gubitak koji osigurava optimalni output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757440" y="260280"/>
            <a:ext cx="79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nopol i krivulja ponude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1413000"/>
            <a:ext cx="86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, za razliku od savršenog konkurenta, nema krivulju ponude, jer jedinstven odnos cijene i količine ne posto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 nastoji proizvesti onu količinu proizvoda koja znači jednakost graničnog prihoda i graničnog troška, pri čemu zahtijeva maksimalnu cije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4766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757440" y="260280"/>
            <a:ext cx="79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nopol i krivulja ponude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844640"/>
            <a:ext cx="8640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z grafikona se vidi da jedna te ista cijena, kod monopola, može značiti različite ponuđene količ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pol je konzistentan u nastojanju da proizvodi onu količinu proizvoda koja izjednačava granični prihod i granični troš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757440" y="260280"/>
            <a:ext cx="79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nopol i diskriminacija cijen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413000"/>
            <a:ext cx="864072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 može prakticirati diskriminaciju cijena – prodaja istog proizvoda po različitim cijenama različitim kupc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vjeti za uspješno diferenciranje cijena (diskriminaciju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izvođač mora posjedovati tržišnu mo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izvod koji se prodaje po različitim cijenama ne smije biti namijenjen preproda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izvođač mora znati procijeniti platežnu sposobnost kupaca i spremnost za kupovi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am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avršene diskriminacije cije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samo teorijsk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savršene diskriminacije cijena dolazi kada proizvođač od kupca zahtijeva maksimalni novčani iznos kojega je on spreman platiti i tada se potrošački višak pretvara u profit proizvođač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757440" y="260280"/>
            <a:ext cx="79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nopol i diskriminacija cijena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1413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 koristi diskriminaciju cijena budući da ona povećava njegov prof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4390920" cy="3600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24000" y="5803920"/>
            <a:ext cx="860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rošači koji plaćaju jedinstvenu cijenu C ostvaruju potrošački probitak (trokut A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vršena diskriminacija briše razliku između cijene i graničnog prih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328464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vršena diskriminacija cij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79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sporedba monopola i savršene konkurencij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1916280"/>
            <a:ext cx="864072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porediti monopol i savršenu konkurenciju znači usporediti cijene i količ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d savršene konkurencije ravnotežna cijena i količina određena je sjecištem krivulja tržišne ponude (istovremeno i krivulja graničnog troška) i potraž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, nasuprot, proizvodi onu količinu proizvoda pri kojem je granični prihod izjednačen s njegovim graničnim troškom, te određuje maksimalnu cijenu koju potražnja može podnije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3640" y="2133360"/>
            <a:ext cx="8497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vaki savršeni konkurent poroizvodi mali, neznatni dio ukupnog proizvoda grane ili sekt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avršeni konkurent ne posjeduje kontrolu nad cijenom vlastitog proizvoda, on je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price-take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(preuzimatelj cijene) jer tržište nameće cije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savršenoj konkurenciji relevantne ekonomske parametre određuju impersonalne snage tržiš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ada je cijena zadana i kada se bilo koja veličina outputa može realizirati uz postojeću, tržišnu cijenu, tada je potražnja savršeno elastič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79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sporedba monopola i savršene konkurencij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1700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jene i količine kod monopola i savršene konkurenci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499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79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sporedba monopola i savršene konkurencij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060640"/>
            <a:ext cx="864072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že se zaključiti da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ska cijena  viš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ska količina m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ska cijena veća od graničnog troš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cijena formirana u uvjetima savršene konkurencije jednaka je graničnom troš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im toga, monopol često traži zaštitu (državnu, carinsku) - tzv.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rent seeking behaviou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 i često pati od tzv.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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neefik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79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MONOPOL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sporedba monopola i savršene konkurencij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9280" y="44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628640"/>
            <a:ext cx="864072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eđutim, ponekad ekonomijom razmjera i ekonomijom cilja društvo pris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no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monopola dobiv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spješno korištenje ekonomije razmjera i ekonomije cil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992480" cy="35002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796000" y="3716280"/>
            <a:ext cx="33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ovom je slučaju monopolska cijena niža od konkurencijske, a monopolski output veći od konkurencijsk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79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628640"/>
            <a:ext cx="864072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tvarna su tržišta, za razliku od savršene konkurencije i monopola, podvrgnuta nesavršenoj konkurenciji i smještena između dvije krajnosti – savršene konkurencije i monop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nesavršena konkurencija podrazumijeva postojanje većeg ili manjeg (ali više od jednog) broja ponuđača od kojih svaki posjeduje određenu tržišnu moć i sposobnost da variranjem količine proizvoda utječe na cijen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stoje dva oblika nesavršene konkurenci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istička konkurencij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ligo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79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nopolistička konkurencij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28640"/>
            <a:ext cx="8640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istička konkurencija je takav tip tržišta na kojem velik broj ponuđača konkurira proizvodeći ne identičan, već sličan proizv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hvaljujući diferencijaciji proizvodi, koje proizvode monopolistički konkurenti, nisu savršeni supstitu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polistički se konkurent, kao i monopol, sučeljava s padajućom krivuljom potražnje, a pošto proizvodi jedinstvenu verziju proizvoda, dominira jednim segmentom tržišta i u mogućnosti je kontrolirati cijenu svog proiz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im toga monopolistička konkurencija, kao i savršena konkurencija, ne postavlja zapreke onima koji žele ući ili izići iz tržiš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onopolistička konkurencija; kratko vremensko razdoblje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413000"/>
            <a:ext cx="8640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istički konkurent, kao i monopol, poštuje isto pravilo maksimaliziranja profita – proizvodi onu količinu proizvoda pri kojem je granični prihod izjednačen s graničnim troš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z slijedećeg grafikona vidljivo je da se poduzeće ponaša kao monopol, pošto je cijena veća od ukupnog troška pri optimalnom K, monopolistički konkurent ostvaruje ekonomski pro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eđutim, ova situacija je neodrživa u dužem vremenskom razdoblj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908000" y="4005360"/>
            <a:ext cx="4994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onopolistička konkurencija; dugo vremensko razdoblje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1916280"/>
            <a:ext cx="8640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dugom vremenskom razdoblju dolazi do izražaja ono obilježje monopolističke konkurencije koje se odnosi na slobodno pojavljivanje novih konkurenata na tržištu (koje privlači ekonomski profit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ova poduzeća privlače dio kupaca, potražnja za starim proizvodima se smanjuje, tržište postaje tijesno, ekonomski profit se smanjuje, a može se pojaviti i gubi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gubitak izaziva odlazak poduzeća s tržišta, a to traje sve dok monopolistički konkurenti ne ostvare jedino i samo normalni prof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onopolistička konkurencija; dugo vremensko razdoblje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916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ugo vremensko razdoblje kod monopolističke konkurenci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268360" y="2581200"/>
            <a:ext cx="4991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Monopolistička konkurencij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844640"/>
            <a:ext cx="87487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razlike između monopolističkog i savršenog konkurent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d savršenog konkurenta cijena proizvoda jednaka je graničnom trošk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d monopolističkog je ona veća od graničnog troška, a prijelomna točka u uvjetima monopolističke konkurencije znači manju količinu proizvodnje i višu cijenu nego kod savršenog konkur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ormalni profit u savršenoj konkurenciji znači proizvoditi onu količinu koja znači minimalni ukupni trošak i  savršeni konkurent koristi taj kapacit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onopol i mon. konkurencija znači pojavu suvišnog, neiskorištenog kapac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Oligopol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1487520"/>
            <a:ext cx="8748720" cy="57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oligopol je tržište na kojemu se nekoliko (mali broj) proizvođača međusobno natječe proizvodeći iste ili slične proizvod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iferencirani oligopol (poduzeća proizvode slične proizvode koji su dobri supstitu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isti oligopol (poduzeća proizvode iste proizv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načajno obilježje oligopola: mali broj proizvođača od kojih svaki ima određenu tržišnu mo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ligopolist traga za cijenom vodeći računa o svojim konkuren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 je "</a:t>
            </a: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price searche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trategijska interakcija – situacija u kojoj se nalaze oligopolisti – oblik međusobne ovisnosti poduzeća u oligopolu koja nalaže takvo ponašanje koje vodi računa o očekivanim postupcima i reakcijama svih konkuren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ražnja u uvjetima savršene konkuren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457360"/>
            <a:ext cx="5832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Vodstvo u cijenama i tajni sporazumi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1557360"/>
            <a:ext cx="874872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edan od načina rješavanja pitanja cijene u oligopolu je tzv.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vodstvo u cijen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oblem strategijske interakcije riješava se tako da najveće poduzeće preuzme vodstvo u cijenama – ono određuje i mijenja cijenu s obzirom na tržišne uvjete i vlastite troškove, a ostali ga slij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odeće poduzeće maksimalizira profit proizvodeći onu količinu proizvoda koja izjednačava granični prihod s graničnim troš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rugi način određivanja cijene u oligopolu je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tajno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(najčešće ilegalno)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ili javno dogovaranj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ednosti sporazuma su: smanjena nesigurnost, povećani profiti i zaštita od pojave eventualne konkuren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ko oligopolisti sklope ovakve sporazume, posljedice (cijene i količine) mogu biti iste kao u monopo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Vodstvo u cijenama i tajni sporazumi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9280" y="1557360"/>
            <a:ext cx="8748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cijena će biti određena presjecištem krivulja zajedničkog graničnog troška i graničnog prihoda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Formiranje cijene tajnim sporazumima u oligopo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229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Teorija igar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9280" y="1557360"/>
            <a:ext cx="87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eorija igara analizira donošenje odluka o situacijama u kojima postoji sukob inte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eorija igara može se primijeniti i za analizu strategijske interakcije poduzeća u oligopo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Zatvorenikova di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atrica rezultata svih mogućih strateg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00360" y="4005360"/>
            <a:ext cx="5329080" cy="862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A.A. Strateg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Ne priznat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Priz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627280" y="5013360"/>
          <a:ext cx="5400720" cy="1671480"/>
        </p:xfrm>
        <a:graphic>
          <a:graphicData uri="http://schemas.openxmlformats.org/drawingml/2006/table">
            <a:tbl>
              <a:tblPr/>
              <a:tblGrid>
                <a:gridCol w="2736720"/>
                <a:gridCol w="26640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A. 2 go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.B. 2 go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A. 1 go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.B. 8 go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A. 8 go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.B. 1 god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A. 4 go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.B. 4 go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250920" y="5013360"/>
            <a:ext cx="2268360" cy="169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Ne priz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B.B. strate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Priz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Teorija igar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9280" y="1773360"/>
            <a:ext cx="87487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načni rezultat (ravnoteža)  jest priznanje obaju zatvoren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tzv. nesuradnička ili Nash-ova ravnotež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vaki je igrač odigrao igru, vodeći isključivo računa o osobnom intere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d zatvorenikove dileme istovremeno je riječ i o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dominantnoj strategijskoj ravnotež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(strategija koja ostaje ista, bez obzira što poduzeo drugi igrač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Igra u duopolu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9280" y="1773360"/>
            <a:ext cx="874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va poduzeća koja su tajno podijelila tržište i dogovorila cije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maju na raspolaganju: varati (pokušati sniženjem cijene ispod dogovorene zauzeti veći dio tržišta i realizirati ekonomski profit, na račun konkurenta) i ne va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Matrica rezultata svih strategij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4005360"/>
            <a:ext cx="5329080" cy="862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Poduzeće A strate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Ne varat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Va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627280" y="5013360"/>
          <a:ext cx="5400720" cy="1671480"/>
        </p:xfrm>
        <a:graphic>
          <a:graphicData uri="http://schemas.openxmlformats.org/drawingml/2006/table">
            <a:tbl>
              <a:tblPr/>
              <a:tblGrid>
                <a:gridCol w="2736720"/>
                <a:gridCol w="26640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  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   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  +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    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  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   +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 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  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179280" y="4863960"/>
            <a:ext cx="2268720" cy="200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Ne va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Poduzeće B strate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Va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61272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NESAVRŠENA KONKURENCIJA</a:t>
            </a:r>
            <a:br>
              <a:rPr sz="3600"/>
            </a:br>
            <a:r>
              <a:rPr b="0" lang="hr-HR" sz="2800" spc="-1" strike="noStrike">
                <a:solidFill>
                  <a:srgbClr val="b2b2b2"/>
                </a:solidFill>
                <a:latin typeface="Tahoma"/>
              </a:rPr>
              <a:t>Igra u duopolu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9280" y="1773360"/>
            <a:ext cx="874872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pet, oba igrača imaju  na raspolaganju dominantnu strategiju – najbolja strategija je varati, jer na taj način oba poduzeća izbjegavaju gubitak i uspijevaju realizirati normalni pro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ash-ova ravnoteža ove igre znači da će se konkurenti upustiti u rat cijen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vaki igrač u svoju strategiju može uključiti i tzv. "milo za drago" strategij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jedna od ravnoteža je i suradnička ravnoteža u kojoj su se oba igrača naučili surađivati, te ostvaruju profit od 2 mil. n. 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ZAKLJUČNO O </a:t>
            </a: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TR</a:t>
            </a: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Ž</a:t>
            </a: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I</a:t>
            </a: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Š</a:t>
            </a: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TU DOBAR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Koeficijent koncentracije četiriju poduzeć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1989000"/>
            <a:ext cx="8748720" cy="32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eficijent koncentracije četiriju poduzeća daje odgovor na pitanje da li je neki sektor, ili grana bliže monopolu ili savršenoj konkurenci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visoki postotak (npr. 90%) ukazuje na odsutnost konkuren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niski postotak (npr. 1%) ukazuje na snažnu konkurencij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258920" y="2924280"/>
                <a:ext cx="69930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oeficijent</m:t>
                    </m:r>
                    <m:r>
                      <m:rPr>
                        <m:lit/>
                        <m:nor/>
                      </m:rPr>
                      <m:t xml:space="preserve"> koncentracije četiriju poduzeć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rijednost prodaje najvećih četiriju poduzeć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rijednost prodaje grane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ZAKLJUČNO O TRŽIŠTU DOBAR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Pregled osnovnih obilježj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148428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novna obilježja osnovnih tržišnih struk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24000" y="2133720"/>
          <a:ext cx="8351640" cy="446220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5840"/>
                <a:gridCol w="2089080"/>
              </a:tblGrid>
              <a:tr h="682200"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vršena konkuren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polistička konkurencij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gop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p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lik broj poduzeć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lik broj poduzeć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oliko poduzeć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 poduzeć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entičan proizv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erencirani proizv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entičan ili diferencir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instven proizv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ma utjecaja na cije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dređeni utjecaj na cije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čajan utjecaj na cije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dređuje cije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479520">
                <a:tc gridSpan="4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ugoročna ravnotež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ni pro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ni pro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ski pro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opolski pro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479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= min. 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&gt;min. 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&gt;min. 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&gt;min. 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478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= gr.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&gt;gr.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&gt;gr.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jena &gt;gr. troš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ZAKLJUČNO O TRŽIŠTU DOBAR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Pregled osnovnih obilježj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4000" y="2060640"/>
            <a:ext cx="8424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ncept savršene konkurencije je idealan, jer proizvođači nastoje proizvesti proizvod uz najniži trošak i cije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li, savršena konkurencija nije i ne može biti najbolja tržišna struktura za proizvodnju svakog proizvoda i ne može biti primijenjena u svakoj proizvodn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2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savršenog konkuren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kupni prihod je zbroj svih primanja poduzeća  i on je zbroj utržene količine proizvoda i njegove cije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85264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granični prihod je prihod koji donosi dodatno prodana jedinica proizvod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11280" y="3357720"/>
                <a:ext cx="41706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ranični priho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Ukupni prihod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ijen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11280" y="436572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 pošto je savršeni konkurent u prilici svaku dodatnu jedinicu outputa realizirati po istoj cijeni kao i prethodnu, onda 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627280" y="5229360"/>
                <a:ext cx="4371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 Ukupni prihod 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 Količina </m:t>
                    </m:r>
                    <m:r>
                      <m:t xml:space="preserve">×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 Cije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124000" y="2421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kupni prihod = Količin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x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  <a:ea typeface="Arial"/>
              </a:rPr>
              <a:t> Cij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60102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odnos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950080"/>
                <a:ext cx="55706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nični prihod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Količina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Cijena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Količin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ijen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2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savršenog konkuren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5280" y="191628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sječni prihod je ukupni prihod po jedinici prodanog proiz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9337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akle, u uvjetima savršene konkurenci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2492280"/>
                <a:ext cx="47404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sječni prihod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kupni priho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oličin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ije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76360" y="5084640"/>
                <a:ext cx="647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jen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ranični prihod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osječni priho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2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Ukupni, granični i prosječni prihod savršenog konkuren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9280" y="2133360"/>
            <a:ext cx="860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ični i prosječni prihod u uvjetima savršene konkurenci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7056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b2b2b2"/>
                </a:solidFill>
                <a:latin typeface="Tahoma"/>
              </a:rPr>
              <a:t>SAVRŠENA KONKURENCIJA</a:t>
            </a:r>
            <a:br>
              <a:rPr sz="3600"/>
            </a:br>
            <a:r>
              <a:rPr b="0" lang="hr-HR" sz="3200" spc="-1" strike="noStrike">
                <a:solidFill>
                  <a:srgbClr val="b2b2b2"/>
                </a:solidFill>
                <a:latin typeface="Tahoma"/>
              </a:rPr>
              <a:t>Maksimaliziranje profita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81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9280" y="2349000"/>
            <a:ext cx="860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avršeni konkurent nije u mogućnosti manipuliranjem cijenom povećati profit, ali to može učiniti manipuliranjem veličinom svog ukupnog proiz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i proizvodnji od 4000 jedinica, ukupni troškovi jednaki su ukupnim prihodima i profit je n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 pri nižoj i pri višoj razini proizvodnje, troškovi su veći od prih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Tahoma"/>
              </a:rPr>
              <a:t>proizvodnja pri kojoj se maksimizira profit je ona proizvodnja pri kojoj je granični trošak  jednak cijen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52:29Z</dcterms:created>
  <dc:creator>Loncaric</dc:creator>
  <dc:description/>
  <dc:language>en-US</dc:language>
  <cp:lastModifiedBy>X</cp:lastModifiedBy>
  <dcterms:modified xsi:type="dcterms:W3CDTF">2006-12-22T09:02:22Z</dcterms:modified>
  <cp:revision>11</cp:revision>
  <dc:subject/>
  <dc:title>TRŽIŠTE DOBARA</dc:title>
</cp:coreProperties>
</file>