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BCFBB-6FCC-4AF8-9B5D-EF67CB7E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4F95E-E4DA-4A1B-B598-52B2EB568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E293-0E97-4BC8-85FA-05B2ADB60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54738-CA96-4AD4-96A2-93E00E84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6B646-F119-4246-802A-0AF0EB76A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EF445-82FE-4867-A5EF-8C73443A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BB35A-393B-431B-BD17-5237AD3E1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B1F85-862E-47E7-A665-FFD211F2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40F69-4589-4FFA-A122-E80F8CB7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4943-306B-4CC1-A93F-95858148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708C-5B28-4948-989E-979DA643E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FA44-9893-4C82-9D9D-3F6661E11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8CAD-802A-4D81-A59F-1A0C48EB29C8}"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EZNI SUSTAV REPUBLIKE HRVATSK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PRAVA I OBVEZE POREZNIH OBVEZNIKA U POREZNOM POSTUPK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97BE70-543C-4647-B593-ABFF9F833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JELA JAVNIH PRIHOD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riginalni i derivatni prihodi</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Javnopravni i privatnopravni prihodi</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edovni i izvanredni prihodi</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od stanovništva i od pravnih osoba</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vratni i nepovratni prihodi</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od širih i užih teritorijalnih jedinica</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mjenski i nenamjenski prihodi</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u novcu i prihodi u natur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339C9-4207-4944-A78E-A00EB3A757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RAKTERISTIKE JAVNIH PRIHOD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ni prihodi se ubiru u novc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ni prihodi se ubiru periodič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ni prihodi se ubiru u pravilu iz prihoda i dohotka, a samo iznimno iz imov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ni prihodi su dio novostvorene vrijednosti koja služi za podmirenje državnih (javnih) potreb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79F486-786C-4459-8A50-95DDDEA09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I PRIKUPLJANJA JAVNIH PRIHOD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819160"/>
            <a:ext cx="7772400" cy="3276360"/>
          </a:xfrm>
          <a:prstGeom prst="rect">
            <a:avLst/>
          </a:prstGeom>
          <a:noFill/>
          <a:ln w="0">
            <a:noFill/>
          </a:ln>
        </p:spPr>
        <p:txBody>
          <a:bodyPr lIns="90000" rIns="90000" tIns="46800" bIns="46800" anchor="t">
            <a:normAutofit/>
          </a:bodyPr>
          <a:p>
            <a:pPr marL="609480" indent="-609480">
              <a:spcBef>
                <a:spcPts val="7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orez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stojb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prinos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fiskalna davanj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ov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C1E08-422C-4E04-AD94-BB0373246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RAKTERISTIKE POREZ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silnost poreza</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atnost (izvedenost) poreza</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ovratnost poreza</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sutnost neposredne naknade</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destiniranost poreza</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biru se u javnom interesu</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i su novčani prihod drža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4DFBCC-5608-4749-A1F5-77F9B200A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LASIČNA PODJELA POREZ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osredni (direktni, izravni) su oni porezi koje porezni obveznik neposredno plaća i nije u mogućnosti prevaliti ih na drugi porezni subjek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redni (indirektni, neizravni) su oni porezi koje porezni obveznik može prevaliti na drugog poreznog subjekt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57925C-9CBE-4260-B974-8AA3CFE21F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EZNI SUSTAV RH</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žavni porezi</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Županijski porezi</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ski ili općinski porezi</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jednički porezi</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knade za priređivanje igara na sreću</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isana uplata priređivača nagradnih igara u korist Hrvatskog crvenog križ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E89FD3-C761-4ECA-A3BA-F2506D3AA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ISTARSTVO FINANCIJA RH</a:t>
            </a:r>
            <a:endParaRPr b="0" lang="en-US" sz="4000" spc="-1" strike="noStrike">
              <a:solidFill>
                <a:srgbClr val="000000"/>
              </a:solidFill>
              <a:latin typeface="Times New Roman"/>
            </a:endParaRPr>
          </a:p>
        </p:txBody>
      </p:sp>
      <p:sp>
        <p:nvSpPr>
          <p:cNvPr id="76" name="PlaceHolder 2"/>
          <p:cNvSpPr>
            <a:spLocks noGrp="1"/>
          </p:cNvSpPr>
          <p:nvPr>
            <p:ph/>
          </p:nvPr>
        </p:nvSpPr>
        <p:spPr>
          <a:xfrm>
            <a:off x="228240" y="838080"/>
            <a:ext cx="4267080" cy="563904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binet ministra</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jništvo ministra</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vod za makroekonomske analize, prognoze i planiranje</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žavna riznica</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ktor za pripremu proračuna</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ktor za izvršavanje proračuna</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ktor za upravljanje gotovinom i javnim dugom</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zni inspektorat</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financijske odnose i europske integracije</a:t>
            </a:r>
            <a:endParaRPr b="0" lang="en-US" sz="2400" spc="-1" strike="noStrike">
              <a:solidFill>
                <a:srgbClr val="000000"/>
              </a:solidFill>
              <a:latin typeface="Times New Roman"/>
            </a:endParaRPr>
          </a:p>
          <a:p>
            <a:pPr marL="452520" indent="-452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javnu nabavu</a:t>
            </a:r>
            <a:endParaRPr b="0" lang="en-US" sz="2400" spc="-1" strike="noStrike">
              <a:solidFill>
                <a:srgbClr val="000000"/>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4572000" y="914040"/>
            <a:ext cx="45720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financiranje programa i projekata pomoći EU</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gospodarstv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financijski sustav</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rava za unutarnju reviziju i nadzor</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mostalna služba za drugostupanjski upravni postupak</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ezna uprava-središnji ured</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inska uprava</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inancijska policij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ed za sprečavanje pranja novca</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E753C0B-D090-4C8B-9A12-524313C52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EZNA UPRAV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edišnji ured</a:t>
            </a:r>
            <a:endParaRPr b="0" lang="en-US" sz="3200" spc="-1" strike="noStrike">
              <a:solidFill>
                <a:srgbClr val="000000"/>
              </a:solidFill>
              <a:latin typeface="Times New Roman"/>
            </a:endParaRPr>
          </a:p>
          <a:p>
            <a:pPr marL="585000" indent="-58500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ručni uredi</a:t>
            </a:r>
            <a:endParaRPr b="0" lang="en-US" sz="3200" spc="-1" strike="noStrike">
              <a:solidFill>
                <a:srgbClr val="000000"/>
              </a:solidFill>
              <a:latin typeface="Times New Roman"/>
            </a:endParaRPr>
          </a:p>
          <a:p>
            <a:pPr marL="585000" indent="-58500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ostave područnih ureda</a:t>
            </a:r>
            <a:endParaRPr b="0" lang="en-US" sz="3200" spc="-1" strike="noStrike">
              <a:solidFill>
                <a:srgbClr val="000000"/>
              </a:solidFill>
              <a:latin typeface="Times New Roman"/>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Poreznom upravom upravlja ravnatelj s položajem pomoćnika ministra koji ujedno upravlja i radom Središnjeg ured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1B30D-12EE-4625-9B97-5E3CE5136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REDIŠNJI UR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avlja upravne i druge administrativne poslove od kojih su najznačajniji slijedeći:</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laže promjene porezne politike i poreznih propisa.</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kuplja i obrađuje podatke o naplaćenim porezima, danim olakšicama i oslobođenjima.</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ordinira i nadzire rad područnih ureda i ispostava. </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ordinira provođenje inspekcijskog nadzora.</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daje odobrenja, markice ili druge oznake za praćenje proizvodnje i prometa pojedinih proizvoda.</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užanje stručne pomoći područnim uredima.</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rganiziranje stručnog usavršavanja službenika PU.</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 druge poslove za provedbu poreznih propisa i propisa o plaćanju obveznih doprinosa.</a:t>
            </a: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F587C5-CDF3-48ED-852E-4833EBF276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RUČNI URED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avljaju upravne i druge stručne poslove od kojih su najznačajniji slijedeć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primaju porezne prijave, bilježe porezne obveze i prate naplatu (vode porezno knjigovodstv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vrđuju pravodobnost, zakonitost i pravilnost podnijetih poreznih prijav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vrđuju poreznu osnovicu i poreznu obvezu u prvom stupnju.</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ode inspekcijski nadzor.</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ode naplatu i ovrhu radi naplate poreza i doprinos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de i rješavaju prvostupanjski prekršajni postupak zbog povrede poreznih propisa i propisa o plaćanju obveznih doprinosa, i dr.</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391B9D-71D3-4DCF-998C-0225D29EB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GLED PREDAVANJ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ne (državne) financij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i sustav Republike Hrvatsk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nos između poreznog tijela i poreznog obveznik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i postupa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vni lijekovi u poreznom postupku</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i prekršaj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3E6B9C-4A64-404F-8B5D-68ECE1A5A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LAŠTENJA POREZNIH INSPEKTORA</a:t>
            </a:r>
            <a:endParaRPr b="0" lang="en-US" sz="3200" spc="-1" strike="noStrike">
              <a:solidFill>
                <a:srgbClr val="000000"/>
              </a:solidFill>
              <a:latin typeface="Times New Roman"/>
            </a:endParaRPr>
          </a:p>
        </p:txBody>
      </p:sp>
      <p:sp>
        <p:nvSpPr>
          <p:cNvPr id="85" name="PlaceHolder 2"/>
          <p:cNvSpPr>
            <a:spLocks noGrp="1"/>
          </p:cNvSpPr>
          <p:nvPr>
            <p:ph/>
          </p:nvPr>
        </p:nvSpPr>
        <p:spPr>
          <a:xfrm>
            <a:off x="228600" y="1676520"/>
            <a:ext cx="822960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ezni inspektori su ovlašten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remeno oduzeti predmete, novac, vrijednosnice i dokumentaciju koja može poslužiti kao dokaz u daljnjem prekršajnom, postupovnom ili kaznenom postupk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remeno zabraniti obavljanje djelatnosti pečaćenjem poslovnih prostorija, postrojenja ili opre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kaznenim postupcima po nalogu Istražnog suca ili Državnog odvjetnika pregledavati poslovni prostor, dobra, provjeravati porijeklo dobara, zaustavljati i pregledavati vozila, plovila i zrakoplo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Ovlasti se daju u obliku službene iskaznice i značk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093924-C269-44E9-AF5A-4D6A5CF3D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REZNO SAVJETNIŠTVO</a:t>
            </a:r>
            <a:endParaRPr b="0" lang="en-US" sz="4000" spc="-1" strike="noStrike">
              <a:solidFill>
                <a:srgbClr val="000000"/>
              </a:solidFill>
              <a:latin typeface="Times New Roman"/>
            </a:endParaRPr>
          </a:p>
        </p:txBody>
      </p:sp>
      <p:sp>
        <p:nvSpPr>
          <p:cNvPr id="87" name=""/>
          <p:cNvSpPr/>
          <p:nvPr/>
        </p:nvSpPr>
        <p:spPr>
          <a:xfrm>
            <a:off x="410760" y="1981080"/>
            <a:ext cx="87516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rezno savjetništvo je djelatnost davanja savjeta o porezni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anjima, zastupanje u poreznim postupcima pred porezni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jelima, izrada poreznih prijava i vještačenja u poreznim predmeti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 odluci poreznog tije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reznim savjetništvom mogu se baviti samo fizičke oso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jima je Komora poreznih savjetnika dala odobrenje za r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rezni savjetnik je fizička osoba koja obavlja djelatno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eznog savjetništva kao samostalnu djelatnost ili u javn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govačkom društvu i ne može biti zaposlen kod druge fizičke il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vne osob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F89B1E-5199-4E5F-B016-FB0CB079D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RŽAVNI POREZI</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 y="1447920"/>
            <a:ext cx="8305920" cy="4114800"/>
          </a:xfrm>
          <a:prstGeom prst="rect">
            <a:avLst/>
          </a:prstGeom>
          <a:noFill/>
          <a:ln w="0">
            <a:noFill/>
          </a:ln>
        </p:spPr>
        <p:txBody>
          <a:bodyPr lIns="90000" rIns="90000" tIns="46800" bIns="46800" anchor="t">
            <a:normAutofit fontScale="83000"/>
          </a:bodyPr>
          <a:p>
            <a:pPr marL="505800" indent="-505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rez na dodanu vrijednost</a:t>
            </a:r>
            <a:endParaRPr b="0" lang="en-US" sz="2800" spc="-1" strike="noStrike">
              <a:solidFill>
                <a:srgbClr val="000000"/>
              </a:solidFill>
              <a:latin typeface="Times New Roman"/>
            </a:endParaRPr>
          </a:p>
          <a:p>
            <a:pPr marL="505800" indent="-505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ebni porezi:</a:t>
            </a:r>
            <a:endParaRPr b="0" lang="en-US" sz="28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automobile, ostala motorna vozila, plovila i zrakoplove</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naftne derivate</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alkohol</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pivo</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bezalkoholna pića</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duhan i duhanske proizvode</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kavu</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luksuzne proizvode</a:t>
            </a:r>
            <a:endParaRPr b="0" lang="en-US" sz="2400" spc="-1" strike="noStrike">
              <a:solidFill>
                <a:srgbClr val="000000"/>
              </a:solidFill>
              <a:latin typeface="Times New Roman"/>
            </a:endParaRPr>
          </a:p>
          <a:p>
            <a:pPr lvl="1" marL="822240" indent="-4428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premije osiguranja od automobilske odgovornosti i premije od kasko osiguranja cestovnih vozila.</a:t>
            </a:r>
            <a:endParaRPr b="0" lang="en-US" sz="2400" spc="-1" strike="noStrike">
              <a:solidFill>
                <a:srgbClr val="000000"/>
              </a:solidFill>
              <a:latin typeface="Times New Roman"/>
            </a:endParaRPr>
          </a:p>
          <a:p>
            <a:pPr lvl="1" marL="822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CFC2F-C392-4D20-BCCB-A336FCB257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ŽUPANIJSKI POREZI</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 na nasljedstva i darove</a:t>
            </a:r>
            <a:endParaRPr b="0" lang="en-US" sz="3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sim nekretnina koji se dijeli 40% državi i 60 % općini ili gradu)</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 na cestovna motorna vozil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 na plovil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 na automate za zabavne ig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2B97AA-2612-48D7-8D6E-DA85CB05A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DSKI ILI OPĆINSKI POREZI</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rez porezu na dohodak</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potrošnju</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kuće za odmor</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tvrtku ili naziv</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korištenje javnih površina</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neobrađeno obradivo poljoprivredno zemljište</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nekorištene poduzetničke nekretnine</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 na neizgrađeno građevno zemljište</a:t>
            </a:r>
            <a:endParaRPr b="0" lang="en-US" sz="2800" spc="-1" strike="noStrike">
              <a:solidFill>
                <a:srgbClr val="000000"/>
              </a:solidFill>
              <a:latin typeface="Times New Roman"/>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E5A9D-05D7-44B6-82B2-3A58B16D64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JEDNIČKI POREZI</a:t>
            </a:r>
            <a:endParaRPr b="0" lang="en-US" sz="4400" spc="-1" strike="noStrike">
              <a:solidFill>
                <a:srgbClr val="000000"/>
              </a:solidFill>
              <a:latin typeface="Times New Roman"/>
            </a:endParaRPr>
          </a:p>
        </p:txBody>
      </p:sp>
      <p:sp>
        <p:nvSpPr>
          <p:cNvPr id="95" name="PlaceHolder 2"/>
          <p:cNvSpPr>
            <a:spLocks noGrp="1"/>
          </p:cNvSpPr>
          <p:nvPr>
            <p:ph/>
          </p:nvPr>
        </p:nvSpPr>
        <p:spPr>
          <a:xfrm>
            <a:off x="533520" y="1905120"/>
            <a:ext cx="7772400" cy="3047760"/>
          </a:xfrm>
          <a:prstGeom prst="rect">
            <a:avLst/>
          </a:prstGeom>
          <a:noFill/>
          <a:ln w="0">
            <a:noFill/>
          </a:ln>
        </p:spPr>
        <p:txBody>
          <a:bodyPr lIns="90000" rIns="90000" tIns="46800" bIns="46800" anchor="t">
            <a:normAutofit fontScale="79000"/>
          </a:bodyPr>
          <a:p>
            <a:pPr marL="481320" indent="-4813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ez na dobit</a:t>
            </a:r>
            <a:r>
              <a:rPr b="0" lang="en-US" sz="2800" spc="-1" strike="noStrike">
                <a:solidFill>
                  <a:srgbClr val="000000"/>
                </a:solidFill>
                <a:latin typeface="Times New Roman"/>
              </a:rPr>
              <a:t> </a:t>
            </a:r>
            <a:r>
              <a:rPr b="0" lang="en-US" sz="2400" spc="-1" strike="noStrike">
                <a:solidFill>
                  <a:srgbClr val="000000"/>
                </a:solidFill>
                <a:latin typeface="Times New Roman"/>
              </a:rPr>
              <a:t>(70% državni, 10% županijski i 20% gradski / općinski prihod)</a:t>
            </a:r>
            <a:endParaRPr b="0" lang="en-US" sz="2400" spc="-1" strike="noStrike">
              <a:solidFill>
                <a:srgbClr val="000000"/>
              </a:solidFill>
              <a:latin typeface="Times New Roman"/>
            </a:endParaRPr>
          </a:p>
          <a:p>
            <a:pPr marL="481320" indent="-481320">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ez na dohodak</a:t>
            </a:r>
            <a:r>
              <a:rPr b="0" lang="en-US" sz="2800" spc="-1" strike="noStrike">
                <a:solidFill>
                  <a:srgbClr val="000000"/>
                </a:solidFill>
                <a:latin typeface="Times New Roman"/>
              </a:rPr>
              <a:t> </a:t>
            </a:r>
            <a:r>
              <a:rPr b="0" lang="en-US" sz="2400" spc="-1" strike="noStrike">
                <a:solidFill>
                  <a:srgbClr val="000000"/>
                </a:solidFill>
                <a:latin typeface="Times New Roman"/>
              </a:rPr>
              <a:t>(državni, županijski i gradski/ općinski ovisno o stupnju decentralizacije javnih izdataka iz oblasti osnovnog i srednjeg školstva, socijalne skrbi, vatrogastva i zdravstva.</a:t>
            </a:r>
            <a:endParaRPr b="0" lang="en-US" sz="2400" spc="-1" strike="noStrike">
              <a:solidFill>
                <a:srgbClr val="000000"/>
              </a:solidFill>
              <a:latin typeface="Times New Roman"/>
            </a:endParaRPr>
          </a:p>
          <a:p>
            <a:pPr marL="481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1" lang="en-US" sz="2800" spc="-1" strike="noStrike">
                <a:solidFill>
                  <a:srgbClr val="000000"/>
                </a:solidFill>
                <a:latin typeface="Times New Roman"/>
              </a:rPr>
              <a:t>Porez na promet nekretnina</a:t>
            </a:r>
            <a:r>
              <a:rPr b="0" lang="en-US" sz="2800" spc="-1" strike="noStrike">
                <a:solidFill>
                  <a:srgbClr val="000000"/>
                </a:solidFill>
                <a:latin typeface="Times New Roman"/>
              </a:rPr>
              <a:t> </a:t>
            </a:r>
            <a:r>
              <a:rPr b="0" lang="en-US" sz="2400" spc="-1" strike="noStrike">
                <a:solidFill>
                  <a:srgbClr val="000000"/>
                </a:solidFill>
                <a:latin typeface="Times New Roman"/>
              </a:rPr>
              <a:t>(40% državni, 60% općinski/gradski prihod)</a:t>
            </a:r>
            <a:endParaRPr b="0" lang="en-US" sz="2400" spc="-1" strike="noStrike">
              <a:solidFill>
                <a:srgbClr val="000000"/>
              </a:solidFill>
              <a:latin typeface="Times New Roman"/>
            </a:endParaRPr>
          </a:p>
          <a:p>
            <a:pPr marL="481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1" lang="en-US" sz="2800" spc="-1" strike="noStrike">
                <a:solidFill>
                  <a:srgbClr val="000000"/>
                </a:solidFill>
                <a:latin typeface="Times New Roman"/>
              </a:rPr>
              <a:t>Porez na  naslijeđene odnosno darovane</a:t>
            </a:r>
            <a:r>
              <a:rPr b="0" lang="en-US" sz="2800" spc="-1" strike="noStrike">
                <a:solidFill>
                  <a:srgbClr val="000000"/>
                </a:solidFill>
                <a:latin typeface="Times New Roman"/>
              </a:rPr>
              <a:t> </a:t>
            </a:r>
            <a:r>
              <a:rPr b="1" lang="en-US" sz="2800" spc="-1" strike="noStrike">
                <a:solidFill>
                  <a:srgbClr val="000000"/>
                </a:solidFill>
                <a:latin typeface="Times New Roman"/>
              </a:rPr>
              <a:t>nekretnine</a:t>
            </a:r>
            <a:r>
              <a:rPr b="0" lang="en-US" sz="2800" spc="-1" strike="noStrike">
                <a:solidFill>
                  <a:srgbClr val="000000"/>
                </a:solidFill>
                <a:latin typeface="Times New Roman"/>
              </a:rPr>
              <a:t> </a:t>
            </a:r>
            <a:r>
              <a:rPr b="0" lang="en-US" sz="2400" spc="-1" strike="noStrike">
                <a:solidFill>
                  <a:srgbClr val="000000"/>
                </a:solidFill>
                <a:latin typeface="Times New Roman"/>
              </a:rPr>
              <a:t>(županijski porez koji se dijeli na 40% državni, 60% općinski/gradski prihod)</a:t>
            </a:r>
            <a:endParaRPr b="0" lang="en-US" sz="2400" spc="-1" strike="noStrike">
              <a:solidFill>
                <a:srgbClr val="000000"/>
              </a:solidFill>
              <a:latin typeface="Times New Roman"/>
            </a:endParaRPr>
          </a:p>
          <a:p>
            <a:pPr marL="481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E6329-0DA3-475F-8523-BBE116D539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KNADE ZA PRIREĐIVANJE IGARA NA SREĆU</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knada za prigodno jednokratno priređivanje lutrijskih igar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knada za priređivanje igara na sreću - igre u casinim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knada za priređivanje igara na sreću – kladioničke igr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knada za priređivanje igara na sreću na automatima</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091570-E8DB-4034-8540-9AB1830DCD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8" name=""/>
          <p:cNvSpPr/>
          <p:nvPr/>
        </p:nvSpPr>
        <p:spPr>
          <a:xfrm>
            <a:off x="836640" y="1447920"/>
            <a:ext cx="79470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ISANA UPLATA PRIREĐIVAČA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GRADNIH IGARA U KORIS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RVATSKOG CRVENOG KRIŽA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 STOPI 5% NA UTVRĐENU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RIJEDNOS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GRADNOG FONDA</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BAFF0A7-A431-4B3B-A07D-E80C3B1392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ČELA OPOREZIVANJA</a:t>
            </a:r>
            <a:endParaRPr b="0" lang="en-US" sz="3600" spc="-1" strike="noStrike">
              <a:solidFill>
                <a:srgbClr val="000000"/>
              </a:solidFill>
              <a:latin typeface="Times New Roman"/>
            </a:endParaRPr>
          </a:p>
        </p:txBody>
      </p:sp>
      <p:sp>
        <p:nvSpPr>
          <p:cNvPr id="100" name="PlaceHolder 2"/>
          <p:cNvSpPr>
            <a:spLocks noGrp="1"/>
          </p:cNvSpPr>
          <p:nvPr>
            <p:ph type="subTitle"/>
          </p:nvPr>
        </p:nvSpPr>
        <p:spPr>
          <a:xfrm>
            <a:off x="457200" y="1447560"/>
            <a:ext cx="8305920" cy="48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Zakonitos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Utvrđivanje činjenic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Ravnomjernost oporezivanj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avna zaštita u poreznim stvarim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vrha u poreznom postupku</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stala načela</a:t>
            </a:r>
            <a:endParaRPr b="0" lang="en-US" sz="3200" spc="-1" strike="noStrike">
              <a:solidFill>
                <a:srgbClr val="000000"/>
              </a:solidFill>
              <a:latin typeface="Times New Roman"/>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tupanje u dobroj vjeri (bona fides)</a:t>
            </a:r>
            <a:endParaRPr b="0" lang="en-US" sz="2800" spc="-1" strike="noStrike">
              <a:solidFill>
                <a:srgbClr val="000000"/>
              </a:solidFill>
              <a:latin typeface="Times New Roman"/>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laćanje poreza prema gospodarskoj snazi</a:t>
            </a:r>
            <a:endParaRPr b="0" lang="en-US" sz="28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99733D-225F-4501-B92E-A10026040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DNOS IZMEĐU POREZNOG TIJELA I POREZNOG OBVEZNIKA</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o-pravni odn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o-dužnički odn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5A09D0-5F94-44CD-9254-CCA65CA5B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NE FINANCIJE</a:t>
            </a:r>
            <a:endParaRPr b="0" lang="en-US" sz="4400" spc="-1" strike="noStrike">
              <a:solidFill>
                <a:srgbClr val="000000"/>
              </a:solidFill>
              <a:latin typeface="Times New Roman"/>
            </a:endParaRPr>
          </a:p>
        </p:txBody>
      </p:sp>
      <p:sp>
        <p:nvSpPr>
          <p:cNvPr id="46" name=""/>
          <p:cNvSpPr/>
          <p:nvPr/>
        </p:nvSpPr>
        <p:spPr>
          <a:xfrm>
            <a:off x="609480" y="2209680"/>
            <a:ext cx="28800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JSK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ANOST</a:t>
            </a:r>
            <a:endParaRPr b="0" lang="en-US" sz="3200" spc="-1" strike="noStrike">
              <a:solidFill>
                <a:srgbClr val="000000"/>
              </a:solidFill>
              <a:latin typeface="Times New Roman"/>
            </a:endParaRPr>
          </a:p>
        </p:txBody>
      </p:sp>
      <p:sp>
        <p:nvSpPr>
          <p:cNvPr id="47" name=""/>
          <p:cNvSpPr/>
          <p:nvPr/>
        </p:nvSpPr>
        <p:spPr>
          <a:xfrm>
            <a:off x="5486400" y="2286000"/>
            <a:ext cx="28800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JSK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VO</a:t>
            </a:r>
            <a:endParaRPr b="0" lang="en-US" sz="3200" spc="-1" strike="noStrike">
              <a:solidFill>
                <a:srgbClr val="000000"/>
              </a:solidFill>
              <a:latin typeface="Times New Roman"/>
            </a:endParaRPr>
          </a:p>
        </p:txBody>
      </p:sp>
      <p:sp>
        <p:nvSpPr>
          <p:cNvPr id="48" name=""/>
          <p:cNvSpPr/>
          <p:nvPr/>
        </p:nvSpPr>
        <p:spPr>
          <a:xfrm flipH="1">
            <a:off x="3505320" y="1828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343400" y="182880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09480" y="3657600"/>
            <a:ext cx="81486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ije usko povezane osamostaljene znanstvene discipline koje se međusobno isprepliću i dopunjuju, a proučavaju svaka sa svog aspekta financijsku djelatnost javnog sektora i odnose do kojih dolazi pri obavljanju javne financijske djelatnost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F499ADB-FE40-42E6-8FFD-20F1D53EC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PRAVNI ODNOS</a:t>
            </a:r>
            <a:endParaRPr b="0" lang="en-US" sz="3600" spc="-1" strike="noStrike">
              <a:solidFill>
                <a:srgbClr val="000000"/>
              </a:solidFill>
              <a:latin typeface="Times New Roman"/>
            </a:endParaRPr>
          </a:p>
        </p:txBody>
      </p:sp>
      <p:sp>
        <p:nvSpPr>
          <p:cNvPr id="104" name="PlaceHolder 2"/>
          <p:cNvSpPr>
            <a:spLocks noGrp="1"/>
          </p:cNvSpPr>
          <p:nvPr>
            <p:ph type="subTitle"/>
          </p:nvPr>
        </p:nvSpPr>
        <p:spPr>
          <a:xfrm>
            <a:off x="609120" y="2361960"/>
            <a:ext cx="80010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orezno tijelo                        porezni obvezni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tijelo državne uprav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Odnos (uzajamnost, povezanost) poreznog tijela i poreznog obveznika </a:t>
            </a:r>
            <a:r>
              <a:rPr b="1" lang="hr-HR" sz="3200" spc="-1" strike="noStrike">
                <a:solidFill>
                  <a:srgbClr val="000000"/>
                </a:solidFill>
                <a:latin typeface="Times New Roman"/>
              </a:rPr>
              <a:t>obuhvaća njihova prava i obveze</a:t>
            </a:r>
            <a:r>
              <a:rPr b="0" lang="hr-HR" sz="3200" spc="-1" strike="noStrike">
                <a:solidFill>
                  <a:srgbClr val="000000"/>
                </a:solidFill>
                <a:latin typeface="Times New Roman"/>
              </a:rPr>
              <a:t> u poreznom postupku.</a:t>
            </a:r>
            <a:endParaRPr b="0" lang="en-US" sz="3200" spc="-1" strike="noStrike">
              <a:solidFill>
                <a:srgbClr val="000000"/>
              </a:solidFill>
              <a:latin typeface="Times New Roman"/>
            </a:endParaRPr>
          </a:p>
        </p:txBody>
      </p:sp>
      <p:sp>
        <p:nvSpPr>
          <p:cNvPr id="105" name=""/>
          <p:cNvSpPr/>
          <p:nvPr/>
        </p:nvSpPr>
        <p:spPr>
          <a:xfrm>
            <a:off x="3886200" y="419112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66880" y="4495680"/>
            <a:ext cx="0" cy="1067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3372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76720" y="266688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EE93C0-FCF8-45C7-8E0A-1EB32F8DED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PRAVNI ODNOS</a:t>
            </a:r>
            <a:endParaRPr b="0" lang="en-US" sz="3600" spc="-1" strike="noStrike">
              <a:solidFill>
                <a:srgbClr val="000000"/>
              </a:solidFill>
              <a:latin typeface="Times New Roman"/>
            </a:endParaRPr>
          </a:p>
        </p:txBody>
      </p:sp>
      <p:sp>
        <p:nvSpPr>
          <p:cNvPr id="110" name="PlaceHolder 2"/>
          <p:cNvSpPr>
            <a:spLocks noGrp="1"/>
          </p:cNvSpPr>
          <p:nvPr>
            <p:ph type="subTitle"/>
          </p:nvPr>
        </p:nvSpPr>
        <p:spPr>
          <a:xfrm>
            <a:off x="152280" y="1828440"/>
            <a:ext cx="868680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rezno-pravni odnos je najšire gledano društveni odnos u kojem su sudionici s jedne strane država odnosno jedinice područne (regionalne) ili lokalne samouprave koju zastupa porezno tijelo, i s druge strane porezni obveznik i osobe koje jamče za plaćanje poreza (jamci). U porezno-pravni odnos osoba (pravna ili fizička) ulazi bez svoje volje, odnosno temeljem zakona kojim se utvrđuje pojedina vrsta porez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091EEE-0AB2-4430-8872-8E72785B12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PRAVNI ODNOS</a:t>
            </a:r>
            <a:endParaRPr b="0" lang="en-US" sz="3600" spc="-1" strike="noStrike">
              <a:solidFill>
                <a:srgbClr val="000000"/>
              </a:solidFill>
              <a:latin typeface="Times New Roman"/>
            </a:endParaRPr>
          </a:p>
        </p:txBody>
      </p:sp>
      <p:sp>
        <p:nvSpPr>
          <p:cNvPr id="112" name="PlaceHolder 2"/>
          <p:cNvSpPr>
            <a:spLocks noGrp="1"/>
          </p:cNvSpPr>
          <p:nvPr>
            <p:ph type="subTitle"/>
          </p:nvPr>
        </p:nvSpPr>
        <p:spPr>
          <a:xfrm>
            <a:off x="533160" y="1676520"/>
            <a:ext cx="7924680" cy="4114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 postupak poreznih tijela primjenjuje se:</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pći porezni zak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upsidijarna primjena Zakona o općem upravnom postupku)</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dnos ovog Zakona prema drugim zakonima je prema klasičnom pravilu prednosti pri primjeni propisa lex specijalis prema lex generalis, tj. da pravna pravila uže posebnosti (a jednake pravne snage) imaju u primjeni propisa prednost pred propisom općenitijeg značenja.</a:t>
            </a:r>
            <a:r>
              <a:rPr b="0" lang="hr-H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3" name=""/>
          <p:cNvSpPr/>
          <p:nvPr/>
        </p:nvSpPr>
        <p:spPr>
          <a:xfrm>
            <a:off x="1219320" y="3733920"/>
            <a:ext cx="75960" cy="1371600"/>
          </a:xfrm>
          <a:custGeom>
            <a:avLst/>
            <a:gdLst>
              <a:gd name="textAreaLeft" fmla="*/ 48600 w 75960"/>
              <a:gd name="textAreaRight" fmla="*/ 76320 w 759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E40294-27A2-4078-99AF-6B2E5D40FF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DIONICI POREZNO-PRAVNOG POSTUPKA</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ktivni sudionik:</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orezno tijelo </a:t>
            </a:r>
            <a:r>
              <a:rPr b="0" lang="hr-HR" sz="2000" spc="-1" strike="noStrike">
                <a:solidFill>
                  <a:srgbClr val="000000"/>
                </a:solidFill>
                <a:latin typeface="Times New Roman"/>
              </a:rPr>
              <a:t>	</a:t>
            </a:r>
            <a:r>
              <a:rPr b="0" lang="hr-H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asivni sudionik:               -porezni obveznik</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opunomoćenik za primanje poreznih akata</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opunomoćenik</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omagač</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orezni savjetnik</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zakonski zastupnik</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oslovodna osoba</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pravitelj imovine</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osoba koja stvarno koristi ili raspolaže tuđom</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imovinom</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zastupnik po službenoj dužnost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27018C-20AE-4B19-99B5-78541D353F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DUŽNIČKI ODNOS</a:t>
            </a:r>
            <a:endParaRPr b="0" lang="en-US" sz="3600" spc="-1" strike="noStrike">
              <a:solidFill>
                <a:srgbClr val="000000"/>
              </a:solidFill>
              <a:latin typeface="Times New Roman"/>
            </a:endParaRPr>
          </a:p>
        </p:txBody>
      </p:sp>
      <p:sp>
        <p:nvSpPr>
          <p:cNvPr id="117" name="PlaceHolder 2"/>
          <p:cNvSpPr>
            <a:spLocks noGrp="1"/>
          </p:cNvSpPr>
          <p:nvPr>
            <p:ph type="subTitle"/>
          </p:nvPr>
        </p:nvSpPr>
        <p:spPr>
          <a:xfrm>
            <a:off x="533160" y="2209680"/>
            <a:ext cx="8001000" cy="3657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rezno-dužnički odnos je dvostrano obvezan pravni odnos u kojem sudionici, porezno tijelo, porezni dužnik i porezni jamac, ostvaruju svoja prava i ispunjavaju svoje novčane obvez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rezni obveznik je svaka osoba koja je kao takva određena Zakonom kojim se uređuje pojedina vrsta porez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2EE5A1-98F9-420B-B67D-633B2DA5CF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DUŽNIČKI ODNOS</a:t>
            </a:r>
            <a:br>
              <a:rPr sz="3200"/>
            </a:br>
            <a:r>
              <a:rPr b="0" lang="en-US" sz="3200" spc="-1" strike="noStrike">
                <a:solidFill>
                  <a:srgbClr val="000000"/>
                </a:solidFill>
                <a:latin typeface="Times New Roman"/>
              </a:rPr>
              <a:t>prava i obveze</a:t>
            </a:r>
            <a:endParaRPr b="0" lang="en-US" sz="3200" spc="-1" strike="noStrike">
              <a:solidFill>
                <a:srgbClr val="000000"/>
              </a:solidFill>
              <a:latin typeface="Times New Roman"/>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lne priro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nošenje porezne prija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čitovan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đenje knjigovodst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jelovanje u poreznom postupku</a:t>
            </a:r>
            <a:endParaRPr b="0" lang="en-US" sz="2800" spc="-1" strike="noStrike">
              <a:solidFill>
                <a:srgbClr val="000000"/>
              </a:solidFill>
              <a:latin typeface="Times New Roman"/>
            </a:endParaRPr>
          </a:p>
        </p:txBody>
      </p:sp>
      <p:sp>
        <p:nvSpPr>
          <p:cNvPr id="120" name="PlaceHolder 3"/>
          <p:cNvSpPr>
            <a:spLocks noGrp="1"/>
          </p:cNvSpPr>
          <p:nvPr>
            <p:ph/>
          </p:nvPr>
        </p:nvSpPr>
        <p:spPr>
          <a:xfrm>
            <a:off x="4648320" y="1980720"/>
            <a:ext cx="403848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jalne priro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ćanje poreza,  kazni, novčanih činidbi po osnovi jamst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vrat porez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ćanje kamata na porez plaćen bez pravne osno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6035AC90-8B9D-42AB-919F-73E46B5E49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DIONICI POREZNO-DUŽNIČKOG ODNOSA</a:t>
            </a:r>
            <a:endParaRPr b="0" lang="en-US" sz="32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 Porezno tijelo</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 Porezni dužnik</a:t>
            </a:r>
            <a:endParaRPr b="0" lang="en-US" sz="2400" spc="-1" strike="noStrike">
              <a:solidFill>
                <a:srgbClr val="000000"/>
              </a:solidFill>
              <a:latin typeface="Times New Roman"/>
            </a:endParaRPr>
          </a:p>
          <a:p>
            <a:pPr marL="281160" indent="-281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3. Porezni jamac</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pravni slijednik</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osoba koja je dužna obračunati, obustavljati i</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plaćivati porez u ime i za račun druge osobe</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porezni savjetnik</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zakoniti zastupnik</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poslovodna osoba</a:t>
            </a:r>
            <a:endParaRPr b="0" lang="en-US" sz="2400" spc="-1" strike="noStrike">
              <a:solidFill>
                <a:srgbClr val="000000"/>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upravitelj imovine</a:t>
            </a:r>
            <a:endParaRPr b="0" lang="en-US" sz="24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osoba koja stvarno raspolaže tuđom imovinom</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endParaRPr b="0" lang="en-US" sz="2400" spc="-1" strike="noStrike">
              <a:solidFill>
                <a:srgbClr val="000000"/>
              </a:solidFill>
              <a:latin typeface="Times New Roman"/>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9C79A-17A6-4742-A6E5-3C583E2FC0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KT POREZNO-DUŽNIČKOG ODNOSA</a:t>
            </a:r>
            <a:endParaRPr b="0" lang="en-US" sz="3200" spc="-1" strike="noStrike">
              <a:solidFill>
                <a:srgbClr val="000000"/>
              </a:solidFill>
              <a:latin typeface="Times New Roman"/>
            </a:endParaRPr>
          </a:p>
        </p:txBody>
      </p:sp>
      <p:sp>
        <p:nvSpPr>
          <p:cNvPr id="124"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kt porezno-dužničkog odnosa je PRAVO na:</a:t>
            </a:r>
            <a:endParaRPr b="0" lang="en-US" sz="2400" spc="-1" strike="noStrike">
              <a:solidFill>
                <a:srgbClr val="000000"/>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latu porez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latu kamata i novčanih kazni</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rat poreza plaćenog bez pravne osnov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rat kamate na porez plaćen bez pravne osnov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naplatu novčanih činidbi iz poreznog jamstv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C83D66-1C3C-4815-A489-BC401F4445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STANAK PRAVA IZ POREZNO-DUŽNIČKOG ODNOSA</a:t>
            </a:r>
            <a:endParaRPr b="0" lang="en-US" sz="3600" spc="-1" strike="noStrike">
              <a:solidFill>
                <a:srgbClr val="000000"/>
              </a:solidFill>
              <a:latin typeface="Times New Roman"/>
            </a:endParaRPr>
          </a:p>
        </p:txBody>
      </p:sp>
      <p:sp>
        <p:nvSpPr>
          <p:cNvPr id="126" name="PlaceHolder 2"/>
          <p:cNvSpPr>
            <a:spLocks noGrp="1"/>
          </p:cNvSpPr>
          <p:nvPr>
            <p:ph type="subTitle"/>
          </p:nvPr>
        </p:nvSpPr>
        <p:spPr>
          <a:xfrm>
            <a:off x="533520" y="2362320"/>
            <a:ext cx="7772400" cy="403848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 kada je utvrđena porezna obveza ili izrečena novčana kazna tj. kada je porezno rješenje ili rješenje o prekršaju postalo pravomoćno (protiv njega se ne može izjaviti žalba ni pokrenuti upravni spor).</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 kada je porezno tijelo primilo iznos preplaćenog poreza ili poreza plaćenog bez pravne osn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DA269D-EEA2-47FA-BB7E-176589C7FD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KT POREZNO-DUŽNIČKOG ODNOSA</a:t>
            </a: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kt (pravo) iz porezno-dužničkog odnosa, kao što su pravo na povrat poreza, pravo na povrat iznosa koji je na ime poreza za dužnika platio porezni jamac i pravo na povrat kamata, mogu s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tupiti (cesija)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plijeniti</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ložiti</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EE813-392C-47F2-9C02-011397C7F5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JSKA ZNANOST</a:t>
            </a:r>
            <a:endParaRPr b="0" lang="en-US" sz="4400" spc="-1" strike="noStrike">
              <a:solidFill>
                <a:srgbClr val="000000"/>
              </a:solidFill>
              <a:latin typeface="Times New Roman"/>
            </a:endParaRPr>
          </a:p>
        </p:txBody>
      </p:sp>
      <p:sp>
        <p:nvSpPr>
          <p:cNvPr id="52" name=""/>
          <p:cNvSpPr/>
          <p:nvPr/>
        </p:nvSpPr>
        <p:spPr>
          <a:xfrm>
            <a:off x="609480" y="137160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učav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ne (državne) prihode</a:t>
            </a:r>
            <a:r>
              <a:rPr b="0" lang="en-US" sz="2400" spc="-1" strike="noStrike">
                <a:solidFill>
                  <a:srgbClr val="ff0000"/>
                </a:solidFill>
                <a:latin typeface="Times New Roman"/>
              </a:rPr>
              <a:t> unutar kojih se izučavaju porez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doprinosi, naknade i pristojbe.</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ne (državne) rashode</a:t>
            </a:r>
            <a:r>
              <a:rPr b="0" lang="en-US" sz="2400" spc="-1" strike="noStrike">
                <a:solidFill>
                  <a:srgbClr val="000000"/>
                </a:solidFill>
                <a:latin typeface="Times New Roman"/>
              </a:rPr>
              <a:t> unutar kojih se izučava ostvarenj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itike države na raznim područjima njene djelatnosti.</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račun (budžet)</a:t>
            </a:r>
            <a:r>
              <a:rPr b="0" lang="en-US" sz="2400" spc="-1" strike="noStrike">
                <a:solidFill>
                  <a:srgbClr val="000000"/>
                </a:solidFill>
                <a:latin typeface="Times New Roman"/>
              </a:rPr>
              <a:t> unutar kojeg se izučava problematika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ošenja, ciljevi koji se žele ostvariti, učinci primjene 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ontrola trošenja sredstava proračuna.</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ni (državni) zajam</a:t>
            </a:r>
            <a:r>
              <a:rPr b="0" lang="en-US" sz="2400" spc="-1" strike="noStrike">
                <a:solidFill>
                  <a:srgbClr val="000000"/>
                </a:solidFill>
                <a:latin typeface="Times New Roman"/>
              </a:rPr>
              <a:t> unutar kojeg se izučavaju oblici, načela i granice zaduživanja države te učinci zaduženja države na nacionalno gospodarstvo.</a:t>
            </a:r>
            <a:endParaRPr b="0" lang="en-US" sz="24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jsko izravnanje</a:t>
            </a:r>
            <a:r>
              <a:rPr b="0" lang="en-US" sz="2400" spc="-1" strike="noStrike">
                <a:solidFill>
                  <a:srgbClr val="000000"/>
                </a:solidFill>
                <a:latin typeface="Times New Roman"/>
              </a:rPr>
              <a:t> unutar kojeg se izučavaju financijsk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dnosi administrativno-teritorijalnih jedinic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F4B626-386A-4BAF-8731-147F8D1CF1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85800"/>
            <a:ext cx="800100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esija je dvostrani pravni posao kojim vjerovnik (cedent) svoje otuđivo pravo prenosi na drugu osobu (cesionara) kojim treća strana, dužnik-porezno tijelo (cesus), ne smije biti stavljen u gori položaj. U ovom slučaju ugovor o cesiji mora biti sačinjen u pisanom obliku (što inače nije uvjet) i dostavljen poreznom tijelu u roku od tri dana od dana njegova sklapanja. Nakon primitka obavijesti o ustupanju (notifikacija) dužnik može valjano podmiriti obvezu samo cesionaru. Trodnevni rok za dostavu ugovora o ustupu nije prekluzivan (ne znači gubitak prava).</a:t>
            </a:r>
            <a:endParaRPr b="0" lang="en-US" sz="2800" spc="-1" strike="noStrike">
              <a:solidFill>
                <a:srgbClr val="000000"/>
              </a:solidFill>
              <a:latin typeface="Times New Roman"/>
            </a:endParaRPr>
          </a:p>
        </p:txBody>
      </p:sp>
      <p:sp>
        <p:nvSpPr>
          <p:cNvPr id="130"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1F993-0B34-4DA2-B0B9-BEE557E514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480"/>
            <a:ext cx="83059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ložno pravo je stvarno pravo  na određenoj stvari koje ovlašćuje založnog vjerovnika da određenu tražbinu (ako mu ova ne bude o dospijeću isplaćena) namiri iz vrijednosti zaloga.</a:t>
            </a:r>
            <a:br>
              <a:rPr sz="3200"/>
            </a:br>
            <a:br>
              <a:rPr sz="3200"/>
            </a:br>
            <a:r>
              <a:rPr b="0" lang="en-US" sz="3200" spc="-1" strike="noStrike">
                <a:solidFill>
                  <a:srgbClr val="000000"/>
                </a:solidFill>
                <a:latin typeface="Times New Roman"/>
              </a:rPr>
              <a:t>Dobrovoljno založno pravo nad pravom na povrat poreza (tražbinom) stječe se temeljem ugovora o ustupanju radi osiguranja i obavještavanjem poreznog tijela o tom ustupanju</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2561437-11C7-44CC-AAF1-32E579AAAD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avo na povrat poreza može se i zaplijeniti. Temeljem čl. 152. Ovršnog zakona, pljenidbu se provodi dostavom ovršenikovu dužniku (poreznom tijelu) rješenja o ovrsi kojim se ovršenikovu dužniku (poreznom tijelu) zabranjuje ovršeniku isplatiti novčanu tražbinu, a ovršeniku se zabranjuje tu tražbinu naplatiti ili inače raspolagati njome. Pljenidba je provedena danom dostave rješenja poreznom tijelu.</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62EA5A0-AA47-4DAC-AA8A-E110316881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TANAK PRAVA I OBVEZA IZ POREZNO-DUŽNIČKOG ODNOSA</a:t>
            </a:r>
            <a:endParaRPr b="0" lang="en-US" sz="3200" spc="-1" strike="noStrike">
              <a:solidFill>
                <a:srgbClr val="000000"/>
              </a:solidFill>
              <a:latin typeface="Times New Roman"/>
            </a:endParaRPr>
          </a:p>
        </p:txBody>
      </p:sp>
      <p:sp>
        <p:nvSpPr>
          <p:cNvPr id="134"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fontScale="99000"/>
          </a:bodyPr>
          <a:p>
            <a:pPr marL="603360" indent="-603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platom poreznog duga (ispunjenjem)</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pisom (zbog nemogućnosti naplate)</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starom (samo pravo, ne i obveze)</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ebojem (kompenzacijom)</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drugim slučajevima (prestanak važenja pravnog pravila na osnovi kojeg je pravni odnos nastao, prestanak postojanja pravnog subjekta, prestanak postojanja sudionika pravnog odnosa, sjedinjenje subjektivnog prava i pravne obveze u istoj osobi (konfuzija) i d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54BC0D-3735-4E6C-967B-54DC8D7F51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36" name="PlaceHolder 2"/>
          <p:cNvSpPr>
            <a:spLocks noGrp="1"/>
          </p:cNvSpPr>
          <p:nvPr>
            <p:ph type="subTitle"/>
          </p:nvPr>
        </p:nvSpPr>
        <p:spPr>
          <a:xfrm>
            <a:off x="380520" y="1523520"/>
            <a:ext cx="8534520" cy="4953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rezno jamstvo je zakonito jamstvo i predstavlja institut u poreznom pravu koji služi za naplatu poreza</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Times New Roman"/>
              </a:rPr>
              <a:t>Oblici jamstv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olidarno</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redovno (obič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mac=platac</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400" spc="-1" strike="noStrike">
                <a:solidFill>
                  <a:srgbClr val="000000"/>
                </a:solidFill>
                <a:latin typeface="Times New Roman"/>
              </a:rPr>
              <a:t>- je supsidijarno (jamac odgovara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za dug nakon što se dug nije mogao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naplatiti od dužnik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je akcesorno tj. dodatna obveza (dug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jamca </a:t>
            </a:r>
            <a:r>
              <a:rPr b="0" lang="hr-HR" sz="2400" spc="-1" strike="noStrike">
                <a:solidFill>
                  <a:srgbClr val="000000"/>
                </a:solidFill>
                <a:latin typeface="Times New Roman"/>
              </a:rPr>
              <a:t>	</a:t>
            </a:r>
            <a:r>
              <a:rPr b="0" lang="hr-HR" sz="2400" spc="-1" strike="noStrike">
                <a:solidFill>
                  <a:srgbClr val="000000"/>
                </a:solidFill>
                <a:latin typeface="Times New Roman"/>
              </a:rPr>
              <a:t>nastaje nakon </a:t>
            </a:r>
            <a:r>
              <a:rPr b="0" lang="hr-HR" sz="2400" spc="-1" strike="noStrike">
                <a:solidFill>
                  <a:srgbClr val="000000"/>
                </a:solidFill>
                <a:latin typeface="Times New Roman"/>
              </a:rPr>
              <a:t>	</a:t>
            </a:r>
            <a:r>
              <a:rPr b="0" lang="hr-HR" sz="2400" spc="-1" strike="noStrike">
                <a:solidFill>
                  <a:srgbClr val="000000"/>
                </a:solidFill>
                <a:latin typeface="Times New Roman"/>
              </a:rPr>
              <a:t>nastanka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glavne </a:t>
            </a:r>
            <a:r>
              <a:rPr b="0" lang="hr-HR" sz="2400" spc="-1" strike="noStrike">
                <a:solidFill>
                  <a:srgbClr val="000000"/>
                </a:solidFill>
                <a:latin typeface="Times New Roman"/>
              </a:rPr>
              <a:t>	</a:t>
            </a:r>
            <a:r>
              <a:rPr b="0" lang="hr-HR" sz="2400" spc="-1" strike="noStrike">
                <a:solidFill>
                  <a:srgbClr val="000000"/>
                </a:solidFill>
                <a:latin typeface="Times New Roman"/>
              </a:rPr>
              <a:t>obveze)</a:t>
            </a:r>
            <a:endParaRPr b="0" lang="en-US" sz="2400" spc="-1" strike="noStrike">
              <a:solidFill>
                <a:srgbClr val="000000"/>
              </a:solidFill>
              <a:latin typeface="Times New Roman"/>
            </a:endParaRPr>
          </a:p>
        </p:txBody>
      </p:sp>
      <p:sp>
        <p:nvSpPr>
          <p:cNvPr id="137" name=""/>
          <p:cNvSpPr/>
          <p:nvPr/>
        </p:nvSpPr>
        <p:spPr>
          <a:xfrm>
            <a:off x="4495680" y="3657600"/>
            <a:ext cx="121932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3200400" y="3657600"/>
            <a:ext cx="1295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C79B5-C779-4F4D-BC6E-43A1C8CE39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84872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sidijarni jamac se poziva na plaćanje poreznog duga tek nakon što ga u roku nije platio porezni dužnik.</a:t>
            </a:r>
            <a:br>
              <a:rPr sz="3200"/>
            </a:br>
            <a:br>
              <a:rPr sz="3200"/>
            </a:br>
            <a:r>
              <a:rPr b="0" lang="en-US" sz="3200" spc="-1" strike="noStrike">
                <a:solidFill>
                  <a:srgbClr val="000000"/>
                </a:solidFill>
                <a:latin typeface="Times New Roman"/>
              </a:rPr>
              <a:t>Solidarni jamac ili jamac-platac odgovara poreznom tijelu kao glavni dužnik, pa može biti pozvan na plaćanje poreznog duga prije glavnog dužnika ili zajedno s njim. Ako je supsidijarni jamac utajio porez ili je sudjelovao u utaji, smatra ga se solidarnim jamcem.</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8357148-157E-4133-A29E-5BF9991E81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41" name="PlaceHolder 2"/>
          <p:cNvSpPr>
            <a:spLocks noGrp="1"/>
          </p:cNvSpPr>
          <p:nvPr>
            <p:ph type="subTitle"/>
          </p:nvPr>
        </p:nvSpPr>
        <p:spPr>
          <a:xfrm>
            <a:off x="304920" y="990720"/>
            <a:ext cx="8534160" cy="5333760"/>
          </a:xfrm>
          <a:prstGeom prst="rect">
            <a:avLst/>
          </a:prstGeom>
          <a:noFill/>
          <a:ln w="0">
            <a:noFill/>
          </a:ln>
        </p:spPr>
        <p:txBody>
          <a:bodyPr lIns="90000" rIns="90000" tIns="46800" bIns="46800" anchor="t">
            <a:no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rezni jamci u poreznom pravu</a:t>
            </a:r>
            <a:endParaRPr b="0" lang="en-US" sz="2400" spc="-1" strike="noStrike">
              <a:solidFill>
                <a:srgbClr val="000000"/>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govornost zastupnika</a:t>
            </a:r>
            <a:endParaRPr b="0" lang="en-US" sz="2400" spc="-1" strike="noStrike">
              <a:solidFill>
                <a:srgbClr val="000000"/>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Zakoniti zastupnici fizičkih i pravnih osob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slovodne osobe udruženih osob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slovodne osobe udruženih imovinskih mas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 slučaj utaje i bespravnog smanjenja porezne obveze</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idarno jamstvo</a:t>
            </a:r>
            <a:endParaRPr b="0" lang="en-US" sz="2400" spc="-1" strike="noStrike">
              <a:solidFill>
                <a:srgbClr val="000000"/>
              </a:solidFill>
              <a:latin typeface="Times New Roman"/>
            </a:endParaRPr>
          </a:p>
        </p:txBody>
      </p:sp>
      <p:sp>
        <p:nvSpPr>
          <p:cNvPr id="142" name=""/>
          <p:cNvSpPr/>
          <p:nvPr/>
        </p:nvSpPr>
        <p:spPr>
          <a:xfrm>
            <a:off x="1981080" y="2286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1905120" y="2819520"/>
            <a:ext cx="75960" cy="1066680"/>
          </a:xfrm>
          <a:custGeom>
            <a:avLst/>
            <a:gdLst>
              <a:gd name="textAreaLeft" fmla="*/ 22320 w 75960"/>
              <a:gd name="textAreaRight" fmla="*/ 76320 w 75960"/>
              <a:gd name="textAreaTop" fmla="*/ 44280 h 1066680"/>
              <a:gd name="textAreaBottom" fmla="*/ 1022400 h 1066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flipH="1">
            <a:off x="121896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19320" y="33526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19320" y="5410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EC3AA5-AB3E-458A-99DA-1889BBDA8E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48" name="PlaceHolder 2"/>
          <p:cNvSpPr>
            <a:spLocks noGrp="1"/>
          </p:cNvSpPr>
          <p:nvPr>
            <p:ph type="subTitle"/>
          </p:nvPr>
        </p:nvSpPr>
        <p:spPr>
          <a:xfrm>
            <a:off x="609120" y="1219320"/>
            <a:ext cx="8001000" cy="4952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rezni jamci u poreznom prav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dgovornost za neplaćanje poreza po odbitk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obe koje obračunavaju, obustavljaju, uplaćuju i prijavljuju porez u ime i za račun druge osobe (poslodava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arno jamstv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648320" y="43434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F46D8B-BE27-46C8-91D6-3D5685103D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51" name="PlaceHolder 2"/>
          <p:cNvSpPr>
            <a:spLocks noGrp="1"/>
          </p:cNvSpPr>
          <p:nvPr>
            <p:ph type="subTitle"/>
          </p:nvPr>
        </p:nvSpPr>
        <p:spPr>
          <a:xfrm>
            <a:off x="685800" y="1523880"/>
            <a:ext cx="7772400" cy="42674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rezni jamci u poreznom prav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dgovornost za vjerodostojnost poslovnih knjig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sobe koje ispostavljaju neistinite i nevjerodostojne isprave, neuredno, neistinito i nepravodobno vode poslovne knjig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sidijarno jamstv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572000" y="44956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57955D-E679-412F-9B93-84A7EDE609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54" name="PlaceHolder 2"/>
          <p:cNvSpPr>
            <a:spLocks noGrp="1"/>
          </p:cNvSpPr>
          <p:nvPr>
            <p:ph type="subTitle"/>
          </p:nvPr>
        </p:nvSpPr>
        <p:spPr>
          <a:xfrm>
            <a:off x="456840" y="1066320"/>
            <a:ext cx="8381880" cy="54104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0000"/>
                </a:solidFill>
                <a:uFillTx/>
                <a:latin typeface="Times New Roman"/>
              </a:rPr>
              <a:t>Porezni jamci u poreznom prav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 Odgovornost stjecatelja vlasništv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Stjecatelji vlasništva (ali ne u stečajnom i ovršnom postupku),  gospodarstvene cjeline (jedno ili više gospodarstvenih dobar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za porez na dobi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upsidijarno jamstv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343400" y="403848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67C98-4A62-4FA6-9F98-ACB70A1889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JSKO PRAVO</a:t>
            </a:r>
            <a:endParaRPr b="0" lang="en-US" sz="4400" spc="-1" strike="noStrike">
              <a:solidFill>
                <a:srgbClr val="000000"/>
              </a:solidFill>
              <a:latin typeface="Times New Roman"/>
            </a:endParaRPr>
          </a:p>
        </p:txBody>
      </p:sp>
      <p:sp>
        <p:nvSpPr>
          <p:cNvPr id="54" name=""/>
          <p:cNvSpPr/>
          <p:nvPr/>
        </p:nvSpPr>
        <p:spPr>
          <a:xfrm>
            <a:off x="68040" y="1828800"/>
            <a:ext cx="89222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učav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dnose do kojih dolazi financijskom djelatnošću države 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dređenih javnopravnih tijela, a ti su odnosi reguliran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normama financijskog prava.</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vnu opravdanost nastanka, postojanja i prestanka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ancijsko-pravnih odnosa.</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ojeću praksu primjene financijsko-pravnih normi.</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vjete i mogućnosti za usavršavanje financijsko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akonodavstva</a:t>
            </a:r>
            <a:endParaRPr b="0" lang="en-US" sz="24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upnost normi kojima se reguliraju međudržavni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ancijsko-pravni odnosi (međunarodno financijsko prav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A9F6F3-9438-4740-BAF6-082844E502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EZNO JAMSTVO</a:t>
            </a:r>
            <a:endParaRPr b="0" lang="en-US" sz="3200" spc="-1" strike="noStrike">
              <a:solidFill>
                <a:srgbClr val="000000"/>
              </a:solidFill>
              <a:latin typeface="Times New Roman"/>
            </a:endParaRPr>
          </a:p>
        </p:txBody>
      </p:sp>
      <p:sp>
        <p:nvSpPr>
          <p:cNvPr id="157" name="PlaceHolder 2"/>
          <p:cNvSpPr>
            <a:spLocks noGrp="1"/>
          </p:cNvSpPr>
          <p:nvPr>
            <p:ph type="subTitle"/>
          </p:nvPr>
        </p:nvSpPr>
        <p:spPr>
          <a:xfrm>
            <a:off x="457200" y="1219320"/>
            <a:ext cx="8229600" cy="4952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rezni jamci u poreznom prav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Odgovornost većinskog vlasnik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 poreze što se odnose na poslovanje društva, većinski vlasnik u razdoblju dok ima većinski udio, odgovara i onim stvarima i pravima što služe obavljanju djelatnosti trgovačkog društva, a u njegovu su vlasništv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sidijarno jamstv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572000" y="47242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33F3C9-5ED0-4A94-AFEB-B2C8AA6B6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JESNA ODREĐENOST POREZNOG OBVEZNIKA FIZIČKE OSOBE</a:t>
            </a:r>
            <a:endParaRPr b="0" lang="en-US" sz="3200" spc="-1" strike="noStrike">
              <a:solidFill>
                <a:srgbClr val="000000"/>
              </a:solidFill>
              <a:latin typeface="Times New Roman"/>
            </a:endParaRPr>
          </a:p>
        </p:txBody>
      </p:sp>
      <p:sp>
        <p:nvSpPr>
          <p:cNvPr id="160" name="PlaceHolder 2"/>
          <p:cNvSpPr>
            <a:spLocks noGrp="1"/>
          </p:cNvSpPr>
          <p:nvPr>
            <p:ph type="subTitle"/>
          </p:nvPr>
        </p:nvSpPr>
        <p:spPr>
          <a:xfrm>
            <a:off x="304560" y="1752480"/>
            <a:ext cx="8458200" cy="4724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bivalište</a:t>
            </a:r>
            <a:r>
              <a:rPr b="0" lang="en-US" sz="2800" spc="-1" strike="noStrike">
                <a:solidFill>
                  <a:srgbClr val="000000"/>
                </a:solidFill>
                <a:latin typeface="Times New Roman"/>
              </a:rPr>
              <a:t> poreznog obveznika je u mjestu gdje ima stan u vlasništvu ili posjedu neprekidno najmanje 183 dana u jednoj ili dvije kalendarske godine. Boravak u stanu nije obvezan. U slučaju više stanova za oporezivanje je mjerodavno prebivalište obitelj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Uobičajeno boravište</a:t>
            </a:r>
            <a:r>
              <a:rPr b="0" lang="en-US" sz="2800" spc="-1" strike="noStrike">
                <a:solidFill>
                  <a:srgbClr val="000000"/>
                </a:solidFill>
                <a:latin typeface="Times New Roman"/>
              </a:rPr>
              <a:t> poreznog obveznika je u mjestu gdje ima stalan ili vremenski povezan boravak u trajanju najmanje 183 dana u jednoj ili dvije kalendarske godine. Nije potrebno da ima stan u vlasništvu ili posjed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57C40B-2A49-46BE-8522-659C3707CC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I POSTUPAK</a:t>
            </a:r>
            <a:endParaRPr b="0" lang="en-US" sz="3600" spc="-1" strike="noStrike">
              <a:solidFill>
                <a:srgbClr val="000000"/>
              </a:solidFill>
              <a:latin typeface="Times New Roman"/>
            </a:endParaRPr>
          </a:p>
        </p:txBody>
      </p:sp>
      <p:sp>
        <p:nvSpPr>
          <p:cNvPr id="162" name="PlaceHolder 2"/>
          <p:cNvSpPr>
            <a:spLocks noGrp="1"/>
          </p:cNvSpPr>
          <p:nvPr>
            <p:ph type="subTitle"/>
          </p:nvPr>
        </p:nvSpPr>
        <p:spPr>
          <a:xfrm>
            <a:off x="838080" y="1828440"/>
            <a:ext cx="7391520" cy="441972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istraživanj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utvrđivanja porez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naplate porez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pravnog lijek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ovrhe porez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za nadzor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i prekršaji i porezne kaz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43222F-E5F3-4F56-909C-EFCAF7D16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DIONICI POREZNOG POSTUPKA</a:t>
            </a:r>
            <a:endParaRPr b="0" lang="en-US" sz="3200" spc="-1" strike="noStrike">
              <a:solidFill>
                <a:srgbClr val="000000"/>
              </a:solidFill>
              <a:latin typeface="Times New Roman"/>
            </a:endParaRPr>
          </a:p>
        </p:txBody>
      </p:sp>
      <p:sp>
        <p:nvSpPr>
          <p:cNvPr id="164" name="PlaceHolder 2"/>
          <p:cNvSpPr>
            <a:spLocks noGrp="1"/>
          </p:cNvSpPr>
          <p:nvPr>
            <p:ph type="subTitle"/>
          </p:nvPr>
        </p:nvSpPr>
        <p:spPr>
          <a:xfrm>
            <a:off x="456840" y="1523520"/>
            <a:ext cx="838188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ni sudionik</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ktivni sudioni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i obveznik</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orezno tijel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unomoćeni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rezni savjetni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magač</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
          <p:cNvSpPr/>
          <p:nvPr/>
        </p:nvSpPr>
        <p:spPr>
          <a:xfrm>
            <a:off x="1828800" y="2819520"/>
            <a:ext cx="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2819520"/>
            <a:ext cx="3048120" cy="274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828800" y="2819520"/>
            <a:ext cx="4343400" cy="1523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EB7766-9E7D-4281-B04B-E0EA9E22F8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TUPOVNA SPOSOBNOST</a:t>
            </a:r>
            <a:endParaRPr b="0" lang="en-US" sz="3600" spc="-1" strike="noStrike">
              <a:solidFill>
                <a:srgbClr val="000000"/>
              </a:solidFill>
              <a:latin typeface="Times New Roman"/>
            </a:endParaRPr>
          </a:p>
        </p:txBody>
      </p:sp>
      <p:sp>
        <p:nvSpPr>
          <p:cNvPr id="169" name="PlaceHolder 2"/>
          <p:cNvSpPr>
            <a:spLocks noGrp="1"/>
          </p:cNvSpPr>
          <p:nvPr>
            <p:ph type="subTitle"/>
          </p:nvPr>
        </p:nvSpPr>
        <p:spPr>
          <a:xfrm>
            <a:off x="304920" y="1447920"/>
            <a:ext cx="8610480" cy="5029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posobnost poduzimanja pravnih radnji u poreznom postupku imaju punoljetne, uračunljive fizičke osobe kad nastupaju kao stranke u postupku i pravne osob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a</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sivn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dnošenje porezna prijave)</a:t>
            </a:r>
            <a:r>
              <a:rPr b="0" lang="hr-HR" sz="2400" spc="-1" strike="noStrike">
                <a:solidFill>
                  <a:srgbClr val="000000"/>
                </a:solidFill>
                <a:latin typeface="Times New Roman"/>
              </a:rPr>
              <a:t>	</a:t>
            </a:r>
            <a:r>
              <a:rPr b="0" lang="hr-HR" sz="2400" spc="-1" strike="noStrike">
                <a:solidFill>
                  <a:srgbClr val="000000"/>
                </a:solidFill>
                <a:latin typeface="Times New Roman"/>
              </a:rPr>
              <a:t>                       (trpljenje ovršnih radnj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upovne radnje osoba koje nemaju postupovnu sposobnost su neučinkovite. Postupovno nesposobnu stranku zastupa opunomoćenik ili zastupnik po službenoj dužnosti.</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flipH="1">
            <a:off x="1676520" y="3048120"/>
            <a:ext cx="25905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67080" y="3048120"/>
            <a:ext cx="25909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1DA30-7E12-4D28-B9B5-2A6B21CD50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MUNICIRANJE POREZNOG TIJELA I POREZNIH OBVEZNIKA</a:t>
            </a:r>
            <a:endParaRPr b="0" lang="en-US" sz="3200" spc="-1" strike="noStrike">
              <a:solidFill>
                <a:srgbClr val="000000"/>
              </a:solidFill>
              <a:latin typeface="Times New Roman"/>
            </a:endParaRPr>
          </a:p>
        </p:txBody>
      </p:sp>
      <p:sp>
        <p:nvSpPr>
          <p:cNvPr id="173" name="PlaceHolder 2"/>
          <p:cNvSpPr>
            <a:spLocks noGrp="1"/>
          </p:cNvSpPr>
          <p:nvPr>
            <p:ph type="subTitle"/>
          </p:nvPr>
        </p:nvSpPr>
        <p:spPr>
          <a:xfrm>
            <a:off x="228600" y="1599840"/>
            <a:ext cx="876312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i porezni akti (porezno rješenje, zaključak, zapisnik o inspekcijskom nadzoru, nalog za inspekcijski nadzor, poziv i dr.) koji se od strane poreznog tijela upućuju poreznim obveznicima zovu se jednim imenom </a:t>
            </a:r>
            <a:r>
              <a:rPr b="1" lang="en-US" sz="3200" spc="-1" strike="noStrike" u="sng">
                <a:solidFill>
                  <a:srgbClr val="000000"/>
                </a:solidFill>
                <a:uFillTx/>
                <a:latin typeface="Times New Roman"/>
              </a:rPr>
              <a:t>pisme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e ono čime se porezni obveznici obraćaju poreznim tijelima usmeno ili pisano (žalbe, zahtjevi, prigovori, porezne prijave, molbe, prijedlozi i dr.) jednim imenom zovu se </a:t>
            </a:r>
            <a:r>
              <a:rPr b="1" lang="en-US" sz="3200" spc="-1" strike="noStrike" u="sng">
                <a:solidFill>
                  <a:srgbClr val="000000"/>
                </a:solidFill>
                <a:uFillTx/>
                <a:latin typeface="Times New Roman"/>
              </a:rPr>
              <a:t>podnesci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3B3DF6-A90B-4757-BED7-A252E726E6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I AKTI</a:t>
            </a:r>
            <a:endParaRPr b="0" lang="en-US" sz="3600" spc="-1" strike="noStrike">
              <a:solidFill>
                <a:srgbClr val="000000"/>
              </a:solidFill>
              <a:latin typeface="Times New Roman"/>
            </a:endParaRPr>
          </a:p>
        </p:txBody>
      </p:sp>
      <p:sp>
        <p:nvSpPr>
          <p:cNvPr id="175" name="PlaceHolder 2"/>
          <p:cNvSpPr>
            <a:spLocks noGrp="1"/>
          </p:cNvSpPr>
          <p:nvPr>
            <p:ph type="subTitle"/>
          </p:nvPr>
        </p:nvSpPr>
        <p:spPr>
          <a:xfrm>
            <a:off x="456840" y="1523880"/>
            <a:ext cx="8381880" cy="4724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ezni akt je svaki akt kojim se pokreće, dopunjuje, mijenja ili dovršava neka radnja u poreznom postupk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0000"/>
                </a:solidFill>
                <a:latin typeface="Times New Roman"/>
              </a:rPr>
              <a:t>porezno rješenje</a:t>
            </a:r>
            <a:r>
              <a:rPr b="0" lang="en-US" sz="2400" spc="-1" strike="noStrike">
                <a:solidFill>
                  <a:srgbClr val="000000"/>
                </a:solidFill>
                <a:latin typeface="Times New Roman"/>
              </a:rPr>
              <a:t>            </a:t>
            </a:r>
            <a:r>
              <a:rPr b="0" lang="en-US" sz="2000" spc="-1" strike="noStrike">
                <a:solidFill>
                  <a:srgbClr val="000000"/>
                </a:solidFill>
                <a:latin typeface="Times New Roman"/>
              </a:rPr>
              <a:t>žalba – 30 dana</a:t>
            </a: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aključa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apisnik o inspekcijskom nadzor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alog za inspekcijski nadzo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ziv</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ugi akti</a:t>
            </a:r>
            <a:endParaRPr b="0"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govor - 8 dan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Žalba osim kad nije dopuštena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 odlučivanju o produljenju roka i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lučivanju o zahtjevu za povrat u prijašnje stanj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228600" y="2514600"/>
            <a:ext cx="3124080" cy="1371600"/>
          </a:xfrm>
          <a:prstGeom prst="rightArrowCallout">
            <a:avLst>
              <a:gd name="adj1" fmla="val 25002"/>
              <a:gd name="adj2" fmla="val 25000"/>
              <a:gd name="adj3" fmla="val 37962"/>
              <a:gd name="adj4" fmla="val 66667"/>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838080" y="2708280"/>
            <a:ext cx="1600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00240" y="2666880"/>
            <a:ext cx="2466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lučuje se 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jedinačnim pravi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obvezama</a:t>
            </a:r>
            <a:endParaRPr b="0" lang="en-US" sz="2000" spc="-1" strike="noStrike">
              <a:solidFill>
                <a:srgbClr val="000000"/>
              </a:solidFill>
              <a:latin typeface="Times New Roman"/>
            </a:endParaRPr>
          </a:p>
        </p:txBody>
      </p:sp>
      <p:sp>
        <p:nvSpPr>
          <p:cNvPr id="179" name=""/>
          <p:cNvSpPr/>
          <p:nvPr/>
        </p:nvSpPr>
        <p:spPr>
          <a:xfrm>
            <a:off x="6400800" y="304812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657600" y="2895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5562720" y="34290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6324480" y="3429000"/>
            <a:ext cx="1981440" cy="22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676160" y="4419720"/>
            <a:ext cx="11430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17FA5-AEC5-4C99-92BB-C17FADF351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 RJEŠENJE</a:t>
            </a:r>
            <a:endParaRPr b="0" lang="en-US" sz="3600" spc="-1" strike="noStrike">
              <a:solidFill>
                <a:srgbClr val="000000"/>
              </a:solidFill>
              <a:latin typeface="Times New Roman"/>
            </a:endParaRPr>
          </a:p>
        </p:txBody>
      </p:sp>
      <p:sp>
        <p:nvSpPr>
          <p:cNvPr id="185" name="PlaceHolder 2"/>
          <p:cNvSpPr>
            <a:spLocks noGrp="1"/>
          </p:cNvSpPr>
          <p:nvPr>
            <p:ph type="subTitle"/>
          </p:nvPr>
        </p:nvSpPr>
        <p:spPr>
          <a:xfrm>
            <a:off x="533160" y="1295280"/>
            <a:ext cx="800100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ezno rješenje je porezni akt kojim se dovršava porezni postupak i odlučuje o pravima i obvezama u porezno-pravnom odnosu. Poreznim rješenjem se osobito utvrđuje razdoblje oporezivanja, vrstu poreza, poreznu osnovicu, poreznu stopu, visinu utvrđena poreza, nalog za uplatu, rokove i uvjete. Porezno rješenje je središnji i odlučujući porezni akt u poreznom postupku, te temelj za prisilno ispunjenje porezne obvez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9F251-C99D-429E-9DF8-1A7FB97956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O RJEŠENJE</a:t>
            </a:r>
            <a:endParaRPr b="0" lang="en-US" sz="3600" spc="-1" strike="noStrike">
              <a:solidFill>
                <a:srgbClr val="000000"/>
              </a:solidFill>
              <a:latin typeface="Times New Roman"/>
            </a:endParaRPr>
          </a:p>
        </p:txBody>
      </p:sp>
      <p:sp>
        <p:nvSpPr>
          <p:cNvPr id="187" name="PlaceHolder 2"/>
          <p:cNvSpPr>
            <a:spLocks noGrp="1"/>
          </p:cNvSpPr>
          <p:nvPr>
            <p:ph type="subTitle"/>
          </p:nvPr>
        </p:nvSpPr>
        <p:spPr>
          <a:xfrm>
            <a:off x="533520" y="1218960"/>
            <a:ext cx="8229600" cy="518148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no rješenje može bit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remeno (izrađeno na temelju podataka iskazanih u poreznoj prijav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ačno (donosi se u roku od 1, odnosno 3 godine)</a:t>
            </a:r>
            <a:endParaRPr b="0" lang="en-US" sz="28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ezno rješenje se donosi i tada kada se porezni obveznik u cijelosti ili djelomično oslobađa porezne obvez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ezno rješenje se ne mora donijeti, ako bi:</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oškovi utvrđivanja i naplate poreza bili nerazmjerni naplaćenom porezu;</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Pogrešno utvrđen iznos poreza, a slijedom toga i promjena rješenja, prouzrokovala bi nerazmjerne troško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AE0D9D-D0A1-4D55-9F4A-2F9543A2E6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LOVNE KNJIGE</a:t>
            </a:r>
            <a:endParaRPr b="0" lang="en-US" sz="3600" spc="-1" strike="noStrike">
              <a:solidFill>
                <a:srgbClr val="000000"/>
              </a:solidFill>
              <a:latin typeface="Times New Roman"/>
            </a:endParaRPr>
          </a:p>
        </p:txBody>
      </p:sp>
      <p:sp>
        <p:nvSpPr>
          <p:cNvPr id="189" name="PlaceHolder 2"/>
          <p:cNvSpPr>
            <a:spLocks noGrp="1"/>
          </p:cNvSpPr>
          <p:nvPr>
            <p:ph type="subTitle"/>
          </p:nvPr>
        </p:nvSpPr>
        <p:spPr>
          <a:xfrm>
            <a:off x="457200" y="914040"/>
            <a:ext cx="8153280" cy="533412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Knjigovodstvo sa stajališta potreba porezni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tijela mora ispunjavati dva osnovna zahtjeva:</a:t>
            </a:r>
            <a:endParaRPr b="0" lang="en-US" sz="3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knjigovodstvo se mora voditi u skladu s propisima i sadržavati podatke propisane zakonom ili podzakonskim propisom, 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knjigovodstvo se mora voditi na načina da stručna treća osoba može u primjerenom roku steći pregled nad poslovanjem poduzetnika i poslovnim događajima o njihovu nastanku, razvoju i završetku.</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878752-BCB0-498C-8585-52D4D4E87D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VERENITET DRŽAVE</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ćenit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visnost države u donošenju odlu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remacija države – na svom teritoriju može nametati svoju vol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vna neograničenost u donošenju akata i normi (osim prirodnih, političkih i faktički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4BB4C-0999-4F9E-86BE-1B27EA49C4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ČELO SVJETSKOG DOHOTKA</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762120" y="1523520"/>
            <a:ext cx="7696080" cy="4800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hodak ili dobitak moraju biti oporezovani bez obzira gdje su ostvareni.</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Rezident</a:t>
            </a:r>
            <a:r>
              <a:rPr b="0" lang="hr-HR" sz="2400" spc="-1" strike="noStrike">
                <a:solidFill>
                  <a:srgbClr val="000000"/>
                </a:solidFill>
                <a:latin typeface="Times New Roman"/>
              </a:rPr>
              <a:t> je tuzemni porezni obveznik (fizička i pravna osoba) koja ima prebivalište ili uobičajeno boravište ili sjedište u RH, i ima neograničenu poreznu obvezu. To znači da mora prijaviti ukupnu stečenu dobit ili dohodak u tuzemstvu i inozemstvu.</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Nerezident </a:t>
            </a:r>
            <a:r>
              <a:rPr b="0" lang="hr-HR" sz="2400" spc="-1" strike="noStrike">
                <a:solidFill>
                  <a:srgbClr val="000000"/>
                </a:solidFill>
                <a:latin typeface="Times New Roman"/>
              </a:rPr>
              <a:t>je inozemni porezni obveznik (fizička i pravna osoba) koja nema prebivalište ili uobičajeno boravište ili sjedište u RH, i ima ograničenu poreznu obvezu, i to samo za ono što se temelji na stečenoj dobiti ili dohotku u R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558BA-665C-484B-8523-F9A6BD6B95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KRATA OBAVIJESTI POREZNOM TIJELU</a:t>
            </a:r>
            <a:endParaRPr b="0" lang="en-US" sz="3200" spc="-1" strike="noStrike">
              <a:solidFill>
                <a:srgbClr val="000000"/>
              </a:solidFill>
              <a:latin typeface="Times New Roman"/>
            </a:endParaRPr>
          </a:p>
        </p:txBody>
      </p:sp>
      <p:sp>
        <p:nvSpPr>
          <p:cNvPr id="193"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2800" spc="-1" strike="noStrike">
                <a:solidFill>
                  <a:srgbClr val="000000"/>
                </a:solidFill>
                <a:latin typeface="Times New Roman"/>
              </a:rPr>
              <a:t>U cilju zaštite privatnosti poreznog obveznika obavijest o činjenicama bitnima za oporezivanje mogu uskratiti: bračni ili izvanbračni drug poreznog obveznika, bliski rođaci, duhovnici, a ako nisu razriješeni od obveze čuvanja porezne tajne, i odvjetnici, javni bilježnici, porezni savjetnici, revizori, liječnici, ljekarnici, primalje, profesionalne osobe koje sudjeluju u pripremi tiskovina, radio i TV emisij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rezno tijelo dužno je upozoriti porezne obveznike da nisu dužni dati obavijest ako bi to njih same ili njihove srodnike izložilo progonu (samookrivljavanje od kaznene odgovornosti ili pr. strahu od organiziranog kriminal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17FCFA-69F9-4094-AA56-B2A04AF16A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A ZASTARA</a:t>
            </a:r>
            <a:endParaRPr b="0" lang="en-US" sz="3600" spc="-1" strike="noStrike">
              <a:solidFill>
                <a:srgbClr val="000000"/>
              </a:solidFill>
              <a:latin typeface="Times New Roman"/>
            </a:endParaRPr>
          </a:p>
        </p:txBody>
      </p:sp>
      <p:sp>
        <p:nvSpPr>
          <p:cNvPr id="195" name="PlaceHolder 2"/>
          <p:cNvSpPr>
            <a:spLocks noGrp="1"/>
          </p:cNvSpPr>
          <p:nvPr>
            <p:ph type="subTitle"/>
          </p:nvPr>
        </p:nvSpPr>
        <p:spPr>
          <a:xfrm>
            <a:off x="456840" y="1904760"/>
            <a:ext cx="838188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janje roka zastare za poreze određen je za relativan rok u trajanju tri (za obvezne doprinose pet), a apsolutan rok u trajanju šest (za obvezne doprinose deset) godina.</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00E0AF7-383B-46E6-93DB-18EB4B35A1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A ZASTARA</a:t>
            </a:r>
            <a:endParaRPr b="0" lang="en-US" sz="3600" spc="-1" strike="noStrike">
              <a:solidFill>
                <a:srgbClr val="000000"/>
              </a:solidFill>
              <a:latin typeface="Times New Roman"/>
            </a:endParaRPr>
          </a:p>
        </p:txBody>
      </p:sp>
      <p:sp>
        <p:nvSpPr>
          <p:cNvPr id="197" name="PlaceHolder 2"/>
          <p:cNvSpPr>
            <a:spLocks noGrp="1"/>
          </p:cNvSpPr>
          <p:nvPr>
            <p:ph type="subTitle"/>
          </p:nvPr>
        </p:nvSpPr>
        <p:spPr>
          <a:xfrm>
            <a:off x="609480" y="1447560"/>
            <a:ext cx="792504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lativan rok zastare znači da porezno tijelo ili porezni obveznik moraju u razdoblju od tri godine, računajući od kad je zastara počela teći postaviti zahtjev za ostvarivanjem prava. Ako to ne učine u roku tri godine, pravo na postavljanje zahtjeva je zastarjelo. Ako je zahtjev postavljen u relativnom roku, te poduzete radnje kojima se prekida relativna zastara, a prošlo je šest godina i zahtjev nije ispunjen, protekom roka od šest godina, računajući otkad je zastara počela prvi put teći, nastupila je apsolutna zastara prava iz porezno-pravnog odnos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A61E1A-7940-40B5-97AE-8CB14B933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PEKCIJSKI NADZOR</a:t>
            </a:r>
            <a:endParaRPr b="0" lang="en-US" sz="3600" spc="-1" strike="noStrike">
              <a:solidFill>
                <a:srgbClr val="000000"/>
              </a:solidFill>
              <a:latin typeface="Times New Roman"/>
            </a:endParaRPr>
          </a:p>
        </p:txBody>
      </p:sp>
      <p:sp>
        <p:nvSpPr>
          <p:cNvPr id="199" name="PlaceHolder 2"/>
          <p:cNvSpPr>
            <a:spLocks noGrp="1"/>
          </p:cNvSpPr>
          <p:nvPr>
            <p:ph type="subTitle"/>
          </p:nvPr>
        </p:nvSpPr>
        <p:spPr>
          <a:xfrm>
            <a:off x="609120" y="1219320"/>
            <a:ext cx="807732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bog važnosti poreza kao javnog davanja propisano je odredbama o inspekcijskom nadzoru pravo poreznog tijela na naknadnu provjeru činjenica što upozoravaju na netočno utvrđenu poreznu obvezu, kako bi temeljem tako utvrđenih činjenica obnovilo porezni postupak i utvrdilo ispravnu poreznu obvez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kcijski nadzor može se obavljati samo za porezna razdoblja za koja nije nastupila zastara prava na utvrđivanje porezne obvez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103A08-5B45-4D81-B106-E34257019E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DRŽAJ NALOGA ZA INSPEKCIJSKI NADZOR</a:t>
            </a:r>
            <a:endParaRPr b="0" lang="en-US" sz="3200" spc="-1" strike="noStrike">
              <a:solidFill>
                <a:srgbClr val="000000"/>
              </a:solidFill>
              <a:latin typeface="Times New Roman"/>
            </a:endParaRPr>
          </a:p>
        </p:txBody>
      </p:sp>
      <p:sp>
        <p:nvSpPr>
          <p:cNvPr id="201" name="PlaceHolder 2"/>
          <p:cNvSpPr>
            <a:spLocks noGrp="1"/>
          </p:cNvSpPr>
          <p:nvPr>
            <p:ph type="subTitle"/>
          </p:nvPr>
        </p:nvSpPr>
        <p:spPr>
          <a:xfrm>
            <a:off x="152280" y="1218960"/>
            <a:ext cx="8763120" cy="5181480"/>
          </a:xfrm>
          <a:prstGeom prst="rect">
            <a:avLst/>
          </a:prstGeom>
          <a:noFill/>
          <a:ln w="0">
            <a:noFill/>
          </a:ln>
        </p:spPr>
        <p:txBody>
          <a:bodyPr lIns="90000" rIns="90000" tIns="46800" bIns="46800" anchor="t">
            <a:no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ziv poreznog tijela, broj i datu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ziv poreznog obveznik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ni i činjenični temelj (nadležnost poreznog tijel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zdoblje što je predmet nadzora i vrste porez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ijeme početka nadzor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ena osoba ovlaštenih za provedbu nadzor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utu o obvezi sudjelovanja poreznog obveznik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utu o pravu uskrate obavijest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utu o posljedicama ometanja inspekcijskog nadzor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o poreznog obveznika na prigovor </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pis ovlaštene osobe poreznog tijela</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3C9B67-2962-4C7B-910B-9D209161D2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DRŽAJ ZAPISNIKA O INSPEKCIJSKOM NADZORU</a:t>
            </a:r>
            <a:endParaRPr b="0" lang="en-US" sz="2800" spc="-1" strike="noStrike">
              <a:solidFill>
                <a:srgbClr val="000000"/>
              </a:solidFill>
              <a:latin typeface="Times New Roman"/>
            </a:endParaRPr>
          </a:p>
        </p:txBody>
      </p:sp>
      <p:sp>
        <p:nvSpPr>
          <p:cNvPr id="203" name="PlaceHolder 2"/>
          <p:cNvSpPr>
            <a:spLocks noGrp="1"/>
          </p:cNvSpPr>
          <p:nvPr>
            <p:ph type="subTitle"/>
          </p:nvPr>
        </p:nvSpPr>
        <p:spPr>
          <a:xfrm>
            <a:off x="380880" y="1371600"/>
            <a:ext cx="8382240" cy="4952880"/>
          </a:xfrm>
          <a:prstGeom prst="rect">
            <a:avLst/>
          </a:prstGeom>
          <a:noFill/>
          <a:ln w="0">
            <a:noFill/>
          </a:ln>
        </p:spPr>
        <p:txBody>
          <a:bodyPr lIns="90000" rIns="90000" tIns="46800" bIns="46800" anchor="t">
            <a:no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ziv poreznog tijela koje je provelo nadzo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vni temelj za provođenje nadzor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j, mjesto i nadnevak sačinjavanja zapisnik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jesto provođenja i vrijeme trajanja nadzor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ena ovlaštenih osoba koje su nadzor provel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rste poreza i razdoblje obuhvaćeno nadzorom</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is provedenih radnji i izvedenih dokaza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ključke donijete tijekom postupk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vrđeno činjenično stanje porezne obvez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brojni iskaz utvrđenih poreznih obveza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utu o pravnom lijeku (pravo na prigovo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pis ovlaštene osobe na svakoj stranici</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DE3C73-DB57-44A7-A109-60F287443A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VRHA U POREZNOM PRAVU</a:t>
            </a:r>
            <a:endParaRPr b="0" lang="en-US" sz="3600" spc="-1" strike="noStrike">
              <a:solidFill>
                <a:srgbClr val="000000"/>
              </a:solidFill>
              <a:latin typeface="Times New Roman"/>
            </a:endParaRPr>
          </a:p>
        </p:txBody>
      </p:sp>
      <p:sp>
        <p:nvSpPr>
          <p:cNvPr id="205" name="PlaceHolder 2"/>
          <p:cNvSpPr>
            <a:spLocks noGrp="1"/>
          </p:cNvSpPr>
          <p:nvPr>
            <p:ph type="subTitle"/>
          </p:nvPr>
        </p:nvSpPr>
        <p:spPr>
          <a:xfrm>
            <a:off x="609120" y="1219320"/>
            <a:ext cx="8001000" cy="4952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rha općenito je postupak države koji se provodi da bi se ostvario zahtjev vjerovnika protiv dužnika uz pomoć državne prisil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rha u poreznom pravu je postupak u okviru porezno-dužničkog odnosa u kojem porezno tijelo izvršava one svoje akte kojima od poreznog dužnika zahtjeva izvršenje novčane činidb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15C809-4E5E-49A5-8F21-06AC15A7F9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VNA OSNOVA OVRHE U POREZNOM POSTUPKU</a:t>
            </a:r>
            <a:endParaRPr b="0" lang="en-US" sz="3600" spc="-1" strike="noStrike">
              <a:solidFill>
                <a:srgbClr val="000000"/>
              </a:solidFill>
              <a:latin typeface="Times New Roman"/>
            </a:endParaRPr>
          </a:p>
        </p:txBody>
      </p:sp>
      <p:sp>
        <p:nvSpPr>
          <p:cNvPr id="207" name="PlaceHolder 2"/>
          <p:cNvSpPr>
            <a:spLocks noGrp="1"/>
          </p:cNvSpPr>
          <p:nvPr>
            <p:ph type="subTitle"/>
          </p:nvPr>
        </p:nvSpPr>
        <p:spPr>
          <a:xfrm>
            <a:off x="609120" y="2133360"/>
            <a:ext cx="8001000" cy="419076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pći porezni zako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vršni zako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Građansko postupovno prav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vršna isprava (rješenje o utvrđenom porezu)</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Vjerodostojna isprava (knjigovodstveni izlis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Rješenje o ovrsi (mjesno nadležno tijelo, rok žalbe 8 dana, žalba ne odgađa izvršenje)</a:t>
            </a:r>
            <a:endParaRPr b="0" lang="en-US" sz="32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030287-AE83-4530-BA26-9F532B2A0B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ČELA OVRHE</a:t>
            </a:r>
            <a:endParaRPr b="0" lang="en-US" sz="3600" spc="-1" strike="noStrike">
              <a:solidFill>
                <a:srgbClr val="000000"/>
              </a:solidFill>
              <a:latin typeface="Times New Roman"/>
            </a:endParaRPr>
          </a:p>
        </p:txBody>
      </p:sp>
      <p:sp>
        <p:nvSpPr>
          <p:cNvPr id="209" name="PlaceHolder 2"/>
          <p:cNvSpPr>
            <a:spLocks noGrp="1"/>
          </p:cNvSpPr>
          <p:nvPr>
            <p:ph type="subTitle"/>
          </p:nvPr>
        </p:nvSpPr>
        <p:spPr>
          <a:xfrm>
            <a:off x="304920" y="1752480"/>
            <a:ext cx="8076960" cy="464832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Zaštita dostojanstva ovršenik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čelo srazmjernosti</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vrha se provodi u opsegu koji je potreban za namirenje poreznog dug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ad imovinom tijela državne uprave, u pravilu, se ne može provesti ovrha (izuzetak: tijelo državne uprave je dužnik poreznog dužnik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AE0D98-7F52-4EB4-A3AB-80D62C1782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kalni suverenitet </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ovlaštenje i pravo na ustanovljenje fiskalnih prihoda, njihovo uvođenje i određivanje njihove visine</a:t>
            </a:r>
            <a:endParaRPr b="0" lang="en-US" sz="3200" spc="-1" strike="noStrike">
              <a:solidFill>
                <a:srgbClr val="000000"/>
              </a:solidFill>
              <a:latin typeface="Times New Roman"/>
            </a:endParaRPr>
          </a:p>
        </p:txBody>
      </p:sp>
      <p:sp>
        <p:nvSpPr>
          <p:cNvPr id="58" name="PlaceHolder 2"/>
          <p:cNvSpPr>
            <a:spLocks noGrp="1"/>
          </p:cNvSpPr>
          <p:nvPr>
            <p:ph/>
          </p:nvPr>
        </p:nvSpPr>
        <p:spPr>
          <a:xfrm>
            <a:off x="609480" y="3580920"/>
            <a:ext cx="7848720" cy="2514600"/>
          </a:xfrm>
          <a:prstGeom prst="rect">
            <a:avLst/>
          </a:prstGeom>
          <a:noFill/>
          <a:ln w="0">
            <a:noFill/>
          </a:ln>
        </p:spPr>
        <p:txBody>
          <a:bodyPr lIns="90000" rIns="90000" tIns="46800" bIns="46800" anchor="t">
            <a:normAutofit fontScale="96000"/>
          </a:bodyPr>
          <a:p>
            <a:pPr marL="3290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ncijski suverenitet </a:t>
            </a:r>
            <a:endParaRPr b="0" lang="en-US" sz="4000" spc="-1" strike="noStrike">
              <a:solidFill>
                <a:srgbClr val="000000"/>
              </a:solidFill>
              <a:latin typeface="Times New Roman"/>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3200" spc="-1" strike="noStrike">
                <a:solidFill>
                  <a:srgbClr val="000000"/>
                </a:solidFill>
                <a:latin typeface="Times New Roman"/>
              </a:rPr>
              <a:t>ovlaštenje zasnovano na ustavu i zakonima da prikupljena sredstva subjekti javnog financiranja mogu samostalno raspoređivati na opće potreb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D6D58D-9CEE-4D9E-9EA0-8302892478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DLEŽNOST I SUDIONICI OVRHE</a:t>
            </a:r>
            <a:endParaRPr b="0" lang="en-US" sz="3200" spc="-1" strike="noStrike">
              <a:solidFill>
                <a:srgbClr val="000000"/>
              </a:solidFill>
              <a:latin typeface="Times New Roman"/>
            </a:endParaRPr>
          </a:p>
        </p:txBody>
      </p:sp>
      <p:sp>
        <p:nvSpPr>
          <p:cNvPr id="2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adležno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ezna uprav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inska uprava</a:t>
            </a:r>
            <a:endParaRPr b="0" lang="en-US" sz="2800" spc="-1" strike="noStrike">
              <a:solidFill>
                <a:srgbClr val="000000"/>
              </a:solidFill>
              <a:latin typeface="Times New Roman"/>
            </a:endParaRPr>
          </a:p>
        </p:txBody>
      </p:sp>
      <p:sp>
        <p:nvSpPr>
          <p:cNvPr id="2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Times New Roman"/>
              </a:rPr>
              <a:t>Sudionic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vrhovoditel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rezno tijel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vršeni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rezni dužnik i/ili porezni jamac)</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40567A2-A6BE-4356-B900-F7F5DD77D3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TPOSTAVKE OVRHE</a:t>
            </a:r>
            <a:endParaRPr b="0" lang="en-US" sz="3600" spc="-1" strike="noStrike">
              <a:solidFill>
                <a:srgbClr val="000000"/>
              </a:solidFill>
              <a:latin typeface="Times New Roman"/>
            </a:endParaRPr>
          </a:p>
        </p:txBody>
      </p:sp>
      <p:sp>
        <p:nvSpPr>
          <p:cNvPr id="214" name="PlaceHolder 2"/>
          <p:cNvSpPr>
            <a:spLocks noGrp="1"/>
          </p:cNvSpPr>
          <p:nvPr>
            <p:ph type="subTitle"/>
          </p:nvPr>
        </p:nvSpPr>
        <p:spPr>
          <a:xfrm>
            <a:off x="1371600" y="1447920"/>
            <a:ext cx="6400800" cy="45720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ojanje poreznog duga</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spjelost poreznog duga</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itak rješenje o ovrsi od strane poreznog dužnika kojim mu je naloženo da porezni dug plati u roku od osam dan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662276-91CC-4F2C-90B8-92E0AEBA69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JEKT OVRHE</a:t>
            </a:r>
            <a:endParaRPr b="0" lang="en-US" sz="3600" spc="-1" strike="noStrike">
              <a:solidFill>
                <a:srgbClr val="000000"/>
              </a:solidFill>
              <a:latin typeface="Times New Roman"/>
            </a:endParaRPr>
          </a:p>
        </p:txBody>
      </p:sp>
      <p:sp>
        <p:nvSpPr>
          <p:cNvPr id="216" name="PlaceHolder 2"/>
          <p:cNvSpPr>
            <a:spLocks noGrp="1"/>
          </p:cNvSpPr>
          <p:nvPr>
            <p:ph type="subTitle"/>
          </p:nvPr>
        </p:nvSpPr>
        <p:spPr>
          <a:xfrm>
            <a:off x="837720" y="1981080"/>
            <a:ext cx="8077320" cy="426744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retnine </a:t>
            </a:r>
            <a:r>
              <a:rPr b="0" lang="en-US" sz="2800" spc="-1" strike="noStrike">
                <a:solidFill>
                  <a:srgbClr val="000000"/>
                </a:solidFill>
                <a:latin typeface="Times New Roman"/>
              </a:rPr>
              <a:t>(osim egzistencijalnog minimuma)</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žbine</a:t>
            </a:r>
            <a:endParaRPr b="0" lang="en-US" sz="32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ovinska prava </a:t>
            </a:r>
            <a:r>
              <a:rPr b="0" lang="en-US" sz="2800" spc="-1" strike="noStrike">
                <a:solidFill>
                  <a:srgbClr val="000000"/>
                </a:solidFill>
                <a:latin typeface="Times New Roman"/>
              </a:rPr>
              <a:t>(na pokretninama: primjenjuju se odredbe o ovrsi nad pokretninama i tražbinama, a na nekretninama: primjenjuju se odredbe ovršnog zakona, a ovrhu provodi općinski sud za zahtjev poreznog tijela)</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ac i vrijednosni papir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2C1832-73E6-44E1-A3E2-826D2ABE8C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DNJE TIJEKOM OVRHE</a:t>
            </a:r>
            <a:endParaRPr b="0" lang="en-US" sz="3600" spc="-1" strike="noStrike">
              <a:solidFill>
                <a:srgbClr val="000000"/>
              </a:solidFill>
              <a:latin typeface="Times New Roman"/>
            </a:endParaRPr>
          </a:p>
        </p:txBody>
      </p:sp>
      <p:sp>
        <p:nvSpPr>
          <p:cNvPr id="218" name="PlaceHolder 2"/>
          <p:cNvSpPr>
            <a:spLocks noGrp="1"/>
          </p:cNvSpPr>
          <p:nvPr>
            <p:ph type="subTitle"/>
          </p:nvPr>
        </p:nvSpPr>
        <p:spPr>
          <a:xfrm>
            <a:off x="609120" y="1828800"/>
            <a:ext cx="8077320" cy="50292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cjena pljenidbenih predmet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ovrhovoditelj</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vješta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ljenidba procijenjenih predmet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glašavanje javne prodaj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rganiziranje i provođenje javne prodaj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onavljanje javne prodaj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23EEEC-2E92-4509-8180-2062E109DD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ŽENJE ROKA</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304920" y="1219320"/>
            <a:ext cx="853416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1" lang="hr-HR" sz="3200" spc="-1" strike="noStrike">
                <a:solidFill>
                  <a:srgbClr val="000000"/>
                </a:solidFill>
                <a:latin typeface="Times New Roman"/>
              </a:rPr>
              <a:t>Rok</a:t>
            </a:r>
            <a:r>
              <a:rPr b="0" lang="hr-HR" sz="3200" spc="-1" strike="noStrike">
                <a:solidFill>
                  <a:srgbClr val="000000"/>
                </a:solidFill>
                <a:latin typeface="Times New Roman"/>
              </a:rPr>
              <a:t> je ograničeno razdoblje tijekom kojeg se poduzimaju određene postupovne radnje, a nakon kojeg nastupaju određene pravne posljedic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1" lang="hr-HR" sz="3200" spc="-1" strike="noStrike">
                <a:solidFill>
                  <a:srgbClr val="000000"/>
                </a:solidFill>
                <a:latin typeface="Times New Roman"/>
              </a:rPr>
              <a:t>Rok koji propisuje porezno tijelo</a:t>
            </a:r>
            <a:r>
              <a:rPr b="0" lang="hr-HR" sz="3200" spc="-1" strike="noStrike">
                <a:solidFill>
                  <a:srgbClr val="000000"/>
                </a:solidFill>
                <a:latin typeface="Times New Roman"/>
              </a:rPr>
              <a:t> na zahtjev osobe kojoj je određen može se produljiti, najviše dvostruko, ako je zahtjev podnesen prije isteka roka, uz moguće uvjetovanje osiguranja plaćanj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1" lang="hr-HR" sz="3200" spc="-1" strike="noStrike">
                <a:solidFill>
                  <a:srgbClr val="ff0000"/>
                </a:solidFill>
                <a:latin typeface="Times New Roman"/>
              </a:rPr>
              <a:t>O zahtjevu za produljenje roka porezno tijelo odlučuje zaključkom protiv kojeg nije dopuštena žalb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1112D-AAA6-4D0F-98A1-7C6BC83D2D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VRAT U PRIJAŠNJE STANJE</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380880" y="1142640"/>
            <a:ext cx="8305920" cy="525780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Pravni institut koji zaštićuje poreznog obveznika o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avnih posljedica kakve bi nastale </a:t>
            </a:r>
            <a:r>
              <a:rPr b="1" lang="en-US" sz="2800" spc="-1" strike="noStrike">
                <a:solidFill>
                  <a:srgbClr val="ff0000"/>
                </a:solidFill>
                <a:latin typeface="Times New Roman"/>
              </a:rPr>
              <a:t>zbog propuštanj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roka</a:t>
            </a:r>
            <a:r>
              <a:rPr b="1" lang="en-US" sz="2800" spc="-1" strike="noStrike">
                <a:solidFill>
                  <a:srgbClr val="000000"/>
                </a:solidFill>
                <a:latin typeface="Times New Roman"/>
              </a:rPr>
              <a:t> </a:t>
            </a:r>
            <a:r>
              <a:rPr b="0" lang="en-US" sz="2800" spc="-1" strike="noStrike">
                <a:solidFill>
                  <a:srgbClr val="000000"/>
                </a:solidFill>
                <a:latin typeface="Times New Roman"/>
              </a:rPr>
              <a:t>do kojeg bi došlo bez krivnje poreznog obveznik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tpostavke za primjenu ovog institu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koračenje zakonskog roka ili roka koje je odredilo porezno tijelo.</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uštanje je nastalo bez krivnje poreznog obveznik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htjev poreznog obveznika. </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0AC593-8C4F-4273-8E19-9EF46B16F8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VRAT U PRIJAŠNJE STANJE</a:t>
            </a: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533520" y="1523880"/>
            <a:ext cx="81532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Rok</a:t>
            </a:r>
            <a:r>
              <a:rPr b="0" lang="en-US" sz="3200" spc="-1" strike="noStrike">
                <a:solidFill>
                  <a:srgbClr val="000000"/>
                </a:solidFill>
                <a:latin typeface="Times New Roman"/>
              </a:rPr>
              <a:t> za podnošenje zahtjeva za povrat u prijašnje stanje j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0000"/>
                </a:solidFill>
                <a:latin typeface="Times New Roman"/>
              </a:rPr>
              <a:t>- u pravilu 8 dana</a:t>
            </a:r>
            <a:r>
              <a:rPr b="0" lang="en-US" sz="3200" spc="-1" strike="noStrike">
                <a:solidFill>
                  <a:srgbClr val="000000"/>
                </a:solidFill>
                <a:latin typeface="Times New Roman"/>
              </a:rPr>
              <a:t> (od dana kada je prestao razlog propuštanja roka, odnosno od dana kad je porezni obveznik doznao za uzrok, do najviše tri mjeseca od propuštenog rok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iznimno 3 mjeseca odnosno i više od tri mjeseca od propuštenog roka, ako je u tome bio spriječen prije isteka tog roka višom sil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293BC3-FCE3-4B14-88C9-8C73B62F2B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ŽALBA</a:t>
            </a:r>
            <a:endParaRPr b="0" lang="en-US" sz="3600" spc="-1" strike="noStrike">
              <a:solidFill>
                <a:srgbClr val="000000"/>
              </a:solidFill>
              <a:latin typeface="Times New Roman"/>
            </a:endParaRPr>
          </a:p>
        </p:txBody>
      </p:sp>
      <p:sp>
        <p:nvSpPr>
          <p:cNvPr id="226" name="PlaceHolder 2"/>
          <p:cNvSpPr>
            <a:spLocks noGrp="1"/>
          </p:cNvSpPr>
          <p:nvPr>
            <p:ph type="subTitle"/>
          </p:nvPr>
        </p:nvSpPr>
        <p:spPr>
          <a:xfrm>
            <a:off x="533520" y="1143000"/>
            <a:ext cx="815328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vo na žalbu je jedno od osnovnih načela u poreznom postupku.</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Žalba je jedini redovni </a:t>
            </a:r>
            <a:r>
              <a:rPr b="1" lang="en-US" sz="3200" spc="-1" strike="noStrike">
                <a:solidFill>
                  <a:srgbClr val="ff0000"/>
                </a:solidFill>
                <a:latin typeface="Times New Roman"/>
              </a:rPr>
              <a:t>pravni lijek</a:t>
            </a:r>
            <a:r>
              <a:rPr b="0" lang="en-US" sz="3200" spc="-1" strike="noStrike">
                <a:solidFill>
                  <a:srgbClr val="000000"/>
                </a:solidFill>
                <a:latin typeface="Times New Roman"/>
              </a:rPr>
              <a:t> kojim se može pobijati porezne akte (porezno rješenje i zaključak) donijete u prvostupanjskom poreznom postupku kojima je odlučeno o pojedinačnim pravima i obvezama iz porezno-pravnog odnos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0274FF-2005-4514-94AB-00B17D7C03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ŽALBA</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304560" y="1143000"/>
            <a:ext cx="8458200" cy="495288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Tko ima pravo podnijeti žalbu</a:t>
            </a:r>
            <a:r>
              <a:rPr b="0" lang="hr-HR" sz="3200" spc="-1" strike="noStrike">
                <a:solidFill>
                  <a:srgbClr val="000000"/>
                </a:solidFill>
                <a:latin typeface="Times New Roman"/>
              </a:rPr>
              <a: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vaka osoba o čijim se pravima i obvezama odlučivalo tijekom prvostupanjskog postupka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soba koja ima pravni interes (zakonski porezni jamci, bilo solidarni bilo sopsidijarni)</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Times New Roman"/>
              </a:rPr>
              <a:t>Rokovi:</a:t>
            </a:r>
            <a:r>
              <a:rPr b="0" lang="hr-HR"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30 dana od dana primitka poreznog akt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8 dana na rješenje o ovrs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A92C7-AAAF-4116-BDCE-F0D775793F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LIK I ELEMENTI ŽALBE</a:t>
            </a:r>
            <a:endParaRPr b="0" lang="en-US" sz="3600" spc="-1" strike="noStrike">
              <a:solidFill>
                <a:srgbClr val="000000"/>
              </a:solidFill>
              <a:latin typeface="Times New Roman"/>
            </a:endParaRPr>
          </a:p>
        </p:txBody>
      </p:sp>
      <p:sp>
        <p:nvSpPr>
          <p:cNvPr id="230" name="PlaceHolder 2"/>
          <p:cNvSpPr>
            <a:spLocks noGrp="1"/>
          </p:cNvSpPr>
          <p:nvPr>
            <p:ph type="subTitle"/>
          </p:nvPr>
        </p:nvSpPr>
        <p:spPr>
          <a:xfrm>
            <a:off x="533520" y="1371600"/>
            <a:ext cx="815328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u pravilu je u pisanom obliku, ali ju j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moguće izjaviti i u zapisni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ime i naziv žalitelj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naznaka poreznog akta koji se žalbo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pobij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razlog podnošenj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dokaze u prilog žalbenih razlog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 potpis žalitelj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13E0A-05A9-42D6-9582-40D0A59AAE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VOJ FINANCIJSKE ZNANOSTI U HRVATSKOJ</a:t>
            </a:r>
            <a:endParaRPr b="0" lang="en-US" sz="2400" spc="-1" strike="noStrike">
              <a:solidFill>
                <a:srgbClr val="000000"/>
              </a:solidFill>
              <a:latin typeface="Times New Roman"/>
            </a:endParaRPr>
          </a:p>
        </p:txBody>
      </p:sp>
      <p:sp>
        <p:nvSpPr>
          <p:cNvPr id="60" name=""/>
          <p:cNvSpPr/>
          <p:nvPr/>
        </p:nvSpPr>
        <p:spPr>
          <a:xfrm>
            <a:off x="401760" y="1676520"/>
            <a:ext cx="875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Carica Marija Terezija osnovala je 1769. godine u Varaždin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imes New Roman"/>
              </a:rPr>
              <a:t>Političko-kameralni (financijski) studij</a:t>
            </a:r>
            <a:r>
              <a:rPr b="0" lang="hr-HR" sz="2400" spc="-1" strike="noStrike">
                <a:solidFill>
                  <a:srgbClr val="000000"/>
                </a:solidFill>
                <a:latin typeface="Times New Roman"/>
              </a:rPr>
              <a:t> na kojem su se obrazoval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rovi za potrebe državne uprave iz područja uprave, gospodarstva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imes New Roman"/>
              </a:rPr>
              <a:t>	</a:t>
            </a:r>
            <a:r>
              <a:rPr b="0" i="1" lang="hr-HR" sz="2400" spc="-1" strike="noStrike">
                <a:solidFill>
                  <a:srgbClr val="000000"/>
                </a:solidFill>
                <a:latin typeface="Times New Roman"/>
              </a:rPr>
              <a:t>Političko-kameralni studij</a:t>
            </a:r>
            <a:r>
              <a:rPr b="0" lang="hr-HR" sz="2400" spc="-1" strike="noStrike">
                <a:solidFill>
                  <a:srgbClr val="000000"/>
                </a:solidFill>
                <a:latin typeface="Times New Roman"/>
              </a:rPr>
              <a:t> je 1772. godine preseljen u Zagr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a bi 1776. godine bio uključen u novoosnovani </a:t>
            </a:r>
            <a:r>
              <a:rPr b="0" i="1" lang="hr-HR" sz="2400" spc="-1" strike="noStrike">
                <a:solidFill>
                  <a:srgbClr val="000000"/>
                </a:solidFill>
                <a:latin typeface="Times New Roman"/>
              </a:rPr>
              <a:t>Pravni fakult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imes New Roman"/>
              </a:rPr>
              <a:t>Kraljevske akademije znanos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imes New Roman"/>
              </a:rPr>
              <a:t>	</a:t>
            </a:r>
            <a:r>
              <a:rPr b="0" lang="hr-HR" sz="2400" spc="-1" strike="noStrike">
                <a:solidFill>
                  <a:srgbClr val="000000"/>
                </a:solidFill>
                <a:latin typeface="Times New Roman"/>
              </a:rPr>
              <a:t>Prvi udžbenik u kojem je objedinjena financijska znanost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sko pravo </a:t>
            </a:r>
            <a:r>
              <a:rPr b="0" i="1" lang="hr-HR" sz="2400" spc="-1" strike="noStrike">
                <a:solidFill>
                  <a:srgbClr val="000000"/>
                </a:solidFill>
                <a:latin typeface="Times New Roman"/>
              </a:rPr>
              <a:t>Nauka o financijama i financijsko pravo</a:t>
            </a:r>
            <a:r>
              <a:rPr b="0" lang="hr-HR" sz="2400" spc="-1" strike="noStrike">
                <a:solidFill>
                  <a:srgbClr val="000000"/>
                </a:solidFill>
                <a:latin typeface="Times New Roman"/>
              </a:rPr>
              <a:t> napisao 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983. godine djelatni prof. dr. sc. i dr. h. c. Božidar Jelčić koji j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o predavao na Pravnom fakultetu u Zagrebu pune 44 godine.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6FB150-B391-4C60-A542-ABB9D4EEB2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JELA NADLEŽNA ZA RJEŠAVANJE ŽALBE</a:t>
            </a:r>
            <a:endParaRPr b="0" lang="en-US" sz="3600" spc="-1" strike="noStrike">
              <a:solidFill>
                <a:srgbClr val="000000"/>
              </a:solidFill>
              <a:latin typeface="Times New Roman"/>
            </a:endParaRPr>
          </a:p>
        </p:txBody>
      </p:sp>
      <p:sp>
        <p:nvSpPr>
          <p:cNvPr id="232" name="PlaceHolder 2"/>
          <p:cNvSpPr>
            <a:spLocks noGrp="1"/>
          </p:cNvSpPr>
          <p:nvPr>
            <p:ph type="subTitle"/>
          </p:nvPr>
        </p:nvSpPr>
        <p:spPr>
          <a:xfrm>
            <a:off x="457200" y="1447560"/>
            <a:ext cx="8305920" cy="4647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u="sng">
                <a:solidFill>
                  <a:srgbClr val="000000"/>
                </a:solidFill>
                <a:uFillTx/>
                <a:latin typeface="Times New Roman"/>
              </a:rPr>
              <a:t>Prvostupanjsko tijelo</a:t>
            </a:r>
            <a:r>
              <a:rPr b="0" lang="hr-HR" sz="3200" spc="-1" strike="noStrike">
                <a:solidFill>
                  <a:srgbClr val="000000"/>
                </a:solidFill>
                <a:latin typeface="Times New Roman"/>
              </a:rPr>
              <a:t> (ispostava Područnog ureda, carinarnic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u="sng">
                <a:solidFill>
                  <a:srgbClr val="000000"/>
                </a:solidFill>
                <a:uFillTx/>
                <a:latin typeface="Times New Roman"/>
              </a:rPr>
              <a:t>Drugostupanjsko tijelo</a:t>
            </a:r>
            <a:r>
              <a:rPr b="0" lang="hr-HR" sz="3200" spc="-1" strike="noStrike">
                <a:solidFill>
                  <a:srgbClr val="000000"/>
                </a:solidFill>
                <a:latin typeface="Times New Roman"/>
              </a:rPr>
              <a:t> (Samostalna služba za drugostupanjski postupak; organizacijski izvan Porezne uprave)</a:t>
            </a:r>
            <a:endParaRPr b="0" lang="en-US" sz="3200" spc="-1" strike="noStrike">
              <a:solidFill>
                <a:srgbClr val="000000"/>
              </a:solidFill>
              <a:latin typeface="Times New Roman"/>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Odjel za drugostupanjski carinsko-upravni </a:t>
            </a:r>
            <a:endParaRPr b="0" lang="en-US" sz="2800" spc="-1" strike="noStrike">
              <a:solidFill>
                <a:srgbClr val="000000"/>
              </a:solidFill>
              <a:latin typeface="Times New Roman"/>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stupak</a:t>
            </a:r>
            <a:endParaRPr b="0" lang="en-US" sz="2800" spc="-1" strike="noStrike">
              <a:solidFill>
                <a:srgbClr val="000000"/>
              </a:solidFill>
              <a:latin typeface="Times New Roman"/>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jel za drugostupanjski porezni postupak</a:t>
            </a:r>
            <a:endParaRPr b="0" lang="en-US" sz="2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0000"/>
                </a:solidFill>
                <a:latin typeface="Times New Roman"/>
              </a:rPr>
              <a:t>O žalbi se odlučuje rješenjem.</a:t>
            </a:r>
            <a:endParaRPr b="0" lang="en-US" sz="3600" spc="-1" strike="noStrike">
              <a:solidFill>
                <a:srgbClr val="000000"/>
              </a:solidFill>
              <a:latin typeface="Times New Roman"/>
            </a:endParaRPr>
          </a:p>
          <a:p>
            <a:pPr lvl="2" marL="9144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59A6CF8-F1B3-4EE7-A5EF-1877A1AAF7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LASTI PRVOSTUPANJSKOG TIJELA</a:t>
            </a:r>
            <a:endParaRPr b="0" lang="en-US" sz="3200" spc="-1" strike="noStrike">
              <a:solidFill>
                <a:srgbClr val="000000"/>
              </a:solidFill>
              <a:latin typeface="Times New Roman"/>
            </a:endParaRPr>
          </a:p>
        </p:txBody>
      </p:sp>
      <p:sp>
        <p:nvSpPr>
          <p:cNvPr id="234" name="PlaceHolder 2"/>
          <p:cNvSpPr>
            <a:spLocks noGrp="1"/>
          </p:cNvSpPr>
          <p:nvPr>
            <p:ph type="subTitle"/>
          </p:nvPr>
        </p:nvSpPr>
        <p:spPr>
          <a:xfrm>
            <a:off x="304920" y="914400"/>
            <a:ext cx="8610480" cy="5486400"/>
          </a:xfrm>
          <a:prstGeom prst="rect">
            <a:avLst/>
          </a:prstGeom>
          <a:noFill/>
          <a:ln w="0">
            <a:noFill/>
          </a:ln>
        </p:spPr>
        <p:txBody>
          <a:bodyPr lIns="90000" rIns="90000" tIns="46800" bIns="46800" anchor="t">
            <a:no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Žalbu odbaciti</a:t>
            </a:r>
            <a:r>
              <a:rPr b="0" lang="en-US" sz="2400" spc="-1" strike="noStrike">
                <a:solidFill>
                  <a:srgbClr val="000000"/>
                </a:solidFill>
                <a:latin typeface="Times New Roman"/>
              </a:rPr>
              <a:t> (ako nije dopuštena, nije podnijeta od ovlaštene osobe ili nije podnijeta u roku)</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Žalbu usvojiti</a:t>
            </a:r>
            <a:r>
              <a:rPr b="0" lang="en-US" sz="2400" spc="-1" strike="noStrike">
                <a:solidFill>
                  <a:srgbClr val="000000"/>
                </a:solidFill>
                <a:latin typeface="Times New Roman"/>
              </a:rPr>
              <a:t> </a:t>
            </a:r>
            <a:r>
              <a:rPr b="1" lang="en-US" sz="2400" spc="-1" strike="noStrike">
                <a:solidFill>
                  <a:srgbClr val="000000"/>
                </a:solidFill>
                <a:latin typeface="Times New Roman"/>
              </a:rPr>
              <a:t>i prvostupanjski akt zamijeniti novim akto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ez provođenja dopunskog postupka</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uz provođenje dopunskog postupk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vostupanjski akt izmijeniti</a:t>
            </a:r>
            <a:r>
              <a:rPr b="0" lang="en-US" sz="2800" spc="-1" strike="noStrike">
                <a:solidFill>
                  <a:srgbClr val="000000"/>
                </a:solidFill>
                <a:latin typeface="Times New Roman"/>
              </a:rPr>
              <a:t> </a:t>
            </a:r>
            <a:r>
              <a:rPr b="0" lang="en-US" sz="2400" spc="-1" strike="noStrike">
                <a:solidFill>
                  <a:srgbClr val="000000"/>
                </a:solidFill>
                <a:latin typeface="Times New Roman"/>
              </a:rPr>
              <a:t>(žalba opravdana, nove činjenice, nije omogućeno sudjelovanje  ili je opravdano onemogućeno sudjelovanje u postupku)</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inuti i mijenjati pravomoćno rješenje</a:t>
            </a:r>
            <a:r>
              <a:rPr b="0" lang="en-US" sz="2400" spc="-1" strike="noStrike">
                <a:solidFill>
                  <a:srgbClr val="000000"/>
                </a:solidFill>
                <a:latin typeface="Times New Roman"/>
              </a:rPr>
              <a:t> uz pristanak ili na zahtjev stranke (čl. 265. ZUP-a)</a:t>
            </a:r>
            <a:endParaRPr b="0" lang="en-US" sz="2400" spc="-1" strike="noStrike">
              <a:solidFill>
                <a:srgbClr val="000000"/>
              </a:solidFill>
              <a:latin typeface="Times New Roman"/>
            </a:endParaRPr>
          </a:p>
          <a:p>
            <a:pPr marL="609480" indent="-60948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Žalba protiv rješenja koje je prvostupanjsko tijelo donijelo u povodu žalbe dopuštena je samo na:</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400" spc="-1" strike="noStrike">
                <a:solidFill>
                  <a:srgbClr val="ff0000"/>
                </a:solidFill>
                <a:latin typeface="Times New Roman"/>
              </a:rPr>
              <a:t>a)  rješenje o odbacivanju žalbe</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b) novo rješenje kojim se zamjenjuje pobijano rješenje</a:t>
            </a:r>
            <a:endParaRPr b="0" lang="en-US" sz="2400" spc="-1" strike="noStrike">
              <a:solidFill>
                <a:srgbClr val="000000"/>
              </a:solidFill>
              <a:latin typeface="Times New Roman"/>
            </a:endParaRPr>
          </a:p>
          <a:p>
            <a:pPr lvl="1" marL="9907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443F2B-0395-4D12-8BDE-BE3255D7E9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LASTI DRUGOSTUPANJSKOG TIJELA</a:t>
            </a:r>
            <a:endParaRPr b="0" lang="en-US" sz="3200" spc="-1" strike="noStrike">
              <a:solidFill>
                <a:srgbClr val="000000"/>
              </a:solidFill>
              <a:latin typeface="Times New Roman"/>
            </a:endParaRPr>
          </a:p>
        </p:txBody>
      </p:sp>
      <p:sp>
        <p:nvSpPr>
          <p:cNvPr id="236" name="PlaceHolder 2"/>
          <p:cNvSpPr>
            <a:spLocks noGrp="1"/>
          </p:cNvSpPr>
          <p:nvPr>
            <p:ph type="subTitle"/>
          </p:nvPr>
        </p:nvSpPr>
        <p:spPr>
          <a:xfrm>
            <a:off x="-360" y="990720"/>
            <a:ext cx="8915400" cy="5410080"/>
          </a:xfrm>
          <a:prstGeom prst="rect">
            <a:avLst/>
          </a:prstGeom>
          <a:noFill/>
          <a:ln w="0">
            <a:noFill/>
          </a:ln>
        </p:spPr>
        <p:txBody>
          <a:bodyPr lIns="90000" rIns="90000" tIns="46800" bIns="46800" anchor="t">
            <a:no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Žalbu odbacit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zeti predmet u rješavanje, te:</a:t>
            </a: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Žalbu odbiti</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Žalbu uvažiti i prvostupanjsko rješenje u cijelosti ili djelomično proglasiti ništavim</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vostupanjski akt izmijeniti, pri tome može izmijeniti rješenje i na štetu žalitelja, ako je njime očigledno povrijeđen materijalni zakonu korist pojedinca ili pravne osobe, a na štetu društvene zajednic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vostupanjski akt poništiti i predmet vratiti prvostupanjskom tijelu na ponovni postupak</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remeno prekinuti postupak</a:t>
            </a:r>
            <a:endParaRPr b="0" lang="en-US" sz="2400" spc="-1" strike="noStrike">
              <a:solidFill>
                <a:srgbClr val="000000"/>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ješenje o žalbi porezno tijelo mora donijeti i dostaviti stranci u</a:t>
            </a:r>
            <a:endParaRPr b="0" lang="en-US" sz="2400" spc="-1" strike="noStrike">
              <a:solidFill>
                <a:srgbClr val="000000"/>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roku 60 dana od dana predaje žalbe prvostupanjskom tije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558C5-7A51-42A0-99A5-E431F5D930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JENJANJE I PONIŠTAVANJE RJEŠENJA U VEZI S UPRAVNIM SPOROM</a:t>
            </a:r>
            <a:endParaRPr b="0" lang="en-US" sz="2800" spc="-1" strike="noStrike">
              <a:solidFill>
                <a:srgbClr val="000000"/>
              </a:solidFill>
              <a:latin typeface="Times New Roman"/>
            </a:endParaRPr>
          </a:p>
        </p:txBody>
      </p:sp>
      <p:sp>
        <p:nvSpPr>
          <p:cNvPr id="238" name="PlaceHolder 2"/>
          <p:cNvSpPr>
            <a:spLocks noGrp="1"/>
          </p:cNvSpPr>
          <p:nvPr>
            <p:ph type="subTitle"/>
          </p:nvPr>
        </p:nvSpPr>
        <p:spPr>
          <a:xfrm>
            <a:off x="533520" y="1523880"/>
            <a:ext cx="8153280" cy="4724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dini izvanredni pravni lijek u poreznom pravu</a:t>
            </a:r>
            <a:endParaRPr b="0" lang="en-US" sz="28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ugostupanjsko tijelo protiv čijeg rješenja je pravodobno podnijeta tužba nadležnom sudu ( u roku 30 dana) može do okončanja spora, poništiti ili izmijeniti svoje rješenje iz onih razloga iz kojih bi sud mogao poništiti to rješenj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vo porezno rješenje kojim se mijenja ili stavlja izvan snage tuženo rješenje mora se dostaviti poreznom obvezniku i sud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394BA4-B9E0-4B9F-8913-8A25459319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PRAVNI SPOR</a:t>
            </a:r>
            <a:endParaRPr b="0" lang="en-US" sz="3600" spc="-1" strike="noStrike">
              <a:solidFill>
                <a:srgbClr val="000000"/>
              </a:solidFill>
              <a:latin typeface="Times New Roman"/>
            </a:endParaRPr>
          </a:p>
        </p:txBody>
      </p:sp>
      <p:sp>
        <p:nvSpPr>
          <p:cNvPr id="240" name="PlaceHolder 2"/>
          <p:cNvSpPr>
            <a:spLocks noGrp="1"/>
          </p:cNvSpPr>
          <p:nvPr>
            <p:ph type="subTitle"/>
          </p:nvPr>
        </p:nvSpPr>
        <p:spPr>
          <a:xfrm>
            <a:off x="228600" y="1219320"/>
            <a:ext cx="8610480" cy="449568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ravni spor se pokreće tužbom zbog nezadovoljstv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ostupanjskim rješenjem koje je konačno i pravomoćn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 opterećeno raznim nedostacim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zvanredni pravni lijek u ZUP-u</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nova postupk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htjev za zaštitu zakonitost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ištenje i ukidanje rješenja po pravu nadzora</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lašavanje poreznog akta ništavni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idanje ili mijenjanje poreznog akta po zahtjevu strank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38E580-6CFC-4BA6-B22E-2C385F49AE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NOVA POSTUPKA</a:t>
            </a:r>
            <a:endParaRPr b="0" lang="en-US" sz="3600" spc="-1" strike="noStrike">
              <a:solidFill>
                <a:srgbClr val="000000"/>
              </a:solidFill>
              <a:latin typeface="Times New Roman"/>
            </a:endParaRPr>
          </a:p>
        </p:txBody>
      </p:sp>
      <p:sp>
        <p:nvSpPr>
          <p:cNvPr id="242" name="PlaceHolder 2"/>
          <p:cNvSpPr>
            <a:spLocks noGrp="1"/>
          </p:cNvSpPr>
          <p:nvPr>
            <p:ph type="subTitle"/>
          </p:nvPr>
        </p:nvSpPr>
        <p:spPr>
          <a:xfrm>
            <a:off x="304560" y="1142640"/>
            <a:ext cx="8458200" cy="5181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nova postupka je izvanredan pravni lijek. Obnovom postupka omogućava se obnavljanje postupka u istoj upravnoj stvari u kojoj je postupak već jednom vođeni koji je završen donošenjem konačnog rješenja odnosno zaključka. Cilj obnove postupka je da se rasvijetle nove činjenice i novi dokazi ili da se uklone posljedice povrede postupovnih odredaba ili nezakonitog djelovanja u postupku čija je obnova zatražena. Obnova se može tražiti protiv konačnih prvostupanjskih i drugostupanjskih rješenja (najčešće su to drugostupanjska rješenja donijeta u povodu žalbe, ali se može raditi i o prvostupanjskim rješenjima protiv kojih žalba nije dopuštena ili je dopuštena ali nije izjavljena u roku. Budući da za obnovu nije potrebna pravomoćnost rješenja već samo konačnost, obnova postupka može se tražiti iako se vodi upravni sporu toj upravnoj stva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AB7F8F-64F1-4261-A1C4-98F5FEB12E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JEŠENJE JE KONAČNO</a:t>
            </a:r>
            <a:endParaRPr b="0" lang="en-US" sz="3600" spc="-1" strike="noStrike">
              <a:solidFill>
                <a:srgbClr val="000000"/>
              </a:solidFill>
              <a:latin typeface="Times New Roman"/>
            </a:endParaRPr>
          </a:p>
        </p:txBody>
      </p:sp>
      <p:sp>
        <p:nvSpPr>
          <p:cNvPr id="244" name="PlaceHolder 2"/>
          <p:cNvSpPr>
            <a:spLocks noGrp="1"/>
          </p:cNvSpPr>
          <p:nvPr>
            <p:ph type="subTitle"/>
          </p:nvPr>
        </p:nvSpPr>
        <p:spPr>
          <a:xfrm>
            <a:off x="533160" y="1295280"/>
            <a:ext cx="7924680" cy="510552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o je istekao rok za podnošenje žalb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o žalba nije dopušt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o je doneseno rješenje po žalbi</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Pravna posljedica konačnosti rješenja je da s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o ne može pobijati žalbom kao redovnim pravnim</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jekom u upravnom postupk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4950DC-7C0E-4499-85A6-619ACBB267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JEŠENJE JE PRAVOMOĆNO</a:t>
            </a:r>
            <a:endParaRPr b="0" lang="en-US" sz="3600" spc="-1" strike="noStrike">
              <a:solidFill>
                <a:srgbClr val="000000"/>
              </a:solidFill>
              <a:latin typeface="Times New Roman"/>
            </a:endParaRPr>
          </a:p>
        </p:txBody>
      </p:sp>
      <p:sp>
        <p:nvSpPr>
          <p:cNvPr id="246" name="PlaceHolder 2"/>
          <p:cNvSpPr>
            <a:spLocks noGrp="1"/>
          </p:cNvSpPr>
          <p:nvPr>
            <p:ph type="subTitle"/>
          </p:nvPr>
        </p:nvSpPr>
        <p:spPr>
          <a:xfrm>
            <a:off x="457200" y="2437920"/>
            <a:ext cx="815328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ješenje kojim je stranka stekla neko pravo, odnosno kojim su stranci određene obveze u upravnom postupku je pravomoćno kad se protiv njega ne može izjaviti žalba  ni pokrenuti upravni sp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F2717E-60ED-45B8-944A-D92C6DC678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JEŠENJE JE IZVRŠNO</a:t>
            </a:r>
            <a:endParaRPr b="0" lang="en-US" sz="3600" spc="-1" strike="noStrike">
              <a:solidFill>
                <a:srgbClr val="000000"/>
              </a:solidFill>
              <a:latin typeface="Times New Roman"/>
            </a:endParaRPr>
          </a:p>
        </p:txBody>
      </p:sp>
      <p:sp>
        <p:nvSpPr>
          <p:cNvPr id="248" name="PlaceHolder 2"/>
          <p:cNvSpPr>
            <a:spLocks noGrp="1"/>
          </p:cNvSpPr>
          <p:nvPr>
            <p:ph type="subTitle"/>
          </p:nvPr>
        </p:nvSpPr>
        <p:spPr>
          <a:xfrm>
            <a:off x="609120" y="1219320"/>
            <a:ext cx="8153640" cy="50292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vostupanjsko,</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 nakon isteka roka za žalbu ako žalba nije izjavljen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dostavom stranci ako žalba nije dopušten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dostavom stranci ako žalba ne odgađa izvršenj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 dostavom stranci rješenja kojim se žalba odbacuje ili odbij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1" lang="en-US" sz="2800" spc="-1" strike="noStrike">
                <a:solidFill>
                  <a:srgbClr val="000000"/>
                </a:solidFill>
                <a:latin typeface="Times New Roman"/>
              </a:rPr>
              <a:t>drugostupanjsko</a:t>
            </a:r>
            <a:r>
              <a:rPr b="0" lang="en-US" sz="2800" spc="-1" strike="noStrike">
                <a:solidFill>
                  <a:srgbClr val="000000"/>
                </a:solidFill>
                <a:latin typeface="Times New Roman"/>
              </a:rPr>
              <a:t> rješenje kojim je izmijenjeno prvostupanjsko rješenje postaje izvršno kad se dostavi stranc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AD3FDF-891A-4C0F-9832-B090B14C17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I PREKRŠAJI</a:t>
            </a:r>
            <a:endParaRPr b="0" lang="en-US" sz="3600" spc="-1" strike="noStrike">
              <a:solidFill>
                <a:srgbClr val="000000"/>
              </a:solidFill>
              <a:latin typeface="Times New Roman"/>
            </a:endParaRPr>
          </a:p>
        </p:txBody>
      </p:sp>
      <p:sp>
        <p:nvSpPr>
          <p:cNvPr id="250" name="PlaceHolder 2"/>
          <p:cNvSpPr>
            <a:spLocks noGrp="1"/>
          </p:cNvSpPr>
          <p:nvPr>
            <p:ph type="subTitle"/>
          </p:nvPr>
        </p:nvSpPr>
        <p:spPr>
          <a:xfrm>
            <a:off x="838080" y="1371240"/>
            <a:ext cx="7772400" cy="4800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rezni prekršaj je povreda poreznog propisa što je propisano kao prekršaj Općim poreznim zakonom i posebnim zakonima o pojedinim vrstama porez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ekršajni postupak u prvom stupnju vodi i rješenje o prekršaju donosi ovlašteni službenik nadležnog poreznog tijela. O prizivu i žalbi na rješenje donijeto u prvostupanjskom prekršajnom postupku rješava nadležni prekršajni su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0ECE8F-0D87-4947-BC98-A336178BFE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NI (DRŽAVNI) PRIHODI</a:t>
            </a:r>
            <a:endParaRPr b="0" lang="en-US" sz="4400" spc="-1" strike="noStrike">
              <a:solidFill>
                <a:srgbClr val="000000"/>
              </a:solidFill>
              <a:latin typeface="Times New Roman"/>
            </a:endParaRPr>
          </a:p>
        </p:txBody>
      </p:sp>
      <p:sp>
        <p:nvSpPr>
          <p:cNvPr id="62" name=""/>
          <p:cNvSpPr/>
          <p:nvPr/>
        </p:nvSpPr>
        <p:spPr>
          <a:xfrm>
            <a:off x="599400" y="1981080"/>
            <a:ext cx="83520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ni (državni) prihodi su sredstva kojima drž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vršava obveze iz svoje nadležnosti na temelju ustava, zako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drugih propi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 sustav javnih prihoda u pojedinoj državi utječu brojn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zlozi:</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štveno ekonomski sustav</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čko uređenje</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hodak po stanovniku</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spodarska struktura</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ličina teritorija i broj stanovnika</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čka i ekonomska povezanost s drugim zemljama i d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61C9F7-260A-472C-BFD1-26400A9113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EZNI PREKRŠAJI</a:t>
            </a:r>
            <a:endParaRPr b="0" lang="en-US" sz="3600" spc="-1" strike="noStrike">
              <a:solidFill>
                <a:srgbClr val="000000"/>
              </a:solidFill>
              <a:latin typeface="Times New Roman"/>
            </a:endParaRPr>
          </a:p>
        </p:txBody>
      </p:sp>
      <p:sp>
        <p:nvSpPr>
          <p:cNvPr id="252" name="PlaceHolder 2"/>
          <p:cNvSpPr>
            <a:spLocks noGrp="1"/>
          </p:cNvSpPr>
          <p:nvPr>
            <p:ph type="subTitle"/>
          </p:nvPr>
        </p:nvSpPr>
        <p:spPr>
          <a:xfrm>
            <a:off x="533520" y="1752120"/>
            <a:ext cx="8153280" cy="4496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Za porezni prekršaj novčanom kaznom od 500,00 do 200.000,00 kuna kazniti će se porezni obveznik, a odgovorna osoba u pravnoj osobi kazniti će se za isti prekršaj novčanom kaznom od 500,00 do 50.000,00 kuna. Za takve prekršaje učinjene u povratu u roku dvije godine poreznom obvezniku se može, uz novčanu kaznu izreći i zaštitna mjera privremene zabrane obavljanja djelatnos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21CC84-6CCE-4B14-B0FF-076B02BAFA24}" type="slidenum">
              <a:t>9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3:02:44Z</dcterms:created>
  <dc:creator>Velimir Vucinic</dc:creator>
  <dc:description/>
  <dc:language>en-US</dc:language>
  <cp:lastModifiedBy>Irma</cp:lastModifiedBy>
  <dcterms:modified xsi:type="dcterms:W3CDTF">2006-12-05T18:08:12Z</dcterms:modified>
  <cp:revision>135</cp:revision>
  <dc:subject/>
  <dc:title>POREZNI SUSTAV REPUBLIKE HRVATSKE</dc:title>
</cp:coreProperties>
</file>