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460-5B37-4FCA-ABFB-1331EFB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7DD-C4EF-4A12-AD12-C758096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06C-9156-4B37-886B-F543D326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EA1-2275-4E15-858E-DA97336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469-2BF2-4258-A2B8-2775EA7E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34C-D894-4A4E-8FBE-B1F2780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7D9-F315-4E50-AE25-5EDE2D4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094-C726-423F-9BDC-BE311F0B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FF8-0B4C-4995-AC5A-0C54D72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3B4-D922-46B9-B890-5CF591C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2EB-A023-460D-A5EF-EFC343E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E7D-0499-4EA2-BFEA-1292B4A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Stoich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5280-31A2-445F-9671-516CBC57C024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I 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jedinice i mjer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600200"/>
            <a:ext cx="3352680" cy="32104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cc99"/>
                </a:solidFill>
                <a:latin typeface="Arial Narrow"/>
              </a:rPr>
              <a:t>7 osnovnih veli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dulji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   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       vri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eratur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    K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čina tvar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 m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e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trična stru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    A intensi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et svijetl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 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600200"/>
            <a:ext cx="379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cc99"/>
                </a:solidFill>
                <a:latin typeface="Arial Narrow"/>
              </a:rPr>
              <a:t>Izvedene jedinice iz SI sust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 mm = 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L = 1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centra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ci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mol 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gustoć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g  c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brzi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km/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49528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ijek koristi mjernu jedinicu za označavanje neke velič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3E7-90BF-4D75-9A55-F981C51843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47628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etvori slijedeć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.00 i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 možemo direktno pretvori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n</a:t>
            </a:r>
            <a:r>
              <a:rPr b="1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mL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 Prvo ćemo krenuti s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in</a:t>
            </a:r>
            <a:r>
              <a:rPr b="1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 završiti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ko znaš da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 mL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 = 1 cm</a:t>
            </a:r>
            <a:r>
              <a:rPr b="1" lang="en-US" sz="2400" spc="-1" strike="noStrike" baseline="30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ada ti je potreban još odnos izmeđ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 in = 2.54 c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 mL = 1 cm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.00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54 </a:t>
            </a:r>
            <a:r>
              <a:rPr b="1" lang="en-US" sz="2800" spc="-1" strike="noStrike" u="sng">
                <a:solidFill>
                  <a:srgbClr val="9933ff"/>
                </a:solidFill>
                <a:uFillTx/>
                <a:latin typeface="Arial"/>
              </a:rPr>
              <a:t>c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)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m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) 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računaj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.00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i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6.387 </a:t>
            </a:r>
            <a:r>
              <a:rPr b="1" lang="en-US" sz="2800" spc="-1" strike="noStrike" u="sng">
                <a:solidFill>
                  <a:srgbClr val="9933ff"/>
                </a:solidFill>
                <a:uFillTx/>
                <a:latin typeface="Arial"/>
              </a:rPr>
              <a:t>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) (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mL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) 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5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i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867-736B-4A09-84DF-8A5724F90C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84548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0000"/>
                </a:solidFill>
                <a:latin typeface="Arial"/>
              </a:rPr>
              <a:t>RELATIVNA ATOMSKA I MOLEKULSKA MASA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46536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E0F-1C59-408C-98E4-1C0889857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ATO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371600"/>
            <a:ext cx="8001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Narrow"/>
              </a:rPr>
              <a:t>Atom</a:t>
            </a:r>
            <a:r>
              <a:rPr b="0" lang="hr-HR" sz="2400" spc="-1" strike="noStrike">
                <a:solidFill>
                  <a:srgbClr val="cc66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 Narrow"/>
              </a:rPr>
              <a:t>element</a:t>
            </a:r>
            <a:r>
              <a:rPr b="0" lang="hr-HR" sz="2400" spc="-1" strike="noStrike">
                <a:solidFill>
                  <a:srgbClr val="cc66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vi su puta otkriveni tijek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6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., 17. 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8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oljeć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tkrić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ele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ron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97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(Dalton) pokazalo je da se 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om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ma nalaze još fundamentalnije česti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14 godina kasni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Rutherford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e otkrio da se većina ma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om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lazi u sičušnoj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jezgri (nucleus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čiji 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adi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am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0000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u odnosu na cijel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U međuvremen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Max Planck (1858-1947)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e postavio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ori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u da se svijetlos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astoji od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oton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ji su ekvivaleni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česticama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v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alno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giban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E08-7C41-436F-8629-2FED16E32E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Lucida Handwriting"/>
              </a:rPr>
              <a:t>   </a:t>
            </a:r>
            <a:r>
              <a:rPr b="1" lang="hr-HR" sz="2800" spc="-1" strike="noStrike">
                <a:solidFill>
                  <a:srgbClr val="003366"/>
                </a:solidFill>
                <a:latin typeface="Lucida Handwriting"/>
              </a:rPr>
              <a:t>STRUKTURA ATOMA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1880" y="3809880"/>
            <a:ext cx="3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ff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5961" t="0" r="0" b="19516"/>
          <a:stretch/>
        </p:blipFill>
        <p:spPr>
          <a:xfrm>
            <a:off x="8596440" y="0"/>
            <a:ext cx="54756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76212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Svaki atom se sastoji od određenog broja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 ele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k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tron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, proton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 and neutron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Elektroni imaju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 negativ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ni naboj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, proton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po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z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itiv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ni naboj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neutron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su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 neutral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Proton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neutron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imaju podjednaku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mas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te su oko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2000 </a:t>
            </a:r>
            <a:r>
              <a:rPr b="1" lang="hr-HR" sz="2000" spc="-1" strike="noStrike">
                <a:solidFill>
                  <a:srgbClr val="000000"/>
                </a:solidFill>
                <a:latin typeface="Arial Rounded MT Bold"/>
              </a:rPr>
              <a:t>puta su teži od elekt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19112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708280"/>
            <a:ext cx="9005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Mas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ele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tron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Calligraphy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mas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proton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Calligraphy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mas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neutron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Calligraphy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su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fundamental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ne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onstant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Lucida Calligraphy"/>
              </a:rPr>
              <a:t>i mogu se pronaći u tablici (PERIODNI SUSTAV ELEMENATA)</a:t>
            </a: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3238560" cy="51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e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/r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nuc 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10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10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2440" y="3860640"/>
            <a:ext cx="5027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Teže čestice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 (proton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neutron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) 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locirani su u atomskoj jezg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(n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ucleus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u)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, electron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zauzimaj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mnogo veći 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volume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n</a:t>
            </a:r>
            <a:r>
              <a:rPr b="1" lang="en-US" sz="2000" spc="-1" strike="noStrike">
                <a:solidFill>
                  <a:srgbClr val="003366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003366"/>
                </a:solidFill>
                <a:latin typeface="Arial Rounded MT Bold"/>
              </a:rPr>
              <a:t>oko jez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(ele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k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tron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ski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Arial Rounded MT Bold"/>
              </a:rPr>
              <a:t>oblak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819-F262-451F-B454-723F5A3979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Handwriting"/>
              </a:rPr>
              <a:t>Stru</a:t>
            </a:r>
            <a:r>
              <a:rPr b="1" lang="hr-HR" sz="4400" spc="-1" strike="noStrike">
                <a:solidFill>
                  <a:srgbClr val="003366"/>
                </a:solidFill>
                <a:latin typeface="Lucida Handwriting"/>
              </a:rPr>
              <a:t>k</a:t>
            </a:r>
            <a:r>
              <a:rPr b="1" lang="en-US" sz="4400" spc="-1" strike="noStrike">
                <a:solidFill>
                  <a:srgbClr val="003366"/>
                </a:solidFill>
                <a:latin typeface="Lucida Handwriting"/>
              </a:rPr>
              <a:t>tur</a:t>
            </a:r>
            <a:r>
              <a:rPr b="1" lang="hr-HR" sz="4400" spc="-1" strike="noStrike">
                <a:solidFill>
                  <a:srgbClr val="003366"/>
                </a:solidFill>
                <a:latin typeface="Lucida Handwriting"/>
              </a:rPr>
              <a:t>a</a:t>
            </a:r>
            <a:r>
              <a:rPr b="1" lang="en-US" sz="4400" spc="-1" strike="noStrike">
                <a:solidFill>
                  <a:srgbClr val="003366"/>
                </a:solidFill>
                <a:latin typeface="Lucida Handwriting"/>
              </a:rPr>
              <a:t> </a:t>
            </a:r>
            <a:r>
              <a:rPr b="1" lang="hr-HR" sz="4400" spc="-1" strike="noStrike">
                <a:solidFill>
                  <a:srgbClr val="003366"/>
                </a:solidFill>
                <a:latin typeface="Lucida Handwriting"/>
              </a:rPr>
              <a:t>jezgre</a:t>
            </a:r>
            <a:r>
              <a:rPr b="1" lang="en-US" sz="4400" spc="-1" strike="noStrike">
                <a:solidFill>
                  <a:srgbClr val="003366"/>
                </a:solidFill>
                <a:latin typeface="Lucida Handwriting"/>
              </a:rPr>
              <a:t>       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1880" y="3809880"/>
            <a:ext cx="3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ff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3346560" cy="2011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flipV="1">
            <a:off x="2133720" y="1295280"/>
            <a:ext cx="18288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5961" t="0" r="0" b="19516"/>
          <a:stretch/>
        </p:blipFill>
        <p:spPr>
          <a:xfrm>
            <a:off x="7658280" y="-19080"/>
            <a:ext cx="1523880" cy="190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111960" y="1020600"/>
            <a:ext cx="4161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 </a:t>
            </a:r>
            <a:r>
              <a:rPr b="1" lang="hr-HR" sz="2400" spc="-1" strike="noStrike">
                <a:solidFill>
                  <a:srgbClr val="003366"/>
                </a:solidFill>
                <a:latin typeface="Lucida Handwriting"/>
              </a:rPr>
              <a:t>Kemija</a:t>
            </a:r>
            <a:r>
              <a:rPr b="1" lang="en-US" sz="2400" spc="-1" strike="noStrike">
                <a:solidFill>
                  <a:srgbClr val="003366"/>
                </a:solidFill>
                <a:latin typeface="Lucida Handwriting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Promjene elektronskog obla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ele</a:t>
            </a: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k</a:t>
            </a: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tromagnet</a:t>
            </a: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ske</a:t>
            </a: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 </a:t>
            </a: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s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T</a:t>
            </a: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ipične energije</a:t>
            </a: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 intera</a:t>
            </a:r>
            <a:r>
              <a:rPr b="1" lang="hr-HR" sz="2000" spc="-1" strike="noStrike">
                <a:solidFill>
                  <a:srgbClr val="003366"/>
                </a:solidFill>
                <a:latin typeface="Lucida Handwriting"/>
              </a:rPr>
              <a:t>kcija</a:t>
            </a: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Handwriting"/>
              </a:rPr>
              <a:t>40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933440" y="2133720"/>
            <a:ext cx="1908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4398840"/>
            <a:ext cx="5264280" cy="245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Lucida Handwriting"/>
              </a:rPr>
              <a:t>Kemijska priroda atoma 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defin</a:t>
            </a:r>
            <a:r>
              <a:rPr b="1" lang="hr-HR" sz="2400" spc="-1" strike="noStrike">
                <a:solidFill>
                  <a:srgbClr val="000000"/>
                </a:solidFill>
                <a:latin typeface="Lucida Handwriting"/>
              </a:rPr>
              <a:t>irana je brojem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 proton</a:t>
            </a:r>
            <a:r>
              <a:rPr b="1" lang="hr-HR" sz="2400" spc="-1" strike="noStrike">
                <a:solidFill>
                  <a:srgbClr val="000000"/>
                </a:solidFill>
                <a:latin typeface="Lucida Handwriting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 (atom</a:t>
            </a:r>
            <a:r>
              <a:rPr b="1" lang="hr-HR" sz="2400" spc="-1" strike="noStrike">
                <a:solidFill>
                  <a:srgbClr val="000000"/>
                </a:solidFill>
                <a:latin typeface="Lucida Handwriting"/>
              </a:rPr>
              <a:t>skim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Lucida Handwriting"/>
              </a:rPr>
              <a:t>brojem</a:t>
            </a:r>
            <a:r>
              <a:rPr b="1" lang="en-US" sz="2400" spc="-1" strike="noStrike">
                <a:solidFill>
                  <a:srgbClr val="000000"/>
                </a:solidFill>
                <a:latin typeface="Lucida Handwrit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199280" y="4751280"/>
            <a:ext cx="1944720" cy="210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257800" y="4745160"/>
            <a:ext cx="2021040" cy="2112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276880"/>
            <a:ext cx="910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4AD-9AFD-465D-A60D-3CBEA171E24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Jezgra je definirana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om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ski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broje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Z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ro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eni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broje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hr-HR" sz="3200" spc="-1" strike="noStrike">
                <a:solidFill>
                  <a:srgbClr val="3333cc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ro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ro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80F-F198-4566-B64A-893EEEE8BF73}" type="slidenum">
              <a:t>15</a:t>
            </a:fld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bol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različitih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jezgar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4871880" cy="186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emijski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53360" y="40273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up svih atoma s istim atomskim brojem (Z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DB5-6297-40FA-B993-A894DBCF544D}" type="slidenum">
              <a:t>16</a:t>
            </a:fld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Period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ni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sustav e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lemen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asifi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ciran je prema a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m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skom broju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746760" cy="44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883-CFE6-4C47-BB4D-D4BC0795B124}" type="slidenum">
              <a:t>17</a:t>
            </a:fld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otop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ezgre istog bro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Z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li različitog bro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utro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ličit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, 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op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od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373-9851-4897-BB11-8C871621851B}" type="slidenum">
              <a:t>18</a:t>
            </a:fld>
          </a:p>
        </p:txBody>
      </p:sp>
    </p:spTree>
  </p:cSld>
  <p:transition>
    <p:pull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tom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ska jedinica m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52200" y="3505320"/>
            <a:ext cx="2978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1/12 x m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1.66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2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937.48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bog vrlo malene mase atoma znanstvenici su dogovorno uveli osnovnu masu tzv. UNIFICIRANU ATOMSKU JEDINICU MASE –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7FE-0262-4890-A99B-435959675DA9}" type="slidenum">
              <a:t>19</a:t>
            </a:fld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onverzija mjernih jedinic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631880"/>
            <a:ext cx="1676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k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0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00200"/>
            <a:ext cx="1295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 m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981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0.00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276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ja je mas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Arial Narrow"/>
              </a:rPr>
              <a:t>250 mL etanol</a:t>
            </a:r>
            <a:r>
              <a:rPr b="0" lang="hr-HR" sz="2400" spc="-1" strike="noStrike">
                <a:solidFill>
                  <a:srgbClr val="00cc99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čija je gustoć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0.789 g / m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962520"/>
            <a:ext cx="1295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0.789 g </a:t>
            </a:r>
            <a:br>
              <a:rPr sz="2400"/>
            </a:b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cc9900"/>
                </a:solidFill>
                <a:latin typeface="Arial Narrow"/>
              </a:rPr>
              <a:t>1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____ g ethan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 Narrow"/>
              </a:rPr>
              <a:t>250 mL etanol</a:t>
            </a:r>
            <a:r>
              <a:rPr b="0" lang="hr-HR" sz="2400" spc="-1" strike="noStrike">
                <a:solidFill>
                  <a:srgbClr val="00cc99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95280"/>
            <a:ext cx="586764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9A1-D297-4963-85C2-FCA612D0AD5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Relativna a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om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ska m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a (Ar)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8120" y="2209680"/>
            <a:ext cx="225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r (E) = m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r-HR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) /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219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Broj koji kaže koliko puta je prosječna masa atoma nekog elementa veća od unificirane atomske jedinice m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89548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Relativna molekulska m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a (Mr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0384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Broj koji kaže koliko puta je masa molekule nekog spoja veća od unificirane atomske jedinice m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že se izračunati i zbrajanjem relativnih atomskih masa atoma u moleku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3640" y="5562720"/>
            <a:ext cx="215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r (y) = m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y) /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767-45F1-4983-9095-5D9D816961F6}" type="slidenum">
              <a:t>20</a:t>
            </a:fld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88920"/>
            <a:ext cx="4745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Količina tvari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(mol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828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tom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0.012%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irodno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)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ma 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500 mg KC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157720"/>
            <a:ext cx="5795640" cy="1066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gadro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je predložio koncept uvođenj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vogadrov broj 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6.022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5 g K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2565360"/>
            <a:ext cx="22096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00012 mol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565360"/>
            <a:ext cx="190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39.1+35.5)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2565360"/>
            <a:ext cx="2808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.022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om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4.8e17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07C-C252-4777-9E13-E58C6F5945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19360" y="380520"/>
            <a:ext cx="4724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OL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“n”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08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Izraz mol sličan je izrazu 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“</a:t>
            </a: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tucet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08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Kako tucet označava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 “12”;</a:t>
            </a: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 tako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 mol</a:t>
            </a: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 odgovara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 6.022 x 10</a:t>
            </a:r>
            <a:r>
              <a:rPr b="1" lang="en-US" sz="3200" spc="-1" strike="noStrike" baseline="30000">
                <a:solidFill>
                  <a:srgbClr val="321900"/>
                </a:solidFill>
                <a:latin typeface="Times New Roman"/>
              </a:rPr>
              <a:t>23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.  </a:t>
            </a: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Vrlo velika količina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08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21900"/>
                </a:solidFill>
                <a:latin typeface="Times New Roman"/>
              </a:rPr>
              <a:t>Jer su atomi i molekule vrlo sićušni</a:t>
            </a:r>
            <a:r>
              <a:rPr b="1" lang="en-US" sz="3200" spc="-1" strike="noStrike">
                <a:solidFill>
                  <a:srgbClr val="321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0909"/>
              </a:buClr>
              <a:buFont typeface="Symbol Set SWA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Mol je zapravo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 Avogadro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v broj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, N</a:t>
            </a:r>
            <a:r>
              <a:rPr b="1" lang="en-US" sz="3200" spc="-1" strike="noStrike" baseline="-25000">
                <a:solidFill>
                  <a:srgbClr val="dc0808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f0909"/>
              </a:buClr>
              <a:buFont typeface="Symbol Set SWA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1 mol = N</a:t>
            </a:r>
            <a:r>
              <a:rPr b="1" lang="en-US" sz="3200" spc="-1" strike="noStrike" baseline="-25000">
                <a:solidFill>
                  <a:srgbClr val="dc0808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= n = 6.022 x 10</a:t>
            </a:r>
            <a:r>
              <a:rPr b="1" lang="en-US" sz="3200" spc="-1" strike="noStrike" baseline="30000">
                <a:solidFill>
                  <a:srgbClr val="dc0808"/>
                </a:solidFill>
                <a:latin typeface="Times New Roman"/>
              </a:rPr>
              <a:t>23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če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f0909"/>
              </a:buClr>
              <a:buFont typeface="Symbol Set SWA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Čestice mogu biti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 atom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, mole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ule, ion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, electron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dc0808"/>
                </a:solidFill>
                <a:latin typeface="Times New Roman"/>
              </a:rPr>
              <a:t>(čak i jabuke ili prozori)</a:t>
            </a:r>
            <a:r>
              <a:rPr b="1" lang="en-US" sz="3200" spc="-1" strike="noStrike">
                <a:solidFill>
                  <a:srgbClr val="dc080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53A-9669-4185-8D4D-814E17FD4A5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L &amp; ATOM</a:t>
            </a: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SK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MAS</a:t>
            </a: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008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tomska mas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(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težin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) 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izražava se u odnosu na 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m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008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tomska masa poznata je i kao 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20e62"/>
                </a:solidFill>
                <a:latin typeface="Times New Roman"/>
              </a:rPr>
              <a:t>MOLAR</a:t>
            </a:r>
            <a:r>
              <a:rPr b="1" lang="hr-HR" sz="2800" spc="-1" strike="noStrike">
                <a:solidFill>
                  <a:srgbClr val="d20e62"/>
                </a:solidFill>
                <a:latin typeface="Times New Roman"/>
              </a:rPr>
              <a:t>NA</a:t>
            </a:r>
            <a:r>
              <a:rPr b="1" lang="en-US" sz="2800" spc="-1" strike="noStrike">
                <a:solidFill>
                  <a:srgbClr val="d20e62"/>
                </a:solidFill>
                <a:latin typeface="Times New Roman"/>
              </a:rPr>
              <a:t> MAS</a:t>
            </a:r>
            <a:r>
              <a:rPr b="1" lang="hr-HR" sz="2800" spc="-1" strike="noStrike">
                <a:solidFill>
                  <a:srgbClr val="d20e62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d20e62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008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tomska mas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= mas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element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3333cc"/>
                </a:solidFill>
                <a:latin typeface="Times New Roman"/>
              </a:rPr>
              <a:t>PODIJELJEN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1 mol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om tog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 element</a:t>
            </a:r>
            <a:r>
              <a:rPr b="1" lang="hr-HR" sz="2800" spc="-1" strike="noStrike">
                <a:solidFill>
                  <a:srgbClr val="1008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008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140000" y="761760"/>
            <a:ext cx="5003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k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a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nožin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li M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/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Jedin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o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k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a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e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ram p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lu il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/m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Na primjer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H = 1.008 a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= 1.008 g/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= 6.022 x 10</a:t>
            </a:r>
            <a:r>
              <a:rPr b="1" lang="en-US" sz="2800" spc="-1" strike="noStrike" baseline="30000">
                <a:solidFill>
                  <a:srgbClr val="190484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= 1 molar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n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mas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8BD-EEE6-49FF-A743-E086D8856E3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33cc"/>
                </a:solidFill>
                <a:latin typeface="Arial"/>
              </a:rPr>
              <a:t>RAČUNANJE 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MOL</a:t>
            </a:r>
            <a:r>
              <a:rPr b="1" lang="hr-HR" sz="39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spuni prazn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isikovo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o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sadrž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_ ato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 tež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 gra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isika sadrž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le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tež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_ gra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ol fluorovog atoma sadrž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___ ato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 tež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gra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l fluor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drž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____ mole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__ ato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tež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______ gra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6.022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256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15.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860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6.022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437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2(6.022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941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31.9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2(15.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2060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6.022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19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4292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6.022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5300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12.044 x 10</a:t>
            </a:r>
            <a:r>
              <a:rPr b="1" lang="en-US" sz="2400" spc="-1" strike="noStrike" baseline="30000">
                <a:solidFill>
                  <a:srgbClr val="d20e62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580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e62"/>
                </a:solidFill>
                <a:latin typeface="Times New Roman"/>
              </a:rPr>
              <a:t>3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B9B-ED72-41CC-95BF-ABAB444F8A50}" type="slidenum">
              <a:t>24</a:t>
            </a:fld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33cc"/>
                </a:solidFill>
                <a:latin typeface="Arial"/>
              </a:rPr>
              <a:t>RAČUNANJE 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MOL</a:t>
            </a:r>
            <a:r>
              <a:rPr b="1" lang="hr-HR" sz="39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8480" cy="533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Times New Roman"/>
              </a:rPr>
              <a:t>Pristup dimenzijske analiz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oliko mola Mg sadrž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5.0 gram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90484"/>
                </a:solidFill>
                <a:latin typeface="Times New Roman"/>
              </a:rPr>
              <a:t>Odgovor</a:t>
            </a:r>
            <a:r>
              <a:rPr b="1" lang="en-US" sz="3200" spc="-1" strike="noStrike">
                <a:solidFill>
                  <a:srgbClr val="190484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.0 </a:t>
            </a:r>
            <a:r>
              <a:rPr b="1" lang="en-US" sz="3200" spc="-1" strike="noStrike">
                <a:solidFill>
                  <a:srgbClr val="190484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1 mole/24.3</a:t>
            </a:r>
            <a:r>
              <a:rPr b="1" lang="en-US" sz="3200" spc="-1" strike="noStrike">
                <a:solidFill>
                  <a:srgbClr val="190484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617 mol</a:t>
            </a:r>
            <a:r>
              <a:rPr b="1" lang="hr-HR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8920" y="836640"/>
            <a:ext cx="3962520" cy="548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oliko ato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adrž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5.0 gra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Odgovor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0 g (1 mol/24.3g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17 mol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t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17 mol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6.022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om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1 mol)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72 x 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tom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310-1A8B-4B46-80BE-8DF3C49D7A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33cc"/>
                </a:solidFill>
                <a:latin typeface="Arial"/>
              </a:rPr>
              <a:t>MOLARNA MASA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657600" cy="5410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olar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mas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neke tvari jes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mas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u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gram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ima za jedan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mol</a:t>
            </a:r>
            <a:r>
              <a:rPr b="1" i="1" lang="hr-HR" sz="2200" spc="-1" strike="noStrike">
                <a:solidFill>
                  <a:srgbClr val="3333cc"/>
                </a:solidFill>
                <a:latin typeface="Times New Roman"/>
              </a:rPr>
              <a:t> te tvari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sadrž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-H atom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1-S atom &amp; 4-O atom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Svaki od tih atoma doprinosi ukupnoj masi spo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H + 1S + 4O =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</a:rPr>
              <a:t>ta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(1.008 g/mol) + 1(32.06 g/mol) + 4(15.99 g/mo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200" spc="-1" strike="noStrike">
                <a:solidFill>
                  <a:srgbClr val="ef0909"/>
                </a:solidFill>
                <a:latin typeface="Times New Roman"/>
              </a:rPr>
              <a:t>98.04 g/m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14440" y="990720"/>
            <a:ext cx="2133720" cy="4876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računaj molarnu masu za slijedeće spoje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r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990720"/>
            <a:ext cx="2514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cc"/>
                </a:solidFill>
                <a:latin typeface="Times New Roman"/>
              </a:rPr>
              <a:t>Odgovor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3K + P + 4O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2 g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Ca + 2O + 2H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4 g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2N + 8H + S + 3O =  116 g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Sr + 2Cl + 12H + 6O =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67 g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9F8-53B2-4830-9B76-1C12A6DAA37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371600"/>
            <a:ext cx="8305920" cy="4542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00800"/>
                </a:solidFill>
                <a:latin typeface="Times New Roman"/>
              </a:rPr>
              <a:t>Koja će masa natrija sadržavati jednaki broj atoma kao</a:t>
            </a:r>
            <a:r>
              <a:rPr b="1" lang="en-US" sz="3200" spc="-1" strike="noStrike">
                <a:solidFill>
                  <a:srgbClr val="100800"/>
                </a:solidFill>
                <a:latin typeface="Times New Roman"/>
              </a:rPr>
              <a:t> 100.0 g </a:t>
            </a:r>
            <a:r>
              <a:rPr b="1" lang="hr-HR" sz="3200" spc="-1" strike="noStrike">
                <a:solidFill>
                  <a:srgbClr val="100800"/>
                </a:solidFill>
                <a:latin typeface="Times New Roman"/>
              </a:rPr>
              <a:t>kalija</a:t>
            </a:r>
            <a:r>
              <a:rPr b="1" lang="en-US" sz="3200" spc="-1" strike="noStrike">
                <a:solidFill>
                  <a:srgbClr val="1008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100.0g K  (1 mol K / 39.1 g K) (6.022x10</a:t>
            </a:r>
            <a:r>
              <a:rPr b="1" lang="en-US" sz="2800" spc="-1" strike="noStrike" baseline="30000">
                <a:solidFill>
                  <a:srgbClr val="190484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K-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/1 mol K)    =  1.540 x 10</a:t>
            </a:r>
            <a:r>
              <a:rPr b="1" lang="en-US" sz="2800" spc="-1" strike="noStrike" baseline="30000">
                <a:solidFill>
                  <a:srgbClr val="190484"/>
                </a:solidFill>
                <a:latin typeface="Times New Roman"/>
              </a:rPr>
              <a:t> 24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K-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  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Budući treba biti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broj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K = 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broj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1.540x10</a:t>
            </a:r>
            <a:r>
              <a:rPr b="1" lang="en-US" sz="2800" spc="-1" strike="noStrike" baseline="30000">
                <a:solidFill>
                  <a:srgbClr val="190484"/>
                </a:solidFill>
                <a:latin typeface="Times New Roman"/>
              </a:rPr>
              <a:t>24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Na (1 mol/ 6.02 x10</a:t>
            </a:r>
            <a:r>
              <a:rPr b="1" lang="en-US" sz="2800" spc="-1" strike="noStrike" baseline="30000">
                <a:solidFill>
                  <a:srgbClr val="190484"/>
                </a:solidFill>
                <a:latin typeface="Times New Roman"/>
              </a:rPr>
              <a:t>23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  atom</a:t>
            </a:r>
            <a:r>
              <a:rPr b="1" lang="hr-HR" sz="2800" spc="-1" strike="noStrike">
                <a:solidFill>
                  <a:srgbClr val="190484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) (22.98 g/ 1 mol)</a:t>
            </a:r>
            <a:r>
              <a:rPr b="1" lang="en-US" sz="2800" spc="-1" strike="noStrike">
                <a:solidFill>
                  <a:srgbClr val="8844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190484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8844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0909"/>
                </a:solidFill>
                <a:latin typeface="Times New Roman"/>
              </a:rPr>
              <a:t>58.77 g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OL</a:t>
            </a: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NI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probl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EAF-E501-4AC0-8C24-F54629785D9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OL</a:t>
            </a: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NI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problem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19320"/>
            <a:ext cx="8305920" cy="5735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imes New Roman"/>
              </a:rPr>
              <a:t>Otopina sulfatne kiseline sadrži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65% 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</a:rPr>
              <a:t>masenog udjela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</a:rPr>
              <a:t>i ima gustoću od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1.56 g/mL.  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</a:rPr>
              <a:t>Koliko molova kiseline ima u 1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00 L 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</a:rPr>
              <a:t>takve otopine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00L (1000 mL/1L) = 1000 mL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to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= m       1000 mL (1.56 g/mL) =1560 g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to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l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topin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je sam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65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 % = (x / 1560 g) 100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a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= mas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014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4 g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mol / 98.04 g) = </a:t>
            </a:r>
            <a:r>
              <a:rPr b="1" lang="en-US" sz="3200" spc="-1" strike="noStrike">
                <a:solidFill>
                  <a:srgbClr val="ef0909"/>
                </a:solidFill>
                <a:latin typeface="Times New Roman"/>
              </a:rPr>
              <a:t>10.3 mol</a:t>
            </a:r>
            <a:r>
              <a:rPr b="1" lang="hr-HR" sz="3200" spc="-1" strike="noStrike">
                <a:solidFill>
                  <a:srgbClr val="ef090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ED3-BA04-4B02-B0AF-97E3CB8D30F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00"/>
                </a:solidFill>
                <a:latin typeface="Arial"/>
              </a:rPr>
              <a:t>ZADACI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1.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a je molarna masa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Fe(NO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.6H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2.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o molova ima u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750.0 g Fe(NO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f010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o grama Fe ima u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0.097 mol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ova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Fe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(CO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4. 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o atoma sadrži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25.0 g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dušika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(N</a:t>
            </a:r>
            <a:r>
              <a:rPr b="1" lang="en-US" sz="28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5. 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o grama kalij-nitrita će sadržavati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6.78 x 10</a:t>
            </a:r>
            <a:r>
              <a:rPr b="1" lang="en-US" sz="2800" spc="-1" strike="noStrike" baseline="30000">
                <a:solidFill>
                  <a:srgbClr val="0f0105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alijevih 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atom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6. 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Ako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25.0 g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alcij-klorida reagira s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 25.0 g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natrij-karbonata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, </a:t>
            </a:r>
            <a:r>
              <a:rPr b="1" lang="hr-HR" sz="2800" spc="-1" strike="noStrike">
                <a:solidFill>
                  <a:srgbClr val="0f0105"/>
                </a:solidFill>
                <a:latin typeface="Arial"/>
              </a:rPr>
              <a:t>koliko molova od svake tvari će zapravo sudjelovati u toj reakciji</a:t>
            </a:r>
            <a:r>
              <a:rPr b="1" lang="en-US" sz="28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990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1.9 g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868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3657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07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N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7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6248520"/>
            <a:ext cx="63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0.225 mol  &amp;  N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0.236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CFF-F354-4209-8BCD-D2678A037127}" type="slidenum">
              <a:t>29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onverzija mjernih jedinic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etvor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50 mil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 sat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et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1 mile = 1.609 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981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 mil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013120"/>
            <a:ext cx="1295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609 k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013120"/>
            <a:ext cx="1295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 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2013120"/>
            <a:ext cx="12956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h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013120"/>
            <a:ext cx="12952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95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22 m 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200400"/>
            <a:ext cx="2133720" cy="1191240"/>
          </a:xfrm>
          <a:prstGeom prst="rect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h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60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00400"/>
            <a:ext cx="2057400" cy="119124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09 k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7CC-EC45-4075-936B-3A5AA94FACB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ANJ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1.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oja je molarna masa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Ba(NO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f0105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4H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O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a) 185.0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b) 261.0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c) 333.3 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d) 10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2.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oliko se molova nalazi u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54.78g Cu(NO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a)   0.2921mol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b)   3.424mol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c)   187.5mol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d)   0.3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3.   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oji od slijedećih spojeva sadrži najveći broj molekula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a)   125.0 g </a:t>
            </a:r>
            <a:r>
              <a:rPr b="1" lang="en-US" sz="1600" spc="-1" strike="noStrike">
                <a:solidFill>
                  <a:srgbClr val="0f0105"/>
                </a:solidFill>
                <a:latin typeface="Times New Roman"/>
              </a:rPr>
              <a:t>HCl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b)   15.0 g C</a:t>
            </a:r>
            <a:r>
              <a:rPr b="1" lang="en-US" sz="1600" spc="-1" strike="noStrike" baseline="-25000">
                <a:solidFill>
                  <a:srgbClr val="0f0105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f0105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f0105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c)   170.0 g of </a:t>
            </a:r>
            <a:r>
              <a:rPr b="1" lang="en-US" sz="1600" spc="-1" strike="noStrike">
                <a:solidFill>
                  <a:srgbClr val="0f0105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f0105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4.   </a:t>
            </a:r>
            <a:r>
              <a:rPr b="1" lang="hr-HR" sz="1800" spc="-1" strike="noStrike">
                <a:solidFill>
                  <a:srgbClr val="0f0105"/>
                </a:solidFill>
                <a:latin typeface="Arial"/>
              </a:rPr>
              <a:t>Koliko grama srebra ima u</a:t>
            </a:r>
            <a:r>
              <a:rPr b="1" lang="en-US" sz="1800" spc="-1" strike="noStrike">
                <a:solidFill>
                  <a:srgbClr val="0f0105"/>
                </a:solidFill>
                <a:latin typeface="Arial"/>
              </a:rPr>
              <a:t> 0.754 mol</a:t>
            </a:r>
            <a:r>
              <a:rPr b="1" lang="hr-HR" sz="1800" spc="-1" strike="noStrike">
                <a:solidFill>
                  <a:srgbClr val="0f0105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f0105"/>
                </a:solidFill>
                <a:latin typeface="Arial"/>
              </a:rPr>
              <a:t> AgNO</a:t>
            </a:r>
            <a:r>
              <a:rPr b="1" lang="en-US" sz="1800" spc="-1" strike="noStrike" baseline="-25000">
                <a:solidFill>
                  <a:srgbClr val="0f0105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a)   0.488 g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b)   81.3 g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c)   128g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d)   170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5.    7.0 g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dušika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(N</a:t>
            </a:r>
            <a:r>
              <a:rPr b="1" lang="en-US" sz="2000" spc="-1" strike="noStrike" baseline="-25000">
                <a:solidFill>
                  <a:srgbClr val="0f0105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)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sadrži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a)   7.0 atom</a:t>
            </a:r>
            <a:r>
              <a:rPr b="1" lang="hr-HR" sz="1600" spc="-1" strike="noStrike">
                <a:solidFill>
                  <a:srgbClr val="0f0105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N    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c)   3.0 x 10</a:t>
            </a:r>
            <a:r>
              <a:rPr b="1" lang="en-US" sz="1600" spc="-1" strike="noStrike" baseline="30000">
                <a:solidFill>
                  <a:srgbClr val="0f0105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ato</a:t>
            </a:r>
            <a:r>
              <a:rPr b="1" lang="hr-HR" sz="1600" spc="-1" strike="noStrike">
                <a:solidFill>
                  <a:srgbClr val="0f0105"/>
                </a:solidFill>
                <a:latin typeface="Arial"/>
              </a:rPr>
              <a:t>ma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b)   0.25 mol</a:t>
            </a:r>
            <a:r>
              <a:rPr b="1" lang="hr-HR" sz="1600" spc="-1" strike="noStrike">
                <a:solidFill>
                  <a:srgbClr val="0f0105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N    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d)   7.0 atom</a:t>
            </a:r>
            <a:r>
              <a:rPr b="1" lang="hr-HR" sz="1600" spc="-1" strike="noStrike">
                <a:solidFill>
                  <a:srgbClr val="0f0105"/>
                </a:solidFill>
                <a:latin typeface="Arial"/>
              </a:rPr>
              <a:t>skih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mas</a:t>
            </a:r>
            <a:r>
              <a:rPr b="1" lang="hr-HR" sz="1600" spc="-1" strike="noStrike">
                <a:solidFill>
                  <a:srgbClr val="0f0105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f0105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6.  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oliko atoma ima u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56.9 g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alij-nitrita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______7. 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Ako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 16.054 g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kalcij-klorida reagira s 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25.004 g </a:t>
            </a:r>
            <a:r>
              <a:rPr b="1" lang="hr-HR" sz="2000" spc="-1" strike="noStrike">
                <a:solidFill>
                  <a:srgbClr val="0f0105"/>
                </a:solidFill>
                <a:latin typeface="Arial"/>
              </a:rPr>
              <a:t>natrij-karbonata, koliko je molova od svakog spoja sudjelovalo u reakciji</a:t>
            </a:r>
            <a:r>
              <a:rPr b="1" lang="en-US" sz="2000" spc="-1" strike="noStrike">
                <a:solidFill>
                  <a:srgbClr val="0f0105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42E-7CA7-4794-9818-BB75B8B15FB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emijska f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ormul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76520"/>
            <a:ext cx="693396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le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ar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mula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ir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jsk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mula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tur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ormula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-O-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-O-O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u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2666880" cy="180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362320" y="3962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2D6-EB17-42F8-9186-CE8D8832A4F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emijska f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ormul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6765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- služi za označavanje određene vrste tv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Mole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ul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ska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 formul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ikazuje stvarni odnos broja atoma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elemenata u molekuli (vrstu i broj atoma koji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grade molekulu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Empir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ijska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 formul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ikazuje najmanji odnos broja atoma nekog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elementa u molekuli ili formulskoj jedinki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emijskog sp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Stru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kturna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 formul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ikazuje kako su ti atomi međusobno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ovezani u molek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D33-8CFC-4C0E-8434-11F6BAB5183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39320" y="261720"/>
            <a:ext cx="73472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Kemijska formul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447920"/>
            <a:ext cx="777240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Ek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iment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za određivanje kemijskog sastav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formul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(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paljivanje 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=&gt; x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y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kon spaljivan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z mas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dređuje s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v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astav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Za određiva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koriste se neke druge metod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876920"/>
            <a:ext cx="7924680" cy="1257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.00 g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ekog spoja koji sadrži samo C i H je potpuno spaljen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nastalo 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3.14 g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29 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.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ja je empirijska formula tog spo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23E-A2F2-4A85-B647-549E97116F9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Kemijske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&amp; </a:t>
            </a: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fizikalne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reakcij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295280"/>
            <a:ext cx="73911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 Narrow"/>
              </a:rPr>
              <a:t>Kemijska reakcij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3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2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Ravnotež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(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tomi ne mogu biti uništeni ili stvoreni ni iz čeg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895480"/>
            <a:ext cx="5791320" cy="1342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 Al + __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__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__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__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__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__ Ca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__ 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+ __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191120"/>
            <a:ext cx="769608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 Narrow"/>
              </a:rPr>
              <a:t>Fizikalna reakci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(s =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čvrsto sta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l =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ekuće sta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g =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linovito sta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(s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(l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za fazne prijelaze 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(s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(g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događaju se promjene energije sustav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1295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9900"/>
                </a:solidFill>
                <a:latin typeface="Arial Narrow"/>
              </a:rPr>
              <a:t>Stehiometrijski koeficijenti</a:t>
            </a:r>
            <a:r>
              <a:rPr b="0" lang="en-US" sz="2000" spc="-1" strike="noStrike">
                <a:solidFill>
                  <a:srgbClr val="cc99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495320" y="1523880"/>
            <a:ext cx="12193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657240" y="1523880"/>
            <a:ext cx="21337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666520" y="1523880"/>
            <a:ext cx="312444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676520" y="1523880"/>
            <a:ext cx="31240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17F-339D-49A8-82E5-46079E5F37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0000"/>
                </a:solidFill>
                <a:latin typeface="Arial"/>
              </a:rPr>
              <a:t>Stehiometrij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hr-HR" sz="2400" spc="-1" strike="noStrike">
                <a:solidFill>
                  <a:srgbClr val="000000"/>
                </a:solidFill>
                <a:latin typeface="Arial Narrow"/>
              </a:rPr>
              <a:t>ehiometri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značava kvantitativni odnos između reaktanata 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ata uravnoteženih kemijskom jednadžb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vantitet se može izraziti 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čini (množini) tvar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mas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ežini il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olume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819520"/>
            <a:ext cx="8305920" cy="2454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staje raspa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23.0 g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2 KCl (s) +  3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245.2 g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149.2 g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96 g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123.0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y</a:t>
            </a:r>
            <a:br>
              <a:rPr sz="2400"/>
            </a:br>
            <a:r>
              <a:rPr b="0" lang="hr-HR" sz="2400" spc="-1" strike="noStrike">
                <a:solidFill>
                  <a:srgbClr val="808080"/>
                </a:solidFill>
                <a:latin typeface="Arial Narrow"/>
              </a:rPr>
              <a:t>iskoristi 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propor</a:t>
            </a:r>
            <a:r>
              <a:rPr b="0" lang="hr-HR" sz="2400" spc="-1" strike="noStrike">
                <a:solidFill>
                  <a:srgbClr val="808080"/>
                </a:solidFill>
                <a:latin typeface="Arial Narrow"/>
              </a:rPr>
              <a:t>cionalni odnos da dobiješ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x = 74.8 g KCl; y = 48.2 g O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058-62F5-46E9-88A5-2E4B0E9BAB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66"/>
                </a:solidFill>
                <a:latin typeface="Arial Rounded MT Bold"/>
              </a:rPr>
              <a:t>Informacije dobivene iz kemijske jednadž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143000"/>
            <a:ext cx="8153280" cy="648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(l)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+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(g)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(g)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+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05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U ovoj reakciji sudjeluje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mole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kule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benzen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mole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k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kisika te nastaje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mole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ul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ugljik-dioksida i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mole</a:t>
            </a:r>
            <a:r>
              <a:rPr b="1" lang="hr-HR" sz="2400" spc="-1" strike="noStrike">
                <a:solidFill>
                  <a:srgbClr val="800080"/>
                </a:solidFill>
                <a:latin typeface="Times New Roman"/>
              </a:rPr>
              <a:t>kula vode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3048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Ova jednadžba se također može čitati :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mol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benzen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reagira s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15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mola kisika te nastaje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mola ugljik-dioksida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mol</a:t>
            </a:r>
            <a:r>
              <a:rPr b="1" lang="hr-HR" sz="2400" spc="-1" strike="noStrike">
                <a:solidFill>
                  <a:srgbClr val="0000ff"/>
                </a:solidFill>
                <a:latin typeface="Arial Narrow"/>
              </a:rPr>
              <a:t>a vode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39337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66"/>
                </a:solidFill>
                <a:latin typeface="Arial"/>
              </a:rPr>
              <a:t>Budući da je odnos između stvarnog broja molekula i broja molova određen brojem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.02 x 10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ff0066"/>
                </a:solidFill>
                <a:latin typeface="Arial"/>
              </a:rPr>
              <a:t>uobičajeno je kada govorimo o specijama uključenim u kemijsku jednadžbu govoriti o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MOL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NOM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ODNOSU</a:t>
            </a:r>
            <a:r>
              <a:rPr b="1" lang="hr-HR" sz="2800" spc="-1" strike="noStrike">
                <a:solidFill>
                  <a:srgbClr val="ff0066"/>
                </a:solidFill>
                <a:latin typeface="Arial"/>
              </a:rPr>
              <a:t> tih specija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5F5-BE48-4F7A-A0BA-A1558BF03A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6720" y="106200"/>
            <a:ext cx="734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Stehiometrijsko računanj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114800"/>
            <a:ext cx="1828800" cy="51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23.0 g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219320"/>
            <a:ext cx="8305560" cy="2454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staje raspad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23.0 g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2 KCl (s) +  3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92280"/>
                <a:tab algn="l" pos="2338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245.2 g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149.2 g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96 g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123.0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y</a:t>
            </a:r>
            <a:br>
              <a:rPr sz="2400"/>
            </a:br>
            <a:r>
              <a:rPr b="0" lang="hr-HR" sz="2400" spc="-1" strike="noStrike">
                <a:solidFill>
                  <a:srgbClr val="808080"/>
                </a:solidFill>
                <a:latin typeface="Arial Narrow"/>
              </a:rPr>
              <a:t>iz proporcinalnog odnosa slijedi</a:t>
            </a: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 x = 74.8 g KCl; y = 48.2 g O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962520"/>
            <a:ext cx="2057400" cy="9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96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45.2 g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4386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990960"/>
            <a:ext cx="2057400" cy="926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l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2.0 g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3962520"/>
            <a:ext cx="1600200" cy="926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2.4 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40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1752480"/>
            <a:ext cx="1828800" cy="51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23.0 g K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B5E-83C6-413B-86A2-739CACE6500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Maseni udio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zražava se u postotcima -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219320"/>
            <a:ext cx="86104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Maseni udio (w) neke tvari u smjesi ili otopini jednak je omjeru mase te tvari prema ukupnoj masi svih tvari u smjesi ili otop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3733920"/>
            <a:ext cx="5334120" cy="222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w =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 Narrow"/>
              </a:rPr>
              <a:t>tvari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/ 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 Narrow"/>
              </a:rPr>
              <a:t>ukup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w(x,z) = broj atoma (x) * Ar(x) / Mr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4B4-1E04-4910-B768-3D2BD23238A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Višak tvari i limitirajući reage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14300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Reaktant koji se u nekoj kemijskoj reakciji potpuno potroši naziva s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limit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irajući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reagen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ili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rea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a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Reaktanti koji ostaju nakon neke reakcije nepotrošeni nazivaju 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višak tvari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590920"/>
            <a:ext cx="8382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e treba dodat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5.00 mL 0.1000 M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topin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da bi se istaložili svi kloridni ion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657600"/>
            <a:ext cx="12956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.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37000"/>
            <a:ext cx="21337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1000 mol Na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962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3521160"/>
            <a:ext cx="1600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Ag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3962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505320"/>
            <a:ext cx="2286000" cy="875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9.9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mol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724280"/>
            <a:ext cx="2438280" cy="510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0.4248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AC2-9BEB-4F30-930B-45DD6E5155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Za mjerenje 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mase</a:t>
            </a:r>
            <a:r>
              <a:rPr b="1" lang="hr-HR" sz="2800" spc="-1" strike="noStrike">
                <a:solidFill>
                  <a:srgbClr val="6600cc"/>
                </a:solidFill>
                <a:latin typeface="Arial"/>
              </a:rPr>
              <a:t> u laboratoriju se koristi vaganje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ri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ki sustav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hr-HR" sz="2800" spc="-1" strike="noStrike" u="sng">
                <a:solidFill>
                  <a:srgbClr val="0f0105"/>
                </a:solidFill>
                <a:uFillTx/>
                <a:latin typeface="Times New Roman"/>
              </a:rPr>
              <a:t>Anglosaksonski su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as</a:t>
            </a:r>
            <a:r>
              <a:rPr b="1" lang="hr-HR" sz="3200" spc="-1" strike="noStrike">
                <a:solidFill>
                  <a:srgbClr val="6600cc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m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6600cc"/>
                </a:solidFill>
                <a:latin typeface="Arial"/>
              </a:rPr>
              <a:t>f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                           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hr-HR" sz="3200" spc="-1" strike="noStrike">
                <a:solidFill>
                  <a:srgbClr val="cc0099"/>
                </a:solidFill>
                <a:latin typeface="Arial"/>
              </a:rPr>
              <a:t>Vrijeme </a:t>
            </a:r>
            <a:r>
              <a:rPr b="1" lang="hr-HR" sz="3200" spc="-1" strike="noStrike">
                <a:solidFill>
                  <a:srgbClr val="660066"/>
                </a:solidFill>
                <a:latin typeface="Arial"/>
              </a:rPr>
              <a:t>se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660066"/>
                </a:solidFill>
                <a:latin typeface="Arial"/>
              </a:rPr>
              <a:t>u laboratoriju mjeri satom ili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660066"/>
                </a:solidFill>
                <a:latin typeface="Arial"/>
              </a:rPr>
              <a:t> š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p</a:t>
            </a:r>
            <a:r>
              <a:rPr b="1" lang="hr-HR" sz="3200" spc="-1" strike="noStrike">
                <a:solidFill>
                  <a:srgbClr val="660066"/>
                </a:solidFill>
                <a:latin typeface="Arial"/>
              </a:rPr>
              <a:t>ericom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69F-4F76-41BC-A88F-D84D56DE34B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990720"/>
            <a:ext cx="8382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e treba dodat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5.00 mL 0.1000 M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topin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da bi se istaložili svi kloridni ion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Višak tvari i limitirajući reage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424240"/>
            <a:ext cx="8610480" cy="926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ko se uporabi manje o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0.4248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ji je limitirajući reagens u toj reakcij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Što ako se uporabi više o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0.4248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657600"/>
            <a:ext cx="647676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ko se uporab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0.3000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lik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g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stan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828800"/>
            <a:ext cx="2438280" cy="510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0.4248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572000"/>
            <a:ext cx="213372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3000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4419720"/>
            <a:ext cx="190476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43.4 g Ag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9.9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8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4633920"/>
            <a:ext cx="2133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0.2532 g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F94-7797-45D8-91C8-B432E6D7CC7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00"/>
                </a:solidFill>
                <a:latin typeface="Arial"/>
              </a:rPr>
              <a:t>Teoretsko i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cc0000"/>
                </a:solidFill>
                <a:latin typeface="Arial"/>
              </a:rPr>
              <a:t>stvarno iskorištenje</a:t>
            </a:r>
            <a:br>
              <a:rPr sz="3600"/>
            </a:br>
            <a:r>
              <a:rPr b="0" lang="hr-HR" sz="3600" spc="-1" strike="noStrike">
                <a:solidFill>
                  <a:srgbClr val="cc0000"/>
                </a:solidFill>
                <a:latin typeface="Arial"/>
              </a:rPr>
              <a:t>ISKORIŠTENJE REAKCIJ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98108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0.2532 g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81080"/>
            <a:ext cx="205740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3000 g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2193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z prethodnog primjera slijed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1981080"/>
            <a:ext cx="23619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+ 25.00 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0.1000 M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2514600"/>
            <a:ext cx="304776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vaj iznos predstavlj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eoretsko iskorište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međutim, u reakcijama u laboratoriju dobije se uglavnom manje - </a:t>
            </a:r>
            <a:r>
              <a:rPr b="0" lang="hr-HR" sz="2400" spc="-1" strike="noStrike">
                <a:solidFill>
                  <a:srgbClr val="ff0000"/>
                </a:solidFill>
                <a:latin typeface="Arial Narrow"/>
              </a:rPr>
              <a:t>stvarno iskorište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skorište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90760" y="491004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tvarno iskorištenj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* 100 %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eoretsko iskor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53341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800600"/>
            <a:ext cx="541008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37E-CEDE-4AE1-B82F-D8648487778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00"/>
                </a:solidFill>
                <a:latin typeface="Arial"/>
              </a:rPr>
              <a:t>Iskorištenje u smjesama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22400"/>
            <a:ext cx="8153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Ako 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.0 g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smjes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otopi u vod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te se doda dovoljna količin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Nakon reakcije suh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g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teži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0 g.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Koji je postotak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Cl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u smjes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2286000"/>
            <a:ext cx="8229600" cy="1066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on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prisutni su u otopin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dodajem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ion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+ 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411800"/>
            <a:ext cx="13716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0 g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4267080"/>
            <a:ext cx="16765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8.5 g Na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43.5 g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14560" y="46911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4286160"/>
            <a:ext cx="16765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% Na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0 g s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mj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4695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4495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20.4 %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5715000"/>
            <a:ext cx="8839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Je li iz ovog eksperimenta moguće dobiti više o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5.0 g AgCl</a:t>
            </a:r>
            <a:r>
              <a:rPr b="0" lang="hr-HR" sz="2400" spc="-1" strike="noStrike">
                <a:solidFill>
                  <a:srgbClr val="000000"/>
                </a:solidFill>
                <a:latin typeface="Arial Narrow"/>
              </a:rPr>
              <a:t>? Zaš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843-9B10-4437-88EC-0AA5A2C3CBC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360" y="1216080"/>
            <a:ext cx="84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čunaj masu prosječnog atoma srebra te je izrazi u m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130680" y="206064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r(Ag) =107.8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(Ag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003640" y="1916280"/>
                <a:ext cx="27370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</m:d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55480" y="3159000"/>
            <a:ext cx="57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(Ag) = Ar(Ag) * u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07.868 * 1.66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79.06 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= 1.79 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.79 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080" y="5229360"/>
            <a:ext cx="73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00"/>
                </a:solidFill>
                <a:latin typeface="Arial"/>
              </a:rPr>
              <a:t>Masa 1 atoma Ag jest 1.79 *10</a:t>
            </a:r>
            <a:r>
              <a:rPr b="0" lang="hr-HR" sz="3600" spc="-1" strike="noStrike" baseline="30000">
                <a:solidFill>
                  <a:srgbClr val="003300"/>
                </a:solidFill>
                <a:latin typeface="Arial"/>
              </a:rPr>
              <a:t>-22</a:t>
            </a:r>
            <a:r>
              <a:rPr b="0" lang="hr-HR" sz="3600" spc="-1" strike="noStrike">
                <a:solidFill>
                  <a:srgbClr val="003300"/>
                </a:solidFill>
                <a:latin typeface="Arial"/>
              </a:rPr>
              <a:t> g</a:t>
            </a:r>
            <a:r>
              <a:rPr b="0" lang="hr-HR" sz="18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A98-5958-4296-BEBA-7F6C5AB4135D}" type="slidenum">
              <a:t>43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520" y="1216080"/>
            <a:ext cx="89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Izračunaj relativnu molekulsku masu sumporne kisel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119520" y="2060640"/>
            <a:ext cx="303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r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6680" y="3159000"/>
            <a:ext cx="5793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r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* Ar(h) + Ar(S) + 4* Ar(O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*1.008 + 32.06 + 4*16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.016 + 32.06 + 6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98.07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9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" y="5300640"/>
            <a:ext cx="78984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Mr(H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) = 98.1 što znači da je masa molek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H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98.1 puta veća od unificirane atoms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jedinice m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50040" y="1844640"/>
            <a:ext cx="666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r dobijemo zbrajanjem pojedini 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lativne atomske mase očitamo iz P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C3D-33FD-4CE6-980B-BDAC3D2B5704}" type="slidenum">
              <a:t>44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47520" y="907920"/>
            <a:ext cx="882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 Plinoviti amonijak čini molekula 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Izračunajte ma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e molekule 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 miligramim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120960" y="2060640"/>
            <a:ext cx="265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4240" y="3159000"/>
            <a:ext cx="7832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r(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Ar(N) + 3*Ar(H) = 14.01 + 3*1.008 = 17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f(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7.03 * u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7.03 * 1.66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.829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.829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r 1kg =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 =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0800" y="5251320"/>
            <a:ext cx="735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Masa molekule NH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jest 2.829*10</a:t>
            </a:r>
            <a:r>
              <a:rPr b="0" lang="hr-HR" sz="3200" spc="-1" strike="noStrike" baseline="30000">
                <a:solidFill>
                  <a:srgbClr val="003300"/>
                </a:solidFill>
                <a:latin typeface="Arial"/>
              </a:rPr>
              <a:t>-20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m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00360" y="1916280"/>
                <a:ext cx="27352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51640" y="2133720"/>
                <a:ext cx="2950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∗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18B-1DF0-45A9-A008-1F7952017974}" type="slidenum">
              <a:t>45</a:t>
            </a:fld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59040" y="90792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. Koliko je mola cinka u 1 kg Z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194040" y="1557360"/>
            <a:ext cx="3923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r(Zn) = 65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Zn) = 65.3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7160" y="3645000"/>
            <a:ext cx="42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Zn) = 1000g / 65.3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5.295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960" y="525132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Uzorak cinka mase 1kg sadrži 15.295 mo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108320" y="1687680"/>
                <a:ext cx="20764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8D4-6918-46C6-AC19-2FAFC0DE2545}" type="slidenum">
              <a:t>46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57600" y="907920"/>
            <a:ext cx="79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. Neka kuglica od čistog željeza ima 0.5 mola 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iko atoma ima u toj kuglic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5160" y="206064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Fe) = 0.5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Fe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0480" y="3645000"/>
            <a:ext cx="52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Fe)  = 0.5 mola *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3.011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760" y="5251320"/>
            <a:ext cx="66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uglica sadrži 3.011*10</a:t>
            </a:r>
            <a:r>
              <a:rPr b="0" lang="hr-HR" sz="3200" spc="-1" strike="noStrike" baseline="30000">
                <a:solidFill>
                  <a:srgbClr val="003300"/>
                </a:solidFill>
                <a:latin typeface="Arial"/>
              </a:rPr>
              <a:t>23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atoma 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730760" y="2158920"/>
                <a:ext cx="1900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399-D437-475A-B5B0-791B4161384D}" type="slidenum">
              <a:t>47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57240" y="907920"/>
            <a:ext cx="88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. Izračunajte ukupan broj atoma u smjesi koja je nasta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ješanjem 0.4 mola Zn i 0.5 mola 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205200" y="1844640"/>
            <a:ext cx="334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Zn) = 0.4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S) = 0.5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00" y="4149720"/>
            <a:ext cx="61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0.4 mola + 0.5 mola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5.4 *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" y="530064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Smjesa Zn i S ima ukupno 5.4*10</a:t>
            </a:r>
            <a:r>
              <a:rPr b="0" lang="hr-HR" sz="2800" spc="-1" strike="noStrike" baseline="30000">
                <a:solidFill>
                  <a:srgbClr val="003300"/>
                </a:solidFill>
                <a:latin typeface="Arial"/>
              </a:rPr>
              <a:t>23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at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92920" y="1989000"/>
            <a:ext cx="68331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kupan broja atoma (N) jednak je zbro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ih atoma Zn i S u smje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N(Zn) + N(S) a kako je N =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n to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n(Zn) +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n(S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{n(Zn) + n(S)}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FBE-9F97-4D00-8F97-0E228EB7AD52}" type="slidenum">
              <a:t>48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50760" y="907920"/>
            <a:ext cx="751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7. Izračunajte ukupan broj iona u 6 mola Zn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196920" y="1844640"/>
            <a:ext cx="3472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Zn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6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ukup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0240" y="4149720"/>
            <a:ext cx="5512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ukup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3 *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6 mola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.08 *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4040" y="5300640"/>
            <a:ext cx="695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U šest mola ZnCl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nalazi se 1.08*10</a:t>
            </a:r>
            <a:r>
              <a:rPr b="0" lang="hr-HR" sz="2800" spc="-1" strike="noStrike" baseline="30000">
                <a:solidFill>
                  <a:srgbClr val="003300"/>
                </a:solidFill>
                <a:latin typeface="Arial"/>
              </a:rPr>
              <a:t>25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 i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66360" y="1628640"/>
            <a:ext cx="69868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a formulska jedinka cink-klorida sadrž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 iona (1 Zn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2 C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ukup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3*N(Zn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Zn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n(Zn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1A5-73BB-4F63-8DDA-5F6432663C05}" type="slidenum">
              <a:t>49</a:t>
            </a:fld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660033"/>
                </a:solidFill>
                <a:latin typeface="Arial"/>
              </a:rPr>
              <a:t>MJERENJE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tri</a:t>
            </a:r>
            <a:r>
              <a:rPr b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čki sustav               Anglosaksonski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mjerenje 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</a:rPr>
              <a:t>duljin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koristi se kao mjerni instrument met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lj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       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</a:rPr>
              <a:t>Površi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je definirana ka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lj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ir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(mjerni instrument: met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vršina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vadratni met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kvadratna stop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hr-HR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ft</a:t>
            </a:r>
            <a:r>
              <a:rPr b="1" lang="en-US" sz="2400" spc="-1" strike="noStrike" baseline="30000">
                <a:solidFill>
                  <a:srgbClr val="9900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olume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 definiran ka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ulj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šir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isina (mjerni instrument: metar ili graduriani cilind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 ili kubični decimet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lon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gal      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CFA-4170-49B3-B65A-FA08162FE44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75480" y="907920"/>
            <a:ext cx="852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. Koliko mola atoma dušika sadrži 1.2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ek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idrazina (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916280"/>
            <a:ext cx="3132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.2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N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58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1.27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molekula hidrazina sadrži 4.22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-2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mola atoma duši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06680" y="1844640"/>
            <a:ext cx="69883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mol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2 mola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mol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eku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x mo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1.2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eku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n pa je n(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N(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/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3933720"/>
            <a:ext cx="7724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11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1.2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eku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11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 N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x mola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N) = 2 mola * 2.11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 / 1mol = 4.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D8D-F754-417E-A5C9-2A5BE78009E4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2840" y="620640"/>
            <a:ext cx="8565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. Izračunaj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Množinu atoma Na i C u kristalu sode (Na</a:t>
            </a:r>
            <a:r>
              <a:rPr b="0" lang="hr-HR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*10H</a:t>
            </a:r>
            <a:r>
              <a:rPr b="0" lang="hr-HR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mase 2.9 gr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) Brojnost molekula vode u istom uzorku kristala so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447480" y="2205000"/>
            <a:ext cx="4123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 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.9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 (Na) = ?     N(C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520" y="3789360"/>
            <a:ext cx="826020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r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*23 + 12.01 + 13*16.00 + 20*1.008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46 + 12.01 + 208 + 20.16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286,17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M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86.17 g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.9 g / 286.17 g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0.0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Na) = 2* n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*0.01mol = 0.02 m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) = n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0.01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3080" y="580536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kristalu sode mase 2.9 g ima 0.02 mola Na i 0.01 mol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44720" y="2205000"/>
            <a:ext cx="676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r(soda) = 2Ar(Na) + Ar(C) + 13Ar(O) + 20Ar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soda) = m(soda) / M(so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a formulska jedinka sode sadrži 2 atoma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1 atom C, pa u 1 molu kristalne sode ima 2 m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i 1 mol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C83-4E2D-49AC-8E99-6980991A89ED}" type="slidenum">
              <a:t>51</a:t>
            </a:fld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91056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2840" y="620640"/>
            <a:ext cx="8565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. Izračunaj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nožinu atoma Na i C u kristalu sode 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se 2.9 gra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Brojnost molekula vode u istom uzorku kristala so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447480" y="2205000"/>
            <a:ext cx="4123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 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2.9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 (Na) = ?     N(C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cc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3333cc"/>
                </a:solidFill>
                <a:latin typeface="Arial"/>
              </a:rPr>
              <a:t>O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200" y="3789360"/>
            <a:ext cx="657648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: 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0* n(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*10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10*0.01mol = 0.1 m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= n(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) * N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0.1 mol * 6.022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6.022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9640" y="5805360"/>
            <a:ext cx="80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kristalu sode mase 2.9 g ima 6.022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molekula v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43280" y="2205000"/>
            <a:ext cx="67309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r(soda) = 2Ar(Na) + Ar(C) + 13Ar(O) + 20Ar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soda) = m(soda) / M(so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a formulska jedinka sode sadrži 10 molek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de, pa u 1 molu kristalne sode ima 10 m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834-2B9C-4F97-AA7D-11F8A6A3D2C7}" type="slidenum">
              <a:t>52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59040" y="90792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0. Koliko atoma zlata ima u 1 mg uzorka čistog zl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400" y="2060640"/>
            <a:ext cx="42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Au) = 1 mg =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Au) = 196.966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Au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5240" y="3645000"/>
            <a:ext cx="588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Au)  = 0.001 g / 196.966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5.07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Au) = 5.07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 *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3.05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7120" y="5251320"/>
            <a:ext cx="80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U 1 mg čistog Au ima 3.057*10</a:t>
            </a:r>
            <a:r>
              <a:rPr b="0" lang="hr-HR" sz="3200" spc="-1" strike="noStrike" baseline="30000">
                <a:solidFill>
                  <a:srgbClr val="003300"/>
                </a:solidFill>
                <a:latin typeface="Arial"/>
              </a:rPr>
              <a:t>18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atoma 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692600" y="2158920"/>
                <a:ext cx="19764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B41-0B1C-405E-910C-A64F940A6615}" type="slidenum">
              <a:t>53</a:t>
            </a:fld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42480" y="907920"/>
            <a:ext cx="737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1. Odredi maseni udio Na u molekuli 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453600" y="1628640"/>
            <a:ext cx="5025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amo zadanu formulu sp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koje slije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w(Na/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5320" y="4581360"/>
            <a:ext cx="68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w(Na/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*23 / 142 = 0.324*100 = 32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200" y="5229360"/>
            <a:ext cx="89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Maseni udio Na u molekuli Na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iznosi 32.4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80040" y="1557360"/>
                <a:ext cx="4863960" cy="26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</m:d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0FA-FA31-4FF3-9C8F-5CC9B6B5F40A}" type="slidenum">
              <a:t>54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454320" y="1052640"/>
            <a:ext cx="97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2. Uzorak nekog spoja sadrži 0.0887 mola atoma K, 2.65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toma C i 0.132 mola atoma O. Odredi empirijsku formulu spoj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452880" y="1989000"/>
            <a:ext cx="37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K) = 0.0887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O) = 0.132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(C) = 2.65*10</a:t>
            </a:r>
            <a:r>
              <a:rPr b="0" lang="hr-H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mpirijska formu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9000" y="3716280"/>
            <a:ext cx="885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) = 2.65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/ 6.022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0.44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la = 0.044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K) : n(C) : n(O) = 0.0887 : 0.044 : 0.13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0887/0.044 : 0.044/0.044 : 0.132/0.04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.015 : 1 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200" y="5877000"/>
            <a:ext cx="563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Empirijska formula jest K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924360" y="1916280"/>
                <a:ext cx="1671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79B-24ED-4D5C-B198-D33AF65B4271}" type="slidenum">
              <a:t>55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-427680" y="1052640"/>
            <a:ext cx="9878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3. Izračunajte broj molova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 1 L 96%-tne otopine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ija je gustoća 1.84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431640" y="1916280"/>
            <a:ext cx="57733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 l = 1 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1000 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.84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(H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9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6440" y="5013360"/>
            <a:ext cx="767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(1.84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0.96) /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8.01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120" y="5877000"/>
            <a:ext cx="741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Broj molova zadane H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iznosi 18.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427640" y="2349360"/>
                <a:ext cx="4179960" cy="29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</m:e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t xml:space="preserve">∗</m:t>
                            </m:r>
                            <m:r>
                              <m:t xml:space="preserve">ρ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310-0C1B-41A4-A9C1-70DCF404F317}" type="slidenum">
              <a:t>56</a:t>
            </a:fld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437040" y="1052640"/>
            <a:ext cx="9929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4. Koliko mola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drži 1 L akumulatorske sulfatne kis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a je 28 %-tna i ima gustoću od 1.202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430200" y="1916280"/>
            <a:ext cx="510264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 d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1000 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.202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(H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800" y="5013360"/>
            <a:ext cx="784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(1.202 g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0.28) /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336.56 g /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3.43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960" y="5877000"/>
            <a:ext cx="831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1dm</a:t>
            </a:r>
            <a:r>
              <a:rPr b="0" lang="hr-HR" sz="3200" spc="-1" strike="noStrike" baseline="30000">
                <a:solidFill>
                  <a:srgbClr val="003300"/>
                </a:solidFill>
                <a:latin typeface="Arial"/>
              </a:rPr>
              <a:t>3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akumulatorske H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SO</a:t>
            </a:r>
            <a:r>
              <a:rPr b="0" lang="hr-HR" sz="32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 sadrži 3.43 mo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427640" y="2349360"/>
                <a:ext cx="4179960" cy="29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</m:e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∗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otopine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t xml:space="preserve">∗</m:t>
                            </m:r>
                            <m:r>
                              <m:t xml:space="preserve">ρ</m:t>
                            </m:r>
                            <m:r>
                              <m:t xml:space="preserve">∗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894-CE16-407A-AF5C-5C29B3D9859A}" type="slidenum">
              <a:t>57</a:t>
            </a:fld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451440" y="1052640"/>
            <a:ext cx="95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5. Enzim peroksidaza izoliran iz eritrocita ima 0.29 % sel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a je najmanja moguća molekularna masa tog enzima a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tpostavimo da 1 mol enzima sadrži 1 mol sele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0240" y="2276640"/>
            <a:ext cx="31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(Se) = 0.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enzima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880" y="3429000"/>
            <a:ext cx="798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Se) = n(enzi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Se) / M(Se) = m(enzima) / M(enzi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enzima) = m(enzima) * M(Se) / m(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w(Se) = 0.29% onda u 100 g enzima ima 0.29 g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 je M(enzima) = 100g * 78.96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/ 0.29 g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.7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240" y="5925960"/>
            <a:ext cx="90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Molekularna masa zadanog enzima iznosi 27000 gmol</a:t>
            </a:r>
            <a:r>
              <a:rPr b="0" lang="hr-HR" sz="2800" spc="-1" strike="noStrike" baseline="30000">
                <a:solidFill>
                  <a:srgbClr val="003300"/>
                </a:solidFill>
                <a:latin typeface="Arial"/>
              </a:rPr>
              <a:t>-1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932360" y="2276640"/>
                <a:ext cx="31161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topine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58D-3DE8-4A08-9B15-026046B513DC}" type="slidenum">
              <a:t>58</a:t>
            </a:fld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451080" y="1052640"/>
            <a:ext cx="927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6. Odredi empirijsku formulu manganova oksida u kojem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seni udio mangana 0.696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61560" y="2060640"/>
            <a:ext cx="42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(Mn) = 0.696 = 69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mpirijska fomula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4160" y="3429000"/>
            <a:ext cx="76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w(O) = 100% - w(Mn) = (100 – 69.6)% = 30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Mn) : n(O)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m(Mn) / M(Mn) : m(O) / M(O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69.6 / 54.94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: 30.4 / 16.0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.267 mola : 1.900 mola =     /: 1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 : 1.499 = 1 : 1.5 =               /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2 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7400" y="5950080"/>
            <a:ext cx="622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Empirijska formula tog spoja je Mn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0" lang="hr-HR" sz="28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643280" y="1989000"/>
                <a:ext cx="30909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522-76F2-487C-B036-B1FF857AD564}" type="slidenum">
              <a:t>59</a:t>
            </a:fld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cc0099"/>
                </a:solidFill>
                <a:latin typeface="Arial"/>
              </a:rPr>
              <a:t>MJERENJE TEMPERATUR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emperatu</a:t>
            </a:r>
            <a:r>
              <a:rPr b="1" lang="hr-HR" sz="3200" spc="-1" strike="noStrike">
                <a:solidFill>
                  <a:srgbClr val="660066"/>
                </a:solidFill>
                <a:latin typeface="Times New Roman"/>
              </a:rPr>
              <a:t>ra je svojstvo tvari koje određuje protok topline (mjerni instrument: termometar).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ražava se pomoću tri različite ska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hrenheit      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= (1.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+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sius           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(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- 32)/1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lvin                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 =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+ 273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146-3249-4FA4-829B-EED4BEE2B5E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172080" y="907920"/>
            <a:ext cx="97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7. Koliko se (u tonama)  96 %-tne sulfatne kiseline može dob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pirita koji sadrži 40 % sump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80" y="1773360"/>
            <a:ext cx="3407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pirita) =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(S/pirit) = 4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8760" y="3213000"/>
            <a:ext cx="78202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S) = 0.4 * 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g = 40 00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 mol sulfatne kiseline ima 1 mol atoma sum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 je n(S) : 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* m(S) / M(S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98.0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* 4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 / 3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1.226*10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 = 122 600 kg 100 %-tne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96%-tne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22 600 kg * 100/96 = 127708.3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800" y="6093000"/>
            <a:ext cx="87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Iz 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5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kg pirita dobije se 127.71 tonu 96 %-tne sulfatne kis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788000" y="1773360"/>
                <a:ext cx="30906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kupno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7DC-C549-4326-A698-9B1E414D5257}" type="slidenum">
              <a:t>60</a:t>
            </a:fld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99"/>
                </a:solidFill>
                <a:latin typeface="Arial"/>
              </a:rPr>
              <a:t>KEMIJSKE JEDNADŽBE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U kemijskoj se rakciji atomi ne mogu niti uništiti niti stvoriti – broj i vrsta atoma na lijevoj i desnoj strani kemijske jednadžbe moraju biti jednaki</a:t>
            </a:r>
            <a:r>
              <a:rPr b="0" lang="hr-HR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99"/>
                </a:solidFill>
                <a:latin typeface="Times New Roman"/>
              </a:rPr>
              <a:t>URAVNOTEŽENJE KEMIJSKE JEDNAD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Kad su jednom definirani produkti i reaktanti neke reakcije – međusobni relativni odnosi atoma u kemijskim formulama ne smiju se mjenjati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Kemijska jednadžba se uravnotežuje mijenjanjem brojeva ispred kemijske formule, a ne mijenjanjem kemijskih formula zapisanih u kemijskoj jednadžbi</a:t>
            </a:r>
            <a:r>
              <a:rPr b="0" lang="hr-H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2FB-9916-43AF-8E02-71B8375A80A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Arial"/>
              </a:rPr>
              <a:t>KEMIJSKA JEDNADŽB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hr-HR" sz="3600" spc="-1" strike="noStrike">
                <a:solidFill>
                  <a:srgbClr val="000066"/>
                </a:solidFill>
                <a:latin typeface="Times New Roman"/>
              </a:rPr>
              <a:t>- prikazuje kemijsku reakciju koja dogodila pod utjecajem slijedećih promjena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Nastanak precipitata (nastaje krut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Nastanak vode (razvija se topl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Nastanak plina (nastaju mjehurići)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Ostale promjene koje se mogu dogodit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Monotype Sort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Transport elektrona (područje elektrokemi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Monotype Sort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Transport topline (područje termokemi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A42-F67B-4249-A219-468DCB3D065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Arial"/>
              </a:rPr>
              <a:t>KEMIJSKA JEDNADŽB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- prikazuje JEDINIČNU kemijsku promjenu pri kojoj se troše reaktanti i stvaraju produkti odnosno kemijsku reakciju u kojoj atomi elemenata u nekoj tvari mijenjaju svoj raspored i stvaraju nove tvari; atomi koji su postojali na početku reakcije, postoje i po njenom završetku – ne mijenja se ukupna masa nego samo raspored atoma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2160" y="4508640"/>
            <a:ext cx="87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LAVOISIERO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zakon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ZAKON O OČUVANJU MASE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ukupna masa reaktanata jednaka je ukupno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masi produ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6C3-7D2E-41FE-BC0B-B854BA5E68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cc0000"/>
                </a:solidFill>
                <a:latin typeface="Arial"/>
              </a:rPr>
              <a:t>Tri osnovna tipa </a:t>
            </a:r>
            <a:r>
              <a:rPr b="0" lang="hr-HR" sz="3200" spc="-1" strike="noStrike">
                <a:solidFill>
                  <a:srgbClr val="990099"/>
                </a:solidFill>
                <a:latin typeface="Arial"/>
              </a:rPr>
              <a:t>kemijskih jednadžbi: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LE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LAR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NE - koje se koriste ako su sve tvari koje sudjeluju u kemijskoj reakciji molekularne iako neke od njih mogu imati ionski karak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Cl (aq) + NaOH (aq)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NaCl (aq) + H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42100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ON</a:t>
            </a: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SKE – koje opisuju reakcije u kojima sudjeluju ioni i pišu se u ionskom ob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+ Na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+ O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Na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+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+ Cl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(l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Taložn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kiselo-bazne i 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dox rea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kcije se sve mogu izraziti kao ionske jednadžb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443700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SKRAĆENE IONSKE – u kojima su uklonjeni SPECTATOR ioni (ioni promatrači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+ 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+  OH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 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CTATOR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ioni ne sudjeluju u reakciji u nastajanju novih spojeva (najčešći takvi ioni su oni iz grupe I PSE, te iz grupe II PSE 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N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nitrat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acetat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 ion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A14-5572-48B1-A76B-CBB6EB67CB0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+ BaCl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a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s) + NaCl(aq)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Napiši ionsku i skraćenu ionsku jednadžbu iz slijedećih molekularnih jednadžbi (ne zaboravi oznaku </a:t>
            </a: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(aq)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za ione koji su otopljeni u vodi):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2205000"/>
            <a:ext cx="7240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on</a:t>
            </a:r>
            <a:r>
              <a:rPr b="0" lang="hr-HR" sz="2400" spc="-1" strike="noStrike">
                <a:solidFill>
                  <a:srgbClr val="ff0066"/>
                </a:solidFill>
                <a:latin typeface="Arial"/>
              </a:rPr>
              <a:t>ska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+ 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+ Ba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+ Cl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Ba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(s) + Na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+ Cl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66"/>
                </a:solidFill>
                <a:latin typeface="Arial"/>
              </a:rPr>
              <a:t>Skraćena ionska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(aq) + Ba</a:t>
            </a:r>
            <a:r>
              <a:rPr b="0" lang="en-US" sz="2400" spc="-1" strike="noStrike" baseline="30000">
                <a:solidFill>
                  <a:srgbClr val="990099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Ba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789360"/>
            <a:ext cx="9144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(s) + H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l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+  H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50864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on</a:t>
            </a:r>
            <a:r>
              <a:rPr b="0" lang="hr-HR" sz="2400" spc="-1" strike="noStrike">
                <a:solidFill>
                  <a:srgbClr val="ff0066"/>
                </a:solidFill>
                <a:latin typeface="Times New Roman"/>
              </a:rPr>
              <a:t>ska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(s) + H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+ 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Al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3+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+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- +  H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66"/>
                </a:solidFill>
                <a:latin typeface="Times New Roman"/>
              </a:rPr>
              <a:t>Skraćena ionska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(s) + H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Al</a:t>
            </a:r>
            <a:r>
              <a:rPr b="0" lang="en-US" sz="2400" spc="-1" strike="noStrike" baseline="30000">
                <a:solidFill>
                  <a:srgbClr val="990099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(aq) +  H</a:t>
            </a:r>
            <a:r>
              <a:rPr b="0" lang="en-US" sz="24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CA1-8B2D-43BD-99A6-8A3AFB1E232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Napiši ionsku i skraćenu ionsku jednadžbu iz slijedećih molekularnih jednadžbi (ne zaboravi oznaku </a:t>
            </a: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(aq)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za ione koji su otopljeni u vodi):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(l) + 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HN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492280"/>
            <a:ext cx="91440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(g) + H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O(l) + O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(g) </a:t>
            </a:r>
            <a:r>
              <a:rPr b="0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H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(aq) + NO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66"/>
                </a:solidFill>
                <a:latin typeface="Times New Roman"/>
              </a:rPr>
              <a:t>Za ovu reakciju su ionska i skraćena ionska j. identičn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64500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Cl(aq) + Fe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eCl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 + H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92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+ Cl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+ Fe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3+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+ SO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Fe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3+ 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Cl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+ H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+ SO</a:t>
            </a:r>
            <a:r>
              <a:rPr b="0" lang="en-US" sz="2800" spc="-1" strike="noStrike" baseline="-25000">
                <a:solidFill>
                  <a:srgbClr val="990099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66"/>
                </a:solidFill>
                <a:latin typeface="Times New Roman"/>
              </a:rPr>
              <a:t>Nema reakcije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 </a:t>
            </a:r>
            <a:r>
              <a:rPr b="0" lang="hr-HR" sz="2800" spc="-1" strike="noStrike">
                <a:solidFill>
                  <a:srgbClr val="ff0066"/>
                </a:solidFill>
                <a:latin typeface="Times New Roman"/>
              </a:rPr>
              <a:t>Svi sudionici su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spectator ion</a:t>
            </a:r>
            <a:r>
              <a:rPr b="0" lang="hr-HR" sz="28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BFD-F6EF-414F-B1EF-0851420EB3D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Jednostavna pravila za</a:t>
            </a:r>
            <a:br>
              <a:rPr sz="2800"/>
            </a:br>
            <a:r>
              <a:rPr b="0" lang="hr-HR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990099"/>
                </a:solidFill>
                <a:latin typeface="Arial"/>
              </a:rPr>
              <a:t>URAVNOTEŽENJE KEMIJSKE JEDNADŽBE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Mg + O</a:t>
            </a:r>
            <a:r>
              <a:rPr b="0" lang="en-US" sz="3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MgO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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sastaviti listu sudionika reakcije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etal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n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tal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“H” &amp; “O”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na kraju; specie koje se nalaze u više spojeva ostaviti za kraj po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 -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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početi s atomom na vrhu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;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jeda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g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na stranu reaktanata, a drugi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g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na stranu produkata -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atom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je uravnotežen; slijedeći je kisik; zadnji korak – napisati 2 ispred M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+ O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2 M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Sada lista izgleda ovako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 -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Pa se treba udvostručiti broj Mg na strani reaktanat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 Mg + O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2 M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I jednadžba je uravnoteže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g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 -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O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C48-36AA-4D51-B0AC-F557C3F045B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240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cc"/>
                </a:solidFill>
                <a:latin typeface="Arial"/>
              </a:rPr>
              <a:t>ZADACI ZA VJEŽBU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Uravnoteži slijedeće jednadž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__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__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 __NaCl(aq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__Al(s) + __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 __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__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+ __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+ __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__Al(s) + __HCl(aq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Al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__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__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+ __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+ __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0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025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94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8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016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61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0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94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1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21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308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4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05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878-5311-4B04-940F-40DCCE2198B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Times New Roman"/>
              </a:rPr>
              <a:t>Uravnoteži slijedeće jednadžbe, te im odredi ionske i skraćene ionske j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__Na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aq) + __HN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__H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aq) + __NaN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aq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990099"/>
                </a:solidFill>
                <a:latin typeface="Times New Roman"/>
              </a:rPr>
              <a:t>Pazi: karbonatna kiselina se rapada na ugljik-dioksid i vodu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__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Br(aq) + __I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g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__ KI(aq) +  __B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__AlCl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aq) + __K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__AlP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s) + __KCl(a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31160" y="119556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2                                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360" y="299736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2                     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688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916280"/>
            <a:ext cx="89154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Ion</a:t>
            </a: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N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 (l) +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g) + 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N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raćena ion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 (l) +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g)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573360"/>
            <a:ext cx="891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Ion</a:t>
            </a: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 B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raćena ion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 B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51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Ion</a:t>
            </a: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P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AlP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s) +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Times New Roman"/>
              </a:rPr>
              <a:t>Skraćena ionska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A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P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AlP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19B-7594-4324-B12D-BB9BA86B890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men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zijsk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l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iza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imenzijska anali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li jedinična anali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st matematička metoda za rješavanje problema mjerenj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koncept jest uporabiti mjernu jedinicu povezanu s vrstom mjerenja pri određivanju slijedećeg koraka potrebnog za rješavanje probl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 tome je dobro upitati se slijedeć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Trebam li baš tu mjernu jedinic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ko ne, tada se riješi te jedinice dijeljenjem iznosa ako je jedinica brojn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ko je jedinica nazivn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ada pomnoži izn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Što zapravo želi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tavi jedinicu od interesa na suprotno mjesto u zagrada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9999"/>
                </a:solidFill>
                <a:uFillTx/>
                <a:latin typeface="Arial"/>
              </a:rPr>
              <a:t>Broj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99"/>
                </a:solidFill>
                <a:latin typeface="Arial"/>
              </a:rPr>
              <a:t>Nazi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5ED-38D2-4C00-9FE2-4342DA99F86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rebuchet MS"/>
              </a:rPr>
              <a:t>Stehiometrij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11970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St</a:t>
            </a:r>
            <a:r>
              <a:rPr b="1" lang="hr-HR" sz="2400" spc="-1" strike="noStrike">
                <a:solidFill>
                  <a:srgbClr val="000066"/>
                </a:solidFill>
                <a:latin typeface="Arial Narrow"/>
              </a:rPr>
              <a:t>ehiometrija (grč. </a:t>
            </a:r>
            <a:r>
              <a:rPr b="1" i="1" lang="hr-HR" sz="2400" spc="-1" strike="noStrike">
                <a:solidFill>
                  <a:srgbClr val="990099"/>
                </a:solidFill>
                <a:latin typeface="Papyrus"/>
              </a:rPr>
              <a:t>stoicheion</a:t>
            </a:r>
            <a:r>
              <a:rPr b="1" lang="hr-HR" sz="2400" spc="-1" strike="noStrike">
                <a:solidFill>
                  <a:srgbClr val="990099"/>
                </a:solidFill>
                <a:latin typeface="Arial Narrow"/>
              </a:rPr>
              <a:t> – element</a:t>
            </a:r>
            <a:r>
              <a:rPr b="1" lang="hr-HR" sz="2400" spc="-1" strike="noStrike">
                <a:solidFill>
                  <a:srgbClr val="000066"/>
                </a:solidFill>
                <a:latin typeface="Arial Narrow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: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označava kvantitativni odnos između reaktanata i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rodu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kata uravnoteženih kemijskom jednadžbom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.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Kvantitet se može izraziti u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količini (množini) tvari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, mas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,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težini ili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volume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nu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86160" y="3141720"/>
            <a:ext cx="42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0099"/>
                </a:solidFill>
                <a:latin typeface="Arial"/>
              </a:rPr>
              <a:t>Stehiometrijska strategi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79280" y="3935520"/>
          <a:ext cx="8712360" cy="22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935520"/>
                    <a:ext cx="871236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F0D-7D2A-44B7-9C10-24D806025EB9}" type="slidenum">
              <a:t>70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3399"/>
                </a:solidFill>
                <a:latin typeface="Arial"/>
              </a:rPr>
              <a:t>KISELINE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89840" cy="475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Kiseline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Kiselog ok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rhenius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ov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iseli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vaka tvar koja, otopljena u vodi, povećava koncentraciju hidronijevih (ili oksonijevih) ion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a</a:t>
            </a:r>
            <a:r>
              <a:rPr b="1" lang="hr-HR" sz="2400" spc="-1" strike="noStrike">
                <a:solidFill>
                  <a:srgbClr val="3399ff"/>
                </a:solidFill>
                <a:latin typeface="Arial"/>
              </a:rPr>
              <a:t>ze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Gorkog i oporog ok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Arrhenius</a:t>
            </a:r>
            <a:r>
              <a:rPr b="1" lang="hr-HR" sz="2400" spc="-1" strike="noStrike">
                <a:solidFill>
                  <a:srgbClr val="3399ff"/>
                </a:solidFill>
                <a:latin typeface="Arial"/>
              </a:rPr>
              <a:t>ova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ba</a:t>
            </a:r>
            <a:r>
              <a:rPr b="1" lang="hr-HR" sz="2400" spc="-1" strike="noStrike">
                <a:solidFill>
                  <a:srgbClr val="3399ff"/>
                </a:solidFill>
                <a:latin typeface="Arial"/>
              </a:rPr>
              <a:t>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vaka tvar koj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otopljena u vod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povećava koncentraciju hidroksidnih ion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556000" y="3645000"/>
          <a:ext cx="39607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645000"/>
                    <a:ext cx="39607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2771640" y="5877000"/>
          <a:ext cx="388800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5877000"/>
                    <a:ext cx="3888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F86-151A-45F9-B4F1-F4C407DBB42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3399"/>
                </a:solidFill>
                <a:latin typeface="Arial"/>
              </a:rPr>
              <a:t>KISELINE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2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onsted-Lowry</a:t>
            </a: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eve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kisel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ton dono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Bronsted-Lowry</a:t>
            </a:r>
            <a:r>
              <a:rPr b="1" lang="hr-HR" sz="2800" spc="-1" strike="noStrike">
                <a:solidFill>
                  <a:srgbClr val="3399ff"/>
                </a:solidFill>
                <a:latin typeface="Arial"/>
              </a:rPr>
              <a:t>eva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a</a:t>
            </a:r>
            <a:r>
              <a:rPr b="1" lang="hr-HR" sz="2800" spc="-1" strike="noStrike">
                <a:solidFill>
                  <a:srgbClr val="3399ff"/>
                </a:solidFill>
                <a:latin typeface="Arial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proton 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ewis</a:t>
            </a: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ova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kisel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 el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n 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ewis</a:t>
            </a:r>
            <a:r>
              <a:rPr b="1" lang="hr-HR" sz="2800" spc="-1" strike="noStrike">
                <a:solidFill>
                  <a:srgbClr val="3399ff"/>
                </a:solidFill>
                <a:latin typeface="Arial"/>
              </a:rPr>
              <a:t>ova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3399ff"/>
                </a:solidFill>
                <a:latin typeface="Arial"/>
              </a:rPr>
              <a:t>ba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 el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n do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2700360" y="3141720"/>
          <a:ext cx="34574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141720"/>
                    <a:ext cx="3457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484360" y="5157720"/>
          <a:ext cx="38163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157720"/>
                    <a:ext cx="3816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980-3350-4B3B-B69B-FA1E8D52A5E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09080" cy="504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JAK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s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L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potpuno ionizira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parcijalno ioniz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jaki elektroliti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labi elektrol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ion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k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jako po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r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ve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_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valent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v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ake kiselin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66ccff"/>
                </a:solidFill>
                <a:latin typeface="Arial"/>
              </a:rPr>
              <a:t>Jake baze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Li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K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B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Ca(OH)</a:t>
            </a:r>
            <a:r>
              <a:rPr b="1" lang="en-US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Sr(OH)</a:t>
            </a:r>
            <a:r>
              <a:rPr b="1" lang="en-US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Ba(OH)</a:t>
            </a:r>
            <a:r>
              <a:rPr b="1" lang="en-US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KISELINE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839-9376-4CD4-9F3D-F1B6AFCAFD3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4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KISELINE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981000"/>
            <a:ext cx="89154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99"/>
                </a:solidFill>
                <a:latin typeface="Arial"/>
              </a:rPr>
              <a:t>Odredi jesu li slijedeći parovi jake ili slabe kiseline/baz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 HC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B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  H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 KOH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9000" y="2362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ccff"/>
                </a:solidFill>
                <a:latin typeface="Arial"/>
              </a:rPr>
              <a:t>Slab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460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Jaka kis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840" y="35812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Slaba kis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3080" y="45813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Jaka kis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4120" y="35812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ccff"/>
                </a:solidFill>
                <a:latin typeface="Arial"/>
              </a:rPr>
              <a:t>Jak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6880" y="4581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ccff"/>
                </a:solidFill>
                <a:latin typeface="Arial"/>
              </a:rPr>
              <a:t>Jak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58053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ccff"/>
                </a:solidFill>
                <a:latin typeface="Arial"/>
              </a:rPr>
              <a:t>Slab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96360" y="58053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Slaba kise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ADB-4F06-42B6-90C4-8CBD45749A2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KISELINE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99"/>
                </a:solidFill>
                <a:latin typeface="Arial"/>
              </a:rPr>
              <a:t>Predvidite produkte za slijedeće jednadžb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  HCl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Ba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   H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 KOH 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56920" y="1341360"/>
            <a:ext cx="2669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lCl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+ 3 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92720" y="256536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a(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+ 2 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65200" y="3716280"/>
            <a:ext cx="286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+ 2 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43040" y="4941720"/>
            <a:ext cx="218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+ OH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3789360"/>
            <a:ext cx="4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84360" y="25653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41440" y="134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401-2FF0-4449-9D38-8F58CB5A5AA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2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3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9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3300"/>
                </a:solidFill>
                <a:latin typeface="Arial"/>
              </a:rPr>
              <a:t>KISELINE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hr-HR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3399ff"/>
                </a:solidFill>
                <a:latin typeface="Arial"/>
              </a:rPr>
              <a:t>BAZ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240" y="98100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Za slijedeće kiselo-bazne parove odredite konjugiranu bazu/konjugiranu kiselinu!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Kiselina kao reaktant stvara </a:t>
            </a:r>
            <a:r>
              <a:rPr b="1" lang="hr-HR" sz="2000" spc="-1" strike="noStrike" u="sng">
                <a:solidFill>
                  <a:srgbClr val="000066"/>
                </a:solidFill>
                <a:uFillTx/>
                <a:latin typeface="Arial"/>
              </a:rPr>
              <a:t>konjugiranu bazu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u kiselo-baznoj reakciji a baza kao reaktant stvara </a:t>
            </a:r>
            <a:r>
              <a:rPr b="1" lang="hr-HR" sz="2000" spc="-1" strike="noStrike" u="sng">
                <a:solidFill>
                  <a:srgbClr val="000066"/>
                </a:solidFill>
                <a:uFillTx/>
                <a:latin typeface="Arial"/>
              </a:rPr>
              <a:t>konjugiranu kiselinu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3 HC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B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 H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(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2 KOH  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96000" y="2708280"/>
            <a:ext cx="19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B        </a:t>
            </a: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   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64000" y="37893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B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40360" y="501336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B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    </a:t>
            </a: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03640" y="6021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K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</a:t>
            </a:r>
            <a:r>
              <a:rPr b="1" lang="hr-HR" sz="24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B3B-DE29-436B-8FAC-2BD865D3EB9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Arial"/>
              </a:rPr>
              <a:t>NEUTRALIZACIJ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Reakcija između kiseline i baze pri čemu se izdvaja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KISELINA + BAZA 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 SOL +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5640" y="3213000"/>
            <a:ext cx="83883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Disocijacija kiseli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HN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N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(disocijacijom 1 mola HNO</a:t>
            </a:r>
            <a:r>
              <a:rPr b="0" lang="hr-HR" sz="16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nastaje 1 mol H</a:t>
            </a:r>
            <a:r>
              <a:rPr b="0" lang="hr-HR" sz="16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io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2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2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(disocijacijom 1 mola H</a:t>
            </a:r>
            <a:r>
              <a:rPr b="0" lang="hr-HR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hr-HR" sz="16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nastaje 2 mola H</a:t>
            </a:r>
            <a:r>
              <a:rPr b="0" lang="hr-HR" sz="16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io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P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3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P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3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(disocijacijom 1 mola H</a:t>
            </a:r>
            <a:r>
              <a:rPr b="0" lang="hr-HR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hr-HR" sz="16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nastaje 3 mola H</a:t>
            </a:r>
            <a:r>
              <a:rPr b="0" lang="hr-HR" sz="16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io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9640" y="501336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Disocijacij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NaOH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N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O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      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(disocijacijom 1 mola NaOH nastaje 1 mol OH</a:t>
            </a:r>
            <a:r>
              <a:rPr b="0" lang="hr-HR" sz="16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1600" spc="-1" strike="noStrike">
                <a:solidFill>
                  <a:srgbClr val="000066"/>
                </a:solidFill>
                <a:latin typeface="Times New Roman"/>
              </a:rPr>
              <a:t> iona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9BD-5178-4490-B87A-F07799A71D2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Arial"/>
              </a:rPr>
              <a:t>NEUTRALIZACIJ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Reakcija između kiseline i baze pri čemu se izdvaja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KISELINA + BAZA 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hr-HR" sz="3200" spc="-1" strike="noStrike">
                <a:solidFill>
                  <a:srgbClr val="000066"/>
                </a:solidFill>
                <a:latin typeface="Times New Roman"/>
              </a:rPr>
              <a:t> SOL + 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5640" y="3213000"/>
            <a:ext cx="83883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Ako pomiješamo vodenu otopinu kiseline i baze nastaj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N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N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O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N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N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2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2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2N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2O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2N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2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2H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2*3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2P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3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3C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2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3*2OH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3Ca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2+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2P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 baseline="30000">
                <a:solidFill>
                  <a:srgbClr val="000066"/>
                </a:solidFill>
                <a:latin typeface="Times New Roman"/>
              </a:rPr>
              <a:t>3-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6H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5640" y="501336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Ako se pomiješaju otopine dviju soli dolazi do reakcije IZMJENE KATIONA i ANIONA, n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sol1 + sol2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sol3 + sol4  </a:t>
            </a:r>
            <a:r>
              <a:rPr b="0" lang="hr-HR" sz="2400" spc="-1" strike="noStrike">
                <a:solidFill>
                  <a:srgbClr val="cc3300"/>
                </a:solidFill>
                <a:latin typeface="Times New Roman"/>
              </a:rPr>
              <a:t>EKVIVALENCIJA 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Na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+ BaCl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66"/>
                </a:solidFill>
                <a:latin typeface="Times New Roman"/>
              </a:rPr>
              <a:t> 2NaCl + BaSO</a:t>
            </a:r>
            <a:r>
              <a:rPr b="0" lang="hr-HR" sz="2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4F8-11DB-4407-97CC-68A861241C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TITR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17733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metoda koja se koristi u volumetrijskoj analizi; dodatak otopine se pažljivo kontrolira tako da se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stehiometrijska količina može očitati s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b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ete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; t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itra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cija se može izvoditi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za trenutne i brze reakcije kakve su reakcije neutralizacije i oksid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3500280"/>
            <a:ext cx="381636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Objasnite slijedeće izraz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neutraliza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cija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titra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cija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,</a:t>
            </a:r>
            <a:br>
              <a:rPr sz="2400"/>
            </a:b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točka ekvivalencije,       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indi</a:t>
            </a:r>
            <a:r>
              <a:rPr b="0" lang="hr-HR" sz="2400" spc="-1" strike="noStrike">
                <a:solidFill>
                  <a:srgbClr val="cc0000"/>
                </a:solidFill>
                <a:latin typeface="Arial Narrow"/>
              </a:rPr>
              <a:t>k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126-D38C-4FB6-BB83-56DA9914C2F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zijsk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l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z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7631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tvo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5.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 (lit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5.0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čni s onim što je zadano te odmah nakon mjerenja zapiši sustav zag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5.0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 (</a:t>
            </a:r>
            <a:r>
              <a:rPr b="1" lang="en-US" sz="2000" spc="-1" strike="noStrike" baseline="30000">
                <a:solidFill>
                  <a:srgbClr val="9933ff"/>
                </a:solidFill>
                <a:latin typeface="Arial"/>
              </a:rPr>
              <a:t> ______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lijedeć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Želim l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?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ko je odgovor ne tada se riješ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ijeljenjem te jedin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 j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jenim postavljanjem u naziv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5.0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(</a:t>
            </a:r>
            <a:r>
              <a:rPr b="1" lang="en-US" sz="2000" spc="-1" strike="noStrike" u="sng">
                <a:solidFill>
                  <a:srgbClr val="9933ff"/>
                </a:solidFill>
                <a:uFillTx/>
                <a:latin typeface="Arial"/>
              </a:rPr>
              <a:t>_______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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pitaj 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Što zapravo želi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ovom slučaju želimo lit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)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a se jedin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L”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reba postaviti u brojni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zagrad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5.0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 </a:t>
            </a:r>
            <a:r>
              <a:rPr b="1" lang="en-US" sz="2000" spc="-1" strike="noStrike" u="sng">
                <a:solidFill>
                  <a:srgbClr val="9933ff"/>
                </a:solidFill>
                <a:uFillTx/>
                <a:latin typeface="Arial"/>
              </a:rPr>
              <a:t>(____ L__)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Na kraju poveži jedinice s korektnim brojevi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zračunaj i problem je riješ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5.0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</a:t>
            </a:r>
            <a:r>
              <a:rPr b="1" lang="en-US" sz="2000" spc="-1" strike="noStrike" u="sng">
                <a:solidFill>
                  <a:srgbClr val="9933ff"/>
                </a:solidFill>
                <a:uFillTx/>
                <a:latin typeface="Arial"/>
              </a:rPr>
              <a:t>(__1 L__)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=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5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1x10</a:t>
            </a:r>
            <a:r>
              <a:rPr b="1" lang="en-US" sz="2000" spc="-1" strike="noStrike" baseline="30000">
                <a:solidFill>
                  <a:srgbClr val="9933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39D-DEF0-491D-BF9D-5183AACDFFC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0099"/>
                </a:solidFill>
                <a:latin typeface="Times New Roman"/>
              </a:rPr>
              <a:t>TITR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1773360"/>
            <a:ext cx="86040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                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Titracija jake kiseline jakom baz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Točka završetka titracij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TOČKA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NEUTRALIZA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CIJ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TOČKA EKVIVAL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U točki ekvivalencije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broj molova kiseline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(H</a:t>
            </a:r>
            <a:r>
              <a:rPr b="1" lang="en-US" sz="2400" spc="-1" strike="noStrike" baseline="30000">
                <a:solidFill>
                  <a:srgbClr val="6600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) 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izjednačava se s brojem molova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ba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 (OH</a:t>
            </a:r>
            <a:r>
              <a:rPr b="1" lang="en-US" sz="2400" spc="-1" strike="noStrike" baseline="30000">
                <a:solidFill>
                  <a:srgbClr val="66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) 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a nastaje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neutral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na tvar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(H</a:t>
            </a:r>
            <a:r>
              <a:rPr b="1" lang="en-US" sz="2400" spc="-1" strike="noStrike" baseline="-25000">
                <a:solidFill>
                  <a:srgbClr val="66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O)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                              </a:t>
            </a: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n(kiselina)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=   n</a:t>
            </a: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(ba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Budući je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6600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=n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c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c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FBD-DD1B-4885-BFAE-9DA7A7B9F9A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91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99"/>
                </a:solidFill>
                <a:latin typeface="Arial"/>
              </a:rPr>
              <a:t>TITRACIJ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1.  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Ako je za 22.5 mL 0.52M otopine NaOH potrebn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75.00 mL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loridne kiseline, koja je molarna koncentracija te kiselin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HCl + NaOH </a:t>
            </a:r>
            <a:r>
              <a:rPr b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H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O +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V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 =  </a:t>
            </a: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V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 </a:t>
            </a: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može se preurediti u c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= </a:t>
            </a: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V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/ V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pa je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 </a:t>
            </a:r>
            <a:r>
              <a:rPr b="1" lang="hr-HR" sz="28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3399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= (0.52 M) (22.50 mL) / (75.00 m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= 0.16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zračunaj molarnu koncentraciju KOH ako j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7.12 mL of 0.843 M HNO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potrebno za neutralizaciju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0.50 mL of KOH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35480" y="6095880"/>
            <a:ext cx="24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= 0.773 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DDA-4ACF-4933-AB97-DC1D8409A21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1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0099"/>
                </a:solidFill>
                <a:latin typeface="Arial"/>
              </a:rPr>
              <a:t>TITRACIJA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Ako s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7.12 mL 0.543 M LiOH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troši za neutralizacij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40.50 mL 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oja je molarna koncentracija kiselin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2 LiOH + H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Li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+ 2 H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0.03712 L LiOH (0.543 mol/1 L) = 0.0202 mol Li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0.0202 mol LiOH (1 mol H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/ 2 mol LiOH)= 0.0101 mol H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= n/V = 0.010 mol H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/ 0.4050 L = 0.24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 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0.42 mL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topin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a(OH)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potrebno za titraciju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9.26 mL 0.430 M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topin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Cl,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oja je molarna koncentracija otopin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ari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j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d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10120" y="6093000"/>
            <a:ext cx="22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99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99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= 0.260 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DD0-8A7E-4A8C-A93A-EB5713E59AA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ELE</a:t>
            </a:r>
            <a:r>
              <a:rPr b="1" lang="hr-HR" sz="3600" spc="-1" strike="noStrike">
                <a:solidFill>
                  <a:srgbClr val="990099"/>
                </a:solidFill>
                <a:latin typeface="Arial"/>
              </a:rPr>
              <a:t>KTROLITI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125000"/>
            <a:ext cx="86104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Elektroliti su tvari koje, otopljene u vodi, provode električnu struju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Kiseline, baze i soli su elektrolit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Soli i jake kiseline i baze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tvore </a:t>
            </a:r>
            <a:r>
              <a:rPr b="1" lang="hr-HR" sz="2400" spc="-1" strike="noStrike" u="sng">
                <a:solidFill>
                  <a:srgbClr val="cc3300"/>
                </a:solidFill>
                <a:uFillTx/>
                <a:latin typeface="Arial"/>
              </a:rPr>
              <a:t>jake elektroli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Oni su u otopini potpuno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disocirani – svi mogući ioni dostupni su za provođenje elektricitet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Cl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+   Cl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66"/>
                </a:solidFill>
                <a:uFillTx/>
                <a:latin typeface="Arial"/>
              </a:rPr>
              <a:t>Slabe kiseline i slabe baze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tvore </a:t>
            </a:r>
            <a:r>
              <a:rPr b="1" lang="hr-HR" sz="2400" spc="-1" strike="noStrike" u="sng">
                <a:solidFill>
                  <a:srgbClr val="cc3300"/>
                </a:solidFill>
                <a:uFillTx/>
                <a:latin typeface="Arial"/>
              </a:rPr>
              <a:t>slabe elektroli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labi elektroliti su u otopini parcijalno disocirani –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nisu sve tvari u otopini u ionskom, već su neke prisutne u molekularnom stanju. Slabi elektroliti imaju manje iona dostupnih za provođenje elktricitet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+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N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+  O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6C7-0571-41CC-8D25-A2912F28317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2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2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2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pH</a:t>
            </a:r>
            <a:br>
              <a:rPr sz="4400"/>
            </a:br>
            <a:r>
              <a:rPr b="1" lang="hr-HR" sz="4400" spc="-1" strike="noStrike">
                <a:solidFill>
                  <a:srgbClr val="990099"/>
                </a:solidFill>
                <a:latin typeface="Arial"/>
              </a:rPr>
              <a:t>mjera hidronijevih ion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Skala za mjeru koncentracije hidronijevih ion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[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]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u otopini mora pokrivati veliki rasp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garit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amsk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al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pokriva faktore broj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10. 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znak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“p”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pH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kratica je z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log.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topina čiji j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pH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m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[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]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0.1 mol/L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li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topina čiji j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pH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m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[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]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0.001 mol/L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li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Otopina čiji j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pH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7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ma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[H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]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0.0000001 mol/L </a:t>
            </a:r>
            <a:r>
              <a:rPr b="1" lang="hr-HR" sz="2800" spc="-1" strike="noStrike">
                <a:solidFill>
                  <a:srgbClr val="000066"/>
                </a:solidFill>
                <a:latin typeface="Times New Roman"/>
              </a:rPr>
              <a:t>ili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H = - log [H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4AF-728F-4234-9C90-C02F5CDAB4C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2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H s</a:t>
            </a: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k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okriva raspon 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l/L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ili 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1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H = - log [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1   2   3   4   5   6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ccff33"/>
                </a:solidFill>
                <a:latin typeface="Times New Roman"/>
              </a:rPr>
              <a:t>7</a:t>
            </a:r>
            <a:r>
              <a:rPr b="1" i="1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8  9  10  11  12  13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99"/>
                </a:solidFill>
                <a:latin typeface="Times New Roman"/>
              </a:rPr>
              <a:t>kiselo</a:t>
            </a:r>
            <a:r>
              <a:rPr b="1" i="1" lang="en-US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ccff33"/>
                </a:solidFill>
                <a:latin typeface="Times New Roman"/>
              </a:rPr>
              <a:t> neutral</a:t>
            </a:r>
            <a:r>
              <a:rPr b="1" i="1" lang="hr-HR" sz="3200" spc="-1" strike="noStrike">
                <a:solidFill>
                  <a:srgbClr val="ccff33"/>
                </a:solidFill>
                <a:latin typeface="Times New Roman"/>
              </a:rPr>
              <a:t>no</a:t>
            </a:r>
            <a:r>
              <a:rPr b="1" i="1" lang="en-US" sz="32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a</a:t>
            </a:r>
            <a:r>
              <a:rPr b="1" i="1" lang="hr-HR" sz="3200" spc="-1" strike="noStrike">
                <a:solidFill>
                  <a:srgbClr val="000066"/>
                </a:solidFill>
                <a:latin typeface="Times New Roman"/>
              </a:rPr>
              <a:t>zič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958-D8BD-43D1-813E-891B9213B44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2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2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2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računanj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pH</a:t>
            </a:r>
            <a:r>
              <a:rPr b="1" lang="hr-HR" sz="4400" spc="-1" strike="noStrike">
                <a:solidFill>
                  <a:srgbClr val="ff0000"/>
                </a:solidFill>
                <a:latin typeface="Arial"/>
              </a:rPr>
              <a:t> vrijednosti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gebr</a:t>
            </a: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ička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nipula</a:t>
            </a: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cija jednadžb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 = - log [H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Rezultira jednadžbo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] = 10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Ako j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pH </a:t>
            </a: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mjera koncentracije hidronijevih iona tada se ova jednadžba može iskoristiti  i za određivanje koncentracije hidroksidnih iona (baze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[OH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] = 10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-pOH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H = - log [OH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Times New Roman"/>
              </a:rPr>
              <a:t>odnosn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H + pOH = 14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D4E-1B45-4B76-A78D-E9D890C2256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2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2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20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2" dur="2000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765000"/>
            <a:ext cx="842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akcijom kalcij-klorida i kalij-fosfata nastaje kalcij-fosfat i kalij-klorid. Napišite jednadžbu reakcije! Koliko kalcij-klorida i kalij-fosfata treba uzeti da se dobije 100 g kalcij-fofsfa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9280" y="2781360"/>
            <a:ext cx="7705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Ca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1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    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10.99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   M(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12.27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6120" y="6165720"/>
            <a:ext cx="84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trebno je uzeti 107.22 g kalcij-klorida i 136.7 g kalij-fosf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 K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10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4365720"/>
            <a:ext cx="7705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00g / 31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322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(Ca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3 : 2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3 * 0.322 * 110.99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107.22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K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 * 0.322 * 212.27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136.7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BFC-37F4-4E11-86F7-74C05253CFFF}" type="slidenum">
              <a:t>87</a:t>
            </a:fld>
          </a:p>
        </p:txBody>
      </p:sp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765000"/>
            <a:ext cx="842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. Kolika je masa kalcij-klorida potrebnog da u reakciji s AgNO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nastane 12.4 g srebro-klor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2781360"/>
            <a:ext cx="770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AgCl) = 12.4 g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AgCl) =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143.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    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10.9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8920" y="563400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Potrebno je uzeti 4.83 g kalcij-klo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Ag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Ca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 Ag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10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4076640"/>
            <a:ext cx="7705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AgCl) = 12.4 g / 143.3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087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AgCl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= 1 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/2 * 0.087 * 110.9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4.83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72C-A095-486D-91A3-B6888F36EDFA}" type="slidenum">
              <a:t>88</a:t>
            </a:fld>
          </a:p>
        </p:txBody>
      </p:sp>
    </p:spTree>
  </p:cSld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765000"/>
            <a:ext cx="842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 Produkti izgaranja saharoze su 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. Koja je masa saharoze koja može sagorjeti 5 mola čistog kisik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2781360"/>
            <a:ext cx="7705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5 mola           M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3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M(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34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0" y="5589720"/>
            <a:ext cx="91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Uz 5 mola čistog kisika može sagorjeti 142.5 g saharo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04000" y="1413000"/>
                <a:ext cx="16556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179280" y="1916280"/>
            <a:ext cx="633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12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12 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11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4076640"/>
            <a:ext cx="770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= 1 :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/12 * 5 mola * 34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142.5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7D7-1503-405F-A50F-6923748048AD}" type="slidenum">
              <a:t>89</a:t>
            </a:fld>
          </a:p>
        </p:txBody>
      </p:sp>
    </p:spTree>
  </p:cSld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Arial"/>
              </a:rPr>
              <a:t>KONVERZIJA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etvori slijedeć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8.0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pretvorb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m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raš znati odnos između met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)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lime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m).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1 m i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8.0 m (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000 m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)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8.0 x 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5.9 lb 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svakom 1 kg i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2 l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5.9 lb (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1 kg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)  =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30.0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.2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EAE-AAC8-470E-B8C0-DCDDDE37C1C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. Koliko grama fosfatne kiseline i kalcij-hidroksida treba uzeti za pripravu 100 g kalcij-fosf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2781360"/>
            <a:ext cx="7705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Ca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1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(OH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M(Ca(OH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74.09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   M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98.00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5760" y="587700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trebno je uzeti 71.57 g kalcij-hidroksida i 63.11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fosfatne kis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Ca(OH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 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2616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9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9280" y="4221000"/>
            <a:ext cx="7705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00g / 31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322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Ca(OH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(Ca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(P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3 : 2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(OH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3 * 0.322 * 74.09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71.57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 * 0.322 * 98.00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63.11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587-1486-4AE1-A2E4-06C077421B88}" type="slidenum">
              <a:t>90</a:t>
            </a:fld>
          </a:p>
        </p:txBody>
      </p:sp>
    </p:spTree>
  </p:cSld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765000"/>
            <a:ext cx="8424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. Koliko grama natrij-sulfata je potrebno da se iz otopine koja sadrži 100 g olovo(II)-nitrata istaloži sve olovo u obliku Pb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9280" y="2781360"/>
            <a:ext cx="770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Pb(N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100g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b(N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31.21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             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42.04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0" y="5516640"/>
            <a:ext cx="92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Potrebno je uzeti 42.88 g natrij-sulfata za taloženje olo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164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611280" y="19890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Pb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Na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26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9280" y="386064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Pb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00g / 331.21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302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Pb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= 1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1 * 0.302 * 142.04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42.88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F5B-A9B8-4017-AC21-B57A12B4C0C7}" type="slidenum">
              <a:t>91</a:t>
            </a:fld>
          </a:p>
        </p:txBody>
      </p:sp>
    </p:spTree>
  </p:cSld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6. Koliko kristalnog N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treba uzeti da se iz otopine koja sadrži 100 g bizmut(III)-nitrat pentahidrata istaloži sav bizmut u obliku bizmut(III)-sulf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2708280"/>
            <a:ext cx="48243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Bi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100g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24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Bi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485.07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360" y="6093000"/>
            <a:ext cx="78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Potrebno je uzeti 74.25 g kristalnog natrij-sulf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588000" y="2708280"/>
                <a:ext cx="16560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179280" y="1989000"/>
            <a:ext cx="87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Bi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 + 3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hr-HR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6Na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43700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Bi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100g / 485.07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206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: n(Bi(N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*5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= 3 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N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*9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) = 3/2 * 0.206 * 240.18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74.25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374-BD2E-4652-A7D8-23DF7231BB13}" type="slidenum">
              <a:t>92</a:t>
            </a:fld>
          </a:p>
        </p:txBody>
      </p:sp>
    </p:spTree>
  </p:cSld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-451440" y="907920"/>
            <a:ext cx="9903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7. Kolika je masa živog vapna (CaO) koje se može proizve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rmičkom razgradnjom 1 tone vapnenca u kojem je maseni u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istog Ca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90 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-456840" y="2133720"/>
            <a:ext cx="4995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vapnenca) = 1 t = 100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w(Ca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/vapnenac) = 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O) = 56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CaC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100 gmol</a:t>
            </a:r>
            <a:r>
              <a:rPr b="0" lang="hr-H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CaC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760" y="4173480"/>
            <a:ext cx="85597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aC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0.90 * m(vapnenac) = 0.90*1000 kg = 900 kg = 9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CaC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9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g / 100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9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m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CaO) : n(CaC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 : 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aO) = 9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mola * 56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504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g = 504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3480" y="5734080"/>
            <a:ext cx="65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Može se dobiti 504 kg živog vap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356000" y="1989000"/>
                <a:ext cx="461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CO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pnena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4500720" y="3213000"/>
                <a:ext cx="4032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aO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D84-9957-4635-A1E7-8A541FACDE3D}" type="slidenum">
              <a:t>93</a:t>
            </a:fld>
          </a:p>
        </p:txBody>
      </p:sp>
    </p:spTree>
  </p:cSld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9280" y="83664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8. Reakcijom otopine željezo(III)-sulfata i barij-klorida nastaje željezo(III)-klorid i bijelo talog barij-sulfata. Izračuna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a) broj Ba</a:t>
            </a:r>
            <a:r>
              <a:rPr b="0" lang="hr-HR" sz="2000" spc="-1" strike="noStrike" baseline="30000">
                <a:solidFill>
                  <a:srgbClr val="990099"/>
                </a:solidFill>
                <a:latin typeface="Arial"/>
              </a:rPr>
              <a:t>2+</a:t>
            </a: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 iona u nastalom talogu mase 2.5 g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masu barij-klorida i željezo(III)-sulfata potrebnih da bi nastao talog te ma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920" y="3141720"/>
            <a:ext cx="4392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.5g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33.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485.07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M(Fe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(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) = 399.7 gmol</a:t>
            </a:r>
            <a:r>
              <a:rPr b="0" lang="hr-HR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2400" y="6143760"/>
            <a:ext cx="79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talogu barij-sulfata mase 2.5 g nalazi se 6.45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1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Ba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+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500720" y="3141720"/>
                <a:ext cx="4365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1116000" y="2565360"/>
            <a:ext cx="62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B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→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 Ba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450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5816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69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920" y="4869000"/>
            <a:ext cx="84978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.5g / 233.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0.011 m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: n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:1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 * 0.011 mol * 6.022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6.45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43F-D03E-462A-A32B-F882C43A8481}" type="slidenum">
              <a:t>94</a:t>
            </a:fld>
          </a:p>
        </p:txBody>
      </p:sp>
    </p:spTree>
  </p:cSld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9280" y="83664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8. Reakcijom otopine željezo(III)-sulfata i barij-klorida nastaje željezo(III)-klorid i bijelo talog barij-sulfata. Izračuna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broj Ba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ona u nastalom talogu mase 2.5 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b) masu barij-klorida i željezo(III)-sulfata potrebnih da bi nastao talog te mas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0920" y="3141720"/>
            <a:ext cx="4392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.5g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33.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485.07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M(Fe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(SO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) = 399.7 gmol</a:t>
            </a:r>
            <a:r>
              <a:rPr b="0" lang="hr-HR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? m(Fe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2640" y="6308640"/>
            <a:ext cx="88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Talog barij-sulfata mase 2.5 g nastaje iz 1.44 g željezo(III)-sulfata i 2.23 g barij-klo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500720" y="3141720"/>
                <a:ext cx="4365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1116000" y="2565360"/>
            <a:ext cx="622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Ba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→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+     BaS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43280" y="2565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27640" y="2565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67280" y="25653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4869000"/>
            <a:ext cx="84978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2.5g / 233.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0.011 m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BaCl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: n(Fe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:n(Ba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3 : 1 : 3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BaCl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3/3 * 0.011 mola * 485.07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2.23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Fe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/3 * 0.011 mola * 399.7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1.44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1B4-3EEF-4EC2-B65A-F39BB543985A}" type="slidenum">
              <a:t>95</a:t>
            </a:fld>
          </a:p>
        </p:txBody>
      </p:sp>
    </p:spTree>
  </p:cSld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765000"/>
            <a:ext cx="8424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. Zagrijavanjem nepoznate količine kalij-klorata (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oslobodi se 0.96 g 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Koja je masa 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2708280"/>
            <a:ext cx="4248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0.96 g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3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(KClO</a:t>
            </a:r>
            <a:r>
              <a:rPr b="0" lang="hr-H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) = 122.55 gmol</a:t>
            </a:r>
            <a:r>
              <a:rPr b="0" lang="hr-H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1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0" y="616572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122.55 g kalij-klorata zagrijavanjem je dalo 0.96 g kisi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156360" y="1557360"/>
                <a:ext cx="16556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11280" y="198900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2KCl + 3 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4581360"/>
            <a:ext cx="770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0.96 g / 32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= 0.03 m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(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: n(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= 2 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(KClO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= 2/3 * 0.03 mola * 122.55 gmol</a:t>
            </a:r>
            <a:r>
              <a:rPr b="0" lang="hr-H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2.451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076-97C9-4488-8B18-9AF7C45FAE19}" type="slidenum">
              <a:t>96</a:t>
            </a:fld>
          </a:p>
        </p:txBody>
      </p:sp>
    </p:spTree>
  </p:cSld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0. Oktan 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je tipična molekula koju sadrži benzin. Izračuna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a) masu jedne molekule okta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) Broj molekula oktana u 1 ml tog spoja ako mu je gustoća 820 kg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20500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0099"/>
                </a:solidFill>
                <a:latin typeface="Arial"/>
              </a:rPr>
              <a:t>a)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M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14.2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N(C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hr-HR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) =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800" y="5899320"/>
            <a:ext cx="70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Masa jedne molekule oktana jest 1.89*10</a:t>
            </a:r>
            <a:r>
              <a:rPr b="0" lang="hr-HR" sz="2800" spc="-1" strike="noStrike" baseline="30000">
                <a:solidFill>
                  <a:srgbClr val="003300"/>
                </a:solidFill>
                <a:latin typeface="Arial"/>
              </a:rPr>
              <a:t>-22</a:t>
            </a: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500720" y="2205000"/>
                <a:ext cx="37861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250920" y="4076640"/>
            <a:ext cx="8497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n * M = N * N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*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 * 114.2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/ 6.022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= 1.89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2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51B-64ED-4BBB-A157-0635725A5D22}" type="slidenum">
              <a:t>97</a:t>
            </a:fld>
          </a:p>
        </p:txBody>
      </p:sp>
    </p:spTree>
  </p:cSld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c0000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836640"/>
            <a:ext cx="8425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0. Oktan 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je tipična molekula koju sadrži benzin. Izračuna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) masu jedne molekule okt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b) broj molekula oktana u 1 ml tog spoja ako mu je gustoća 820 kgm</a:t>
            </a:r>
            <a:r>
              <a:rPr b="0" lang="hr-HR" sz="2000" spc="-1" strike="noStrike" baseline="30000">
                <a:solidFill>
                  <a:srgbClr val="990099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990099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9280" y="2205000"/>
            <a:ext cx="89647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0099"/>
                </a:solidFill>
                <a:latin typeface="Arial"/>
              </a:rPr>
              <a:t>b)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820 kg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820 gd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820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gc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= 0.82*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gc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 114.23 gmol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V(C</a:t>
            </a:r>
            <a:r>
              <a:rPr b="0" lang="hr-H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hr-HR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) = 1 ml = 1 cm</a:t>
            </a:r>
            <a:r>
              <a:rPr b="0" lang="hr-H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220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6560" y="6143760"/>
            <a:ext cx="51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1 ml oktana ima 4.3*10</a:t>
            </a:r>
            <a:r>
              <a:rPr b="0" lang="hr-HR" sz="2400" spc="-1" strike="noStrike" baseline="30000">
                <a:solidFill>
                  <a:srgbClr val="003300"/>
                </a:solidFill>
                <a:latin typeface="Arial"/>
              </a:rPr>
              <a:t>21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 molek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4356000" y="2924280"/>
                <a:ext cx="37609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250920" y="4365720"/>
            <a:ext cx="8497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1 c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* 0.82 gcm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0.82 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(C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= 0.82 g * 6.022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/ 114.23 gmol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= 0.043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= 4.3*10</a:t>
            </a:r>
            <a:r>
              <a:rPr b="0" lang="hr-HR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D31-DC20-4B66-9553-487B22606FD2}" type="slidenum">
              <a:t>98</a:t>
            </a:fld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0099"/>
                </a:solidFill>
                <a:latin typeface="Arial"/>
              </a:rPr>
              <a:t>Zadaci za vježbu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iko se m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5 M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top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OH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ra dodati za neutralizacij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7 mL 0.389 M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top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ja je ma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r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trebna za neutralizacij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9.54 mL 0.00850 M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top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B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ik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L 0.998 M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ra utrošiti za neutralizacij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7.9 mL 1.233 M KO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ja je molarna koncentracija hidronijevi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otopini čiji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8.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iko iznos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H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topina koja ima molarnu koncentracij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ni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vi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.1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liko iznos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H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topine čija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lar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ija hidronijevi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.5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0" y="1066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.8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213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101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6708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.6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27040" y="41911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.623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9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25360" y="52578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 =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360" y="617220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H =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FF5-1B58-4745-AD2B-E35DA4F3C6C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2" dur="indefinite" restart="never" nodeType="tmRoot">
          <p:childTnLst>
            <p:seq>
              <p:cTn id="2183" dur="indefinite" nodeType="mainSeq">
                <p:childTnLst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6:01:22Z</dcterms:created>
  <dc:creator>Peter Chieh</dc:creator>
  <dc:description/>
  <dc:language>en-US</dc:language>
  <cp:lastModifiedBy>Ivana Vinković-Vrček</cp:lastModifiedBy>
  <dcterms:modified xsi:type="dcterms:W3CDTF">2006-11-14T09:31:57Z</dcterms:modified>
  <cp:revision>101</cp:revision>
  <dc:subject/>
  <dc:title>Chem 120 Sec. 4 Fall 2002</dc:title>
</cp:coreProperties>
</file>