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48D-7FB5-4166-A71D-F3D697FE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581-57FD-45DC-8B8C-E6317F5A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73F-4171-4D4B-B1B7-704D2708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0C1-2B08-46A4-ADF3-5A5329D2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8CAC-C715-4571-A2F6-258188A5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F8B3-8934-4CD1-87F0-AB85DAE1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0AEF-C8CC-4091-BAC9-AF248EDC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FDD1-CE9F-40D6-BD63-C1733D2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A504-5D49-445C-B9C7-11164C8E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A5A5-11D5-4886-9F50-8C486F64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CBDB-8E30-4DE0-83E9-3DB4E42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7BF-E678-4CEC-99EB-430319CD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E336-2AA6-485F-B1FD-455A962A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6D0D-5727-4EF1-8DB2-01A3AE9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8DB1-84AA-4466-B619-E0BCD3CF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BD57-47B5-418D-A37F-6C3F6820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2AAA-00F6-44B3-ADE7-78448558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0F5-D506-4FAE-9D6D-85A7B226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6ED-8CAF-42AB-804C-549D97F0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0DF-A33C-46F6-8FC5-24C6DDA9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5AF-1650-4BB4-904A-46093498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74C-6F65-4639-8480-B9E250C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F10-CDF4-4E67-9874-E06941CA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07B-8A8E-477F-B3F3-524D4F7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BA42-FE2E-4D6A-8D5C-1CE85FB27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FF95-F8A1-4307-9707-42FA91DFE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1. predavanj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Hrvatski standardni je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ormativni priručn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r. sc. Lana Hudeč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orfonološki elementi u hrvatskome pravopisu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u složenicama ispred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c, č, ć, s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adcestar, odcijepiti, odčepiti, podcijeniti, odškrinuti, predsjednik, odstup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složenicama s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 ispod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 izna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ispodprosječan, iznadprosječ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Tc, dc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riječima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 -tac, -tak, -dac, -dak: zadatci, otpadci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BFM, BH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azličita pravopisna rješenja (1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FM, BH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HM I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, B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datci, otpadci (iznimke: oci, suci, svec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daci/zadatci, otpaci/otpad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amo: oci, suci, svec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daci, otpa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jelica, brježulj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jelica/stre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ježuljak/brežulj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elica, brežulj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 jesen, na si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 jesen, na si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jesen, nasi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 ć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 ću/neć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ć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eec94"/>
                </a:solidFill>
                <a:latin typeface="Times New Roman"/>
              </a:rPr>
              <a:t>Hrvatski pravopis, </a:t>
            </a:r>
            <a:r>
              <a:rPr b="1" lang="hr-HR" sz="3200" spc="-1" strike="noStrike">
                <a:solidFill>
                  <a:srgbClr val="feec94"/>
                </a:solidFill>
                <a:latin typeface="Times New Roman"/>
              </a:rPr>
              <a:t>Institut za hrvatski jezik i jezikoslovlje, 2013. </a:t>
            </a:r>
            <a:r>
              <a:rPr b="1" i="1" lang="hr-HR" sz="3200" spc="-1" strike="noStrike">
                <a:solidFill>
                  <a:srgbClr val="feec94"/>
                </a:solidFill>
                <a:latin typeface="Times New Roman"/>
              </a:rPr>
              <a:t>pravopis.hr</a:t>
            </a:r>
            <a:br>
              <a:rPr sz="40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datci, otpadci (zadaci, otpa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lica, brežulj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jesen, nasi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ć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azličita pravopisna rješenja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1484280"/>
          <a:ext cx="7993080" cy="4944960"/>
        </p:xfrm>
        <a:graphic>
          <a:graphicData uri="http://schemas.openxmlformats.org/drawingml/2006/table">
            <a:tbl>
              <a:tblPr/>
              <a:tblGrid>
                <a:gridCol w="2665440"/>
                <a:gridCol w="2662200"/>
                <a:gridCol w="2665440"/>
              </a:tblGrid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FM, BH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FM I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, BM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ny &gt; Johnnyja, Johnnyj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ny &gt; Johnnyja, Johnnyj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ny &gt; Johnnya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ny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š zavod, to glasi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š zavod, to glasi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š Zavod, to Glasi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., II., futur II., Karlo I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., II., futur II., Karlo I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., II., futur II, Karlo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Točka se ne piše iza rednog broja kad on slijedi iza riječi kao dio imena ili naziva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, 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SA, N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, 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SA, N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, INA-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SA, NASA-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eec94"/>
                </a:solidFill>
                <a:latin typeface="Times New Roman"/>
              </a:rPr>
              <a:t>Hrvatski pravopis, </a:t>
            </a:r>
            <a:r>
              <a:rPr b="1" lang="hr-HR" sz="2800" spc="-1" strike="noStrike">
                <a:solidFill>
                  <a:srgbClr val="feec94"/>
                </a:solidFill>
                <a:latin typeface="Times New Roman"/>
              </a:rPr>
              <a:t>Institut za hrvatski jezik i jezikoslovlje, 2013. </a:t>
            </a:r>
            <a:r>
              <a:rPr b="1" i="1" lang="hr-HR" sz="2800" spc="-1" strike="noStrike">
                <a:solidFill>
                  <a:srgbClr val="feec94"/>
                </a:solidFill>
                <a:latin typeface="Times New Roman"/>
              </a:rPr>
              <a:t>pravopis.hr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ohnnyja, Johnnyj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aš Zavod, to Glasi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., II., futur I., Karlo I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NA-e, NASA-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Gramatik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cc00"/>
                </a:solidFill>
                <a:latin typeface="Times New Roman"/>
              </a:rPr>
              <a:t>normativna gramati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cc00"/>
                </a:solidFill>
                <a:latin typeface="Times New Roman"/>
              </a:rPr>
              <a:t>deskriptivna gramati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žak, S., Babić, S. 2004.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matika hrvatskoga jezika.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ručnik za osnovno jezično obrazovanje.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Školska knjiga. Zagreb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ić, E. i dr.  2003.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rvatska gramatik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Školska knjiga. Zagr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guž, D. 1997.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ktična hrvatska gramatika</a:t>
            </a:r>
            <a:r>
              <a:rPr b="1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dicinska naklada. Zagreb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rti za gramatiku HAZ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bić, S., Brozović, D., Moguš, M., Pavešić, S., Škarić, I., Težak, S. 1991.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ijesni pregled, glasovi i oblici hrvatskoga književnog jezik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HAZU – Globus. Zagr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bić, S. 1991.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vorba riječi u hrvatskom književnom jeziku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HAZU – Globus. Zagr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tičić, R. 1991.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taksa hrvatskoga književnog jezik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HAZU – Globus. Zagreb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ilić, J., Pranjković I. 2005.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</a:rPr>
              <a:t>Gramatika hrvatskog jezika za gimnazije i visoka učilišta.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Školska knji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Hudeček, L., Mihaljević, M. 2013. </a:t>
            </a:r>
            <a:r>
              <a:rPr b="0" i="1" lang="hr-HR" sz="1800" spc="-1" strike="noStrike">
                <a:solidFill>
                  <a:srgbClr val="ffffff"/>
                </a:solidFill>
                <a:latin typeface="Times New Roman"/>
              </a:rPr>
              <a:t>Pregled gramatike hrvatskoga jezika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(poglavlje u: Pregled povijesti, gramatike i pravopisa hrvatskoga jezika), Croa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Rječnici (1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kvi sve rječnici postoj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2133720"/>
          <a:ext cx="8305920" cy="4265640"/>
        </p:xfrm>
        <a:graphic>
          <a:graphicData uri="http://schemas.openxmlformats.org/drawingml/2006/table">
            <a:tbl>
              <a:tblPr/>
              <a:tblGrid>
                <a:gridCol w="3479760"/>
                <a:gridCol w="4826160"/>
              </a:tblGrid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iterij podj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ječni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j jez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ednojezični, dvojezični, višejezičn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uhvaćeni leks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ći, posebni (terminološki, rječnik žargona, rječnik stranih riječi, rječnik sinonima, rječnik antonima, rječnik homonima)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spored građ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ecedni (i odostražni), sustavni, čestotn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zdobl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vijesni, suvremen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dnos prema korpus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rpusni, napamet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sa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asični (knjiga), elektronički (CD, internet)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rvatski jezični korp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rpus odabranih tekstova svih funkcionalnih stilova dostupan je pod nazivom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rvatska jezična riznic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na stranici Instituta za hrvatski jezik i jezikoslovl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hr-HR" sz="5400" spc="-1" strike="noStrike">
                <a:solidFill>
                  <a:srgbClr val="ffffff"/>
                </a:solidFill>
                <a:latin typeface="Times New Roman"/>
              </a:rPr>
              <a:t>www.ihjj.h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Rječnici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ć, V. 2003.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ječnik hrvatskoga jezik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ovi Liber. Zagreb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onje, J. (ur.).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ječnik hrvatskoga jezik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000.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ksikografski zavod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oslav Krlež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Školska knjiga. Zagr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rvatski enciklopedijski rječnik.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2. Novi Liber. Zagr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ć, V., Goldstein, I. 1999.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ječnik stranih riječi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ovi Liber. Zagr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ić, B. 2002.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ječnik stranih riječi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akladni zavod Matice hrvatske. Zagr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kolski rječnik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012. Institut za hrvatski jezik i jezikoslovlje i Školska knji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Jezični savjetni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lčić, M. (ur.) 1997.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orimo hrvatski: jezični savjeti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Hrvatski radio, Naprijed. Zagre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deček. L., Mihaljević, M., Vukojević, L. (izvr. ur.) 1999.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rvatski jezični savjetnik.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t za hrvatski jezik i jezikoslovlje. Zagreb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rvatski standardni jezi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autonomn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stabilnost u prosto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elastična stabilnost u vreme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višefunkcionaln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normiran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višefunkcionalno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književnoumjetnički funkcionalni st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razgovorni funkcionalni st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publicistički funkcionalni st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administrativni funkcionalni st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znanstveni funkcionalni st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ormirano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ndardni je jezik uređen normom, tj. pravilima (pravopisom i gramatikom) i popisom (normativnim rječnikom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orm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341360"/>
          <a:ext cx="8291160" cy="5252760"/>
        </p:xfrm>
        <a:graphic>
          <a:graphicData uri="http://schemas.openxmlformats.org/drawingml/2006/table">
            <a:tbl>
              <a:tblPr/>
              <a:tblGrid>
                <a:gridCol w="2259720"/>
                <a:gridCol w="603144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nološka razin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lement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elemenat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rojekt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projeka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fološka razin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Tokiom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Tokijem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etrova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/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trovog(a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vorbena razin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čitatelj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italac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šumarev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šumarov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psihologica 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sihologinj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ekara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pekarna 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ekarnic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taktička razin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ti koleg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te kolege, Ivanov prijatelj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prijatelj od Ivana, 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Vi ste mi dali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Vi ste mi dala (u obraćanju ženi), Ja imam moju kuću / 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Ja imam svoju kuću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ksička razin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sjet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posjeta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sućut 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češće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sudionik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učesn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opisna razin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uto-težina 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brutotežin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grješka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grešk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zadatci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zadaci,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SC-a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SCa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ne ću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neću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newyorški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njujorški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glasna razin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kô 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sàkō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bifê /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bìfē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hr-HR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stùdent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/ studê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ormativni priručnic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vop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at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ječni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vjetni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avop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abić, S., Finka B., Moguš M.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Hrvatski pravopis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iz izdanja od 1971.) 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nić, V., Silić, J.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Hrvatski pravopis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1986, 1987, 1990, 2001. Novi Liber-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abić, S., Ham S., Moguš M.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Hrvatski školski pravopis,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ŠK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adurina, L., Marković, I, Mićanović K.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Hrvatski pravopis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H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Hrvatski pravopis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nstitut za hrvatski jezik i jezikoslovlje, 2013.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pravopis.hr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preporučen za uporabu u škola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avop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ACHE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Hašek – Hrvatski akademski spelling-checker, autor  Šandor Dembitz, Fakultet elektrotehnike i računarst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rvatska riječ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 TTE Inženjering, d.o.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rvatski računalni pravopis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autori Slaven Batnožić, Branko Ranilović i Josip Sil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SC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(Hrvatski Spelling-Check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Korektor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Croatian spell check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Lapis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Croatian spell check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rvatski je pravopis fonološki s morfonološkim elementim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zlika između fonološkog i morfonološkog načela prikazana je u sljedećoj tablici (F = fonološki pravopis, MF = morfonološki pravopi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3860640"/>
          <a:ext cx="8362440" cy="2270160"/>
        </p:xfrm>
        <a:graphic>
          <a:graphicData uri="http://schemas.openxmlformats.org/drawingml/2006/table">
            <a:tbl>
              <a:tblPr/>
              <a:tblGrid>
                <a:gridCol w="1195560"/>
                <a:gridCol w="1193400"/>
                <a:gridCol w="1195560"/>
                <a:gridCol w="1193040"/>
                <a:gridCol w="1195560"/>
                <a:gridCol w="1193760"/>
                <a:gridCol w="119556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laz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tkri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r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eč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čev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ad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las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dkri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rd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etč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tčev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at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9:07:32Z</dcterms:created>
  <dc:creator>Lana</dc:creator>
  <dc:description/>
  <dc:language>en-US</dc:language>
  <cp:lastModifiedBy>Lana Hudecek</cp:lastModifiedBy>
  <dcterms:modified xsi:type="dcterms:W3CDTF">2013-08-26T10:32:49Z</dcterms:modified>
  <cp:revision>22</cp:revision>
  <dc:subject/>
  <dc:title>1. predavanje</dc:title>
</cp:coreProperties>
</file>