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B0AA-5E0C-4B7B-9DCD-2C9B1FE91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43621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43FA-FAAC-40C2-A731-78733277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848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86A5-1469-4F87-B7C1-4369E41FF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380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144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80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380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144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DB8E-A306-4443-BCF4-46ABC58FF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400E-B0FF-4600-991E-34A95424A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9D06-434C-4313-BC92-5F15A633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63B8-F5E5-4E27-B2CA-110B2AB6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E1CF-E503-4A37-A7E8-B902A369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7852-E649-4209-B036-91AF1255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B1DE-C717-4B14-AF78-BDDA908B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0E6A-386E-494B-8C37-50B0469B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32C6-656E-44B1-8F56-EF6E77C8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AE3D-2E8D-4C59-9BD1-2079FC79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51CE-E67B-4FD9-80F0-A09DD33B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3621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A2FF-6523-492F-AA15-A796A904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8C36-F4C0-464F-A1E4-D192400C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E79E-0A1C-4350-8B91-88E902C18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38E6-5196-4645-915B-A4C48E5B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BB40-8950-4BC2-994E-A604F240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82A3-2DC4-41A4-915A-4E9923BB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755B-B5E0-4229-BB12-6B280C85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8A6D-5D79-4A50-8294-803A77C8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848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53AB-CDD1-4BBE-B192-4325D8C2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1108-2764-429E-93A4-30A4988F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57280"/>
            <a:ext cx="9142560" cy="651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35000" y="1676520"/>
            <a:ext cx="8856720" cy="144360"/>
          </a:xfrm>
          <a:prstGeom prst="rect">
            <a:avLst/>
          </a:prstGeom>
          <a:solidFill>
            <a:srgbClr val="8381b3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318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328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732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04472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316160" y="1617840"/>
            <a:ext cx="2696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858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8572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12868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398680" y="1617840"/>
            <a:ext cx="2732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671920" y="1617840"/>
            <a:ext cx="2696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94156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32130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348444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37544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0" y="6627960"/>
            <a:ext cx="9142560" cy="2286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bcbc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bcbc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C0F0-2500-4828-98ED-DD170F35BA2B}" type="slidenum">
              <a:rPr b="0" lang="en-US" sz="1400" spc="-1" strike="noStrike">
                <a:solidFill>
                  <a:srgbClr val="cbcbc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0" y="1968480"/>
            <a:ext cx="9142560" cy="651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4027320" y="1617840"/>
            <a:ext cx="2718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4299120" y="1617840"/>
            <a:ext cx="2696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456876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48402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511164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53816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>
            <a:off x="56530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"/>
          <p:cNvSpPr/>
          <p:nvPr/>
        </p:nvSpPr>
        <p:spPr>
          <a:xfrm>
            <a:off x="592452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6194520" y="1617840"/>
            <a:ext cx="27288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646740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67374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70088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728028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75502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78184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808992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836136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863136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1981080"/>
            <a:ext cx="9142560" cy="1371600"/>
            <a:chOff x="0" y="1981080"/>
            <a:chExt cx="9142560" cy="1371600"/>
          </a:xfrm>
        </p:grpSpPr>
        <p:sp>
          <p:nvSpPr>
            <p:cNvPr id="78" name=""/>
            <p:cNvSpPr/>
            <p:nvPr/>
          </p:nvSpPr>
          <p:spPr>
            <a:xfrm>
              <a:off x="0" y="3124080"/>
              <a:ext cx="9142560" cy="228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4920" y="2514600"/>
              <a:ext cx="8534160" cy="304920"/>
            </a:xfrm>
            <a:prstGeom prst="rect">
              <a:avLst/>
            </a:prstGeom>
            <a:solidFill>
              <a:srgbClr val="8381b3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63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158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256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51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446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544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639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34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832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27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022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120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215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2310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981080"/>
              <a:ext cx="9142560" cy="228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0" y="6627960"/>
            <a:ext cx="9142560" cy="2286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8597-1FE3-4E78-85AC-C0137AB0D4F5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bcbc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bcbc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cbcbcb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bcbcb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cbcbcb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cbcbcb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 Black"/>
              </a:rPr>
              <a:t>Managemen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Prim. Mr. sc. Josip Čulig, dr. med.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 Black"/>
              </a:rPr>
              <a:t>Zdravstveni managemen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Proces kojim se planiraju, organiziraju, usmjeravaju, kontroliraju i koordiniraju resursi i procedure pomoću kojih se udovoljavaju potrebe i potražnja za zdravstvenim i medicinskim uslugama pružanjem specifičnih i standardiziranih usluga pojedinicima, organizacijama i zajednici.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Black"/>
              </a:rPr>
              <a:t>Cilj je zdravstvenog managementa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proces pružanja zdravstvenih usluga kao jedne cjeline, kako bi se zadovoljile potrebe korisnika-kupaca usluga zdravstvenog sustava !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 Black"/>
              </a:rPr>
              <a:t>Ključna obilježja uspješnog managera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95480" y="22860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cbcb"/>
                </a:solidFill>
                <a:latin typeface="Arial"/>
              </a:rPr>
              <a:t>Komunikacija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cbcb"/>
                </a:solidFill>
                <a:latin typeface="Arial"/>
              </a:rPr>
              <a:t>Timski rad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cbcb"/>
                </a:solidFill>
                <a:latin typeface="Arial"/>
              </a:rPr>
              <a:t>Samokontrola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cbcb"/>
                </a:solidFill>
                <a:latin typeface="Arial"/>
              </a:rPr>
              <a:t>Objektivnost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cbcb"/>
                </a:solidFill>
                <a:latin typeface="Arial"/>
              </a:rPr>
              <a:t>Postavljanje ciljeva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cbcb"/>
                </a:solidFill>
                <a:latin typeface="Arial"/>
              </a:rPr>
              <a:t>Procjenjivanje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cbcb"/>
                </a:solidFill>
                <a:latin typeface="Arial"/>
              </a:rPr>
              <a:t>Vođenje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cbcb"/>
                </a:solidFill>
                <a:latin typeface="Arial"/>
              </a:rPr>
              <a:t>Kritičko razmišljanje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cbcb"/>
                </a:solidFill>
                <a:latin typeface="Arial"/>
              </a:rPr>
              <a:t>Stručnost i profesionalnost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 Black"/>
              </a:rPr>
              <a:t>Zdravstveni manageri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Osobe unutar hijerarhije zdravstvenog sustava: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omogućuju ostalim djelatnicima u zdravstvu učinkovit i produktivan  rad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odgovorne su za pravilnu upotrebu resursa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odgovorne su za rezultate poslovanja zdravstvenih ustanova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 Black"/>
              </a:rPr>
              <a:t>Značajke hrvatskog zdravstva</a:t>
            </a: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 Black"/>
              </a:rPr>
              <a:t>- povijesne značajke -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Visoko na listi političkih prioriteta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Periodi ekstenzivnog razvoja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Tradicionalno neprofitno poslovanje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Bolnice prioritetne institucije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Ekstenzivno planiranje obrazovanja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Kratkoročno planiranje potrebnih kadrova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 Black"/>
              </a:rPr>
              <a:t>Značajke hrvatskog zdravstva</a:t>
            </a: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 Black"/>
              </a:rPr>
              <a:t>- nedostaci -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nedovoljna educiranost postojećih kadrova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nesrazmjer stručnih i managerskih znanja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nepostojanje jasnih kriterija (benchmark) za upravljanje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 Black"/>
              </a:rPr>
              <a:t>Značajke hrvatskog zdravstva</a:t>
            </a: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 Black"/>
              </a:rPr>
              <a:t>- potrebne promjene -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uvesti dodatnu edukaciju iz HRM-a (human resource managementa)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poboljšati koordinaciju medicinskog i nemedicinskog osoblja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postaviti jasne standarde kvalitete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uvesti standardne operativne procedure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 Black"/>
              </a:rPr>
              <a:t>Obilježja reforme zdravstva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Financijski problemi u prvom planu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Nedovoljna koordinacija struke i politike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Nepostojanje leadership-a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Nejasna vizija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Konzervativno ponašanje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 Black"/>
              </a:rPr>
              <a:t>Uloga zdravstvenih managera</a:t>
            </a: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 Black"/>
              </a:rPr>
              <a:t>- liječnici -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ovisno o tipu zdravstvene ustanove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stručni “lider”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usklađuje raspodjelu resursa sa stručnim potrebama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ovisno o specijalizaciji - timski rad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 Black"/>
              </a:rPr>
              <a:t>Uloga zdravstvenih managera</a:t>
            </a: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 Black"/>
              </a:rPr>
              <a:t>- liječnici (2) -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specijalisti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liječnici opće prakse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ostali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 Black"/>
              </a:rPr>
              <a:t>Cilj kolegija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upravljanje zdravstvenim procesima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prikaz rada managera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uloga djelatnika u upravljanju procesima u zdravstvu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specifičnosti managementa u zdravstvu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 Black"/>
              </a:rPr>
              <a:t>Uloga zdravstvenih managera</a:t>
            </a: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 Black"/>
              </a:rPr>
              <a:t>- ostali -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ostalo zdravstveno osoblje (laboratoriji, rehabilitacija, farmaceuti, dr.)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nemedicinsko  osoblje (kompletna logistika zdravstvenih ustanova)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 Black"/>
              </a:rPr>
              <a:t>Generički model procesa pružanja zdravstvenih usluga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28600" y="2743200"/>
          <a:ext cx="8915400" cy="20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743200"/>
                    <a:ext cx="8915400" cy="20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 Black"/>
              </a:rPr>
              <a:t>Komponente zdravstvenog sustava koje manageri moraju uskladiti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ljudi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procesi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troškovi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korisnici usluga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kontrolni sustavi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razvoj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 Black"/>
              </a:rPr>
              <a:t>Uloga zdravstvenih managera</a:t>
            </a: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 Black"/>
              </a:rPr>
              <a:t>- medicinske sestre -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primarni alokatori resursa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koordiniraju medicinski i nemedicinski dio zdravstvene skrbi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manageri “pacijenata”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 Black"/>
              </a:rPr>
              <a:t>Uloga zdravstvenih managera</a:t>
            </a: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 Black"/>
              </a:rPr>
              <a:t>- medicinske sestre (2) -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srednje medicinske sestre 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više medicinske sestre 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medicinska sestra VSS ?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 Black"/>
              </a:rPr>
              <a:t>sestra manager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cbcb"/>
                </a:solidFill>
                <a:latin typeface="Arial"/>
              </a:rPr>
              <a:t>* ključ kontrole troškova u zdravstvu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cbcb"/>
                </a:solidFill>
                <a:latin typeface="Arial"/>
              </a:rPr>
              <a:t>* preduvjet za kontinuiranu i ujednačenu 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cbcb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cbcbcb"/>
                </a:solidFill>
                <a:latin typeface="Arial"/>
              </a:rPr>
              <a:t>kvalitetu zdravstvenih usluga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cbcb"/>
                </a:solidFill>
                <a:latin typeface="Arial"/>
              </a:rPr>
              <a:t>* naglasak na suradnji i bliskosti s klijentima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 Black"/>
              </a:rPr>
              <a:t>Ekonomija 21. stoljeća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Čimbenici koji oblikuju ekonomiju 21. stoljeća: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ntelektualni kapital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- naglasak na kontinuiranoj edukaciji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Globalizacija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- znanje ne poznaje granice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Tehnologija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- nove tehnologije; sukob ljudi za i protiv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Raznolikost 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- uvažavanje individualnih razlika korisnika usluga..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tika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- temelj zdravstvenih usluga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Karijera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- ne poslovna, već životna orijentacija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nformiranost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- “globalno selo”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riroda posla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- umanjena vrijednost manualnog rada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09480" y="304920"/>
            <a:ext cx="77724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 Black"/>
              </a:rPr>
              <a:t>Ekonomija 21. stoljeća</a:t>
            </a:r>
            <a:br>
              <a:rPr sz="4000"/>
            </a:br>
            <a:r>
              <a:rPr b="1" lang="en-US" sz="4000" spc="-1" strike="noStrike">
                <a:solidFill>
                  <a:srgbClr val="cbcbcb"/>
                </a:solidFill>
                <a:latin typeface="Arial Black"/>
              </a:rPr>
              <a:t>- otvorena pitanja -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cbcb"/>
                </a:solidFill>
                <a:latin typeface="Arial"/>
              </a:rPr>
              <a:t>Dominacija tehnologije?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cbcb"/>
                </a:solidFill>
                <a:latin typeface="Arial"/>
              </a:rPr>
              <a:t>Fokus na brzom rješavanju problema?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cbcb"/>
                </a:solidFill>
                <a:latin typeface="Arial"/>
              </a:rPr>
              <a:t>Decentralizacija i delegiranje?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cbcb"/>
                </a:solidFill>
                <a:latin typeface="Arial"/>
              </a:rPr>
              <a:t>Dominacija timskog rada?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cbcb"/>
                </a:solidFill>
                <a:latin typeface="Arial"/>
              </a:rPr>
              <a:t>Novi zahtjevi za zaposlenike?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cbcb"/>
                </a:solidFill>
                <a:latin typeface="Arial"/>
              </a:rPr>
              <a:t>Naglasak na ravnoteži poslovnog i privatnog života?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cbcb"/>
                </a:solidFill>
                <a:latin typeface="Arial"/>
              </a:rPr>
              <a:t>Poduzetništvo?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cbcb"/>
                </a:solidFill>
                <a:latin typeface="Arial"/>
              </a:rPr>
              <a:t>Kontinuirana promocija?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 Black"/>
              </a:rPr>
              <a:t>Zdravstvo - definicija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Skup organiziranih i spontanih društvenih aktivnosti u privatnoj i javnoj domeni putem kojih se osigurava, pruža, financira i promovira zdravlje i suzbija bolest populacije i pojedinaca.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 Black"/>
              </a:rPr>
              <a:t>Zdravstvo</a:t>
            </a: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 Black"/>
              </a:rPr>
              <a:t>- utjecaj okoline -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nova ekonomija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interdisciplinarnost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pristup znanjima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legislativa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tržište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304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 Black"/>
              </a:rPr>
              <a:t>Tko sudjeluje u procesu pružanja zdravstvene zaštit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4800600"/>
            <a:ext cx="1066680" cy="762120"/>
          </a:xfrm>
          <a:prstGeom prst="flowChartPunchedTape">
            <a:avLst/>
          </a:prstGeom>
          <a:solidFill>
            <a:srgbClr val="dddddd"/>
          </a:solidFill>
          <a:ln w="2844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ijenti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2133720"/>
            <a:ext cx="1676160" cy="685800"/>
          </a:xfrm>
          <a:prstGeom prst="flowChartPreparation">
            <a:avLst/>
          </a:prstGeom>
          <a:noFill/>
          <a:ln w="1908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Vladine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agencije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2209680"/>
            <a:ext cx="1752480" cy="533520"/>
          </a:xfrm>
          <a:prstGeom prst="rect">
            <a:avLst/>
          </a:prstGeom>
          <a:noFill/>
          <a:ln w="1908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osiguravatelji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05720" y="2971800"/>
            <a:ext cx="1523880" cy="685800"/>
          </a:xfrm>
          <a:prstGeom prst="rect">
            <a:avLst/>
          </a:prstGeom>
          <a:noFill/>
          <a:ln w="1908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zdravstveni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djelatnici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33720" y="4495680"/>
            <a:ext cx="1371600" cy="609840"/>
          </a:xfrm>
          <a:prstGeom prst="rect">
            <a:avLst/>
          </a:prstGeom>
          <a:noFill/>
          <a:ln w="1908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obrazovne 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ustanove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3505320"/>
            <a:ext cx="1447920" cy="609480"/>
          </a:xfrm>
          <a:prstGeom prst="rect">
            <a:avLst/>
          </a:prstGeom>
          <a:noFill/>
          <a:ln w="1908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zdravstvene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ustanove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5334120"/>
            <a:ext cx="1676160" cy="685800"/>
          </a:xfrm>
          <a:prstGeom prst="rect">
            <a:avLst/>
          </a:prstGeom>
          <a:noFill/>
          <a:ln w="1908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profesionalne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udruge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3657600"/>
            <a:ext cx="1218960" cy="533520"/>
          </a:xfrm>
          <a:prstGeom prst="rect">
            <a:avLst/>
          </a:prstGeom>
          <a:noFill/>
          <a:ln w="1908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dobavljači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51" idx="3"/>
            <a:endCxn id="152" idx="1"/>
          </p:cNvCxnSpPr>
          <p:nvPr/>
        </p:nvCxnSpPr>
        <p:spPr>
          <a:xfrm>
            <a:off x="3133800" y="2476080"/>
            <a:ext cx="591120" cy="1080"/>
          </a:xfrm>
          <a:prstGeom prst="curvedConnector2">
            <a:avLst/>
          </a:prstGeom>
          <a:ln w="9360">
            <a:solidFill>
              <a:srgbClr val="cbcbc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"/>
          <p:cNvCxnSpPr>
            <a:stCxn id="151" idx="3"/>
            <a:endCxn id="155" idx="1"/>
          </p:cNvCxnSpPr>
          <p:nvPr/>
        </p:nvCxnSpPr>
        <p:spPr>
          <a:xfrm>
            <a:off x="3133800" y="2476440"/>
            <a:ext cx="1124640" cy="1334160"/>
          </a:xfrm>
          <a:prstGeom prst="curvedConnector5">
            <a:avLst>
              <a:gd name="adj1" fmla="val 49983"/>
              <a:gd name="adj2" fmla="val 49986"/>
              <a:gd name="adj3" fmla="val 49983"/>
            </a:avLst>
          </a:prstGeom>
          <a:ln w="9360">
            <a:solidFill>
              <a:srgbClr val="cbcbc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"/>
          <p:cNvCxnSpPr>
            <a:stCxn id="151" idx="2"/>
            <a:endCxn id="157" idx="0"/>
          </p:cNvCxnSpPr>
          <p:nvPr/>
        </p:nvCxnSpPr>
        <p:spPr>
          <a:xfrm rot="5400000">
            <a:off x="1647000" y="3009960"/>
            <a:ext cx="820080" cy="457920"/>
          </a:xfrm>
          <a:prstGeom prst="curvedConnector5">
            <a:avLst>
              <a:gd name="adj1" fmla="val 49978"/>
              <a:gd name="adj2" fmla="val 49960"/>
              <a:gd name="adj3" fmla="val 49978"/>
            </a:avLst>
          </a:prstGeom>
          <a:ln w="9360">
            <a:solidFill>
              <a:srgbClr val="cbcbc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"/>
          <p:cNvCxnSpPr>
            <a:stCxn id="151" idx="2"/>
            <a:endCxn id="154" idx="0"/>
          </p:cNvCxnSpPr>
          <p:nvPr/>
        </p:nvCxnSpPr>
        <p:spPr>
          <a:xfrm flipH="1" rot="16200000">
            <a:off x="1724040" y="3390480"/>
            <a:ext cx="1658160" cy="534240"/>
          </a:xfrm>
          <a:prstGeom prst="curvedConnector5">
            <a:avLst>
              <a:gd name="adj1" fmla="val 49989"/>
              <a:gd name="adj2" fmla="val 49966"/>
              <a:gd name="adj3" fmla="val 49989"/>
            </a:avLst>
          </a:prstGeom>
          <a:ln w="9360">
            <a:solidFill>
              <a:srgbClr val="cbcbc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"/>
          <p:cNvCxnSpPr>
            <a:stCxn id="151" idx="2"/>
            <a:endCxn id="156" idx="0"/>
          </p:cNvCxnSpPr>
          <p:nvPr/>
        </p:nvCxnSpPr>
        <p:spPr>
          <a:xfrm flipH="1" rot="16200000">
            <a:off x="1724040" y="3390480"/>
            <a:ext cx="2496240" cy="1372320"/>
          </a:xfrm>
          <a:prstGeom prst="curvedConnector5">
            <a:avLst>
              <a:gd name="adj1" fmla="val 36448"/>
              <a:gd name="adj2" fmla="val 49986"/>
              <a:gd name="adj3" fmla="val 36448"/>
            </a:avLst>
          </a:prstGeom>
          <a:ln w="9360">
            <a:solidFill>
              <a:srgbClr val="cbcbc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"/>
          <p:cNvCxnSpPr>
            <a:stCxn id="157" idx="3"/>
            <a:endCxn id="152" idx="1"/>
          </p:cNvCxnSpPr>
          <p:nvPr/>
        </p:nvCxnSpPr>
        <p:spPr>
          <a:xfrm flipV="1">
            <a:off x="2447640" y="2476080"/>
            <a:ext cx="1276560" cy="1448640"/>
          </a:xfrm>
          <a:prstGeom prst="curvedConnector5">
            <a:avLst>
              <a:gd name="adj1" fmla="val 49985"/>
              <a:gd name="adj2" fmla="val 49987"/>
              <a:gd name="adj3" fmla="val 49985"/>
            </a:avLst>
          </a:prstGeom>
          <a:ln w="9360">
            <a:solidFill>
              <a:srgbClr val="cbcbc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"/>
          <p:cNvCxnSpPr>
            <a:stCxn id="157" idx="3"/>
            <a:endCxn id="155" idx="1"/>
          </p:cNvCxnSpPr>
          <p:nvPr/>
        </p:nvCxnSpPr>
        <p:spPr>
          <a:xfrm flipV="1">
            <a:off x="2447640" y="3809520"/>
            <a:ext cx="1810440" cy="115200"/>
          </a:xfrm>
          <a:prstGeom prst="curvedConnector5">
            <a:avLst>
              <a:gd name="adj1" fmla="val 50000"/>
              <a:gd name="adj2" fmla="val 49843"/>
              <a:gd name="adj3" fmla="val 50000"/>
            </a:avLst>
          </a:prstGeom>
          <a:ln w="9360">
            <a:solidFill>
              <a:srgbClr val="cbcbc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5" name=""/>
          <p:cNvCxnSpPr>
            <a:stCxn id="152" idx="2"/>
            <a:endCxn id="155" idx="0"/>
          </p:cNvCxnSpPr>
          <p:nvPr/>
        </p:nvCxnSpPr>
        <p:spPr>
          <a:xfrm flipH="1" rot="16200000">
            <a:off x="4429080" y="2933280"/>
            <a:ext cx="743760" cy="381600"/>
          </a:xfrm>
          <a:prstGeom prst="curvedConnector5">
            <a:avLst>
              <a:gd name="adj1" fmla="val 49975"/>
              <a:gd name="adj2" fmla="val 49952"/>
              <a:gd name="adj3" fmla="val 49975"/>
            </a:avLst>
          </a:prstGeom>
          <a:ln w="9360">
            <a:solidFill>
              <a:srgbClr val="cbcbc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6" name=""/>
          <p:cNvCxnSpPr>
            <a:stCxn id="152" idx="3"/>
            <a:endCxn id="153" idx="0"/>
          </p:cNvCxnSpPr>
          <p:nvPr/>
        </p:nvCxnSpPr>
        <p:spPr>
          <a:xfrm>
            <a:off x="5495400" y="2476440"/>
            <a:ext cx="1972440" cy="486720"/>
          </a:xfrm>
          <a:prstGeom prst="curvedConnector2">
            <a:avLst/>
          </a:prstGeom>
          <a:ln w="9360">
            <a:solidFill>
              <a:srgbClr val="cbcbc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7" name=""/>
          <p:cNvCxnSpPr>
            <a:stCxn id="152" idx="3"/>
            <a:endCxn id="150" idx="0"/>
          </p:cNvCxnSpPr>
          <p:nvPr/>
        </p:nvCxnSpPr>
        <p:spPr>
          <a:xfrm>
            <a:off x="5495400" y="2476440"/>
            <a:ext cx="753480" cy="2386800"/>
          </a:xfrm>
          <a:prstGeom prst="curvedConnector2">
            <a:avLst/>
          </a:prstGeom>
          <a:ln w="9360">
            <a:solidFill>
              <a:srgbClr val="cbcbc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8" name=""/>
          <p:cNvCxnSpPr>
            <a:stCxn id="153" idx="2"/>
            <a:endCxn id="150" idx="3"/>
          </p:cNvCxnSpPr>
          <p:nvPr/>
        </p:nvCxnSpPr>
        <p:spPr>
          <a:xfrm rot="5400000">
            <a:off x="6373800" y="4088160"/>
            <a:ext cx="1515240" cy="672120"/>
          </a:xfrm>
          <a:prstGeom prst="curvedConnector2">
            <a:avLst/>
          </a:prstGeom>
          <a:ln w="9360">
            <a:solidFill>
              <a:srgbClr val="cbcbc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9" name=""/>
          <p:cNvCxnSpPr>
            <a:stCxn id="150" idx="1"/>
            <a:endCxn id="155" idx="2"/>
          </p:cNvCxnSpPr>
          <p:nvPr/>
        </p:nvCxnSpPr>
        <p:spPr>
          <a:xfrm rot="10800000">
            <a:off x="4990320" y="4123440"/>
            <a:ext cx="710280" cy="1058040"/>
          </a:xfrm>
          <a:prstGeom prst="curvedConnector2">
            <a:avLst/>
          </a:prstGeom>
          <a:ln w="9360">
            <a:solidFill>
              <a:srgbClr val="cbcbc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0" name=""/>
          <p:cNvCxnSpPr>
            <a:stCxn id="153" idx="2"/>
            <a:endCxn id="154" idx="3"/>
          </p:cNvCxnSpPr>
          <p:nvPr/>
        </p:nvCxnSpPr>
        <p:spPr>
          <a:xfrm rot="5400000">
            <a:off x="4923720" y="2257200"/>
            <a:ext cx="1134360" cy="3953520"/>
          </a:xfrm>
          <a:prstGeom prst="curvedConnector2">
            <a:avLst/>
          </a:prstGeom>
          <a:ln w="9360">
            <a:solidFill>
              <a:srgbClr val="cbcbc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1" name=""/>
          <p:cNvCxnSpPr>
            <a:stCxn id="153" idx="2"/>
            <a:endCxn id="156" idx="2"/>
          </p:cNvCxnSpPr>
          <p:nvPr/>
        </p:nvCxnSpPr>
        <p:spPr>
          <a:xfrm rot="5400000">
            <a:off x="4380480" y="2943000"/>
            <a:ext cx="2363040" cy="3810600"/>
          </a:xfrm>
          <a:prstGeom prst="curvedConnector5">
            <a:avLst>
              <a:gd name="adj1" fmla="val 125521"/>
              <a:gd name="adj2" fmla="val 50000"/>
              <a:gd name="adj3" fmla="val 125521"/>
            </a:avLst>
          </a:prstGeom>
          <a:ln w="9360">
            <a:solidFill>
              <a:srgbClr val="cbcbcb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 Black"/>
              </a:rPr>
              <a:t>Zdravstvene uslug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Tri razine: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primarna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sekundarna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tercijarna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 Black"/>
              </a:rPr>
              <a:t>Zdravstvene ustanov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domovi zdravlja i ambulante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bolnice i “dnevne bolnice”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ustanove za njegu u kući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medicinski i stomatološki laboratoriji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ostale zdravstvene ustanove</a:t>
            </a: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4:06:31Z</dcterms:created>
  <dc:creator>Zovko</dc:creator>
  <dc:description/>
  <dc:language>en-US</dc:language>
  <cp:lastModifiedBy>dr. Josip Čulig</cp:lastModifiedBy>
  <dcterms:modified xsi:type="dcterms:W3CDTF">2002-12-09T11:12:49Z</dcterms:modified>
  <cp:revision>64</cp:revision>
  <dc:subject/>
  <dc:title>Management</dc:title>
</cp:coreProperties>
</file>