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1B0D-51B7-49B4-9C1A-BE42AEF80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28E4-EE9B-41BB-8179-6D01688A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98D2-A90F-4B8E-A89A-9FA6FC10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3088-2301-4A55-9200-CB0BBA53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C94D-15DE-477A-9E94-EAFE23043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BFF8-5335-42F0-B37F-20C50FFD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AC7B-2F81-415B-AA32-ED10F875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6718-9ED7-4045-B544-45A7F3F2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F1DF-B100-4F29-805B-8E190ADC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3A3A-50E2-4E3B-BDBC-E9CBEA3D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70D6-BC01-4072-BCAA-98855170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B145-9057-44A8-A711-87E3D37C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3553-2540-4794-8DA2-184D3891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8075-202D-4299-854D-567A05A6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FCF0-D731-40F0-A2DC-BC21B49A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0FA6-C377-462E-90AD-DDDD1A7C4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C8BE-5086-454B-AC6A-F7C52723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B366-00AC-469A-8E29-F3227736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44C2-E4CB-48C2-9523-4613F909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3026-51F4-4899-85D1-661B4735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1E6A-F464-46E1-AF39-050490E5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37F9-469E-44C0-9FE9-E3BF1B49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7701-3FF2-4968-B99F-B111C2D1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475F-CF7B-4553-B02C-4FB8C9D7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2f2e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4CF0-C699-45D3-A877-3EF21972EE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2f2e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6E09-F2D6-4BD3-BE71-7B00A58B131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FARMAKOLOGIJA PROBAVNOG SUSTAVA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65760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Prim. mr. sc. Josip Čulig, dr. m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1A46-4FE3-4769-9CD2-0E4F0DB7E5FF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680" y="380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ANTIEMETIC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Metoklopramid 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je blokator centralnih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dopaminskih receptora. Povećava prag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osjetljivosti za povraćanj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ANTAGONISTI SEROTONINA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(5HT3)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su selektivni kompetitori 5HT3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receptora u perifernim neuronima i SŽS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Onemogućuju podražaj aferentnih vagalnih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završetaka u probavnom sustavu i centru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za povraćanje u produženoj moždini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57150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Ondasetron, Tropisetron, Granisetr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533520"/>
            <a:ext cx="838440" cy="228600"/>
          </a:xfrm>
          <a:custGeom>
            <a:avLst/>
            <a:gdLst>
              <a:gd name="textAreaLeft" fmla="*/ 104760 w 838440"/>
              <a:gd name="textAreaRight" fmla="*/ 733680 w 8384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2590920"/>
            <a:ext cx="838440" cy="228600"/>
          </a:xfrm>
          <a:custGeom>
            <a:avLst/>
            <a:gdLst>
              <a:gd name="textAreaLeft" fmla="*/ 104760 w 838440"/>
              <a:gd name="textAreaRight" fmla="*/ 733680 w 8384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7D8B-E878-45FF-B508-2AAFA7471A59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OPSTIPACIJA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- odsutnos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pontane stoli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KONSTIPACIJA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- rijetka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mala i suha stolic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1905120"/>
            <a:ext cx="762120" cy="228600"/>
          </a:xfrm>
          <a:custGeom>
            <a:avLst/>
            <a:gdLst>
              <a:gd name="textAreaLeft" fmla="*/ 118800 w 762120"/>
              <a:gd name="textAreaRight" fmla="*/ 667080 w 7621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3657600"/>
            <a:ext cx="762120" cy="228600"/>
          </a:xfrm>
          <a:custGeom>
            <a:avLst/>
            <a:gdLst>
              <a:gd name="textAreaLeft" fmla="*/ 118800 w 762120"/>
              <a:gd name="textAreaRight" fmla="*/ 667080 w 7621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09E1-BA32-4D5D-8A00-B74B1A678261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KONTAKTNI LAKSATIVI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timulacija propulzije lokalnom iritacijom sluzn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ovišenje koncentracije cAMP u endotelu crije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373392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BISAKODIL - DULCOL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SENOZIDI - COLOCL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50292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riprema i pražnjenje crijeva prije radioloških i endoskopskih pregle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84B3-9EF3-41C5-8DDA-78E4A76A50D8}" type="slidenum">
              <a:t>12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OSMOTSKI LAKSATIVI 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se ne resorbiraju iz probavnog sustava. U kolonu se djelovanjem crijevnih bakterija razgrađuju u octenu i mliječnu kiselinu, snižavaju pH crijeva. Na taj se način izaziva lokalni hiperosmotski učinak i stimulira pražnjenje crijeva.</a:t>
            </a:r>
            <a:r>
              <a:rPr b="1" lang="en-US" sz="30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50292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LAKTULOZA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Portala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3FBD-744E-4593-80B4-45CE083F031E}" type="slidenum">
              <a:t>13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8483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ULKUSNA BOLEST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 je ograničeno oštećenje sluznice koje prodire u mišićni sloj. Pojavljuje se u onim dijelovima probavnog sustava gdje postoji želučana kiselina.</a:t>
            </a:r>
            <a:endParaRPr b="0" lang="en-US" sz="28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52320" y="3123720"/>
            <a:ext cx="38862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jednja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želuda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dvanaesni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početni dio jejunu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062A-06B9-4F2F-8E62-1A0DC56175F7}" type="slidenum">
              <a:t>2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Faktori koji doprinose razvoju </a:t>
            </a:r>
            <a:br>
              <a:rPr sz="3000"/>
            </a:b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ulkusne bolesti</a:t>
            </a:r>
            <a:endParaRPr b="0" lang="en-US" sz="3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uše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lkoh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jako začinjena hr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2133720"/>
            <a:ext cx="609480" cy="228600"/>
          </a:xfrm>
          <a:custGeom>
            <a:avLst/>
            <a:gdLst>
              <a:gd name="textAreaLeft" fmla="*/ 9504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2514600"/>
            <a:ext cx="609480" cy="228600"/>
          </a:xfrm>
          <a:custGeom>
            <a:avLst/>
            <a:gdLst>
              <a:gd name="textAreaLeft" fmla="*/ 9504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2971800"/>
            <a:ext cx="609480" cy="228600"/>
          </a:xfrm>
          <a:custGeom>
            <a:avLst/>
            <a:gdLst>
              <a:gd name="textAreaLeft" fmla="*/ 9504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3809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lijeko stimulira izlučivanje želučane kisel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46483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ULKUS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su povezani s infekcijom Helicobacter pylori ili uzimanjem nesteroidnih antireumatik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4417-6E73-4319-BBA9-AD8951EC1210}" type="slidenum">
              <a:t>3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ANTACIDI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ublažavaju simptome dispepsije, gastroezofagealnog refluksa i ulkusne bolesti. Daju 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u obliku tableta i suspenzija. Suspenzije su djelotvornij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3733920"/>
            <a:ext cx="7391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ALUMINIJEV HIDROKSID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nakon reakcije sa želučanom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kiselinom stvara aluminijev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klorid i vod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419A-74E9-4000-999E-AC8EAA3514FB}" type="slidenum">
              <a:t>4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2120" y="12193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ALUMINIJEV HIDROKSID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u crijevu veže fosfate. Zbog hipofosfatemije javlja se mišićna slabost i anoreksija. Izaziva opstipacij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30481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MAGNEZIJEV HIDROKSID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e u želucu pretvara u magnezijev klorid. U tankom crijevu djeluje kao osmotski laksati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47242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KOMBINACIJA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je vrlo popularna (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GASTAL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. Dozira se 4 - 6 puta dnev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6424-316B-4F39-94E7-784328B45534}" type="slidenum">
              <a:t>5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ANTAGONISTI H</a:t>
            </a:r>
            <a:r>
              <a:rPr b="1" lang="en-US" sz="3600" spc="-1" strike="noStrike" baseline="-25000">
                <a:solidFill>
                  <a:srgbClr val="66ffcc"/>
                </a:solidFill>
                <a:latin typeface="Bookman Old Style"/>
              </a:rPr>
              <a:t>2</a:t>
            </a: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 RECEPTORA</a:t>
            </a:r>
            <a:br>
              <a:rPr sz="3600"/>
            </a:br>
            <a:r>
              <a:rPr b="0" lang="en-US" sz="2800" spc="-1" strike="noStrike">
                <a:solidFill>
                  <a:srgbClr val="66ffcc"/>
                </a:solidFill>
                <a:latin typeface="Bookman Old Style"/>
              </a:rPr>
              <a:t>inhibiraju lučenje želučane kiseline mehanizmom kompetitivne blokade H</a:t>
            </a:r>
            <a:r>
              <a:rPr b="0" lang="en-US" sz="2800" spc="-1" strike="noStrike" baseline="-25000">
                <a:solidFill>
                  <a:srgbClr val="66ffcc"/>
                </a:solidFill>
                <a:latin typeface="Bookman Old Style"/>
              </a:rPr>
              <a:t>2</a:t>
            </a:r>
            <a:r>
              <a:rPr b="0" lang="en-US" sz="2800" spc="-1" strike="noStrike">
                <a:solidFill>
                  <a:srgbClr val="66ffcc"/>
                </a:solidFill>
                <a:latin typeface="Bookman Old Style"/>
              </a:rPr>
              <a:t> receptora na razini parijentalne stanice.</a:t>
            </a:r>
            <a:endParaRPr b="0" lang="en-US" sz="28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95480" y="3657240"/>
            <a:ext cx="2819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CIMETID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RANITID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FAMOTID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D6F9-6462-4484-BC71-E902E60B9B06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INHIBITORI PROTONSKE PUMPE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 djeluju na H-K-ATPazu na staničnoj membrani parijetalne stanice i potpuno inhibiraju lučenje želučane kiseline. Produkcija želučane kiseline obnavlja se 3 - 4 dana nakon prestanka terapije.</a:t>
            </a:r>
            <a:endParaRPr b="0" lang="en-US" sz="28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14600" y="3962160"/>
            <a:ext cx="4038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OMEPRAZ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PANTOPRAZ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LANSOPRAZ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E65A-0FCE-46BC-A410-4EEE2BBF83D0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ANTIFLATULANSI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  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DIMETIKON 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smanjuje površinsku napetost plinskih mjehurića pa se plinovi na prirodan način odstranjuju iz crijeva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4191120"/>
            <a:ext cx="6019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erofag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eteoriz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riprema za dijagnostičke pregle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3D69-A488-4633-9785-324C4CF17571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ANTIKOLINERGICI I SPAZMOLITICI 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manjuju motilitet, sekretornu aktivno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robavnog sustava, tonus ureter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mokraćnog mjehura, relaksiraju žučn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mjehur i vodo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41911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14600" y="4114800"/>
            <a:ext cx="5410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ATROP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MEBEVER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TROSPI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- nije topljiv 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ipidima pa ne prodire u SŽ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BC8B-7752-425B-B8B0-CC1826BA7A07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9:09:19Z</dcterms:created>
  <dc:creator>Jelena</dc:creator>
  <dc:description/>
  <dc:language>en-US</dc:language>
  <cp:lastModifiedBy>KERAMEIKOS d.o.o.</cp:lastModifiedBy>
  <dcterms:modified xsi:type="dcterms:W3CDTF">2003-01-28T12:35:16Z</dcterms:modified>
  <cp:revision>17</cp:revision>
  <dc:subject/>
  <dc:title>FARMAKOLOGIJA PROBAVNOG SUSTAVA</dc:title>
</cp:coreProperties>
</file>