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A590-7B8B-4E6F-B766-D4AAD2B6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911-BBD1-4CCA-BDA8-E8894182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1F1-506B-40C0-A776-93B91975A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265-1BFB-481B-9237-C2F8AB6E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186D-1D70-4E0F-8AB1-C5E6F0B1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1816-632B-47EE-81AC-A89ACE25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0231-0820-402F-8342-19DF88A2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F792-6E53-45FB-B100-29ED1D91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CA07-81B9-415C-9E41-A8187EDA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1088-2EA8-48B7-96D9-D3A3C79E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5EA0-77FF-42E1-93ED-9562C12E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122-30A2-4F8D-B72D-17B0E8C5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2FF9-9AEE-4FD9-BBA3-B9531A4C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31C5-802B-4696-BF89-51FFDFD2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D242-BBAD-4EEA-8B1A-3E0EEC0B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F1E1-6F98-4091-AA3F-B5962D8A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F12E-6AFB-4586-BF4F-124A0516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FEA1-206D-4A7A-97B4-AAA74204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F9FE-0067-4EAD-AA31-962C55FD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E617-B930-4944-BC45-1230029B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B29-4C84-4984-942E-CDEE0292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F14-561F-484A-B9ED-2D74B4C4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6E5E-0F28-4136-BE53-D9DACD26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CE0-D570-47C7-8DC8-D1A6062A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3A58-03F5-4166-8D59-ED5465325BE0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C5BF-BDD2-429E-8E69-2BE567E719F4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684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KAMATE I KAMATNA STO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51C1-5715-4EA0-A9FF-D0BCECC0A1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330066"/>
                </a:solidFill>
                <a:uFillTx/>
                <a:latin typeface="Arial"/>
              </a:rPr>
              <a:t>Dakle </a:t>
            </a:r>
            <a:r>
              <a:rPr b="0" i="1" lang="en-US" sz="3600" spc="-1" strike="noStrike">
                <a:solidFill>
                  <a:srgbClr val="330066"/>
                </a:solidFill>
                <a:latin typeface="Arial"/>
              </a:rPr>
              <a:t>…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507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ednadžba za izračun buduće vrijednosti uz primjenu jednostavnih kamata glasi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330066"/>
                </a:solidFill>
                <a:latin typeface="Arial"/>
              </a:rPr>
              <a:t>BV</a:t>
            </a:r>
            <a:r>
              <a:rPr b="0" i="1" lang="hr-HR" sz="1400" spc="-1" strike="noStrike">
                <a:solidFill>
                  <a:srgbClr val="330066"/>
                </a:solidFill>
                <a:latin typeface="Arial"/>
              </a:rPr>
              <a:t>n</a:t>
            </a:r>
            <a:r>
              <a:rPr b="0" i="1" lang="hr-HR" sz="2800" spc="-1" strike="noStrike">
                <a:solidFill>
                  <a:srgbClr val="330066"/>
                </a:solidFill>
                <a:latin typeface="Arial"/>
              </a:rPr>
              <a:t> = SV (1 + kn)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buduća vrijednost na kraju razdob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V – početni iz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 – kamatna stopa, </a:t>
            </a:r>
            <a:r>
              <a:rPr b="0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uz obračun jednostavnih ka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 – broj razdobl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49A-C039-4002-BF1C-586275C861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821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Što se dešava u slučaju primjene složenih kamata</a:t>
            </a:r>
            <a:r>
              <a:rPr b="0" i="1" lang="en-US" sz="2800" spc="-1" strike="noStrike">
                <a:solidFill>
                  <a:srgbClr val="330066"/>
                </a:solidFill>
                <a:latin typeface="Arial"/>
              </a:rPr>
              <a:t>?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Složene ka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 kamate izračunate na glavnicu i na kamate zarađene u prethodnim razdobl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oliki bi iznos, uz obračun složenih kamata, štediša iz prethodnog primjera dobio nakon dvije godin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BV</a:t>
            </a:r>
            <a:r>
              <a:rPr b="0" lang="en-US" sz="1400" spc="-1" strike="noStrike">
                <a:solidFill>
                  <a:srgbClr val="330066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= SV (1 + k) (1 +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= SV (1 + 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= 2000 x 1,10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BV</a:t>
            </a:r>
            <a:r>
              <a:rPr b="0" lang="en-US" sz="1400" spc="-1" strike="noStrike">
                <a:solidFill>
                  <a:srgbClr val="330066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= 2205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360" y="429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4EC-2281-4FBC-9151-4905EF0F1C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0066"/>
                </a:solidFill>
                <a:uFillTx/>
                <a:latin typeface="Arial"/>
              </a:rPr>
              <a:t>Izračun složenih kamata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 : 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8360" y="2276640"/>
          <a:ext cx="8229600" cy="2124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od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(1 + 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BV</a:t>
                      </a:r>
                      <a:r>
                        <a:rPr b="1" lang="hr-HR" sz="1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 = (2) x 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5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9A9-C956-4B4B-B38B-C3FB6D840C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Jednadžba za izračun buduće vrijednosti glas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= SV (1 + 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dje 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 – broj razdoblja za koje se vrši ukamać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2708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F2B-500F-4353-8E8F-F4736A101E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0066"/>
                </a:solidFill>
                <a:uFillTx/>
                <a:latin typeface="Arial"/>
              </a:rPr>
              <a:t>Izračun sadašnje vrijednosti</a:t>
            </a:r>
            <a:r>
              <a:rPr b="0" lang="en-US" sz="3200" spc="-1" strike="noStrike">
                <a:solidFill>
                  <a:srgbClr val="330066"/>
                </a:solidFill>
                <a:latin typeface="Arial"/>
              </a:rPr>
              <a:t> 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484280"/>
            <a:ext cx="883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skontira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znos ili gotovinski tijek koji se treba naplatiti ili se duguje na neki budući datum svodi na sadašnju vrije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kontiranjem nekog budućeg iznosa koji dospijeva za n vremenskih razdoblja s k – tom stopom, dobivamo iznos koji bi, da ga imamo danas, ulaganjem uz k-tu kamatnu stopu narastao na tu buduću vrijedn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matna stopa se u ovom procesu naziva diskontna st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481-FA56-434C-BFD8-800F45C571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Izračun sadašnje vrijednosti uz pomoć jednadžbe</a:t>
            </a:r>
            <a:r>
              <a:rPr b="0" i="1" lang="en-US" sz="2800" spc="-1" strike="noStrike">
                <a:solidFill>
                  <a:srgbClr val="330066"/>
                </a:solidFill>
                <a:latin typeface="Arial"/>
              </a:rPr>
              <a:t> 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adašnja vrijednost je niža uz višu kamatnu/ diskontnu stopu </a:t>
            </a:r>
            <a:r>
              <a:rPr b="0" lang="hr-H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veća diskontna stopa znači veći oportunitetni trošak i manju sadašnju vrij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dje j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0066"/>
                </a:solidFill>
                <a:latin typeface="Arial"/>
              </a:rPr>
              <a:t>SV – sadašnja vrije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0066"/>
                </a:solidFill>
                <a:latin typeface="Arial"/>
              </a:rPr>
              <a:t>BV – buduća vrijed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0066"/>
                </a:solidFill>
                <a:latin typeface="Arial"/>
              </a:rPr>
              <a:t>k – diskontna st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330066"/>
                </a:solidFill>
                <a:latin typeface="Arial"/>
              </a:rPr>
              <a:t>n – broj razdob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148360" y="3789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357336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6720" y="3357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386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 +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378936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DD3D-F5A2-45B1-919E-C5B821329B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0066"/>
                </a:solidFill>
                <a:uFillTx/>
                <a:latin typeface="Arial"/>
              </a:rPr>
              <a:t>Primjer</a:t>
            </a:r>
            <a:r>
              <a:rPr b="0" i="1" lang="en-US" sz="3200" spc="-1" strike="noStrike">
                <a:solidFill>
                  <a:srgbClr val="330066"/>
                </a:solidFill>
                <a:latin typeface="Arial"/>
              </a:rPr>
              <a:t> 3: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iko novca treba štediša uložiti u banku danas uz kamatnu stopu 5 % da bi za dvije godine imao 2205 k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V =                   =                 = 2000 k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ključak … </a:t>
            </a:r>
            <a:r>
              <a:rPr b="0" i="1" lang="en-US" sz="2400" spc="-1" strike="noStrike">
                <a:solidFill>
                  <a:srgbClr val="330066"/>
                </a:solidFill>
                <a:latin typeface="Arial"/>
              </a:rPr>
              <a:t>diskontiranje i ukamaćivanje su dvije strane istog procesa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321300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58920" y="278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32000" y="32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 + 0,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40000" y="3141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59280" y="3213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2781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32000" y="3284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1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5B5-31B0-4B50-9D03-CA1B21F40D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748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Jednoliki konačni gotovinski tijek </a:t>
            </a:r>
            <a:br>
              <a:rPr sz="2800"/>
            </a:b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(periodična renta)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 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719360"/>
            <a:ext cx="8785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laćanje jednakih iznosa u jednakim vremenskim intervalima tijekom specificiranog razdobl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Izračun buduće vrijednosti periodične r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V = R(1+k)   + R(1+k)     + R(1+k)    + … + R(1+k)  + R(1+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= R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∑ (1 +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335772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48000" y="335772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-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335772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-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93080" y="335772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8360" y="335772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00720" y="5084640"/>
            <a:ext cx="57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 =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4581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51640" y="465300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 - 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225C-7D38-44C8-8A73-5CC665F21D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dje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 – periodično plać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 – vremensko razdoblje, t = 1 do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buduća vrijednost periodičnog pov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 – kamatna st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 – broj razdob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AA0-7FAE-4333-BAF2-D72A16975D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rimjer 4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 :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719360"/>
            <a:ext cx="8507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rial"/>
              </a:rPr>
              <a:t>Osoba X odlučila je polagati na račun u banci 1000 kn u razdoblju počevši s prvim depozitom za godinu dana dok će zadnji položiti na kraju četvrte god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0066"/>
                </a:solidFill>
                <a:latin typeface="Arial"/>
              </a:rPr>
              <a:t>Koliko će tada imati novaca ako je kamatna stopa 8 %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4 = 1000 (1,08) + 1000 (1,08)  + 1000 (1,08)  + 1000(1,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000 x 1,26 + 1000 x 1,17 + 1000 x 1,08 +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510 k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68360" y="357336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51280" y="3645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08720" y="357336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93080" y="364500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8E5-0C2F-4BAC-9B33-7203316D06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691920"/>
            <a:ext cx="8229600" cy="50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matne stope spadaju u ekonomske varijable čije kretanje se pomno prati – utječu na ekonomske i svakodnevne odluk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 različitim vremenskim točkama novac ima i različitu vrijed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vac je vrjedniji danas nego u budućnosti .. čekanje košta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jedinci su stoga na čekanje spremni samo kada imaju određenu naknadu (cijena čekanja i cijena rizika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amatnu stop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16D-5869-491E-8F35-B76A7C2941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0066"/>
                </a:solidFill>
                <a:uFillTx/>
                <a:latin typeface="Arial"/>
              </a:rPr>
              <a:t>Nominalne i realne kamatne stope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tjecaj inflacije na trošak posuđivanja sredsta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flacija smanjuje vrijednost novca </a:t>
            </a:r>
            <a:r>
              <a:rPr b="0" lang="hr-H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realna kamatna stopa je nominalna korigirana za stopu inflac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edstavlja realniji pokazatelj od nominalne st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Fisherova jednadžb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nominalna kamatna stopa jednaka je realnoj uvećanoj za stopu inflac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= 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30064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48360" y="5373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9E7-C064-480F-9DF9-707B95B576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MATE su naknada koju dužnik plaća za posuđenu glavnicu na određeno vrijeme (vrijeme trajanja kapitalizacije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mate mogu biti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jednostav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ložen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ovisno o tome što se uzima kao baza za izračunavanje kam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33B-131A-4ACE-8D10-C27515FC0F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-134640"/>
            <a:ext cx="754380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o se kamate obračunavaju za svako razdoblje ukamaćivanja o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s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lavnice, radi se o jednostavnim kamat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o se kamate obračunavaju n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mjenjivu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avnicu, riječ je o složenim kamat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5ED-F003-495E-BA34-D09757026A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bračun kamata može biti krajem i početkom razdoblja ukamaćiva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ko se kamate obračunavaju na kraju razdoblja ukamaćivanja od glavnice s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početk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razdoblja, govorimo o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dekurzivnom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obračunu kam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ko se kamate obračunavaju na početku razdoblja ukamaćivanja od glavnice s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kraj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razdoblja, govorimo o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anticipativnom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obračunu kamat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FD5-9B37-47C2-A1CF-29728F6171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 kod jednostavnog i kod složenog kamatnog računa, obračun kamata može biti dekurzivan i anticipativa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25F-C0C0-416A-B970-A3A4DC4889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 usporedbe vrijednosti nužno je svesti novčane iznose na isti vremenski trenu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ONTIRANJE – svođenje jednokratnog iznosa ili gotovinskog tijeka koji dospijeva u budućnosti na sadašnjost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zračun sadašnje vrijed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AMAĆIVANJE – svođenje gotovinskog iznosa ili gotovinskih tijekova na neki budući datum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zračun buduće vrijed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8AF-18F2-42E9-800D-887F2E97A5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Izračun buduće vrijednost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i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kamaćivan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 proces u kojem uz primjenu određenih kamata izračunavamo koliko neki iznos ili tijek gotovine vrijedi za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zdoblja u buduć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guće je izvesti dva zaključka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to je viša kamatna stopa viša je i buduća vrijed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to je veći broj razdoblja ukamaćivanja, viša je buduća vrijed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Buduća  vrijednost je pozitivno korelirana s kamatnom stopom i brojem razdoblja na koje se vrši ukamaćivanje</a:t>
            </a: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883-74A8-4082-A8FD-9A14C05447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rimjer 1</a:t>
            </a:r>
            <a:r>
              <a:rPr b="0" i="1" lang="en-US" sz="2800" spc="-1" strike="noStrike">
                <a:solidFill>
                  <a:srgbClr val="330066"/>
                </a:solidFill>
                <a:latin typeface="Arial"/>
              </a:rPr>
              <a:t> :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tpostavimo da je štediša položio u banku 2000 kn uz kamatnu stopu od 5% na dvije godine uz obračun jednostavnih kam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oliko će imati nakon dvije godin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BV = SV + SV x k + SV x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= SV (1 + 2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= 2000 (1 + 2 x 0,05) = 2000 x 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BV = 2200 k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A26-A1A5-48D4-BFB2-6795FFC27D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10:46:39Z</dcterms:created>
  <dc:creator>Gordana Kordić</dc:creator>
  <dc:description/>
  <dc:language>en-US</dc:language>
  <cp:lastModifiedBy>Gordana Kordić</cp:lastModifiedBy>
  <dcterms:modified xsi:type="dcterms:W3CDTF">2007-06-08T10:20:12Z</dcterms:modified>
  <cp:revision>214</cp:revision>
  <dc:subject/>
  <dc:title>Poslovne financij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