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D8DD-329B-493C-BD2E-E9D180A49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FE3B-F28A-45EA-8B61-74A7223D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6F45-04D7-44BD-8DC3-FDA25B308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E263-8E4E-4D93-8962-4C64BF4B7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F70D-59C5-44AB-817E-539DC12C7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38BB-DD80-49B9-B9FB-1E8CC27E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9474-FD62-4882-9529-BB338130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C8B0-8C0C-4795-BB0E-8500EAE8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5FBB-91B1-4831-8884-A86566D6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963E-4A05-407B-A0CB-5DA9DB80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FFA39-3B62-4888-AF9C-14B9774C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D656-1398-48EC-AA87-3D351EB6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9949-7782-4740-BA6A-90B91560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8B3A-3A1D-48E2-847E-104B2506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B00A-4216-4B3D-AAEC-9D21336F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37ED-41F6-4087-9EF5-C7B9A33F1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3CCE-ABB3-4361-80E5-86EB0D98D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3C45-47FE-4FA0-9416-25BB35D6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9147-E980-480E-9B42-53767EF7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A0E4-5E04-418F-A014-919044F0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AFBD-3842-4A4E-A10A-D9496A02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DAB0-B1D1-4033-B31F-53883348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4EB3-9F22-46A5-80A0-6AA98412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C226-27D9-4580-AC30-28544141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BF2D-9813-418A-9C74-3B0303F64B58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CB19-C863-4A82-BC43-E83E156E199E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560" y="3049560"/>
            <a:ext cx="684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KAMATE I KAMATNA STOP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C803-03D2-49F5-B7C8-877DF91D762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330066"/>
                </a:solidFill>
                <a:uFillTx/>
                <a:latin typeface="Arial"/>
              </a:rPr>
              <a:t>Dakle </a:t>
            </a:r>
            <a:r>
              <a:rPr b="0" i="1" lang="en-US" sz="3600" spc="-1" strike="noStrike">
                <a:solidFill>
                  <a:srgbClr val="330066"/>
                </a:solidFill>
                <a:latin typeface="Arial"/>
              </a:rPr>
              <a:t>…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507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Jednadžba za izračun buduće vrijednosti uz primjenu jednostavnih kamata glasi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330066"/>
                </a:solidFill>
                <a:latin typeface="Arial"/>
              </a:rPr>
              <a:t>BV</a:t>
            </a:r>
            <a:r>
              <a:rPr b="0" i="1" lang="hr-HR" sz="1400" spc="-1" strike="noStrike">
                <a:solidFill>
                  <a:srgbClr val="330066"/>
                </a:solidFill>
                <a:latin typeface="Arial"/>
              </a:rPr>
              <a:t>n</a:t>
            </a:r>
            <a:r>
              <a:rPr b="0" i="1" lang="hr-HR" sz="2800" spc="-1" strike="noStrike">
                <a:solidFill>
                  <a:srgbClr val="330066"/>
                </a:solidFill>
                <a:latin typeface="Arial"/>
              </a:rPr>
              <a:t> = SV (1 + kn)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BV</a:t>
            </a:r>
            <a:r>
              <a:rPr b="0" i="1" lang="hr-HR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– buduća vrijednost na kraju razdob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V – početni iz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 – kamatna stopa, </a:t>
            </a:r>
            <a:r>
              <a:rPr b="0" lang="hr-HR" sz="2800" spc="-1" strike="noStrike" u="sng">
                <a:solidFill>
                  <a:srgbClr val="000000"/>
                </a:solidFill>
                <a:uFillTx/>
                <a:latin typeface="Arial"/>
              </a:rPr>
              <a:t>uz obračun jednostavnih ka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 – broj razdobl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5C42-4253-404E-B007-92D23CF195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8920" y="122400"/>
            <a:ext cx="7821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Što se dešava u slučaju primjene složenih kamata</a:t>
            </a:r>
            <a:r>
              <a:rPr b="0" i="1" lang="en-US" sz="2800" spc="-1" strike="noStrike">
                <a:solidFill>
                  <a:srgbClr val="330066"/>
                </a:solidFill>
                <a:latin typeface="Arial"/>
              </a:rPr>
              <a:t>?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Složene kam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 kamate izračunate na glavnicu i na kamate zarađene u prethodnim razdoblj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oliki bi iznos, uz obračun složenih kamata, štediša iz prethodnog primjera dobio nakon dvije godin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BV</a:t>
            </a:r>
            <a:r>
              <a:rPr b="0" lang="en-US" sz="1400" spc="-1" strike="noStrike">
                <a:solidFill>
                  <a:srgbClr val="33006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 = SV (1 + k) (1 + 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= SV (1 + k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= 2000 x 1,10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BV</a:t>
            </a:r>
            <a:r>
              <a:rPr b="0" lang="en-US" sz="1400" spc="-1" strike="noStrike">
                <a:solidFill>
                  <a:srgbClr val="3300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= 2205 k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00360" y="4292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7722-3A80-4DEF-A463-2193ADC36A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rial"/>
              </a:rPr>
              <a:t>Izračun složenih kamata</a:t>
            </a: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 : 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68360" y="2276640"/>
          <a:ext cx="8229600" cy="21240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od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S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(1 + k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BV</a:t>
                      </a:r>
                      <a:r>
                        <a:rPr b="1" lang="hr-HR" sz="1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) = (2) x (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15,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E598-1AEB-48F6-937C-3C38DF9929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35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Jednadžba za izračun buduće vrijednosti glas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BV</a:t>
            </a:r>
            <a:r>
              <a:rPr b="0" i="1" lang="hr-H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 = SV (1 + 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gdje 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 – broj razdoblja za koje se vrši ukamaćiv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27082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311E-3AC4-4FE3-B20B-F51B862451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0066"/>
                </a:solidFill>
                <a:uFillTx/>
                <a:latin typeface="Arial"/>
              </a:rPr>
              <a:t>Izračun sadašnje vrijednosti</a:t>
            </a:r>
            <a:r>
              <a:rPr b="0" lang="en-US" sz="3200" spc="-1" strike="noStrike">
                <a:solidFill>
                  <a:srgbClr val="330066"/>
                </a:solidFill>
                <a:latin typeface="Arial"/>
              </a:rPr>
              <a:t> …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560" y="1484280"/>
            <a:ext cx="8839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i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skontiranj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znos ili gotovinski tijek koji se treba naplatiti ili se duguje na neki budući datum svodi na sadašnju vrije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kontiranjem nekog budućeg iznosa koji dospijeva za n vremenskih razdoblja s k – tom stopom, dobivamo iznos koji bi, da ga imamo danas, ulaganjem uz k-tu kamatnu stopu narastao na tu buduću vrijedno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matna stopa se u ovom procesu naziva diskontna st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C030-6735-40FB-A817-591A62417D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Izračun sadašnje vrijednosti uz pomoć jednadžbe</a:t>
            </a:r>
            <a:r>
              <a:rPr b="0" i="1" lang="en-US" sz="2800" spc="-1" strike="noStrike">
                <a:solidFill>
                  <a:srgbClr val="330066"/>
                </a:solidFill>
                <a:latin typeface="Arial"/>
              </a:rPr>
              <a:t> :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adašnja vrijednost je niža uz višu kamatnu/ diskontnu stopu </a:t>
            </a:r>
            <a:r>
              <a:rPr b="0" lang="hr-H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veća diskontna stopa znači veći oportunitetni trošak i manju sadašnju vrij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V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gdje j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0066"/>
                </a:solidFill>
                <a:latin typeface="Arial"/>
              </a:rPr>
              <a:t>SV – sadašnja vrijed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0066"/>
                </a:solidFill>
                <a:latin typeface="Arial"/>
              </a:rPr>
              <a:t>BV – buduća vrijed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0066"/>
                </a:solidFill>
                <a:latin typeface="Arial"/>
              </a:rPr>
              <a:t>k – diskontna st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0066"/>
                </a:solidFill>
                <a:latin typeface="Arial"/>
              </a:rPr>
              <a:t>n – broj razdobl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48360" y="378936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76720" y="3573360"/>
            <a:ext cx="10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76720" y="3357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3860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 + 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378936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4538-2878-453B-8CA8-3E4334B09D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0066"/>
                </a:solidFill>
                <a:uFillTx/>
                <a:latin typeface="Arial"/>
              </a:rPr>
              <a:t>Primjer</a:t>
            </a:r>
            <a:r>
              <a:rPr b="0" i="1" lang="en-US" sz="3200" spc="-1" strike="noStrike">
                <a:solidFill>
                  <a:srgbClr val="330066"/>
                </a:solidFill>
                <a:latin typeface="Arial"/>
              </a:rPr>
              <a:t> 3: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liko novca treba štediša uložiti u banku danas uz kamatnu stopu 5 % da bi za dvije godine imao 2205 k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V =                   =                 = 2000 k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ključak … </a:t>
            </a:r>
            <a:r>
              <a:rPr b="0" i="1" lang="en-US" sz="2400" spc="-1" strike="noStrike">
                <a:solidFill>
                  <a:srgbClr val="330066"/>
                </a:solidFill>
                <a:latin typeface="Arial"/>
              </a:rPr>
              <a:t>diskontiranje i ukamaćivanje su dvije strane istog procesa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58920" y="321300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58920" y="2781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32000" y="321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 + 0,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40000" y="31417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59280" y="3213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59280" y="2781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132000" y="3284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10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493E-1B8E-4E2E-BC73-95D7E75C23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8920" y="122400"/>
            <a:ext cx="7488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Jednoliki konačni gotovinski tijek </a:t>
            </a:r>
            <a:br>
              <a:rPr sz="2800"/>
            </a:b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(periodična renta)</a:t>
            </a:r>
            <a:r>
              <a:rPr b="0" lang="en-US" sz="2800" spc="-1" strike="noStrike">
                <a:solidFill>
                  <a:srgbClr val="330066"/>
                </a:solidFill>
                <a:latin typeface="Arial"/>
              </a:rPr>
              <a:t> :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9280" y="1719360"/>
            <a:ext cx="87854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laćanje jednakih iznosa u jednakim vremenskim intervalima tijekom specificiranog razdobl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Izračun buduće vrijednosti periodične r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BV = R(1+k)   + R(1+k)     + R(1+k)    + … + R(1+k)  + R(1+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BV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= R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∑ (1 + 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35280" y="3357720"/>
            <a:ext cx="50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-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48000" y="3357720"/>
            <a:ext cx="50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-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32360" y="3357720"/>
            <a:ext cx="50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-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093080" y="335772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8360" y="335772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00720" y="5084640"/>
            <a:ext cx="57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 =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45813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51640" y="4653000"/>
            <a:ext cx="64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-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2123-0503-4EC9-866D-F8F7A10459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gdje 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 – periodično plać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 – vremensko razdoblje, t = 1 do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BV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– buduća vrijednost periodičnog povr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 – kamatna st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 – broj razdob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89E1-6AD3-4E64-8207-314CB079C5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Primjer 4</a:t>
            </a:r>
            <a:r>
              <a:rPr b="0" lang="en-US" sz="2800" spc="-1" strike="noStrike">
                <a:solidFill>
                  <a:srgbClr val="330066"/>
                </a:solidFill>
                <a:latin typeface="Arial"/>
              </a:rPr>
              <a:t> :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9280" y="1719360"/>
            <a:ext cx="8507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rial"/>
              </a:rPr>
              <a:t>Osoba X odlučila je polagati na račun u banci 1000 kn u razdoblju počevši s prvim depozitom za godinu dana dok će zadnji položiti na kraju četvrte god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rial"/>
              </a:rPr>
              <a:t>Koliko će tada imati novaca ako je kamatna stopa 8 %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V4 = 1000 (1,08) + 1000 (1,08)  + 1000 (1,08)  + 1000(1,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000 x 1,26 + 1000 x 1,17 + 1000 x 1,08 +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4510 k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68360" y="357336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51280" y="364500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08720" y="357336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093080" y="364500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DF04-13C3-4988-8132-502B239951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9640" y="691920"/>
            <a:ext cx="8229600" cy="50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amatne stope spadaju u ekonomske varijable čije kretanje se pomno prati – utječu na ekonomske i svakodnevne odluk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 različitim vremenskim točkama novac ima i različitu vrijedn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vac je vrjedniji danas nego u budućnosti .. čekanje košta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ojedinci su stoga na čekanje spremni samo kada imaju određenu naknadu (cijena čekanja i cijena rizika)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amatnu stopu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45C7-3284-47B4-B8E2-69060B475F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0066"/>
                </a:solidFill>
                <a:uFillTx/>
                <a:latin typeface="Arial"/>
              </a:rPr>
              <a:t>Nominalne i realne kamatne stope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tjecaj inflacije na trošak posuđivanja sredst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nflacija smanjuje vrijednost novca </a:t>
            </a:r>
            <a:r>
              <a:rPr b="0" lang="hr-H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realna kamatna stopa je nominalna korigirana za stopu inflac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edstavlja realniji pokazatelj od nominalne st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Fisherova jednadžb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– nominalna kamatna stopa jednaka je realnoj uvećanoj za stopu inflac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 = 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30064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148360" y="537372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148A-9C0A-4B80-AB39-9CEBF2EB01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MATE su naknada koju dužnik plaća za posuđenu glavnicu na određeno vrijeme (vrijeme trajanja kapitalizacije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mate mogu biti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jednostavn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ložen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ovisno o tome što se uzima kao baza za izračunavanje kam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FD06-75C6-4C66-876C-DB31D02577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-134640"/>
            <a:ext cx="754380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ko se kamate obračunavaju za svako razdoblje ukamaćivanja o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s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lavnice, radi se o jednostavnim kamata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ko se kamate obračunavaju n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mjenjivu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lavnicu, riječ je o složenim kamata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631F-FB8C-4FC5-AA68-1169B5DB25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Obračun kamata može biti krajem i početkom razdoblja ukamaćivan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Ako se kamate obračunavaju na kraju razdoblja ukamaćivanja od glavnice s 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početka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razdoblja, govorimo o 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dekurzivnom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obračunu kamat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Ako se kamate obračunavaju na početku razdoblja ukamaćivanja od glavnice s 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kraja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razdoblja, govorimo o 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anticipativnom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obračunu kamat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B19C-A889-4276-B3A1-B591CD93A8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I kod jednostavnog i kod složenog kamatnog računa, obračun kamata može biti dekurzivan i anticipativa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67FD-A906-4971-B826-41F09A6898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 usporedbe vrijednosti nužno je svesti novčane iznose na isti vremenski trenut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KONTIRANJE – svođenje jednokratnog iznosa ili gotovinskog tijeka koji dospijeva u budućnosti na sadašnjost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zračun sadašnje vrijednos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KAMAĆIVANJE – svođenje gotovinskog iznosa ili gotovinskih tijekova na neki budući datum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zračun buduće vrijednos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F20F-3C23-4990-B618-99C6933762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Izračun buduće vrijednost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kamaćivan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e proces u kojem uz primjenu određenih kamata izračunavamo koliko neki iznos ili tijek gotovine vrijedi za </a:t>
            </a:r>
            <a:r>
              <a:rPr b="0" lang="en-US" sz="2400" spc="-1" strike="noStrike">
                <a:solidFill>
                  <a:srgbClr val="669999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zdoblja u budućn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guće je izvesti dva zaključka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Što je viša kamatna stopa viša je i buduća vrijed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Što je veći broj razdoblja ukamaćivanja, viša je buduća vrijed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Buduća  vrijednost je pozitivno korelirana s kamatnom stopom i brojem razdoblja na koje se vrši ukamaćivanje</a:t>
            </a: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B581-0358-4360-AD51-1CD9F99133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Primjer 1</a:t>
            </a:r>
            <a:r>
              <a:rPr b="0" i="1" lang="en-US" sz="2800" spc="-1" strike="noStrike">
                <a:solidFill>
                  <a:srgbClr val="330066"/>
                </a:solidFill>
                <a:latin typeface="Arial"/>
              </a:rPr>
              <a:t> :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tpostavimo da je štediša položio u banku 2000 kn uz kamatnu stopu od 5% na dvije godine uz obračun jednostavnih kama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oliko će imati nakon dvije godine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BV = SV + SV x k + SV x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= SV (1 + 2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= 2000 (1 + 2 x 0,05) = 2000 x 1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BV = 2200 k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4F92-06AB-43BD-8197-87DD66A486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10:46:39Z</dcterms:created>
  <dc:creator>Gordana Kordić</dc:creator>
  <dc:description/>
  <dc:language>en-US</dc:language>
  <cp:lastModifiedBy>Gordana Kordić</cp:lastModifiedBy>
  <dcterms:modified xsi:type="dcterms:W3CDTF">2007-06-08T10:20:12Z</dcterms:modified>
  <cp:revision>214</cp:revision>
  <dc:subject/>
  <dc:title>Poslovne financij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