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58B8-5D35-464C-B01D-EFE1EB7D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83D9-18E3-41B1-8F09-F0F41860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BAA5-B736-4C7D-895D-9321664A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42D2-55E4-4605-B810-161324FB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EF81-0996-4C92-9F4B-0231B035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F11B-85B9-4CD5-BC14-F4A0B366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F1EF-9AAC-4E8E-B98C-DC0A885C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E33D-AF6C-4EE9-AB0B-29A41ED7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BE62-1ADB-4BBB-B185-EEE2E20C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E2E0-44E9-49AE-8EA0-ACD60AD0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88DF-73BC-4562-8521-95CD3B7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2453-CC88-45E4-987E-83206A96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0FEA-A66A-475D-8A0A-7BABAF70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8C4D-1927-4E0E-84B6-9308750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C600-8675-4C52-A1B2-5B19365A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E682-AB88-4679-9E1F-135DD490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26B0-4ABF-49E9-8CC6-59398BE6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F665-2BFE-4BC4-B681-A7E53A99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B45C-642E-4024-9BE3-58CCD714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9092-0CCC-4018-B6B4-D3D66964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A177-D4E7-451C-BD5E-E7BEDA54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06A0-1009-4DCE-BC1F-934A6E8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FE9A-58EE-4A03-9139-52473AB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5051-CE3F-43AB-B977-F9EA9812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0B3A-912E-4BE9-81F0-89ED224CEA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A638-1B6F-445F-B267-621DF27107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onološka norm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r. sc. Lana Hude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lasovne promjene: jotacija (2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, b, m, v, f + j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plj, blj, mlj, vlj, fl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imjeri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kapati – kapljem, Europa – Europljanin, glup – gluplji, riba – riblji, krava – kravlji, grm – grmlje, naziv – nazivlje, Vakuf – Vakuflja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3943440"/>
          <a:ext cx="8229600" cy="2190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l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l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A797-88BC-4375-B66F-C7E4E87AE6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lasovne promjene: jotacija (3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tacija se provod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609480" y="2286000"/>
          <a:ext cx="8229600" cy="408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komparativu pridjeva i prilog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el – bjelji, žut – žući, ljut – ljući, dugo – duže, suho – suše, žuto – žuće, glup – gluplj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instrumentalu jednine imenica ženskog roda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sklonidb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v –  krvlju, kost – košću, glad – glađu, savjest – savješću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prezentu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kati – vičem, skakati – skačem, strugati – stružem, puhati – pušem, sisati – sišem, nicati – ničem, glodati – glođem, kapati – kaplje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tvorbi: ispred sufiksa </a:t>
                      </a:r>
                      <a:r>
                        <a:rPr b="1" i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janin, -jar, -jast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jeka – Riječanin, Osijek – Osječanin, Velika Gorica – Velikogoričanin, Pariz – Parižanin, Vakuf – Vakufljanin; knjiga – knjižar, trbuh – trbuša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4C6D-66E7-4D58-95C5-36DDAA41E49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09480" y="609480"/>
            <a:ext cx="784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Glasovne promjene: zamjena l s 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uglasnik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a kraju sloga ili riječi zamjenjuje se s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, npr.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ličilac </a:t>
            </a:r>
            <a:r>
              <a:rPr b="1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ličioci </a:t>
            </a:r>
            <a:r>
              <a:rPr b="1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ličiočev, orao </a:t>
            </a:r>
            <a:r>
              <a:rPr b="1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orlovi </a:t>
            </a:r>
            <a:r>
              <a:rPr b="1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orlov, selo </a:t>
            </a:r>
            <a:r>
              <a:rPr b="1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seoce.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okalizacija se provodi u glagolskome pridjevu radnom muškog roda: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čita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čital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hti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htjel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želi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željel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, u muškome rodu pridjeva: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cio (cijela), mio (mila)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, u N jd. imenica muškog roda: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di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(G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dijel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, N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anđe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(G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anđel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arkanđe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(G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arkanđel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5448240" y="29527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7645-2B7C-4685-A4A8-632C65A0E14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094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Glasovne promjene: gubljenje suglas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-52340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bez+zvučan </a:t>
            </a:r>
            <a:r>
              <a:rPr b="1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bezvučan, pred+dvor+je ­</a:t>
            </a:r>
            <a:r>
              <a:rPr b="1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predvorje.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e gube se (izgovaraju se i pišu) udvojeni zatvornici u superlativu kojima komparativ počinje glasom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(najjači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, najjednostavniji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) i u nekim složenicama (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naddržavni, poddijalekt, izvannastavni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td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adatci, napredci – suglasnici t i d uvijek se gube, ali se prema BFM i BHM pravopisu ipak biljež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9646-B003-4619-B09B-75D3B5327F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33520" y="6858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lasovne promjene: prijevoj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jevoj je izmjenjivanje samoglasnika u riječima istoga korijena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ot – plesti – uplita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111480" y="3943440"/>
            <a:ext cx="292104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273D-5A01-4610-892C-221945A7F6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Glasovne promjene: nepostojano 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rubac,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G jd.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rupc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breskv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, G mn.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bresak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sav – sva, takav – takva, kakav – kakv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>
            <a:off x="3111480" y="3943440"/>
            <a:ext cx="292104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EA0C-BF93-4B9F-9254-FFB3A5C64D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68580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Glasovne promjene: nepostojano 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 nekim kajkavskim toponimima te prezimenima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Čakovec – Čakovca, Gubec – Gupca, Vramec – Vramc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3111480" y="3943440"/>
            <a:ext cx="292104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3E9A-88E0-443B-B937-8B413262C2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04920" y="457200"/>
            <a:ext cx="830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Glasovne promjene: zamjene ije/je/e/i (1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aćenje slo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57200" y="2133720"/>
          <a:ext cx="8229600" cy="473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nejednakosložnim imenicam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jete – djeteta; tijelo – tjeles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oblicima imenica iza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 suglasničkom skupu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drijebe – ždrebeta i ždrjebeta;  brijeg – bregovi i brjegov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dugoj množin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ijet – cvjetovi; lijes – ljesovi; snijeg – snjegovi; vijek – vjekov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imenicama ž. r. s proširenom osnovom u G mn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vocijevka – dvocjevaka; pripovijetka – pripovjedak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nesvršenim glagolim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bijediti – pobjeđivati; dodijeliti – dodjeljivat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komparativu i superlativu pridjeva i prilog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el – bjelji – najbjelji; bijelo – bjelje – najbjelje;  trijezan – trezniji – najtreznij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tvorbi (sufiksi </a:t>
                      </a:r>
                      <a:r>
                        <a:rPr b="1" i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ad, -ica, -čić...</a:t>
                      </a: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zlijediti – ozljeda; lijevati – ljevač; plijeniti – pljenidba; lijep – ljepuškast; zvijer – zvjerad; rijeka – rječica; cvijet – cvjeti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9760-A0A6-46D4-9B6F-FE6CBE60A0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Glasovne promjene: zamjene ije/je/e/i (2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ljenje slo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85800" y="2362320"/>
          <a:ext cx="8458200" cy="10951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oblicima glagola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jeć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jeći – siječem..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nesvršenim glagolima (prema svršenima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gorjeti – dogorijevati, razumjeti – razumijeva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3111480" y="3886200"/>
            <a:ext cx="299736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D64D-80BD-4410-B8A0-84F6A40F8C08}" type="slidenum">
              <a:t>18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Naglasci u hrvatskome standardnome jeziku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atkosila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atkouzla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gosila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gouzla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0583-7BCD-412B-9371-0B54E63A43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838080" y="838080"/>
            <a:ext cx="79250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Pravila o naglašivanju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1. naglasak ne može biti na zadnjemu slogu u riječ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2. jednosložne riječi imaju samo silazne naglas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3. višesložne riječi mogu imati bilo koji od četiri naglaska na prvome slog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4. na unutarnjim slogovima višesložne riječi mogu stajati samo uzlazni naglas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1513-2985-43FC-8B23-3FC8D0A6E6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Glasovne promjene: jednačenje po zvučnosti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57200" y="1600200"/>
          <a:ext cx="8229600" cy="152352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47720"/>
                <a:gridCol w="749520"/>
                <a:gridCol w="747720"/>
                <a:gridCol w="749160"/>
                <a:gridCol w="747720"/>
                <a:gridCol w="747720"/>
                <a:gridCol w="747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imjeri: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potpredsjednik, svagdanji, pretpotopni, pretkutnjak, pretklijetka, golupčić, ropstvo, otpasti, potpaliti, bespravni, beskofeinski, prethoditi, pothodn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Jednačenje po zvučnosti ne bilježi se u pismu kad je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spred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s, š, c, č, ć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podcrtati, podcijeniti, brodski, gradski, podsvijest, predsjednik, predstava, predstavnik, sredstvo, srodstvo, sudski,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sudstvo, odčitati,  podčiniti, podšivati, odćurlikati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za prefiksa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ispod-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iznad-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npr.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ispodprosječan, iznadprosječan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te u nekim riječima stranoga podrijet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8276-8484-4313-8A60-7A9110EF25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Glasovne promjene: jednačenje po mjestu tvorbe (1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imjeri: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orah </a:t>
            </a:r>
            <a:r>
              <a:rPr b="1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oraščić, snalaziti se </a:t>
            </a:r>
            <a:r>
              <a:rPr b="1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snalažljiv, iščupati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 raščešlj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uglasnici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ne zamjenjuju se suglasnicima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spred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lj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nj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kad su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završni suglasnici prefiksa: </a:t>
            </a:r>
            <a:r>
              <a:rPr b="0" i="1" lang="hr-HR" sz="2800" spc="-1" strike="noStrike">
                <a:solidFill>
                  <a:srgbClr val="ffffff"/>
                </a:solidFill>
                <a:latin typeface="Arial"/>
              </a:rPr>
              <a:t>razljutiti, izljubiti, sljubiti s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57200" y="3943440"/>
          <a:ext cx="8229240" cy="21906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pala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15A7-E60D-41B5-BF3E-EE8A8D430D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Glasovne promjene: jednačenje po mjestu tvorbe (2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 + b / p &gt;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hiniti </a:t>
            </a:r>
            <a:r>
              <a:rPr b="1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 himba, stan </a:t>
            </a:r>
            <a:r>
              <a:rPr b="1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 stambeni, začiniti </a:t>
            </a:r>
            <a:r>
              <a:rPr b="1" lang="hr-HR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 začimb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uglasnik 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jim završava prefiks ili prvi član složenice ne zamjenjuje se s 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spred 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hr-HR" sz="3200" spc="-1" strike="noStrike">
                <a:solidFill>
                  <a:srgbClr val="ffffff"/>
                </a:solidFill>
                <a:latin typeface="Arial"/>
              </a:rPr>
              <a:t>izvanparnični, izvanbrodski, jedanput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E804-939E-4178-B65A-A493A4C53E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09480" y="10666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Glasovne promjene: palatalizacij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epalatalni suglasnici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k, g, h, c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amjenjuju se palatalnima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č, ž, š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spred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i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228600" y="2666880"/>
          <a:ext cx="8458200" cy="36720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vokativu imenica muškog ro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g – bože, momak – momče, rog  – rože, uskok – uskoče, obelisk – obelišče, starac – starče, ujak – ujače, stric – striče, vuk – vuč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2. i 3. l. jd. aorista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koh – reče, pekoh – peče, digoh – diž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tvorb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c – zečinjak; kamilica – kamiličin; kolac – kolčin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8A40-526E-43B0-8FB6-372C3F1C6D7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Glasovne promjene: sibilarizacij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lasnic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, g, 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zamjenjuju se suglasnicim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, z, 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pr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57200" y="2819520"/>
          <a:ext cx="8229600" cy="382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DL jd. imenica ženskog roda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ga – nozi, ruka – ruci, slika – slici, tuga – tuzi, zloduh – zlodus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NDLI mn. imenica muškog roda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g,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mn.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zi,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LI mn.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zima; momak,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mn.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omci,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LI mn.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omcima; vuk,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mn.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uci,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LI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n. 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ucima; dječak,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mn.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ječaci, </a:t>
                      </a:r>
                      <a:r>
                        <a:rPr b="0" i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LI  mn.</a:t>
                      </a: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ječacim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nesvršenim glagolima prema svršenim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nuti – dizati, uzdahnuti – uzdisa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D9FB-DC1D-436B-9ECA-AF36492A9A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7621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lasovne promjene: jotacija (1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epalatal + j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pala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mjeri: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list – lišće, grozd – grožđe, pljeskati – plješćem ...plješću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glad – glađu, smrt – smrću, plakati – plačem ... plaču, vikati – vičem ... viču, isplatiti – isplaćen, mlad – mlađi, strog – stroži, ispratiti – ispraćaj, zagrliti – zagrljaj, labud – labuđi, jesen – jesenji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457200" y="3943440"/>
          <a:ext cx="8229240" cy="2190600"/>
        </p:xfrm>
        <a:graphic>
          <a:graphicData uri="http://schemas.openxmlformats.org/drawingml/2006/table">
            <a:tbl>
              <a:tblPr/>
              <a:tblGrid>
                <a:gridCol w="747720"/>
                <a:gridCol w="748080"/>
                <a:gridCol w="747720"/>
                <a:gridCol w="748080"/>
                <a:gridCol w="747720"/>
                <a:gridCol w="750240"/>
                <a:gridCol w="748080"/>
                <a:gridCol w="748080"/>
                <a:gridCol w="747720"/>
                <a:gridCol w="748080"/>
                <a:gridCol w="74772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F23C-C335-44F7-9B22-DF45AEEA16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1:58:06Z</dcterms:created>
  <dc:creator>Milica</dc:creator>
  <dc:description/>
  <dc:language>en-US</dc:language>
  <cp:lastModifiedBy>Lana</cp:lastModifiedBy>
  <dcterms:modified xsi:type="dcterms:W3CDTF">2007-11-08T12:09:26Z</dcterms:modified>
  <cp:revision>104</cp:revision>
  <dc:subject/>
  <dc:title>Terminološki problemi pri prevođenju</dc:title>
</cp:coreProperties>
</file>