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A9C-0C97-46A0-A0BF-4D171402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5AC-63BD-4DB5-8E74-809CBC15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82F-B87E-4BFE-8F76-1648B2AD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9ED-6E0E-4B89-AE7F-5B1D4427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CBA-E7C0-42E4-82FF-0815875C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8904-7156-4F3E-A0CB-F7C2CC75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DBE4-DBD4-44B2-B5A7-593EE530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6DCB-D9F4-44D6-8B28-A27BF4AC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88AE-2F47-4452-B07E-C9958C11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30D0-53C5-4655-A119-FC0AB18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3C65-C32F-4B15-B4EC-CC382690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DD4-6AC7-428D-B5FF-183FA0FE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7AC7-C3C4-40F3-9F0F-DD5AF9C0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B568-473A-447B-AD5E-3272B05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4994-8B35-4898-8173-AEC6A749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6239-6938-4AF8-B0A8-62A53D2A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84DF-C3B5-42E0-85B2-101FEEB6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88AF-F222-48E6-BFEC-9A0D9020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606-6E7C-445B-831F-83C5EADC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C45-6902-43C1-A388-06BF2A65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E57-A3A8-42BE-8385-AEB33F09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C19-A8D3-4890-BEFF-1BF658CF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A0B-2B35-44D2-A3C1-3D6F3DB1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D03-2B48-4071-BCC8-47A729E1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BAA1-06C6-4613-B643-4C3F432A1C81}" type="slidenum">
              <a:rPr b="1" lang="hr-H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7943-4EAA-48A4-B447-F66BF9291569}" type="slidenum">
              <a:rPr b="1" lang="hr-H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Arial"/>
              </a:rPr>
              <a:t>Poduzetnički menadžmen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4005360"/>
            <a:ext cx="42912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6666"/>
                </a:solidFill>
                <a:latin typeface="Arial"/>
              </a:rPr>
              <a:t>Mr.sc. Dalibor Pudić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Tipovi menadžmen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spekt razina (hijerarhijsk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Top management (menadžeri na najvišoj razin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iddle management (menadžeri na srednjoj razin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ower ili First-line management (menadžeri na prvoj razin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spekt djelokruga odgovornosti (horizontaln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unkcijsk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Linijsk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Generaln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ojektni menadže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Top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na najvišoj hijerarhijskoj raz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za poduzeće kao cjelin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o su predsjednik i članovi Uprave, izvršni direktori (CEO-chief executive offic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rinu za budućnost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emeljna odgovornost im je: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stavljanje cilje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finiranje strategi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nito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onošenje strateških i drugih važnih odluk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iddle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srednje raz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između nivoa prve razine i top raz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rijentiran je na bližu budućn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pojedine odjele i sektore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imjeri su: rukovoditelj odjela za razvoj, financije, prodaju,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implementaciju cjelokupne strategije i politike koju vodi vrhovni top menadž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ower ili First-line manag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Čine ga menadžeri direktno odgovorni za proizvodnju dobara i uslug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ni su prva i druga razina menadžmenta te imaju nazive kao što su: supervisor, line manager, section chief, office mana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jihova je primarna zadaća primjena pravila i procedura za ostvarenje efikasnije proizvodnje, osiguranje tehničke asistencije, i motiviranje podređeni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ukovode radom zaposlenih koji ne pripadaju menadžeri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rijentirani su na kratak rok-ostvarivanje dnevnih zadata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55280" y="2362320"/>
            <a:ext cx="838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Funkcijsk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za odjele koji provode pojedine funkcijske zadat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jeli obavljaju iste ili slične zadatke i u njima rade ljudi istih ili sličnih profesija (odjel prodaje, nabave, financija, računovodstva,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inijsk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odjele koji neposredno provode temeljne zadat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Generaln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dgovorni su za nekoliko odjela koji obavljaju različite funkci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jektni menadžer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Imaju također odgovornost generalnog menadžera s obzirom da koordiniraju rad osoba iz nekoliko odjela uključenih u projek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Limitirani su rokovi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Karakteristike menadžmen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76694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ad s drugima i pomoću drugi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stvarivanje ciljeva poduzeća je kolektivna akciju koja je nezamisliva bez menadžmen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Operativne zadatke ne obavlja neposredno menadžment 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osigurava svojevrsnu logističku potpor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je odgovoran za ostvarenje ciljeva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stvara uvjete za efikasnu i efektivnu uporabu drugi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Ostvarivanje ciljeva poduzeća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duzeće postoji kako bi ostvarilo određene ciljeve, a ti ciljevi zahtijevaju zajedničku akcij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Upravo ciljevi determiniraju svrhu i smjer menadž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Ciljevi poduzeća jesu i mjerilo uspješnosti menadžmenta, s obzirom da se komparira ostvareno i zad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276280"/>
            <a:ext cx="8532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avnoteža efektivnosti i efikasnost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ment je odgovoran za ravnotežu između efektivnosti i efikasnost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ikasnost se ovdje shvaća kao odnos uloženog i ostvareno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ikasnost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-„Obavljanje posla na pravi način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ikasan menadžment reducira troškov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ektivnost podrazumijeva veličinu profita kojeg je potrebno ostvarit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ektivnost -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„Raditi prave stvari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Efektivan menadžment povećava profit povećavajući produktivno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Racionalno korištenje ograničenih resu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esursi koji se koriste u procesu proizvodnje nisu neograniče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Najbolji primjer su energenti, pa je nužno da se s njima postupa racionaln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Također visina cijene resursa ograničava njihovu uporab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Promjenjiva okolina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kolina poduzeća puna je promjena koje su sve brojnije , raznovrsnije i dinamičnij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Stoga okolina poduzeća postaje složena, heterogena, dinamična i neizvjesn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U tome kontekstu okolina nameće menadžmentu dva zadatk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1) pripremiti se za nastupajuće promje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2) prilagoditi se nastalim promjena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menadžment mora odrediti primjerenu strategiju djelovanja prema toj okolini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 ne imati pasivan odnos prema okol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6666"/>
                </a:solidFill>
                <a:latin typeface="Arial"/>
              </a:rPr>
              <a:t>Ključne sastavnice efektivnog menadže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2575080"/>
          <a:ext cx="8001000" cy="38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75080"/>
                    <a:ext cx="8001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Predavan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20% dozvoljen broj izostanak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7775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560" y="2550960"/>
            <a:ext cx="77058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1) Menadžer kao aktivni vođ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ako bi poduzeće bilo uspješno ono mora imati i neke menadžere koji su također i vođe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Za razliku od menadžera koji troši najviše vremena da </a:t>
            </a: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radi stvari na pravi način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, vođa najveći dio svoga vremena troši na to da </a:t>
            </a:r>
            <a:r>
              <a:rPr b="0" i="1" lang="hr-HR" sz="2000" spc="-1" strike="noStrike">
                <a:solidFill>
                  <a:srgbClr val="ff0000"/>
                </a:solidFill>
                <a:latin typeface="Arial"/>
              </a:rPr>
              <a:t>radi prave stvar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Veliki vođe prenose svoju viziju na zaposlene te ih isto tako angažiraju na ostvarenju te vizij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Vođe se sami posvećuju zadatku ne misleći na neuspjeh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Efektivan menadžer je aktivan sudionik u procesu rada, a ne promatrač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Zadaća mu je da definira strategiju i vodi zaposlene prema njezinome ostvarenj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ije dovoljno da ima znanja već mora imati i strast za posao koji obavlja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2) Pozitivna radna okolina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Efektivan je menadžer dužan stvarati pozitivnu radnu okolin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o je takva radna okolina u kojoj menadžeri stvaraju uvjete koji potiču zaposlene na uspjeh, a istodobno uklanjaju uzroke neuspjeh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trebaju oblikovati svoju organizacijsku jedinicu kroz dva smjer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gućnost da zaposlenici mogu ostvarivati visoke učin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mulans koji će poticati da zaposlenici mogu ostvarivati visoke učin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26920" y="2393640"/>
            <a:ext cx="784872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gućnost da zaposlenici mogu ostvarivati visoke učinke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itanja radnih prostora (lokacija, veličina, uređenost, osvjetljenje, boja itd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itanje radnih metoda i tehnologije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rganizacija radnog mjest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valifikacija zaposlenih i d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mulans koji će poticati na ostvarivanje visokih učinaka –razni motivacijski faktori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blikovanje posl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l vođenj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litika poduzeć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laća i d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8497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3) Mogućnost ostvarenja visokih performan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trebno je ispuniti dva uvjet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a) temeljito poznavanje poslov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zaposleni moraju znati što rade i kako to ra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moraju predlagati i unapređivati postojeći način r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Japan- razvijena metoda kružoka kvalitete (QC - Quality Circ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b) opskrbljenost potrebnim resursim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- Zaposleni moraju imati resurse u odgovarajućem opsegu i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pisane kvalitete i to u onim vremenskim rokovima kada su im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trebni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55280" y="2349000"/>
            <a:ext cx="8209080" cy="22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(4) Poticaj za ostvarivanje visokih performan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enadžeri moraju oblikovati prikladne stimulacije za visoke učinke.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ra poznavati</a:t>
            </a:r>
            <a:r>
              <a:rPr b="1" lang="hr-H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uvremene metode motivacij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ora uskladiti izabrane metode motivacije sa ciljevima svoga poduzeća, time razvija timski rad koji je danas temelj prosperiteta poduzeć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280" y="2361960"/>
            <a:ext cx="8388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azvojni put: od “goniča robova” do menadžmenta, odnosno od zapovijedanja do motiviranj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H. Fayol – kruta koncepcija (početak 20 st.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termini iz vojničke terminologij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. Drucker – uvodi dva nova mome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rukčiji stav i odnos prema ljudima – naglasak na komuniciranju i motiviranju, a ne naređivanju i kontroliranj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aglašava kvantitativni aspekt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ciljevi se postave u brojkama (mjerljive veličine)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stvore se instrumenti za mjerenje rezult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rezultati se mjere i ocjenjuju s izvršitelj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kcije menadžmen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Funkcije menadžmenta - Koont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lan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rganiz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adrov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Vođenj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ntrolir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Plan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proces postavljanja budućih ciljeva, pretpostavki o okolini u kojoj se trebaju realizirati, izbor pravaca akcije, sredstava i načina ostvarivanja ciljeva (F. Bahtijarević-Šiber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planiranje podrazumijeva analizu prilika i mogućnosti poduzeća u promjenjivoj okolini, prednosti i nedostataka, alternativnih pravaca razvoja i sl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ne misli se na precizne i formalne kratkoročne planove, već na dugoročnu strategijsku orijentaciju poduzeć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sastavni je dio menadžmenta na svim razinam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Arial"/>
              </a:rPr>
              <a:t>omjer onog gdje se poduzeće nalazi sada i gdje želi b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Arial"/>
              </a:rPr>
              <a:t>bez plana ne znamo gdje želimo stić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Organiz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stalna aktivnost menadžera u usklađivanju ljudskih i materijalnih resursa, raspodjeli rada, dodjeljivanju određenih zadataka i odgovornosti pojedincima i grupama, sve u svrhu ostvarivanja pretpostavljenih plano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F. Bahtijarević – Šiber definira organiziranje kao proces kojim se efikasno povezuju ljudi i zadaci i koordiniraju individualne i grupne aktivnosti u ostvarivanju cilje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postavlja odgovarajuću organizacijsku strukturu i odnos u poduzeću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Kadrov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organiziranjem su dodijeljene uloge i zadaci pojedincima koji trebaju ostvariti ciljeve poslovanja, a kadrovskim popunjavanjem se te uloge dodjeljuju konkretnim ljudima za koje se očekuje da će ih najbolje izvrš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realizaciju ove funkcije omogućuje prepoznavanje raspoloživih kadrova, zapošljavanje novih kadrova, selekcija i profesionalna orijentacija, unaprjeđenja, planiranja karijere, razvoj i poticanje kreativnosti pojedinaca, osposobljavanja i usavršavanja zaposlenik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razvoj ljudskih potencijala jedan je od najvažnijih strateških zadatak menadžment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2361960"/>
            <a:ext cx="828036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3366"/>
                </a:solidFill>
                <a:latin typeface="Arial"/>
              </a:rPr>
              <a:t>Obvezna litera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Siropolis, C., Nicholas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: Menedžment malog poduzeća, MATE, 1995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Deželjin, J., Deželjin, J., Dujanić, M., Tadin, H., Vujić. V.:</a:t>
            </a: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 Poduzetnički menadžment, Alineja, Zagreb, 1999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3366"/>
                </a:solidFill>
                <a:latin typeface="Arial"/>
              </a:rPr>
              <a:t>Izborna literatu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Hisrich, R.; Peters, M.: Entrepreneurship, 1998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Timmons, J. A.: New Venture Creation, 5th Ed., Irwin / McGraw-Hill, 1997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Bursteiner, I.: The Small Business Handbook: A Comprehensive Guide to Starting and Running Your Own Business, Simon &amp; Schuster, New York, 1997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Hamel, G. “Strategic Flexibility: Managing in a Turbulent Economy”, Wiley, Chichester, UK. 1998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Buble, M.: Osnove Menadžmenta, Sinergija nakladništvo,Zagreb, 2006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3366"/>
                </a:solidFill>
                <a:latin typeface="Arial"/>
              </a:rPr>
              <a:t>članci iz časopisa, slučajevi iz poslovne prak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Vođenj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ova se funkcija odnosi na utjecaj, vođenje i poticanje aktivnosti članova organizacije i osiguravanje uvjeta za visoku motivaciju i angažman ljudi u realizaciji organizacijskih zadataka i ciljev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funkcija vođenja predstavlja interpersonalni aspekt menadžmenta te je logično da su problemi koji nastaju u realizaciji ove funkcije najsloženiji i najosjetljivij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vođenje uključuje motiviranje, izbor između različitih stilova vođenja i komuniciranja s ljudima      vođa mora uvjeriti i inspirirati ljude da djeluju i da ga slijede u željenom smjeru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54450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Kontroliran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postupak mjerenja i ocjenjivanja stupnja realizacije postavljenih ciljeva te poduzimanje korektivnih akcija ukoliko proces pokaže da postoje negativna odstupanja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ovdje je posebno istaknuta veza između prve i zadnje funkcije menadžmenta koje zatvaraju poslovni proces   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bez postavljenih planova nije moguće kontrolirati tijek poslovanja, a planiranje bez kontrole izvršenja planova isto je tako besmisleno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svrha kontrole je smanjivanje mogućnosti neuspjeha na najmanju moguću mjeru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28000" y="436572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Vrijeme koje se ulaž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16000" y="2533680"/>
            <a:ext cx="662472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truktura radnog vreme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71640" y="2585880"/>
            <a:ext cx="6624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Stvarno utrošeno vrije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2681280"/>
            <a:ext cx="712944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Današnji menadžeri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maju od 18 na više god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pravljaju velikim multinacionalnim korporacijama i malim poduzetničkim projekt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ožete ih pronaći u javnim i privatnim organizacij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a svim kontinentima i u svim zemljama svije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Neki se nalaze na vrhu a neki se nalaze na prvoj razini menadžmen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Žene su jednako dobre kao i muškarc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išljenje predsjednika uprava o izvršnim direktorima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38% misli da su plaće direktora prevelik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64% očekuje daljnje povećanje fiksnog dijela plać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13% misli da su plaće izvršnih direktora ujednačene sa stanjem u nacionalnoj ekonomij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49% misli da bi odobrenje od strane dioničara bio najbolji način za njihovo smanjivan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640080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Times New Roman"/>
              </a:rPr>
              <a:t>USC Marshall School of Busi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enadžerske vještin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nceptualne vješ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Komunikacijske vješ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Tehničke vješ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Vještine rada s ljud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Konceptualne vješ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osobnost korištenja pravih informacija kako bi se riješio pojedini poslovni probl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elektiranje kritičnih informacija iz mase podata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poznavanje problematičnih područja koja zahtijevaju rješe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dentifikacija prilika za inovacij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oznaja na koji način vam može pomoći tehnolog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hvaćanje cjelovitog poslovnog mode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Komunikacijske vješ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posobnost da pretvori ideje u riječi i akcij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redibilitet među kolegama, zaposlenicima i podređeni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oć aktivnog sluš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oć postavljanja kvalitetnih pit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zentacijske vještine – verbalni i neverbalni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isana komunikaci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Sadržaj predavan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2276280"/>
            <a:ext cx="8001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Menadžment- definicija, funkcije, vještin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Poduzetništvo i poduzetnik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Malo i srednje poduzetništvo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Kupnja poduzeć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Franšizing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Obiteljska poduzeć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Izumi i poduzetnik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Životni ciklus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Činitelji poslovanj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Rezultati poslovanj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Mjerila uspješnosti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Vođenje malog i srednjeg poduzeć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Rast poduzeća i ulaganj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Društvena odgovornost poduzetnik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OECD načel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Rizik i poslovno odlučivanje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3366"/>
                </a:solidFill>
                <a:latin typeface="Times New Roman"/>
              </a:rPr>
              <a:t>Organizacijska klima i kultura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72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Tehničke vješt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43180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okus na kup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multi-tasking – rad na većem broju zadata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govaračke vješt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ojektni menadž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evizija operacija i implementacija poboljšanj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ostavljanje prioriteta za aktivn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pravljanje vremen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Vještine rada s ljud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treniranje i mentoriranje vješti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fleksibilnost u radu s ljudima koji dolaze iz raznih kultu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umrežavanje unutar i izvan organ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rad u timovima – kooperacija i preda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Menadžment podrazumije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imjenu u bilo kojoj vrsti organizaci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dnosi se na menadžere na svim hijerarhijskim razina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cilj svih menadžera je isti: stvoriti vrijed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pretpostavlja produktivnost, efektivnost i efikas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Želite biti dobar menadžer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ontinuirano pratite poslovne vijesti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čitajte najbolje knjige o dobrim i lošim primjerima u poslovanj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epoznajte ono što je jedinstveno kod svake osobe i pokušajte da se ta prednost kapitalizir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radite kontinuirano na svojim mekanim vještinama – etici; komunikacijskim vještinama; vještini prikupljanja informacija i izgradnje mreže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omatrajte druge menadžere i učite iz njihovih primjer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ričajte s drugim menadžerima o očekivanjima koje imaju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čnite razmišljati o tome koliko biste uistinu uživali da jednog dana postanete menadž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Neki istraživački brojev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91% viših menadžera misli kako je efektivnost/produktivnost jedan od tri ključna činitelja izvedbe poduzeć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71% ispitanika je odgovorilo negativno kad su ih pitali da li bi željeli biti šefo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76% američkih zaposlenika voli posao koji radi ali je mišljenja kako njihovi nadređeni taj isti posao rade manje poželjni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14% zaposlenika, izjavilo je kako su zadovoljni sa svojim poslom, međutim 40% njih osjeća kako su odvojeni od drugih zaposlenik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više od polovice zaposlenika izjavila kako je neslaganje s nadređenim ključan razlog za odlazak iz poduzeć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77% angažiranih zaposlenika (oni koji obavljaju strastveno posao i identificiraju se s vrijednostima poduzeća) složilo se kako njihovi nadređeni imaju ključnu ulogu kada je riječ o njihovom zadovoljstvu na posl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Zaključa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Često nekome zavidimo ili mu se divimo na karijeri koju je ostvario, a pritom se rijetko zapitamo kako je došao do uspjeh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Omjer između “uspjeha i sreć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Ispitao je 1200 “uspješnih ljudi od karijere: odvjetnika, umjetnika, menedžera u industriji, profesora,…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Svima su postavljena ista pitanja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liko ste zadovoljni karijerom i statuso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liko samim poslom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Koliko ukupnom kvalitetom svog život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karijerom? 100% ispitanika - 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samo karijerom, ali ne poslom i životom? 15% ispitanika - 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karijerom i vrstom posla ali ne i osobnim životom? 80% - da. (zanimljivi poslov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"/>
              </a:rPr>
              <a:t>Zadovoljni karijerom, vrstom posla i ukupnim životom? 4% - 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3284280"/>
            <a:ext cx="817272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Times New Roman"/>
              </a:rPr>
              <a:t>Menadžment- definicija, funkcije, vještin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MENADŽ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MENADŽMENT JE ZNANOST, A USPJEŠAN MENADŽMENT JE UMJETNOST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Ne može se do kraja naučiti a još manje kopira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ArialMT"/>
              </a:rPr>
              <a:t>Noam Choms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“</a:t>
            </a: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Govorim ono što mislim a ne ono što biste vi trebali mislit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ArialMT"/>
              </a:rPr>
              <a:t>Moja namjera nije uvjeravati ljude, nego pomoći im da oni uvjere sebe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Definic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je proces oblikovanja i održavanja okruženja u kojem pojedinci, radeći zajedno u skupinama, efikasno ostvaruju odabrane ciljeve (Weihrich i Koontz)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je proces rada s drugim ljudima, kojima se ostvaruju organizacijski ciljevi, u promjenjivoj sredini, uz efikasnu upotrebu ograničenih resursa (Peter Drucker)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3366"/>
                </a:solidFill>
                <a:latin typeface="Calibri"/>
              </a:rPr>
              <a:t>Menadžment kao proces donošenja odluka usmjerenih na ostvarivanje ciljeva, pri čemu menadžeri upotrebljavaju svoje vještine u donošenju odluka sa svrhom vođenja drugih prema postizanju ciljeva (Atchison i Hill)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6666"/>
                </a:solidFill>
                <a:latin typeface="Arial"/>
              </a:rPr>
              <a:t>O menadžerskom posl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va stajališta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1. menadžerski posao je uvijek isti bez obzira na poduzeće, njegovu organizaciju, djelatnost i situaciju    posao menadžera se sastoji od niza uloga i funkcija koje su iste u svim poduzeći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2. menadžerski posao se bitno razlikuje od poduzeća do poduzeća zbog razlika u individualnim karakteristikama, situacijskim varijablama i organizacijskom kontekst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oba su stajališta točn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76720" y="31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5013360"/>
            <a:ext cx="2872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6381720"/>
            <a:ext cx="79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3366"/>
                </a:solidFill>
                <a:latin typeface="Times New Roman"/>
              </a:rPr>
              <a:t>F. Bahtijarević – Šiber, “Organizacijska teorija”, Informator, Zagreb, 1991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Postoji jako mnogo zajedničkih funkcija i poslova, ali razlike postoje u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ilu vođenj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načinu rješavanja problema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trukturi klijen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loženosti organizacijske strukture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kvaliteti nosioca pojedinačnih zadataka, njihovom znanju i sposobnostima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znanju, mogućnostima i sklonostima menadž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0:07:59Z</dcterms:created>
  <dc:creator>User</dc:creator>
  <dc:description/>
  <dc:language>en-US</dc:language>
  <cp:lastModifiedBy>Bruno</cp:lastModifiedBy>
  <dcterms:modified xsi:type="dcterms:W3CDTF">2009-03-15T11:44:32Z</dcterms:modified>
  <cp:revision>18</cp:revision>
  <dc:subject/>
  <dc:title>Poduzetnički menadžment</dc:title>
</cp:coreProperties>
</file>