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C87B-9C7E-479D-8A21-6AC6A0CBA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89C8-FDE6-4B91-B697-5A2CE74C8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493C-35CF-4480-A4A7-312E7B087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1A2E-4533-4065-A978-81142FC2D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E3E31-F1F6-4552-BD2A-A993B75B2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79700-64A6-4730-952B-FE6F8E402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B8D70-3BC5-4BCD-9C5B-E0FDEAB85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4518C-9FD5-41B2-AE21-81C0C501C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081F7-0FF0-4680-90A6-B6C861037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8C0C7-1D20-4C7B-9310-6FE9E1FB2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C5A99-7966-4A07-9475-9312ECBF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10F7-C92C-4807-9174-C55143EC1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6891E-8AC2-443F-ADFD-1F017E5E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7D0BA-C243-41C2-BD12-62D357F5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52E75-40D3-4D8A-8B35-34F529469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7D239-A57F-413E-9F13-B682F14EB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A922D-0DA7-40B0-80FC-A855DA653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2796-EEB9-458F-9050-599571BD0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73CE-CE93-4778-BB8E-429599F67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10D9-9190-4680-AC61-7A6EE0EF8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7BA3-5510-4BDE-B649-A31CF8099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FBBC-A6DA-4649-BD09-B23D18B6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61E7-2E5C-4A97-8073-8BDEC89E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D84B-62B0-4F66-9C3E-0A19F90A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63B65-C4B9-4A80-B262-7F4B0A3BFB90}" type="slidenum">
              <a:rPr b="1" lang="hr-H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4BD85-DAA0-4E65-AC6A-5988B7E2903C}" type="slidenum">
              <a:rPr b="1" lang="hr-H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3366"/>
                </a:solidFill>
                <a:latin typeface="Arial"/>
              </a:rPr>
              <a:t>Poduzetnički menadžmen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73520" y="4005360"/>
            <a:ext cx="429120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6666"/>
                </a:solidFill>
                <a:latin typeface="Arial"/>
              </a:rPr>
              <a:t>Mr.sc. Dalibor Pudić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66"/>
                </a:solidFill>
                <a:latin typeface="Arial"/>
              </a:rPr>
              <a:t>Tipovi menadžment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5280" y="2362320"/>
            <a:ext cx="838836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Aspekt razina (hijerarhijsk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Top management (menadžeri na najvišoj razini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Middle management (menadžeri na srednjoj razini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Lower ili First-line management (menadžeri na prvoj razini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Aspekt djelokruga odgovornosti (horizontaln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Funkcijski menadžer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Linijski menadžer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Generalni menadžer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Projektni menadžer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66"/>
                </a:solidFill>
                <a:latin typeface="Arial"/>
              </a:rPr>
              <a:t>Top manage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Menadžeri na najvišoj hijerarhijskoj razin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Odgovorni za poduzeće kao cjelin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To su predsjednik i članovi Uprave, izvršni direktori (CEO-chief executive officer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Brinu za budućnost poduzeć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Temeljna odgovornost im je: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Postavljanje ciljev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Definiranje strategij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Monitor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Donošenje strateških i drugih važnih odluka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66"/>
                </a:solidFill>
                <a:latin typeface="Arial"/>
              </a:rPr>
              <a:t>Middle manage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Menadžeri srednje razi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Menadžeri između nivoa prve razine i top razi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Orijentiran je na bližu budućnos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Odgovorni su za pojedine odjele i sektore poduzeć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Primjeri su: rukovoditelj odjela za razvoj, financije, prodaju,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Odgovorni su za implementaciju cjelokupne strategije i politike koju vodi vrhovni top menadžm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66"/>
                </a:solidFill>
                <a:latin typeface="Arial"/>
              </a:rPr>
              <a:t>Lower ili First-line manage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Čine ga menadžeri direktno odgovorni za proizvodnju dobara i uslug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Oni su prva i druga razina menadžmenta te imaju nazive kao što su: supervisor, line manager, section chief, office manag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Njihova je primarna zadaća primjena pravila i procedura za ostvarenje efikasnije proizvodnje, osiguranje tehničke asistencije, i motiviranje podređeni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Rukovode radom zaposlenih koji ne pripadaju menadžerim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Orijentirani su na kratak rok-ostvarivanje dnevnih zadatak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55280" y="2362320"/>
            <a:ext cx="8388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Funkcijski menadžer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Odgovorni za odjele koji provode pojedine funkcijske zadatk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Odjeli obavljaju iste ili slične zadatke i u njima rade ljudi istih ili sličnih profesija (odjel prodaje, nabave, financija, računovodstva,.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Linijski menadžer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Odgovorni su za odjele koji neposredno provode temeljne zadatk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Generalni menadžer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Odgovorni su za nekoliko odjela koji obavljaju različite funkcij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Projektni menadžer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Imaju također odgovornost generalnog menadžera s obzirom da koordiniraju rad osoba iz nekoliko odjela uključenih u projek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Limitirani su rokovim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66"/>
                </a:solidFill>
                <a:latin typeface="Arial"/>
              </a:rPr>
              <a:t>Karakteristike menadžment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042920" y="2421000"/>
            <a:ext cx="7669440" cy="42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755640" y="2349360"/>
            <a:ext cx="8229600" cy="42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66"/>
                </a:solidFill>
                <a:latin typeface="Arial"/>
              </a:rPr>
              <a:t>Rad s drugima i pomoću drugi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hr-HR" sz="20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Ostvarivanje ciljeva poduzeća je kolektivna akciju koja je nezamisliva bez menadžmenta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-  Operativne zadatke ne obavlja neposredno menadžment </a:t>
            </a:r>
            <a:r>
              <a:rPr b="1" lang="hr-H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hr-HR" sz="2000" spc="-1" strike="noStrike">
                <a:solidFill>
                  <a:srgbClr val="003366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-  Menadžment osigurava svojevrsnu logističku potporu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-  Menadžment je odgovoran za ostvarenje ciljeva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-  Menadžment stvara uvjete za efikasnu i efektivnu uporabu drugi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66"/>
                </a:solidFill>
                <a:latin typeface="Arial"/>
              </a:rPr>
              <a:t>Ostvarivanje ciljeva poduzeća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– 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Poduzeće postoji kako bi ostvarilo određene ciljeve, a ti ciljevi zahtijevaju zajedničku akciju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-  Upravo ciljevi determiniraju svrhu i smjer menadžment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-  Ciljevi poduzeća jesu i mjerilo uspješnosti menadžmenta, s obzirom da se komparira ostvareno i zadan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11280" y="2276280"/>
            <a:ext cx="853272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66"/>
                </a:solidFill>
                <a:latin typeface="Arial"/>
              </a:rPr>
              <a:t>Ravnoteža efektivnosti i efikasnosti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– 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Menadžment je odgovoran za ravnotežu između efektivnosti i efikasnosti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-  Efikasnost se ovdje shvaća kao odnos uloženog i ostvareno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-  Efikasnost </a:t>
            </a:r>
            <a:r>
              <a:rPr b="0" lang="hr-HR" sz="2000" spc="-1" strike="noStrike">
                <a:solidFill>
                  <a:srgbClr val="ff0000"/>
                </a:solidFill>
                <a:latin typeface="Arial"/>
              </a:rPr>
              <a:t>-„Obavljanje posla na pravi način“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-  Efikasan menadžment reducira troškov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-  Efektivnost podrazumijeva veličinu profita kojeg je potrebno ostvariti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-  Efektivnost - </a:t>
            </a:r>
            <a:r>
              <a:rPr b="0" lang="hr-HR" sz="2000" spc="-1" strike="noStrike">
                <a:solidFill>
                  <a:srgbClr val="ff0000"/>
                </a:solidFill>
                <a:latin typeface="Arial"/>
              </a:rPr>
              <a:t>„Raditi prave stvari“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-  Efektivan menadžment povećava profit povećavajući produktivnos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66"/>
                </a:solidFill>
                <a:latin typeface="Arial"/>
              </a:rPr>
              <a:t>Racionalno korištenje ograničenih resursa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hr-HR" sz="2000" spc="-1" strike="noStrike">
                <a:solidFill>
                  <a:srgbClr val="003366"/>
                </a:solidFill>
                <a:latin typeface="Arial"/>
              </a:rPr>
              <a:t>– 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Resursi koji se koriste u procesu proizvodnje nisu neograničeni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-  Najbolji primjer su energenti, pa je nužno da se s njima postupa racionalno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-  Također visina cijene resursa ograničava njihovu uporab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8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66"/>
                </a:solidFill>
                <a:latin typeface="Arial"/>
              </a:rPr>
              <a:t>Promjenjiva okolina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– 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Okolina poduzeća puna je promjena koje su sve brojnije , raznovrsnije i dinamičnije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-  Stoga okolina poduzeća postaje složena, heterogena, dinamična i neizvjesn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-  U tome kontekstu okolina nameće menadžmentu dva zadatka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1) pripremiti se za nastupajuće promje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2) prilagoditi se nastalim promjenam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-  menadžment mora odrediti primjerenu strategiju djelovanja prema toj okolini.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-  ne imati pasivan odnos prema okolin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6666"/>
                </a:solidFill>
                <a:latin typeface="Arial"/>
              </a:rPr>
              <a:t>Ključne sastavnice efektivnog menadžer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914400" y="2575080"/>
          <a:ext cx="8001000" cy="380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575080"/>
                    <a:ext cx="8001000" cy="38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66"/>
                </a:solidFill>
                <a:latin typeface="Arial"/>
              </a:rPr>
              <a:t>Predavanj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20% dozvoljen broj izostanak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26920" y="3068640"/>
            <a:ext cx="777564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26560" y="2550960"/>
            <a:ext cx="770580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hr-HR" sz="2000" spc="-1" strike="noStrike">
                <a:solidFill>
                  <a:srgbClr val="003366"/>
                </a:solidFill>
                <a:latin typeface="Arial"/>
              </a:rPr>
              <a:t>(1) Menadžer kao aktivni vođ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Kako bi poduzeće bilo uspješno ono mora imati i neke menadžere koji su također i vođe</a:t>
            </a:r>
            <a:r>
              <a:rPr b="1" lang="hr-HR" sz="20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Za razliku od menadžera koji troši najviše vremena da </a:t>
            </a:r>
            <a:r>
              <a:rPr b="0" i="1" lang="hr-HR" sz="2000" spc="-1" strike="noStrike">
                <a:solidFill>
                  <a:srgbClr val="ff0000"/>
                </a:solidFill>
                <a:latin typeface="Arial"/>
              </a:rPr>
              <a:t>radi stvari na pravi način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 , vođa najveći dio svoga vremena troši na to da </a:t>
            </a:r>
            <a:r>
              <a:rPr b="0" i="1" lang="hr-HR" sz="2000" spc="-1" strike="noStrike">
                <a:solidFill>
                  <a:srgbClr val="ff0000"/>
                </a:solidFill>
                <a:latin typeface="Arial"/>
              </a:rPr>
              <a:t>radi prave stvari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Veliki vođe prenose svoju viziju na zaposlene te ih isto tako angažiraju na ostvarenju te vizije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Vođe se sami posvećuju zadatku ne misleći na neuspjeh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Efektivan menadžer je aktivan sudionik u procesu rada, a ne promatrač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Zadaća mu je da definira strategiju i vodi zaposlene prema njezinome ostvarenj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Nije dovoljno da ima znanja već mora imati i strast za posao koji obavlja.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66"/>
                </a:solidFill>
                <a:latin typeface="Arial"/>
              </a:rPr>
              <a:t>(2) Pozitivna radna okolina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Efektivan je menadžer dužan stvarati pozitivnu radnu okolinu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To je takva radna okolina u kojoj menadžeri stvaraju uvjete koji potiču zaposlene na uspjeh, a istodobno uklanjaju uzroke neuspjeh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Menadžeri trebaju oblikovati svoju organizacijsku jedinicu kroz dva smjera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mogućnost da zaposlenici mogu ostvarivati visoke učink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stimulans koji će poticati da zaposlenici mogu ostvarivati visoke učink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26920" y="2393640"/>
            <a:ext cx="7848720" cy="31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Mogućnost da zaposlenici mogu ostvarivati visoke učinke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pitanja radnih prostora (lokacija, veličina, uređenost, osvjetljenje, boja itd.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pitanje radnih metoda i tehnologije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organizacija radnog mjesta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kvalifikacija zaposlenih i dr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Stimulans koji će poticati na ostvarivanje visokih učinaka –razni motivacijski faktori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oblikovanje posla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stil vođenja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politika poduzeća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plaća i dr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94920" y="2349360"/>
            <a:ext cx="849780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hr-HR" sz="2000" spc="-1" strike="noStrike">
                <a:solidFill>
                  <a:srgbClr val="003366"/>
                </a:solidFill>
                <a:latin typeface="Arial"/>
              </a:rPr>
              <a:t>(3) Mogućnost ostvarenja visokih performans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hr-HR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Potrebno je ispuniti dva uvjeta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a) temeljito poznavanje poslova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- zaposleni moraju znati što rade i kako to ra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- moraju predlagati i unapređivati postojeći način rad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- Japan- razvijena metoda kružoka kvalitete (QC - Quality Circl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b) opskrbljenost potrebnim resursim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- Zaposleni moraju imati resurse u odgovarajućem opsegu i 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propisane kvalitete i to u onim vremenskim rokovima kada su im 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potrebni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755280" y="2349000"/>
            <a:ext cx="8209080" cy="22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hr-HR" sz="2000" spc="-1" strike="noStrike">
                <a:solidFill>
                  <a:srgbClr val="003366"/>
                </a:solidFill>
                <a:latin typeface="Arial"/>
              </a:rPr>
              <a:t>(4) Poticaj za ostvarivanje visokih performans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Menadžeri moraju oblikovati prikladne stimulacije za visoke učinke.</a:t>
            </a:r>
            <a:r>
              <a:rPr b="1" lang="hr-HR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Mora poznavati</a:t>
            </a:r>
            <a:r>
              <a:rPr b="1" lang="hr-HR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suvremene metode motivacije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Mora uskladiti izabrane metode motivacije sa ciljevima svoga poduzeća, time razvija timski rad koji je danas temelj prosperiteta poduzeć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755280" y="2361960"/>
            <a:ext cx="83883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Razvojni put: od “goniča robova” do menadžmenta, odnosno od zapovijedanja do motiviranj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H. Fayol – kruta koncepcija (početak 20 st.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– 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termini iz vojničke terminologij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P. Drucker – uvodi dva nova moment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Drukčiji stav i odnos prema ljudima – naglasak na komuniciranju i motiviranju, a ne naređivanju i kontroliranj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Naglašava kvantitativni aspekt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3366"/>
                </a:solidFill>
                <a:latin typeface="Arial"/>
              </a:rPr>
              <a:t>ciljevi se postave u brojkama (mjerljive veličine),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3366"/>
                </a:solidFill>
                <a:latin typeface="Arial"/>
              </a:rPr>
              <a:t>stvore se instrumenti za mjerenje rezultat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3366"/>
                </a:solidFill>
                <a:latin typeface="Arial"/>
              </a:rPr>
              <a:t>rezultati se mjere i ocjenjuju s izvršiteljim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66"/>
                </a:solidFill>
                <a:latin typeface="Arial"/>
              </a:rPr>
              <a:t>Funkcije menadžment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66"/>
                </a:solidFill>
                <a:latin typeface="Arial"/>
              </a:rPr>
              <a:t>Funkcije menadžmenta - Koontz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Planiran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Organiziran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Kadroviran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Vođenj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Kontroliran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66"/>
                </a:solidFill>
                <a:latin typeface="Arial"/>
              </a:rPr>
              <a:t>Planiranj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3366"/>
                </a:solidFill>
                <a:latin typeface="Calibri"/>
              </a:rPr>
              <a:t>proces postavljanja budućih ciljeva, pretpostavki o okolini u kojoj se trebaju realizirati, izbor pravaca akcije, sredstava i načina ostvarivanja ciljeva (F. Bahtijarević-Šiber)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3366"/>
                </a:solidFill>
                <a:latin typeface="Calibri"/>
              </a:rPr>
              <a:t>planiranje podrazumijeva analizu prilika i mogućnosti poduzeća u promjenjivoj okolini, prednosti i nedostataka, alternativnih pravaca razvoja i sl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3366"/>
                </a:solidFill>
                <a:latin typeface="Calibri"/>
              </a:rPr>
              <a:t>ne misli se na precizne i formalne kratkoročne planove, već na dugoročnu strategijsku orijentaciju poduzeća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3366"/>
                </a:solidFill>
                <a:latin typeface="Calibri"/>
              </a:rPr>
              <a:t>sastavni je dio menadžmenta na svim razinama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3366"/>
                </a:solidFill>
                <a:latin typeface="Arial"/>
              </a:rPr>
              <a:t>omjer onog gdje se poduzeće nalazi sada i gdje želi biti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3366"/>
                </a:solidFill>
                <a:latin typeface="Arial"/>
              </a:rPr>
              <a:t>bez plana ne znamo gdje želimo stići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66"/>
                </a:solidFill>
                <a:latin typeface="Arial"/>
              </a:rPr>
              <a:t>Organiziranj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3366"/>
                </a:solidFill>
                <a:latin typeface="Calibri"/>
              </a:rPr>
              <a:t>stalna aktivnost menadžera u usklađivanju ljudskih i materijalnih resursa, raspodjeli rada, dodjeljivanju određenih zadataka i odgovornosti pojedincima i grupama, sve u svrhu ostvarivanja pretpostavljenih planova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3366"/>
                </a:solidFill>
                <a:latin typeface="Calibri"/>
              </a:rPr>
              <a:t>F. Bahtijarević – Šiber definira organiziranje kao proces kojim se efikasno povezuju ljudi i zadaci i koordiniraju individualne i grupne aktivnosti u ostvarivanju ciljeva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3366"/>
                </a:solidFill>
                <a:latin typeface="Calibri"/>
              </a:rPr>
              <a:t>menadžment postavlja odgovarajuću organizacijsku strukturu i odnos u poduzeću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66"/>
                </a:solidFill>
                <a:latin typeface="Arial"/>
              </a:rPr>
              <a:t>Kadroviranj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3366"/>
                </a:solidFill>
                <a:latin typeface="Calibri"/>
              </a:rPr>
              <a:t>organiziranjem su dodijeljene uloge i zadaci pojedincima koji trebaju ostvariti ciljeve poslovanja, a kadrovskim popunjavanjem se te uloge dodjeljuju konkretnim ljudima za koje se očekuje da će ih najbolje izvršiti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3366"/>
                </a:solidFill>
                <a:latin typeface="Calibri"/>
              </a:rPr>
              <a:t>realizaciju ove funkcije omogućuje prepoznavanje raspoloživih kadrova, zapošljavanje novih kadrova, selekcija i profesionalna orijentacija, unaprjeđenja, planiranja karijere, razvoj i poticanje kreativnosti pojedinaca, osposobljavanja i usavršavanja zaposlenika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3366"/>
                </a:solidFill>
                <a:latin typeface="Calibri"/>
              </a:rPr>
              <a:t>razvoj ljudskih potencijala jedan je od najvažnijih strateških zadatak menadžmenta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66"/>
                </a:solidFill>
                <a:latin typeface="Arial"/>
              </a:rPr>
              <a:t>Literatu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280" y="2361960"/>
            <a:ext cx="828036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003366"/>
                </a:solidFill>
                <a:latin typeface="Arial"/>
              </a:rPr>
              <a:t>Obvezna literatur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Arial"/>
              </a:rPr>
              <a:t>Siropolis, C., Nicholas</a:t>
            </a:r>
            <a:r>
              <a:rPr b="0" lang="hr-HR" sz="1800" spc="-1" strike="noStrike">
                <a:solidFill>
                  <a:srgbClr val="003366"/>
                </a:solidFill>
                <a:latin typeface="Arial"/>
              </a:rPr>
              <a:t>: Menedžment malog poduzeća, MATE, 1995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Arial"/>
              </a:rPr>
              <a:t>Deželjin, J., Deželjin, J., Dujanić, M., Tadin, H., Vujić. V.:</a:t>
            </a:r>
            <a:r>
              <a:rPr b="0" lang="hr-HR" sz="1800" spc="-1" strike="noStrike">
                <a:solidFill>
                  <a:srgbClr val="003366"/>
                </a:solidFill>
                <a:latin typeface="Arial"/>
              </a:rPr>
              <a:t> Poduzetnički menadžment, Alineja, Zagreb, 1999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003366"/>
                </a:solidFill>
                <a:latin typeface="Arial"/>
              </a:rPr>
              <a:t>Izborna literatur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3366"/>
                </a:solidFill>
                <a:latin typeface="Arial"/>
              </a:rPr>
              <a:t>Hisrich, R.; Peters, M.: Entrepreneurship, 1998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3366"/>
                </a:solidFill>
                <a:latin typeface="Arial"/>
              </a:rPr>
              <a:t>Timmons, J. A.: New Venture Creation, 5th Ed., Irwin / McGraw-Hill, 1997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3366"/>
                </a:solidFill>
                <a:latin typeface="Arial"/>
              </a:rPr>
              <a:t>Bursteiner, I.: The Small Business Handbook: A Comprehensive Guide to Starting and Running Your Own Business, Simon &amp; Schuster, New York, 1997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3366"/>
                </a:solidFill>
                <a:latin typeface="Arial"/>
              </a:rPr>
              <a:t>Hamel, G. “Strategic Flexibility: Managing in a Turbulent Economy”, Wiley, Chichester, UK. 1998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3366"/>
                </a:solidFill>
                <a:latin typeface="Arial"/>
              </a:rPr>
              <a:t>Buble, M.: Osnove Menadžmenta, Sinergija nakladništvo,Zagreb, 2006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3366"/>
                </a:solidFill>
                <a:latin typeface="Arial"/>
              </a:rPr>
              <a:t>članci iz časopisa, slučajevi iz poslovne praks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66"/>
                </a:solidFill>
                <a:latin typeface="Arial"/>
              </a:rPr>
              <a:t>Vođenje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3366"/>
                </a:solidFill>
                <a:latin typeface="Calibri"/>
              </a:rPr>
              <a:t>ova se funkcija odnosi na utjecaj, vođenje i poticanje aktivnosti članova organizacije i osiguravanje uvjeta za visoku motivaciju i angažman ljudi u realizaciji organizacijskih zadataka i ciljeva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3366"/>
                </a:solidFill>
                <a:latin typeface="Calibri"/>
              </a:rPr>
              <a:t>funkcija vođenja predstavlja interpersonalni aspekt menadžmenta te je logično da su problemi koji nastaju u realizaciji ove funkcije najsloženiji i najosjetljiviji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3366"/>
                </a:solidFill>
                <a:latin typeface="Calibri"/>
              </a:rPr>
              <a:t>vođenje uključuje motiviranje, izbor između različitih stilova vođenja i komuniciranja s ljudima      vođa mora uvjeriti i inspirirati ljude da djeluju i da ga slijede u željenom smjeru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80000" y="5445000"/>
            <a:ext cx="2286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66"/>
                </a:solidFill>
                <a:latin typeface="Arial"/>
              </a:rPr>
              <a:t>Kontroliranj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3366"/>
                </a:solidFill>
                <a:latin typeface="Calibri"/>
              </a:rPr>
              <a:t>postupak mjerenja i ocjenjivanja stupnja realizacije postavljenih ciljeva te poduzimanje korektivnih akcija ukoliko proces pokaže da postoje negativna odstupanja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3366"/>
                </a:solidFill>
                <a:latin typeface="Calibri"/>
              </a:rPr>
              <a:t>ovdje je posebno istaknuta veza između prve i zadnje funkcije menadžmenta koje zatvaraju poslovni proces    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3366"/>
                </a:solidFill>
                <a:latin typeface="Calibri"/>
              </a:rPr>
              <a:t>bez postavljenih planova nije moguće kontrolirati tijek poslovanja, a planiranje bez kontrole izvršenja planova isto je tako besmisleno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3366"/>
                </a:solidFill>
                <a:latin typeface="Calibri"/>
              </a:rPr>
              <a:t>svrha kontrole je smanjivanje mogućnosti neuspjeha na najmanju moguću mjeru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028000" y="4365720"/>
            <a:ext cx="2286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Vrijeme koje se ulaž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116000" y="2533680"/>
            <a:ext cx="6624720" cy="39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Struktura radnog vremen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71640" y="2585880"/>
            <a:ext cx="66247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Stvarno utrošeno vrijem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258920" y="2681280"/>
            <a:ext cx="712944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Današnji menadžeri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Imaju od 18 na više godin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Upravljaju velikim multinacionalnim korporacijama i malim poduzetničkim projektim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Možete ih pronaći u javnim i privatnim organizacijam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Na svim kontinentima i u svim zemljama svije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Neki se nalaze na vrhu a neki se nalaze na prvoj razini menadžmen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Žene su jednako dobre kao i muškarc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Mišljenje predsjednika uprava o izvršnim direktorima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99640" y="256536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38% misli da su plaće direktora prevelik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64% očekuje daljnje povećanje fiksnog dijela plać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13% misli da su plaće izvršnih direktora ujednačene sa stanjem u nacionalnoj ekonomij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49% misli da bi odobrenje od strane dioničara bio najbolji način za njihovo smanjivan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00360" y="6400800"/>
            <a:ext cx="435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USC Marshall School of Busines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Menadžerske vještine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Konceptualne vješti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Komunikacijske vješti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Tehničke vješti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Vještine rada s ljudi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Konceptualne vješti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sposobnost korištenja pravih informacija kako bi se riješio pojedini poslovni proble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selektiranje kritičnih informacija iz mase podatak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prepoznavanje problematičnih područja koja zahtijevaju rješenj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identifikacija prilika za inovacij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spoznaja na koji način vam može pomoći tehnologij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shvaćanje cjelovitog poslovnog model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Komunikacijske vješti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sposobnost da pretvori ideje u riječi i akcij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kredibilitet među kolegama, zaposlenicima i podređenim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moć aktivnog slušanj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moć postavljanja kvalitetnih pitanj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prezentacijske vještine – verbalni i neverbalni form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pisana komunikacij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66"/>
                </a:solidFill>
                <a:latin typeface="Arial"/>
              </a:rPr>
              <a:t>Sadržaj predavanj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99640" y="2276280"/>
            <a:ext cx="80010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3366"/>
                </a:solidFill>
                <a:latin typeface="Times New Roman"/>
              </a:rPr>
              <a:t>Menadžment- definicija, funkcije, vještine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3366"/>
                </a:solidFill>
                <a:latin typeface="Times New Roman"/>
              </a:rPr>
              <a:t>Poduzetništvo i poduzetnik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3366"/>
                </a:solidFill>
                <a:latin typeface="Times New Roman"/>
              </a:rPr>
              <a:t>Malo i srednje poduzetništvo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3366"/>
                </a:solidFill>
                <a:latin typeface="Times New Roman"/>
              </a:rPr>
              <a:t>Kupnja poduzeća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3366"/>
                </a:solidFill>
                <a:latin typeface="Times New Roman"/>
              </a:rPr>
              <a:t>Franšizing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3366"/>
                </a:solidFill>
                <a:latin typeface="Times New Roman"/>
              </a:rPr>
              <a:t>Obiteljska poduzeća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3366"/>
                </a:solidFill>
                <a:latin typeface="Times New Roman"/>
              </a:rPr>
              <a:t>Izumi i poduzetnik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3366"/>
                </a:solidFill>
                <a:latin typeface="Times New Roman"/>
              </a:rPr>
              <a:t>Životni ciklus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3366"/>
                </a:solidFill>
                <a:latin typeface="Times New Roman"/>
              </a:rPr>
              <a:t>Činitelji poslovanja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3366"/>
                </a:solidFill>
                <a:latin typeface="Times New Roman"/>
              </a:rPr>
              <a:t>Rezultati poslovanja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3366"/>
                </a:solidFill>
                <a:latin typeface="Times New Roman"/>
              </a:rPr>
              <a:t>Mjerila uspješnosti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3366"/>
                </a:solidFill>
                <a:latin typeface="Times New Roman"/>
              </a:rPr>
              <a:t>Vođenje malog i srednjeg poduzeća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3366"/>
                </a:solidFill>
                <a:latin typeface="Times New Roman"/>
              </a:rPr>
              <a:t>Rast poduzeća i ulaganje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3366"/>
                </a:solidFill>
                <a:latin typeface="Times New Roman"/>
              </a:rPr>
              <a:t>Društvena odgovornost poduzetnika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3366"/>
                </a:solidFill>
                <a:latin typeface="Times New Roman"/>
              </a:rPr>
              <a:t>OECD načela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3366"/>
                </a:solidFill>
                <a:latin typeface="Times New Roman"/>
              </a:rPr>
              <a:t>Rizik i poslovno odlučivanje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3366"/>
                </a:solidFill>
                <a:latin typeface="Times New Roman"/>
              </a:rPr>
              <a:t>Organizacijska klima i kultura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040" y="772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Tehničke vješti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040" y="243180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fokus na kup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multi-tasking – rad na većem broju zadatak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pregovaračke vještin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projektni menadž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revizija operacija i implementacija poboljšanj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postavljanje prioriteta za aktivnost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upravljanje vremeno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Vještine rada s ljudim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99640" y="256536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treniranje i mentoriranje vještin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fleksibilnost u radu s ljudima koji dolaze iz raznih kultu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umrežavanje unutar i izvan organizaci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rad u timovima – kooperacija i predano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Menadžment podrazumijev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primjenu u bilo kojoj vrsti organizaci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odnosi se na menadžere na svim hijerarhijskim razinam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cilj svih menadžera je isti: stvoriti vrijedno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pretpostavlja produktivnost, efektivnost i efikasno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Želite biti dobar menadžer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40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kontinuirano pratite poslovne vijesti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čitajte najbolje knjige o dobrim i lošim primjerima u poslovanj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prepoznajte ono što je jedinstveno kod svake osobe i pokušajte da se ta prednost kapitalizira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radite kontinuirano na svojim mekanim vještinama – etici; komunikacijskim vještinama; vještini prikupljanja informacija i izgradnje mreže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promatrajte druge menadžere i učite iz njihovih primjera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pričajte s drugim menadžerima o očekivanjima koje imaju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počnite razmišljati o tome koliko biste uistinu uživali da jednog dana postanete menadžer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Neki istraživački brojev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26560" y="2276280"/>
            <a:ext cx="80010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91% viših menadžera misli kako je efektivnost/produktivnost jedan od tri ključna činitelja izvedbe poduzeć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71% ispitanika je odgovorilo negativno kad su ih pitali da li bi željeli biti šefov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76% američkih zaposlenika voli posao koji radi ali je mišljenja kako njihovi nadređeni taj isti posao rade manje poželjni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14% zaposlenika, izjavilo je kako su zadovoljni sa svojim poslom, međutim 40% njih osjeća kako su odvojeni od drugih zaposlenik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više od polovice zaposlenika izjavila kako je neslaganje s nadređenim ključan razlog za odlazak iz poduzeć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77% angažiranih zaposlenika (oni koji obavljaju strastveno posao i identificiraju se s vrijednostima poduzeća) složilo se kako njihovi nadređeni imaju ključnu ulogu kada je riječ o njihovom zadovoljstvu na posl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66"/>
                </a:solidFill>
                <a:latin typeface="Arial"/>
              </a:rPr>
              <a:t>Zaključa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Često nekome zavidimo ili mu se divimo na karijeri koju je ostvario, a pritom se rijetko zapitamo kako je došao do uspjeha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Omjer između “uspjeha i sreće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Ispitao je 1200 “uspješnih ljudi od karijere: odvjetnika, umjetnika, menedžera u industriji, profesora,…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Svima su postavljena ista pitanja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– </a:t>
            </a: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Koliko ste zadovoljni karijerom i statusom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– </a:t>
            </a: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Koliko samim poslom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– </a:t>
            </a: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Koliko ukupnom kvalitetom svog života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66"/>
                </a:solidFill>
                <a:latin typeface="Arial"/>
              </a:rPr>
              <a:t>…</a:t>
            </a:r>
            <a:r>
              <a:rPr b="1" lang="hr-HR" sz="3600" spc="-1" strike="noStrike">
                <a:solidFill>
                  <a:srgbClr val="006666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Zadovoljni karijerom? 100% ispitanika - d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Zadovoljni samo karijerom, ali ne poslom i životom? 15% ispitanika - d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Zadovoljni karijerom i vrstom posla ali ne i osobnim životom? 80% - da. (zanimljivi poslovi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Zadovoljni karijerom, vrstom posla i ukupnim životom? 4% - d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26920" y="3284280"/>
            <a:ext cx="81727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3366"/>
                </a:solidFill>
                <a:latin typeface="Times New Roman"/>
              </a:rPr>
              <a:t>Menadžment- definicija, funkcije, vještine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66"/>
                </a:solidFill>
                <a:latin typeface="Arial"/>
              </a:rPr>
              <a:t>MENADŽ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MT"/>
              </a:rPr>
              <a:t>MENADŽMENT JE ZNANOST, A USPJEŠAN MENADŽMENT JE UMJETNOST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MT"/>
              </a:rPr>
              <a:t>Ne može se do kraja naučiti a još manje kopirati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ArialMT"/>
              </a:rPr>
              <a:t>Noam Chomsk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MT"/>
              </a:rPr>
              <a:t>“</a:t>
            </a:r>
            <a:r>
              <a:rPr b="0" lang="hr-HR" sz="2400" spc="-1" strike="noStrike">
                <a:solidFill>
                  <a:srgbClr val="003366"/>
                </a:solidFill>
                <a:latin typeface="ArialMT"/>
              </a:rPr>
              <a:t>Govorim ono što mislim a ne ono što biste vi trebali misliti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MT"/>
              </a:rPr>
              <a:t>Moja namjera nije uvjeravati ljude, nego pomoći im da oni uvjere sebe.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66"/>
                </a:solidFill>
                <a:latin typeface="Arial"/>
              </a:rPr>
              <a:t>Definicij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1760" y="2362320"/>
            <a:ext cx="78483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3366"/>
                </a:solidFill>
                <a:latin typeface="Calibri"/>
              </a:rPr>
              <a:t>Menadžment je proces oblikovanja i održavanja okruženja u kojem pojedinci, radeći zajedno u skupinama, efikasno ostvaruju odabrane ciljeve (Weihrich i Koontz)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3366"/>
                </a:solidFill>
                <a:latin typeface="Calibri"/>
              </a:rPr>
              <a:t>Menadžment je proces rada s drugim ljudima, kojima se ostvaruju organizacijski ciljevi, u promjenjivoj sredini, uz efikasnu upotrebu ograničenih resursa (Peter Drucker)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3366"/>
                </a:solidFill>
                <a:latin typeface="Calibri"/>
              </a:rPr>
              <a:t>Menadžment kao proces donošenja odluka usmjerenih na ostvarivanje ciljeva, pri čemu menadžeri upotrebljavaju svoje vještine u donošenju odluka sa svrhom vođenja drugih prema postizanju ciljeva (Atchison i Hill)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66"/>
                </a:solidFill>
                <a:latin typeface="Arial"/>
              </a:rPr>
              <a:t>O menadžerskom posl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Dva stajališta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1. menadžerski posao je uvijek isti bez obzira na poduzeće, njegovu organizaciju, djelatnost i situaciju    posao menadžera se sastoji od niza uloga i funkcija koje su iste u svim poduzećim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2. menadžerski posao se bitno razlikuje od poduzeća do poduzeća zbog razlika u individualnim karakteristikama, situacijskim varijablama i organizacijskom kontekstu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oba su stajališta točna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76720" y="3141720"/>
            <a:ext cx="21744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71640" y="5013360"/>
            <a:ext cx="2872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26920" y="6381720"/>
            <a:ext cx="799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3366"/>
                </a:solidFill>
                <a:latin typeface="Times New Roman"/>
              </a:rPr>
              <a:t>F. Bahtijarević – Šiber, “Organizacijska teorija”, Informator, Zagreb, 1991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914400" y="2361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Postoji jako mnogo zajedničkih funkcija i poslova, ali razlike postoje u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stilu vođenja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načinu rješavanja problema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strukturi klijenat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složenosti organizacijske strukture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kvaliteti nosioca pojedinačnih zadataka, njihovom znanju i sposobnostima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znanju, mogućnostima i sklonostima menadžer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10:07:59Z</dcterms:created>
  <dc:creator>User</dc:creator>
  <dc:description/>
  <dc:language>en-US</dc:language>
  <cp:lastModifiedBy>Bruno</cp:lastModifiedBy>
  <dcterms:modified xsi:type="dcterms:W3CDTF">2009-03-15T11:44:32Z</dcterms:modified>
  <cp:revision>18</cp:revision>
  <dc:subject/>
  <dc:title>Poduzetnički menadžment</dc:title>
</cp:coreProperties>
</file>