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7E8-50B2-4F55-9E15-8F16A5D5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17B-FFCE-47E2-9DC9-23F83CCA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AF8-EBC3-43BD-AA39-DC154163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CAD-4F01-4B39-95A5-9B990ECE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8DE-141C-4E13-9F20-8823F9B9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8D5-05C4-4B55-B0F1-31A81CA3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6A5-801D-481F-B214-307B4304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033-1C45-4D44-B093-989EA532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05E-15C9-406E-A87E-4FE71D66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46B-8B4A-4691-87F7-1B0FEC99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405-F9B9-4DE5-9733-FCD9C7B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4A4-3209-4B79-AE54-78E4172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E3D9-478B-4A29-9EC5-EBFE8E49F6A4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Osnove ekonomske teori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Ravnoteža na tržištu čimbenika proizvod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ržište 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ržište kapit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ržište zeml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Država i tržiš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ržava i realokacija resu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javna d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eksternal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ržava i (prirodni) monop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ržava i preraspodjela dohot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Lorenzova krivu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Osnovni makroekonomski pojmo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nfl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ezaposle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bruto nacionalni proizv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slovni ciklus i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Literatu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Obvezat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Ferenčak, I. (1998.): Počela ekonomike, Ekonomski fakultet u Osijeku, Osij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amuelson, P.A. i Nordhaus, W. (2000): Ekonomija, Mate, Zagre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Preporuče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arkin, M. (1990.): Economics, Addison-Wesley Publishing company, New Y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Hyman, D. (1989.): Economics, Irwin, Bost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yal, A. J. and Karatjas, N. (1985.): Basic Economics, McMillan Publishing Company, New Y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Način provjere znan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arcijalna provjera znanja (2 ili 3 put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egativne ocjene iz jedne provjere znanja mogu se ispraviti (parcijal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cjelokupna provjera znanja (ukoliko student nije položio parcijalne ispi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emina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pisati zadanu temu na zadovoljavajući nač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Svrha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poznavanje</a:t>
            </a: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udenata s temeljni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ekonomskim kategorija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ekonomskim zakoni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ekonomskim teorij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Uvod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rijentacija u razvitku ekonomske mis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kon nestaš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ekonomija-pitanje alokacije resu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rivulja proizvodnih mogućnosti – ekonomski r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Potražnja i ponu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kon potraž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ecjenovne odrednice potraž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kon pon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ecjenovne odrednice pon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ržišna ravnotež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Elastičnost potražnje i pon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cjenovna elastičnost potraž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ohodovna elastičnost potraž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rižna elastičnost potraž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elastičnost pon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Potrošačev iz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eorija granične koris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eorija krivulje indiferen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Proizvođačev iz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uzeće i njegovi obli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ioničko društ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jena dionice – kapitalizirana i eskontirana divide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izvodnja u kratkom vremenskom razdobl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kupni, granični i prosječni proizv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kon opadajućih  prin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troškovi; ukupni, granični i prosječni troš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ugo vremensko razdobl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inosi razmj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sječni ukupni troš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ekonomski efikasna tehnika proizvod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rta izotroška, izokva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Tržište dob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avršena konkuren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onop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esavršena konkuren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onopolistička konkuren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ligop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Sadržaj modu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Tržište čimbenika proizvod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djela čimben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formiranje cijene i dohotka čimbenika proizvod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tražnja za čimbenikom proizvod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avila maksimaliziranja profita – output i input anali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6:45:44Z</dcterms:created>
  <dc:creator>Ružica</dc:creator>
  <dc:description/>
  <dc:language>en-US</dc:language>
  <cp:lastModifiedBy>Igor Kralik</cp:lastModifiedBy>
  <dcterms:modified xsi:type="dcterms:W3CDTF">2007-10-24T17:08:24Z</dcterms:modified>
  <cp:revision>3</cp:revision>
  <dc:subject/>
  <dc:title>Slajd 1</dc:title>
</cp:coreProperties>
</file>