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02D-B7CD-4D50-8107-59AC57A0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819-1986-49B7-903B-6FD36754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B66-507F-4063-B6F9-74180429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CAB-B284-466F-A473-04C07FEC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2293-5D9E-422C-902B-5C3CD03A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E2C6-9B5A-4810-B5A2-D7AF1B7B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BF2-6E14-45FB-AD83-3BA40E2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9E1B-C322-4942-8526-B704BD1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8F88-723F-4CB6-87A4-68CA7D2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348-2742-4399-83EB-5E9C63C8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182-CE10-408B-BCFF-A5BA2D90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70F-8135-49EB-BDC1-512FD33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5312-E881-45E1-B860-0F83B10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67B-8F6B-4BE5-B5C6-65E7F33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4C0-453C-4832-B13A-59FCB94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32E-A25A-46B1-8BCA-1DE96007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773-2C25-4CBB-BE9E-2A5BC5A7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8A9-3552-4C42-BA8D-B57D481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AE4-C5A0-4D20-B2AF-0D2D781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4B1-AC27-4BBB-88F7-E2C2BFB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AFF-6F4C-48D6-88C1-020CBD71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F63-4E8B-4382-8E0B-7418BD9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98F-4A62-4FE5-ADCD-5CCDF3C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143-D19C-4D87-B22F-324BF27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FD66-6729-470F-B6DB-5E2EE1B2D433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EB3-93B8-427B-A512-FCB6D304CA9F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addington-galleries.com/ARTIST/PHOT/SGURS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ffcc"/>
                </a:solidFill>
                <a:latin typeface="Times New Roman"/>
              </a:rPr>
              <a:t>HONG KONG EXCHAN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a Ru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etra To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nja Vraž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ndrina Žili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IZVEDE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ibor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ree – Year Exchange Fu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RDER-DRIVEN” SUSTA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cijene se mijenjaju ovisno o naredbama koje dolaze od brokera i dealera na aukcijama, koji pak primaju naredbe od investito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ve narudžbe se izvršavaju preko AMS-a (Automatic Order Matching and Execution Sy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MEHANIZAM TRGOVAN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dvija se na 2 mjest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terminala u velikoj dvorani na HKSE – FLOOR BROKERI i FLOOR DEAL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eko “off-floor” terminala trgovanja, u uredima brokera – OFF-FLOOR BROK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kapaci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 povećanje učinkovi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KS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IND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ajvažniji indik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adrži 33 dionice koje pokrivaju oko 70 % kapitalizacije tržišta od svih dionica koja su uvrštene na “Main Board” HK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ijeli se na 4 podindex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FINANCE”, “UTILITIES”, “PROPERTIES”, “COMMERCE &amp; INDUSTR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eec94"/>
                </a:solidFill>
                <a:latin typeface="Times New Roman"/>
              </a:rPr>
              <a:t>HANG SENG INDEX (11/05/2005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Today's Hang Seng Index movement chart"/>
          <p:cNvPicPr/>
          <p:nvPr/>
        </p:nvPicPr>
        <p:blipFill>
          <a:blip r:embed="rId1"/>
          <a:stretch/>
        </p:blipFill>
        <p:spPr>
          <a:xfrm>
            <a:off x="1258920" y="2492280"/>
            <a:ext cx="6481800" cy="380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457200" y="1600200"/>
          <a:ext cx="8229600" cy="487440"/>
        </p:xfrm>
        <a:graphic>
          <a:graphicData uri="http://schemas.openxmlformats.org/drawingml/2006/table">
            <a:tbl>
              <a:tblPr/>
              <a:tblGrid>
                <a:gridCol w="792000"/>
                <a:gridCol w="1656000"/>
                <a:gridCol w="1452600"/>
                <a:gridCol w="1488960"/>
                <a:gridCol w="1490760"/>
                <a:gridCol w="1349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vious cl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ange 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hig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ily 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urno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S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085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112,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991,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611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INDEX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eec94"/>
                </a:solidFill>
                <a:latin typeface="Times New Roman"/>
              </a:rPr>
              <a:t>HANG SENG KOMPOZITNI INDEX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krivaju preko 95 % tržišne kapit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GEOGRAF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Hang Seng Mainland Composite Index, Hang Seng Hong Kong Composite Index, Hang Seng China Enerprises Index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NDUSTRIJSKI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( “nafta i resursi”, “ind. roba”, “potrošna roba”, “usluge”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77472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sted companies (Main Board)</a:t>
            </a:r>
            <a:br>
              <a:rPr sz="1600"/>
            </a:b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up to end of April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700280"/>
          <a:ext cx="8864640" cy="3914640"/>
        </p:xfrm>
        <a:graphic>
          <a:graphicData uri="http://schemas.openxmlformats.org/drawingml/2006/table">
            <a:tbl>
              <a:tblPr/>
              <a:tblGrid>
                <a:gridCol w="2216160"/>
                <a:gridCol w="2216160"/>
                <a:gridCol w="2216160"/>
                <a:gridCol w="221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of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listed compan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o. of listed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9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H sh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Red-chip Stock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quity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rivatives Warra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E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Unit Tru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Debt Secur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market capitalisation</a:t>
                      </a:r>
                      <a:br>
                        <a:rPr sz="1200"/>
                      </a:b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19,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99,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629,1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P/E ratio (Tim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yield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0" y="543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0522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rnover (Main Boar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1125360"/>
          <a:ext cx="8642160" cy="4751280"/>
        </p:xfrm>
        <a:graphic>
          <a:graphicData uri="http://schemas.openxmlformats.org/drawingml/2006/table">
            <a:tbl>
              <a:tblPr/>
              <a:tblGrid>
                <a:gridCol w="3284640"/>
                <a:gridCol w="1071360"/>
                <a:gridCol w="1071720"/>
                <a:gridCol w="1071360"/>
                <a:gridCol w="1071360"/>
                <a:gridCol w="1071720"/>
              </a:tblGrid>
              <a:tr h="14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 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. to Apr.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relative to corresponding period last ye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,5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79,4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48,3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daily turnover by value(HK$Mil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9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8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turnover in shares(Mil. Shar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9,8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62,3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84,7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share traded per trading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4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number of tr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1,6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15,2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631,4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verage no. of trades per d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4,5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9,5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,1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trading d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8920" y="69156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dex 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765000"/>
          <a:ext cx="8497800" cy="5154480"/>
        </p:xfrm>
        <a:graphic>
          <a:graphicData uri="http://schemas.openxmlformats.org/drawingml/2006/table">
            <a:tbl>
              <a:tblPr/>
              <a:tblGrid>
                <a:gridCol w="2322360"/>
                <a:gridCol w="1530360"/>
                <a:gridCol w="2322720"/>
                <a:gridCol w="232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il 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mon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Change over</a:t>
                      </a:r>
                      <a:br>
                        <a:rPr sz="1200"/>
                      </a:br>
                      <a:r>
                        <a:rPr b="1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12 month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LargeCap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579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&amp;P/HKEx GEM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5.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08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Fin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810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Ut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598.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Proper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252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I - Commerce &amp; Indu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61.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omposite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792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 Enterprise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57.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ng Seng China-Affiliated Corporations Inde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62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TOP 1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BC Multi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niverse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mnico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uabao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navox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 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ssex Bio-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outh China 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sia Teleme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orthern In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eec94"/>
                </a:solidFill>
                <a:latin typeface="Times New Roman"/>
              </a:rPr>
              <a:t>HVALA 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eec94"/>
                </a:solidFill>
                <a:latin typeface="Times New Roman"/>
              </a:rPr>
              <a:t>PITANJA 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eec94"/>
                </a:solidFill>
                <a:latin typeface="Times New Roman"/>
              </a:rPr>
              <a:t>posjetite </a:t>
            </a:r>
            <a:r>
              <a:rPr b="1" lang="hr-HR" sz="2800" spc="-1" strike="noStrike">
                <a:solidFill>
                  <a:srgbClr val="feec94"/>
                </a:solidFill>
                <a:latin typeface="Times New Roman"/>
              </a:rPr>
              <a:t>www.hkex.com.h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Logo-HKEx"/>
          <p:cNvPicPr/>
          <p:nvPr/>
        </p:nvPicPr>
        <p:blipFill>
          <a:blip r:embed="rId1"/>
          <a:stretch/>
        </p:blipFill>
        <p:spPr>
          <a:xfrm>
            <a:off x="900000" y="900000"/>
            <a:ext cx="266400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ADRŽAJ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OVIJ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UDIO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PROIZVO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MEHANIZAM TRGO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INDEK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cc"/>
                </a:solidFill>
                <a:latin typeface="Times New Roman"/>
              </a:rPr>
              <a:t>STAT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Exchanges and Cl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Limited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Zadatak: transparentnost, pošteno tržišt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činkovita regulacija, rast tvrtki i s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OVIJE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891. - prvo formalno tržište vrijednosn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47. – spajanje dvije najvažnije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70te - formirane još 3 bu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6. – spajanjem formirana “The Stock Exchange of Hong Ko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87. – “market crash” - promj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omjen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snovana SFC (Securities and Futures Commission) – regu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3. osnovan AMS (Automatic Order Matching and Execution System) – glavna tehnička osnov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1996. stvaraju se “off- floor” termin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2000. spajanjem stvorena “Hong Kong Exchanges and Clearing Limit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SUDIONIC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Exchange (SEHK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Futures Exchange (HKFE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ock Options Exchange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ong Kong Securities Clearing Company (HKS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KFE Clearing Corporation (HKCC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he SEHK Options Clearing House (SEOCH) Participantshi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ŽIŠTE VRIJEDNOS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erivative warr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xchange Traded F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Bo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eec94"/>
                </a:solidFill>
                <a:latin typeface="Times New Roman"/>
              </a:rPr>
              <a:t>PROIZVOD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IMJ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ETF koji kotiraju na burzi u HK uključuj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Tracker Fund 2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China Tracker 28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A50 China Tracker 28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-Share Index ETF 28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ec94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Hang Seng HSI ETF 28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0:38:31Z</dcterms:created>
  <dc:creator>Studenski dom - ucionice</dc:creator>
  <dc:description/>
  <dc:language>en-US</dc:language>
  <cp:lastModifiedBy>Studenski dom - ucionice</cp:lastModifiedBy>
  <dcterms:modified xsi:type="dcterms:W3CDTF">2005-05-10T18:24:54Z</dcterms:modified>
  <cp:revision>7</cp:revision>
  <dc:subject/>
  <dc:title>BURZA U HONG KONGU</dc:title>
</cp:coreProperties>
</file>