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199-BF2A-4FB9-AE5B-AFBCB577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DEB-CB50-46F7-8ED2-A614126C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1BE-9AD9-44B7-B112-2A59AB4A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703-0F75-4C55-B5E3-989597FA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99B4-D0E8-447F-99EE-88814FF6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4776-9D92-44FC-938C-F31EFAAA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0C27-3AC4-4229-A3E4-AB3FFF0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0AC6-EBFB-4FB2-8B4F-0C1B0882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CFFF-ED27-4159-8258-7129A8C2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AD94-2D34-4DDF-9124-8A3533B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49BF-C095-4A5A-8B92-DC20D68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B2E-CE83-4378-8DAB-D2A67850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2D0D-2E16-4977-8A7D-61ABFDEC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EEB5-163F-474E-B5BD-4F74697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91B3-CA05-4A8B-B27E-A80614B5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CE4-1BD4-491A-B435-6A0BE59D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E574-9A22-4647-9320-882BD1DA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215-D085-4559-85F5-52CCF9F7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ED3-DE0D-4BAD-870C-756F25EA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601-9C1D-4A41-8549-992F9907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EFE-E196-4722-9A9A-587A8ED3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035-A346-48F3-8777-6502DCD0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2F6-E4E1-4017-B210-D8EEF79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155-28CA-414B-B636-7553FB2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DED7-8049-4364-9A05-5C4EDBC08A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B4A5-0FFB-4422-A5D1-2BD3ECEA5A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12000" y="5229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nis Dolin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rija Mateš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ina R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77336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200" spc="-1" strike="noStrike">
                <a:solidFill>
                  <a:srgbClr val="ccecff"/>
                </a:solidFill>
                <a:latin typeface="Arial"/>
              </a:rPr>
              <a:t>NYSE</a:t>
            </a:r>
            <a:endParaRPr b="0" lang="en-US" sz="2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iticorp Securities Services,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First Clearing LL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J. P. Morgan Invest, LL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cDonald Investments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errill Lynch Professional Clearing Cor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erdiue Securities, LL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ccecff"/>
                </a:solidFill>
                <a:latin typeface="Arial"/>
              </a:rPr>
              <a:t>ČLANOVI - </a:t>
            </a:r>
            <a:r>
              <a:rPr b="0" lang="hr-HR" sz="5400" spc="-1" strike="noStrike">
                <a:solidFill>
                  <a:srgbClr val="ccecff"/>
                </a:solidFill>
                <a:latin typeface="Arial"/>
                <a:ea typeface="Times New Roman"/>
              </a:rPr>
              <a:t>Floor Brokers</a:t>
            </a: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rimaju kupovne i prodajne naloge od jav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vrs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use brok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commission broke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ade za brokerske ku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ć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 koje su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nvovi NY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ependent brok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mostalni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novi bur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povezuju brok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dodijeljen im je određen broj dionic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imaju svoj 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Trading 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o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odr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ž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avanje pravednosti, konkurencije i efikasnost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4 fukcij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Aukcionar 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• Ag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Katalist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• Deal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 - Specijalisti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rednosti kotiranj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ikasno, fer i sigurno aukcijsko tržiš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veći je izvoru kapitala s najboljom likvidnošć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gućnost za značajan r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ersifikacija investicijskog portfel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lja poslovna očeki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poštenije cjenovno vrednova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otiranje na NY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2800 kompan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18000 mlrd US$ tržišne kapital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vodeće američke kompanije - ''blue chip''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470 neameričkih kompanija iz 53 zeml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6000 mlrd US$ tržišne kapital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igraju sve veću ulog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broj im je porastao gotovo pet pu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VJETI kotiranj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ve dionice moraju biti registrirane kod SEC-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rtka mora udovoljiti strogim financijskim i regulacijskim kriterijima bu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vije skupine standard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onstantni uvjeti kotiranja 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vjeti uvrštavanja dionica na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291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. Konstantni standardi kotiranja na NYS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870120"/>
          <a:ext cx="914400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0120"/>
                    <a:ext cx="914400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. Uvrštavanje dionic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ove kotacije dionica postižu se kroz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četne javne ponu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(initial public offerings – IPOs)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rijenosom kotiranja s drugih burzi 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unakrsnim kotiranjima stranih kompanija na burzama diljem svije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različiti su uvjeti uvrštavanja domaćih i stranih kompan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Arial"/>
              </a:rPr>
              <a:t>Minimalni kvantitativni standardi uvrštavanja am. dionica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7600" y="714240"/>
          <a:ext cx="9063000" cy="608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714240"/>
                    <a:ext cx="9063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knade za kotiranje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siječanj 2003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Originalna naknada 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na naknada u užem smisl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ijena uvrštavanja kompanije na burzu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dnokratne je nara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ća se u fiksnom iznosu ($ 368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inicijalne nakna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ijena uvrštavanja dionica u kotaciju bur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ća se po milijunu uvrštenih dio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todom lomljene regres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5562720"/>
          <a:ext cx="7543800" cy="1035000"/>
        </p:xfrm>
        <a:graphic>
          <a:graphicData uri="http://schemas.openxmlformats.org/drawingml/2006/table">
            <a:tbl>
              <a:tblPr/>
              <a:tblGrid>
                <a:gridCol w="5248080"/>
                <a:gridCol w="2295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nim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1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simalna origin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drža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vijesni razvoj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YSE dan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Mis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Organiz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Članov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tiranje na burz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ading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Trgovan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Tehnolog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Vrijednosn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igurnosni susta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Formiranje cije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Indeks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ck 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Zaključ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knade za kotiranje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siječanj 2003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Kontinuirana (godišnja) nakn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eza dospijeva 1. siječnja za kotiranje u godini koja slije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ća se po milijunu uvrštenih dion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5562720"/>
          <a:ext cx="7543800" cy="1035000"/>
        </p:xfrm>
        <a:graphic>
          <a:graphicData uri="http://schemas.openxmlformats.org/drawingml/2006/table">
            <a:tbl>
              <a:tblPr/>
              <a:tblGrid>
                <a:gridCol w="5248080"/>
                <a:gridCol w="2295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nim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tinuira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3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simalna kontinuira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4267080"/>
          <a:ext cx="7543800" cy="533160"/>
        </p:xfrm>
        <a:graphic>
          <a:graphicData uri="http://schemas.openxmlformats.org/drawingml/2006/table">
            <a:tbl>
              <a:tblPr/>
              <a:tblGrid>
                <a:gridCol w="4821120"/>
                <a:gridCol w="2722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knada po milijunu dionic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9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ADING FLO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avna prostori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+ četiri manje prostori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kupno 446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 punktova trg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00 brokerskih kabi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  <a:ea typeface="Times New Roman"/>
              </a:rPr>
              <a:t>Trgovanje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Times New Roman"/>
              </a:rPr>
              <a:t> na burz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553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pojedinac mora otvoriti račun kod brokerske tvrtk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vrste nalog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rket Or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imit Or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nevni naloz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''good 'til canceled''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op Or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jedinica trgovanja se naziva round lot  = 100 dioni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37160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  <a:ea typeface="Times New Roman"/>
              </a:rPr>
              <a:t>Kronologija trgovanja na NYS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1303200" cy="130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1303200" cy="130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4960" y="8380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Invest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15238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8400" y="11746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09800" y="68580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Broker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vr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5400" y="11746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16002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22800" y="6858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CM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SuperDot</a:t>
            </a:r>
            <a:r>
              <a:rPr b="1" lang="hr-HR" sz="1800" spc="-1" strike="noStrike">
                <a:solidFill>
                  <a:srgbClr val="003b7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543800" y="1295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553080" y="16002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1280" y="12193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5520" y="68580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rgovin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punk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7467480" y="40384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458200" y="281952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50240" y="30481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76480" y="56386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Specij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648320" y="3886200"/>
            <a:ext cx="1330200" cy="1676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 rot="19260000">
            <a:off x="5943600" y="2971800"/>
            <a:ext cx="1447920" cy="304920"/>
          </a:xfrm>
          <a:prstGeom prst="leftArrow">
            <a:avLst>
              <a:gd name="adj1" fmla="val 50000"/>
              <a:gd name="adj2" fmla="val 1187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59880" y="30481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69360" y="571500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Flo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Bro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4960" y="4343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6172200" y="4952880"/>
            <a:ext cx="1143000" cy="534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3886200"/>
            <a:ext cx="1524240" cy="16002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31160" y="563868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Izvješć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ransakc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581280" y="4952880"/>
            <a:ext cx="990720" cy="457200"/>
          </a:xfrm>
          <a:custGeom>
            <a:avLst/>
            <a:gdLst>
              <a:gd name="textAreaLeft" fmla="*/ 154800 w 990720"/>
              <a:gd name="textAreaRight" fmla="*/ 834480 w 990720"/>
              <a:gd name="textAreaTop" fmla="*/ 154080 h 457200"/>
              <a:gd name="textAreaBottom" fmla="*/ 3031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7281"/>
                </a:moveTo>
                <a:lnTo>
                  <a:pt x="11144" y="7281"/>
                </a:lnTo>
                <a:lnTo>
                  <a:pt x="11144" y="0"/>
                </a:lnTo>
                <a:lnTo>
                  <a:pt x="21600" y="10800"/>
                </a:lnTo>
                <a:lnTo>
                  <a:pt x="11144" y="21600"/>
                </a:lnTo>
                <a:lnTo>
                  <a:pt x="11144" y="14319"/>
                </a:lnTo>
                <a:lnTo>
                  <a:pt x="3375" y="14319"/>
                </a:lnTo>
                <a:close/>
              </a:path>
              <a:path w="21600" h="21600">
                <a:moveTo>
                  <a:pt x="0" y="7281"/>
                </a:moveTo>
                <a:lnTo>
                  <a:pt x="675" y="7281"/>
                </a:lnTo>
                <a:lnTo>
                  <a:pt x="675" y="14319"/>
                </a:lnTo>
                <a:lnTo>
                  <a:pt x="0" y="14319"/>
                </a:lnTo>
                <a:close/>
              </a:path>
              <a:path w="21600" h="21600">
                <a:moveTo>
                  <a:pt x="1350" y="7281"/>
                </a:moveTo>
                <a:lnTo>
                  <a:pt x="2700" y="7281"/>
                </a:lnTo>
                <a:lnTo>
                  <a:pt x="2700" y="14319"/>
                </a:lnTo>
                <a:lnTo>
                  <a:pt x="1350" y="1431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4343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66688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28600" y="3962520"/>
            <a:ext cx="1454040" cy="147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752480" y="487692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2160" y="55627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Tick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t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90800" y="4375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73680" y="3124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905120"/>
            <a:ext cx="838080" cy="304560"/>
          </a:xfrm>
          <a:prstGeom prst="leftArrow">
            <a:avLst>
              <a:gd name="adj1" fmla="val 50000"/>
              <a:gd name="adj2" fmla="val 6879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82600" y="21654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Tehnologija Trading Floor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temelji se na najsuvremenijoj tehnologi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apacitet burze – trgovina 6 milijardi dionica po da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osadašnji rekord - 2,37 milijardi dionica po danu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listopad 2001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SuperDOT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Designated Order Turnaround Syste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roker Booth Support System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BBSS)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7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Tehnologija Trading Floor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3-D Trading Floor</a:t>
            </a:r>
            <a:r>
              <a:rPr b="0" lang="hr-HR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etwork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Direct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e-Brok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MarkeTrac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stal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(NYSEnet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Institutional XPress…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Consolidated Tape System (C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5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9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000"/>
                            </p:stCondLst>
                            <p:childTnLst>
                              <p:par>
                                <p:cTn id="9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7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1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rijednosnice na NY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1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3558 vrijednosnica kompan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2745 domaćih 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475 strani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2563 izdanja običnih dion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363 izdanja preferencijalnih dio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627 izdanja izvede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5 izdanja varan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9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3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7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bveznice kotirane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trguje se preko Exchange's Automated Bond System (AB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više 2000 izdanja obvez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rporativne (najveći udi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85% su čiste (nekonvertibilne obvezni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15% su konvertibilne obvezn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agencijs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ržav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7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9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New York Futures Exchange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 (NYFE)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ružnica NYSE za terminsku trgovin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utama (¥ $ £ € CH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žavnim i agencijskim vrijednosnim papir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rtifikatima o depoz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inskim ugovorima na temelju burzovnih ind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igurnosni susta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Insider trading – protuzakon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Stock 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mpjutorski sustav koji konstantno prati trgovanje i automatski označava neuobičajenu količinu ili cijenu za bilo koju dionic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792. Buttonwood Tree Agre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17. New York Stock and Exchange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63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adzorna pirami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Verdana"/>
              </a:rPr>
              <a:t>Sporo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Verdana"/>
              </a:rPr>
              <a:t>arbitraža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– omogućava rješavanje sporova brzo i pravedno od strane nepristranih os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Verdana"/>
              </a:rPr>
              <a:t>Securities Investor Protection Corporation (SIP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osnovao ju je Kong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okriva troškove od 500.000 $ po osob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3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7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iranje cij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717200"/>
            <a:ext cx="5486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a cijenu dionice utječe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onuda i potražnja za tom dioni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financijska stabilnost kompan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tanje sektora u kojem se nalazi kompani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trendovi u gospodarstv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bull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bear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vjetski i nacionalni događa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7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ks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Composite Index (NY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U.S. 100 Index (NY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International 100 Index (NYI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World Leaders Index (NYL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TMT Index (NYY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Sector Inde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1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Composite Index (NYA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eiran 1966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jeri zajedničko kretanje svih dionica koje su uvrštene na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mogućuje investitorima da prate trendove unutar američkog tržiš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dopunjuje ga ostalih 5 ind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U.S. 100 Index (NY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jeri kretanje 100 najvećih američkih dionica uvrštenih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sastoji se od blue-chip kompanija koje zadovoljavaju visoke kriterije uvrštavanja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7848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International 100 Index (NYI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ključuje 100 najvećih neameričkih dionica kojima se trguje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8458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World Leaders Index (NYL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jeri kretanja 200 vodećih kompanija iz 10 industrijskih sektora i svih regija svij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84582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Technology-Media-Telecom (TMT) Index (NYY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ogućuje investitorima praćenje kretanja dionica 100 vodećih kompanija tehnološkog sekt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6108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Sector Index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reirani su 8. siječnja 2004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astoji se od 3 pojedinačna index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Energy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 NYE.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Financial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 NYK.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Healthcare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 NYP.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KRA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E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65. 10 Broad Str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78. telef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86. promet preko 1 mil. US$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E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15. Promijenjen sustav kotacija cije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6. Kompozitni inde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7. Prva žena č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92. – 20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bljetn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YSE DAN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veća svjetska bur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366 člano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558 vrijednos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800 tvrt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nevni prosjek trgovanja iznosi preko 1.2 mlrd dio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16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60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0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600"/>
                            </p:stCondLst>
                            <p:childTnLst>
                              <p:par>
                                <p:cTn id="1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SIJ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davanje vrijednosti kapita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ticanje povjerenja i razumijevanja procesa trg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uženje kao forum za relevantna pitanja nacionalne i međunarodne politik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RGANIZACIJ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7. 12. 2003. SEC je odobrio promjene u nadzornoj hijerarhi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oard of Dire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oard of Execu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EO - John A. Th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oduzeće ili pojedinac koje kupi mjesto na burz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ešetarsko-trgovinske tvrtke, slobodni trgovci i specijali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vi članovi bili su osnivači burze – njih 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ijena mjes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1800. – 25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1999. – 2,65 mil.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anas – 1,5 mil.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17:40:49Z</dcterms:created>
  <dc:creator>Dina</dc:creator>
  <dc:description/>
  <dc:language>en-US</dc:language>
  <cp:lastModifiedBy>Dina</cp:lastModifiedBy>
  <dcterms:modified xsi:type="dcterms:W3CDTF">2004-05-11T14:38:29Z</dcterms:modified>
  <cp:revision>55</cp:revision>
  <dc:subject/>
  <dc:title>Slide 1</dc:title>
</cp:coreProperties>
</file>