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089-F491-4704-8FA7-B36E9E7D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75A-ED9A-4FF2-9B55-BF2453F2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393-160B-475D-8F2D-974E9A55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120C-FEF8-4014-AE61-4E4762DE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5EB1-58D8-47C7-B96D-58444006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45E8-BE67-4778-892D-43F1E806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6485-8BAA-4EE3-AF3F-7CF56FB2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15E2-A033-46E2-8F8B-1A0178E3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2F29-A8B8-4258-9E1C-BDB2FA26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2299-199C-4133-A882-A4DF8D0F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B726-E4FB-472D-89FF-A969C77D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B10-C57A-4B29-AB24-8BF61FE8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D44F-D56F-4E4B-B271-0C0BED53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9574-B154-4B26-9FA8-CEEF131E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8B3A-172B-4D22-96A4-71DFBA22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BF64-8AE9-4CDF-97A0-9873E87E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7941-B7A5-4F44-BF6B-0EC03D02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38E-AE13-40A1-844B-5CF05713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0FA-2EED-4C5C-B313-804406CF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D5F5-2350-4171-8568-C804E235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D6C-8BE7-49F9-8BCB-18F7C785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280-468F-4BCC-B0B8-6E037D70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4AF-D98C-4587-9574-D057A8EB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E79-3E06-4970-A1D0-0775A59E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E628-E1FA-4F8E-BB40-4B8829540899}" type="slidenum">
              <a:rPr b="0" lang="hr-H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290D-679F-4800-9B63-2C16C5AADD6A}" type="slidenum">
              <a:rPr b="0" lang="hr-H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686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993300"/>
                </a:solidFill>
                <a:latin typeface="Arial"/>
              </a:rPr>
              <a:t>Metode rješavanja redoks reakcij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1916280"/>
            <a:ext cx="799308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4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Pomoću parcijalnih elektronskih jednadžb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4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pišu se polureakcij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   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reakcije oksidacije i reakcije redukcije u kojima je jednak broj prijeđenih elektrona, a jednadžbe množimo sa zajedničkim višekratnik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581360"/>
            <a:ext cx="921672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2. Primjenom diofantskih jednadžb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4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bilanca atoma vrši se dodavanjem općih koeficijenata svakom atomu: jedan od općih koeficijenata izjednači se s jedinicom pa se prema njemu odredi vrijednost ostalih (prema Lavoisierovom zakonu)- dobiju se steh. Koeficijenti u razlomcima, a jednadžba se pomnoži brojčano najvećim nazivnikom da se dobiju cijeli brojev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b7"/>
                </a:solidFill>
                <a:latin typeface="Arial"/>
              </a:rPr>
              <a:t>ZADACI ZA VJEŽB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20640"/>
            <a:ext cx="8661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1. Uravnotežite redoks jednadžbu pomoću parcijalnih jednadžbi polureakcija za reakciju oksidacije HCl uz KMn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4080" y="1844640"/>
            <a:ext cx="667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+ HCl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→ KCl + MnCl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+ Cl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421000"/>
            <a:ext cx="306864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Mn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2Cl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Cl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068640"/>
            <a:ext cx="500544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8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Mn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+ 4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2Cl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Cl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3860640"/>
            <a:ext cx="540216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3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8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5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Mn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+ 4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2Cl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- 2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Cl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21080" y="38606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*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89080" y="4221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*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653000"/>
            <a:ext cx="828036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4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16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10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2Mn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+ 8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10Cl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- 10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5Cl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--------------------------------------------------------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16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10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10Cl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- 10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2Mn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+ 8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 + 5Cl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6237360"/>
            <a:ext cx="828036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5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2K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16HCl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2MnCl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+ 8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 + 5Cl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20000004768372">
                                      <p:cBhvr additive="repl">
                                        <p:cTn id="30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b7"/>
                </a:solidFill>
                <a:latin typeface="Arial"/>
              </a:rPr>
              <a:t>ZADACI ZA VJEŽB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0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2. Uravnotežite redoks jednadžbu pomoću jednadžbi polureakcija za reakciju Zn s natrij-hipokloritom u lužnatom mediju nakon koje nastaje natrij-klorid i teško topljivi cink-hidroks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43120" y="1844640"/>
            <a:ext cx="511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Zn + NaClO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→ Zn(OH)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+ Na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421000"/>
            <a:ext cx="30686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Zn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Zn(OH)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ClO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Cl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3068640"/>
            <a:ext cx="500544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Zn +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2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Zn(OH)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ClO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Cl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3860640"/>
            <a:ext cx="540216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3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Zn + 2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 - 2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→ Zn(OH)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ClO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2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→ Cl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4653000"/>
            <a:ext cx="828036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4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Zn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2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- 2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2O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Zn(OH)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2O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ClO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2O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2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Cl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+ 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 + 2O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--------------------------------------------------------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Zn + 4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 +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2O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ClO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→ Zn(OH)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+ 3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 + Cl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+ 2O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6237360"/>
            <a:ext cx="828036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5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Zn + NaClO + 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 → Zn(OH)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NaC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20000004768372">
                                      <p:cBhvr additive="repl">
                                        <p:cTn id="35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b7"/>
                </a:solidFill>
                <a:latin typeface="Arial"/>
              </a:rPr>
              <a:t>ZADACI ZA VJEŽB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20640"/>
            <a:ext cx="9144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3. Reakcija između bizmut(III)-hidroksida i Sn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iona odvija se u lužnatom pri čemu nastaje elementarni Bi i Sn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.Uravnotežite redoks jednadžbu pomoću jednadžbi polureakcij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93880" y="1844640"/>
            <a:ext cx="507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Bi(OH)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SnO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-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→ Bi + SnO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hr-HR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2421000"/>
            <a:ext cx="36720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Bi(OH)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B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S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S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4653000"/>
            <a:ext cx="93614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4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Bi(OH)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6O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6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→ 2Bi + 6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 + 6O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3S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3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 + 6O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- 6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→ 3S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+ 6O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-----------------------------------------------------------------------------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ffffff"/>
                </a:solidFill>
                <a:latin typeface="Arial"/>
              </a:rPr>
              <a:t>2Bi(OH)</a:t>
            </a:r>
            <a:r>
              <a:rPr b="0" lang="hr-HR" sz="21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hr-HR" sz="2100" spc="-1" strike="noStrike">
                <a:solidFill>
                  <a:srgbClr val="ffffff"/>
                </a:solidFill>
                <a:latin typeface="Arial"/>
              </a:rPr>
              <a:t>+ 9H</a:t>
            </a:r>
            <a:r>
              <a:rPr b="0" lang="hr-HR" sz="2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100" spc="-1" strike="noStrike">
                <a:solidFill>
                  <a:srgbClr val="ffffff"/>
                </a:solidFill>
                <a:latin typeface="Arial"/>
              </a:rPr>
              <a:t>O + 6OH</a:t>
            </a:r>
            <a:r>
              <a:rPr b="0" lang="hr-HR" sz="21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100" spc="-1" strike="noStrike">
                <a:solidFill>
                  <a:srgbClr val="ffffff"/>
                </a:solidFill>
                <a:latin typeface="Arial"/>
              </a:rPr>
              <a:t> + 3SnO</a:t>
            </a:r>
            <a:r>
              <a:rPr b="0" lang="hr-HR" sz="2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1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hr-HR" sz="2100" spc="-1" strike="noStrike">
                <a:solidFill>
                  <a:srgbClr val="ffffff"/>
                </a:solidFill>
                <a:latin typeface="Arial"/>
              </a:rPr>
              <a:t> → 2Bi + 3SnO</a:t>
            </a:r>
            <a:r>
              <a:rPr b="0" lang="hr-HR" sz="21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1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hr-HR" sz="21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hr-HR" sz="2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100" spc="-1" strike="noStrike">
                <a:solidFill>
                  <a:srgbClr val="ffffff"/>
                </a:solidFill>
                <a:latin typeface="Arial"/>
              </a:rPr>
              <a:t>O + 6OH</a:t>
            </a:r>
            <a:r>
              <a:rPr b="0" lang="hr-HR" sz="21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3141720"/>
            <a:ext cx="46083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Bi(OH)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3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Bi + 3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S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S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3860640"/>
            <a:ext cx="53290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8000"/>
                </a:solidFill>
                <a:latin typeface="Arial"/>
              </a:rPr>
              <a:t>3.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Bi(OH)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3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3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Bi + 3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S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 - 2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S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94160" y="41497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*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05080" y="38606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*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6165720"/>
            <a:ext cx="820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5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100" spc="-1" strike="noStrike">
                <a:solidFill>
                  <a:srgbClr val="ffffff"/>
                </a:solidFill>
                <a:latin typeface="Arial"/>
              </a:rPr>
              <a:t>2Bi(OH)</a:t>
            </a:r>
            <a:r>
              <a:rPr b="0" lang="hr-HR" sz="21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hr-HR" sz="2100" spc="-1" strike="noStrike">
                <a:solidFill>
                  <a:srgbClr val="ffffff"/>
                </a:solidFill>
                <a:latin typeface="Arial"/>
              </a:rPr>
              <a:t>+ 3SnO</a:t>
            </a:r>
            <a:r>
              <a:rPr b="0" lang="hr-HR" sz="2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1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hr-HR" sz="2100" spc="-1" strike="noStrike">
                <a:solidFill>
                  <a:srgbClr val="ffffff"/>
                </a:solidFill>
                <a:latin typeface="Arial"/>
              </a:rPr>
              <a:t> → 2Bi + 3SnO</a:t>
            </a:r>
            <a:r>
              <a:rPr b="0" lang="hr-HR" sz="21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hr-HR" sz="21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hr-HR" sz="2100" spc="-1" strike="noStrike">
                <a:solidFill>
                  <a:srgbClr val="ffffff"/>
                </a:solidFill>
                <a:latin typeface="Arial"/>
              </a:rPr>
              <a:t>  + 3H</a:t>
            </a:r>
            <a:r>
              <a:rPr b="0" lang="hr-HR" sz="2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1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20000004768372">
                                      <p:cBhvr additive="repl">
                                        <p:cTn id="41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b7"/>
                </a:solidFill>
                <a:latin typeface="Arial"/>
              </a:rPr>
              <a:t>ZADACI ZA VJEŽB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20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4. Dušikov dioksid raspada se u vodi na nitratnu kiselinu i dušik-monoksid. Uravnotežite redoks jednadžbu pomoću jednadžbi polureakcij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2200" y="1844640"/>
            <a:ext cx="427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→ NO + HNO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637000"/>
            <a:ext cx="5184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Oks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 – e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→ 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+ 2H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Red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2H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2e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O +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3800" y="2637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*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645000"/>
            <a:ext cx="6156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Oks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2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 – 2e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→ 2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+ 4H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Red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2H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2e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O +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4653000"/>
            <a:ext cx="5329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3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→ 2N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+ 2H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5734080"/>
            <a:ext cx="532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3300"/>
                </a:solidFill>
                <a:latin typeface="Arial"/>
              </a:rPr>
              <a:t>3NO</a:t>
            </a:r>
            <a:r>
              <a:rPr b="0" lang="hr-HR" sz="2800" spc="-1" strike="noStrike" baseline="-25000">
                <a:solidFill>
                  <a:srgbClr val="9933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993300"/>
                </a:solidFill>
                <a:latin typeface="Arial"/>
              </a:rPr>
              <a:t> + H</a:t>
            </a:r>
            <a:r>
              <a:rPr b="0" lang="hr-HR" sz="2800" spc="-1" strike="noStrike" baseline="-25000">
                <a:solidFill>
                  <a:srgbClr val="9933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993300"/>
                </a:solidFill>
                <a:latin typeface="Arial"/>
              </a:rPr>
              <a:t>O </a:t>
            </a:r>
            <a:r>
              <a:rPr b="0" lang="hr-HR" sz="2800" spc="-1" strike="noStrike">
                <a:solidFill>
                  <a:srgbClr val="993300"/>
                </a:solidFill>
                <a:latin typeface="Arial"/>
                <a:ea typeface="Arial"/>
              </a:rPr>
              <a:t>→ 2HNO</a:t>
            </a:r>
            <a:r>
              <a:rPr b="0" lang="hr-HR" sz="28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3 </a:t>
            </a:r>
            <a:r>
              <a:rPr b="0" lang="hr-HR" sz="2800" spc="-1" strike="noStrike">
                <a:solidFill>
                  <a:srgbClr val="993300"/>
                </a:solidFill>
                <a:latin typeface="Arial"/>
                <a:ea typeface="Arial"/>
              </a:rPr>
              <a:t>+ </a:t>
            </a:r>
            <a:r>
              <a:rPr b="0" lang="hr-HR" sz="2800" spc="-1" strike="noStrike">
                <a:solidFill>
                  <a:srgbClr val="993300"/>
                </a:solidFill>
                <a:latin typeface="Arial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b7"/>
                </a:solidFill>
                <a:latin typeface="Arial"/>
              </a:rPr>
              <a:t>ZADACI ZA VJEŽB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2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5. Vodikov peroksid oksidira HI u elementarni jod. Uravnotežite redoks jednadžb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0120" y="1844640"/>
            <a:ext cx="352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+ HI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→ I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2852640"/>
            <a:ext cx="5005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oks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2I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- 2e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→ I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red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2e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+ 2H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→ 2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414972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2I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- 2e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+ 2e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+ 2H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→ I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+ 2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5157720"/>
            <a:ext cx="741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993300"/>
                </a:solidFill>
                <a:latin typeface="Arial"/>
              </a:rPr>
              <a:t>2HI + H</a:t>
            </a:r>
            <a:r>
              <a:rPr b="0" lang="hr-HR" sz="2800" spc="-1" strike="noStrike" baseline="-25000">
                <a:solidFill>
                  <a:srgbClr val="9933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993300"/>
                </a:solidFill>
                <a:latin typeface="Arial"/>
              </a:rPr>
              <a:t>O</a:t>
            </a:r>
            <a:r>
              <a:rPr b="0" lang="hr-HR" sz="2800" spc="-1" strike="noStrike" baseline="-25000">
                <a:solidFill>
                  <a:srgbClr val="9933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993300"/>
                </a:solidFill>
                <a:latin typeface="Arial"/>
                <a:ea typeface="Arial"/>
              </a:rPr>
              <a:t>→ I</a:t>
            </a:r>
            <a:r>
              <a:rPr b="0" lang="hr-HR" sz="28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2</a:t>
            </a:r>
            <a:r>
              <a:rPr b="0" lang="hr-HR" sz="2800" spc="-1" strike="noStrike">
                <a:solidFill>
                  <a:srgbClr val="993300"/>
                </a:solidFill>
                <a:latin typeface="Arial"/>
                <a:ea typeface="Arial"/>
              </a:rPr>
              <a:t> + 2H</a:t>
            </a:r>
            <a:r>
              <a:rPr b="0" lang="hr-HR" sz="2800" spc="-1" strike="noStrike" baseline="-25000">
                <a:solidFill>
                  <a:srgbClr val="993300"/>
                </a:solidFill>
                <a:latin typeface="Arial"/>
                <a:ea typeface="Arial"/>
              </a:rPr>
              <a:t>2</a:t>
            </a:r>
            <a:r>
              <a:rPr b="0" lang="hr-HR" sz="2800" spc="-1" strike="noStrike">
                <a:solidFill>
                  <a:srgbClr val="9933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b7"/>
                </a:solidFill>
                <a:latin typeface="Arial"/>
              </a:rPr>
              <a:t>ZADACI ZA VJEŽB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20640"/>
            <a:ext cx="86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6. Uravnotežite redoks jednadžbu redukcije vodik-peroksida pomoću permanganata u kiselo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800" y="1844640"/>
            <a:ext cx="621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+ MnO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hr-HR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→ Mn</a:t>
            </a:r>
            <a:r>
              <a:rPr b="0" lang="hr-HR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+ O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2421000"/>
            <a:ext cx="306864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Mn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3068640"/>
            <a:ext cx="500544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8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Mn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+ 4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+ 2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3860640"/>
            <a:ext cx="540216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3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8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5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Mn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+ 4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- 2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94160" y="38606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*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68720" y="4221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*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4653000"/>
            <a:ext cx="97218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4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16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10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2Mn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+ 8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5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- 10e- → 5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10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--------------------------------------------------------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2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16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5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2Mn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+ 8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 +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5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10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6237360"/>
            <a:ext cx="828036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5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5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2Mn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+ 8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 + 5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20000004768372">
                                      <p:cBhvr additive="repl">
                                        <p:cTn id="54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b7"/>
                </a:solidFill>
                <a:latin typeface="Arial"/>
              </a:rPr>
              <a:t>ZADACI ZA VJEŽB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20640"/>
            <a:ext cx="86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7. Uravnotežite redoks jednadžbu oksidacije cijanida  uz permanganat u lužnato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0840" y="1844640"/>
            <a:ext cx="481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+ CN</a:t>
            </a:r>
            <a:r>
              <a:rPr b="0" lang="hr-HR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→ MnO</a:t>
            </a:r>
            <a:r>
              <a:rPr b="0" lang="hr-H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+ CNO</a:t>
            </a:r>
            <a:r>
              <a:rPr b="0" lang="hr-HR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2421000"/>
            <a:ext cx="30686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CNO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3068640"/>
            <a:ext cx="500544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4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+ 2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 → CNO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3860640"/>
            <a:ext cx="540216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3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4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3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+ 2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 - 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→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CNO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+ 2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65440" y="38606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*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89440" y="4221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*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6237360"/>
            <a:ext cx="828036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5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 + 3CN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2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+ 3CNO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+ 2O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4724280"/>
            <a:ext cx="88200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00"/>
                </a:solidFill>
                <a:latin typeface="Arial"/>
              </a:rPr>
              <a:t>4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8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8O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6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2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+ 4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+ 8O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3CN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3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+ 6O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- 6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→ 3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CNO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+ 6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6O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3CN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+ 11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+ 6O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→ 2MnO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 + 10H</a:t>
            </a:r>
            <a:r>
              <a:rPr b="0" lang="hr-HR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+ 8OH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CNO</a:t>
            </a:r>
            <a:r>
              <a:rPr b="0" lang="hr-HR" sz="2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indefinit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Arial Black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6206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3300"/>
                </a:solidFill>
                <a:latin typeface="Arial"/>
              </a:rPr>
              <a:t>Pomoću parcijalnih elektronskih jednadžb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8600" y="1268280"/>
            <a:ext cx="8307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Uravnoteženje redoks reakcija u kiselom mediju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Za reakciju  S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Mn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S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Mn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4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korak: odrediti polureakcije oksidacije i redukci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3600" y="2708280"/>
            <a:ext cx="921348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S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S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Mn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Mn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2. korak: uravnotežiti polureakcije (1. atome koji nisu O i H, 2. O atome 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dodavanjem 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 i 3. H atome dodavanjem 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uz odgovarajuće koeficij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3789360"/>
            <a:ext cx="753876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S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S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2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Mn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8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Mn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4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3. korak: uravnotežiti svaku polureakciju “elektronski”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97640" y="4292640"/>
            <a:ext cx="90122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S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S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2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2e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Mn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8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5e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Mn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  <a:ea typeface="Arial"/>
              </a:rPr>
              <a:t>2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(aq)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+ 4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4. korak: napisati ukupnu redoks jednadžbu kombinacijom polureakcij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4880" y="5373720"/>
            <a:ext cx="9338040" cy="9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5S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5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5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S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10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10e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2Mn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16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10e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Mn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8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4600"/>
                </a:solidFill>
                <a:latin typeface="Arial"/>
              </a:rPr>
              <a:t>5SO</a:t>
            </a:r>
            <a:r>
              <a:rPr b="1" lang="hr-HR" sz="16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1" lang="hr-HR" sz="16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600" spc="-1" strike="noStrike">
                <a:solidFill>
                  <a:srgbClr val="004600"/>
                </a:solidFill>
                <a:latin typeface="Arial"/>
              </a:rPr>
              <a:t>(aq) + 2MnO</a:t>
            </a:r>
            <a:r>
              <a:rPr b="1" lang="hr-HR" sz="16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6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600" spc="-1" strike="noStrike">
                <a:solidFill>
                  <a:srgbClr val="004600"/>
                </a:solidFill>
                <a:latin typeface="Arial"/>
              </a:rPr>
              <a:t>(aq) +  5H</a:t>
            </a:r>
            <a:r>
              <a:rPr b="1" lang="hr-HR" sz="16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600" spc="-1" strike="noStrike">
                <a:solidFill>
                  <a:srgbClr val="004600"/>
                </a:solidFill>
                <a:latin typeface="Arial"/>
              </a:rPr>
              <a:t>O + 16H</a:t>
            </a:r>
            <a:r>
              <a:rPr b="1" lang="hr-HR" sz="1600" spc="-1" strike="noStrike" baseline="30000">
                <a:solidFill>
                  <a:srgbClr val="004600"/>
                </a:solidFill>
                <a:latin typeface="Arial"/>
              </a:rPr>
              <a:t>+</a:t>
            </a:r>
            <a:r>
              <a:rPr b="1" lang="hr-HR" sz="1600" spc="-1" strike="noStrike">
                <a:solidFill>
                  <a:srgbClr val="004600"/>
                </a:solidFill>
                <a:latin typeface="Arial"/>
              </a:rPr>
              <a:t>(aq) </a:t>
            </a:r>
            <a:r>
              <a:rPr b="1" lang="hr-HR" sz="1600" spc="-1" strike="noStrike">
                <a:solidFill>
                  <a:srgbClr val="004600"/>
                </a:solidFill>
                <a:latin typeface="Arial"/>
                <a:ea typeface="Arial"/>
              </a:rPr>
              <a:t>→ 5</a:t>
            </a:r>
            <a:r>
              <a:rPr b="1" lang="hr-HR" sz="1600" spc="-1" strike="noStrike">
                <a:solidFill>
                  <a:srgbClr val="004600"/>
                </a:solidFill>
                <a:latin typeface="Arial"/>
              </a:rPr>
              <a:t>SO</a:t>
            </a:r>
            <a:r>
              <a:rPr b="1" lang="hr-HR" sz="16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6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600" spc="-1" strike="noStrike">
                <a:solidFill>
                  <a:srgbClr val="004600"/>
                </a:solidFill>
                <a:latin typeface="Arial"/>
              </a:rPr>
              <a:t>(aq) + </a:t>
            </a:r>
            <a:r>
              <a:rPr b="1" lang="hr-HR" sz="1600" spc="-1" strike="noStrike">
                <a:solidFill>
                  <a:srgbClr val="004600"/>
                </a:solidFill>
                <a:latin typeface="Arial"/>
                <a:ea typeface="Arial"/>
              </a:rPr>
              <a:t>2</a:t>
            </a:r>
            <a:r>
              <a:rPr b="1" lang="hr-HR" sz="1600" spc="-1" strike="noStrike">
                <a:solidFill>
                  <a:srgbClr val="004600"/>
                </a:solidFill>
                <a:latin typeface="Arial"/>
              </a:rPr>
              <a:t>Mn</a:t>
            </a:r>
            <a:r>
              <a:rPr b="1" lang="hr-HR" sz="1600" spc="-1" strike="noStrike" baseline="30000">
                <a:solidFill>
                  <a:srgbClr val="004600"/>
                </a:solidFill>
                <a:latin typeface="Arial"/>
              </a:rPr>
              <a:t>2+</a:t>
            </a:r>
            <a:r>
              <a:rPr b="1" lang="hr-HR" sz="1600" spc="-1" strike="noStrike">
                <a:solidFill>
                  <a:srgbClr val="004600"/>
                </a:solidFill>
                <a:latin typeface="Arial"/>
              </a:rPr>
              <a:t>(aq) + 8H</a:t>
            </a:r>
            <a:r>
              <a:rPr b="1" lang="hr-HR" sz="16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600" spc="-1" strike="noStrike">
                <a:solidFill>
                  <a:srgbClr val="004600"/>
                </a:solidFill>
                <a:latin typeface="Arial"/>
              </a:rPr>
              <a:t>O + 10H</a:t>
            </a:r>
            <a:r>
              <a:rPr b="1" lang="hr-HR" sz="1600" spc="-1" strike="noStrike" baseline="30000">
                <a:solidFill>
                  <a:srgbClr val="004600"/>
                </a:solidFill>
                <a:latin typeface="Arial"/>
              </a:rPr>
              <a:t>+</a:t>
            </a:r>
            <a:r>
              <a:rPr b="1" lang="hr-HR" sz="1600" spc="-1" strike="noStrike">
                <a:solidFill>
                  <a:srgbClr val="004600"/>
                </a:solidFill>
                <a:latin typeface="Arial"/>
              </a:rPr>
              <a:t>(aq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" y="6216480"/>
            <a:ext cx="8276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5. korak: pojednostav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5S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2Mn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6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5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S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Mn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3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</a:t>
            </a:r>
            <a:r>
              <a:rPr b="1" lang="hr-HR" sz="1600" spc="-1" strike="noStrike">
                <a:solidFill>
                  <a:srgbClr val="0046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6206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3300"/>
                </a:solidFill>
                <a:latin typeface="Arial"/>
              </a:rPr>
              <a:t>Pomoću parcijalnih elektronskih jednadžb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5720" y="1268280"/>
            <a:ext cx="78861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Uravnoteženje redoks reakcija u lužnatom mediju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Za reakciju  Cr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S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O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Cr(OH)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s) + S(s) + 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4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korak: odrediti polureakcije oksidacije i redukci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2520" y="2708280"/>
            <a:ext cx="9126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Cr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Cr(OH)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S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S(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2. korak: uravnotežiti polureakcije za H i O atome (dodavanjem 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i/ili 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gdje je potrebno ; druga polureakcija nema H ili 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3160" y="3789360"/>
            <a:ext cx="76071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Cr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5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Cr(OH)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s) +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S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S(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3. korak: uravnotežiti svaku polureakciju “elektronski”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56520" y="4292640"/>
            <a:ext cx="94698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     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Cr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5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3e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Cr(OH)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s) + 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     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S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S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s) + 2e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4. korak: zamijeniti kiseli medij za lužnati eliminacijom 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i adicijom O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ion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22040" y="5373720"/>
            <a:ext cx="970596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Cr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5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5O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3e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Cr(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H)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s) + 5O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Cr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5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 + 3e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Cr(OH)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3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(s) + 5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      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Cr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4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 + 3e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Cr(OH)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3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(s) + 5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0920" y="6206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3300"/>
                </a:solidFill>
                <a:latin typeface="Arial"/>
              </a:rPr>
              <a:t>Pomoću parcijalnih elektronskih jednadžb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7960" y="1844640"/>
            <a:ext cx="9641880" cy="29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Cr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5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+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5O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3e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Cr(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H)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s) + 5O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Cr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5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 + 3e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Cr(OH)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3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(s) + 5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     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Cr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4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 + 3e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Cr(OH)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3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(s) + 5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/*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S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S(s) + 2e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  <a:ea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 /*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          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___________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CrO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8H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 + 3S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6e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→ 2Cr(OH)</a:t>
            </a:r>
            <a:r>
              <a:rPr b="1" lang="hr-HR" sz="18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3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(s) + 10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OH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(aq) + 3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S(s) + 6e</a:t>
            </a:r>
            <a:r>
              <a:rPr b="1" lang="hr-HR" sz="1800" spc="-1" strike="noStrike" baseline="30000">
                <a:solidFill>
                  <a:srgbClr val="004600"/>
                </a:solidFill>
                <a:latin typeface="Arial"/>
                <a:ea typeface="Arial"/>
              </a:rPr>
              <a:t>-</a:t>
            </a:r>
            <a:r>
              <a:rPr b="1" lang="hr-HR" sz="1800" spc="-1" strike="noStrike">
                <a:solidFill>
                  <a:srgbClr val="0046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3720" y="4941720"/>
            <a:ext cx="885888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4600"/>
                </a:solidFill>
                <a:latin typeface="Arial"/>
              </a:rPr>
              <a:t>5. korak: ukupna redoks jednadžba iz polureakcij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4600"/>
                </a:solidFill>
                <a:latin typeface="Arial"/>
              </a:rPr>
              <a:t>2CrO</a:t>
            </a:r>
            <a:r>
              <a:rPr b="1" lang="hr-HR" sz="20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1" lang="hr-HR" sz="20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2000" spc="-1" strike="noStrike">
                <a:solidFill>
                  <a:srgbClr val="004600"/>
                </a:solidFill>
                <a:latin typeface="Arial"/>
              </a:rPr>
              <a:t>(aq) + 3S</a:t>
            </a:r>
            <a:r>
              <a:rPr b="1" lang="hr-HR" sz="2000" spc="-1" strike="noStrike" baseline="30000">
                <a:solidFill>
                  <a:srgbClr val="004600"/>
                </a:solidFill>
                <a:latin typeface="Arial"/>
              </a:rPr>
              <a:t>2-</a:t>
            </a:r>
            <a:r>
              <a:rPr b="1" lang="hr-HR" sz="2000" spc="-1" strike="noStrike">
                <a:solidFill>
                  <a:srgbClr val="004600"/>
                </a:solidFill>
                <a:latin typeface="Arial"/>
              </a:rPr>
              <a:t>(aq) + 8H</a:t>
            </a:r>
            <a:r>
              <a:rPr b="1" lang="hr-HR" sz="20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1" lang="hr-HR" sz="2000" spc="-1" strike="noStrike">
                <a:solidFill>
                  <a:srgbClr val="004600"/>
                </a:solidFill>
                <a:latin typeface="Arial"/>
              </a:rPr>
              <a:t>O </a:t>
            </a:r>
            <a:r>
              <a:rPr b="1" lang="hr-HR" sz="2000" spc="-1" strike="noStrike">
                <a:solidFill>
                  <a:srgbClr val="004600"/>
                </a:solidFill>
                <a:latin typeface="Arial"/>
                <a:ea typeface="Arial"/>
              </a:rPr>
              <a:t>→ 2Cr(</a:t>
            </a:r>
            <a:r>
              <a:rPr b="1" lang="hr-HR" sz="2000" spc="-1" strike="noStrike">
                <a:solidFill>
                  <a:srgbClr val="004600"/>
                </a:solidFill>
                <a:latin typeface="Arial"/>
              </a:rPr>
              <a:t>OH)</a:t>
            </a:r>
            <a:r>
              <a:rPr b="1" lang="hr-HR" sz="20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1" lang="hr-HR" sz="2000" spc="-1" strike="noStrike">
                <a:solidFill>
                  <a:srgbClr val="004600"/>
                </a:solidFill>
                <a:latin typeface="Arial"/>
              </a:rPr>
              <a:t>(s) + 3S(s) + </a:t>
            </a:r>
            <a:r>
              <a:rPr b="1" lang="hr-HR" sz="2000" spc="-1" strike="noStrike">
                <a:solidFill>
                  <a:srgbClr val="004600"/>
                </a:solidFill>
                <a:latin typeface="Arial"/>
                <a:ea typeface="Arial"/>
              </a:rPr>
              <a:t>10OH</a:t>
            </a:r>
            <a:r>
              <a:rPr b="1" lang="hr-HR" sz="2000" spc="-1" strike="noStrike" baseline="30000">
                <a:solidFill>
                  <a:srgbClr val="004600"/>
                </a:solidFill>
                <a:latin typeface="Arial"/>
              </a:rPr>
              <a:t>-</a:t>
            </a:r>
            <a:r>
              <a:rPr b="1" lang="hr-HR" sz="2000" spc="-1" strike="noStrike">
                <a:solidFill>
                  <a:srgbClr val="004600"/>
                </a:solidFill>
                <a:latin typeface="Arial"/>
              </a:rPr>
              <a:t>(aq)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620640"/>
            <a:ext cx="92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993300"/>
                </a:solidFill>
                <a:latin typeface="Arial"/>
              </a:rPr>
              <a:t>2. Primjenom diofantskih jednadžb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20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1.   Ca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(PO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 +   SiO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 +   C 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  <a:ea typeface="Arial"/>
              </a:rPr>
              <a:t>→   P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4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  <a:ea typeface="Arial"/>
              </a:rPr>
              <a:t> +   CaSiO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3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  <a:ea typeface="Arial"/>
              </a:rPr>
              <a:t> +   C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620640"/>
            <a:ext cx="92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993300"/>
                </a:solidFill>
                <a:latin typeface="Arial"/>
              </a:rPr>
              <a:t>2. Primjenom diofantskih jednadžb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0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1. aCa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(PO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 + bSiO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 + cC 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  <a:ea typeface="Arial"/>
              </a:rPr>
              <a:t>→ dP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4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  <a:ea typeface="Arial"/>
              </a:rPr>
              <a:t> + eCaSiO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3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  <a:ea typeface="Arial"/>
              </a:rPr>
              <a:t> + fCO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36720" y="2637000"/>
            <a:ext cx="3242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Black"/>
              </a:rPr>
              <a:t>Bilanca Ca: 3a =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Black"/>
              </a:rPr>
              <a:t>Bilanca P: 2a = 4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Black"/>
              </a:rPr>
              <a:t>Bilanca Si: b =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Black"/>
              </a:rPr>
              <a:t>Bilanca C: c = 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Black"/>
              </a:rPr>
              <a:t>Bilanca O: 8a + 2b = 3e + 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70560" y="2708280"/>
            <a:ext cx="30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e = 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 = e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3068640"/>
            <a:ext cx="4551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3a = e =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 = 1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2a = 4d  2*1/3 = 4d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d = 2/12 = 1/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8a + 2b = 3e + f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f = 8*1/3 + 2*1 – 3*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f = 5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 = f = 5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084640"/>
            <a:ext cx="867564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    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1/3Ca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(PO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+ SiO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</a:rPr>
              <a:t> + 5/3C 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  <a:ea typeface="Arial"/>
              </a:rPr>
              <a:t>→ 1/6P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4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  <a:ea typeface="Arial"/>
              </a:rPr>
              <a:t> + CaSiO</a:t>
            </a:r>
            <a:r>
              <a:rPr b="0" lang="hr-HR" sz="22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3</a:t>
            </a:r>
            <a:r>
              <a:rPr b="0" lang="hr-HR" sz="2200" spc="-1" strike="noStrike">
                <a:solidFill>
                  <a:srgbClr val="004600"/>
                </a:solidFill>
                <a:latin typeface="Arial"/>
                <a:ea typeface="Arial"/>
              </a:rPr>
              <a:t> + 5/3CO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cc3300"/>
                </a:solidFill>
                <a:latin typeface="Arial"/>
              </a:rPr>
              <a:t>/*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5950080"/>
            <a:ext cx="86756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2Ca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(P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+ 6Si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</a:rPr>
              <a:t> + 10C 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  <a:ea typeface="Arial"/>
              </a:rPr>
              <a:t>→ P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4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  <a:ea typeface="Arial"/>
              </a:rPr>
              <a:t> + 6CaSiO</a:t>
            </a:r>
            <a:r>
              <a:rPr b="0" lang="hr-HR" sz="24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3</a:t>
            </a:r>
            <a:r>
              <a:rPr b="0" lang="hr-HR" sz="2400" spc="-1" strike="noStrike">
                <a:solidFill>
                  <a:srgbClr val="004600"/>
                </a:solidFill>
                <a:latin typeface="Arial"/>
                <a:ea typeface="Arial"/>
              </a:rPr>
              <a:t> + 10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9280" y="620640"/>
            <a:ext cx="92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993300"/>
                </a:solidFill>
                <a:latin typeface="Arial"/>
              </a:rPr>
              <a:t>2. Primjenom diofantskih jednadžb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20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2.  aKI + bH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PO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  <a:ea typeface="Arial"/>
              </a:rPr>
              <a:t>→ cHI + dK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3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  <a:ea typeface="Arial"/>
              </a:rPr>
              <a:t>PO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4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9880" y="2637000"/>
            <a:ext cx="2324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Black"/>
              </a:rPr>
              <a:t>Bilanca K: a = 3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Black"/>
              </a:rPr>
              <a:t>Bilanca I: a =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Black"/>
              </a:rPr>
              <a:t>Bilanca P: b = 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Black"/>
              </a:rPr>
              <a:t>Bilanca O: 4b = 4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Black"/>
              </a:rPr>
              <a:t>Bilanca H: 3b =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70200" y="2708280"/>
            <a:ext cx="30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c = a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3357720"/>
            <a:ext cx="37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3d = a =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d = 1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 = d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 = 1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79736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KI + 1/3H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PO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  <a:ea typeface="Arial"/>
              </a:rPr>
              <a:t>→ HI + 1/3K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3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  <a:ea typeface="Arial"/>
              </a:rPr>
              <a:t>PO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4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  <a:ea typeface="Arial"/>
              </a:rPr>
              <a:t> </a:t>
            </a:r>
            <a:r>
              <a:rPr b="0" lang="hr-HR" sz="2800" spc="-1" strike="noStrike">
                <a:solidFill>
                  <a:srgbClr val="cc3300"/>
                </a:solidFill>
                <a:latin typeface="Arial"/>
                <a:ea typeface="Arial"/>
              </a:rPr>
              <a:t>/*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80536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4600"/>
                </a:solidFill>
                <a:latin typeface="Arial Black"/>
              </a:rPr>
              <a:t>3KI + H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 Black"/>
              </a:rPr>
              <a:t>3</a:t>
            </a:r>
            <a:r>
              <a:rPr b="0" lang="hr-HR" sz="2800" spc="-1" strike="noStrike">
                <a:solidFill>
                  <a:srgbClr val="004600"/>
                </a:solidFill>
                <a:latin typeface="Arial Black"/>
              </a:rPr>
              <a:t>PO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 Black"/>
              </a:rPr>
              <a:t>4</a:t>
            </a:r>
            <a:r>
              <a:rPr b="0" lang="hr-HR" sz="2800" spc="-1" strike="noStrike">
                <a:solidFill>
                  <a:srgbClr val="004600"/>
                </a:solidFill>
                <a:latin typeface="Arial Black"/>
              </a:rPr>
              <a:t> </a:t>
            </a:r>
            <a:r>
              <a:rPr b="0" lang="hr-HR" sz="2800" spc="-1" strike="noStrike">
                <a:solidFill>
                  <a:srgbClr val="004600"/>
                </a:solidFill>
                <a:latin typeface="Arial Black"/>
                <a:ea typeface="Arial"/>
              </a:rPr>
              <a:t>→ 3HI + K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 Black"/>
                <a:ea typeface="Arial"/>
              </a:rPr>
              <a:t>3</a:t>
            </a:r>
            <a:r>
              <a:rPr b="0" lang="hr-HR" sz="2800" spc="-1" strike="noStrike">
                <a:solidFill>
                  <a:srgbClr val="004600"/>
                </a:solidFill>
                <a:latin typeface="Arial Black"/>
                <a:ea typeface="Arial"/>
              </a:rPr>
              <a:t>PO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 Black"/>
                <a:ea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9280" y="620640"/>
            <a:ext cx="92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993300"/>
                </a:solidFill>
                <a:latin typeface="Arial"/>
              </a:rPr>
              <a:t>2. Primjenom diofantskih jednadžb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91628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3.  aP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 + bHNO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 + cH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O 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  <a:ea typeface="Arial"/>
              </a:rPr>
              <a:t>→ dH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3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  <a:ea typeface="Arial"/>
              </a:rPr>
              <a:t>PO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4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  <a:ea typeface="Arial"/>
              </a:rPr>
              <a:t> + eNO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36360" y="2637000"/>
            <a:ext cx="31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Black"/>
              </a:rPr>
              <a:t>Bilanca P: 4a = 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Black"/>
              </a:rPr>
              <a:t>Bilanca N: b =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Black"/>
              </a:rPr>
              <a:t>Bilanca O: 3b + c = 4d +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Black"/>
              </a:rPr>
              <a:t>Bilanca H: b + 2c = 3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70200" y="2708280"/>
            <a:ext cx="31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d = 4a =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1800" y="3071880"/>
            <a:ext cx="475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3b + c = 4d + e ; b + 2c = 3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3b + c = 16 + e ; b + 2c = 12  (b = 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3b + c = 16 + b ; b + 2c =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3(12 – 2c) + c = 16 + 12 – 2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36 – 5c = 28 – 2c           </a:t>
            </a: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c = 8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 + 2*8/3 = 12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b = 20/3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e = 20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5516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P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</a:rPr>
              <a:t>4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 + 20/3HNO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</a:rPr>
              <a:t>3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 + 8/3H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</a:rPr>
              <a:t>O 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  <a:ea typeface="Arial"/>
              </a:rPr>
              <a:t>→ 4H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3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  <a:ea typeface="Arial"/>
              </a:rPr>
              <a:t>PO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"/>
                <a:ea typeface="Arial"/>
              </a:rPr>
              <a:t>4</a:t>
            </a:r>
            <a:r>
              <a:rPr b="0" lang="hr-HR" sz="2800" spc="-1" strike="noStrike">
                <a:solidFill>
                  <a:srgbClr val="004600"/>
                </a:solidFill>
                <a:latin typeface="Arial"/>
                <a:ea typeface="Arial"/>
              </a:rPr>
              <a:t> + 20/3NO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cc3300"/>
                </a:solidFill>
                <a:latin typeface="Arial"/>
              </a:rPr>
              <a:t>/*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609300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4600"/>
                </a:solidFill>
                <a:latin typeface="Arial Black"/>
              </a:rPr>
              <a:t>    </a:t>
            </a:r>
            <a:r>
              <a:rPr b="0" lang="hr-HR" sz="2800" spc="-1" strike="noStrike">
                <a:solidFill>
                  <a:srgbClr val="004600"/>
                </a:solidFill>
                <a:latin typeface="Arial Black"/>
              </a:rPr>
              <a:t>3P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 Black"/>
              </a:rPr>
              <a:t>4</a:t>
            </a:r>
            <a:r>
              <a:rPr b="0" lang="hr-HR" sz="2800" spc="-1" strike="noStrike">
                <a:solidFill>
                  <a:srgbClr val="004600"/>
                </a:solidFill>
                <a:latin typeface="Arial Black"/>
              </a:rPr>
              <a:t> + 20HNO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 Black"/>
              </a:rPr>
              <a:t>3</a:t>
            </a:r>
            <a:r>
              <a:rPr b="0" lang="hr-HR" sz="2800" spc="-1" strike="noStrike">
                <a:solidFill>
                  <a:srgbClr val="004600"/>
                </a:solidFill>
                <a:latin typeface="Arial Black"/>
              </a:rPr>
              <a:t> + 8H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 Black"/>
              </a:rPr>
              <a:t>2</a:t>
            </a:r>
            <a:r>
              <a:rPr b="0" lang="hr-HR" sz="2800" spc="-1" strike="noStrike">
                <a:solidFill>
                  <a:srgbClr val="004600"/>
                </a:solidFill>
                <a:latin typeface="Arial Black"/>
              </a:rPr>
              <a:t>O </a:t>
            </a:r>
            <a:r>
              <a:rPr b="0" lang="hr-HR" sz="2800" spc="-1" strike="noStrike">
                <a:solidFill>
                  <a:srgbClr val="004600"/>
                </a:solidFill>
                <a:latin typeface="Arial Black"/>
                <a:ea typeface="Arial"/>
              </a:rPr>
              <a:t>→ 12H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 Black"/>
                <a:ea typeface="Arial"/>
              </a:rPr>
              <a:t>3</a:t>
            </a:r>
            <a:r>
              <a:rPr b="0" lang="hr-HR" sz="2800" spc="-1" strike="noStrike">
                <a:solidFill>
                  <a:srgbClr val="004600"/>
                </a:solidFill>
                <a:latin typeface="Arial Black"/>
                <a:ea typeface="Arial"/>
              </a:rPr>
              <a:t>PO</a:t>
            </a:r>
            <a:r>
              <a:rPr b="0" lang="hr-HR" sz="2800" spc="-1" strike="noStrike" baseline="-25000">
                <a:solidFill>
                  <a:srgbClr val="004600"/>
                </a:solidFill>
                <a:latin typeface="Arial Black"/>
                <a:ea typeface="Arial"/>
              </a:rPr>
              <a:t>4</a:t>
            </a:r>
            <a:r>
              <a:rPr b="0" lang="hr-HR" sz="2800" spc="-1" strike="noStrike">
                <a:solidFill>
                  <a:srgbClr val="004600"/>
                </a:solidFill>
                <a:latin typeface="Arial Black"/>
                <a:ea typeface="Arial"/>
              </a:rPr>
              <a:t> + 20NO</a:t>
            </a:r>
            <a:r>
              <a:rPr b="0" lang="hr-HR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3300"/>
                </a:solidFill>
                <a:latin typeface="Arial"/>
              </a:rPr>
              <a:t>Reakcije disproporcioniranj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989000"/>
            <a:ext cx="8153280" cy="32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Uravnoteži 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rea</a:t>
            </a:r>
            <a:r>
              <a:rPr b="0" lang="hr-HR" sz="2400" spc="-1" strike="noStrike">
                <a:solidFill>
                  <a:srgbClr val="ff0000"/>
                </a:solidFill>
                <a:latin typeface="Arial Narrow"/>
              </a:rPr>
              <a:t>kc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i</a:t>
            </a:r>
            <a:r>
              <a:rPr b="0" lang="hr-HR" sz="2400" spc="-1" strike="noStrike">
                <a:solidFill>
                  <a:srgbClr val="ff0000"/>
                </a:solidFill>
                <a:latin typeface="Arial Narrow"/>
              </a:rPr>
              <a:t>je disporoporcioniranja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ista tvar se oksidira i reducira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  H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2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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2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+  S 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2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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+  S 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4653000"/>
            <a:ext cx="386856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 2 H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+ e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 Narrow"/>
              </a:rPr>
              <a:t>-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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2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/*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- 2e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 Narrow"/>
              </a:rPr>
              <a:t>-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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Arial Narrow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___________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+ 2e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 Narrow"/>
              </a:rPr>
              <a:t>2- 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– 2e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 Narrow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56000" y="5157720"/>
            <a:ext cx="500544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 Narrow"/>
              </a:rPr>
              <a:t>Redukcija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: 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+ 2H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 Narrow"/>
              </a:rPr>
              <a:t>+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 + 2e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 Narrow"/>
              </a:rPr>
              <a:t>-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2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 Narrow"/>
              </a:rPr>
              <a:t>Oksidacija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:           H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- 2e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 Narrow"/>
              </a:rPr>
              <a:t>-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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 + 2H</a:t>
            </a:r>
            <a:r>
              <a:rPr b="0" lang="hr-HR" sz="2400" spc="-1" strike="noStrike" baseline="30000">
                <a:solidFill>
                  <a:srgbClr val="ffffff"/>
                </a:solidFill>
                <a:latin typeface="Arial Narrow"/>
              </a:rPr>
              <a:t>+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Arial Narrow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72360" y="501336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  <a:ea typeface="Arial"/>
              </a:rPr>
              <a:t>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501336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  <a:ea typeface="Arial"/>
              </a:rPr>
              <a:t>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77080" y="5445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  <a:ea typeface="Arial"/>
              </a:rPr>
              <a:t>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8360" y="53737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  <a:ea typeface="Arial"/>
              </a:rPr>
              <a:t>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27640" y="5734080"/>
            <a:ext cx="500544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___________________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                   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hr-HR" sz="2400" spc="-1" strike="noStrike">
                <a:solidFill>
                  <a:srgbClr val="ffffff"/>
                </a:solidFill>
                <a:latin typeface="Symbol"/>
                <a:ea typeface="Symbol"/>
              </a:rPr>
              <a:t>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+  </a:t>
            </a:r>
            <a:r>
              <a:rPr b="0" lang="hr-HR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hr-HR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8:54:48Z</dcterms:created>
  <dc:creator>vrcek</dc:creator>
  <dc:description/>
  <dc:language>en-US</dc:language>
  <cp:lastModifiedBy>Ivana Vinković-Vrček</cp:lastModifiedBy>
  <dcterms:modified xsi:type="dcterms:W3CDTF">2006-11-14T09:46:01Z</dcterms:modified>
  <cp:revision>57</cp:revision>
  <dc:subject/>
  <dc:title>Chemical Formulas</dc:title>
</cp:coreProperties>
</file>