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0.png" ContentType="image/png"/>
  <Override PartName="/ppt/media/image7.jpeg" ContentType="image/jpeg"/>
  <Override PartName="/ppt/media/image28.png" ContentType="image/png"/>
  <Override PartName="/ppt/media/image13.wmf" ContentType="image/x-wmf"/>
  <Override PartName="/ppt/media/image30.png" ContentType="image/png"/>
  <Override PartName="/ppt/media/image10.png" ContentType="image/png"/>
  <Override PartName="/ppt/media/image18.png" ContentType="image/png"/>
  <Override PartName="/ppt/media/image6.jpeg" ContentType="image/jpeg"/>
  <Override PartName="/ppt/media/image34.png" ContentType="image/png"/>
  <Override PartName="/ppt/media/image35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11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1D1F-32FB-40D3-8F95-EF34ED0215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8B2D-A904-4B8B-8FA5-802131E6986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21D7-9199-4966-AFB1-3E514C1B7EC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90B6-E682-46B9-89DA-6D89DA9A3E0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8227-FE79-48DF-A918-D02054A9473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DF4D-9B2D-4662-8BCD-D93F9732AAC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0C2D-C5BD-4149-BB0A-F7024D476CC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AB7A-12C3-4D2D-9FC3-45412CD8905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F0AB-2347-4AC0-8818-16353225657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549360" y="4343040"/>
            <a:ext cx="539424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08BD-1DB9-4A31-B991-0A4F3376F06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25360" y="2509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333000" y="3850920"/>
            <a:ext cx="626436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2054-D502-4432-8BCF-4F1FB4691CE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752E-08D4-49B8-9BD4-8B8CEB87CB9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44A6-E028-4DB3-B40C-07AAA94F9C2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228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304920" y="3809880"/>
            <a:ext cx="63244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917F-4A1E-46C3-AC55-6A928451B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1998-E8D4-4FC8-BF3F-0B0BCB6B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739E-8234-4A4F-8068-59938CF14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838D-DF73-4295-93A4-FB4BC9DAE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78ADF-0927-4C3C-81D3-44635CD58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E11E-42D8-4496-9107-CC4ECE5F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ED05-8B97-4F42-8090-B94406B2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B9BA-EEA6-4F63-A87C-A96FB04C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CFB2-45E5-422A-8CA1-5018A363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08D4-1004-4D40-B092-1AAF9325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9B83-6039-4E56-9E51-71B2AC20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97CF-CD93-4B9C-A2D9-A77DED6E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FF031-58FD-4A2E-B257-73413E5F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26D5F-5EF4-4403-B766-48FA0731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5DDF-9A42-4730-80FF-2F3AC2BB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EB09-452B-498B-B2CB-8278D67F1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EA94-358A-4B69-BECF-55D93F7E6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25DC9-3E1D-44CC-8791-0BCB3C5EC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261AF-96BD-42AD-BF1D-69B90397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B2D0F-8E1E-41AD-AD83-716E6154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F0582-8749-41F0-BB95-D6487EF7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7AA34-1A84-4A39-9CA2-72A4B3D9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15E5-1037-4D9B-AA33-D824C395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88674-9ABF-4D13-A1BA-14909C6C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5976A-B5BA-4345-9910-8635CEC3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E590B-DFE9-47D7-8DEF-D1EF2D59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EA399-5F34-4593-BEA1-A0E4A355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FD579-29D2-4AAC-8865-18CF16CD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248B2-6952-49AF-83A7-3524D138B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59C94-DF5C-4838-B491-53EDBE492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0DB44-A1F6-4BF5-BE30-8A27F09BC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E597F-2EA1-4203-B750-2F25BCF1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90DA4-1DBB-45F7-A79E-37032978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E27D-F7D1-4C16-AB00-B5FFE594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814BB-3214-4DEE-8335-99211042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0674E-FDF8-43FF-AB28-608BCE9A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6E541-665B-4A94-80B2-396AE38E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ADAE6-F984-4AB7-BCDC-F74E3BCA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52C5C-5673-4544-8FE2-8D48895D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441AF-1556-4FC0-917A-A13BC66A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521D6-D1E5-4F93-A5D3-E1708838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146AA-F5CA-4A2A-9D99-8FEBE6B04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02D00-5DB3-4C44-AE63-DD025BE3B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9CB5E-4DE3-4181-9585-340FDE378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C2B0-B262-422B-B780-CB7E558D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FB0C1-2443-4EDA-91E7-25E22B3F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7F2BB-7C4C-4BCE-8FA4-41C9133F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12255-6FD0-42A4-8871-1E219767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66AF2-1E73-4078-9321-6451ED2C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C43A0-5624-47FD-B00E-CEA4676A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29039-2B30-4029-A2A8-8B2AE9D5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3A2FE-F98C-46C1-B4D9-71A8B779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B16C2-0EA2-4C19-8B1B-95C2777C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A0A87-1AB7-4812-B5FB-CD46675C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90B1E-7CEA-45DF-A00B-ECDED473C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906B-4618-4DE4-8B0E-970136EC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20AA5-90BA-447D-A9CB-2C0CBC30F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1E191-68AE-4E85-AFEB-C3D76878F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5B910-2DB5-4165-B73E-C28E17EA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45577-102B-4232-9D1A-3F275125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5BA05-EC2D-4987-8F9E-D66F4C0D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40FA1-97BC-45C8-90DD-7381F901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43CDB-4F80-4F19-8324-BDEFBC61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22906-BB1F-4BED-8A3B-7F63BF3E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B3735-A7E7-46ED-8E27-C95EC6DA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32D63-CC35-4798-BEBE-8AFB4F5B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DBE5-52C2-4666-A557-63D71881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F791B-0963-461C-9F3E-5AED344B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C1B37-4B08-4CDA-AF6E-20B7934AF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75230-4064-4A71-A0C3-FE231BE7B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A249F-FC1C-478A-A08C-64DF3A926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CC531-9ECA-4615-A144-EF4E7FFD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71192-0C62-448F-B95E-3FB2415F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79BFD-6A8E-43F4-9400-E95F8996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B7EAD-5D70-429D-8603-C1A293DE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A6B6C-FBC2-403C-A0F5-C0FDC012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06717-5B3F-4247-A185-62259C0A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6843-D330-4E81-AA24-30551759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C5508-BEE1-48C7-ACD2-10E64F44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3AD61-0099-4214-A51A-785AA7E8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4B123-837D-48FD-AD12-C310E747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5AD4A-B469-4A5E-9BAD-19435B5BD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C0ACD-4AF2-4A9F-863E-E7B214FDE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E37A-44E6-4A8F-86EE-CF0CD03E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1A7E-02AA-442A-81A0-95AE95C5EB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718C-BA61-4A62-A9BD-6EBB6C185711}" type="slidenum"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141E-9C61-4E97-95A3-ECAF31BDA4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D55E-B121-46FF-8DA2-AE4C4FF0FF8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E3D2-97DA-4B12-A2DC-2659803385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5940-7510-46DB-B379-C4703CFD18F9}" type="slidenum"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D1E4-8DB6-4BB3-A639-DC31B72E747A}" type="slidenum"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Rectangle 2" descr=""/>
          <p:cNvPicPr/>
          <p:nvPr/>
        </p:nvPicPr>
        <p:blipFill>
          <a:blip r:embed="rId1"/>
          <a:stretch/>
        </p:blipFill>
        <p:spPr>
          <a:xfrm>
            <a:off x="822240" y="1944720"/>
            <a:ext cx="8004240" cy="195084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4"/>
          <p:cNvSpPr/>
          <p:nvPr/>
        </p:nvSpPr>
        <p:spPr>
          <a:xfrm>
            <a:off x="971640" y="4653000"/>
            <a:ext cx="74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d2d2d2"/>
                </a:solidFill>
                <a:latin typeface="Arial"/>
              </a:rPr>
              <a:t>pregled područj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ravokutnik 3"/>
          <p:cNvSpPr/>
          <p:nvPr/>
        </p:nvSpPr>
        <p:spPr>
          <a:xfrm>
            <a:off x="3864600" y="600084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Ines Suči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55160" cy="14079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324000" y="1988640"/>
            <a:ext cx="8640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entury Gothic"/>
              </a:rPr>
              <a:t>Stavovi prema kriminalu i teorije kriminala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entury Gothic"/>
              </a:rPr>
              <a:t>Istraga kaznenih djela </a:t>
            </a: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(</a:t>
            </a:r>
            <a:r>
              <a:rPr b="0" lang="hr-HR" sz="2800" spc="-1" strike="noStrike">
                <a:solidFill>
                  <a:srgbClr val="ffffff"/>
                </a:solidFill>
                <a:latin typeface="Century Gothic"/>
              </a:rPr>
              <a:t>izrada profila počinitelja KD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entury Gothic"/>
              </a:rPr>
              <a:t>Dokazi svjedoka </a:t>
            </a: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(interv</a:t>
            </a:r>
            <a:r>
              <a:rPr b="0" lang="hr-HR" sz="2800" spc="-1" strike="noStrike">
                <a:solidFill>
                  <a:srgbClr val="ffffff"/>
                </a:solidFill>
                <a:latin typeface="Century Gothic"/>
              </a:rPr>
              <a:t>jui, točnost svjedočenja i </a:t>
            </a: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identifi</a:t>
            </a:r>
            <a:r>
              <a:rPr b="0" lang="hr-HR" sz="2800" spc="-1" strike="noStrike">
                <a:solidFill>
                  <a:srgbClr val="ffffff"/>
                </a:solidFill>
                <a:latin typeface="Century Gothic"/>
              </a:rPr>
              <a:t>kacije</a:t>
            </a: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entury Gothic"/>
              </a:rPr>
              <a:t>Policijska psihologija i prevare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entury Gothic"/>
              </a:rPr>
              <a:t>Sudovi </a:t>
            </a: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(</a:t>
            </a:r>
            <a:r>
              <a:rPr b="0" lang="hr-HR" sz="2800" spc="-1" strike="noStrike">
                <a:solidFill>
                  <a:srgbClr val="ffffff"/>
                </a:solidFill>
                <a:latin typeface="Century Gothic"/>
              </a:rPr>
              <a:t>dokazi, porota, suci i donošenje presuda)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entury Gothic"/>
              </a:rPr>
              <a:t>Zatvori (tretman osuđenika i recidivizam)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Rectangle 2" descr=""/>
          <p:cNvPicPr/>
          <p:nvPr/>
        </p:nvPicPr>
        <p:blipFill>
          <a:blip r:embed="rId1"/>
          <a:stretch/>
        </p:blipFill>
        <p:spPr>
          <a:xfrm>
            <a:off x="244440" y="249120"/>
            <a:ext cx="8448840" cy="142092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178920" y="1628280"/>
            <a:ext cx="4248360" cy="48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entury Gothic"/>
              </a:rPr>
              <a:t>Primijenjena područj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entury Gothic"/>
              </a:rPr>
              <a:t>Policijsk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entury Gothic"/>
              </a:rPr>
              <a:t>Istražna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entury Gothic"/>
              </a:rPr>
              <a:t>Klinička 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entury Gothic"/>
              </a:rPr>
              <a:t>Penološk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649760" y="1557360"/>
            <a:ext cx="409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entury Gothic"/>
              </a:rPr>
              <a:t>Znanstvena područj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Biolo</a:t>
            </a:r>
            <a:r>
              <a:rPr b="0" lang="hr-HR" sz="2400" spc="-1" strike="noStrike">
                <a:solidFill>
                  <a:srgbClr val="ffffff"/>
                </a:solidFill>
                <a:latin typeface="Century Gothic"/>
              </a:rPr>
              <a:t>ška (naslijeđe, posljedice ozljeda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entury Gothic"/>
              </a:rPr>
              <a:t>Razvojna (agresivnost, delinkvencija, djeca kao svjedoci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entury Gothic"/>
              </a:rPr>
              <a:t>Kognitivna (pamćenje svjedoka, intervju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entury Gothic"/>
              </a:rPr>
              <a:t>Socijalna (porota, utjecaj medija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2"/>
          <p:cNvSpPr/>
          <p:nvPr/>
        </p:nvSpPr>
        <p:spPr>
          <a:xfrm>
            <a:off x="0" y="0"/>
            <a:ext cx="9144000" cy="67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79c2"/>
                </a:solidFill>
                <a:latin typeface="Arial"/>
              </a:rPr>
              <a:t>Rad psihologa u policiji i fazi istrag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elekcija i predviđanje uspješnosti na poslu (koje psihološke karakteristike bi policajac/policajka trebao/la imati - dispozicijski-socijalizacijski model; određivanje prediktora i kriterija uspješnosti na poslu –intervju, testovi, upitnici – situacijski testov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Trening, krizne intervencije i odnosi s javnošću (kako postupiti u kriznim situacijama – npr. s psihički bolesnim osobama, pregovori s taocima, slučajevi nasilja u obitelji; trening socijalnih vještina, kako se ophoditi u javnosti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Ispitivanje i ublažavanje stresnosti posla (negativne posljedice stresa, uzroci stresa, podložnosti stresu, sindrom izgaranja, stres manag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Faza istrage (uzimanje iskaza svjedoka, osumnjičenih, izrada psiholoških profila, lažna priznanja, vjerodostojnost iskaza svjedoka i osumnjičenih, korištenje poligrafa, prepoznavanje osumnjičeni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0" y="620280"/>
            <a:ext cx="9144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79c2"/>
                </a:solidFill>
                <a:latin typeface="Century Gothic"/>
              </a:rPr>
              <a:t>Rad psihologa u klinici i kazneno-pravnim institucijama</a:t>
            </a:r>
            <a:r>
              <a:rPr b="0" lang="hr-HR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entury Gothic"/>
              </a:rPr>
              <a:t>Psihološka procjena općeg stanja osobe, ubrojivosti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entury Gothic"/>
              </a:rPr>
              <a:t>Procjena rizičnosti po okolinu, predviđanje recidiva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entury Gothic"/>
              </a:rPr>
              <a:t>Osmišljavanje, provođenje i vrednovanje tretmana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entury Gothic"/>
              </a:rPr>
              <a:t>Klasifikacija i smještaj osuđenika, premještaj, ublažavanje kazne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Rectangle 2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8242560" cy="142560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395280" y="1989000"/>
            <a:ext cx="822960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Arial Unicode MS"/>
              </a:rPr>
              <a:t>4 moguće uloge: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Arial Unicode MS"/>
              </a:rPr>
              <a:t>kliničk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Arial Unicode MS"/>
              </a:rPr>
              <a:t>eksperimentalna/znanstvena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Arial Unicode MS"/>
              </a:rPr>
              <a:t>predikcija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Arial Unicode MS"/>
              </a:rPr>
              <a:t>savjetodavna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 Unicode MS"/>
              </a:rPr>
              <a:t>Studije slučaja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 Unicode MS"/>
              </a:rPr>
              <a:t>Teorije ličnosti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 Unicode MS"/>
              </a:rPr>
              <a:t>Procjena psihološkog stanje relevantnih pojedinca – žrtava, svjedoka ili osumnjičenika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 Unicode MS"/>
              </a:rPr>
              <a:t>Provedba dubinskih intervjua </a:t>
            </a: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(</a:t>
            </a:r>
            <a:r>
              <a:rPr b="0" lang="hr-HR" sz="2400" spc="-1" strike="noStrike">
                <a:solidFill>
                  <a:srgbClr val="ffffff"/>
                </a:solidFill>
                <a:latin typeface="Arial Unicode MS"/>
              </a:rPr>
              <a:t>kvalitativni podaci</a:t>
            </a: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 Unicode MS"/>
              </a:rPr>
              <a:t>Primjena psihologijskih mjernih instrumenata, testova </a:t>
            </a: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(</a:t>
            </a:r>
            <a:r>
              <a:rPr b="0" lang="hr-HR" sz="2400" spc="-1" strike="noStrike">
                <a:solidFill>
                  <a:srgbClr val="ffffff"/>
                </a:solidFill>
                <a:latin typeface="Arial Unicode MS"/>
              </a:rPr>
              <a:t>kvantitativni podaci</a:t>
            </a: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 Unicode MS"/>
              </a:rPr>
              <a:t>Može se od njih tražiti da komentiraju moguće motive osumnjičenika </a:t>
            </a: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(i</a:t>
            </a:r>
            <a:r>
              <a:rPr b="0" lang="hr-HR" sz="2400" spc="-1" strike="noStrike">
                <a:solidFill>
                  <a:srgbClr val="ffffff"/>
                </a:solidFill>
                <a:latin typeface="Arial Unicode MS"/>
              </a:rPr>
              <a:t>stražna faza izrade profila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Arial Unicode MS"/>
              </a:rPr>
              <a:t>Pregled znanstvene literature povezane s određenom temom npr. prepoznavanj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Arial Unicode MS"/>
              </a:rPr>
              <a:t>Provođenje istraživanja. Npr. provedena su mnoga istraživanja kojima su utvrđeni čimbenici koji utječu na točnu identifikaciju osumnjičenika u postupku prepoznavanja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Arial Unicode MS"/>
              </a:rPr>
              <a:t>U oba slučaja psiholozi mogu dati stručno mišljenje i tijekom pred-kaznenog i kaznenog postupka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39528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Arial Unicode MS"/>
              </a:rPr>
              <a:t>Koriste velike baze podataka kako bi uočili trendove ili sličnosti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 Unicode MS"/>
              </a:rPr>
              <a:t>Službeni statistički podaci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 Unicode MS"/>
              </a:rPr>
              <a:t>Analiza detalja velikog broja sličnih KD, npr. ubojstava ili silovanja kako bi se identificirali različiti tipovi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 Unicode MS"/>
              </a:rPr>
              <a:t>Analiza mjesta izvršenja KD kako bi se izradili geografskih profili detalja serijskih KD i utvrdile “kognitivne mape” njihovih počinitelja. Omogućuju podatke o boravištu ili mjestu zaposlenja počinitelja KD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 Unicode MS"/>
              </a:rPr>
              <a:t>Ps</a:t>
            </a:r>
            <a:r>
              <a:rPr b="0" lang="hr-HR" sz="3000" spc="-1" strike="noStrike">
                <a:solidFill>
                  <a:srgbClr val="ffffff"/>
                </a:solidFill>
                <a:latin typeface="Arial Unicode MS"/>
              </a:rPr>
              <a:t>iholozi savjetuju istražitelje i pravnike u različitim situacijama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Arial Unicode MS"/>
              </a:rPr>
              <a:t>Npr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 Unicode MS"/>
              </a:rPr>
              <a:t>Kako ispitati traumatiziranu žrtvu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 Unicode MS"/>
              </a:rPr>
              <a:t>Koji rječnik koristiti pri ispitivanju djeteta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 Unicode MS"/>
              </a:rPr>
              <a:t>Talačke situacije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 Unicode MS"/>
              </a:rPr>
              <a:t>Mišljenje o iskazu nekog drugog stručnjaka, kako ispitati drugog stručnjaka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7812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7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79c2"/>
                </a:solidFill>
                <a:latin typeface="Century Gothic"/>
              </a:rPr>
              <a:t>vezano uz izvršitelje ili žrtve kaznenog djela:</a:t>
            </a:r>
            <a:r>
              <a:rPr b="0" lang="hr-HR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entury Gothic"/>
              </a:rPr>
              <a:t>pitanje procesne sposobnosti s obzirom na sveukupnu psihičku konstelaciju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entury Gothic"/>
              </a:rPr>
              <a:t>pitanja procjene ubrojivosti u vremenu izvršenja kaznenog djel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Century Gothic"/>
              </a:rPr>
              <a:t>pitanja simulacije duševne bolesti ili intelektualnih smetnji (na primjer pamćenja) a radi umanjenja ubrojivosti odnosno otklanjanja kaznene odgovornosti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entury Gothic"/>
              </a:rPr>
              <a:t>utvrđivanje </a:t>
            </a:r>
            <a:r>
              <a:rPr b="0" lang="hr-HR" sz="2400" spc="-1" strike="noStrike">
                <a:solidFill>
                  <a:srgbClr val="ff79c2"/>
                </a:solidFill>
                <a:latin typeface="Century Gothic"/>
              </a:rPr>
              <a:t>vjerodostojnosti iskaza žrtava, svjedoka ili optuženog</a:t>
            </a:r>
            <a:r>
              <a:rPr b="0" lang="hr-HR" sz="2400" spc="-1" strike="noStrike">
                <a:solidFill>
                  <a:srgbClr val="ffffff"/>
                </a:solidFill>
                <a:latin typeface="Century Gothic"/>
              </a:rPr>
              <a:t>, s obzirom na eventualne smetnje pamćenja ili/i emocionalni okvir, situacijski ili u razvojnom smislu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entury Gothic"/>
              </a:rPr>
              <a:t>u području kaznenog prava koje se odnosi na </a:t>
            </a:r>
            <a:r>
              <a:rPr b="0" lang="hr-HR" sz="2400" spc="-1" strike="noStrike">
                <a:solidFill>
                  <a:srgbClr val="ff79c2"/>
                </a:solidFill>
                <a:latin typeface="Century Gothic"/>
              </a:rPr>
              <a:t>maloljetnik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entury Gothic"/>
              </a:rPr>
              <a:t>sagledavanje sveukupne konstelacije ličnosti i intelekta s obzirom na razvojnu razinu ili žrtve ili izvršitelj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entury Gothic"/>
              </a:rPr>
              <a:t>procjena odabira najprimjerenijeg oblika sankcije, posebne obveze ili posebne mjere za maloljetne počinitelje kaznenih djel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entury Gothic"/>
              </a:rPr>
              <a:t>ispitivanje djeteta svjedoka-oštećenog za sudske potrebe kad je to nužno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323640" y="1915920"/>
            <a:ext cx="828036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Century Gothic"/>
              </a:rPr>
              <a:t>Što nije forenzička psihologija…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Century Gothic"/>
              </a:rPr>
              <a:t>Definicija i određenje forenzičke psihologij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Century Gothic"/>
              </a:rPr>
              <a:t>Poslovi forenzičkih psihologa i edukacij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Century Gothic"/>
              </a:rPr>
              <a:t>Povijesni razvoj discipline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Rectangle 2" descr=""/>
          <p:cNvPicPr/>
          <p:nvPr/>
        </p:nvPicPr>
        <p:blipFill>
          <a:blip r:embed="rId1"/>
          <a:stretch/>
        </p:blipFill>
        <p:spPr>
          <a:xfrm>
            <a:off x="-6480" y="195120"/>
            <a:ext cx="9156960" cy="12319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entury Gothic"/>
              </a:rPr>
              <a:t>procjene "duševne boli" nakon izlaganja nekom stresoru, procjene pretrpljenog straha</a:t>
            </a:r>
            <a:br>
              <a:rPr sz="2800"/>
            </a:br>
            <a:r>
              <a:rPr b="0" lang="hr-HR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Century Gothic"/>
              </a:rPr>
              <a:t>procjena invaliditeta u području psihičkog nakon izlaganja nekoj traumi (neurotske smetnje, kognitivni deficiti) </a:t>
            </a:r>
            <a:br>
              <a:rPr sz="2800"/>
            </a:br>
            <a:r>
              <a:rPr b="0" lang="hr-HR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Century Gothic"/>
              </a:rPr>
              <a:t>pitanje naknade štete nakon pretrpljene traume mozga ili traume nekog drugog djela tijela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Rectangle 2" descr=""/>
          <p:cNvPicPr/>
          <p:nvPr/>
        </p:nvPicPr>
        <p:blipFill>
          <a:blip r:embed="rId1"/>
          <a:stretch/>
        </p:blipFill>
        <p:spPr>
          <a:xfrm>
            <a:off x="-6480" y="195120"/>
            <a:ext cx="9156960" cy="123192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hr-HR" sz="3000" spc="-1" strike="noStrike">
                <a:solidFill>
                  <a:srgbClr val="ffffff"/>
                </a:solidFill>
                <a:latin typeface="Century Gothic"/>
              </a:rPr>
              <a:t>procjena roditeljske sposobnosti u postupcima nakon razvoda braka ili u postupcima utvrđivanja primarnog deficita roditeljske sposobnosti ocjene sposobnosti za održavanje kontakata djece i roditelja , njihovih baka i djedov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Rectangle 2" descr=""/>
          <p:cNvPicPr/>
          <p:nvPr/>
        </p:nvPicPr>
        <p:blipFill>
          <a:blip r:embed="rId1"/>
          <a:stretch/>
        </p:blipFill>
        <p:spPr>
          <a:xfrm>
            <a:off x="536400" y="-6480"/>
            <a:ext cx="8242560" cy="99396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250920" y="1412640"/>
            <a:ext cx="40384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entury Gothic"/>
              </a:rPr>
              <a:t>Clifford (95:13, prema Kapardis, 01)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entury Gothic"/>
              </a:rPr>
              <a:t>«dvije discipline s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entury Gothic"/>
              </a:rPr>
              <a:t>izgleda razlikuju na razini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entury Gothic"/>
              </a:rPr>
              <a:t>svojih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entury Gothic"/>
              </a:rPr>
              <a:t>Vrijednosti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entury Gothic"/>
              </a:rPr>
              <a:t>Osnovnih postavki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entury Gothic"/>
              </a:rPr>
              <a:t>Model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entury Gothic"/>
              </a:rPr>
              <a:t>Pristup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entury Gothic"/>
              </a:rPr>
              <a:t>Kriterija objašnjenja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entury Gothic"/>
              </a:rPr>
              <a:t>Metoda»</a:t>
            </a:r>
            <a:r>
              <a:rPr b="0" lang="hr-HR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4427640" y="836640"/>
          <a:ext cx="4500360" cy="5743440"/>
        </p:xfrm>
        <a:graphic>
          <a:graphicData uri="http://schemas.openxmlformats.org/drawingml/2006/table">
            <a:tbl>
              <a:tblPr/>
              <a:tblGrid>
                <a:gridCol w="2251080"/>
                <a:gridCol w="2249280"/>
              </a:tblGrid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av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hologij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7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judska prirod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zli-dobri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9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dgov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da,ne – možda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85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lj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uniformnosti, jednoznačnost – kontradiktornost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9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dinica generalizacije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pojedinac – uzorak/populacija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9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mjen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stvarni slučajevi – eksperiment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Rectangle 2" descr=""/>
          <p:cNvPicPr/>
          <p:nvPr/>
        </p:nvPicPr>
        <p:blipFill>
          <a:blip r:embed="rId1"/>
          <a:stretch/>
        </p:blipFill>
        <p:spPr>
          <a:xfrm>
            <a:off x="463680" y="-55440"/>
            <a:ext cx="8242200" cy="76824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179280" y="981000"/>
            <a:ext cx="89647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entury Gothic"/>
              </a:rPr>
              <a:t>I DALJE POSTOJEĆI PROBLEMI</a:t>
            </a:r>
            <a:r>
              <a:rPr b="0" lang="hr-HR" sz="2000" spc="-1" strike="noStrike">
                <a:solidFill>
                  <a:srgbClr val="ffffff"/>
                </a:solidFill>
                <a:latin typeface="Century Gothic"/>
              </a:rPr>
              <a:t> (Losel, 1992)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entury Gothic"/>
              </a:rPr>
              <a:t>Stanje unutar pravne psihologije</a:t>
            </a:r>
            <a:r>
              <a:rPr b="0" lang="hr-HR" sz="2000" spc="-1" strike="noStrike">
                <a:solidFill>
                  <a:srgbClr val="ffffff"/>
                </a:solidFill>
                <a:latin typeface="Century Gothic"/>
              </a:rPr>
              <a:t> – </a:t>
            </a:r>
            <a:r>
              <a:rPr b="1" lang="hr-HR" sz="2000" spc="-1" strike="noStrike">
                <a:solidFill>
                  <a:srgbClr val="ffffff"/>
                </a:solidFill>
                <a:latin typeface="Century Gothic"/>
              </a:rPr>
              <a:t>neujednačenost interesa oko pojedinih tema</a:t>
            </a:r>
            <a:r>
              <a:rPr b="0" lang="hr-HR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entury Gothic"/>
              </a:rPr>
              <a:t>Položaj pravne psihologije unutar psihologije</a:t>
            </a:r>
            <a:r>
              <a:rPr b="0" lang="hr-HR" sz="2000" spc="-1" strike="noStrike">
                <a:solidFill>
                  <a:srgbClr val="ffffff"/>
                </a:solidFill>
                <a:latin typeface="Century Gothic"/>
              </a:rPr>
              <a:t> – </a:t>
            </a:r>
            <a:r>
              <a:rPr b="1" lang="hr-HR" sz="2000" spc="-1" strike="noStrike">
                <a:solidFill>
                  <a:srgbClr val="ffffff"/>
                </a:solidFill>
                <a:latin typeface="Century Gothic"/>
              </a:rPr>
              <a:t>mali % psihologa</a:t>
            </a:r>
            <a:r>
              <a:rPr b="0" lang="hr-HR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entury Gothic"/>
              </a:rPr>
              <a:t>Odnos pravne psihologije s pravnom znanošću i praksom</a:t>
            </a:r>
            <a:r>
              <a:rPr b="0" lang="hr-HR" sz="2000" spc="-1" strike="noStrike">
                <a:solidFill>
                  <a:srgbClr val="ffffff"/>
                </a:solidFill>
                <a:latin typeface="Century Gothic"/>
              </a:rPr>
              <a:t> –</a:t>
            </a:r>
            <a:r>
              <a:rPr b="1" lang="hr-HR" sz="2000" spc="-1" strike="noStrike">
                <a:solidFill>
                  <a:srgbClr val="ffffff"/>
                </a:solidFill>
                <a:latin typeface="Century Gothic"/>
              </a:rPr>
              <a:t>razlikuje se od zemlje do zemlje</a:t>
            </a:r>
            <a:r>
              <a:rPr b="0" lang="hr-HR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entury Gothic"/>
              </a:rPr>
              <a:t>Brz razvoj psihologije nasuprot sporim promjenama u pravu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entury Gothic"/>
              </a:rPr>
              <a:t>Psiholozi su i dalje usredotočeni na metodu, a ne na fenomen i nedostaje im znanja iz prve ruke o pravnim pitanjima koje istražuju</a:t>
            </a:r>
            <a:r>
              <a:rPr b="0" lang="hr-HR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entury Gothic"/>
              </a:rPr>
              <a:t>IPAK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entury Gothic"/>
              </a:rPr>
              <a:t>ekspanzija psiho-pravnih istraživanja i u kvantiteti i opsegu i kvaliteti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entury Gothic"/>
              </a:rPr>
              <a:t>psihologija je doprinijela pravu </a:t>
            </a:r>
            <a:r>
              <a:rPr b="0" lang="hr-HR" sz="2000" spc="-1" strike="noStrike">
                <a:solidFill>
                  <a:srgbClr val="ffffff"/>
                </a:solidFill>
                <a:latin typeface="Century Gothic"/>
              </a:rPr>
              <a:t>(Haney, 1993) - </a:t>
            </a:r>
            <a:r>
              <a:rPr b="1" lang="hr-HR" sz="2000" spc="-1" strike="noStrike">
                <a:solidFill>
                  <a:srgbClr val="ffffff"/>
                </a:solidFill>
                <a:latin typeface="Century Gothic"/>
              </a:rPr>
              <a:t>poboljšanje načina na koji su očevidci intervjuirani od strane policije, zauzimanje kritičnijeg stava prema pitanju dokaza prikupljenih forenzičkom hipnozom na sudu, poboljšanje pravnog statusa i prava djece, pravedniji odabir porotnik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Rectangle 2" descr=""/>
          <p:cNvPicPr/>
          <p:nvPr/>
        </p:nvPicPr>
        <p:blipFill>
          <a:blip r:embed="rId1"/>
          <a:stretch/>
        </p:blipFill>
        <p:spPr>
          <a:xfrm>
            <a:off x="463680" y="347760"/>
            <a:ext cx="8242200" cy="8287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0" y="1341000"/>
            <a:ext cx="91440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entury Gothic"/>
              </a:rPr>
              <a:t>Kazneno-pravni sustav, postupci i zakoni</a:t>
            </a:r>
            <a:r>
              <a:rPr b="0" lang="hr-HR" sz="2400" spc="-1" strike="noStrike">
                <a:solidFill>
                  <a:srgbClr val="ffffff"/>
                </a:solidFill>
                <a:latin typeface="Century Gothic"/>
              </a:rPr>
              <a:t> – utvrđivanje aspekata kazneno-pravnog sustava u kojima bi psiholozi bili od koristi, poboljšana suradnja s policijom, pravnicima, sucima i ostalim strukama, točnije određenje zakonskih prava i obveza psiholog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entury Gothic"/>
              </a:rPr>
              <a:t>Psihologija</a:t>
            </a:r>
            <a:r>
              <a:rPr b="0" lang="hr-HR" sz="2400" spc="-1" strike="noStrike">
                <a:solidFill>
                  <a:srgbClr val="ffffff"/>
                </a:solidFill>
                <a:latin typeface="Century Gothic"/>
              </a:rPr>
              <a:t> – metodologija, statistika, psihometrija, psihodijagnostika, dijagnostički postupci, neuropsihologija, kognitivna psihologija (percepcija,pamćenje, učenje, mišljenje, inteligencija), konativna psihologija (ličnost, motivacija, emocije), klinička, razvojna, socijalna psihologij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entury Gothic"/>
              </a:rPr>
              <a:t>Osnove prava, sociologije, kriminologije, kriminalistike, penologije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Rectangle 2" descr=""/>
          <p:cNvPicPr/>
          <p:nvPr/>
        </p:nvPicPr>
        <p:blipFill>
          <a:blip r:embed="rId1"/>
          <a:stretch/>
        </p:blipFill>
        <p:spPr>
          <a:xfrm>
            <a:off x="-6480" y="182520"/>
            <a:ext cx="8979120" cy="124452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0" y="1600200"/>
            <a:ext cx="91440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entury Gothic"/>
              </a:rPr>
              <a:t>Forenzička psihijatrija je grana medicine koja uključuje istraživanja i kliničku praksu u područjima u kojima je psihijatrija  primijenjena na pravna pitanj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entury Gothic"/>
              </a:rPr>
              <a:t>u forenzičkoj psihijatriji primarna funkcija je ono što bi nazvali forenzička dijagnostika – adekvatno liječenj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entury Gothic"/>
              </a:rPr>
              <a:t>terapija i tretman osuđenih osoba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117360" y="3969000"/>
            <a:ext cx="9026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9933"/>
                </a:solidFill>
                <a:latin typeface="Arial"/>
              </a:rPr>
              <a:t>RAZLIKE (Grisso, 1993)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sadržaj doprinosa individualnim slučajevima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metode procj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epistemiološka razlika između istraživanja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primarno obrazovanje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0" y="1484280"/>
            <a:ext cx="91440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entury Gothic"/>
              </a:rPr>
              <a:t>državne ustanove kao što su kaznionice i zatvori, policijske postaje, vojska, odgojne ustanove za maloljetnike i sl.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entury Gothic"/>
              </a:rPr>
              <a:t>medicinske ustanove kao što su psihijatrijske bolnice, centri za liječenje i prevenciju ovisnosti, savjetodavne institucije, centri socijalne skrbi i sl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entury Gothic"/>
              </a:rPr>
              <a:t>sudovi, tužitelji, branitelji i sl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entury Gothic"/>
              </a:rPr>
              <a:t>samo-zapošljavanje, privatna praksa ili konzultanti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entury Gothic"/>
              </a:rPr>
              <a:t>znanstvene institucije – instituti, fakulteti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450720" y="176040"/>
            <a:ext cx="8242560" cy="9576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500040" y="1213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entury Gothic"/>
              </a:rPr>
              <a:t>Povezanost s kriminologijom i sociologijom (npr.</a:t>
            </a: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1</a:t>
            </a:r>
            <a:r>
              <a:rPr b="0" lang="hr-HR" sz="2800" spc="-1" strike="noStrike">
                <a:solidFill>
                  <a:srgbClr val="ffffff"/>
                </a:solidFill>
                <a:latin typeface="Century Gothic"/>
              </a:rPr>
              <a:t>8 st. –</a:t>
            </a: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 Beccaria</a:t>
            </a:r>
            <a:r>
              <a:rPr b="0" lang="hr-HR" sz="2800" spc="-1" strike="noStrike">
                <a:solidFill>
                  <a:srgbClr val="ffffff"/>
                </a:solidFill>
                <a:latin typeface="Century Gothic"/>
              </a:rPr>
              <a:t> - 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Of Crimes and Punishments</a:t>
            </a:r>
            <a:r>
              <a:rPr b="1" lang="hr-HR" sz="1800" spc="-1" strike="noStrike">
                <a:solidFill>
                  <a:srgbClr val="ffffff"/>
                </a:solidFill>
                <a:latin typeface="Century Gothic"/>
              </a:rPr>
              <a:t>- 1764g.  </a:t>
            </a:r>
            <a:r>
              <a:rPr b="1" lang="hr-HR" sz="1800" spc="-1" strike="noStrike">
                <a:solidFill>
                  <a:srgbClr val="ff79c2"/>
                </a:solidFill>
                <a:latin typeface="Century Gothic"/>
              </a:rPr>
              <a:t>http://www.constitution.org/cb/crim_pun.htm </a:t>
            </a:r>
            <a:r>
              <a:rPr b="1" lang="hr-HR" sz="2400" spc="-1" strike="noStrike">
                <a:solidFill>
                  <a:srgbClr val="ffffff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entury Gothic"/>
              </a:rPr>
              <a:t>Utjecaj rada psihologa u 19 i 20 st. (npr.1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895</a:t>
            </a:r>
            <a:r>
              <a:rPr b="0" lang="hr-HR" sz="2800" spc="-1" strike="noStrike">
                <a:solidFill>
                  <a:srgbClr val="ffffff"/>
                </a:solidFill>
                <a:latin typeface="Century Gothic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Cattell, 1900 </a:t>
            </a:r>
            <a:r>
              <a:rPr b="0" lang="hr-HR" sz="2800" spc="-1" strike="noStrike">
                <a:solidFill>
                  <a:srgbClr val="ffffff"/>
                </a:solidFill>
                <a:latin typeface="Century Gothic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Binet</a:t>
            </a:r>
            <a:r>
              <a:rPr b="0" lang="hr-HR" sz="2800" spc="-1" strike="noStrike">
                <a:solidFill>
                  <a:srgbClr val="ffffff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entury Gothic"/>
              </a:rPr>
              <a:t>Povezanost s biologijom (npr.</a:t>
            </a: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19 </a:t>
            </a:r>
            <a:r>
              <a:rPr b="0" lang="hr-HR" sz="2800" spc="-1" strike="noStrike">
                <a:solidFill>
                  <a:srgbClr val="ffffff"/>
                </a:solidFill>
                <a:latin typeface="Century Gothic"/>
              </a:rPr>
              <a:t>st.</a:t>
            </a: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– Lombros</a:t>
            </a:r>
            <a:r>
              <a:rPr b="0" lang="hr-HR" sz="2800" spc="-1" strike="noStrike">
                <a:solidFill>
                  <a:srgbClr val="ffffff"/>
                </a:solidFill>
                <a:latin typeface="Century Gothic"/>
              </a:rPr>
              <a:t>o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240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entury Gothic"/>
              </a:rPr>
              <a:t>1893. – prvo istraživanja pamćenja svjedoka/ sugestivna pitanja (Cattell, Columbia University)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entury Gothic"/>
              </a:rPr>
              <a:t>1896. - prvi ekspertni svjedok na Bavarskom sudu i priznat kao prvi «forenzički psiholog» – prof. Albert von Schrenck-Notzi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entury Gothic"/>
              </a:rPr>
              <a:t>1896 - prva knjiga o seksualnim devijacijama (Krafft-Ebing- Psychopatia Sexualis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entury Gothic"/>
              </a:rPr>
              <a:t>1898 - prva knjiga o psihologiji kriminala (Hans Gross – Kriminal Psychologie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entury Gothic"/>
              </a:rPr>
              <a:t>1900 - istraživanja o svjedočenju – Binet, Stern i drugi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900000" y="333360"/>
            <a:ext cx="67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d2d2"/>
                </a:solidFill>
                <a:latin typeface="Arial"/>
              </a:rPr>
              <a:t>1</a:t>
            </a:r>
            <a:r>
              <a:rPr b="0" lang="hr-HR" sz="3600" spc="-1" strike="noStrike">
                <a:solidFill>
                  <a:srgbClr val="d2d2d2"/>
                </a:solidFill>
                <a:latin typeface="Arial"/>
              </a:rPr>
              <a:t>890</a:t>
            </a:r>
            <a:r>
              <a:rPr b="0" lang="en-US" sz="3600" spc="-1" strike="noStrike">
                <a:solidFill>
                  <a:srgbClr val="d2d2d2"/>
                </a:solidFill>
                <a:latin typeface="Arial"/>
              </a:rPr>
              <a:t> - 19</a:t>
            </a:r>
            <a:r>
              <a:rPr b="0" lang="hr-HR" sz="3600" spc="-1" strike="noStrike">
                <a:solidFill>
                  <a:srgbClr val="d2d2d2"/>
                </a:solidFill>
                <a:latin typeface="Arial"/>
              </a:rPr>
              <a:t>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Rectangle 2" descr=""/>
          <p:cNvPicPr/>
          <p:nvPr/>
        </p:nvPicPr>
        <p:blipFill>
          <a:blip r:embed="rId1"/>
          <a:stretch/>
        </p:blipFill>
        <p:spPr>
          <a:xfrm>
            <a:off x="603360" y="-103320"/>
            <a:ext cx="7785000" cy="71928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7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1906</a:t>
            </a:r>
            <a:r>
              <a:rPr b="1" lang="hr-HR" sz="1800" spc="-1" strike="noStrike">
                <a:solidFill>
                  <a:srgbClr val="ffffff"/>
                </a:solidFill>
                <a:latin typeface="Century Gothic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Freud –</a:t>
            </a:r>
            <a:r>
              <a:rPr b="1" lang="hr-HR" sz="1800" spc="-1" strike="noStrike">
                <a:solidFill>
                  <a:srgbClr val="ffffff"/>
                </a:solidFill>
                <a:latin typeface="Century Gothic"/>
              </a:rPr>
              <a:t>suci mogu biti pod utjecajem svojih stavova kojih nisu niti svjesni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Century Gothic"/>
              </a:rPr>
              <a:t>1908 – Hugo Von Munsterberg , profesor psihologije na Harvardu objavio knjigu «On the Witness Stand: Essays on Psycholgy and Crime»  u kojoj je prikazao mnoge teme povezane s psihologijom i pravom. Malo eksperimentalnih dokaz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Century Gothic"/>
              </a:rPr>
              <a:t>1909 - prva bolnica za maloljetne osuđenika (Juvenile Psychopatic Institute) u Chicagu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Century Gothic"/>
              </a:rPr>
              <a:t>1911 – Karl Marbe –prvi psiholog koji je svjedočio u građanskoj parnici demonstrirajući na sudu fenomen vremena reakcije – nesreća vlak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Century Gothic"/>
              </a:rPr>
              <a:t>1916 - prvi forenzički laboratorij otvoren u </a:t>
            </a: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New York City Police Departmen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Century Gothic"/>
              </a:rPr>
              <a:t>1917 – Terman – selekcija policije (Standford-Binet); 1922 – Thurstone –Army </a:t>
            </a:r>
            <a:r>
              <a:rPr b="1" lang="el-GR" sz="1800" spc="-1" strike="noStrike">
                <a:solidFill>
                  <a:srgbClr val="ffffff"/>
                </a:solidFill>
                <a:latin typeface="Century Gothic"/>
              </a:rPr>
              <a:t>α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Century Gothic"/>
              </a:rPr>
              <a:t>1919 – John Larsen razvija poligraf na Harvardu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Century Gothic"/>
              </a:rPr>
              <a:t>1921 - prvi američki psiholog kao ekspertni vještak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Century Gothic"/>
              </a:rPr>
              <a:t>1922 - Wiliam Marston – prvi Američki profesor pravne psihologije (+r sistolički tlak i laganje, konzultant suda, zajedno s Termanom, eksp. s porotom- izjave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Century Gothic"/>
              </a:rPr>
              <a:t>1931 – Howard Burtt – </a:t>
            </a:r>
            <a:r>
              <a:rPr b="1" i="1" lang="hr-HR" sz="1800" spc="-1" strike="noStrike">
                <a:solidFill>
                  <a:srgbClr val="ffffff"/>
                </a:solidFill>
                <a:latin typeface="Century Gothic"/>
              </a:rPr>
              <a:t>Legal Psychology – </a:t>
            </a:r>
            <a:r>
              <a:rPr b="1" lang="hr-HR" sz="1800" spc="-1" strike="noStrike">
                <a:solidFill>
                  <a:srgbClr val="ffffff"/>
                </a:solidFill>
                <a:latin typeface="Century Gothic"/>
              </a:rPr>
              <a:t>prvi udžbenik u tom području kojeg je napisao psiholog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1935</a:t>
            </a:r>
            <a:r>
              <a:rPr b="1" lang="hr-HR" sz="1800" spc="-1" strike="noStrike">
                <a:solidFill>
                  <a:srgbClr val="ffffff"/>
                </a:solidFill>
                <a:latin typeface="Century Gothic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Edward Robinson </a:t>
            </a:r>
            <a:r>
              <a:rPr b="1" lang="hr-HR" sz="1800" spc="-1" strike="noStrike">
                <a:solidFill>
                  <a:srgbClr val="ffffff"/>
                </a:solidFill>
                <a:latin typeface="Century Gothic"/>
              </a:rPr>
              <a:t>- </a:t>
            </a:r>
            <a:r>
              <a:rPr b="1" i="1" lang="en-US" sz="1800" spc="-1" strike="noStrike">
                <a:solidFill>
                  <a:srgbClr val="ffffff"/>
                </a:solidFill>
                <a:latin typeface="Century Gothic"/>
              </a:rPr>
              <a:t>Law and the Lawyers</a:t>
            </a:r>
            <a:r>
              <a:rPr b="1" i="1" lang="hr-HR" sz="1800" spc="-1" strike="noStrike">
                <a:solidFill>
                  <a:srgbClr val="ffffff"/>
                </a:solidFill>
                <a:latin typeface="Century Gothic"/>
              </a:rPr>
              <a:t> -</a:t>
            </a:r>
            <a:r>
              <a:rPr b="1" i="1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hr-HR" sz="1800" spc="-1" strike="noStrike">
                <a:solidFill>
                  <a:srgbClr val="ffffff"/>
                </a:solidFill>
                <a:latin typeface="Century Gothic"/>
              </a:rPr>
              <a:t>u kojoj se govori u prilog metodologije kojom se koriste u društvenim znanostima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Century Gothic"/>
              </a:rPr>
              <a:t>1920 - 1940 – psiholozi u USA se nisu pojavljivali kao vještaci na sudu regularno, i tek se počinju pojavljivati ranih 50-ih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8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86544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5" name="Picture 4" descr="B00005MHNI"/>
          <p:cNvPicPr/>
          <p:nvPr/>
        </p:nvPicPr>
        <p:blipFill>
          <a:blip r:embed="rId2"/>
          <a:stretch/>
        </p:blipFill>
        <p:spPr>
          <a:xfrm>
            <a:off x="357120" y="1285920"/>
            <a:ext cx="1692360" cy="23032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7" descr="B00005LINC"/>
          <p:cNvPicPr/>
          <p:nvPr/>
        </p:nvPicPr>
        <p:blipFill>
          <a:blip r:embed="rId3"/>
          <a:stretch/>
        </p:blipFill>
        <p:spPr>
          <a:xfrm>
            <a:off x="2428920" y="1357200"/>
            <a:ext cx="1655640" cy="23036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3" descr="B0000AYJVA"/>
          <p:cNvPicPr/>
          <p:nvPr/>
        </p:nvPicPr>
        <p:blipFill>
          <a:blip r:embed="rId4"/>
          <a:stretch/>
        </p:blipFill>
        <p:spPr>
          <a:xfrm>
            <a:off x="214200" y="4005360"/>
            <a:ext cx="1817640" cy="2519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4" descr="B0000E6EKZ"/>
          <p:cNvPicPr/>
          <p:nvPr/>
        </p:nvPicPr>
        <p:blipFill>
          <a:blip r:embed="rId5"/>
          <a:stretch/>
        </p:blipFill>
        <p:spPr>
          <a:xfrm>
            <a:off x="2357280" y="4076640"/>
            <a:ext cx="1722600" cy="24494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6" descr=""/>
          <p:cNvPicPr/>
          <p:nvPr/>
        </p:nvPicPr>
        <p:blipFill>
          <a:blip r:embed="rId6"/>
          <a:stretch/>
        </p:blipFill>
        <p:spPr>
          <a:xfrm>
            <a:off x="4500720" y="2571840"/>
            <a:ext cx="2847960" cy="39909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3" descr="http://3.bp.blogspot.com/_RimCrgoGssQ/SyDxs5IpjSI/AAAAAAAABqk/scZ2Al8MSbw/s400/criminal+minds.jpg"/>
          <p:cNvPicPr/>
          <p:nvPr/>
        </p:nvPicPr>
        <p:blipFill>
          <a:blip r:embed="rId7"/>
          <a:stretch/>
        </p:blipFill>
        <p:spPr>
          <a:xfrm>
            <a:off x="6072120" y="1395360"/>
            <a:ext cx="258444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Rectangle 2" descr=""/>
          <p:cNvPicPr/>
          <p:nvPr/>
        </p:nvPicPr>
        <p:blipFill>
          <a:blip r:embed="rId1"/>
          <a:stretch/>
        </p:blipFill>
        <p:spPr>
          <a:xfrm>
            <a:off x="682560" y="311040"/>
            <a:ext cx="7785000" cy="9144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178920" y="1371240"/>
            <a:ext cx="8713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1940: Weld </a:t>
            </a:r>
            <a:r>
              <a:rPr b="0" lang="hr-HR" sz="2800" spc="-1" strike="noStrike">
                <a:solidFill>
                  <a:srgbClr val="ffffff"/>
                </a:solidFill>
                <a:latin typeface="Century Gothic"/>
              </a:rPr>
              <a:t>i sur. – objavili nekoliko članaka kako su dokazi na sudu vrednovani od strane porote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entury Gothic"/>
              </a:rPr>
              <a:t>1958: pravna regulativa “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rekla</a:t>
            </a:r>
            <a:r>
              <a:rPr b="0" lang="hr-HR" sz="2800" spc="-1" strike="noStrike">
                <a:solidFill>
                  <a:srgbClr val="ffffff"/>
                </a:solidFill>
                <a:latin typeface="Century Gothic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kazala</a:t>
            </a:r>
            <a:r>
              <a:rPr b="0" lang="hr-HR" sz="2800" spc="-1" strike="noStrike">
                <a:solidFill>
                  <a:srgbClr val="ffffff"/>
                </a:solidFill>
                <a:latin typeface="Century Gothic"/>
              </a:rPr>
              <a:t>”, odluka Vrhovnog suda o odvojenoj ali jednakoj doktrini – prekretnica u Britanskoj forenzičnoj psihologiji– tek 1958. psiholozi su počeli davati iskaze na sudu, a prije toga su dokazi psihologa bili inkorporirani u dokaze psihijatra, zatvorskih liječnika i sl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Rectangle 2" descr=""/>
          <p:cNvPicPr/>
          <p:nvPr/>
        </p:nvPicPr>
        <p:blipFill>
          <a:blip r:embed="rId1"/>
          <a:stretch/>
        </p:blipFill>
        <p:spPr>
          <a:xfrm>
            <a:off x="676440" y="-30240"/>
            <a:ext cx="7785000" cy="103032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0" y="9810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Century Gothic"/>
              </a:rPr>
              <a:t>do 1962 – psiholozi u Americi nisu bili priznati kao vještaci za psihičke bolesti, a sve do 1982. za pitanja ubrojivosti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Century Gothic"/>
              </a:rPr>
              <a:t>1965 - prvi zaposleni policijski psiholog (M. Resiser u LAPD)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1966</a:t>
            </a:r>
            <a:r>
              <a:rPr b="0" lang="hr-HR" sz="2200" spc="-1" strike="noStrike">
                <a:solidFill>
                  <a:srgbClr val="ffffff"/>
                </a:solidFill>
                <a:latin typeface="Century Gothic"/>
              </a:rPr>
              <a:t>- 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Kalven &amp; Ziesel -  </a:t>
            </a:r>
            <a:r>
              <a:rPr b="0" lang="hr-HR" sz="2200" spc="-1" strike="noStrike">
                <a:solidFill>
                  <a:srgbClr val="ffffff"/>
                </a:solidFill>
                <a:latin typeface="Century Gothic"/>
              </a:rPr>
              <a:t>objavili </a:t>
            </a:r>
            <a:r>
              <a:rPr b="0" i="1" lang="en-US" sz="2200" spc="-1" strike="noStrike">
                <a:solidFill>
                  <a:srgbClr val="ffffff"/>
                </a:solidFill>
                <a:latin typeface="Century Gothic"/>
              </a:rPr>
              <a:t>The American Jury </a:t>
            </a:r>
            <a:r>
              <a:rPr b="0" i="1" lang="hr-HR" sz="2200" spc="-1" strike="noStrike">
                <a:solidFill>
                  <a:srgbClr val="ffffff"/>
                </a:solidFill>
                <a:latin typeface="Century Gothic"/>
              </a:rPr>
              <a:t>– osnovu za istraživanje porote danas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1970</a:t>
            </a:r>
            <a:r>
              <a:rPr b="0" lang="hr-HR" sz="2200" spc="-1" strike="noStrike">
                <a:solidFill>
                  <a:srgbClr val="ffffff"/>
                </a:solidFill>
                <a:latin typeface="Century Gothic"/>
              </a:rPr>
              <a:t>-ih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soci</a:t>
            </a:r>
            <a:r>
              <a:rPr b="0" lang="hr-HR" sz="2200" spc="-1" strike="noStrike">
                <a:solidFill>
                  <a:srgbClr val="ffffff"/>
                </a:solidFill>
                <a:latin typeface="Century Gothic"/>
              </a:rPr>
              <a:t>jalni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ps</a:t>
            </a:r>
            <a:r>
              <a:rPr b="0" lang="hr-HR" sz="2200" spc="-1" strike="noStrike">
                <a:solidFill>
                  <a:srgbClr val="ffffff"/>
                </a:solidFill>
                <a:latin typeface="Century Gothic"/>
              </a:rPr>
              <a:t>iholozi su preuzeli ulogu obrane osumnjičenih u suđenjima protivnicima rata (hipoteza o uroti)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Century Gothic"/>
              </a:rPr>
              <a:t>1970 - moderno doba svjedočenja očevidaca – Loftus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Century Gothic"/>
              </a:rPr>
              <a:t>1971 – Anderson slučaj (poznati kao OZ suđenje) – najveći broj Britanskih psihologa se ikad pojavio u obrani na jednom slučaju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1973</a:t>
            </a:r>
            <a:r>
              <a:rPr b="0" lang="hr-HR" sz="2200" spc="-1" strike="noStrike">
                <a:solidFill>
                  <a:srgbClr val="ffffff"/>
                </a:solidFill>
                <a:latin typeface="Century Gothic"/>
              </a:rPr>
              <a:t>- 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Schulman </a:t>
            </a:r>
            <a:r>
              <a:rPr b="0" lang="hr-HR" sz="2200" spc="-1" strike="noStrike">
                <a:solidFill>
                  <a:srgbClr val="ffffff"/>
                </a:solidFill>
                <a:latin typeface="Century Gothic"/>
              </a:rPr>
              <a:t>i sur. 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– </a:t>
            </a:r>
            <a:r>
              <a:rPr b="0" lang="hr-HR" sz="2200" spc="-1" strike="noStrike">
                <a:solidFill>
                  <a:srgbClr val="ffffff"/>
                </a:solidFill>
                <a:latin typeface="Century Gothic"/>
              </a:rPr>
              <a:t>razvili su metodu za odabir porote, utjecalo na razvoj onog što danas zovem konzultantima za odabir porote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Rectangle 2" descr=""/>
          <p:cNvPicPr/>
          <p:nvPr/>
        </p:nvPicPr>
        <p:blipFill>
          <a:blip r:embed="rId1"/>
          <a:stretch/>
        </p:blipFill>
        <p:spPr>
          <a:xfrm>
            <a:off x="676440" y="-42840"/>
            <a:ext cx="7785000" cy="101772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0" y="1268280"/>
            <a:ext cx="9144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1976: Tapp – </a:t>
            </a:r>
            <a:r>
              <a:rPr b="0" lang="hr-HR" sz="2800" spc="-1" strike="noStrike">
                <a:solidFill>
                  <a:srgbClr val="ffffff"/>
                </a:solidFill>
                <a:latin typeface="Century Gothic"/>
              </a:rPr>
              <a:t>napravio pregled Psihologije i prava u </a:t>
            </a:r>
            <a:r>
              <a:rPr b="0" i="1" lang="en-US" sz="2800" spc="-1" strike="noStrike">
                <a:solidFill>
                  <a:srgbClr val="ffffff"/>
                </a:solidFill>
                <a:latin typeface="Century Gothic"/>
              </a:rPr>
              <a:t>Annual Review of Psychology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1977: </a:t>
            </a:r>
            <a:r>
              <a:rPr b="0" lang="hr-HR" sz="2800" spc="-1" strike="noStrike">
                <a:solidFill>
                  <a:srgbClr val="ffffff"/>
                </a:solidFill>
                <a:latin typeface="Century Gothic"/>
              </a:rPr>
              <a:t>osnovana sekcija za </a:t>
            </a:r>
            <a:r>
              <a:rPr b="0" i="1" lang="en-US" sz="2800" spc="-1" strike="noStrike">
                <a:solidFill>
                  <a:srgbClr val="ffffff"/>
                </a:solidFill>
                <a:latin typeface="Century Gothic"/>
              </a:rPr>
              <a:t>Criminological and Legal Psychology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1990: European Association of Psychology and Law, </a:t>
            </a:r>
            <a:r>
              <a:rPr b="0" lang="hr-HR" sz="2800" spc="-1" strike="noStrike">
                <a:solidFill>
                  <a:srgbClr val="ffffff"/>
                </a:solidFill>
                <a:latin typeface="Century Gothic"/>
              </a:rPr>
              <a:t>održava godišnje konferencije,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Century Gothic"/>
              </a:rPr>
              <a:t>izlazi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Century Gothic"/>
              </a:rPr>
              <a:t>Psychology, Crime, and Law</a:t>
            </a:r>
            <a:r>
              <a:rPr b="0" i="1" lang="hr-HR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(</a:t>
            </a:r>
            <a:r>
              <a:rPr b="0" lang="hr-HR" sz="2800" spc="-1" strike="noStrike">
                <a:solidFill>
                  <a:srgbClr val="ffffff"/>
                </a:solidFill>
                <a:latin typeface="Century Gothic"/>
              </a:rPr>
              <a:t>od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1969: </a:t>
            </a:r>
            <a:r>
              <a:rPr b="0" i="1" lang="en-US" sz="2800" spc="-1" strike="noStrike">
                <a:solidFill>
                  <a:srgbClr val="ffffff"/>
                </a:solidFill>
                <a:latin typeface="Century Gothic"/>
              </a:rPr>
              <a:t>Law and Human Behavior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Rectangle 2" descr=""/>
          <p:cNvPicPr/>
          <p:nvPr/>
        </p:nvPicPr>
        <p:blipFill>
          <a:blip r:embed="rId1"/>
          <a:stretch/>
        </p:blipFill>
        <p:spPr>
          <a:xfrm>
            <a:off x="390600" y="-60480"/>
            <a:ext cx="8240760" cy="76212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Century Gothic"/>
              </a:rPr>
              <a:t>Najnovija grana primijenjene psihologije (2001. od strane APA-e priznata kao specijalizacija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entury Gothic"/>
              </a:rPr>
              <a:t>ČASOPISI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Century Gothic"/>
              </a:rPr>
              <a:t>Behavioral Science and the Law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Century Gothic"/>
              </a:rPr>
              <a:t>Law and Psychology Review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Century Gothic"/>
              </a:rPr>
              <a:t>Expert Evidence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Century Gothic"/>
              </a:rPr>
              <a:t>Public Policy and Law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entury Gothic"/>
              </a:rPr>
              <a:t>STRUČNA DRUŠTVA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entury Gothic"/>
              </a:rPr>
              <a:t>APA – 1981 Psychology and Law 41st Divisio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entury Gothic"/>
              </a:rPr>
              <a:t>American Academy of Forensic Psychology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entury Gothic"/>
              </a:rPr>
              <a:t>American Psychology-Law Society </a:t>
            </a:r>
            <a:r>
              <a:rPr b="1" lang="hr-HR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entury Gothic"/>
              </a:rPr>
              <a:t>European Association of Psychology and Law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entury Gothic"/>
              </a:rPr>
              <a:t>International Academy of Law and Mental Health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entury Gothic"/>
              </a:rPr>
              <a:t>The International Association for Forensic Psychotherapy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Rectangle 2" descr=""/>
          <p:cNvPicPr/>
          <p:nvPr/>
        </p:nvPicPr>
        <p:blipFill>
          <a:blip r:embed="rId1"/>
          <a:stretch/>
        </p:blipFill>
        <p:spPr>
          <a:xfrm>
            <a:off x="390600" y="237960"/>
            <a:ext cx="8240760" cy="8096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0" y="138600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entury Gothic"/>
              </a:rPr>
              <a:t>Hrvatsko psihološko društvo – Sekcija za forenzičku psihologiju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entury Gothic"/>
              </a:rPr>
              <a:t>Izlaganja na godišnjim konferencijama hrvatskih psihologa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entury Gothic"/>
              </a:rPr>
              <a:t>Edukacije (npr. edukacija iz forenzičkog intervjua s djetetom)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entury Gothic"/>
              </a:rPr>
              <a:t>Pravilnik o obuci kandidata za poslove stalnog sudskog vještaka psihologijske struke (2001; 2003. – 12 stalnih sudskih vještaka za psihologiju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468000" y="1844640"/>
            <a:ext cx="82184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f388c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ffffff"/>
                </a:solidFill>
                <a:latin typeface="Century Gothic"/>
              </a:rPr>
              <a:t>forensic</a:t>
            </a:r>
            <a:r>
              <a:rPr b="0" lang="hr-HR" sz="2400" spc="-1" strike="noStrike">
                <a:solidFill>
                  <a:srgbClr val="ffffff"/>
                </a:solidFill>
                <a:latin typeface="Century Gothic"/>
              </a:rPr>
              <a:t>- latinska riječ za forum (mjesto gdje su Rimljani raspravljali o pravnim pitanjima i vodili se sudski procesi); </a:t>
            </a:r>
            <a:r>
              <a:rPr b="0" lang="hr-HR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ulazi u, povezano s, ili se koristi na sudovima 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(Oxford English Dictionary) </a:t>
            </a:r>
            <a:r>
              <a:rPr b="0" lang="hr-HR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</a:t>
            </a:r>
            <a:r>
              <a:rPr b="0" lang="hr-HR" sz="2400" spc="-1" strike="noStrike">
                <a:solidFill>
                  <a:srgbClr val="ffffff"/>
                </a:solidFill>
                <a:latin typeface="Century Gothic"/>
              </a:rPr>
              <a:t>područje gdje se miješaju psihologija i pravo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ff388c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entury Gothic"/>
              </a:rPr>
              <a:t>šire definicije (USA) i uže definicije (Europa)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39528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…</a:t>
            </a:r>
            <a:r>
              <a:rPr b="0" lang="hr-HR" sz="3000" spc="-1" strike="noStrike">
                <a:solidFill>
                  <a:srgbClr val="ffffff"/>
                </a:solidFill>
                <a:latin typeface="Century Gothic"/>
              </a:rPr>
              <a:t>ona grana primijenjene psihologije koja prikuplja, istražuje i prezentira sudu dokaze (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Gudjonsson and Haward</a:t>
            </a:r>
            <a:r>
              <a:rPr b="0" lang="hr-HR" sz="2400" spc="-1" strike="noStrike">
                <a:solidFill>
                  <a:srgbClr val="ffffff"/>
                </a:solidFill>
                <a:latin typeface="Century Gothic"/>
              </a:rPr>
              <a:t>,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1998, </a:t>
            </a:r>
            <a:r>
              <a:rPr b="0" lang="hr-HR" sz="2400" spc="-1" strike="noStrike">
                <a:solidFill>
                  <a:srgbClr val="ffffff"/>
                </a:solidFill>
                <a:latin typeface="Century Gothic"/>
              </a:rPr>
              <a:t>str.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1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…</a:t>
            </a:r>
            <a:r>
              <a:rPr b="0" lang="hr-HR" sz="3000" spc="-1" strike="noStrike">
                <a:solidFill>
                  <a:srgbClr val="ffffff"/>
                </a:solidFill>
                <a:latin typeface="Century Gothic"/>
              </a:rPr>
              <a:t>omogućavanje psihologijskih podataka u svrhu donošenja pravnih odluka (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Blackburn</a:t>
            </a:r>
            <a:r>
              <a:rPr b="0" lang="hr-HR" sz="2400" spc="-1" strike="noStrike">
                <a:solidFill>
                  <a:srgbClr val="ffffff"/>
                </a:solidFill>
                <a:latin typeface="Century Gothic"/>
              </a:rPr>
              <a:t>, 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1996, </a:t>
            </a:r>
            <a:r>
              <a:rPr b="0" lang="hr-HR" sz="2400" spc="-1" strike="noStrike">
                <a:solidFill>
                  <a:srgbClr val="ffffff"/>
                </a:solidFill>
                <a:latin typeface="Century Gothic"/>
              </a:rPr>
              <a:t>str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. 7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Century Gothic"/>
              </a:rPr>
              <a:t>…</a:t>
            </a:r>
            <a:r>
              <a:rPr b="0" lang="hr-HR" sz="3000" spc="-1" strike="noStrike">
                <a:solidFill>
                  <a:srgbClr val="ffffff"/>
                </a:solidFill>
                <a:latin typeface="Century Gothic"/>
              </a:rPr>
              <a:t>primjena psihologijskih teorija, istraživanja i tehnika u području kriminologije i prava - doseg forenzičke psihologije je širi od područja priznanja i sudskih dokaza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Rectangle 2" descr=""/>
          <p:cNvPicPr/>
          <p:nvPr/>
        </p:nvPicPr>
        <p:blipFill>
          <a:blip r:embed="rId1"/>
          <a:stretch/>
        </p:blipFill>
        <p:spPr>
          <a:xfrm>
            <a:off x="390600" y="158760"/>
            <a:ext cx="6059520" cy="103032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250560" y="1412640"/>
            <a:ext cx="62643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… </a:t>
            </a:r>
            <a:r>
              <a:rPr b="0" lang="hr-HR" sz="2400" spc="-1" strike="noStrike">
                <a:solidFill>
                  <a:srgbClr val="ffffff"/>
                </a:solidFill>
                <a:latin typeface="Century Gothic"/>
              </a:rPr>
              <a:t>bilo koja primjena psihologijskih znanja ili metoda na zadatke s kojim se suočava pravni sustav (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Wrightsman</a:t>
            </a:r>
            <a:r>
              <a:rPr b="0" lang="hr-HR" sz="2400" spc="-1" strike="noStrike">
                <a:solidFill>
                  <a:srgbClr val="ffffff"/>
                </a:solidFill>
                <a:latin typeface="Century Gothic"/>
              </a:rPr>
              <a:t>, 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2001, </a:t>
            </a:r>
            <a:r>
              <a:rPr b="0" lang="hr-HR" sz="2400" spc="-1" strike="noStrike">
                <a:solidFill>
                  <a:srgbClr val="ffffff"/>
                </a:solidFill>
                <a:latin typeface="Century Gothic"/>
              </a:rPr>
              <a:t>str. 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7" name="Picture 4" descr="bs00503_"/>
          <p:cNvPicPr/>
          <p:nvPr/>
        </p:nvPicPr>
        <p:blipFill>
          <a:blip r:embed="rId2"/>
          <a:stretch/>
        </p:blipFill>
        <p:spPr>
          <a:xfrm>
            <a:off x="6877080" y="0"/>
            <a:ext cx="2028960" cy="240516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5"/>
          <p:cNvSpPr/>
          <p:nvPr/>
        </p:nvSpPr>
        <p:spPr>
          <a:xfrm>
            <a:off x="468360" y="3357720"/>
            <a:ext cx="849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grana primijenjene psihologije koja prikuplja, istražuje, objašnjava i prezentira sudu podatke vezane uz procjenu osobina ličnosti i intelektualnog statusa pojedinca, uzimajući u obzir njihovu strukturu i interakciju, kao i emocionalne, motivacijske i socijalne faktore (Sekcija za forenzičku psihologiju)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Rectangle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699760" cy="13046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Century Gothic"/>
              </a:rPr>
              <a:t>obzirom na poslove koje obavljaju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Century Gothic"/>
              </a:rPr>
              <a:t>obzirom na područja kojima se bave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Century Gothic"/>
              </a:rPr>
              <a:t>obzirom na uloge koje preuzimaju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Century Gothic"/>
              </a:rPr>
              <a:t>obzirom na vrste kaznenih predmeta, odnosno vrste prava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Rectangle 2" descr=""/>
          <p:cNvPicPr/>
          <p:nvPr/>
        </p:nvPicPr>
        <p:blipFill>
          <a:blip r:embed="rId1"/>
          <a:stretch/>
        </p:blipFill>
        <p:spPr>
          <a:xfrm>
            <a:off x="390600" y="-6480"/>
            <a:ext cx="8296200" cy="115884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468360" y="1341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entury Gothic"/>
              </a:rPr>
              <a:t>konzultanti suda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entury Gothic"/>
              </a:rPr>
              <a:t>sudski vještaci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entury Gothic"/>
              </a:rPr>
              <a:t>vrednovanje dokaza za potrebe policije, suda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entury Gothic"/>
              </a:rPr>
              <a:t>penološki psiholozi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entury Gothic"/>
              </a:rPr>
              <a:t>rad s osobama koje su odslužile kaznu zatvora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entury Gothic"/>
              </a:rPr>
              <a:t>rad u policiji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entury Gothic"/>
              </a:rPr>
              <a:t>izrada profila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entury Gothic"/>
              </a:rPr>
              <a:t>rad u medicinskim ustanovama 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entury Gothic"/>
              </a:rPr>
              <a:t>rad sa žrtvama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entury Gothic"/>
              </a:rPr>
              <a:t>istraživači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Rectangle 2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92736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394920" y="1341000"/>
            <a:ext cx="84582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uključeni su u sve faze kazneno-pravnog sustava: pred-kazneno postupanje (istražni), kazneni postupak (suđenje), postupke nakon okončanja postupka (zatvori, posebne bolnice, institucije za maloljetne počinitelje KD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forenzički psiholozi provode istraživanja vezana uz korelate i uzroke kaznenih djela, a u praksi mogu pridonijeti: izradi profila, intervjuiranju svjedoka i osumnjičenika, žrtava, djece, postupcima prepoznavanja počinitelja itd.  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7T13:27:53Z</dcterms:created>
  <dc:creator>Rachel Rose</dc:creator>
  <dc:description/>
  <dc:language>en-US</dc:language>
  <cp:lastModifiedBy>nom</cp:lastModifiedBy>
  <dcterms:modified xsi:type="dcterms:W3CDTF">2013-05-29T08:51:09Z</dcterms:modified>
  <cp:revision>72</cp:revision>
  <dc:subject/>
  <dc:title>Forensic Psychology</dc:title>
</cp:coreProperties>
</file>