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426-1CDE-43A3-8DA1-0CDF989D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D46-86B0-4AAC-8AFE-2F7D399F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D91-C410-41C7-A8A7-E100C209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6C0-537D-43E6-A877-6A19ED95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1E4-57C6-49B5-B7C2-46CEB220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05B2-AE63-45D6-B5DA-62E7FC0C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8B59-77FE-4EB4-BA5E-1F3EFFF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0817-D7E2-407E-AD31-4A529755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7F3D-3B77-413D-86D3-278C80E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6D8C-E81A-40AE-BE1E-E75CA170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4D35-45CE-4B7E-9206-771CF52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CC0B-ED72-4A37-9F36-716B6D2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9D6-8B3C-4E20-B7B4-20DA5C95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1B30-74B2-40E7-BFD1-0B5A608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9D07-58D1-44EA-8EE7-2AE5D315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FC69-DEBD-4122-BDCD-3E3AB657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6CE-434B-4D50-A831-52BE4FEF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D9B-DACD-45AB-9D07-2E0A76E3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1DB-9078-4B6C-9F97-F1D65BF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1CE1-E7C9-4577-B86C-E6F3DBBC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3CC-0D9B-4E50-B605-132F0961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294-410D-4952-9050-A9BFC88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EFBE-5B76-4DEC-8FA8-18DBBFC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25D-CD1C-43D3-97CB-D007FF4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F23-A450-4FAB-8192-26F9A7989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DDAB-0866-4B0E-9572-F8D64F10EF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ENADŽMENT NOVOG PROIZVOD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10920" y="494136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ositelji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prof.dr.sc. Mane Medi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dr.sc. Berislav Bolf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Asisten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Maja Vretenar, dipl.oe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9D89-4867-4C86-9245-E8019BCD87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ZNAČENJE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52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marketinškoj literaturi se neprestano ističe da je odnos između novih i starih proizvoda (stopa inovacije) u stalnom porastu u tijeku posljednjeg desetljeć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o u budućnosti na opstanak mogu računati samo ona poduzeća koja će biti u stanju razviti nove proizvode i uvesti ih na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d svih oblika razvoja proizvoda razvoj novih proizvoda u poslovnoj politici poduzeća je najodgovornije, najsloženije, ali u ekonomskom pogledu najefikasnije područje politike proizvod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9087-FF57-4968-8BFD-D095DDA463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Životni vijek proizvoda puno je kraći za veliki broj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iminacija zastarjelih proizvoda u poduzećima nameće potrebu da se razviju novi proizvodi kako bi se ostvario potreban volumen proizvodnje i dobit koja se nekada ostvariva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z to treba zadržati ime kod postojećih kupaca i zaposliti neiskorištene resur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95CE-E903-4F4E-84CE-4E81BAE795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ođenjem novog proizvoda može se iskoristiti prošireni kapacitet proizvodnje i povećani kapacitet tržiš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cionalnost je u mogućnosti prevaljivanja fiksnih troškova na veliki broj jedinica što smanjuje ukupne troškove, tako da i cijena novog proizvoda može biti jako konkurent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a koja su suočena sa sezonskim fluktuacijama pribjegavaju uvođenju novog proizvoda u praznim razdoblji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097-6544-4FF9-8D8D-489F2C6A2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ođenjem novog proizvoda smanjuje se rizik koji proizlazi iz jednosmjerne orijentacije poduzeća koje u svom prodajnom programu ima velik postotak malog broja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 se prebrode takvi i slični problemi upravo su potrebni novi proizvod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i proizvod se uvodi kao odgovor na demografsku promjenu potrošač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522D-26BB-41AF-85C7-1C9E738D4A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KONCEPT UVOĐENJA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84360" y="2565360"/>
            <a:ext cx="7775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današnjem svijetu visoke tržišne konkurencije, tvrtke su pod povećanim pritiskom da razviju novi proizvod koji će vremenski biti usklađen s potrošačevim potreba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tisci se odnose na marketing jer je njegova pozicija na granici između tvrtke i tržišta i jer je traženi proizvod centralni element uspješne marketinške strategi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9EF-6E6D-4447-AD24-EEB9550EE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10920" y="141264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 ima vodeću ulogu u procesu  razvoja novog proizvoda,  zato je potrebna suradnja s drugim funkcijama kao što su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izvodn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onstrukci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traživanje i razvo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ko bi se kreirao  profitabilni novi proizvod u relevantnom vremen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168C-CDB3-44E0-BC0F-909AF0B2CC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775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prinos novog proizvoda je značajan kako za dugoročnu egzistenciju čitavog gospodarstva, tako i za pojedina poduzeć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ješno upravljanje poduzećem predstavlja optimalno usklađivanje postojećih proizvoda s novim proizvod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e ne može živjeti samo od novih proizvoda, jer troškovi razvoja mogu biti na početku preveliki za određeno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e ne može živjeti samo ni od postojećih proizvoda, jer su  nezadrživi procesi tehnološkog zastarijevanja i zasićenja tržiš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A709-C690-49CF-9040-D7A8E6B5D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4360" y="620640"/>
            <a:ext cx="7775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avni problem poduzeća se sastoji u tome da se iz mnoštva ideja i poticaja izaberu oni koji će se kasnije moći komercijalizirati i probiti na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za između uvođenja novog proizvoda i ponašanja kupaca  uočljiv je i značajan problem marketing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raživanje tržišta za potrebe uvođenja novog proizvoda mora predvidjeti mogućnost plasiranja novog proizvoda na domaćem i stranom tržiš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ode koje se mogu primijeniti u istraživanju tržišta za novi proizvod razlikuju se prema stupnju težine same progno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051C-13B6-49F2-B28C-BCE6555FBD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litika cijene novog proizvoda ne može se voditi na osnovi nekih strogih pravila, nego ona zahtijeva brižljivu analizu tržišnih uvjeta i strukture troškova u pojedinim slučajev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ovi proizvodi ne nalaze tržište sami od s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ora se uspostaviti komunikacijski most između proizvođača i potrošača za taj proizv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zvoj novog proizvoda je definiran kao proces izmišljanja i kreiranja novog proizvoda i outputa (financijska kategorija, povrat investicije, udio na tržištu ili profi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1587-DDE7-482F-B004-1B9D20480F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UŽE OGRANIČENJE ISTRAŽIVANJ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vođenje novog proizvoda tretira se kao proces odlučivanja, da bi se poboljšale osnove racionalnog odlučivanja prilikom uvođenja novog proizvoda na tržiš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o se ova problematika promatra s kvantitativnog stajališta pomoću matematičkih metoda i mode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i odlučivanja kod novog proizvoda mogu se svesti na tri uzro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758E-3A13-4BDE-883D-16ED756E10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7775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bvezna liter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Dražen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ković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itika novog proizvod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konomski fakultet u Osijeku, Osijek, 1998.g.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zborna literatur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wford, C; Benedetto, A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roduct management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Graw – Hill College, 2003.g.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D7A4-35FC-411B-AFE9-D83ABCC60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vo, odluka o uvođenju novog proizvoda dodiruje gotovo sve dijelove poduzeć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o, uvođenje proizvoda je tipična odluka pod uvjetima neizvjes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će, za uvođenje novog proizvoda nije dovoljna samo jedna jedina odluka nego jedan slijed sekvencijalnih odlučivanja koja se međusobno razlikuju radi promijenjenog stanja informacija o polju odlučiv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9F4-DA38-4362-8733-0631593822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 odlučivanja u marketingu po fazama obilježen je logičkim slijedom stupnjeva jedne svjesne, sustavne analize problema i rješenj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z uvažavanje kompleksnosti odlučivanja kod uvođenja novog proizvoda čitavu problematiku matematičkih modela u analizi uvođenja novog proizvoda možemo prikazati kroz proces odlučiv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EA95-6129-4AA2-A7DA-D490832A3D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4360" y="907920"/>
            <a:ext cx="7775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 odlučivanja se sastoji od više faza koje su karakterizirane sljedećim značajkam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vrđivanje i oblikovanje sustava ciljeva koji se odnose na probl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bavljanje i obrada informaci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iza različitih mogućnosti, izbor aktivnosti i pronalaženje određenog rješen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tvarivanje odabrane strategij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oređivanje planskih i ostvarenih vrijed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AD5D-03A0-4F6C-A023-044F11954F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26560" y="1557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U svim tim fazama, samo s različitim intenzitetom, javlja se problem prognoziranja prodaje, jer se bez prognoze prodaje ne može postaviti ni jedan model uvođenja novog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toga modeli prognoze predstavljaju konstituirajuću komponentu svakog modela uvođenja novog proizvoda, pa zato čine kamen temeljac svakog modela odlučivanja o novom proizvod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8640-2FBB-4DCA-8D5F-AE312F8CFB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 PROCES PLANIRANJA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4360" y="2205000"/>
            <a:ext cx="7775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 nastanaka odnosno planiranja novog proizvoda može se sagledati kroz šest fa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kupljanje novih ide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zbor idej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zvoj novog proizvod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aliza ekonomičnost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vođenje novog proizvo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9CE8-3564-4BC5-B1DD-36DA79B3E0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itav niz aktivnosti koje treba obaviti u procesu planiranja i uvođenja novog proizvoda razlikuje se od poduzeća do poduzeća, od vrste proizvoda do vrste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pična je uvijek potreba da se prezentiraju svi zadaci poredani po prioritetnom redu uz naznaku potrebnog vremena za njihovo izvršava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različitim segmentima poduzeća i na različitim razinama odgovornosti potrebno je koordinirati aktivnosti u predviđenom vreme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DAB8-A563-42FD-A408-0C9EBBB529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području marketinga danas se primjenjuje niz metoda koje omogućuju kontrolu cjelokupnog procesa planiranja, razvoja i lansiranja novih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ve se metode skupnim imenom nazivaju 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hnike mrežnog planiranj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marketinškoj praksi najčešće se koris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P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7EAF-E882-4A03-B3A2-58665AF59A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 projekte uvođenja novog proizvoda je tipično da njihov tijek nije unaprijed poznat, nego se ostvaruje u zavisnosti od rezultata alternativnih struktura projek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ve mogućnosti pruža mrežno programiranje poznato pod nazivom G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ebna svojstva elemenata mreže dozvoljavaju da se mrežni plan GERT, odnosno dio tog plana, ne ostvari ili da se pak više puta ostva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F35C-F8C4-4C41-BFB1-60185C1234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 INFORMACIJSKI SUSTAV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55280" y="1773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načajni zadaci marketinga sastoje se u pronalaženju informacija koje bi bile pogodne da umanje neizvjesnost pod kojom se donosi marketinška odlu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uvođenja novog proizvoda od odlučujućeg je značenja da poduzeće raspolaže važnim informacij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cije o mogućim potencijalima prodaje, aktivnosti konkurencije, razvitku troškova, potrebne su kod pronalaženja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443C-5DCE-42FE-907E-A8273A7F52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pjeh poduzeća u procesu informacija – sakupljanju, dijeljenju, i korištenju tržišnih informacija, predstavlja važnu ulogu u određivanju uspjeha ili neuspjeha kod uvođenja novog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o je potrebno razviti aktivno prikupljanje podataka. Mnoga poduzeća zauzimaju pasivan stav u traženju novih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bližno 80% aktivnosti u pronalaženju novog proizvoda sastoji se od traženja, sakupljanja, selektiranja, vrednovanja, pohranjivanja i prerađivanja informacija, pa se zbog toga nameće potreba sustavne obrade informac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7D17-C7C0-41D0-9007-54001DDFB9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ORIJSKI PRISTUP NOVOM PROIZVODU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OPĆI POJMOV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ZNAČENJE NOVOG PROIZ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ONCEPT UVOĐENJA NOVOG PROIZVOD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ŽE OGRANIČENJE ISTRAŽIVAN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CES PLANIRANJA NOVOG PROIZ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FORMACIJSKI SUSTAV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VANTITATIVNA ANALI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VIJI KONCEPTI RAZVOJA NOVOG PROIZVO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AČUNALNA PODRŠK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81D-2367-40BA-AE13-F1563B2C0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raživanja pokazuju jak odnos između uspjeha proizvoda i procesa tržišne informa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kupljanje i dijeljenje informacija je važno, samo ako se informacije upotrijebe učinkov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ije pokazuju da se kod 80% uspješnih proizvoda koristila količina informacija koja je bila veća od 50% moguće količine informac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k je 75% neuspjelih proizvoda koristilo manje od 50% moguće količine informac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85A-8B37-4733-8F66-14037198369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najvećem broju problema oko uvođenja novog proizvoda, pored odgovora na pitanje uvesti proizvod na tržište ili izraditi samo prototip; potrebno je pribaviti dodatne informacije koje su potrebne za donošenje odlu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cija je vrijedan resurs: znanje je mo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ma teoriji racionalnog očekivanja, informacije su oskudno dobro i ne treba ih rasipa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kupljanje i obrada informacija uzrokuje troškove, dakle informacijske usluge odvijaju se pod financijskim restrikcij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0CE-0EEF-458A-897A-1A511472D2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10920" y="692280"/>
            <a:ext cx="7775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pravilu vrijedi tvrdnja da se rizik neispunjenja cilja smanjuje dodatnim informacijama, odnosno višim stupnjem informir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đutim, rizik se može i povećati, u slučaju da troškovi naknadnog investiranja u informaciju ne budu pokriveni očekivanim rezulta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konomski aspekt dolazi do izražaja u usporedbi informacijskih učinaka i troško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znato je da informacijske usluge imaju svoje troškove koji su mjerljivi, a temeljna poteškoća je mogućnost vrednovanja koris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7BAE-A9EB-4405-849C-4FD0A574F7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 KVANTITATIVNA ANALIZ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pskrbljivanje menadžera informacijama često uključuje korištenje kvantitativnih mode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vantitativna analiza je postala integralni dio računalnog informacijskog susta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čunalni informacijski sustav se sastoji od hardware-a, software-a, baze podataka, telekomunikacija, ljudi i postupa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1771-F0DA-42ED-8D09-7B4F800BFF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4360" y="1052640"/>
            <a:ext cx="7775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čunalni informacijski sustavi mogu uključivati menadžment informacijske sustave (MIS), sustave za potporu u odlučivanj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 kvantitativne analize mogu se koristiti u svim ovim sustav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 je organiziran način da prave osobe na pravom mjestu dobiju prave informacije u pravo vrije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skrbljivanje menadžera pravim informacijama često uključuje i korištenje kvantitativnih mode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47F0-6347-4241-BBBF-1BB4F31BA3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4360" y="549360"/>
            <a:ext cx="77752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temelju prednosti računalne tehnologije vidljiv je razvoj sustava za donošenje odluka, ekspertnih sustava, i umjetne inteligen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d sustava za potporu odlučivanja, sustav je razvijen da podupre, a ne da zamjeni donošenje odluke od strane menadž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tav za potporu odlučivanja je interaktivan i omogućuje korištenje pitanja tipa “što ak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to menadžeri moraju testirati različite odluke, mijenjati ulazne podatke i brzo vidjeti rezultate ovih promjena u rješavanju problema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AE7-776E-4A21-B1B6-7051DA4D25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84360" y="1125360"/>
            <a:ext cx="7775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zvoj umjetne inteligencije započeo je još sredinom 50-tih godina prošlog stoljeć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raživani su koncepti i teorije vezane uz korištenje računalnih sustava i tehnologije koji bi djelovali kao ljudska inteligencija ili bi je simulira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kspertni sustavi umjetne inteligencije teže ka razvijanju sustava i postupaka koji će oponašati ili djelovati poput inteligentnih i racionalnih donositelja odlu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i sustavi sadržavaju velike baze podataka ili baze općeg zna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2381-B39B-4E5C-97B0-C9422140E9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. NOVIJI KONCEPTI RAZVOJA NOVOG PROIZVO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775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ovi proizvodi izlaze kontinuirano na površinu po ubrzanoj stopi jer ih pospješuju dinamične snage kao što s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ova ubrzana tehnologi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veća potražn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enadžment totalne kvalite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globalna konkurencij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eengineerin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informacijski sustav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egulativa vl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082E-317A-48C5-990F-BE65C40400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oces razvoja ipak ostaje serija diskretnih često preklapajućih kora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noge kompanije razvijaju vlastite pristupe razvoju novog proizvoda kao kontinuiranog procesa koji se može promijeniti i na drugim područjim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lasičan razvoj novog proizvoda dobro služi u stabilnim tržišnim situacijama, dok u dinamičnim situacijama treba imati proizvod u trenutku kada ga potrošači traže i to brže od konkurenci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05D1-5F73-48DB-870F-A8EC4975D9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4360" y="691920"/>
            <a:ext cx="777528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vi proizvod je u kontekstu novih ideja o razvoju proizvoda onaj koji dodaje vrijednost u cjelokupni lanac koji vodi do krajnjeg korisnik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a krajnjeg korisnika dodana vrijednost mogla bi biti opažena vrijednost, koja se može mjeriti u krajnjem slučaju indeksima zadovoljstva potrošač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Članovi vrijednosnog lanca, dobavljači, proizvođači, kanali distribucije, dioničari, zaposleni mogu mjeriti dodanu vrijednost u ekonomskim kategorijama; bržeg obrtaja zaliha, stope rasta, udjela na tržištu, veće stope povrata investicije i višeg dohotk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E136-367B-4C48-BAD6-F223DD92BE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OPĆI POJMOV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10920" y="1557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izvodom smatramo sve što se može ponuditi tržištu, sa svrhom da izazove pažnju, potakne na kupnju, uporabu ili potrošnju, a time se mogu zadovoljiti želje ili potrebe kupa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đu proizvode se ne ubrajaju samo opipljiva dob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 širem smislu, u proizvode ubrajamo fizičke predmete, usluge, osobe, mjesta, organizacije, ideje ili spletove navedenih jedin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60FF-CE38-4ADF-BAA2-9D5C59D526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. RAČUNALNA PODRŠK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čunala su važna sredstva u marketinškoj prak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imjena kvantitativnih marketinških modela zahtjeva računalna rješe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Za većinu modela postoje već uhodani komercijalni program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Računska procedura kod modela prognoziranja može se olakšati raspoloživim software-skim paketima tipa SAS, SPSS ili Mikrost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B31E-C5DA-44BF-8316-E1273E0D600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4360" y="764640"/>
            <a:ext cx="7775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Većina organizacija ima pristup računalnim programima koji su sposobni riješiti velike probleme linearnog programiranj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remda se svaki računalni program razlikuje od drugog, ipak su u osnovi slič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U praksi su se potvrdili sljedeći računalni progra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LI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POM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TLAB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Mathematic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Times New Roman"/>
              </a:rPr>
              <a:t>HIP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48A9-924D-436D-B08E-DB4CD53B95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6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60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VALA  NA  PAŽNJI 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EBA6-5089-4FCB-9BB4-886CD833AF8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oje tri razine proizvoda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5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eopipljiva razina proizv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842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Koristi koje proizvod mora imati da bi mogao zadovoljiti određenu potrebu ili želj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pipljiva razina proizv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842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Sama bit proizvoda (hardwar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bogaćivanje proizvo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8424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Dostava, montaža, puštanje u rad, kreditiranje, jamstvo i serv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CFAC-86FE-483F-BA6B-692555DAC8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10920" y="1557000"/>
            <a:ext cx="7775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lo brzi tehnički napredak i razvitak ljudskih potreba dovode nužno do stvaranja novih upotrebnih vrijednosti, a time i novih proizvo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tovremeno se skraćuje životni vijek proizvoda s manjim upotrebnim vrijednost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namički razvoj gospodarskih i tehnoloških faktora prisiljava mnoga poduzeća da u kraćim rokovima zamjenjuju stare proizvode novim, ukoliko žele da na tržištu ostvare odgovarajuću dob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FFC-A855-4CA3-BE64-EA28B6154C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4360" y="1267920"/>
            <a:ext cx="7775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bog rastuće dinamike ekonomskih i tehnoloških faktora svako poduzeće koje je orijentirano na razvoj, neprestano treba provoditi organizacijske i tehničke promj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duzeća koja u svoj program ne uvode nove proizvode gube osnovu za opstanak u usporedbi s onima koja se spretno prilagođavaju promje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duži rok, bez dodatnih aktivnosti, uspjeh poduzeća će opadati u ovisnosti o životnom vijeku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442C-1C6B-4215-A4C6-13BA4EBC29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Na novi proizvod se može gledati s subjektivnog i objektivnog stajališ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Subjektivno, novi proizvodi bi bili svi oni koji su već na tržištu, ali ih poduzeće nije do sada proizvodilo ili ih potrošači do određenog vremena nisu poznava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Objektivno, novi proizvodi s gledišta proizvođača se iskazuju svakom modifikacijom, diferencijacijom i diverzifikacij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638C-A213-4DEB-964B-5F466243F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7775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odifikacija znači da se proizvodima promijene izvjesna svojstva i da se prodaju samo u novom obli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Diferenciranje se provodi određenim zahvatima u proizvodno-tehnološku problematiku pri čemu se vrši daljnja varijacija proizvo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Pod diverzifikacijom se podrazumijeva usmjereno proširenje učinaka nekog poduzeća na području na kojem ono do sada još nije djelova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E28B-8B26-464C-A483-10040645F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7:19:10Z</dcterms:created>
  <dc:creator>Korisnik</dc:creator>
  <dc:description/>
  <dc:language>en-US</dc:language>
  <cp:lastModifiedBy>Korisnik</cp:lastModifiedBy>
  <dcterms:modified xsi:type="dcterms:W3CDTF">2010-04-19T12:22:34Z</dcterms:modified>
  <cp:revision>18</cp:revision>
  <dc:subject/>
  <dc:title>mn</dc:title>
</cp:coreProperties>
</file>