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20C-8773-4589-8B32-510DC476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A86-F248-46DB-80B5-983F5CAF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A0D-58D3-4836-8775-8E6EB6D2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91C-79B3-4BB9-B1F5-FBC857B9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4073-7C53-4228-88E5-C13D7302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84EB-740E-4140-8A04-B3059FF7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12D-625B-4B77-9561-7467AB2F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87E6-88FA-4D98-9EAB-E3F39E5F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3E5-747C-473D-AB4E-5A6A2758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97C7-D01F-4CBA-BEEE-0719C21C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C7C7-7939-4445-A6FF-C1CEEB2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60F-49CD-4066-9A38-E4E63DF8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179D-5543-4845-9394-E37EF7CE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35DB-531A-4362-AE5C-C1D498B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E332-F9EC-4EDC-B9A5-EE3F276F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D0DA-C7B5-43AE-B018-49BE2518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95C2-9EC3-46D6-A5CD-784190EA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2C5-9BAC-491B-8CBE-E8DB61CE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637-0619-42EE-84FF-59E9F132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AF8-BCA9-4255-B37B-805C84F2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383-76D6-4CDC-AD27-15F21110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3B8-C2C5-4EAC-906F-18DE480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D12-D908-42D8-9347-28117FF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E1A-1835-441B-912B-54931AA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660B-E490-4649-9AB6-75CE73B6B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28C9-98D4-4279-8E22-9C9F3F4AB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ENADŽMENT NOVOG PROIZVO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10920" y="4941360"/>
            <a:ext cx="7775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ositelj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prof.dr.sc. Mane Medi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dr.sc. Berislav Bolf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Asisten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Maja Vretenar, dipl.oe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5A5E-AC5A-47E8-9923-093B04E72E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ZNAČENJE NOVOG PROIZV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5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marketinškoj literaturi se neprestano ističe da je odnos između novih i starih proizvoda (stopa inovacije) u stalnom porastu u tijeku posljednjeg desetljeć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o u budućnosti na opstanak mogu računati samo ona poduzeća koja će biti u stanju razviti nove proizvode i uvesti ih na tržiš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 svih oblika razvoja proizvoda razvoj novih proizvoda u poslovnoj politici poduzeća je najodgovornije, najsloženije, ali u ekonomskom pogledu najefikasnije područje politike proizvod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9FC-42F0-4A91-B068-6164DB9E68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Životni vijek proizvoda puno je kraći za veliki broj proizvo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cija zastarjelih proizvoda u poduzećima nameće potrebu da se razviju novi proizvodi kako bi se ostvario potreban volumen proizvodnje i dobit koja se nekada ostvariva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z to treba zadržati ime kod postojećih kupaca i zaposliti neiskorištene resurs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3AD5-1806-4CEF-A7A8-5220731350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vođenjem novog proizvoda može se iskoristiti prošireni kapacitet proizvodnje i povećani kapacitet tržiš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cionalnost je u mogućnosti prevaljivanja fiksnih troškova na veliki broj jedinica što smanjuje ukupne troškove, tako da i cijena novog proizvoda može biti jako konkurent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uzeća koja su suočena sa sezonskim fluktuacijama pribjegavaju uvođenju novog proizvoda u praznim razdoblji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41E3-CBDB-4AE7-8065-C53DE47681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vođenjem novog proizvoda smanjuje se rizik koji proizlazi iz jednosmjerne orijentacije poduzeća koje u svom prodajnom programu ima velik postotak malog broja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 se prebrode takvi i slični problemi upravo su potrebni novi proizvod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i proizvod se uvodi kao odgovor na demografsku promjenu potrošač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82A0-0AA0-410B-8E56-63C44B566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KONCEPT UVOĐENJA NOVOG PROIZV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4360" y="2565360"/>
            <a:ext cx="77752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današnjem svijetu visoke tržišne konkurencije, tvrtke su pod povećanim pritiskom da razviju novi proizvod koji će vremenski biti usklađen s potrošačevim potreba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tisci se odnose na marketing jer je njegova pozicija na granici između tvrtke i tržišta i jer je traženi proizvod centralni element uspješne marketinške strateg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1AA8-BB03-4EED-9EF4-2BCBD147E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10920" y="141264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 ima vodeću ulogu u procesu  razvoja novog proizvoda,  zato je potrebna suradnja s drugim funkcijama kao što su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izvodn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onstrukci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traživanje i razvo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ko bi se kreirao  profitabilni novi proizvod u relevantnom vremen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63D9-D158-4966-A315-694C63A8BD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4360" y="981000"/>
            <a:ext cx="7775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prinos novog proizvoda je značajan kako za dugoročnu egzistenciju čitavog gospodarstva, tako i za pojedina poduzeć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pješno upravljanje poduzećem predstavlja optimalno usklađivanje postojećih proizvoda s novim proizvod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uzeće ne može živjeti samo od novih proizvoda, jer troškovi razvoja mogu biti na početku preveliki za određeno tržiš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uzeće ne može živjeti samo ni od postojećih proizvoda, jer su  nezadrživi procesi tehnološkog zastarijevanja i zasićenja tržiš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FEA-263C-47DD-B758-A411DA9999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4360" y="620640"/>
            <a:ext cx="7775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vni problem poduzeća se sastoji u tome da se iz mnoštva ideja i poticaja izaberu oni koji će se kasnije moći komercijalizirati i probiti na tržiš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za između uvođenja novog proizvoda i ponašanja kupaca  uočljiv je i značajan problem marketing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raživanje tržišta za potrebe uvođenja novog proizvoda mora predvidjeti mogućnost plasiranja novog proizvoda na domaćem i stranom tržiš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ode koje se mogu primijeniti u istraživanju tržišta za novi proizvod razlikuju se prema stupnju težine same progno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5567-EDA8-46A7-84F0-0040B6EE50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litika cijene novog proizvoda ne može se voditi na osnovi nekih strogih pravila, nego ona zahtijeva brižljivu analizu tržišnih uvjeta i strukture troškova u pojedinim slučajev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ovi proizvodi ne nalaze tržište sami od s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ora se uspostaviti komunikacijski most između proizvođača i potrošača za taj proizv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zvoj novog proizvoda je definiran kao proces izmišljanja i kreiranja novog proizvoda i outputa (financijska kategorija, povrat investicije, udio na tržištu ili profi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9767-2F54-4163-8E09-BE177CB6D4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UŽE OGRANIČENJE ISTRAŽIVANJ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vođenje novog proizvoda tretira se kao proces odlučivanja, da bi se poboljšale osnove racionalnog odlučivanja prilikom uvođenja novog proizvoda na tržiš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to se ova problematika promatra s kvantitativnog stajališta pomoću matematičkih metoda i mode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i odlučivanja kod novog proizvoda mogu se svesti na tri uzro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043F-335E-43FD-B3AE-BD5CC6D59D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4360" y="549360"/>
            <a:ext cx="77752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vezna litera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Dražen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ković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itika novog proizvod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ski fakultet u Osijeku, Osijek, 1998.g.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zborna literatur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wford, C; Benedetto, 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roduct management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Graw – Hill College, 2003.g.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787A-BA98-4ABB-A3AF-CE8042D081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vo, odluka o uvođenju novog proizvoda dodiruje gotovo sve dijelove poduzeć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o, uvođenje proizvoda je tipična odluka pod uvjetima neizvjes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će, za uvođenje novog proizvoda nije dovoljna samo jedna jedina odluka nego jedan slijed sekvencijalnih odlučivanja koja se međusobno razlikuju radi promijenjenog stanja informacija o polju odlučiv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F135-C39F-4770-83C2-69B7C9ECD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 odlučivanja u marketingu po fazama obilježen je logičkim slijedom stupnjeva jedne svjesne, sustavne analize problema i rješen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z uvažavanje kompleksnosti odlučivanja kod uvođenja novog proizvoda čitavu problematiku matematičkih modela u analizi uvođenja novog proizvoda možemo prikazati kroz proces odlučiv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46DD-8942-474B-9C56-05B73C94AF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775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 odlučivanja se sastoji od više faza koje su karakterizirane sljedećim značajka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vrđivanje i oblikovanje sustava ciljeva koji se odnose na proble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bavljanje i obrada informaci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iza različitih mogućnosti, izbor aktivnosti i pronalaženje određenog rješen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tvarivanje odabrane strategij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poređivanje planskih i ostvarenih vrijed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0C04-B630-4E0F-9B2B-BC00414732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26560" y="155700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U svim tim fazama, samo s različitim intenzitetom, javlja se problem prognoziranja prodaje, jer se bez prognoze prodaje ne može postaviti ni jedan model uvođenja novog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oga modeli prognoze predstavljaju konstituirajuću komponentu svakog modela uvođenja novog proizvoda, pa zato čine kamen temeljac svakog modela odlučivanja o novom proizvod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DFE2-8228-4791-8A42-3A838D96F3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 PROCES PLANIRANJA NOVOG PROIZV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4360" y="2205000"/>
            <a:ext cx="7775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 nastanaka odnosno planiranja novog proizvoda može se sagledati kroz šest fa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kupljanje novih ide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zbor ide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zvoj novog proizvo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liza ekonomičnosti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vođenje novog proizvo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1891-1E5C-4B12-BF8B-052A8500C1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Čitav niz aktivnosti koje treba obaviti u procesu planiranja i uvođenja novog proizvoda razlikuje se od poduzeća do poduzeća, od vrste proizvoda do vrste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ična je uvijek potreba da se prezentiraju svi zadaci poredani po prioritetnom redu uz naznaku potrebnog vremena za njihovo izvršavan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različitim segmentima poduzeća i na različitim razinama odgovornosti potrebno je koordinirati aktivnosti u predviđenom vremen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EB78-DC68-4F41-92BE-1A559A7051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području marketinga danas se primjenjuje niz metoda koje omogućuju kontrolu cjelokupnog procesa planiranja, razvoja i lansiranja novih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ve se metode skupnim imenom nazivaju 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hnike mrežnog planiran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marketinškoj praksi najčešće se koris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P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AEF9-EEE4-4E28-9C4E-55352B5C93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 projekte uvođenja novog proizvoda je tipično da njihov tijek nije unaprijed poznat, nego se ostvaruje u zavisnosti od rezultata alternativnih struktura projek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ve mogućnosti pruža mrežno programiranje poznato pod nazivom G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bna svojstva elemenata mreže dozvoljavaju da se mrežni plan GERT, odnosno dio tog plana, ne ostvari ili da se pak više puta ostvar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64C2-9D54-4D46-8432-7F616D0255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 INFORMACIJSKI SUSTAV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načajni zadaci marketinga sastoje se u pronalaženju informacija koje bi bile pogodne da umanje neizvjesnost pod kojom se donosi marketinška odlu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uvođenja novog proizvoda od odlučujućeg je značenja da poduzeće raspolaže važnim informacij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cije o mogućim potencijalima prodaje, aktivnosti konkurencije, razvitku troškova, potrebne su kod pronalaženja proizvo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32FA-D51B-4CB1-834C-C7CA056C94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pjeh poduzeća u procesu informacija – sakupljanju, dijeljenju, i korištenju tržišnih informacija, predstavlja važnu ulogu u određivanju uspjeha ili neuspjeha kod uvođenja novog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to je potrebno razviti aktivno prikupljanje podataka. Mnoga poduzeća zauzimaju pasivan stav u traženju novih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bližno 80% aktivnosti u pronalaženju novog proizvoda sastoji se od traženja, sakupljanja, selektiranja, vrednovanja, pohranjivanja i prerađivanja informacija, pa se zbog toga nameće potreba sustavne obrade informac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3097-70BD-46DD-BC1A-DF69D895D8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ORIJSKI PRISTUP NOVOM PROIZVODU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PĆI POJMOV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NAČENJE NOVOG PROIZV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KONCEPT UVOĐENJA NOVOG PROIZVOD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ŽE OGRANIČENJE ISTRAŽIVAN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S PLANIRANJA NOVOG PROIZV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FORMACIJSKI SUSTA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KVANTITATIVNA ANALI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VIJI KONCEPTI RAZVOJA NOVOG PROIZV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AČUNALNA PODRŠK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2131-B6A1-4C18-A0A5-94129FF7D6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raživanja pokazuju jak odnos između uspjeha proizvoda i procesa tržišne informa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kupljanje i dijeljenje informacija je važno, samo ako se informacije upotrijebe učinkov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je pokazuju da se kod 80% uspješnih proizvoda koristila količina informacija koja je bila veća od 50% moguće količine informac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k je 75% neuspjelih proizvoda koristilo manje od 50% moguće količine informac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746F-727D-4B1F-98DE-69B8372A70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najvećem broju problema oko uvođenja novog proizvoda, pored odgovora na pitanje uvesti proizvod na tržište ili izraditi samo prototip; potrebno je pribaviti dodatne informacije koje su potrebne za donošenje odlu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cija je vrijedan resurs: znanje je mo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ma teoriji racionalnog očekivanja, informacije su oskudno dobro i ne treba ih rasipa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kupljanje i obrada informacija uzrokuje troškove, dakle informacijske usluge odvijaju se pod financijskim restrikcij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B035-CCB8-4360-A767-FD49169B08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10920" y="692280"/>
            <a:ext cx="7775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pravilu vrijedi tvrdnja da se rizik neispunjenja cilja smanjuje dodatnim informacijama, odnosno višim stupnjem informir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đutim, rizik se može i povećati, u slučaju da troškovi naknadnog investiranja u informaciju ne budu pokriveni očekivanim rezulta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konomski aspekt dolazi do izražaja u usporedbi informacijskih učinaka i troško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znato je da informacijske usluge imaju svoje troškove koji su mjerljivi, a temeljna poteškoća je mogućnost vrednovanja koris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57B7-25FD-4D40-89B0-3C0C56D80B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 KVANTITATIVNA ANALI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Opskrbljivanje menadžera informacijama često uključuje korištenje kvantitativnih mode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vantitativna analiza je postala integralni dio računalnog informacijskog susta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čunalni informacijski sustav se sastoji od hardware-a, software-a, baze podataka, telekomunikacija, ljudi i postupa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2957-EAC3-4D41-B80C-31CF1B42D8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čunalni informacijski sustavi mogu uključivati menadžment informacijske sustave (MIS), sustave za potporu u odlučivanj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i kvantitativne analize mogu se koristiti u svim ovim sustav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 je organiziran način da prave osobe na pravom mjestu dobiju prave informacije u pravo vrije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skrbljivanje menadžera pravim informacijama često uključuje i korištenje kvantitativnih mode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83C7-F9DC-4DA2-B1EE-81ADB8BD4B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4360" y="549360"/>
            <a:ext cx="77752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temelju prednosti računalne tehnologije vidljiv je razvoj sustava za donošenje odluka, ekspertnih sustava, i umjetne inteligen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sustava za potporu odlučivanja, sustav je razvijen da podupre, a ne da zamjeni donošenje odluke od strane menadž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tav za potporu odlučivanja je interaktivan i omogućuje korištenje pitanja tipa “što ak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to menadžeri moraju testirati različite odluke, mijenjati ulazne podatke i brzo vidjeti rezultate ovih promjena u rješavanju problem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AC07-78FB-4EA1-BFAF-1902BEFEC0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7775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zvoj umjetne inteligencije započeo je još sredinom 50-tih godina prošlog stoljeć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raživani su koncepti i teorije vezane uz korištenje računalnih sustava i tehnologije koji bi djelovali kao ljudska inteligencija ili bi je simulira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kspertni sustavi umjetne inteligencije teže ka razvijanju sustava i postupaka koji će oponašati ili djelovati poput inteligentnih i racionalnih donositelja odlu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i sustavi sadržavaju velike baze podataka ili baze općeg zn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8A11-8A62-42B7-AAC2-B9AB2969E8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 NOVIJI KONCEPTI RAZVOJA NOVOG PROIZV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775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ovi proizvodi izlaze kontinuirano na površinu po ubrzanoj stopi jer ih pospješuju dinamične snage kao što s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ova ubrzana tehnologi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veća potražn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enadžment totalne kvalite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globalna konkurenci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eengineeri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informacijski sustav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egulativa vl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9DC5-1A0C-40DC-8321-38180E9B93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775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roces razvoja ipak ostaje serija diskretnih često preklapajućih kora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noge kompanije razvijaju vlastite pristupe razvoju novog proizvoda kao kontinuiranog procesa koji se može promijeniti i na drugim područji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lasičan razvoj novog proizvoda dobro služi u stabilnim tržišnim situacijama, dok u dinamičnim situacijama treba imati proizvod u trenutku kada ga potrošači traže i to brže od konkuren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F8D7-EDC4-4DFE-8CBE-94A1B8B6F8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vi proizvod je u kontekstu novih ideja o razvoju proizvoda onaj koji dodaje vrijednost u cjelokupni lanac koji vodi do krajnjeg korisni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 krajnjeg korisnika dodana vrijednost mogla bi biti opažena vrijednost, koja se može mjeriti u krajnjem slučaju indeksima zadovoljstva potrošač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Članovi vrijednosnog lanca, dobavljači, proizvođači, kanali distribucije, dioničari, zaposleni mogu mjeriti dodanu vrijednost u ekonomskim kategorijama; bržeg obrtaja zaliha, stope rasta, udjela na tržištu, veće stope povrata investicije i višeg dohot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654C-6B5C-48E8-9344-BBD18A6CA9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OPĆI POJMOV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10920" y="155700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izvodom smatramo sve što se može ponuditi tržištu, sa svrhom da izazove pažnju, potakne na kupnju, uporabu ili potrošnju, a time se mogu zadovoljiti želje ili potrebe kupa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đu proizvode se ne ubrajaju samo opipljiva dob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širem smislu, u proizvode ubrajamo fizičke predmete, usluge, osobe, mjesta, organizacije, ideje ili spletove navedenih jedi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F60D-D7E9-4672-88E9-2E8125753C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 RAČUNALNA PODRŠK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čunala su važna sredstva u marketinškoj prak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rimjena kvantitativnih marketinških modela zahtjeva računalna rješe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Za većinu modela postoje već uhodani komercijalni progra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čunska procedura kod modela prognoziranja može se olakšati raspoloživim software-skim paketima tipa SAS, SPSS ili Mikrost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763F-D375-4304-9385-12137FB77C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4360" y="764640"/>
            <a:ext cx="7775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Većina organizacija ima pristup računalnim programima koji su sposobni riješiti velike probleme linearnog programiranj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remda se svaki računalni program razlikuje od drugog, ipak su u osnovi slič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U praksi su se potvrdili sljedeći računalni progra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LI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ATLAB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athematic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HIP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A14-EA98-4D33-8414-7B4E840516F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VALA  NA  PAŽNJI 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1A6E-D4A5-426C-9A4E-61D632B666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oje tri razine proizvoda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eopipljiva razina proizv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842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Koristi koje proizvod mora imati da bi mogao zadovoljiti određenu potrebu ili želj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Opipljiva razina proizv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842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ama bit proizvoda (hardwar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Obogaćivanje proizv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842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Dostava, montaža, puštanje u rad, kreditiranje, jamstvo i serv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6FFE-433B-454F-8687-451CB684AE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10920" y="155700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lo brzi tehnički napredak i razvitak ljudskih potreba dovode nužno do stvaranja novih upotrebnih vrijednosti, a time i novih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ovremeno se skraćuje životni vijek proizvoda s manjim upotrebnim vrijednos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amički razvoj gospodarskih i tehnoloških faktora prisiljava mnoga poduzeća da u kraćim rokovima zamjenjuju stare proizvode novim, ukoliko žele da na tržištu ostvare odgovarajuću dob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52C8-DE77-4409-9478-442269DAE4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775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bog rastuće dinamike ekonomskih i tehnoloških faktora svako poduzeće koje je orijentirano na razvoj, neprestano treba provoditi organizacijske i tehničke promj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uzeća koja u svoj program ne uvode nove proizvode gube osnovu za opstanak u usporedbi s onima koja se spretno prilagođavaju promjen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duži rok, bez dodatnih aktivnosti, uspjeh poduzeća će opadati u ovisnosti o životnom vijeku proizvo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B5B-94AB-4430-89BA-936D2EB05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775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a novi proizvod se može gledati s subjektivnog i objektivnog stajališ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ubjektivno, novi proizvodi bi bili svi oni koji su već na tržištu, ali ih poduzeće nije do sada proizvodilo ili ih potrošači do određenog vremena nisu poznava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Objektivno, novi proizvodi s gledišta proizvođača se iskazuju svakom modifikacijom, diferencijacijom i diverzifikacij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A54B-F032-4398-A6C5-E634C4BEF5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775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odifikacija znači da se proizvodima promijene izvjesna svojstva i da se prodaju samo u novom obli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Diferenciranje se provodi određenim zahvatima u proizvodno-tehnološku problematiku pri čemu se vrši daljnja varijacija proizvo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d diverzifikacijom se podrazumijeva usmjereno proširenje učinaka nekog poduzeća na području na kojem ono do sada još nije djelova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5F1-919D-45B6-A0CE-F461BC7D46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19:10Z</dcterms:created>
  <dc:creator>Korisnik</dc:creator>
  <dc:description/>
  <dc:language>en-US</dc:language>
  <cp:lastModifiedBy>Korisnik</cp:lastModifiedBy>
  <dcterms:modified xsi:type="dcterms:W3CDTF">2010-04-19T12:22:34Z</dcterms:modified>
  <cp:revision>18</cp:revision>
  <dc:subject/>
  <dc:title>mn</dc:title>
</cp:coreProperties>
</file>