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02C5-5438-46C2-8320-348E47B5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FFB-CBD9-4BE0-ABD5-C94C67EA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9E7-8442-4D3F-BDB2-E94E1B36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784-2977-4134-B444-FD461A33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DD3C-1900-404D-B04E-E9C0DC76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B072-DA8E-4405-B3D1-701ECDD4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3512-5C15-4A29-AB40-2ED1C086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2DF3-557B-418C-A197-8BD4F06C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9EBD-3A71-4983-BCF2-4140C88A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46C1-BE25-4EED-85F7-6FA17B4E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6BC9-214E-4818-87E1-E0A3743B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98E-69A6-4836-BA3C-298CB7DB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46B5-0D0F-4E8E-87C7-A7451322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B33A-4F26-46B8-B2D5-F77D7710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5D67-6906-4118-B9A6-6C7B7F36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476E-49CB-472C-9D46-52488EE4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D232-9EED-49C4-B68E-FB1B9D93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0B9-8BB1-4C76-99C7-F49E5075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9AB-0B9D-4DFB-9629-5E74CF87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A50-1252-4671-955C-9DDD893E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8AB-48A4-47D7-AF30-9AF36499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2C9-958E-423E-9197-D009E589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416-1A61-4910-B02C-FF6AFC17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415-CDD3-4BA1-9871-73534321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1384-5C22-4AF7-B899-2DC59A6B559B}" type="slidenum">
              <a:rPr b="1" lang="hr-H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DB91-5272-45D1-AEFB-324C35BB6385}" type="slidenum">
              <a:rPr b="1" lang="hr-H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979280" y="3573360"/>
            <a:ext cx="5473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3366"/>
                </a:solidFill>
                <a:latin typeface="Times New Roman"/>
              </a:rPr>
              <a:t>Poduzetništvo i poduzetnik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269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3. Sociokulturni teorijski pristup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klonost poduzetništvu je rezultat ispreplitanja socijalnih, kulturnih, ideoloških, religijskih, etičkih i društvenih odnos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istup analizira eksterno okruženje poduzetništva objašnjavajući poduzetništvo kao ekonomsku djelatnost ljudi u okviru zadanih sociokulturnih instituc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6920" y="1267920"/>
            <a:ext cx="813456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3366"/>
                </a:solidFill>
                <a:latin typeface="Times New Roman"/>
              </a:rPr>
              <a:t>Povijesni razvoj teorije poduzetništv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Sebastian Vauban (1633 -1707.)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oučavao ekonomska pitanja; od novca, javnih financija, poljoprivrede i koloniza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Tvorac je velikog broja novih ekonomskih ideja i pristupa progresivnih za ono vrijem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Richard Cantillon (1680 -1734.)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soba koja kupuje po poznatim cijenama, a prodaje po nepoznati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55280" y="2322000"/>
            <a:ext cx="8178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Adam Smith (1713 -1790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Relativno rezerviran prema poduzetniku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Times New Roman"/>
              </a:rPr>
              <a:t>motiv poslovanja isključivo profit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Bogatstvo kao cilj nije pohvalan motiv, jer bogatstvo ne osigurava individualnu sreću i sigurnost.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Jean Baptiste Say (1767 -1832.)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Definira poduzetnika kao posrednika između vlasnika kapitala i najamnog radnik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kazuje na mogućnost odvajanja funkcije vlasništva od poduzetničke funk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00000" y="2276640"/>
            <a:ext cx="80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John Stuart Mill (1806 -1873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vi je u Engleskoj uveo pojam poduzetnik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euzimanje rizika bila je prva karakteristika koja je poduzetnika diferencirala od menadžer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P. Samuels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k poduzima određene aktivnosti radi ostvarivanja maksimalnih ekonomskih učinaka što je i svrha postojanja poduzeća u uvjetima tržišne ekonom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71280" y="2276640"/>
            <a:ext cx="74674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Josef Schumpeter (1883 -1950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tac teorije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vlaći razliku između vlasnika i poduzetnika, te poduzetnika i menadžer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k angažira menadžera da se brine o tome kako će se inputi što racionalnije iskoristiti da bi se ostvarili što bolji i kvalitetniji outputi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k može ali i ne mora biti neposredan inovator, ali on redovito potiče inovatorstvo i angažira inovacije u svojim pothvati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k nije onaj koji snosi rizi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232056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O. Gild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k nije samo osoba koja se mora uspješno nositi na tržištu nego stvarati i oblikovati tržiš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David Birch</a:t>
            </a:r>
            <a:r>
              <a:rPr b="0" i="1" lang="hr-HR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Američki ekonom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979. objavio rezultate istraživanja o zapošljavanju u Ameri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81% zaposlenih u poduzećima koja imaju manje od 100 zaposlen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smjerio pozornost na poduzetni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79930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Peter Druck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Kao i Schumpeter stajališta je da poduzetnik nije kapitalist, investitor i poslodava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štvo nije osnivanje vlastitog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štvo je stvaranje novog tržišta, novog potrošača, mobiliziranje tuđeg novca za ulaganje u područje više produktivnosti i veće dobit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Tri su ključna poduzetnička zadatk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izanje uspješnosti postojećeg poslov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onalaženje i aktiviranje novih potencija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siguravanje budućnosti poslov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92000" y="2349360"/>
            <a:ext cx="80280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Benedikt Kotruljević (oko 1400 -oko 1468)</a:t>
            </a:r>
            <a:r>
              <a:rPr b="0" i="1" lang="hr-H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458. godine pisao: "O trgovini i savršenom trgovcu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jegov "savršeni trgovac" u potpunosti odgovara pojmu modernog poduzetnika.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Blaž Lorković (1839 -1892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ajistaknutiji hrvatski ekonomski pisac 19. stolj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Istaknuto djelovao u obrazovanju stručnjaka, te upoznavanju hrvatskih gospodarstvenika sa svjetskim ekonomskim kretanjima i znanstvenim postignućim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Zaključno o pojmovima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Times New Roman"/>
              </a:rPr>
              <a:t>Poduzetništv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ložena i dinamična kategorija koja uključuje suzbijanje svake osrednjosti osiguravanjem dinamičnosti, fleksibilnosti, rentabilnosti i adaptibilnosti promjenama u okruženj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uvremeno poduzetništvo se nikad ne miri sa postojećim; ono teži postignuću i uspjehu, kreativnosti, inicijativi, preuzimanju rizika i odgovornosti, samostalnosti te razvija povjerenje u lj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Times New Roman"/>
              </a:rPr>
              <a:t>Poduzetni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soba koja ima odgovornost i sposobnost poslovnog čovjeka, sposobnost brzog uočavanja problema i povoljnih prigoda za poduzetnički pothvat, koja raspolaže kapitalom i samostalno donosi odlu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k osniva poduzeće, pokretač je i nositelj promjena, nadaren poslovnim duhom, opsjednut razvojnim nemirom i težnjom za postignućem, strateg, uzoran, pošten i otvoren, oprezan ali ne i bojažljiv, zna postaviti prave ciljeve ali i razumjeti signale iz okol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7696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Po</a:t>
            </a: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duzetni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ba nadarena poslovnim duhom i rukovodnim sposobnostima, bogata znanjem o poslovima i ljudima, odlučna i spremna da preuzme rizik upravljanja poduzećem na temelju inovacija i stalnog razvo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rganizira, vodi i preuzima rizik poslovnih pothv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7696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3366"/>
                </a:solidFill>
                <a:latin typeface="Times New Roman"/>
              </a:rPr>
              <a:t>Tipovi poduzetnika  (Sikavica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Poduzetnik-pionir</a:t>
            </a:r>
            <a:r>
              <a:rPr b="0" lang="hr-H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astupa u 1. fazi - stvaranja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snivač tvrtke, pun energije, ideja i odlučnosti, jaka ličnost koja se potpuno posvećuje posl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Poduzetnik-ma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željan u 2. fazi – rasta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nažna, autoritativna i ambiciozna osoba, vrlo dobro organizirana ali ima nedostatak vizije, ideja i inovac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8496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Poduzetnik-strate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imjeren u 3. fazi – diferencijacije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To je čovjek mislitelj, ispunjen željom za uspjeh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Dobro školovan, kreativan i dalekovidan te svjestan da ne može sam kontrolirati cijelo poduzeć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Poduzetnik-tren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željan u 4. fazi – razvitka i konsolidacije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Širi pozitivno emocionalno ozračje i motivira suradni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vom tipu poduzetnika nedostaje kreativnost, odlučnost i hrabrost pa postoji opasnost od birokratizacije i stagna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45840" y="155700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3366"/>
                </a:solidFill>
                <a:latin typeface="Times New Roman"/>
              </a:rPr>
              <a:t>Uvjeti za razvitak poduzetništ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Ekonomsk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će je roba koje ima svoju vrijed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ofitabilnošću na dulji rok mjeri se vrijednost poduzeća, a ne njegovom nabavnom cijen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ociološk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Zbog društvene stabilnosti poduzetništva potrebno je osigurati socijalnu ravnotežu i praved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litičk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litička sloboda uvjetuje razvitak poduzetništ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eutralna država” -ne nameće pojam općeg dob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avnom regulativom potiću se pozitivna ponašanja poduzetnika, a sprečavaju negativna (monopoli, pravna nesigurn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Individualno, korporacijsko (unutarnje) i skupno poduzetništ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Times New Roman"/>
              </a:rPr>
              <a:t>Individualno poduzetništ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Temelji se na tržišnoj konkurenciji malih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Jaka veza između vlasničke, upravljačke i rizične funk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Velika poduzeća se divizionaliziraju i decentraliziraju u više ili manje samostalne cjeline u funkciji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 sklopu poduzeća razvija se unutarnja ekonomija, a time i </a:t>
            </a:r>
            <a:r>
              <a:rPr b="1" i="1" lang="hr-HR" sz="2400" spc="-1" strike="noStrike">
                <a:solidFill>
                  <a:srgbClr val="003366"/>
                </a:solidFill>
                <a:latin typeface="Times New Roman"/>
              </a:rPr>
              <a:t>unutarnje poduzetništ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4000" y="2394000"/>
            <a:ext cx="8459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Times New Roman"/>
              </a:rPr>
              <a:t>Korporacijsko (unutarnje) poduzetništ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adrži organizacijske napore da s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veća inovativnost proizvodn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takne preuzimanje riz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takne prijevremeno (preventivno) reagiranje na promjene u okolin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Riječ je o načinu prilagodbe velikih korporacija d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Razvijaju inovativnost i učinkovitost natjecanja na tržišt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boljšavaju moral, predanost i produktivnost zaposleni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tiču bolje financijske rezul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manjuju poslovni rizi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280" y="2421000"/>
            <a:ext cx="7993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Velike korporacije nisu nužno poduzetničke, ali to ne znači da nisu inovativ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nutarnjim poduzetništvom razrađuje se organizacijska struktura, bude se inicijative i invetivnosti i primjenjuju nove tehnologij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Razvija se </a:t>
            </a:r>
            <a:r>
              <a:rPr b="1" i="1" lang="hr-HR" sz="2400" spc="-1" strike="noStrike">
                <a:solidFill>
                  <a:srgbClr val="003366"/>
                </a:solidFill>
                <a:latin typeface="Times New Roman"/>
              </a:rPr>
              <a:t>unutarnji poduzetnik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–zaposlenik u poduzeću ali ne i poslodava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Ne snosi puni rizik svoje aktivnos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26920" y="1483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Dva pogleda na unutarnje poduzetništ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nutarnje poduzetništvo je smisao za inovacije koje se razvijaju unutar granica postojećeg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jmom “intrapreneurship” opisuje se uspostavljanje malog izdvojenog (autonomnog) poslovanja unutar divova, kako bi nadareni zaposlenici slijedili svoje sno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(cilj je da pojedinci s poduzetničkim idejama, talentom i sposobnošću realiziraju zamisli a pri tome ostanu u korporacij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Razlozi za unutarnje poduzetništ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42160" indent="-5421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Brzo raste broj novih, sve sofisticiranijih i ujedno sve agresivnijih konkuren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42160" indent="-5421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nažan osjećaj nepovjerenja u tradicionalne metode vođenja poslova u većim poduzeći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42160" indent="-5421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ća napuštaju pojedinci koji su bili najbolji i najmaštovitij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86425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Razvoj korporacijskog poduzetništ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Faza 1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tvaranje potrebne </a:t>
            </a: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poduzetničke okoline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za razvoj unutarnjeg poduzetništ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Faza 2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. </a:t>
            </a: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Stjecanje podrške sudionik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▪  </a:t>
            </a: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uvjeriti zaposlene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da preuzmu </a:t>
            </a: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aktivnu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ulogu u vođenju vlastitih aktivnos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▪  </a:t>
            </a: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pru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ž</a:t>
            </a: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ati </a:t>
            </a:r>
            <a:r>
              <a:rPr b="1" i="1" lang="hr-HR" sz="2400" spc="-1" strike="noStrike">
                <a:solidFill>
                  <a:srgbClr val="003366"/>
                </a:solidFill>
                <a:latin typeface="Times New Roman"/>
              </a:rPr>
              <a:t>pomo</a:t>
            </a: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ć </a:t>
            </a: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(podršku) zaposlenima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pri određivanju i ostvarivanju unutarnje poduzetničkih projeka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▪  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ci razvijaju </a:t>
            </a: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akcijski 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(poslovni) </a:t>
            </a: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plan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za stjecanje novih kupaca, </a:t>
            </a: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“prodaju” ideje rukovodstvu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, počinju pregovarati o budućem ostvarivanju projek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5564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Koraci u prvoj faz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. Odredite i opišite niz poduzetničkih ideja zanimljivih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vodećem menadžment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2. Odredite odnos između korporacije i poduzetnik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3. Odredite visinu početnih sredstava i kasnijih investicija koje ste voljni uložit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4. Detaljno opišite očekivane rezultate pothva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5. Menadžment mora biti svjestan promijenjen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rganizacijske klime i odnosa prema poduzetništv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6. Obavijestite zaposlene o program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7. Identificirajte potencijalne unutarnje poduzetni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8. Odaberite poduzetnike za drugu faz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00000" y="227664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Times New Roman"/>
              </a:rPr>
              <a:t>Henry Ford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899 i 1901 – prva dva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odaja trkaćih automobila –propa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903 – 40 god. i 28.000$ - svijet na kotači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260$ automob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Times New Roman"/>
              </a:rPr>
              <a:t>Steven Jobs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976 udružio se sa Stevenom Wozniakom (Appl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konkurencija IBM-u i Helwett-Packar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računalo za sve društvene sloje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1383840"/>
            <a:ext cx="8893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Prednosti poduzetništva u velikoj korporacij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. Prednosti pri marketingu – imidž, distribucij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2. Tehnološka osnova – znanje, vlastita tehnologija, opre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3. Suradnici kojima vjerujemo – izgrađeni odnosi, poznavanje tržiš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4. Prednost postojeće mreže – ne postoji problem poslovnih tajni, korištenje informacij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5. Pilotski preokret i zajedničko korištenje proizvodni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kapacite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6. Financije – za specijalne proizvode, akvizicije, leas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000" y="1457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Uloga unutarnjeg poduzetn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e možemo ga odrediti, sam se odlučuje za takvu ulog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ek sam cijelo vrijeme razvija ideju, neka je ne ispušta iz ruk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eka nositelj ideje ima konačnu odluku i neka ima pravo postupiti prema vlastitoj prosudb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trebno je osigurati resurse za nove ideje, pokuse, pilot-projekte, testiranje tržiš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Treba dopuštati riskiranje i krive procjene ili neuspjeh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eka poduzetnik radi u malim inovacijskim segmentima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velike promjene raščlanite u više koraka (manji rizik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53840" y="2420640"/>
            <a:ext cx="8389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7. Poduzetnika treba podržati pomoću “strpljivog novca” – nove se stvari ne razvijaju vrlo brzo, potrebno je vrije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8. Rukovodstvo poduzeća mora osigurati okolinu koja neće odbijati nove ide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9. Za inovaciju je potrebno često oblikovati skupinu – pojedini poduzetnik nema sva potrebna znanja i kapacite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0. Poduzetnik mora imati razne opcije. Neka slobodno traži unutarnje i vanjske resur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70128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Arial"/>
              </a:rPr>
              <a:t>10 zapovijedi za unutarnjeg poduzetnika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28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1. Svakoga dana dođite na posao spremni da dobijete otka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2. Zaobiđite svaki zahtjev koji pokušava zaustaviti vaše sno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3. Učinite sve što je potrebno da vaš projekt uspije, bez obzira na opis vaših zadatak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4. Potražite ljude koji će vam pomoć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5. Slijedite intuiciju ljudi koje odaberete i radite samo s najbolji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3366"/>
                </a:solidFill>
                <a:latin typeface="Arial"/>
              </a:rPr>
              <a:t>G. Pinchot III, Intrapreneuring (1985.), str. 22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6. Dok je moguće, djelujte prikriven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7. Nikada se ne kladite o utrci ako u njoj ne sudjeluje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8. Zapamtite da je lakše moliti za opravdanje nego za dopušten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9. Budite otvoreni u odnosu prema svojim ciljevima, no i realni u određivanju načina za njihovo dostizan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10. Odajte priznanje vašim sponzori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3366"/>
                </a:solidFill>
                <a:latin typeface="Arial"/>
              </a:rPr>
              <a:t>G. Pinchot III, Intrapreneuring (1985.), str. 22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640" y="1557360"/>
            <a:ext cx="770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Uputst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. Nikada sami sebi ne zadajte prevelike zadatke i pokušajte postići više nego što ste planirali (obećali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2. Ponašajte se kao da je riječ o vašem novcu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3. Potražite saveznike koji će vam pomoći, prvake među menadžeri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4. Izbjegavajte prerani publicitet, osim ako vam pomaže promovirati i prodavati proizvo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5. Budite prvi koji će shvatiti kada je potrebno odabrati novo usmjerenje jedinice ili cijeli pokušaj zaustavit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19280" y="1483920"/>
            <a:ext cx="7524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3366"/>
                </a:solidFill>
                <a:latin typeface="Times New Roman"/>
              </a:rPr>
              <a:t>Prepreke unutarnjeg poduzetništ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. Poduzetnici su napravili nepotpunu analizu tržiš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2. U poduzeću je premalo ljudi s darom za poduzetništ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3. Ideje nisu u skladu sa strategijom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4. Poduzetnici podcjenjuju potrebna sredstv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5. Poduzetnici podcjenjuju potrebno vrije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6. Nespremnost da se napusti (neuspješna) zamisa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Pravila za razvijanje potrebnoga inovacijskog ozrač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. Potičite akcij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2. Uvijek iskoristite neslužbene sastanke i susre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3. Tolerirajte pogreške i iskoristite ih kao pouk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4. Budite ustrajni u prenošenju ideja na tržiš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5. Nagradite inovaciju zbog inovaci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6. Potičite neformalnu komunikacij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7. Znajte: idejama je potrebno vrijeme za “dozrijevanje”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8. Rasporedite osoblje u male skupine za projekte orijentirane na budućnos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9. Potičite zaposlene da izbjegavaju birokratske postupk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0. Nagradite i / ili promovirajte inovativno osobl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29840" y="148428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Odnos prema poduzetnicima u korporacij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3366"/>
                </a:solidFill>
                <a:uFillTx/>
                <a:latin typeface="Times New Roman"/>
              </a:rPr>
              <a:t>Predsjednik 3M -Lew Lehr (1983.)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Već niz godina korporacijska je struktura 3M oblikovana posebno za to da potakne mlade poduzetnike da preuzmu ideju i razviju je. Ako uspiju, mogu doći u situaciju da vode svoj vlastiti posao u okviru 3M. Poduzetnički je pristup... u samom središtu pozornosti pri oblikovanju 3M za razvoj.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3366"/>
                </a:solidFill>
                <a:uFillTx/>
                <a:latin typeface="Times New Roman"/>
              </a:rPr>
              <a:t>Predsjednik General Electrick -Jack Welch (1982.)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Pokušajmo reorganizirati GE ... kao skupinu malih poslova ... kako bismo imali snagu velikog poduzeća i djelovali agilno poput malog poduzeća.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3366"/>
                </a:solidFill>
                <a:uFillTx/>
                <a:latin typeface="Times New Roman"/>
              </a:rPr>
              <a:t>Gifford Pinchot III, 1985.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Unutarnji poduzetnici su oni koji znače razliku između uspjeha ili propasti poduzeća.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45840" y="1341360"/>
            <a:ext cx="8497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3366"/>
                </a:solidFill>
                <a:latin typeface="Times New Roman"/>
              </a:rPr>
              <a:t>Utjecaj poduzetništva na preporod korporac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. Korporacije koje potiču osobni rast privlače najbolje kadro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2. Izazov 1980-ih godina je u školovanju menadžera da bude voditelj, učitelj, men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3. Najbolji žele suvlasništv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4. Sve se više koriste ugovori o radu s trećim osoba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5. Humani način rukovođenja umjesto autoritarnog vodst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6. Zaposlenima omogućava zadovoljstvo da razvijaju svoju ideju bez rizika odlaska iz poduzeć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Čisti poduzetni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soba koja stvara svoje poslove iz sirovog materijala vlastitih ideja i upornog r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činje svoj posao iz nu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Menadž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soba koja uzima dobivene resurse – ljude, novac, strojeve i materijal i koordinira u proizvodnj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Dobar menadžer ima osobine poduzetn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ekima sustav ne omoguć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55280" y="2420640"/>
            <a:ext cx="8209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7. Ključna je kvaliteta, a s njom i prelazak s masovne proizvodnje na informacije o dobrima i usluga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8. Intuicija je u poslovanju važnija od brojki, a velika količina informacija bolje može zadovoljiti potrebe nove korporaci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9. Velika društva uče od malih kako da djeluju fleksibilno, potiču inovacije i izgrađuju duh korporaci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10. Poduzeća se lociraju u okolinu gdje žele živjeti stvaralački orijentirani ljudi, gdje je pravi ambijent i kvaliteta živo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Arial"/>
              </a:rPr>
              <a:t>Unutarnje poduzetništv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razvoj opće poduzetničke klime u postupcima menadžmenta (IBM, HP, Ikea, it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 puno autonomije, novi proizvodi ili poboljšanja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tpuno u okviru poduzeć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jelomično izvan (mješovita poduzeć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kćerka” potpuno izvan matičnog društ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odaja postojeće tehnologije na nova tržiš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timuliranje inovacija u postupcima, organizaciji, metoda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redstvo racionalizacije poduzeća, ugovorno davanje posl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redstvo smanjivanja zapošljavanja i razvijanja karijere menadžera izvan tvrtk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55640" y="1314000"/>
            <a:ext cx="79185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Times New Roman"/>
              </a:rPr>
              <a:t>Skupno poduzetništ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javljuje se s razvitkom timskog r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Više se postiže radom u skupina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kupni napor pojačava samopouzdanje pojedinaca i izaziva natjecateljski du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Kao u ratu ”zajedničke snage usmjeravaju na druga tržišt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314000"/>
            <a:ext cx="79182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Poduzetništvo u uslužnim djelatnostim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Usluge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–materijalne (ugostiteljstvo, popravci, isporuka vode i plina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- nematerijalne (znanost, obrazovanje, zdravstvo, umjetnost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3366"/>
                </a:solidFill>
                <a:latin typeface="Times New Roman"/>
              </a:rPr>
              <a:t>Dobro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 (nešto što se može dodirnuti, uskladištit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3366"/>
                </a:solidFill>
                <a:latin typeface="Times New Roman"/>
              </a:rPr>
              <a:t>Usluge 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(proces činjenj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Korisnik se pojavljuje i kao subjekt i kao objekt (aktivna uloga korisnik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Ekonomske specifičnosti ovise o odnosu između ponude i potražn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javljuju se nove discipline: ekonomika znanosti, ekonomika obrazovanja, ekonomika zdravst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90560" y="234900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 svim djelatnostima potrebna menadžerska struk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eke djelatnosti su u vlasništvu države (javni sek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Neke podliježu tržišnim kriterijim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Neke podliježu regulaci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Neke podliježu financiranju iz proraču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Djelatnosti koje imaju na strani ponude mali broj ponuđača, a na strani potražnje veliki broj korisnika (prirodni monopol- ceste, željeznice, isporuka vode i plina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Tendencija prelazaka pojedinih segmenata društvenih uslužnih djelatnosti iz javnog sektora u privatne institu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Zbog nedovoljne efikasnosti i racionalizacije dolazi do privatiza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1628280"/>
            <a:ext cx="8002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10 stvari o kojima  poduzetnik mora voditi račun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Jedna velika stv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Predstava za jednu osob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Jedna smrtonosna greš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Kratkoročno razmišljan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Osigurajte jednostav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Jednostavne proced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Pravila stras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Najprije klijenti, potom konkuren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Prodaja daje gotovin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Times New Roman"/>
              </a:rPr>
              <a:t>Gotovina je“kralj”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Times New Roman"/>
              </a:rPr>
              <a:t>Izvor: Dr. Jerome Katz, Saint Louis University, Dept. of Manage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8137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3366"/>
                </a:solidFill>
                <a:latin typeface="Times New Roman"/>
              </a:rPr>
              <a:t>Osobine poduzetnika s visokim postignući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Inovativnos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Razumno preuzimanje riz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amouvjere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poran r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stavljanje cilje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dgovor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74560" y="1412640"/>
            <a:ext cx="856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Rizik - najveća zapreka poduzetničkom ponašanj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omjene se ne poduzimaju iz straha od riz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ajveći rizik je biti nesposoban preuzeti rizi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Rizik se smanjuje izradom </a:t>
            </a:r>
            <a:r>
              <a:rPr b="1" i="1" lang="hr-HR" sz="2400" spc="-1" strike="noStrike">
                <a:solidFill>
                  <a:srgbClr val="003366"/>
                </a:solidFill>
                <a:latin typeface="Times New Roman"/>
              </a:rPr>
              <a:t>poduzetničkog projekt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Izrazi – poslovni (business) pl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- fizibility stud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e planiranje izaziva lutanje i gubljenje vreme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Može se i bez poslovnog plana postići veliki uspjeh, ali to može biti i zam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uzetnik više razmišlja o profitabilnosti nego o financijskoj stabilnosti (pad u financijsku krizu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19280" y="227628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Bitan pravodobni dotok novčanih sredst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Times New Roman"/>
              </a:rPr>
              <a:t>U slučaju pomanjkanja novca javlja se potreba za nabavom (prilično skupo) ukoliko se nije računalo i ukoliko nije za razvojne projek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toga mnogi menadžeri smatraju da je poslovni plan najvažniji doku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Važan je za poduzetnika, kreditora, dobavljača i kup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Mora se na kraju razvijati i sustav kontrole upravljanja poduzeć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i izradi najvažnija ideja i tržiš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Sadržaj ovisi o svrsi, vrsti djelatnosti, proizvodu (usluzi) i veličini projek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Važno je analizirati svoje osobne sposobnosti i slabos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trebno je znati odgovore na pit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Osnovni elementi poduzetničkog projekt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aslovna stran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vodne stran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daci o investitor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Opis i svrha poduzetničke ide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Analiza tržiš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ocjena riz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Tehničko-tehnološke značaj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Lokac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Kadrovski potencij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Ekonomski i financijski pokazatelj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Jamstveni dokumen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Zaključak i dodata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2692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Po</a:t>
            </a: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duzetništv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elatnost poduzet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ka usmjerena na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okretanje,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rganiziranje i inoviranje poslovanja poduzeća s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emeljnom svrhom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varanja novog tržiš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99640" y="2421000"/>
            <a:ext cx="769644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Poduzeć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mostalna gospodarska, tehnička i društvena cjel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 vlasništvu određenih subjek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izvodi dobra i usluge za potrebe tržiš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koristi se resursima i snosi poslovni rizi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eži ostvarivanju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dobit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i postizanju ekonomskih i društve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h cilje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640" y="1196640"/>
            <a:ext cx="77659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Teorijski pristup poduzetništv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Mogu se izdvojiti tri značajna teorijska pristupa:</a:t>
            </a:r>
            <a:r>
              <a:rPr b="1" i="1" lang="hr-H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Personalna psihološka teorij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Neoklasična ekonomska teor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Sociokulturni teorijski prist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va dva proučavaju poduzetnike kao slobodne tržišne subjekte koji djeluju prema svojim vlastitim predodžbama i ekonomskim motivi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Treći pristup definira odnos poduzetnika i ši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55640" y="134100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Personalna psihološka teorij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lazi od psiholoških karakteristika relevantnih za poduzetništvo i to: kreativnost, sposobnost predviđanja, prilagodljivost, karizmatična ličnost, sklonost riziku i neizvjesnosti i sl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o ovoj teoriji poduzetnici se definiraju kao izuzetni ljudi s posebnim psihološkim svojstvim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Tvrdi da se poduzetništvu čovjek ne može naučiti!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000" y="126828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hr-HR" sz="3200" spc="-1" strike="noStrike">
                <a:solidFill>
                  <a:srgbClr val="003366"/>
                </a:solidFill>
                <a:latin typeface="Times New Roman"/>
              </a:rPr>
              <a:t>2. Neoklasična ekonomska teorij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Dominantna u prvoj polovici 20. stoljeć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Proučava poduzetništvo sa resursnog aspek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či nas da poduzetnici teže maksimalizaciji profita najefikasnijim korištenjem i kombiniranjem faktora proizvodnj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Naglasak na racionalno ponašanje i potpunu informiranost o tržišnim uvjetima i prilika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0:07:59Z</dcterms:created>
  <dc:creator>User</dc:creator>
  <dc:description/>
  <dc:language>en-US</dc:language>
  <cp:lastModifiedBy>Bruno</cp:lastModifiedBy>
  <dcterms:modified xsi:type="dcterms:W3CDTF">2009-03-15T11:44:39Z</dcterms:modified>
  <cp:revision>9</cp:revision>
  <dc:subject/>
  <dc:title>Poduzetnički menadžment</dc:title>
</cp:coreProperties>
</file>