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55C-7053-44F7-BA39-54C52C8B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CB5-1CCB-425F-BE70-0971F296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DEF-6612-48ED-8939-B8CFFF02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93E-2ABE-4C63-911F-E75A42E5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172F-A5FA-412D-9673-2BD55856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D154-209A-4A23-B324-D215A07E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447-D508-47FD-98FD-1557CB00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7C42-4663-41E6-9A32-6A62A5E6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3C91-A290-4A55-BD82-4F6DF9D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7F6-0274-4309-8F28-B3105572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62B-3C87-4AA4-B266-CD8A028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CBF-8893-4D5C-A28B-15BA224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710E-8E16-44BE-852E-CEB540B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973E-D0F8-40B5-B085-03A494E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370A-505E-4EF5-8252-C6D95274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9135-CD2E-4D48-A5E0-19E3C8F4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1A8-B654-421D-AF7C-8A17291B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80C-F54C-4EA0-A5BE-F0B17D06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1DD-DA6B-4E50-8F97-6AE4129A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19B-6EF1-4866-BA6C-9E9C585C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7E3-369E-430B-A8D5-1AAEDA8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492-C257-4F78-82FD-6D1BC18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6A1-5931-4C7B-9A28-33A88DB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310-E3A8-4C8E-A2E5-EF655CD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D724-A213-419F-9B00-233D69EC7235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687-CF2D-4A9F-8C24-DB67E5092E80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79280" y="3573360"/>
            <a:ext cx="5473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Poduzetništvo i poduzetni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3. Sociokulturni teorijski pristup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klonost poduzetništvu je rezultat ispreplitanja socijalnih, kulturnih, ideoloških, religijskih, etičkih i društvenih odnos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istup analizira eksterno okruženje poduzetništva objašnjavajući poduzetništvo kao ekonomsku djelatnost ljudi u okviru zadanih sociokulturnih institu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81345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3366"/>
                </a:solidFill>
                <a:latin typeface="Times New Roman"/>
              </a:rPr>
              <a:t>Povijesni razvoj teorije poduzetništv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Sebastian Vauban (1633 -1707.)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učavao ekonomska pitanja; od novca, javnih financija, poljoprivrede i kolon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vorac je velikog broja novih ekonomskih ideja i pristupa progresivnih za ono vrije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Richard Cantillon (1680 -1734.)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kupuje po poznatim cijenama, a prodaje po nepoznat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280" y="2322000"/>
            <a:ext cx="8178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Adam Smith (1713 -1790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elativno rezerviran prema poduzetniku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Times New Roman"/>
              </a:rPr>
              <a:t>motiv poslovanja isključivo profit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Bogatstvo kao cilj nije pohvalan motiv, jer bogatstvo ne osigurava individualnu sreću i sigurnost.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Jean Baptiste Say (1767 -1832.)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efinira poduzetnika kao posrednika između vlasnika kapitala i najamnog radnik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kazuje na mogućnost odvajanja funkcije vlasništva od poduzetničke funk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2276640"/>
            <a:ext cx="80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John Stuart Mill (1806 -1873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vi je u Engleskoj uveo pojam poduzetnik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euzimanje rizika bila je prva karakteristika koja je poduzetnika diferencirala od menadžer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. Samuels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poduzima određene aktivnosti radi ostvarivanja maksimalnih ekonomskih učinaka što je i svrha postojanja poduzeća u uvjetima tržišne ekonom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2276640"/>
            <a:ext cx="7467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Josef Schumpeter (1883 -1950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tac teorije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vlaći razliku između vlasnika i poduzetnika, te poduzetnika i menadžer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angažira menadžera da se brine o tome kako će se inputi što racionalnije iskoristiti da bi se ostvarili što bolji i kvalitetniji output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može ali i ne mora biti neposredan inovator, ali on redovito potiče inovatorstvo i angažira inovacije u svojim pothvat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nije onaj koji snos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232056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O. Gil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nije samo osoba koja se mora uspješno nositi na tržištu nego stvarati i oblikovati tržiš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David Birch</a:t>
            </a:r>
            <a:r>
              <a:rPr b="0" i="1" lang="hr-HR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Američki ekonom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979. objavio rezultate istraživanja o zapošljavanju u Amer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1% zaposlenih u poduzećima koja imaju manje od 100 zaposle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smjerio pozornost na poduzetn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79930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eter Druck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o i Schumpeter stajališta je da poduzetnik nije kapitalist, investitor i poslodava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štvo nije osnivanje vlastit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štvo je stvaranje novog tržišta, novog potrošača, mobiliziranje tuđeg novca za ulaganje u područje više produktivnosti i veće dob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ri su ključna poduzetnička zadatk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izanje uspješnosti postojećeg poslo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nalaženje i aktiviranje novih potencija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iguravanje budućnosti poslo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92000" y="2349360"/>
            <a:ext cx="8028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Benedikt Kotruljević (oko 1400 -oko 1468)</a:t>
            </a: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458. godine pisao: "O trgovini i savršenom trgovcu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jegov "savršeni trgovac" u potpunosti odgovara pojmu modernog poduzetnika.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Blaž Lorković (1839 -1892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jistaknutiji hrvatski ekonomski pisac 19. stolj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Istaknuto djelovao u obrazovanju stručnjaka, te upoznavanju hrvatskih gospodarstvenika sa svjetskim ekonomskim kretanjima i znanstvenim postignućim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Zaključno o pojmovima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Poduzetništv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ložena i dinamična kategorija koja uključuje suzbijanje svake osrednjosti osiguravanjem dinamičnosti, fleksibilnosti, rentabilnosti i adaptibilnosti promjenama u okruženj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uvremeno poduzetništvo se nikad ne miri sa postojećim; ono teži postignuću i uspjehu, kreativnosti, inicijativi, preuzimanju rizika i odgovornosti, samostalnosti te razvija povjerenje u lj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Poduzetni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ima odgovornost i sposobnost poslovnog čovjeka, sposobnost brzog uočavanja problema i povoljnih prigoda za poduzetnički pothvat, koja raspolaže kapitalom i samostalno donosi odlu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osniva poduzeće, pokretač je i nositelj promjena, nadaren poslovnim duhom, opsjednut razvojnim nemirom i težnjom za postignućem, strateg, uzoran, pošten i otvoren, oprezan ali ne i bojažljiv, zna postaviti prave ciljeve ali i razumjeti signale iz oko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7696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o</a:t>
            </a: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duzetni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ba nadarena poslovnim duhom i rukovodnim sposobnostima, bogata znanjem o poslovima i ljudima, odlučna i spremna da preuzme rizik upravljanja poduzećem na temelju inovacija i stalnog razvo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rganizira, vodi i preuzima rizik poslovnih pothv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3366"/>
                </a:solidFill>
                <a:latin typeface="Times New Roman"/>
              </a:rPr>
              <a:t>Tipovi poduzetnika  (Sikavic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pionir</a:t>
            </a: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stupa u 1. fazi - stvaranja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nivač tvrtke, pun energije, ideja i odlučnosti, jaka ličnost koja se potpuno posvećuje posl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ma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željan u 2. fazi – rasta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nažna, autoritativna i ambiciozna osoba, vrlo dobro organizirana ali ima nedostatak vizije, ideja i inova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496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strate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imjeren u 3. fazi – diferencijacije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o je čovjek mislitelj, ispunjen željom za uspjeh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obro školovan, kreativan i dalekovidan te svjestan da ne može sam kontrolirati cijelo poduzeć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tren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željan u 4. fazi – razvitka i konsolidacije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Širi pozitivno emocionalno ozračje i motivira suradn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vom tipu poduzetnika nedostaje kreativnost, odlučnost i hrabrost pa postoji opasnost od birokratizacije i stagn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45840" y="1557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Uvjeti za razvitak poduzetništ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Ekonoms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će je roba koje ima svoju vrijed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fitabilnošću na dulji rok mjeri se vrijednost poduzeća, a ne njegovom nabavnom cijen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ociološ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Zbog društvene stabilnosti poduzetništva potrebno je osigurati socijalnu ravnotežu i praved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litič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litička sloboda uvjetuje razvitak poduzetniš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utralna država” -ne nameće pojam općeg do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avnom regulativom potiću se pozitivna ponašanja poduzetnika, a sprečavaju negativna (monopoli, pravna nesigurn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Individualno, korporacijsko (unutarnje) i skupno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Individualno poduzetniš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emelji se na tržišnoj konkurenciji malih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Jaka veza između vlasničke, upravljačke i rizične funk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elika poduzeća se divizionaliziraju i decentraliziraju u više ili manje samostalne cjeline u funkciji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 sklopu poduzeća razvija se unutarnja ekonomija, a time i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unutarnje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2394000"/>
            <a:ext cx="8459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Korporacijsko (unutarnje) poduzetniš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adrži organizacijske napore da s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veća inovativnost proizvod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akne preuzimanje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akne prijevremeno (preventivno) reagiranje na promjene u okoli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iječ je o načinu prilagodbe velikih korporacija d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zvijaju inovativnost i učinkovitost natjecanja na tržišt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boljšavaju moral, predanost i produktivnost zaposleni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iču bolje financijske rezul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manjuju poslovn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42100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elike korporacije nisu nužno poduzetničke, ali to ne znači da nisu inovativ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nutarnjim poduzetništvom razrađuje se organizacijska struktura, bude se inicijative i invetivnosti i primjenjuju nove tehnologij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zvija se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unutarnji poduzetnik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–zaposlenik u poduzeću ali ne i poslodava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 snosi puni rizik svoje aktivn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Dva pogleda na unutarnje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nutarnje poduzetništvo je smisao za inovacije koje se razvijaju unutar granica postojeće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jmom “intrapreneurship” opisuje se uspostavljanje malog izdvojenog (autonomnog) poslovanja unutar divova, kako bi nadareni zaposlenici slijedili svoje sn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(cilj je da pojedinci s poduzetničkim idejama, talentom i sposobnošću realiziraju zamisli a pri tome ostanu u korporacij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Razlozi za unutarnje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Brzo raste broj novih, sve sofisticiranijih i ujedno sve agresivnijih konkuren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nažan osjećaj nepovjerenja u tradicionalne metode vođenja poslova u većim poduzeć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ća napuštaju pojedinci koji su bili najbolji i najmaštovit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8642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Razvoj korporacijskog poduzetniš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Faza 1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tvaranje potrebne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oduzetničke okolin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za razvoj unutarnjeg poduzetniš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Faza 2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Stjecanje podrške sudionik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▪ 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uvjeriti zaposlen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da preuzmu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aktivnu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ulogu u vođenju vlastitih aktiv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▪ 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u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ž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ati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pomo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ć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(podršku) zaposlenima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pri određivanju i ostvarivanju unutarnje poduzetničkih projek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▪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ci razvijaju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akcijski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(poslovni)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lan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za stjecanje novih kupaca,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“prodaju” ideje rukovodstvu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, počinju pregovarati o budućem ostvarivanju projek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Koraci u prvoj fa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Odredite i opišite niz poduzetničkih ideja zanimljivih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odećem menadžment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Odredite odnos između korporacije i poduzetnik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Odredite visinu početnih sredstava i kasnijih investicija koje ste voljni ulož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Detaljno opišite očekivane rezultate pothv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Menadžment mora biti svjestan promijenje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rganizacijske klime i odnosa prema poduzetništv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Obavijestite zaposlene o program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Identificirajte potencijalne unutarnje poduzetn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Odaberite poduzetnike za drugu faz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Henry Ford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899 i 1901 – prva dva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daja trkaćih automobila –pro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903 – 40 god. i 28.000$ - svijet na kotač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60$ automob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Steven Jobs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976 udružio se sa Stevenom Wozniakom (App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onkurencija IBM-u i Helwett-Packar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čunalo za sve društvene sloje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1383840"/>
            <a:ext cx="8893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rednosti poduzetništva u velikoj korporac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Prednosti pri marketingu – imidž, distribucij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Tehnološka osnova – znanje, vlastita tehnologija, opr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Suradnici kojima vjerujemo – izgrađeni odnosi, poznavanje tržiš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Prednost postojeće mreže – ne postoji problem poslovnih tajni, korištenje informacij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Pilotski preokret i zajedničko korištenje proizvodni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pacite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Financije – za specijalne proizvode, akvizicije, leas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1457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Uloga unutarnjeg poduzet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 možemo ga odrediti, sam se odlučuje za takvu ulog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 sam cijelo vrijeme razvija ideju, neka je ne ispušta iz ruk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a nositelj ideje ima konačnu odluku i neka ima pravo postupiti prema vlastitoj prosudb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rebno je osigurati resurse za nove ideje, pokuse, pilot-projekte, testiranje tržiš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reba dopuštati riskiranje i krive procjene ili neuspjeh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a poduzetnik radi u malim inovacijskim segmentima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elike promjene raščlanite u više koraka (manji rizik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3840" y="2420640"/>
            <a:ext cx="838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Poduzetnika treba podržati pomoću “strpljivog novca” – nove se stvari ne razvijaju vrlo brzo, potrebno je vrije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Rukovodstvo poduzeća mora osigurati okolinu koja neće odbijati nove ide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9. Za inovaciju je potrebno često oblikovati skupinu – pojedini poduzetnik nema sva potrebna znanja i kapacite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0. Poduzetnik mora imati razne opcije. Neka slobodno traži unutarnje i vanjske resur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701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Arial"/>
              </a:rPr>
              <a:t>10 zapovijedi za unutarnjeg poduzetnik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1. Svakoga dana dođite na posao spremni da dobijete otka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2. Zaobiđite svaki zahtjev koji pokušava zaustaviti vaše sno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3. Učinite sve što je potrebno da vaš projekt uspije, bez obzira na opis vaših zadatak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4. Potražite ljude koji će vam pomoć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5. Slijedite intuiciju ljudi koje odaberete i radite samo s najbolji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G. Pinchot III, Intrapreneuring (1985.), str. 2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6. Dok je moguće, djelujte prikriven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7. Nikada se ne kladite o utrci ako u njoj ne sudjeluje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8. Zapamtite da je lakše moliti za opravdanje nego za dopušten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9. Budite otvoreni u odnosu prema svojim ciljevima, no i realni u određivanju načina za njihovo dostizan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10. Odajte priznanje vašim sponzori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G. Pinchot III, Intrapreneuring (1985.), str. 2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Uputs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Nikada sami sebi ne zadajte prevelike zadatke i pokušajte postići više nego što ste planirali (obećali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Ponašajte se kao da je riječ o vašem novcu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Potražite saveznike koji će vam pomoći, prvake među menadžeri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Izbjegavajte prerani publicitet, osim ako vam pomaže promovirati i prodavati proizv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Budite prvi koji će shvatiti kada je potrebno odabrati novo usmjerenje jedinice ili cijeli pokušaj zaustav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19280" y="1483920"/>
            <a:ext cx="75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Prepreke unutarnjeg poduzetništ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Poduzetnici su napravili nepotpunu analizu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U poduzeću je premalo ljudi s darom za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Ideje nisu u skladu sa strategijom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Poduzetnici podcjenjuju potrebna sredstv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Poduzetnici podcjenjuju potrebno vrije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Nespremnost da se napusti (neuspješna) zamisa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ravila za razvijanje potrebnoga inovacijskog ozrač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Potičite akcij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Uvijek iskoristite neslužbene sastanke i susre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Tolerirajte pogreške i iskoristite ih kao pouk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Budite ustrajni u prenošenju ideja na tržiš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Nagradite inovaciju zbog inovaci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Potičite neformalnu komunikacij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Znajte: idejama je potrebno vrijeme za “dozrijevanje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Rasporedite osoblje u male skupine za projekte orijentirane na budućno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9. Potičite zaposlene da izbjegavaju birokratske postupk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0. Nagradite i / ili promovirajte inovativno osobl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29840" y="148428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Odnos prema poduzetnicima u korporac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edsjednik 3M -Lew Lehr (1983.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Već niz godina korporacijska je struktura 3M oblikovana posebno za to da potakne mlade poduzetnike da preuzmu ideju i razviju je. Ako uspiju, mogu doći u situaciju da vode svoj vlastiti posao u okviru 3M. Poduzetnički je pristup... u samom središtu pozornosti pri oblikovanju 3M za razvoj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edsjednik General Electrick -Jack Welch (1982.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Pokušajmo reorganizirati GE ... kao skupinu malih poslova ... kako bismo imali snagu velikog poduzeća i djelovali agilno poput malog poduzeća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3366"/>
                </a:solidFill>
                <a:uFillTx/>
                <a:latin typeface="Times New Roman"/>
              </a:rPr>
              <a:t>Gifford Pinchot III, 1985.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Unutarnji poduzetnici su oni koji znače razliku između uspjeha ili propasti poduzeća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45840" y="134136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Utjecaj poduzetništva na preporod korpor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Korporacije koje potiču osobni rast privlače najbolje kadro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Izazov 1980-ih godina je u školovanju menadžera da bude voditelj, učitelj, men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Najbolji žele suvlasništv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Sve se više koriste ugovori o radu s trećim osob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Humani način rukovođenja umjesto autoritarnog vods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Zaposlenima omogućava zadovoljstvo da razvijaju svoju ideju bez rizika odlaska iz poduzeć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Čisti poduzetni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stvara svoje poslove iz sirovog materijala vlastitih ideja i upornog 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činje svoj posao iz nu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Menadž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uzima dobivene resurse – ljude, novac, strojeve i materijal i koordinira u proizvodn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obar menadžer ima osobine poduzet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ima sustav ne omoguć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280" y="2420640"/>
            <a:ext cx="820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Ključna je kvaliteta, a s njom i prelazak s masovne proizvodnje na informacije o dobrima i uslug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Intuicija je u poslovanju važnija od brojki, a velika količina informacija bolje može zadovoljiti potrebe nove korporaci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9. Velika društva uče od malih kako da djeluju fleksibilno, potiču inovacije i izgrađuju duh korporaci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0. Poduzeća se lociraju u okolinu gdje žele živjeti stvaralački orijentirani ljudi, gdje je pravi ambijent i kvaliteta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Arial"/>
              </a:rPr>
              <a:t>Unutarnje poduzetništv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azvoj opće poduzetničke klime u postupcima menadžmenta (IBM, HP, Ikea, it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 puno autonomije, novi proizvodi ili poboljšanj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tpuno u okviru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jelomično izvan (mješovita poduzeć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ćerka” potpuno izvan matičnog društ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daja postojeće tehnologije na nova tržiš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muliranje inovacija u postupcima, organizaciji, metod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redstvo racionalizacije poduzeća, ugovorno davanje posl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redstvo smanjivanja zapošljavanja i razvijanja karijere menadžera izvan tvrt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1314000"/>
            <a:ext cx="79185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Skupno poduzetniš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javljuje se s razvitkom timskog 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iše se postiže radom u skupin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kupni napor pojačava samopouzdanje pojedinaca i izaziva natjecateljski du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o u ratu ”zajedničke snage usmjeravaju na druga tržišt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314000"/>
            <a:ext cx="79182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štvo u uslužnim djelatnostim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Uslug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–materijalne (ugostiteljstvo, popravci, isporuka vode i plina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nematerijalne (znanost, obrazovanje, zdravstvo, umjetnost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66"/>
                </a:solidFill>
                <a:latin typeface="Times New Roman"/>
              </a:rPr>
              <a:t>Dobro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(nešto što se može dodirnuti, uskladištit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66"/>
                </a:solidFill>
                <a:latin typeface="Times New Roman"/>
              </a:rPr>
              <a:t>Usluge 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(proces činjen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orisnik se pojavljuje i kao subjekt i kao objekt (aktivna uloga korisni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Ekonomske specifičnosti ovise o odnosu između ponude i potraž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javljuju se nove discipline: ekonomika znanosti, ekonomika obrazovanja, ekonomika zdravs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90560" y="234900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 svim djelatnostima potrebna menadžerska 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e djelatnosti su u vlasništvu države (javni sek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ke podliježu tržišnim kriterijim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ke podliježu regulaci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ke podliježu financiranju iz proraču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jelatnosti koje imaju na strani ponude mali broj ponuđača, a na strani potražnje veliki broj korisnika (prirodni monopol- ceste, željeznice, isporuka vode i plina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endencija prelazaka pojedinih segmenata društvenih uslužnih djelatnosti iz javnog sektora u privatne institu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Zbog nedovoljne efikasnosti i racionalizacije dolazi do privat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8002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10 stvari o kojima  poduzetnik mora voditi račun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Jedna velika stv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edstava za jednu osob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Jedna smrtonosna greš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Kratkoročno razmišlj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Osigurajte jednostav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Jednostavne proced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avila stra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Najprije klijenti, potom konkur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odaja daje gotovin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Gotovina je“kralj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Times New Roman"/>
              </a:rPr>
              <a:t>Izvor: Dr. Jerome Katz, Saint Louis University, Dept. of Manag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813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Osobine poduzetnika s visokim postignuć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Inovativnos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zumno preuzimanje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amouvjere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poran r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stavljanje cilje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dgovor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74560" y="141264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Rizik - najveća zapreka poduzetničkom ponašanj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mjene se ne poduzimaju iz straha od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jveći rizik je biti nesposoban preuzet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izik se smanjuje izradom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poduzetničkog projek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Izrazi – poslovni (business) pl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- fizibility stud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 planiranje izaziva lutanje i gubljenje vrem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Može se i bez poslovnog plana postići veliki uspjeh, ali to može biti i zam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više razmišlja o profitabilnosti nego o financijskoj stabilnosti (pad u financijsku kriz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9280" y="227628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Bitan pravodobni dotok novčanih sredst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U slučaju pomanjkanja novca javlja se potreba za nabavom (prilično skupo) ukoliko se nije računalo i ukoliko nije za razvojne projek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toga mnogi menadžeri smatraju da je poslovni plan najvažniji dok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ažan je za poduzetnika, kreditora, dobavljača i kup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Mora se na kraju razvijati i sustav kontrole upravljanja poduzeć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i izradi najvažnija ideja i tržiš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adržaj ovisi o svrsi, vrsti djelatnosti, proizvodu (usluzi) i veličini projek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ažno je analizirati svoje osobne sposobnosti i slab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rebno je znati odgovore na 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Osnovni elementi poduzetničkog projek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slovna stra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vodne stran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aci o investito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pis i svrha poduzetničke ide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Analiza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cjena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ehničko-tehnološke značaj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Loka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drovski potencij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Ekonomski i financijski pokazatel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Jamstveni doku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Zaključak i dodat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o</a:t>
            </a: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duzetništv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elatnost poduzet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ka usmjerena na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okretanje,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rganiziranje i inoviranje poslovanja poduzeća s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eljnom svrhom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varanja novog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2421000"/>
            <a:ext cx="769644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ć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mostalna gospodarska, tehnička i društvena cjel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 vlasništvu određenih subjek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izvodi dobra i usluge za potrebe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oristi se resursima i snosi poslovn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ži ostvarivanju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dobit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 postizanju ekonomskih i društv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h cilje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7659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Teorijski pristup poduzetništv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Mogu se izdvojiti tri značajna teorijska pristupa: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ersonalna psihološka teorij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Neoklasična ekonomska teo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Sociokulturni teorijski prist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va dva proučavaju poduzetnike kao slobodne tržišne subjekte koji djeluju prema svojim vlastitim predodžbama i ekonomskim motiv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reći pristup definira odnos poduzetnika i š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ersonalna psihološka teorij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lazi od psiholoških karakteristika relevantnih za poduzetništvo i to: kreativnost, sposobnost predviđanja, prilagodljivost, karizmatična ličnost, sklonost riziku i neizvjesnosti i s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 ovoj teoriji poduzetnici se definiraju kao izuzetni ljudi s posebnim psihološkim svojstvim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vrdi da se poduzetništvu čovjek ne može naučiti!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26828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2. Neoklasična ekonomska teorij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ominantna u prvoj polovici 20. stoljeć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učava poduzetništvo sa resursnog aspek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či nas da poduzetnici teže maksimalizaciji profita najefikasnijim korištenjem i kombiniranjem faktora proizvodnj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glasak na racionalno ponašanje i potpunu informiranost o tržišnim uvjetima i prilik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0:07:59Z</dcterms:created>
  <dc:creator>User</dc:creator>
  <dc:description/>
  <dc:language>en-US</dc:language>
  <cp:lastModifiedBy>Bruno</cp:lastModifiedBy>
  <dcterms:modified xsi:type="dcterms:W3CDTF">2009-03-15T11:44:39Z</dcterms:modified>
  <cp:revision>9</cp:revision>
  <dc:subject/>
  <dc:title>Poduzetnički menadžment</dc:title>
</cp:coreProperties>
</file>