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DC39-8011-4752-81E9-A38A2BE9AD75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4E6E-A854-45A3-92B9-4DAD7D586712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57AC-BCFF-453B-9C31-492EDFDAD342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265F-F1A7-44EE-84E5-98DCA9AD473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BD73-2F06-4FA0-98CB-502D8DF7CFD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1CD2-C6DD-4FB2-8714-49C8BE75C58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9A5D-CCF8-422D-8E23-FC702532485B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479840"/>
            <a:ext cx="556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HTML -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oristi se za dizajniranje hipertekst dokumenata koji se učitani u  WWW pretraživač prikazuju kao formatirana WWW stranica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teks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u dokumenti nelinearne strukture koji sadrž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veze ili pokazivače</a:t>
            </a:r>
            <a:r>
              <a:rPr b="0" i="1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kov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do drugih dokumenata ili do određenih dijelova dokumenata.Hipertekst osim teksta može sadržavati slike, zvučne i video zapise, te se naziva 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hipermedij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WW stranic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 HTML dokument, odnosno datoteka koja ima nastavak</a:t>
            </a:r>
            <a:r>
              <a:rPr b="0" lang="hr-H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htm ili .html. Uz pojam Web stranice često se pojavljuje pojam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mjes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Web si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koji podrazumijeva cijeli niz  povezanih dokume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bog velike količine podataka na Webu, pojavila se potreba za stvaranjem stranice koje ukazuju na druge stranice povezane zajedničkom tematikom. Takve se stranice nazivaju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etastran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li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zal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eks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, a predstavljaju mjesta od kojih treba krenuti da bi se došlo do informacija o nekoj temi na We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6F0-C614-4BCD-874C-B7C3145A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6E5-C49D-4BC7-9FA9-0C41384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469-846C-4C10-A0EE-FB871764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5B1-59F0-4AA7-9349-9BD6B473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B177-E49B-4E33-B7A8-D772298A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E737-62E4-43BD-8E68-1E2EF27B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4163-7A2B-4682-90C9-EAEEE2E0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8CCD-438E-496A-A8EF-21467C7E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4BF3-718F-4CE7-B199-665C4217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195-EDF2-4A22-880D-9E9AC017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8C06-5021-45B6-BE58-6B92B65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8D9-9F21-43D4-AD3D-FB2DB835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311B-D952-4934-937B-07E1621A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1CED-D3B6-42BB-92EB-1C8B2A12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58E7-03B6-4C3B-9818-8880C54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A2C5-C9E2-4CD0-BDE8-EAC72D9E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58A3-74EC-4794-A83D-72C6272E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04B-7574-4D34-8CDD-B57B7225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52A-0DC0-4EE3-85E4-A1D9D48F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1A4-4427-4AA8-9B49-58D923AC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F6C-56BD-4481-8150-55156807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CF3-76F4-4B1E-B82F-9FAADA4D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A9C-DF2E-4E60-A444-A6D161FA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AAF-5E84-4D1B-9892-7F90DBAD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5501-42E9-4497-843B-0E73C73A4311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C480-5226-4A25-9F4D-FCD9FB9B0DEC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 INFORMACIJSKI SUSTAV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66D6-8DEE-480D-BEA2-FBFFA41EBD09}" type="slidenum">
              <a:t>1</a:t>
            </a:fld>
          </a:p>
        </p:txBody>
      </p:sp>
    </p:spTree>
  </p:cSld>
  <p:transition spd="slow" advTm="121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3564000" cy="6858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2997360"/>
            <a:ext cx="1800360" cy="1511280"/>
          </a:xfrm>
          <a:prstGeom prst="ellipse">
            <a:avLst/>
          </a:prstGeom>
          <a:solidFill>
            <a:srgbClr val="c58b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l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vi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5084640"/>
            <a:ext cx="1366920" cy="122400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3213000"/>
            <a:ext cx="1368720" cy="12956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A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1341360"/>
            <a:ext cx="1224000" cy="10778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3213000"/>
            <a:ext cx="1512720" cy="1225800"/>
          </a:xfrm>
          <a:prstGeom prst="ellipse">
            <a:avLst/>
          </a:prstGeom>
          <a:solidFill>
            <a:srgbClr val="c58b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3789360"/>
            <a:ext cx="1297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0" idx="6"/>
            <a:endCxn id="128" idx="2"/>
          </p:cNvCxnSpPr>
          <p:nvPr/>
        </p:nvCxnSpPr>
        <p:spPr>
          <a:xfrm>
            <a:off x="5599080" y="3825360"/>
            <a:ext cx="135000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6"/>
            <a:endCxn id="129" idx="2"/>
          </p:cNvCxnSpPr>
          <p:nvPr/>
        </p:nvCxnSpPr>
        <p:spPr>
          <a:xfrm flipV="1">
            <a:off x="5599080" y="1880640"/>
            <a:ext cx="1278720" cy="1945080"/>
          </a:xfrm>
          <a:prstGeom prst="bentConnector3">
            <a:avLst>
              <a:gd name="adj1" fmla="val 49169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30" idx="6"/>
            <a:endCxn id="127" idx="2"/>
          </p:cNvCxnSpPr>
          <p:nvPr/>
        </p:nvCxnSpPr>
        <p:spPr>
          <a:xfrm>
            <a:off x="5598720" y="3825360"/>
            <a:ext cx="1421640" cy="1872360"/>
          </a:xfrm>
          <a:prstGeom prst="bentConnector3">
            <a:avLst>
              <a:gd name="adj1" fmla="val 44022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84360" y="623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R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4941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ĐUOVIS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6308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JSKI SU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413-EB18-4CDE-9291-8321A008385E}" type="slidenum">
              <a:t>10</a:t>
            </a:fld>
          </a:p>
        </p:txBody>
      </p:sp>
    </p:spTree>
  </p:cSld>
  <p:transition spd="slow" advTm="121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4920" y="609480"/>
            <a:ext cx="8330760" cy="6818040"/>
            <a:chOff x="304920" y="609480"/>
            <a:chExt cx="8330760" cy="681804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04920" y="609480"/>
              <a:ext cx="8330760" cy="42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572640" y="7060320"/>
              <a:ext cx="15926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909880" y="541008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 – uloga u posl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B8B-CC0A-4A15-AA26-740CF33B2C02}" type="slidenum">
              <a:t>11</a:t>
            </a:fld>
          </a:p>
        </p:txBody>
      </p:sp>
    </p:spTree>
  </p:cSld>
  <p:transition spd="slow" advTm="121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4000" y="1490760"/>
            <a:ext cx="8640360" cy="5366880"/>
            <a:chOff x="324000" y="1490760"/>
            <a:chExt cx="8640360" cy="5366880"/>
          </a:xfrm>
        </p:grpSpPr>
        <p:sp>
          <p:nvSpPr>
            <p:cNvPr id="147" name=""/>
            <p:cNvSpPr/>
            <p:nvPr/>
          </p:nvSpPr>
          <p:spPr>
            <a:xfrm>
              <a:off x="3628080" y="6492240"/>
              <a:ext cx="149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324000" y="1490760"/>
              <a:ext cx="8640360" cy="299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2545560" y="49528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oblikovanje proc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F43-4A7C-43D5-B10F-4EA71A59FF32}" type="slidenum">
              <a:t>12</a:t>
            </a:fld>
          </a:p>
        </p:txBody>
      </p:sp>
    </p:spTree>
  </p:cSld>
  <p:transition spd="slow" advTm="61000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cijski sustavi u poslovanj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lovni sustav, tvrtku (poduzeće), dijelimo na 3 podsustav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ršni –  izvode se poslovni proce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ravljači – upravlja se poslovanjem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jski  - pripremaju se informacije za upravlj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oz tvrtku i oko nje odvijaju se  tokovi: materija, energije, financijskih sredstava, ljudskih resursa i informaci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jski podsustav opskrbljuje upravljački informacijama koje prate tokove resu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434-E282-444F-A3A3-341AD5DEB9D2}" type="slidenum">
              <a:t>13</a:t>
            </a:fld>
          </a:p>
        </p:txBody>
      </p:sp>
    </p:spTree>
  </p:cSld>
  <p:transition spd="slow" advTm="121000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228600"/>
            <a:ext cx="7621200" cy="5476680"/>
            <a:chOff x="838080" y="228600"/>
            <a:chExt cx="7621200" cy="5476680"/>
          </a:xfrm>
        </p:grpSpPr>
        <p:sp>
          <p:nvSpPr>
            <p:cNvPr id="155" name=""/>
            <p:cNvSpPr/>
            <p:nvPr/>
          </p:nvSpPr>
          <p:spPr>
            <a:xfrm>
              <a:off x="1680120" y="228600"/>
              <a:ext cx="36504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POSLOVNI SUSTA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79960" y="709920"/>
              <a:ext cx="6117120" cy="38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616920" y="2452320"/>
              <a:ext cx="900000" cy="248400"/>
            </a:xfrm>
            <a:prstGeom prst="rightArrow">
              <a:avLst>
                <a:gd name="adj1" fmla="val 50000"/>
                <a:gd name="adj2" fmla="val 9058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7720" y="1622880"/>
              <a:ext cx="3245400" cy="84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13240" y="3398400"/>
              <a:ext cx="2056320" cy="262440"/>
            </a:xfrm>
            <a:prstGeom prst="rightArrow">
              <a:avLst>
                <a:gd name="adj1" fmla="val 50000"/>
                <a:gd name="adj2" fmla="val 19588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4559400" y="2827440"/>
              <a:ext cx="900000" cy="248400"/>
            </a:xfrm>
            <a:prstGeom prst="rightArrow">
              <a:avLst>
                <a:gd name="adj1" fmla="val 50000"/>
                <a:gd name="adj2" fmla="val 905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26440" y="3040920"/>
              <a:ext cx="3245040" cy="84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5240" y="1726560"/>
              <a:ext cx="29444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Upravljanje </a:t>
              </a:r>
              <a:br>
                <a:rPr sz="1800"/>
              </a:b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poslovnim sustav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04200" y="3112200"/>
              <a:ext cx="3128400" cy="75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Izvođenje </a:t>
              </a:r>
              <a:br>
                <a:rPr sz="1800"/>
              </a:b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poslovnog proc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0280" y="753480"/>
              <a:ext cx="3890880" cy="46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INFORMACIJSKI SUSTA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0680" y="1166040"/>
              <a:ext cx="5475600" cy="320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3341880"/>
              <a:ext cx="2056320" cy="262440"/>
            </a:xfrm>
            <a:prstGeom prst="rightArrow">
              <a:avLst>
                <a:gd name="adj1" fmla="val 50000"/>
                <a:gd name="adj2" fmla="val 19588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2629440"/>
              <a:ext cx="962640" cy="232200"/>
            </a:xfrm>
            <a:prstGeom prst="rightArrow">
              <a:avLst>
                <a:gd name="adj1" fmla="val 50000"/>
                <a:gd name="adj2" fmla="val 103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6280" y="2666880"/>
              <a:ext cx="962640" cy="232200"/>
            </a:xfrm>
            <a:prstGeom prst="rightArrow">
              <a:avLst>
                <a:gd name="adj1" fmla="val 50000"/>
                <a:gd name="adj2" fmla="val 103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99760" y="4899240"/>
              <a:ext cx="962640" cy="232200"/>
            </a:xfrm>
            <a:prstGeom prst="rightArrow">
              <a:avLst>
                <a:gd name="adj1" fmla="val 50000"/>
                <a:gd name="adj2" fmla="val 103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14280" y="4880160"/>
              <a:ext cx="962640" cy="232560"/>
            </a:xfrm>
            <a:prstGeom prst="rightArrow">
              <a:avLst>
                <a:gd name="adj1" fmla="val 50000"/>
                <a:gd name="adj2" fmla="val 1034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67360" y="4899240"/>
              <a:ext cx="962640" cy="232200"/>
            </a:xfrm>
            <a:prstGeom prst="rightArrow">
              <a:avLst>
                <a:gd name="adj1" fmla="val 50000"/>
                <a:gd name="adj2" fmla="val 10364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39120" y="5123880"/>
              <a:ext cx="72201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Informacijski tok            upravljački tok                materijalni t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403280" y="601992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 je podsustav poslovnog sust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E57-FB78-4642-A473-34683989707A}" type="slidenum">
              <a:t>14</a:t>
            </a:fld>
          </a:p>
        </p:txBody>
      </p:sp>
    </p:spTree>
  </p:cSld>
  <p:transition spd="slow" advTm="121000"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4400" y="152280"/>
            <a:ext cx="7632360" cy="7224480"/>
            <a:chOff x="914400" y="152280"/>
            <a:chExt cx="7632360" cy="72244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914400" y="152280"/>
              <a:ext cx="7632360" cy="59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427920" y="7010640"/>
              <a:ext cx="2240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538000" y="624852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rganizacijske prom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4C5-22D1-4EA0-A32C-B2481618196A}" type="slidenum">
              <a:t>15</a:t>
            </a:fld>
          </a:p>
        </p:txBody>
      </p:sp>
    </p:spTree>
  </p:cSld>
  <p:transition spd="slow" advTm="121000">
    <p:comb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Što je informacijski sustav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je skup opreme, ljudi, metoda i postupaka u kome se podaci pretvaraju u inform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poslovnom se procesu odvijaju aktivnosti u skladu  s osnovnom funkcijom poduzeć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jena IT – omogućuje veću učinkovitost ljudi u tim procesima, te omogućuje automatizaciju i upravlj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lovni procesi se stalno usavršavaju i reorganiziraj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4AA-4643-4243-8B2E-A77E334C3AC6}" type="slidenum">
              <a:t>16</a:t>
            </a:fld>
          </a:p>
        </p:txBody>
      </p:sp>
    </p:spTree>
  </p:cSld>
  <p:transition spd="slow" advTm="121000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4920" y="152280"/>
            <a:ext cx="8610120" cy="6919560"/>
            <a:chOff x="304920" y="152280"/>
            <a:chExt cx="8610120" cy="6919560"/>
          </a:xfrm>
        </p:grpSpPr>
        <p:sp>
          <p:nvSpPr>
            <p:cNvPr id="186" name=""/>
            <p:cNvSpPr/>
            <p:nvPr/>
          </p:nvSpPr>
          <p:spPr>
            <a:xfrm>
              <a:off x="3515760" y="6734520"/>
              <a:ext cx="173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04920" y="152280"/>
              <a:ext cx="8610120" cy="66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BAB-991E-4A31-B2E0-DCF2BDD498EA}" type="slidenum">
              <a:t>17</a:t>
            </a:fld>
          </a:p>
        </p:txBody>
      </p:sp>
    </p:spTree>
  </p:cSld>
  <p:transition spd="slow" advTm="121000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ravljanje poslovnim sustav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vija se donošenjem  kvalitetnih odluka, samo kada se ima potpunih i pouzdanih, pravodobno pribavljenih informaci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lovni sustav uspostavlja i održava veze s okružj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 poslovnom sustavu nastaju unutarnji podaci, a u okružju vanjs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 su vrste važna pretpostavka za oblikovanje kvalitetnih informaci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9AD-01B1-4994-A69A-41878B7C10BB}" type="slidenum">
              <a:t>18</a:t>
            </a:fld>
          </a:p>
        </p:txBody>
      </p:sp>
    </p:spTree>
  </p:cSld>
  <p:transition spd="slow" advTm="121000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ravljanje poslovnim sustavom – odluč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poduzećima postoje tri razine odluči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vno upravljanje – provode niži menadžeri, vezano za dnevne poslovne aktivnost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tičko upravljanje – provode srednji menadžeri vezano za aktivnosti unutar dužeg vremenskog razdobl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ško upravljanje – provode najviši menadžeri,  dugoročne odluke vezane za ključne poslovne funkcije. Koriste agregirane inform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A88-27D9-4A02-9429-998552C66EA1}" type="slidenum">
              <a:t>19</a:t>
            </a:fld>
          </a:p>
        </p:txBody>
      </p:sp>
    </p:spTree>
  </p:cSld>
  <p:transition spd="slow" advTm="121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rtke sustavno obrađuju podatke potrebne odlučivanju, upravljačkom informacijskom sustav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 poslovni sustavi s više poslovnih procesa kojim stalno treba upravl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-i su zapravo sustavi obrade informacija potrebnih u upravljanim poslovnim proces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B1C-D53C-43BE-8F94-5B9A7BB3C705}" type="slidenum">
              <a:t>2</a:t>
            </a:fld>
          </a:p>
        </p:txBody>
      </p:sp>
    </p:spTree>
  </p:cSld>
  <p:transition spd="slow" advTm="121000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ije su podloga poslovnih odluka, odlukama se upravlja nekim sustav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novni koraci procesa odlučiv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oznavanje proble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alaženje i ocjenjivanje mogućih rješe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bor odgovarajućeg rješe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b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674-4C0A-421A-9A46-DCA1C868892A}" type="slidenum">
              <a:t>20</a:t>
            </a:fld>
          </a:p>
        </p:txBody>
      </p:sp>
    </p:spTree>
  </p:cSld>
  <p:transition spd="slow" advTm="121000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981080"/>
            <a:ext cx="60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33520" y="2133720"/>
            <a:ext cx="8208360" cy="2520360"/>
            <a:chOff x="533520" y="2133720"/>
            <a:chExt cx="8208360" cy="2520360"/>
          </a:xfrm>
        </p:grpSpPr>
        <p:sp>
          <p:nvSpPr>
            <p:cNvPr id="197" name=""/>
            <p:cNvSpPr/>
            <p:nvPr/>
          </p:nvSpPr>
          <p:spPr>
            <a:xfrm>
              <a:off x="533520" y="2133720"/>
              <a:ext cx="121608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da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77560" y="2133720"/>
              <a:ext cx="136800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73880" y="2133720"/>
              <a:ext cx="136800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dlu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5360" y="2133720"/>
              <a:ext cx="121608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čuna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1680" y="2133720"/>
              <a:ext cx="1216080" cy="135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nadž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49600" y="271800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21800" y="271800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5920" y="271800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18120" y="271800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58240" y="3485880"/>
              <a:ext cx="0" cy="116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153800" y="4654080"/>
              <a:ext cx="690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154160" y="3485880"/>
              <a:ext cx="0" cy="116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30440" y="4952880"/>
            <a:ext cx="80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eriranj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formacij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 donošenje poslovne odluk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867-095E-4A29-B25A-D162FEADEAB6}" type="slidenum">
              <a:t>21</a:t>
            </a:fld>
          </a:p>
        </p:txBody>
      </p:sp>
    </p:spTree>
  </p:cSld>
  <p:transition spd="slow" advTm="121000">
    <p:comb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ješavanje problem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oznavanj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aja određenog, inače perspektivnog proizvoda op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izvod donosi poduzeću gubit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alaženje i ocjenjivanje mogućih rješenja – alterna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poboljšati marketing proizvo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preoblikovati proizvo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napustiti proizvodnju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159-6263-461F-95A6-9779841C0BC9}" type="slidenum">
              <a:t>22</a:t>
            </a:fld>
          </a:p>
        </p:txBody>
      </p:sp>
    </p:spTree>
  </p:cSld>
  <p:transition spd="slow" advTm="121000"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ješavanje problem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abir mogućeg rješe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pitivanje tržišta zbog preoblikovanja proizvoda i njegove prodaje pod drugim naziv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b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ljnije istraživanje tržišta i ukusa kupaca, preoblikovanje proizvoda u skladu s ukusom kupa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je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jski pokazatel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kacija problema - potreban novi ciklus odlučivan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E05-213E-4F94-B896-0FE406CA894A}" type="slidenum">
              <a:t>23</a:t>
            </a:fld>
          </a:p>
        </p:txBody>
      </p:sp>
    </p:spTree>
  </p:cSld>
  <p:transition spd="slow" advTm="121000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jela informacijskog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jski sustav je moguće promatrati kr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v za obradu transakci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v za potporu odlučivanju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v za komunikaciju, suradnju i individualni r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E73-9213-4C34-A66D-308E8D1C4148}" type="slidenum">
              <a:t>24</a:t>
            </a:fld>
          </a:p>
        </p:txBody>
      </p:sp>
    </p:spTree>
  </p:cSld>
  <p:transition spd="slow" advTm="121000"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jela informacijskog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v za obradu transak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ža potporu tekućem odvijanju poslovnog procesa – obradi transakcija (poslovnih promjen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je operativni sustav, odnosno oblikuje informacije za potrebe operativnog menedžme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i evidencije - evidentira zapise o svakoj transakciji te sve unosi u bazu podata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daje i generira raznovrsne dokumente za potrebe poslovnih proce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ještava, odnosno kontrolira sve poslovne proc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4E0-DB82-4890-84B2-427B6C111EF2}" type="slidenum">
              <a:t>25</a:t>
            </a:fld>
          </a:p>
        </p:txBody>
      </p:sp>
    </p:spTree>
  </p:cSld>
  <p:transition spd="slow" advTm="121000"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jela informacijskog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v za obradu transakcija kori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ži i srednji menadžer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že i srednje poslovodstv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 upravljački izvještajni sustav, koji sadrži unaprijed definirana izvješća (tjedna, mjesečna) i prema potre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28D-5D6A-4174-9661-513BBC04264D}" type="slidenum">
              <a:t>26</a:t>
            </a:fld>
          </a:p>
        </p:txBody>
      </p:sp>
    </p:spTree>
  </p:cSld>
  <p:transition spd="slow" advTm="121000"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jela informacijskog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stav za potporu odlučivanju Decision Support System – D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đuje informacije iz različitih izvora (unutarnjih i vanjskih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uža potporu strukturiranom, polustrukturiranom procesima odlučivan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strukturirano ili slabo strukturiranom procesu odlučivan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lagodljiv je, prihvaća brojne zahtje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nostavno se kori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50A-C26A-4F83-AE9E-E82E26549D13}" type="slidenum">
              <a:t>27</a:t>
            </a:fld>
          </a:p>
        </p:txBody>
      </p:sp>
    </p:spTree>
  </p:cSld>
  <p:transition spd="slow" advTm="121000"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za potporu odluči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kturirano odlučivanje podrazumijeva poznate postupke odlučivanja, koji se mogu  “programira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lustrukturirano odlučivanje podrazumijeva odlučivanje u kome se koriste  stečena znanja i iskustva (npr. ekspertni susta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strukturirano odlučivanje podrazumijeva odlučivanje u kome odluke donose osoba na osnovi relevantnih informac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839-BB71-4046-AA75-8F7B0BB3AEF4}" type="slidenum">
              <a:t>28</a:t>
            </a:fld>
          </a:p>
        </p:txBody>
      </p:sp>
    </p:spTree>
  </p:cSld>
  <p:transition spd="slow" advTm="121000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v za potporu odlučivanju koris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ladišta podatak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AP ala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darenje podatak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cijsko modeliranje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pertne sust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ECA-699D-4840-B802-8143D2A0A0D3}" type="slidenum">
              <a:t>29</a:t>
            </a:fld>
          </a:p>
        </p:txBody>
      </p:sp>
    </p:spTree>
  </p:cSld>
  <p:transition spd="slow" advTm="121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-i se grade brojnim metodologijama, metoda krajnjeg korisnika aktivno uključuje korisnike koji ga razvijaju s profesionalnim informatičar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jnji korisnici sudjeluju u izradi i učinkovitih programskih alata kojim se rješavaju svakodnevni probl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ti su bitni čimbenici efikasnosti funkcioniranja IS-a kod rješavanja gospodarskih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0AC-59F1-4A57-A6E3-D1DFC1398788}" type="slidenum">
              <a:t>3</a:t>
            </a:fld>
          </a:p>
        </p:txBody>
      </p:sp>
    </p:spTree>
  </p:cSld>
  <p:transition spd="slow" advTm="121000">
    <p:comb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v za komunikaciju, suradnju i individualni rad, uredsko poslo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 njemu se odvijaju komunikacije sredstvima najnovije tehnologije i al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stav pruža neophodnu potporu suradnji u skupinama kod skupnog odlučivanju i međusobnog komuniciranja članova gru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uža i potporu radu pojedinca koji tako postiže bolja učinkovito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ravlja bezbrojnim sadržajima (dokumentima) i njihovom brzom pretraživanju u bazama i na  Web-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533-2D47-4128-B065-EFE1331BD7F9}" type="slidenum">
              <a:t>30</a:t>
            </a:fld>
          </a:p>
        </p:txBody>
      </p:sp>
    </p:spTree>
  </p:cSld>
  <p:transition spd="slow" advTm="121000">
    <p:comb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stav za komunikaciju, suradnju i individualni rad najčešće je moderan u kome su sve tehnologije integrirane u jednu cjelinu. To su u prvom red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427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racle Collaboration Sui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427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crosoft Exchange Serve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427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BM Lotu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D9D-3982-4E74-8137-E80F4AC676C5}" type="slidenum">
              <a:t>31</a:t>
            </a:fld>
          </a:p>
        </p:txBody>
      </p:sp>
    </p:spTree>
  </p:cSld>
  <p:transition spd="slow" advTm="121000">
    <p:comb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kcijski informacijski sustav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žaju potpora poslovanju odjela i služb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e javlja kada se poslovni procesi odvijaju u različitim odjelima a trebaju iste poda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poslovnom procesu prodaje sudjeluje više službi, menedžment prati samo njezine ostvarene rezul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993-1EDE-468C-91B2-9AA01B799AC3}" type="slidenum">
              <a:t>32</a:t>
            </a:fld>
          </a:p>
        </p:txBody>
      </p:sp>
    </p:spTree>
  </p:cSld>
  <p:transition spd="slow" advTm="121000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kcijsk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avljanja proizvodnjom i logistik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om i prodajo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čunovodstvom i financija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avljanje ljudskim resurs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21E-DD43-4E78-9412-888AE1D64CF1}" type="slidenum">
              <a:t>33</a:t>
            </a:fld>
          </a:p>
        </p:txBody>
      </p:sp>
    </p:spTree>
  </p:cSld>
  <p:transition spd="slow" advTm="121000"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unkcijski IS za upravljanje proizvodnjom i logistikom omoguć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ravljanje zalihama resursa i logistikom poduzeć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niranje proizvodn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oj proizvo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ravljanje proizvodnjom pomoću računala Computer-Aided Design – CAD (oblikovanje), Computer-Aided Manufacturing – CAM (proizvodnja), Computer Integrated Manufacturing – CIM (računalno integrira proizvodnju)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ravljanje procesom nab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C04-40A7-40D0-9339-6056903B1E29}" type="slidenum">
              <a:t>34</a:t>
            </a:fld>
          </a:p>
        </p:txBody>
      </p:sp>
    </p:spTree>
  </p:cSld>
  <p:transition spd="slow" advTm="121000">
    <p:comb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jski IS marketinga obuhvać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ajnu mrež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jske ka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kupaca, analizu potreba kupa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u proda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novih proizvoda i uslug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šku bazu podata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ze podataka potencijalnih kupac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v za potporu kupcima nakon kupov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C95-994C-47E1-AA15-3129DA1B784D}" type="slidenum">
              <a:t>35</a:t>
            </a:fld>
          </a:p>
        </p:txBody>
      </p:sp>
    </p:spTree>
  </p:cSld>
  <p:transition spd="slow" advTm="121000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unkcijski IS računovodstva i financija obuhvać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nancijske transakcije (plaćanj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nancijsko planiranje (novčani tokovi, dinamik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nancijsko predviđanje (utjecaj okoline, burza, globalno tržišt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cijsko planiranje (ulaganja u osnovna sredstv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nancijsku analizu, kontrolu (profit, troškovi, cijene)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čunovodstvene funkcije (glavna knjiga, salda-konti, materijalno knjigovodstvo, robno knjigovodstvo.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31B-88BC-458F-8C4A-1F2564DC8F82}" type="slidenum">
              <a:t>36</a:t>
            </a:fld>
          </a:p>
        </p:txBody>
      </p:sp>
    </p:spTree>
  </p:cSld>
  <p:transition spd="slow" advTm="121000">
    <p:comb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cijski IS ljudskih resursa obuhvać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kadr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abir kadr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razovanje kadr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ćenje proizvodnosti kadr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će, nagrade, stimulacija i 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982-BA39-4655-9AE3-EA348D063A2B}" type="slidenum">
              <a:t>37</a:t>
            </a:fld>
          </a:p>
        </p:txBody>
      </p:sp>
    </p:spTree>
  </p:cSld>
  <p:transition spd="slow" advTm="121000">
    <p:comb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nterprise Resource Planning – ER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ržava i integrira rad svih služba i funkcija te tako omoguć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laniranje, praćenje, kontrolu, analizu i upravljanje poslovnim resursim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aćenje dokumenata i izvještavanje na razini proces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amostalnost, odgovornost i  komunikaciju zaposle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B7F-4D6B-4DDF-A1E7-9342E51570A6}" type="slidenum">
              <a:t>38</a:t>
            </a:fld>
          </a:p>
        </p:txBody>
      </p:sp>
    </p:spTree>
  </p:cSld>
  <p:transition spd="slow" advTm="121000">
    <p:comb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tegralni informacijski sustav koristi jedinstvenu bazu podataka iz koje podatke i informacije koriste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100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nsakcijski sustav, MIS, D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100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OLAP alata, skladišta podataka (DW) i rudarenje podataka (DM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100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ftverski moduli za upravljanje odnosima s      kupcima i upravljanje nabavnim lancem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izvođači ERP sustava: SAP, Oracle,.Ban i dr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FE3-9494-45F9-8F29-16515DFDE034}" type="slidenum">
              <a:t>39</a:t>
            </a:fld>
          </a:p>
        </p:txBody>
      </p:sp>
    </p:spTree>
  </p:cSld>
  <p:transition spd="slow" advTm="121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omponente IS-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as tehnologija omogućuje brzu izgradnju zahtjevnih IS-a, a oni moraju im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o- tehnič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aterijaln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uds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cijs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atkovnu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enosnu kompon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0C6-8062-4A2A-AB36-3FC6DC40B960}" type="slidenum">
              <a:t>4</a:t>
            </a:fld>
          </a:p>
        </p:txBody>
      </p:sp>
    </p:spTree>
  </p:cSld>
  <p:transition spd="slow" advTm="121000">
    <p:comb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cijski sustavi u pojedinim područjim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 financ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 računovod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 marketi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 proizvod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jer: IS u ba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F89-0324-4649-9141-2DF71949B0CF}" type="slidenum">
              <a:t>40</a:t>
            </a:fld>
          </a:p>
        </p:txBody>
      </p:sp>
    </p:spTree>
  </p:cSld>
  <p:transition spd="slow" advTm="121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erakcija komponent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205000"/>
            <a:ext cx="5588280" cy="311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ORG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NET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DAT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8713400">
            <a:off x="1325160" y="35992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HARDVER OP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3013800">
            <a:off x="5122440" y="343584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OFTVER PROG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5516640"/>
            <a:ext cx="25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LAJFVER LJ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753-FA23-4E8D-997D-02BC8C49ED24}" type="slidenum">
              <a:t>5</a:t>
            </a:fld>
          </a:p>
        </p:txBody>
      </p:sp>
    </p:spTree>
  </p:cSld>
  <p:transition spd="slow" advTm="121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iramida menedžment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960" y="2057400"/>
            <a:ext cx="4470480" cy="3048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2057400"/>
            <a:ext cx="2845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181120" y="2057400"/>
            <a:ext cx="284508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5229360"/>
            <a:ext cx="36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Razine menedž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4160" y="52293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nforma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2781360"/>
            <a:ext cx="1366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VRHOV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VODST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27280" y="3772080"/>
            <a:ext cx="17524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ZVR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VOD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20840" y="4686480"/>
            <a:ext cx="251460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PERATIV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VOD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42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4365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2171880"/>
            <a:ext cx="19051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gregi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Vanjs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lans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40384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Detal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Unutar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ntro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B06-A2D5-4FF8-80A6-BC7187A16810}" type="slidenum">
              <a:t>6</a:t>
            </a:fld>
          </a:p>
        </p:txBody>
      </p:sp>
    </p:spTree>
  </p:cSld>
  <p:transition spd="slow" advTm="121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edene hijerarhije uspostavljaju nadređenosti i podređenosti, svakoj razini odgovara određeni oblik IS-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hu Sustav za potporu odluči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ršnom vodstvu upravljački informacijski s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vnom vodstvu Transakcijski s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ač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jviša razina odluču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Što učin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ednj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ko učiniti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v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moću čega učin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5AA-70C6-4EC9-A9DB-64BBCEC7ADEA}" type="slidenum">
              <a:t>7</a:t>
            </a:fld>
          </a:p>
        </p:txBody>
      </p:sp>
    </p:spTree>
  </p:cSld>
  <p:transition spd="slow" advTm="121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cijski sustavi u poslovanj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to je informacijski su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jelovi informacijskog su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jski informacijski su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lni informacijski su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ijski sustav u pojedinim poslovnim područ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931-FBCA-4BE4-A670-6B6E28321A4A}" type="slidenum">
              <a:t>8</a:t>
            </a:fld>
          </a:p>
        </p:txBody>
      </p:sp>
    </p:spTree>
  </p:cSld>
  <p:transition spd="slow" advTm="121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cijski sustavi u poslovanj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7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je informacijski sustav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ijski susta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t sustav k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9480" indent="-3754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kupl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9480" indent="-3754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hranju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9480" indent="-3754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đu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9480" indent="-3754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uva i isporučuje inform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žne za organizaciju i društvo, čuva ih i čini dostupnim i upotrebljivim onima kojim su potreb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356-EE04-401E-9BBC-72EAAB82FBFE}" type="slidenum">
              <a:t>9</a:t>
            </a:fld>
          </a:p>
        </p:txBody>
      </p:sp>
    </p:spTree>
  </p:cSld>
  <p:transition spd="slow" advTm="121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7:30:42Z</dcterms:created>
  <dc:creator>Ivan Škoro</dc:creator>
  <dc:description/>
  <dc:language>en-US</dc:language>
  <cp:lastModifiedBy>VBZ</cp:lastModifiedBy>
  <dcterms:modified xsi:type="dcterms:W3CDTF">2005-12-15T13:05:40Z</dcterms:modified>
  <cp:revision>7</cp:revision>
  <dc:subject/>
  <dc:title>PUIS</dc:title>
</cp:coreProperties>
</file>