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96D-AC6A-4CC7-A3F8-019E756B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20F-3933-42EF-ADEE-36F04AE6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8BE-606D-4DF1-AE09-410DE3C5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545-FDCD-495E-BC9F-9D96CF4C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E6AF-9C8C-42B8-B813-8EE81355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D325-C262-4486-9961-BBC97E3D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7636-57BB-458F-8F07-60CF5BAA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340B-3240-4E32-97D4-91267E7E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2E1C-2BBF-4736-B375-3C512D48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B935-2AAA-49A5-8483-A7D6F4A2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13D1-62EF-445E-AC37-9965F0C7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203-5F93-4C82-8130-7BAB93E5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F261-027A-4E6C-BAE7-390B9A4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CB96-6EB1-4C15-9111-E5498E2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9C26-A2D5-40B6-9D58-95D3BC5E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3C98-E431-4B12-8367-225963E9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D5E0-9CC2-4317-AD39-FC49B7D3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956-D120-4F16-9C9A-9A5266BC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E4F-3C39-4C13-B93D-DB61795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C62-D73D-4AAF-9B5B-036098B3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738-3166-42FB-B06D-EC90D3BC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D56-AC78-4C40-9624-42FDA21E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042-E47B-443C-899C-5F82F23A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6BC-E0B0-44F1-AD3D-217A06D6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00B4-B33A-4D40-8657-349ACDBCACED}" type="slidenum">
              <a:rPr b="0" lang="hr-H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1515-DEEC-45B7-8A96-80FBF75C474A}" type="slidenum">
              <a:rPr b="0" lang="hr-H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KORISNIKA@ADRESA" TargetMode="External"/><Relationship Id="rId2" Type="http://schemas.openxmlformats.org/officeDocument/2006/relationships/hyperlink" Target="mailto:KORISNIKA@ADRESA" TargetMode="External"/><Relationship Id="rId3" Type="http://schemas.openxmlformats.org/officeDocument/2006/relationships/hyperlink" Target="mailto:IME@ORGANIZACIJA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99"/>
                </a:solidFill>
                <a:latin typeface="Verdana"/>
              </a:rPr>
              <a:t>6 PR Interne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D71-39D1-46C5-B78F-7188F2A114F1}" type="slidenum">
              <a:t>1</a:t>
            </a:fld>
          </a:p>
        </p:txBody>
      </p:sp>
    </p:spTree>
  </p:cSld>
  <p:transition advTm="12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Faza 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ored spomenutih razvijalo se još nekoliko mrež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Najznačajnija je bila NSFNET, 1988. pripojila se ARPAnet-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Ubrzo su priključene nove mreže, koristi se pojam Internet, “mreža nad mrežama”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U tome je vladala stihijnost. Ni danas nema središnje kontrole, autoriteta, s pregledom i mogućim nadzorom, to je prihvaćeno kao stvarnos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4E8-2AB8-47E9-B044-7A882DAE04E0}" type="slidenum">
              <a:t>10</a:t>
            </a:fld>
          </a:p>
        </p:txBody>
      </p:sp>
    </p:spTree>
  </p:cSld>
  <p:transition advTm="1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Faza 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0-ih je Internet prekoračio granice SAD-a a 1992. ga je koristilo više od milijun korisnik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štvo za Internet proglašava ga “općim dobrom čovječanstva”, kao voda, zrak i sl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 Internetom naglo raste zanimanje, prate ga veći broj softverskih kuća usmjeravanjem svojih aplikacija prema mreža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očena prednost uzrokuje pojavu nezaobilazne, World Wide Web, paukove mreže, spremne na prihvat svih vrsta i oblika informacij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4BC-B152-45AE-84BB-407CA6655073}" type="slidenum">
              <a:t>11</a:t>
            </a:fld>
          </a:p>
        </p:txBody>
      </p:sp>
    </p:spTree>
  </p:cSld>
  <p:transition advTm="1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Faza 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ww postaje aktivni poslovni čimbenik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net preuzima ulogu novog globalnog gospodarskog prostor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net širi kulture i u tome ne poznaje vjerske ni nacionalne grani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net nameće nezapamćeno takmičenje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ospodarski subjekti i pojedinci pripremljeni za Internet naglo se bogate, druge, nepripremljene, uništavaju, a ostale tjeraju da se prilagode novim tržišnim uvjeti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85F-0351-4B2E-BC55-14C9DC5FB13A}" type="slidenum">
              <a:t>12</a:t>
            </a:fld>
          </a:p>
        </p:txBody>
      </p:sp>
    </p:spTree>
  </p:cSld>
  <p:transition advTm="12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Interaktivni odno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114640"/>
            <a:ext cx="12193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Program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preglednik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02320" y="2171880"/>
            <a:ext cx="12193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Davatelj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uslug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computr2"/>
          <p:cNvSpPr/>
          <p:nvPr/>
        </p:nvSpPr>
        <p:spPr>
          <a:xfrm>
            <a:off x="1117440" y="4000680"/>
            <a:ext cx="2006640" cy="92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4057560"/>
            <a:ext cx="1218960" cy="9716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imes New Roman"/>
              </a:rPr>
              <a:t>PODAC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Cloud"/>
          <p:cNvSpPr/>
          <p:nvPr/>
        </p:nvSpPr>
        <p:spPr>
          <a:xfrm>
            <a:off x="3454560" y="1828800"/>
            <a:ext cx="2438280" cy="11430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2228760"/>
            <a:ext cx="37591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743200" y="2457360"/>
            <a:ext cx="37591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13680" y="2571840"/>
            <a:ext cx="0" cy="1485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2514600"/>
            <a:ext cx="0" cy="1486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30320" y="2514600"/>
            <a:ext cx="0" cy="14860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65560" y="2000160"/>
            <a:ext cx="22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zahtjev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60640" y="2286000"/>
            <a:ext cx="20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Informacij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15920" y="3314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zahtjev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543480"/>
            <a:ext cx="26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informacij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0840" y="4971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imes New Roman"/>
              </a:rPr>
              <a:t>KLIJEN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489-7DFC-486B-8C7E-B82FDF223326}" type="slidenum">
              <a:t>13</a:t>
            </a:fld>
          </a:p>
        </p:txBody>
      </p:sp>
    </p:spTree>
  </p:cSld>
  <p:transition advTm="12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loge klijenta i poslužitelja se mijenjaj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 Internet su priključeni milijuni snažnih računala, kao klijenti ili poslužitelji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lijent ne zna tko pruža, a davatelj kome pruža uslug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to se govori o virtualnom prostoru u kome se pružaju raznovrsne uslug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nas se govori o nekoliko standardnih internetskih servis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244-1572-4823-94DB-FC315AB59338}" type="slidenum">
              <a:t>14</a:t>
            </a:fld>
          </a:p>
        </p:txBody>
      </p:sp>
    </p:spTree>
  </p:cSld>
  <p:transition advTm="12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Standardni I- servis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Kronološka pojav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Daljinski prijenos datoteka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Elektronička pošta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World Wide Web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Kombinacijom spomenutih iz njih su izveden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Dostavne liste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Diskusijske skupine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Čavrljanje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Internetska telefonija/videotelefonija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Telekonferencije/videokonferencij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9B2-5212-4818-BA5B-2B3232A92D1B}" type="slidenum">
              <a:t>15</a:t>
            </a:fld>
          </a:p>
        </p:txBody>
      </p:sp>
    </p:spTree>
  </p:cSld>
  <p:transition advTm="120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I-servis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914560"/>
            <a:ext cx="1727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Daljinsk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Prijeno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podata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60640" y="200016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Internetsk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servis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59120" y="2914560"/>
            <a:ext cx="1727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Elektronič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pošt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076640"/>
            <a:ext cx="2017800" cy="7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Dostav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lis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4057560"/>
            <a:ext cx="1994040" cy="81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Korisničk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Diskusijsk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skupin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497196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telefonij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2971800"/>
            <a:ext cx="15242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WWW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16440" y="3860280"/>
            <a:ext cx="204300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čavrljan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57" name=""/>
          <p:cNvCxnSpPr>
            <a:stCxn id="250" idx="2"/>
            <a:endCxn id="251" idx="0"/>
          </p:cNvCxnSpPr>
          <p:nvPr/>
        </p:nvCxnSpPr>
        <p:spPr>
          <a:xfrm>
            <a:off x="4622400" y="2457360"/>
            <a:ext cx="1080" cy="457920"/>
          </a:xfrm>
          <a:prstGeom prst="straightConnector1">
            <a:avLst/>
          </a:prstGeom>
          <a:ln w="9360">
            <a:solidFill>
              <a:srgbClr val="006699"/>
            </a:solidFill>
            <a:miter/>
          </a:ln>
        </p:spPr>
      </p:cxnSp>
      <p:cxnSp>
        <p:nvCxnSpPr>
          <p:cNvPr id="258" name=""/>
          <p:cNvCxnSpPr>
            <a:stCxn id="249" idx="0"/>
            <a:endCxn id="255" idx="0"/>
          </p:cNvCxnSpPr>
          <p:nvPr/>
        </p:nvCxnSpPr>
        <p:spPr>
          <a:xfrm flipH="1" rot="16200000">
            <a:off x="4593960" y="-207720"/>
            <a:ext cx="57960" cy="6300000"/>
          </a:xfrm>
          <a:prstGeom prst="bentConnector3">
            <a:avLst>
              <a:gd name="adj1" fmla="val -400000"/>
            </a:avLst>
          </a:prstGeom>
          <a:ln w="9360">
            <a:solidFill>
              <a:srgbClr val="006699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>
            <a:off x="1332000" y="3860280"/>
            <a:ext cx="6114240" cy="2520"/>
          </a:xfrm>
          <a:prstGeom prst="bentConnector3">
            <a:avLst>
              <a:gd name="adj1" fmla="val 49985"/>
            </a:avLst>
          </a:prstGeom>
          <a:ln w="9360">
            <a:solidFill>
              <a:srgbClr val="006699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4572000" y="3486240"/>
            <a:ext cx="0" cy="3744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6" idx="2"/>
            <a:endCxn id="254" idx="0"/>
          </p:cNvCxnSpPr>
          <p:nvPr/>
        </p:nvCxnSpPr>
        <p:spPr>
          <a:xfrm flipH="1">
            <a:off x="7466760" y="4405320"/>
            <a:ext cx="172440" cy="567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4978440" y="5715000"/>
            <a:ext cx="294624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Times New Roman"/>
              </a:rPr>
              <a:t>Klasična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Times New Roman"/>
              </a:rPr>
              <a:t>telefonija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908760" y="5428800"/>
            <a:ext cx="609480" cy="5144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386064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3860640"/>
            <a:ext cx="0" cy="14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1EA-80F6-45EE-BCFE-A515DDDC677D}" type="slidenum">
              <a:t>16</a:t>
            </a:fld>
          </a:p>
        </p:txBody>
      </p:sp>
    </p:spTree>
  </p:cSld>
  <p:transition advTm="120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96960" y="24768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ljinski prijenos datotek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Mreže su građene za prijenos datoteke s jednog na drugo računal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atoteke se prenose po FTP (File Transfer Protocol) protokolu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stoje i privatna FTP mjesta ograničenog pristupa, poslužitelji anonimnih korisnik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aljinski prijeno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Binarnih datoteka između udaljenih računala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Tekstualnih datoteka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reuzimanja progra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Multimedijskih datote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Nezgoda su mogući virusi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9E7-3AA2-4B91-B0EA-A3DDCA3FC40C}" type="slidenum">
              <a:t>17</a:t>
            </a:fld>
          </a:p>
        </p:txBody>
      </p:sp>
    </p:spTree>
  </p:cSld>
  <p:transition advTm="120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lektronička pošt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ombinacija telefonske ekspeditivnosti i pisane trajnosti, koncipirana 1971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utuje brže i sigurnije i ne traži istodobnu aktivnost komunikator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ma nepredviđenih zastoja u radu, neželjenih prekida i sl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 usporedbi s ostalim pisanim oblicima ima veliku prednost, a u odnosu na druge načine komuniciranja i cijena joj je pristupačna. Dolazi  posebno do izražaja kod komunikacija s velikim obujmom podatak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E89-67DC-4543-868C-BD9BC3BF53CD}" type="slidenum">
              <a:t>18</a:t>
            </a:fld>
          </a:p>
        </p:txBody>
      </p:sp>
    </p:spTree>
  </p:cSld>
  <p:transition advTm="120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Adresiranje u E-pošti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šta se može slati između dva komunikatora ako su prijavljeni kod davatelja usluga koji im je dodijelio standardizirane adres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IME </a:t>
            </a:r>
            <a:r>
              <a:rPr b="0" lang="hr-HR" sz="1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KORISNIKA@INTERNETSKA</a:t>
            </a:r>
            <a:r>
              <a:rPr b="0" lang="hr-HR" sz="1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 ADRESA</a:t>
            </a: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ODNOSN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IME@ORGANIZACIJA</a:t>
            </a: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 PODRUČJ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Ime i naziv organizacije određuje korisnik proizvoljno a oznaku područja određuje davatelj uslug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dručja se razlikuju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U SAD-u su: com, org, net, edu, gov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Ostale zemlje koriste oznaku zemlje gdje su korisnici registriran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hr-Hrvatska, si-Slovenija, it-Italija, uk-Velika Britanija i itd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DF3-9305-42F3-8919-64AD638DFB7C}" type="slidenum">
              <a:t>19</a:t>
            </a:fld>
          </a:p>
        </p:txBody>
      </p:sp>
    </p:spTree>
  </p:cSld>
  <p:transition advTm="1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Informacija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1916280"/>
            <a:ext cx="5689800" cy="3673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89280" y="4848120"/>
            <a:ext cx="54259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Analiz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6680" y="4178160"/>
            <a:ext cx="419112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Sintez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6680" y="2849400"/>
            <a:ext cx="419112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Odlučivanj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Moralne norm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Iskustv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87640" y="5173560"/>
            <a:ext cx="5030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52600" y="4846680"/>
            <a:ext cx="4523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81200" y="4532400"/>
            <a:ext cx="40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6520" y="4173480"/>
            <a:ext cx="3504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6800" y="3849840"/>
            <a:ext cx="300348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76840" y="2849400"/>
            <a:ext cx="14554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36960" y="5202360"/>
            <a:ext cx="1330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Podata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89160" y="4500720"/>
            <a:ext cx="302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Informacij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21160" y="3797280"/>
            <a:ext cx="2162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Znanj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6800" y="2492280"/>
            <a:ext cx="173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Mudro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6092640"/>
            <a:ext cx="8124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ijerarhijska organizacija osnovnih elemenata informacijske znanosti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6D8-3D8D-4EB2-A31D-BF220AC64081}" type="slidenum">
              <a:t>2</a:t>
            </a:fld>
          </a:p>
        </p:txBody>
      </p:sp>
    </p:spTree>
  </p:cSld>
  <p:transition advTm="12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Servis E pošt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Slanje počinje pokretanjem programa i upisom podataka u masku zaslona, koju nudi progra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Maske mogu biti različite ali sve sadrž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To: adresa primatelja, odvajaju se (;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Cc: adrese kojim se šalju kopi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From: adresa pošiljatel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Subject: kratki opis, sažetak poruk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Body: proizvoljni tekst, pridružena datote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Kada je sve napisano prijenos se aktivira pritiskom na dugme Sen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Poruka dolazi u poštanski pretinac primatelja i tamo ga čeka dok je on ne pozove na svoje računal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6FA-6D04-430A-949E-40833A98C825}" type="slidenum">
              <a:t>20</a:t>
            </a:fld>
          </a:p>
        </p:txBody>
      </p:sp>
    </p:spTree>
  </p:cSld>
  <p:transition advTm="120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Konvencije u E pošti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bog lakšeg komuniciranja i snalaženja razvijene su autentične konvencije, bez obvez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misleno naslovljavanje nudi sam program a poruka olakšava svrstavanje svom primatelju: molba, žalba, račun, prigovor i sl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tiranje navoda iz primljene poruke: pismom od.., pošiljkom ..od,  it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pisivanje poruke je uljudno jer iza nje mogu stajati različite namjere, pa joj se neće možda pokloniti odgovarajuća pažnja ako nije potpisan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D56-E6E9-4483-9992-37F026B1AD60}" type="slidenum">
              <a:t>21</a:t>
            </a:fld>
          </a:p>
        </p:txBody>
      </p:sp>
    </p:spTree>
  </p:cSld>
  <p:transition advTm="120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zbjegavanje nesporazum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ma ljudi što su shvatili E poštu kao mogućnost nekulturnog iživljavanja i istodobne anonimnosti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vijek treba izbjegavati moguće nesporazume i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e treba pisati ono što kasnije treba nijekati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azmisliti o intoniranju poruke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uka treba biti nedvosmislena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uku prije slanja treba pročitati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 komuniciranju treba biti uglađen, vrata ostavljati otvorena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uka mora zvučati argumentirano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reba poštivati, kulturne, religijske, nacionalne i druge razlike i posebnosti primatelj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ez obzira što omogućuje anonimnost komuniciranje mora biti pristojno i mora pristajati prilic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B4E-EFF6-44A4-8112-09205F6EF148}" type="slidenum">
              <a:t>22</a:t>
            </a:fld>
          </a:p>
        </p:txBody>
      </p:sp>
    </p:spTree>
  </p:cSld>
  <p:transition advTm="120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orld Wide Web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Stvaranje, prijenos i pregledavanje multimedijskih dokumenat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CERN - European Laboratory for Particle Physics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1989. - Tim Berners-Lee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1993. - prvi grafički orijentirani WWW pregledni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NCSA Mozaic prvi komercijalni preglednik – Netscap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World Wide Web Consortiu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0CE-CAE2-4D03-9A87-1E07B7E2D232}" type="slidenum">
              <a:t>23</a:t>
            </a:fld>
          </a:p>
        </p:txBody>
      </p:sp>
    </p:spTree>
  </p:cSld>
  <p:transition advTm="120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Svojstv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orisničko-poslužiteljski model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Web poslužitelj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HTTP - HyperText Transfer Protoco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preglednici ili browser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dokumenti u HTML formatu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HyperTextMarkupLangu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91160" y="1619280"/>
            <a:ext cx="3952800" cy="44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F0D-B99C-4784-BD37-D9A6B9871034}" type="slidenum">
              <a:t>24</a:t>
            </a:fld>
          </a:p>
        </p:txBody>
      </p:sp>
    </p:spTree>
  </p:cSld>
  <p:transition advTm="120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Elementi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tehnika hiperteksta – izravan prijelaz na drugu Web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stranicu aktiviranjem hiperpoveznice (engl. hyperlink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hiperpoveznice (linkovi, veze, pokazivači) – sadrž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adresu Web strani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veze, pokazivači – hiperlinkov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navigaci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Web poslužitelji se aktiviraju na zahtjev korisn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zahtjev za pristup Web stranicama postavlja s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orištenjem pregledn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7B8-D957-4F57-950C-F5BB951072BE}" type="slidenum">
              <a:t>25</a:t>
            </a:fld>
          </a:p>
        </p:txBody>
      </p:sp>
    </p:spTree>
  </p:cSld>
  <p:transition advTm="120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Elementi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eb stranica (engl. Web Page) – dokumenti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ublicirani na Webu (uglavnom HTML datotek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eb mjesto (engl. Web Site) – kolekcij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multimedijskih stranic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očetna stranica Web mjesta – engl. home pag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metastranice (kazala, indeksi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884-EED5-4147-9D19-DC3A26FDC6CC}" type="slidenum">
              <a:t>26</a:t>
            </a:fld>
          </a:p>
        </p:txBody>
      </p:sp>
    </p:spTree>
  </p:cSld>
  <p:transition advTm="12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URL – Uniform Resource Locat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jedinstvena adresa za označavanje Web stranic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http://organizacija.područ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preporuča se korištenje malih slov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registracija URL adresa uz naplat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585-C43A-46FF-B8C2-2D57ECF3813A}" type="slidenum">
              <a:t>27</a:t>
            </a:fld>
          </a:p>
        </p:txBody>
      </p:sp>
    </p:spTree>
  </p:cSld>
  <p:transition advTm="120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preglednik – engl. brows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Microsoft Internet Explorer i Netscape Navigat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pretraživanje informacija na Web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rad sa elektroničkom pošto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korištenje usluge foruma, diskusijskih list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2DE-079D-46F1-8E5E-B81DBFCE49C1}" type="slidenum">
              <a:t>28</a:t>
            </a:fld>
          </a:p>
        </p:txBody>
      </p:sp>
    </p:spTree>
  </p:cSld>
  <p:transition advTm="12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World Wide Web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Potrebno je naglasiti da WWW i Internet nisu isto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WWW je rasprostranjeni i vrlo popularni internetski servi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Osnovica www-a je hipertekst, odnosno hipermedijski dokumenti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Hipertekstualni dokumenti su skupovi informacija izraženi u tekstualnom obliku i logički umreženi na brojnim računalim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Slični su i hipermedijski dokumenti, koji se mogu povezivati  sa dijelovima sličnih dokumenat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Veze (linkovi) su u svakom dokumentu vidno označene, podcrtane ili uokviren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Veze se mogu ostvariti bez znanja davatelja uslug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Radi se na novom snažnijem jeziku XML (eXtended Markup Language), koji bi zamijenio uhodani HTML (HyperText Markup Language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0CC-0F0F-4071-8235-B9124AFB058D}" type="slidenum">
              <a:t>29</a:t>
            </a:fld>
          </a:p>
        </p:txBody>
      </p:sp>
    </p:spTree>
  </p:cSld>
  <p:transition advTm="1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488360" y="3746520"/>
            <a:ext cx="682560" cy="6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45320" y="3746520"/>
            <a:ext cx="682560" cy="6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 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808280"/>
            <a:ext cx="77724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C. Shannon i W. Weawer, </a:t>
            </a:r>
            <a:r>
              <a:rPr b="0" i="1" lang="hr-HR" sz="2400" spc="-1" strike="noStrike">
                <a:solidFill>
                  <a:srgbClr val="006699"/>
                </a:solidFill>
                <a:latin typeface="Verdana"/>
              </a:rPr>
              <a:t>The Mathematical Theory of Communication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, University of Illinois Press, Urbana, 1949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917640" y="3745080"/>
            <a:ext cx="682560" cy="68256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31880" y="4086360"/>
            <a:ext cx="925560" cy="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8880" y="3745080"/>
            <a:ext cx="682920" cy="68256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3480" y="4086360"/>
            <a:ext cx="925560" cy="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0480" y="3745080"/>
            <a:ext cx="682560" cy="682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6520" y="4086360"/>
            <a:ext cx="925560" cy="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58120" y="4086360"/>
            <a:ext cx="925200" cy="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41760" y="4414320"/>
            <a:ext cx="0" cy="92556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00480" y="5383080"/>
            <a:ext cx="682560" cy="68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9560" y="3119400"/>
            <a:ext cx="17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IZV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INFORMAC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47840" y="327348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PREDAJNI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10160" y="327348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PRIJEMNI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6840" y="327348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ODREDIŠT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5412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poru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8600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9320" y="44514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primljen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8972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poru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23960" y="6072120"/>
            <a:ext cx="40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IZVOR ŠUMA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(buka u komunikacijskom kanalu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4370400" y="2328480"/>
            <a:ext cx="319320" cy="2506680"/>
          </a:xfrm>
          <a:custGeom>
            <a:avLst/>
            <a:gdLst>
              <a:gd name="textAreaLeft" fmla="*/ 0 w 319320"/>
              <a:gd name="textAreaRight" fmla="*/ 115200 w 319320"/>
              <a:gd name="textAreaTop" fmla="*/ 65160 h 2506680"/>
              <a:gd name="textAreaBottom" fmla="*/ 2441520 h 250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11"/>
                </a:lnTo>
                <a:cubicBezTo>
                  <a:pt x="10800" y="9811"/>
                  <a:pt x="16200" y="10711"/>
                  <a:pt x="21600" y="10711"/>
                </a:cubicBezTo>
                <a:cubicBezTo>
                  <a:pt x="16200" y="10711"/>
                  <a:pt x="10800" y="11611"/>
                  <a:pt x="10800" y="125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95720" y="29876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Komunikacijski kana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B65-0ED4-4223-BA40-B2C30B10DF91}" type="slidenum">
              <a:t>3</a:t>
            </a:fld>
          </a:p>
        </p:txBody>
      </p:sp>
    </p:spTree>
  </p:cSld>
  <p:transition advTm="12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Web prostor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Računala imaju programe pomoću kojih nude stranice na uporabu, ali je osnovni alat web preglednik. To se doima kao jednadžba stanja ravnotež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anas se koriste: Netscape Navigator i Microsoft Internet Explorer u omjeru 40 : 60%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Aktiviranje preglednika otvara početnu stranicu s mnogo povezica prema drugim web stranica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ostupna stranica vidi se na ekranu ili poruka da nije dostupn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ada korisnik zna adresu onoga što traži tada je lako pronaći stranicu ali uvijek nije tak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ada nije tako koristi se URL adresa (Uniform Resource Locator) a to je sinonim za punu adresu, jer se zanemaruje HTTP (HyperTexxt Transfer Protocol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6A7-C138-47A0-8B04-8BF91056AEDB}" type="slidenum">
              <a:t>30</a:t>
            </a:fld>
          </a:p>
        </p:txBody>
      </p:sp>
    </p:spTree>
  </p:cSld>
  <p:transition advTm="120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Traženje u Web prostoru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55640"/>
            <a:ext cx="7772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Šetnja Internetom je opravdana ako vodi k cilju, surfanje i nije nekada produktivno kako zvuči. Dok se stječu iskustva ono je opravdan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Cilj je pronaći potrebnu informaciju, pa su neki shvatili poruku i razvili moćne alate za upućivanje na Web mjesta s traženim informacija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stoje dvije osnovne skupi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Imenici ili direktoriji 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Pretraživači, tražilic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anas se smanjuju razlike između njih i pretraživački sustavi se približavaju jedni drugim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stoje na stotine pretraživačkih sustava a najpoznatiji je Yahoo!, ali su tu još i Alta Vista, HotBot, Licos i drug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DE0-93BA-408B-B482-D6DF2D3B1B88}" type="slidenum">
              <a:t>31</a:t>
            </a:fld>
          </a:p>
        </p:txBody>
      </p:sp>
    </p:spTree>
  </p:cSld>
  <p:transition advTm="12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etraživački alati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YAHOO.C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ALTAVISTA.DIGIRTAL.C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HOTBOT.COM/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LYCOS.C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EXCITE.COM/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retraživanja se mogu ubrzavati Booleovim operatorima (AND, OR i NOT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Na taj se način preciznije dolazi do informa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3B5-EA25-48EA-854B-48E0BF774CA3}" type="slidenum">
              <a:t>32</a:t>
            </a:fld>
          </a:p>
        </p:txBody>
      </p:sp>
    </p:spTree>
  </p:cSld>
  <p:transition advTm="120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Vlastita Web stranic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Svatko može imati svoju stranicu ponukan različitim potreba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Nakon odluke o stranici, treba je kreirati, sam ili platiti profesionalcu koji to rad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Web stranice su HTML dokumenti (HyperText Markup Language), koje se oblikuju softverskim alatima, kojih ima dosta i lako se njima rukuj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Važno je imati na umu kreativnost ljudi koji oblikuju atraktivne stranice, jer o tome ovisi broj pristupa korisnik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Naslovnice imaju svoje tipične sadržaje, informacije o vlasniku, djelatnosti, broju posjetitelja, područja interesa posjetitelja, adresu elektroničke pošte i drug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352-4310-4DB5-8937-93F0EE74CF6E}" type="slidenum">
              <a:t>33</a:t>
            </a:fld>
          </a:p>
        </p:txBody>
      </p:sp>
    </p:spTree>
  </p:cSld>
  <p:transition advTm="12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zvedeni internetski servisi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oluirali su iz određenih standarda servisa i u pravilu čine njihovu svrhovitu i učinkovitu kombinaciju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rvis dostavnih list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služitelj je zadužen za prosljeđivanje svim pretplatnici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iskusijske skupi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kupljaju se na osnovi zajedničkih interesa, od idola glumačkih imena do vlasnika određenih pasmina pas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Čavrljan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stvaruje se tako što davatelj usluga prihvaća pozive korisnika koji žele stupiti u izravne kontakte sa drugim poznatim i nepoznatim korisnici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95F-08FD-480A-8F4E-786AADBDEDB1}" type="slidenum">
              <a:t>34</a:t>
            </a:fld>
          </a:p>
        </p:txBody>
      </p:sp>
    </p:spTree>
  </p:cSld>
  <p:transition advTm="120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Mobilna telefonij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zi rast komunikacija uzrokovao je pojavu mobilne telefonije, koja je doživjela nagli razvoj s brojnim prednostima i pristupačnim cijena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dnost je u dostupnosti na svakom mjestu za razliku od fiksne telefonije, osoba koja posjeduje mobilnu stanicu stalno je dostupn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glo raste broj ponuđača mobilne telefonije zbog niskih ulaganja u stani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predak u tehnologiji vodi je u širu primjenu, priključkom na Internet u u nove gospodarske dimenzije, koje tek dolaz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E95-698C-4B7B-8BC6-D713ABA8B03B}" type="slidenum">
              <a:t>35</a:t>
            </a:fld>
          </a:p>
        </p:txBody>
      </p:sp>
    </p:spTree>
  </p:cSld>
  <p:transition advTm="120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Verdana"/>
              </a:rPr>
              <a:t>Intranet i Ekstrane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ojne koristi od Interneta navela su mnoga poduzeća na razmišljanje da svoje mreže koncipiraju kao klijentsko-poslužiteljsku arhitekturu, primjena standardnih Internetskih protokola, na jedan od slijedećih nači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državaju se postojeće LAN i WAN mreže i dodaju elementi Internetskih principa il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rade novi mrežni sustavi, funkcionalno i konceptualno kompatibilni s Interneto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670-B47D-4568-BFB7-DB885566DB52}" type="slidenum">
              <a:t>36</a:t>
            </a:fld>
          </a:p>
        </p:txBody>
      </p:sp>
    </p:spTree>
  </p:cSld>
  <p:transition advTm="120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Koncepcija intranet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Intranet je unutarnja mreža računala koja funkcionira kao Internet, a njegova uloga varira ovisno o potrebi i može biti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Zamjena lokalne mreže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Kao veza više lokalnih mrež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Zamjena za rasprostranjenu mrež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Povezica lokalne s rasprostranjenom mrežom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Pored toga može povezivati IS poduzeća s okruženje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Uspostava Intraneta unapređuje primjenu UIS-a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Razmjenom informacija među djelatnicim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Sudjelovanje u upravljanj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Razvojnim aktivnostima proizvoda i uslug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Obrazovnih aktivnosti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Neformalne komunikacije, čavrljanje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Unutar postoje informacije koje predstavljaju poslovne tajne poduzeća i njih treba čuvat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D61-9626-45B8-88EA-671A7157CD07}" type="slidenum">
              <a:t>37</a:t>
            </a:fld>
          </a:p>
        </p:txBody>
      </p:sp>
    </p:spTree>
  </p:cSld>
  <p:transition advTm="120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99"/>
                </a:solidFill>
                <a:latin typeface="Verdana"/>
              </a:rPr>
              <a:t>Koncepcija ekstranet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Ekstranet povezuje računalne mreže više poslovnih sustava u poslovnom udruženju, a to su obično složene kompanije s većim brojem tvrtki, istog vlasnika, sa visokim stupnjem samostalnosti, različiti predmeti poslovanja, ali interesa vlasnika da usko surađuju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Njihove mreže povezani po principima Interneta daju ekstranet, više neovisnih privatnih mrež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Pored prednosti koje pruža intranet, ekstranet pruža mogućnost telekonferencija u kojim sudionici postaju vremenski integrirani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Može se uspostavljati zajednički Web servis i tzv. višekorisnička domena, više tvrtki zainteresirano za tržišt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Ekstranet ima smisla ako njegovi sudionici imaju uspostavljene vlastite intranet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Aktivnostima ekstraneta prethode aktivnosti intraneta, modifikacija postojećih ili gradnja novih mrež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061-FD07-4E7A-96AA-69C9A0C7DD31}" type="slidenum">
              <a:t>38</a:t>
            </a:fld>
          </a:p>
        </p:txBody>
      </p:sp>
    </p:spTree>
  </p:cSld>
  <p:transition advTm="1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pćenit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šiljatelj (izvor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dij i kanal (potpor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imatelj (interpretator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A07-44AB-44D7-A42E-4F8136B522E9}" type="slidenum">
              <a:t>4</a:t>
            </a:fld>
          </a:p>
        </p:txBody>
      </p:sp>
    </p:spTree>
  </p:cSld>
  <p:transition advTm="1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zine komunikacijskog proces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379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 Tehnič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981080" indent="-4572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Točnost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renesenih simbol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981080" indent="-4572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ehnička kvaliteta medija (komunikacijskih 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uređaja) i kanal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379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B Semantič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981080" indent="-4572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preciznost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dentičan ili približno identičan smisao poruke pošiljatelja i njezine interpretacije kod primatel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379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 Bihevioristička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djelotvornos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981080" indent="-4572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Učinak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ruke na primatelj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227-C856-466A-82AA-D816B81D07CB}" type="slidenum">
              <a:t>5</a:t>
            </a:fld>
          </a:p>
        </p:txBody>
      </p:sp>
    </p:spTree>
  </p:cSld>
  <p:transition advTm="1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 postizanje djelotvorne komunikacije 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) potrebno j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 medij i kanal (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) 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šiljatelj  i primatelj (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aju ili postignu zadovoljavajuću razinu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kapacitet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98E-E9FF-4EBC-9DBD-896D68B32400}" type="slidenum">
              <a:t>6</a:t>
            </a:fld>
          </a:p>
        </p:txBody>
      </p:sp>
    </p:spTree>
  </p:cSld>
  <p:transition advTm="1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apacit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Mo</a:t>
            </a: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gućnost medija i kanala da uspješno prenesu </a:t>
            </a:r>
            <a:br>
              <a:rPr sz="1600"/>
            </a:b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poruk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Mogućnost pošiljatelja i primatelja da uspješno </a:t>
            </a:r>
            <a:br>
              <a:rPr sz="1600"/>
            </a:b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kodiraju / dekodiraju poruk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Na kapacitet utječ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tehnički šum (medij / kanal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semantički šum (pošiljatelj / primatelj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Komunikacijski proce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Cilj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Smanjenje šuma i povećanje kapacitet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Shannon i Weawer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Zalihost (engl. redundancy) (predvidljivost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Entropija (engl. entropy) (neizvjesnost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F00-CDCD-4360-A8FF-C8200106998C}" type="slidenum">
              <a:t>7</a:t>
            </a:fld>
          </a:p>
        </p:txBody>
      </p:sp>
    </p:spTree>
  </p:cSld>
  <p:transition advTm="1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Interne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60-ih ARPA, Agencija za napredne istraživačke projekte, eksperimentalno je povezivala računala na širokim prostorima i stvorila jedinstvenu mrežu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režu je nazvala ARPANET, a služila je vojnim potreba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ljnji razvoj se odvijao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1. Faza - mješovita vojno-civilna mreža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. Faza – preobrazba u “mrežu nad mrežama”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3. Faza – Internet kao “opće dobro čovječanstva”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4. Faza – Internet kao novi gospodarski prosto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B9F-DBE4-4C34-A96E-03FB11D9836D}" type="slidenum">
              <a:t>8</a:t>
            </a:fld>
          </a:p>
        </p:txBody>
      </p:sp>
    </p:spTree>
  </p:cSld>
  <p:transition advTm="1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Faza 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rvim korakom povezana 2, a koncem 1969. 4 računala, kraj 1971. 22, 1972 više od 3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Bojazan za nacionalnu sigurnost prisilila je na razdvajanje mreže na MILNET i ARPAne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Razlog nemoguća kontrola mreže u njezinom stihijskom razvitka i neizrađenom protokolu komuniciranj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33A-F3C8-4620-8CDF-E33DF1A1AA97}" type="slidenum">
              <a:t>9</a:t>
            </a:fld>
          </a:p>
        </p:txBody>
      </p:sp>
    </p:spTree>
  </p:cSld>
  <p:transition advTm="1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12:30Z</dcterms:created>
  <dc:creator>Ivan Škoro</dc:creator>
  <dc:description/>
  <dc:language>en-US</dc:language>
  <cp:lastModifiedBy>VBZ</cp:lastModifiedBy>
  <dcterms:modified xsi:type="dcterms:W3CDTF">2005-12-15T13:08:08Z</dcterms:modified>
  <cp:revision>4</cp:revision>
  <dc:subject/>
  <dc:title>6 PR Internet</dc:title>
</cp:coreProperties>
</file>