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46AC-54DF-49C1-944C-B8B442F2BED2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C2F8-740B-4503-B7D0-32CFC0A706F2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4479840"/>
            <a:ext cx="5562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Arial"/>
              </a:rPr>
              <a:t>HTML -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Koristi se za dizajniranje hipertekst dokumenata koji se učitani u  WWW pretraživač prikazuju kao formatirana WWW stranica.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Hiperteks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su dokumenti nelinearne strukture koji sadrže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veze ili pokazivače</a:t>
            </a:r>
            <a:r>
              <a:rPr b="0" i="1" lang="hr-H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linkov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do drugih dokumenata ili do određenih dijelova dokumenata.Hipertekst osim teksta može sadržavati slike, zvučne i video zapise, te se naziva i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hipermedij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WWW stranic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je HTML dokument, odnosno datoteka koja ima nastavak</a:t>
            </a:r>
            <a:r>
              <a:rPr b="0" lang="hr-H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htm ili .html. Uz pojam Web stranice često se pojavljuje pojam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Web mjesto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Web sit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koji podrazumijeva cijeli niz  povezanih dokumen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Zbog velike količine podataka na Webu, pojavila se potreba za stvaranjem stranice koje ukazuju na druge stranice povezane zajedničkom tematikom. Takve se stranice nazivaju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metastranic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ili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kazal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indeksi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, a predstavljaju mjesta od kojih treba krenuti da bi se došlo do informacija o nekoj temi na Web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A878-AA30-46F0-B073-CF1DE3BBC987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479840"/>
            <a:ext cx="5562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Arial"/>
              </a:rPr>
              <a:t>HTML -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Koristi se za dizajniranje hipertekst dokumenata koji se učitani u  WWW pretraživač prikazuju kao formatirana WWW stranica.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Hiperteks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su dokumenti nelinearne strukture koji sadrže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veze ili pokazivače</a:t>
            </a:r>
            <a:r>
              <a:rPr b="0" i="1" lang="hr-H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linkov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do drugih dokumenata ili do određenih dijelova dokumenata.Hipertekst osim teksta može sadržavati slike, zvučne i video zapise, te se naziva i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hipermedij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WWW stranic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je HTML dokument, odnosno datoteka koja ima nastavak</a:t>
            </a:r>
            <a:r>
              <a:rPr b="0" lang="hr-H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htm ili .html. Uz pojam Web stranice često se pojavljuje pojam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Web mjesto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Web sit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koji podrazumijeva cijeli niz  povezanih dokumen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Zbog velike količine podataka na Webu, pojavila se potreba za stvaranjem stranice koje ukazuju na druge stranice povezane zajedničkom tematikom. Takve se stranice nazivaju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metastranic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ili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kazal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indeksi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, a predstavljaju mjesta od kojih treba krenuti da bi se došlo do informacija o nekoj temi na Web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B919-C416-4691-9311-A64FB69BB564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4479840"/>
            <a:ext cx="5562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Arial"/>
              </a:rPr>
              <a:t>HTML -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Koristi se za dizajniranje hipertekst dokumenata koji se učitani u  WWW pretraživač prikazuju kao formatirana WWW stranica.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Hiperteks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su dokumenti nelinearne strukture koji sadrže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veze ili pokazivače</a:t>
            </a:r>
            <a:r>
              <a:rPr b="0" i="1" lang="hr-H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linkov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do drugih dokumenata ili do određenih dijelova dokumenata.Hipertekst osim teksta može sadržavati slike, zvučne i video zapise, te se naziva i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hipermedij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WWW stranic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je HTML dokument, odnosno datoteka koja ima nastavak</a:t>
            </a:r>
            <a:r>
              <a:rPr b="0" lang="hr-H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htm ili .html. Uz pojam Web stranice često se pojavljuje pojam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Web mjesto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Web sit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koji podrazumijeva cijeli niz  povezanih dokumen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Zbog velike količine podataka na Webu, pojavila se potreba za stvaranjem stranice koje ukazuju na druge stranice povezane zajedničkom tematikom. Takve se stranice nazivaju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metastranic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ili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kazal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indeksi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, a predstavljaju mjesta od kojih treba krenuti da bi se došlo do informacija o nekoj temi na Web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FE3C-9863-48B4-B1F9-6227A30EB0DC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4479840"/>
            <a:ext cx="5562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Arial"/>
              </a:rPr>
              <a:t>HTML -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Koristi se za dizajniranje hipertekst dokumenata koji se učitani u  WWW pretraživač prikazuju kao formatirana WWW stranica.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Hiperteks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su dokumenti nelinearne strukture koji sadrže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veze ili pokazivače</a:t>
            </a:r>
            <a:r>
              <a:rPr b="0" i="1" lang="hr-H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linkov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do drugih dokumenata ili do određenih dijelova dokumenata.Hipertekst osim teksta može sadržavati slike, zvučne i video zapise, te se naziva i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hipermedij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WWW stranic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je HTML dokument, odnosno datoteka koja ima nastavak</a:t>
            </a:r>
            <a:r>
              <a:rPr b="0" lang="hr-H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htm ili .html. Uz pojam Web stranice često se pojavljuje pojam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Web mjesto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Web sit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koji podrazumijeva cijeli niz  povezanih dokumen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Zbog velike količine podataka na Webu, pojavila se potreba za stvaranjem stranice koje ukazuju na druge stranice povezane zajedničkom tematikom. Takve se stranice nazivaju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metastranic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ili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kazal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indeksi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, a predstavljaju mjesta od kojih treba krenuti da bi se došlo do informacija o nekoj temi na Web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951C-2C1D-4A48-9A57-222F3FBEF93D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569B-8976-4DE5-853A-2339AE564B89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4479840"/>
            <a:ext cx="5562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Arial"/>
              </a:rPr>
              <a:t>HTML -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Koristi se za dizajniranje hipertekst dokumenata koji se učitani u  WWW pretraživač prikazuju kao formatirana WWW stranica.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Hiperteks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su dokumenti nelinearne strukture koji sadrže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veze ili pokazivače</a:t>
            </a:r>
            <a:r>
              <a:rPr b="0" i="1" lang="hr-H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linkov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do drugih dokumenata ili do određenih dijelova dokumenata.Hipertekst osim teksta može sadržavati slike, zvučne i video zapise, te se naziva i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hipermedij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WWW stranic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je HTML dokument, odnosno datoteka koja ima nastavak</a:t>
            </a:r>
            <a:r>
              <a:rPr b="0" lang="hr-H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htm ili .html. Uz pojam Web stranice često se pojavljuje pojam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Web mjesto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Web sit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koji podrazumijeva cijeli niz  povezanih dokumen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Zbog velike količine podataka na Webu, pojavila se potreba za stvaranjem stranice koje ukazuju na druge stranice povezane zajedničkom tematikom. Takve se stranice nazivaju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metastranic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ili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kazal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indeksi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, a predstavljaju mjesta od kojih treba krenuti da bi se došlo do informacija o nekoj temi na Web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759D-2DDA-404C-A0B4-65BAD638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2EAF-4C01-4FF2-8A66-C32815FD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5422-7B86-4B3B-9B5F-79B0447E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E95B-7012-4645-A511-D7A2A941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D73D-A9BE-44AA-9A3A-80F3B630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C49B-ADD7-4073-B875-9DFCFB3B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A68A-CC60-4CF4-AC42-2C30E597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A21D-F50C-4211-8448-037EA2D9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55D0-010C-42F9-AC0E-4285CF7F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4571-695D-49C5-AE12-236C2456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79DA-F9F0-4A38-B621-ACE2E303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B6DC-1ABE-4D10-BFE8-EF6A581B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765A-295A-4292-BF27-7534F22E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B894-CD33-484F-9803-A5128B6A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9BC3-E5FE-48F9-8719-F6997CA7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EF40-A83D-4B48-AEB4-9554C2DC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99CF-20D5-4532-BF86-E6A1FC9C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7B07-8A0A-4C7A-84A9-77E0D877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085E-2B55-4FBA-94D6-058FDCFD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0A03-C3A3-4CC4-B3E1-02E5BAA2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4E43-9530-40A3-B12B-6C1F7556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55EA-BF9E-464D-8AAC-CD0A95E0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45DB-0977-4D31-ACD0-93032EA3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0B5C-3CB1-437E-B30F-EE6C6A82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A4E1-A98C-4832-A24B-31B038FE43AC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49B4-921D-461F-A0BD-8BECD16815DE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 INFORMACIJSKI SUSTAV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3F7F-3CFE-4888-AF13-A2D1922FD234}" type="slidenum">
              <a:t>1</a:t>
            </a:fld>
          </a:p>
        </p:txBody>
      </p:sp>
    </p:spTree>
  </p:cSld>
  <p:transition spd="slow" advTm="121000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3564000" cy="68580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2997360"/>
            <a:ext cx="1800360" cy="1511280"/>
          </a:xfrm>
          <a:prstGeom prst="ellipse">
            <a:avLst/>
          </a:prstGeom>
          <a:solidFill>
            <a:srgbClr val="c58bf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lov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vil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20000" y="5084640"/>
            <a:ext cx="1366920" cy="122400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UNI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48360" y="3213000"/>
            <a:ext cx="1368720" cy="129564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AT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77080" y="1341360"/>
            <a:ext cx="1224000" cy="107784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3213000"/>
            <a:ext cx="1512720" cy="1225800"/>
          </a:xfrm>
          <a:prstGeom prst="ellipse">
            <a:avLst/>
          </a:prstGeom>
          <a:solidFill>
            <a:srgbClr val="c58bf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43280" y="3789360"/>
            <a:ext cx="12970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30" idx="6"/>
            <a:endCxn id="128" idx="2"/>
          </p:cNvCxnSpPr>
          <p:nvPr/>
        </p:nvCxnSpPr>
        <p:spPr>
          <a:xfrm>
            <a:off x="5599080" y="3825360"/>
            <a:ext cx="135000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30" idx="6"/>
            <a:endCxn id="129" idx="2"/>
          </p:cNvCxnSpPr>
          <p:nvPr/>
        </p:nvCxnSpPr>
        <p:spPr>
          <a:xfrm flipV="1">
            <a:off x="5599080" y="1880640"/>
            <a:ext cx="1278720" cy="1945080"/>
          </a:xfrm>
          <a:prstGeom prst="bentConnector3">
            <a:avLst>
              <a:gd name="adj1" fmla="val 49169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4" name=""/>
          <p:cNvCxnSpPr>
            <a:stCxn id="130" idx="6"/>
            <a:endCxn id="127" idx="2"/>
          </p:cNvCxnSpPr>
          <p:nvPr/>
        </p:nvCxnSpPr>
        <p:spPr>
          <a:xfrm>
            <a:off x="5598720" y="3825360"/>
            <a:ext cx="1421640" cy="1872360"/>
          </a:xfrm>
          <a:prstGeom prst="bentConnector3">
            <a:avLst>
              <a:gd name="adj1" fmla="val 44022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684360" y="6237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VR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4941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ĐUOVISN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6308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JSKI SUST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7423-B163-4C13-A72A-A7CAF138A3ED}" type="slidenum">
              <a:t>10</a:t>
            </a:fld>
          </a:p>
        </p:txBody>
      </p:sp>
    </p:spTree>
  </p:cSld>
  <p:transition spd="slow" advTm="121000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1981080"/>
            <a:ext cx="6096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04920" y="609480"/>
            <a:ext cx="8330760" cy="6818040"/>
            <a:chOff x="304920" y="609480"/>
            <a:chExt cx="8330760" cy="681804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304920" y="609480"/>
              <a:ext cx="8330760" cy="42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572640" y="7060320"/>
              <a:ext cx="159264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909880" y="541008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S – uloga u poslo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F739-7CF6-4305-8253-58628E89B663}" type="slidenum">
              <a:t>11</a:t>
            </a:fld>
          </a:p>
        </p:txBody>
      </p:sp>
    </p:spTree>
  </p:cSld>
  <p:transition spd="slow" advTm="121000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3880" y="1981080"/>
            <a:ext cx="6096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24000" y="1490760"/>
            <a:ext cx="8640360" cy="5366880"/>
            <a:chOff x="324000" y="1490760"/>
            <a:chExt cx="8640360" cy="5366880"/>
          </a:xfrm>
        </p:grpSpPr>
        <p:sp>
          <p:nvSpPr>
            <p:cNvPr id="147" name=""/>
            <p:cNvSpPr/>
            <p:nvPr/>
          </p:nvSpPr>
          <p:spPr>
            <a:xfrm>
              <a:off x="3628080" y="6492240"/>
              <a:ext cx="1499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324000" y="1490760"/>
              <a:ext cx="8640360" cy="299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"/>
          <p:cNvSpPr/>
          <p:nvPr/>
        </p:nvSpPr>
        <p:spPr>
          <a:xfrm>
            <a:off x="2545560" y="495288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eoblikovanje proc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EFF3-F404-47FD-817C-B824B41C7D1D}" type="slidenum">
              <a:t>12</a:t>
            </a:fld>
          </a:p>
        </p:txBody>
      </p:sp>
    </p:spTree>
  </p:cSld>
  <p:transition spd="slow" advTm="61000"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cijski sustavi u poslovanju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lovni sustav, tvrtku (poduzeće), dijelimo na 3 podsustav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vršni –  izvode se poslovni proces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ravljači – upravlja se poslovanjem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cijski  - pripremaju se informacije za upravlja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roz tvrtku i oko nje odvijaju se  tokovi: materija, energije, financijskih sredstava, ljudskih resursa i informacij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ijski podsustav opskrbljuje upravljački informacijama koje prate tokove resur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EAD8-6679-4033-BE55-3A3F0E0B1177}" type="slidenum">
              <a:t>13</a:t>
            </a:fld>
          </a:p>
        </p:txBody>
      </p:sp>
    </p:spTree>
  </p:cSld>
  <p:transition spd="slow" advTm="121000"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23880" y="1981080"/>
            <a:ext cx="6096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838080" y="228600"/>
            <a:ext cx="7621200" cy="5476680"/>
            <a:chOff x="838080" y="228600"/>
            <a:chExt cx="7621200" cy="5476680"/>
          </a:xfrm>
        </p:grpSpPr>
        <p:sp>
          <p:nvSpPr>
            <p:cNvPr id="155" name=""/>
            <p:cNvSpPr/>
            <p:nvPr/>
          </p:nvSpPr>
          <p:spPr>
            <a:xfrm>
              <a:off x="1680120" y="228600"/>
              <a:ext cx="3650400" cy="51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ahoma"/>
                </a:rPr>
                <a:t>POSLOVNI SUSTA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79960" y="709920"/>
              <a:ext cx="6117120" cy="388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3616920" y="2452320"/>
              <a:ext cx="900000" cy="248400"/>
            </a:xfrm>
            <a:prstGeom prst="rightArrow">
              <a:avLst>
                <a:gd name="adj1" fmla="val 50000"/>
                <a:gd name="adj2" fmla="val 9058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07720" y="1622880"/>
              <a:ext cx="3245400" cy="84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13240" y="3398400"/>
              <a:ext cx="2056320" cy="262440"/>
            </a:xfrm>
            <a:prstGeom prst="rightArrow">
              <a:avLst>
                <a:gd name="adj1" fmla="val 50000"/>
                <a:gd name="adj2" fmla="val 19588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200000">
              <a:off x="4559400" y="2827440"/>
              <a:ext cx="900000" cy="248400"/>
            </a:xfrm>
            <a:prstGeom prst="rightArrow">
              <a:avLst>
                <a:gd name="adj1" fmla="val 50000"/>
                <a:gd name="adj2" fmla="val 9058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26440" y="3040920"/>
              <a:ext cx="3245040" cy="84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45240" y="1726560"/>
              <a:ext cx="294444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ahoma"/>
                </a:rPr>
                <a:t>Upravljanje </a:t>
              </a:r>
              <a:br>
                <a:rPr sz="1800"/>
              </a:br>
              <a:r>
                <a:rPr b="0" lang="en-US" sz="1800" spc="-1" strike="noStrike">
                  <a:solidFill>
                    <a:srgbClr val="003300"/>
                  </a:solidFill>
                  <a:latin typeface="Tahoma"/>
                </a:rPr>
                <a:t>poslovnim sustav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04200" y="3112200"/>
              <a:ext cx="3128400" cy="75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ahoma"/>
                </a:rPr>
                <a:t>Izvođenje </a:t>
              </a:r>
              <a:br>
                <a:rPr sz="1800"/>
              </a:br>
              <a:r>
                <a:rPr b="0" lang="en-US" sz="1800" spc="-1" strike="noStrike">
                  <a:solidFill>
                    <a:srgbClr val="003300"/>
                  </a:solidFill>
                  <a:latin typeface="Tahoma"/>
                </a:rPr>
                <a:t>poslovnog proce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00280" y="753480"/>
              <a:ext cx="3890880" cy="46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ahoma"/>
                </a:rPr>
                <a:t>INFORMACIJSKI SUSTA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40680" y="1166040"/>
              <a:ext cx="5475600" cy="3207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3341880"/>
              <a:ext cx="2056320" cy="262440"/>
            </a:xfrm>
            <a:prstGeom prst="rightArrow">
              <a:avLst>
                <a:gd name="adj1" fmla="val 50000"/>
                <a:gd name="adj2" fmla="val 19588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2629440"/>
              <a:ext cx="962640" cy="232200"/>
            </a:xfrm>
            <a:prstGeom prst="rightArrow">
              <a:avLst>
                <a:gd name="adj1" fmla="val 50000"/>
                <a:gd name="adj2" fmla="val 1036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16280" y="2666880"/>
              <a:ext cx="962640" cy="232200"/>
            </a:xfrm>
            <a:prstGeom prst="rightArrow">
              <a:avLst>
                <a:gd name="adj1" fmla="val 50000"/>
                <a:gd name="adj2" fmla="val 1036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99760" y="4899240"/>
              <a:ext cx="962640" cy="232200"/>
            </a:xfrm>
            <a:prstGeom prst="rightArrow">
              <a:avLst>
                <a:gd name="adj1" fmla="val 50000"/>
                <a:gd name="adj2" fmla="val 1036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14280" y="4880160"/>
              <a:ext cx="962640" cy="232560"/>
            </a:xfrm>
            <a:prstGeom prst="rightArrow">
              <a:avLst>
                <a:gd name="adj1" fmla="val 50000"/>
                <a:gd name="adj2" fmla="val 10348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67360" y="4899240"/>
              <a:ext cx="962640" cy="232200"/>
            </a:xfrm>
            <a:prstGeom prst="rightArrow">
              <a:avLst>
                <a:gd name="adj1" fmla="val 50000"/>
                <a:gd name="adj2" fmla="val 10364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39120" y="5123880"/>
              <a:ext cx="72201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ahoma"/>
                </a:rPr>
                <a:t>Informacijski tok            upravljački tok                materijalni t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403280" y="6019920"/>
            <a:ext cx="51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S je podsustav poslovnog susta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BA57-1AED-4AE3-ADF3-49ABF62C72DA}" type="slidenum">
              <a:t>14</a:t>
            </a:fld>
          </a:p>
        </p:txBody>
      </p:sp>
    </p:spTree>
  </p:cSld>
  <p:transition spd="slow" advTm="121000">
    <p:comb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3880" y="1981080"/>
            <a:ext cx="6096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914400" y="152280"/>
            <a:ext cx="7632360" cy="7224480"/>
            <a:chOff x="914400" y="152280"/>
            <a:chExt cx="7632360" cy="722448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914400" y="152280"/>
              <a:ext cx="7632360" cy="594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427920" y="7010640"/>
              <a:ext cx="2240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538000" y="6248520"/>
            <a:ext cx="36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rganizacijske promj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CAE2-A950-4693-844F-3461C7900BE1}" type="slidenum">
              <a:t>15</a:t>
            </a:fld>
          </a:p>
        </p:txBody>
      </p:sp>
    </p:spTree>
  </p:cSld>
  <p:transition spd="slow" advTm="121000">
    <p:comb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Što je informacijski sustav 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je skup opreme, ljudi, metoda i postupaka u kome se podaci pretvaraju u informaci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poslovnom se procesu odvijaju aktivnosti u skladu  s osnovnom funkcijom poduzeć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jena IT – omogućuje veću učinkovitost ljudi u tim procesima, te omogućuje automatizaciju i upravlja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lovni procesi se stalno usavršavaju i reorganiziraju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ED5A-4808-4855-AD83-FA6586CEDB1D}" type="slidenum">
              <a:t>16</a:t>
            </a:fld>
          </a:p>
        </p:txBody>
      </p:sp>
    </p:spTree>
  </p:cSld>
  <p:transition spd="slow" advTm="121000">
    <p:comb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1981080"/>
            <a:ext cx="6096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04920" y="152280"/>
            <a:ext cx="8610120" cy="6919560"/>
            <a:chOff x="304920" y="152280"/>
            <a:chExt cx="8610120" cy="6919560"/>
          </a:xfrm>
        </p:grpSpPr>
        <p:sp>
          <p:nvSpPr>
            <p:cNvPr id="186" name=""/>
            <p:cNvSpPr/>
            <p:nvPr/>
          </p:nvSpPr>
          <p:spPr>
            <a:xfrm>
              <a:off x="3515760" y="6734520"/>
              <a:ext cx="173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304920" y="152280"/>
              <a:ext cx="8610120" cy="662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07F2-487D-48F3-A57F-0217C5B05594}" type="slidenum">
              <a:t>17</a:t>
            </a:fld>
          </a:p>
        </p:txBody>
      </p:sp>
    </p:spTree>
  </p:cSld>
  <p:transition spd="slow" advTm="121000"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ravljanje poslovnim sustav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dvija se donošenjem  kvalitetnih odluka, samo kada se ima potpunih i pouzdanih, pravodobno pribavljenih informacij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lovni sustav uspostavlja i održava veze s okružj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 poslovnom sustavu nastaju unutarnji podaci, a u okružju vanjsk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 su vrste važna pretpostavka za oblikovanje kvalitetnih informacij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4B6F-D941-49A7-AFEE-9E023A4C27BB}" type="slidenum">
              <a:t>18</a:t>
            </a:fld>
          </a:p>
        </p:txBody>
      </p:sp>
    </p:spTree>
  </p:cSld>
  <p:transition spd="slow" advTm="121000">
    <p:comb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ravljanje poslovnim sustavom – odluči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poduzećima postoje tri razine odlučivan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vno upravljanje – provode niži menadžeri, vezano za dnevne poslovne aktivnost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tičko upravljanje – provode srednji menadžeri vezano za aktivnosti unutar dužeg vremenskog razdoblja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eško upravljanje – provode najviši menadžeri,  dugoročne odluke vezane za ključne poslovne funkcije. Koriste agregirane informaci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D7EB-FD4A-4863-8DD3-FE3222712340}" type="slidenum">
              <a:t>19</a:t>
            </a:fld>
          </a:p>
        </p:txBody>
      </p:sp>
    </p:spTree>
  </p:cSld>
  <p:transition spd="slow" advTm="121000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vrtke sustavno obrađuju podatke potrebne odlučivanju, upravljačkom informacijskom sustav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u poslovni sustavi s više poslovnih procesa kojim stalno treba upravlj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-i su zapravo sustavi obrade informacija potrebnih u upravljanim poslovnim proces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C516-8254-469C-A772-AE36534553AD}" type="slidenum">
              <a:t>2</a:t>
            </a:fld>
          </a:p>
        </p:txBody>
      </p:sp>
    </p:spTree>
  </p:cSld>
  <p:transition spd="slow" advTm="121000">
    <p:comb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cije su podloga poslovnih odluka, odlukama se upravlja nekim sustav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novni koraci procesa odlučivan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oznavanje problem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nalaženje i ocjenjivanje mogućih rješenj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bor odgovarajućeg rješenj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dba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j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C868-DD14-4AAF-BA09-415DB26B062A}" type="slidenum">
              <a:t>20</a:t>
            </a:fld>
          </a:p>
        </p:txBody>
      </p:sp>
    </p:spTree>
  </p:cSld>
  <p:transition spd="slow" advTm="121000">
    <p:comb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981080"/>
            <a:ext cx="6096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33520" y="2133720"/>
            <a:ext cx="8208360" cy="2520360"/>
            <a:chOff x="533520" y="2133720"/>
            <a:chExt cx="8208360" cy="2520360"/>
          </a:xfrm>
        </p:grpSpPr>
        <p:sp>
          <p:nvSpPr>
            <p:cNvPr id="197" name=""/>
            <p:cNvSpPr/>
            <p:nvPr/>
          </p:nvSpPr>
          <p:spPr>
            <a:xfrm>
              <a:off x="533520" y="2133720"/>
              <a:ext cx="1216080" cy="135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dac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77560" y="2133720"/>
              <a:ext cx="1368000" cy="135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formaci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73880" y="2133720"/>
              <a:ext cx="1368000" cy="135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dlu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05360" y="2133720"/>
              <a:ext cx="1216080" cy="135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čuna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01680" y="2133720"/>
              <a:ext cx="1216080" cy="135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nadž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49600" y="2718000"/>
              <a:ext cx="45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21800" y="2718000"/>
              <a:ext cx="45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45920" y="2718000"/>
              <a:ext cx="45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18120" y="2718000"/>
              <a:ext cx="45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58240" y="3485880"/>
              <a:ext cx="0" cy="1167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153800" y="4654080"/>
              <a:ext cx="6903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1154160" y="3485880"/>
              <a:ext cx="0" cy="1167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730440" y="4952880"/>
            <a:ext cx="80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eriranje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nformacij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za donošenje poslovne odluk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D762-75CF-4295-9FA5-B45F8C93FD65}" type="slidenum">
              <a:t>21</a:t>
            </a:fld>
          </a:p>
        </p:txBody>
      </p:sp>
    </p:spTree>
  </p:cSld>
  <p:transition spd="slow" advTm="121000">
    <p:comb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ješavanje problem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oznavanje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aja određenog, inače perspektivnog proizvoda op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izvod donosi poduzeću gubit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nalaženje i ocjenjivanje mogućih rješenja – alternati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poboljšati marketing proizvo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preoblikovati proizvo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napustiti proizvodnju proizv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9D23-0D57-43D3-9DB5-C6564522FA65}" type="slidenum">
              <a:t>22</a:t>
            </a:fld>
          </a:p>
        </p:txBody>
      </p:sp>
    </p:spTree>
  </p:cSld>
  <p:transition spd="slow" advTm="121000">
    <p:comb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ješavanje problem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2640" indent="-42264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abir mogućeg rješen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pitivanje tržišta zbog preoblikovanja proizvoda i njegove prodaje pod drugim nazivo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640" indent="-42264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db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aljnije istraživanje tržišta i ukusa kupaca, preoblikovanje proizvoda u skladu s ukusom kupa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640" indent="-42264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je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jski pokazatelj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kacija problema - potreban novi ciklus odlučivanj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23D8-897B-4244-8B36-2664FC664F80}" type="slidenum">
              <a:t>23</a:t>
            </a:fld>
          </a:p>
        </p:txBody>
      </p:sp>
    </p:spTree>
  </p:cSld>
  <p:transition spd="slow" advTm="121000">
    <p:comb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djela informacijskog sustav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cijski sustav je moguće promatrati kro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v za obradu transakcij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v za potporu odlučivanju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v za komunikaciju, suradnju i individualni r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7E85-C211-4FBE-A741-34FAF668CA6C}" type="slidenum">
              <a:t>24</a:t>
            </a:fld>
          </a:p>
        </p:txBody>
      </p:sp>
    </p:spTree>
  </p:cSld>
  <p:transition spd="slow" advTm="121000">
    <p:comb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djela informacijskog sustav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v za obradu transakci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uža potporu tekućem odvijanju poslovnog procesa – obradi transakcija (poslovnih promjena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je operativni sustav, odnosno oblikuje informacije za potrebe operativnog menedžmen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di evidencije - evidentira zapise o svakoj transakciji te sve unosi u bazu podatak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daje i generira raznovrsne dokumente za potrebe poslovnih proce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vještava, odnosno kontrolira sve poslovne proc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A81B-01A8-4E11-B62F-F74F892A5972}" type="slidenum">
              <a:t>25</a:t>
            </a:fld>
          </a:p>
        </p:txBody>
      </p:sp>
    </p:spTree>
  </p:cSld>
  <p:transition spd="slow" advTm="121000">
    <p:comb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djela informacijskog sustav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tav za obradu transakcija koris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ži i srednji menadžer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že i srednje poslovodstv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o upravljački izvještajni sustav, koji sadrži unaprijed definirana izvješća (tjedna, mjesečna) i prema potreb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C4A5-40F6-4DAB-BCE5-1DAFBB6826F4}" type="slidenum">
              <a:t>26</a:t>
            </a:fld>
          </a:p>
        </p:txBody>
      </p:sp>
    </p:spTree>
  </p:cSld>
  <p:transition spd="slow" advTm="121000">
    <p:comb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djela informacijskog sustav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ustav za potporu odlučivanju Decision Support System – D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brađuje informacije iz različitih izvora (unutarnjih i vanjskih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uža potporu strukturiranom, polustrukturiranom procesima odlučivanj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strukturirano ili slabo strukturiranom procesu odlučivanj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lagodljiv je, prihvaća brojne zahtjev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Jednostavno se kori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6178-DA18-4A32-A77E-FC9422DEDFD0}" type="slidenum">
              <a:t>27</a:t>
            </a:fld>
          </a:p>
        </p:txBody>
      </p:sp>
    </p:spTree>
  </p:cSld>
  <p:transition spd="slow" advTm="121000">
    <p:comb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ustav za potporu odluči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trukturirano odlučivanje podrazumijeva poznate postupke odlučivanja, koji se mogu  “programirat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lustrukturirano odlučivanje podrazumijeva odlučivanje u kome se koriste  stečena znanja i iskustva (npr. ekspertni susta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strukturirano odlučivanje podrazumijeva odlučivanje u kome odluke donose osoba na osnovi relevantnih informaci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371B-E83A-4186-BD49-EDC1ECE97E8E}" type="slidenum">
              <a:t>28</a:t>
            </a:fld>
          </a:p>
        </p:txBody>
      </p:sp>
    </p:spTree>
  </p:cSld>
  <p:transition spd="slow" advTm="121000">
    <p:comb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tav za potporu odlučivanju korist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ladišta podatak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AP alat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darenje podatak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cijsko modeliranje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kspertne sust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15E2-A631-43FB-A253-DB6BA6AAB685}" type="slidenum">
              <a:t>29</a:t>
            </a:fld>
          </a:p>
        </p:txBody>
      </p:sp>
    </p:spTree>
  </p:cSld>
  <p:transition spd="slow" advTm="121000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-i se grade brojnim metodologijama, metoda krajnjeg korisnika aktivno uključuje korisnike koji ga razvijaju s profesionalnim informatičar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jnji korisnici sudjeluju u izradi i učinkovitih programskih alata kojim se rješavaju svakodnevni proble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ati su bitni čimbenici efikasnosti funkcioniranja IS-a kod rješavanja gospodarskih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8809-E1AB-4943-AE72-99167CC0EC97}" type="slidenum">
              <a:t>3</a:t>
            </a:fld>
          </a:p>
        </p:txBody>
      </p:sp>
    </p:spTree>
  </p:cSld>
  <p:transition spd="slow" advTm="121000">
    <p:comb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v za komunikaciju, suradnju i individualni rad, uredsko poslova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 njemu se odvijaju komunikacije sredstvima najnovije tehnologije i al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stav pruža neophodnu potporu suradnji u skupinama kod skupnog odlučivanju i međusobnog komuniciranja članova grup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uža i potporu radu pojedinca koji tako postiže bolja učinkovito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ravlja bezbrojnim sadržajima (dokumentima) i njihovom brzom pretraživanju u bazama i na  Web-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5B18-D840-47F8-87F5-3EEAA5A8BEB6}" type="slidenum">
              <a:t>30</a:t>
            </a:fld>
          </a:p>
        </p:txBody>
      </p:sp>
    </p:spTree>
  </p:cSld>
  <p:transition spd="slow" advTm="121000">
    <p:comb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ustav za komunikaciju, suradnju i individualni rad najčešće je moderan u kome su sve tehnologije integrirane u jednu cjelinu. To su u prvom red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-427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racle Collaboration Suit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-427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icrosoft Exchange Server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-427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BM Lotus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916A-C269-4920-934B-982AE27B6DC6}" type="slidenum">
              <a:t>31</a:t>
            </a:fld>
          </a:p>
        </p:txBody>
      </p:sp>
    </p:spTree>
  </p:cSld>
  <p:transition spd="slow" advTm="121000">
    <p:comb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kcijski informacijski sustav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užaju potpora poslovanju odjela i služb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se javlja kada se poslovni procesi odvijaju u različitim odjelima a trebaju iste podat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je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poslovnom procesu prodaje sudjeluje više službi, menedžment prati samo njezine ostvarene rezul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1947-32C3-4FE2-9342-F70EA2377F58}" type="slidenum">
              <a:t>32</a:t>
            </a:fld>
          </a:p>
        </p:txBody>
      </p:sp>
    </p:spTree>
  </p:cSld>
  <p:transition spd="slow" advTm="121000">
    <p:comb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kcijski informacijski sustav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ravljanja proizvodnjom i logistik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om i prodajo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čunovodstvom i financija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ravljanje ljudskim resurs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7033-C8AB-410F-AED8-D46EC3ED5E8B}" type="slidenum">
              <a:t>33</a:t>
            </a:fld>
          </a:p>
        </p:txBody>
      </p:sp>
    </p:spTree>
  </p:cSld>
  <p:transition spd="slow" advTm="121000">
    <p:comb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Funkcijski IS za upravljanje proizvodnjom i logistikom omoguću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pravljanje zalihama resursa i logistikom poduzeć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laniranje proizvodn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zvoj proizvo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pravljanje proizvodnjom pomoću računala Computer-Aided Design – CAD (oblikovanje), Computer-Aided Manufacturing – CAM (proizvodnja), Computer Integrated Manufacturing – CIM (računalno integrira proizvodnju)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pravljanje procesom nab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DCC7-C056-43B0-AA1F-58E69F908128}" type="slidenum">
              <a:t>34</a:t>
            </a:fld>
          </a:p>
        </p:txBody>
      </p:sp>
    </p:spTree>
  </p:cSld>
  <p:transition spd="slow" advTm="121000">
    <p:comb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ralni informacijski sustav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kcijski IS marketinga obuhvać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ajnu mrež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cijske kana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le kupaca, analizu potreba kupac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u proda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novih proizvoda i uslug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šku bazu podatak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ze podataka potencijalnih kupaca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v za potporu kupcima nakon kupov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30FD-E555-4821-B29F-FE2F39D78D9A}" type="slidenum">
              <a:t>35</a:t>
            </a:fld>
          </a:p>
        </p:txBody>
      </p:sp>
    </p:spTree>
  </p:cSld>
  <p:transition spd="slow" advTm="121000">
    <p:comb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ralni informacijski sustav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Funkcijski IS računovodstva i financija obuhvać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Financijske transakcije (plaćanja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Financijsko planiranje (novčani tokovi, dinamika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Financijsko predviđanje (utjecaj okoline, burza, globalno tržišt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vesticijsko planiranje (ulaganja u osnovna sredstva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Financijsku analizu, kontrolu (profit, troškovi, cijene)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čunovodstvene funkcije (glavna knjiga, salda-konti, materijalno knjigovodstvo, robno knjigovodstvo..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EB21-5285-4ABE-9A55-D7483E96468D}" type="slidenum">
              <a:t>36</a:t>
            </a:fld>
          </a:p>
        </p:txBody>
      </p:sp>
    </p:spTree>
  </p:cSld>
  <p:transition spd="slow" advTm="121000">
    <p:comb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ralni informacijski sustav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kcijski IS ljudskih resursa obuhvać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ranje kadrov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abir kadrov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razovanje kadrov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ćenje proizvodnosti kadrov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će, nagrade, stimulacija i s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F64D-3FD0-43DF-A3CA-26E2A4967864}" type="slidenum">
              <a:t>37</a:t>
            </a:fld>
          </a:p>
        </p:txBody>
      </p:sp>
    </p:spTree>
  </p:cSld>
  <p:transition spd="slow" advTm="121000">
    <p:comb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ralni informacijski sustav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nterprise Resource Planning – ER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država i integrira rad svih služba i funkcija te tako omoguću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laniranje, praćenje, kontrolu, analizu i upravljanje poslovnim resursim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aćenje dokumenata i izvještavanje na razini proces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amostalnost, odgovornost i  komunikaciju zaposleni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D811-7A60-4A2B-8CED-6225EE6F153C}" type="slidenum">
              <a:t>38</a:t>
            </a:fld>
          </a:p>
        </p:txBody>
      </p:sp>
    </p:spTree>
  </p:cSld>
  <p:transition spd="slow" advTm="121000">
    <p:comb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ralni informacijski sustav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ntegralni informacijski sustav koristi jedinstvenu bazu podataka iz koje podatke i informacije koriste 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200" indent="-4100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ransakcijski sustav, MIS, DS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200" indent="-4100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ustav OLAP alata, skladišta podataka (DW) i rudarenje podataka (DM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200" indent="-4100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ftverski moduli za upravljanje odnosima s      kupcima i upravljanje nabavnim lancem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izvođači ERP sustava: SAP, Oracle,.Ban i dr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9DE6-C4B3-4D8D-9EC9-70E67FC3CA6C}" type="slidenum">
              <a:t>39</a:t>
            </a:fld>
          </a:p>
        </p:txBody>
      </p:sp>
    </p:spTree>
  </p:cSld>
  <p:transition spd="slow" advTm="121000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Komponente IS-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as tehnologija omogućuje brzu izgradnju zahtjevnih IS-a, a oni moraju ima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jalno- tehničk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materijaln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judsk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cijsk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atkovnu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jenosnu kompone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436C-F203-45D5-A8C6-CFF992E09082}" type="slidenum">
              <a:t>4</a:t>
            </a:fld>
          </a:p>
        </p:txBody>
      </p:sp>
    </p:spTree>
  </p:cSld>
  <p:transition spd="slow" advTm="121000">
    <p:comb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cijski sustavi u pojedinim područjim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 financ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 računovodst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 marketin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 proizvodn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jer: IS u ban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F54B-8DE1-40A3-8D44-35736296FD26}" type="slidenum">
              <a:t>40</a:t>
            </a:fld>
          </a:p>
        </p:txBody>
      </p:sp>
    </p:spTree>
  </p:cSld>
  <p:transition spd="slow" advTm="121000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terakcija komponent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205000"/>
            <a:ext cx="5588280" cy="3110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ORG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NET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DAT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8713400">
            <a:off x="1325160" y="35992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HARDVER OPR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3013800">
            <a:off x="5122440" y="343584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SOFTVER PROGR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32000" y="5516640"/>
            <a:ext cx="254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LAJFVER LJU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AAD9-B079-4075-875C-B99B1A32F6BD}" type="slidenum">
              <a:t>5</a:t>
            </a:fld>
          </a:p>
        </p:txBody>
      </p:sp>
    </p:spTree>
  </p:cSld>
  <p:transition spd="slow" advTm="121000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iramida menedžment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7960" y="2057400"/>
            <a:ext cx="4470480" cy="3048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2057400"/>
            <a:ext cx="284508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181120" y="2057400"/>
            <a:ext cx="284508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5229360"/>
            <a:ext cx="36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Razine menedžm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4160" y="52293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Informa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24000" y="2781360"/>
            <a:ext cx="1366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VRHOV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VODST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27280" y="3772080"/>
            <a:ext cx="17524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IZVRŠ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VOD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20840" y="4686480"/>
            <a:ext cx="2514600" cy="4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OPERATIV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VOD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3429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436572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2171880"/>
            <a:ext cx="190512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Agregi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Vanjs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plans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4038480"/>
            <a:ext cx="1828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Detalj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Unutar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ontro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850-1FE0-434A-9AF7-C39633169736}" type="slidenum">
              <a:t>6</a:t>
            </a:fld>
          </a:p>
        </p:txBody>
      </p:sp>
    </p:spTree>
  </p:cSld>
  <p:transition spd="slow" advTm="121000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vedene hijerarhije uspostavljaju nadređenosti i podređenosti, svakoj razini odgovara određeni oblik IS-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hu Sustav za potporu odluči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vršnom vodstvu upravljački informacijski sust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vnom vodstvu Transakcijski sust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ači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jviša razina odluču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Što učini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ednj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ko učiniti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vn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moću čega učin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0D8-9F8C-4D3C-8604-2542C000DF49}" type="slidenum">
              <a:t>7</a:t>
            </a:fld>
          </a:p>
        </p:txBody>
      </p:sp>
    </p:spTree>
  </p:cSld>
  <p:transition spd="slow" advTm="121000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cijski sustavi u poslovanju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rž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to je informacijski sust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jelovi informacijskog sust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kcijski informacijski sust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lni informacijski sust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cijski sustav u pojedinim poslovnim područj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j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5089-A322-4DC0-8C67-E88BDE8F7728}" type="slidenum">
              <a:t>8</a:t>
            </a:fld>
          </a:p>
        </p:txBody>
      </p:sp>
    </p:spTree>
  </p:cSld>
  <p:transition spd="slow" advTm="121000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cijski sustavi u poslovanju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spcBef>
                <a:spcPts val="799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to je informacijski sustav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2200" indent="-41436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cijski sustav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st sustav ko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9480" indent="-375480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kuplj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9480" indent="-375480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hranju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9480" indent="-375480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rađuj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9480" indent="-375480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uva i isporučuje inform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2200" indent="-41436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žne za organizaciju i društvo, čuva ih i čini dostupnim i upotrebljivim onima kojim su potreb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EF19-FE33-4BF6-B2B4-B0C466CB4775}" type="slidenum">
              <a:t>9</a:t>
            </a:fld>
          </a:p>
        </p:txBody>
      </p:sp>
    </p:spTree>
  </p:cSld>
  <p:transition spd="slow" advTm="121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17:30:42Z</dcterms:created>
  <dc:creator>Ivan Škoro</dc:creator>
  <dc:description/>
  <dc:language>en-US</dc:language>
  <cp:lastModifiedBy>VBZ</cp:lastModifiedBy>
  <dcterms:modified xsi:type="dcterms:W3CDTF">2005-12-15T13:05:40Z</dcterms:modified>
  <cp:revision>7</cp:revision>
  <dc:subject/>
  <dc:title>PUIS</dc:title>
</cp:coreProperties>
</file>