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56F3-3C04-4B06-B436-C23CC3742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2D7B-20C6-47E9-A506-3D2B1E53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A371-1624-4962-A619-306A31896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3082-3856-45E8-8950-A2F5D1C91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29C0-0465-4365-B26A-0B1199477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F4FC-E7FF-4E32-AD41-C02D80FF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B5EA-192F-4F03-927C-DC23C178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7E76-3F5A-4E01-B454-EDE8873C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B29F-AA9A-4121-9BE0-B942324F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6AD0-8B6C-4D95-931B-A1E8772D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237D-41B1-4B0C-8BE0-28E87E00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009E-2F28-452F-B886-2FB91C87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87FD-6C4E-4CCF-8ADE-76353AC3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2BA5-C9E9-4D3D-AFE9-E5A77A01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47F6-A7A9-4FA0-A177-DE03E142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8129-CD1E-4419-952F-E7144358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464B-A678-4E01-91A0-8588E2C60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F731-1D3F-47ED-B726-ED266876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4A0D-8208-46EC-B43F-95E7D1A6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94D7-2AB2-4DA0-8C71-036283E9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B9D9-ADA1-41BA-BCEA-5B9A0EE8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355C-2FEB-4E5E-8B11-A7CFF1FF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45A3-03E4-440D-9E5E-820AF602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779D-9303-4671-8BEF-287F9042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7577-290F-4DB8-935B-5E0EABAC031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2CB0-1766-4A3E-89B2-542D7950834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hemconnect.com/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LEKTRONIČKO POSLOVANJ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4F53-D3E8-444A-A16C-F3C6896272B8}" type="slidenum">
              <a:t>1</a:t>
            </a:fld>
          </a:p>
        </p:txBody>
      </p:sp>
    </p:spTree>
  </p:cSld>
  <p:transition spd="slow" advTm="121000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osrednički modeli E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Model robne burz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Marketplace Exchange trgovina materijalnim dobrima, novcem, vrijednosnim papirim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U klasičnom poslovanju to su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Sajmovi, tržnice, burze svih vrsta usluga: procjena tržišta, pregovaranje, ugovaranj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Financiranje: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Članarine klijenata i/ili udio u obavljenoj transakciji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Karakteristik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Često su vezane uz jednu djelatnost (industriju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F23D-7C1A-4FBA-B964-F0FEB5975607}" type="slidenum">
              <a:t>10</a:t>
            </a:fld>
          </a:p>
        </p:txBody>
      </p:sp>
    </p:spTree>
  </p:cSld>
  <p:transition spd="slow" advTm="121000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osrednički modeli EP poslovanj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Model robne burz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Primjer ChemConnect (</a:t>
            </a:r>
            <a:r>
              <a:rPr b="0" lang="hr-HR" sz="2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chemconnect.com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Ima 7500 članova u135 zemalja a okuplja proizvođače, potrošače, distributere i posrednike koji trguju kemikalijama, plastikom, papirom, sapunima, deterdžentima, </a:t>
            </a: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aditivima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, uljem i plino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Riječ je o 60.000 različitih proizvod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2004. – ostvarene su transakcije od 5,4 milijarde $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5DB1-2A7D-4CDC-B9C8-9AF0384F0F35}" type="slidenum">
              <a:t>11</a:t>
            </a:fld>
          </a:p>
        </p:txBody>
      </p:sp>
    </p:spTree>
  </p:cSld>
  <p:transition spd="slow" advTm="121000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osrednički modeli E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el dražbe (aukcije)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ajpopularniji oblik u kome sudjeluju tvrtke i pojedinci, jednom kao prodavači a drugi put kao kupc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rokeri u modelu dražbe naplaćuju proviziju. Provizija se naplaćuje u različitim oblicima prema usvojenim pravilima. U pravilu najčešće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davač prihvaća najpovoljniju cijenu kupca koja je veća ili jednaka unaprijed utvrđenoj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C31A-7033-433A-9F3A-CDE17C0AD8E9}" type="slidenum">
              <a:t>12</a:t>
            </a:fld>
          </a:p>
        </p:txBody>
      </p:sp>
    </p:spTree>
  </p:cSld>
  <p:transition spd="slow" advTm="121000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govački model e-poslovanj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Trgovci na malo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Veletrgovci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Virtualne trgov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Cijene su fiksne, odvija se samo kupovina i prodaja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Prema obilježjima to je elektroničko tržište u širem smisl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Elektronička prodavaonica (e-shop, storefront) – samo jedan trgovac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Elektronički prodajni centar (e-mall) – više prodavaonica na jednom Web mjestu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Prema načinu plaćanja poznat j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Model kataloga 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Prodaja on-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F979-922F-4688-94E5-DFC81BD1EFBA}" type="slidenum">
              <a:t>13</a:t>
            </a:fld>
          </a:p>
        </p:txBody>
      </p:sp>
    </p:spTree>
  </p:cSld>
  <p:transition spd="slow" advTm="121000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oizvođački model E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 ovom modelu proizvođači preuzimaju ulogu trgovaca i  pristupaju kupcima bez posrednika. U takvom pristupu mogu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uditi niže cijene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raće rokove isporuke, ali 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mati problema s određenim brojem prijašnjih poslovnih partnera koje su povezivali u nabavni lanac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D8C6-5E33-46DD-A5C7-85B269467B5A}" type="slidenum">
              <a:t>14</a:t>
            </a:fld>
          </a:p>
        </p:txBody>
      </p:sp>
    </p:spTree>
  </p:cSld>
  <p:transition spd="slow" advTm="121000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glašivački model E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Model predstavlja proširenje tradicionalnog oblika oglašavanja u kom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Distributer Web mjesto – portal- predstavlja “početno” mjesto na Webu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Se nalaze programi za pretraživanje (AltaVista, Lycos..) ili katalog (Yahoo) koji se i sami transformiraju u porta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Tamo gdje je puno posjetitelja oglašavanje postaje profitabiln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60BA-A672-4D29-8F4E-F7A847E97363}" type="slidenum">
              <a:t>15</a:t>
            </a:fld>
          </a:p>
        </p:txBody>
      </p:sp>
    </p:spTree>
  </p:cSld>
  <p:transition spd="slow" advTm="121000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glašivački model E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Cilj oglašavanja je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Nuditi sadržaje potrebne korisniku s dodatnim uslugama, diverzifikacije usluga: forum, chat, e-mail, ankete, aukcije, burzovne informacije, prognoza vremena, i s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Poslati promidžbene poruke i ostvariti prihod od iznajmljivanja prostora na Webu (banner, button,…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Elektronički marketing – način ostvarivanja marketinških aktivnosti uz primjenu I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91A7-2CE4-4110-9B16-4D90EE9C3F7F}" type="slidenum">
              <a:t>16</a:t>
            </a:fld>
          </a:p>
        </p:txBody>
      </p:sp>
    </p:spTree>
  </p:cSld>
  <p:transition spd="slow" advTm="121000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glašivački model E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Horizontalna oglašivačka Web mjesta su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Yahoo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Altavista i d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Vertikalna oglašivačka (specijalizirana) Web mjesta oglašavaju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Industrijske grane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Imaju manji broj posjetitelja, koj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Traže kvalitetne, specijalizirane, informacij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8EB2-65AB-48B4-B0E5-392269BC76D0}" type="slidenum">
              <a:t>17</a:t>
            </a:fld>
          </a:p>
        </p:txBody>
      </p:sp>
    </p:spTree>
  </p:cSld>
  <p:transition spd="slow" advTm="121000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glašivački model E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Personalizirani portali predstavljaju prilagodbu korisničkog sučelja i informacijskog sadržaja a oblikuju ih sami korisnici koji ulažu vlastito vrijeme i trud u   definiranje takvih portal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Riječ je o entuzijastima i zaljubljenicima u IT-u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Poznati primjeri: MyYahoo, MyNetscape, MyFami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55A8-AA4D-4C87-BBDF-BF29A5F572E7}" type="slidenum">
              <a:t>18</a:t>
            </a:fld>
          </a:p>
        </p:txBody>
      </p:sp>
    </p:spTree>
  </p:cSld>
  <p:transition spd="slow" advTm="121000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radnički model E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Suradnički modeli imaju za cilj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Kupovanje roba ili usluga izravno od tvrtke proizvođača odnosno davatelja uslug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Proizvođači daju financijski poticaj članovima suradničke zajednice u obliku postotka od prihoda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Suradnici izravno preusmjeravaju (engl. “Click-Through”) zahtjeve kupaca prema proizvođaču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Plaća se po učinku (engl. “Pay-per-service)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Izumitelj modela Jeff Bez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A096-5257-4C11-A99F-86FF35F247F0}" type="slidenum">
              <a:t>19</a:t>
            </a:fld>
          </a:p>
        </p:txBody>
      </p:sp>
    </p:spTree>
  </p:cSld>
  <p:transition spd="slow" advTm="121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držaj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icija e-poslovanja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rste e-poslovanj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del e-poslovanj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blici e-poslovanj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mjeri e-poslovanj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11D1-3660-4CE5-82BE-F88AC208B0E5}" type="slidenum">
              <a:t>2</a:t>
            </a:fld>
          </a:p>
        </p:txBody>
      </p:sp>
    </p:spTree>
  </p:cSld>
  <p:transition spd="slow" advTm="121000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 virtualnih zajednic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Model polazi od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Neprofitabilnosti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Lojalnosti korisnika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Prikupljanja dragovoljnih priloga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Besplatnih savjeta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Određenih ekspertiza i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Razmjene iskustav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Primjeri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ExpertCentral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AllExpe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D7BA-806A-4793-ADFF-0DBB6AF583BA}" type="slidenum">
              <a:t>20</a:t>
            </a:fld>
          </a:p>
        </p:txBody>
      </p:sp>
    </p:spTree>
  </p:cSld>
  <p:transition spd="slow" advTm="121000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 virtualnih zajednic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Često neprofitne organizacije rade dobrotvorne poslov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CharityNet – dobrotvorne akcije, prihod od članarina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WebCharity- prikuplja korisne predmete od donatora i poklanja ih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CharityBanner – daje usluge oglašavanja, ostvareni prihod ide za borbu protiv AIDS-a, raka i gladi u svijetu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CharityVillage – pomoć pri zapošljavanju, volonterski rad, pomoć pri učenju i s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08E5-230D-4AFB-A0D1-F5B8FE8B64EC}" type="slidenum">
              <a:t>21</a:t>
            </a:fld>
          </a:p>
        </p:txBody>
      </p:sp>
    </p:spTree>
  </p:cSld>
  <p:transition spd="slow" advTm="121000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 virtualnih zajednic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Mogu i organiziraju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Mreže znanja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Ekspertna Web mjesta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Stručne ekspertize i korisnička iskustva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Stručnjaci su: zaposlenici Web mjesta ili dobrovoljci koji žele odgovarati na postavljena pitanja  u obliku foruma, savjeti: besplatni (ExpertCentral, Xpertise) ili se naplaćuj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Pitanje je pouzdanosti i autentičnosti odgovor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064F-D3DC-43F0-B488-5B932756C187}" type="slidenum">
              <a:t>22</a:t>
            </a:fld>
          </a:p>
        </p:txBody>
      </p:sp>
    </p:spTree>
  </p:cSld>
  <p:transition spd="slow" advTm="121000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 informacijskih posredni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Internetske se tvrtke specijaliziraju za prikupljanje, obradu i davanje na korištenje (prodaju) podataka o  potrošačim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Cilj im j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Usmjeravanje marketinških aktivnosti i poslovne strategije, kojim se korisnici privlače određenim pogodnostima: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39480" indent="-3754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Besplatnim pristupom Internetu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239480" indent="-3754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Poklonima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239480" indent="-3754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Kuponima nagradnih igara i sl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Problem su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Spam-ovi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0FAD-451E-4406-B7FF-84B74F635169}" type="slidenum">
              <a:t>23</a:t>
            </a:fld>
          </a:p>
        </p:txBody>
      </p:sp>
    </p:spTree>
  </p:cSld>
  <p:transition spd="slow" advTm="121000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 informacijskih posredni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eli preporuk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zmjena informacija o kakvoći   proizvoda i/ili usluga, prodavača i kupac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gistracije i slobodno pregledavanje sadržaja Web mjesta uz uvjet prethodne registracij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B33B-E532-42A5-8C36-25768EF227B0}" type="slidenum">
              <a:t>24</a:t>
            </a:fld>
          </a:p>
        </p:txBody>
      </p:sp>
    </p:spTree>
  </p:cSld>
  <p:transition spd="slow" advTm="121000"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etplatnički mode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U ovim modelima korisnici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Plaćaju za pristup Web mjestu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Web mjesta vode ka kvalitetnim informacijam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Često je kombinacija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Dijela besplatnog sadržaja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Dijela ekskluzivnog sadržaja za koji se usluga naplaćuje, usluge su dostupne samo pretplatnicim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Primjeri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International Data Corporation (IDC)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Gartner Group, Wall Street Journal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Prema Jupiter Media Matrix (2003)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49% korisnika nije željelo plaćati naknadu za pristup bilo kakvim sadržajima na Web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E725-F96B-48E9-BB99-42E00157362A}" type="slidenum">
              <a:t>25</a:t>
            </a:fld>
          </a:p>
        </p:txBody>
      </p:sp>
    </p:spTree>
  </p:cSld>
  <p:transition spd="slow" advTm="121000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 pomoćnih uslug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Model predstavlja i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načica pretplatničkog modela, pristup “Pay-as-You-Go”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Tradicionalno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Telefonske kartice davatelji internetskih usluga (ISPs) – naplat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Prema broju impulsa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Prema broju prenesenih bitova ili količini obrađenih podatak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Primjer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Slashdot - jedno od najvećih Web mjesta  koje ima  novosti o najnovijoj IT-i. to mjesto posjećuje više od 50.000.000 posjetitelja i plaćaju mjesečnu pretplatu od 5$ za 1000 stran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CCB8-B925-488D-A436-2ADAF1D7A802}" type="slidenum">
              <a:t>26</a:t>
            </a:fld>
          </a:p>
        </p:txBody>
      </p:sp>
    </p:spTree>
  </p:cSld>
  <p:transition spd="slow" advTm="121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lektroničko poslovanje – definicij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ektroničko poslovanje predstavlja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ektroničku isporuku informacija, proizvoda i usluga, te elektroničko plaćanje u kome se koriste računalne i druge komunikacijske mrež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-poslovanje obuhvaća sve oblike poslovnih transakcija ili razmjene informacija koje se izvode pomoću informacijske i komunikacijske tehnologije (IKT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net, bankomati, mobiteli,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1D5D-607C-4D9E-9A41-3C9EBEB5EC0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rste e-poslovanj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2B – poslovanje tvrtke s tvrtkom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2C – poslovanje tvrtke s krajnjim potrošač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2C – poslovanje krajnjeg potrošača s krajnjim potrošač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2B – poslovanje krajnjeg potrošača s tvrtk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627E-05B1-41B2-86ED-9DC330C38B17}" type="slidenum">
              <a:t>4</a:t>
            </a:fld>
          </a:p>
        </p:txBody>
      </p:sp>
    </p:spTree>
  </p:cSld>
  <p:transition spd="slow" advTm="121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 e-poslovanj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del e-poslovanja je metoda kojom se obavlja i vodi poslovanja usmjereno na ostvarivanje profita. U tom se modelu razrađuj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ko je kupac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Što kupac želi i kakvu cijenu može platiti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ako se stvaraju novci potrebni poduzeću i zaposlenicima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akvi su odnosi troškova i zarade poduzeća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7182-CC55-41FB-96EE-F79591D82136}" type="slidenum">
              <a:t>5</a:t>
            </a:fld>
          </a:p>
        </p:txBody>
      </p:sp>
    </p:spTree>
  </p:cSld>
  <p:transition spd="slow" advTm="121000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 poslovanj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el poslovanja poduzeća je dobar ako njime nudi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izvode i/ili usluge koji zadovoljavaju potrebe kupaca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izvode i usluge proizvedene na inovativan način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izvode i/ili usluga po nižim cijenama od konkurencije iste ili bolje kakvoć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42F6-5782-4A6A-BCE1-277B8B73FA44}" type="slidenum">
              <a:t>6</a:t>
            </a:fld>
          </a:p>
        </p:txBody>
      </p:sp>
    </p:spTree>
  </p:cSld>
  <p:transition spd="slow" advTm="121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 E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Što je model e-poslovanja 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Metoda pomoću koje poduzeće ostvaruje profit primjenom informacijske i komunikacijske tehnologije, koristeći  pritom prednosti Interneta kao distribucijskog kanal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Postoje 2 pristupa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Potpuni početnici (“startups”) – Amazon, grade sve iznov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Dogradnja IT u postojeći, tradicionalni način   poslovanja (“bricks-and-mortar”) – Barns &amp; Noble, dograđuju prednosti u postojeći sustav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B6C3-BFD9-44DD-A0B1-582384C4DF28}" type="slidenum">
              <a:t>7</a:t>
            </a:fld>
          </a:p>
        </p:txBody>
      </p:sp>
    </p:spTree>
  </p:cSld>
  <p:transition spd="slow" advTm="121000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blici E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Prema oblicima razlikujem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191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Posrednički, brokerski (brokerage)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191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Trgovački (merchant)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191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Proizvođački (manufacturing)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191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Oglašivački (advertising)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191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Suradnički (affiliate)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191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Virtualnih zajednica (community)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191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Informacijskih posrednika (infomediary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191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Pretplatnički (subscription) i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191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Pomoćnih usluga (utility) mod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AD6D-19CF-408F-9940-8F67459C5D32}" type="slidenum">
              <a:t>8</a:t>
            </a:fld>
          </a:p>
        </p:txBody>
      </p:sp>
    </p:spTree>
  </p:cSld>
  <p:transition spd="slow" advTm="121000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osrednički modeli E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rokeri su posrednici koji povezuju kupce i prodavače i javljaju se u oblicima: B2B, B2C i C2C. Interes brokera je naplatiti naknadu za svaku realiziranu transakciju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ostoji više vrsta posredničkih modela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 robne burze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 dražbe i s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bilježja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ktroničko tržište u užem smislu osim kupovine i prodaje obuhvaća i sve ostale elemente trgovanja (pregovori, posredništvo, procjena, ugovaranje, nadmetanj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0ACE-C639-4681-8494-2B0E80E6E590}" type="slidenum">
              <a:t>9</a:t>
            </a:fld>
          </a:p>
        </p:txBody>
      </p:sp>
    </p:spTree>
  </p:cSld>
  <p:transition spd="slow" advTm="121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4:01:36Z</dcterms:created>
  <dc:creator>Ivan Škoro</dc:creator>
  <dc:description/>
  <dc:language>en-US</dc:language>
  <cp:lastModifiedBy>VBZ</cp:lastModifiedBy>
  <dcterms:modified xsi:type="dcterms:W3CDTF">2005-12-15T13:10:20Z</dcterms:modified>
  <cp:revision>11</cp:revision>
  <dc:subject/>
  <dc:title>ELEKTRONIČKO POSLOVANJE</dc:title>
</cp:coreProperties>
</file>