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B41-0902-4A2B-904F-9543E231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FA8-4209-4C7F-849C-51B4467F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DC3-D8FE-4DDF-B0BF-90A6A03E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EA0D-376E-49FE-9541-CD6E8852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C2E2-2717-409A-B1D4-F713DDDB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593F-EC75-4C35-9395-70622FE8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A3BB-3527-49C4-A7BF-3398F4B5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A24C-7CC9-4951-B196-CCAF5037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4866-6255-4258-90B4-F491A271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A99A-F00F-4A1C-BB19-89E3CD97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C486-0A0A-4039-82BD-AEDD6AF8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361-F884-49A0-B1F7-3D9F342F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9A61-696D-49AB-BCD2-B74D63D2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4118-4CB0-4379-A6B1-4EB9809D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FBD6-4D03-4075-B627-D0D37F48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54B8-C677-49AC-AF71-07B8AC58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E330-0031-4B67-B391-4F92FD6D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CD4-66CA-4408-9ADB-42AE480D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EA0-EA41-4C82-AB64-632167D9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BF7-35DF-4BB2-A3C7-A19B4943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22B-2DBA-4F83-B0F3-2B2F35D1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07F-E9E2-472C-AF30-10CEE66C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42B-FD77-4443-9460-32A3C5E3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879-0C15-47D1-8544-B66FD76A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AE3F-8B69-4EBF-B45F-FD1710F6DD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76A5-B992-4407-BDC1-0BFEEAC614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mconnect.com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KTRONIČKO POSLOVANJ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57E3-03AA-4227-82C4-C2025EC51F20}" type="slidenum">
              <a:t>1</a:t>
            </a:fld>
          </a:p>
        </p:txBody>
      </p:sp>
    </p:spTree>
  </p:cSld>
  <p:transition spd="slow" advTm="121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rednički modeli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Model robne burz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Marketplace Exchange trgovina materijalnim dobrima, novcem, vrijednosnim papirim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U klasičnom poslovanju to su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Sajmovi, tržnice, burze svih vrsta usluga: procjena tržišta, pregovaranje, ugovaranj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Financiranje: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Članarine klijenata i/ili udio u obavljenoj transakcij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Karakteristik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Često su vezane uz jednu djelatnost (industriju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4E7-718B-4138-AB1C-F1B198B68E2A}" type="slidenum">
              <a:t>10</a:t>
            </a:fld>
          </a:p>
        </p:txBody>
      </p:sp>
    </p:spTree>
  </p:cSld>
  <p:transition spd="slow" advTm="121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rednički modeli EP poslovanj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Model robne burz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rimjer ChemConnect (</a:t>
            </a:r>
            <a:r>
              <a:rPr b="0" lang="hr-HR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chemconnect.com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Ima 7500 članova u135 zemalja a okuplja proizvođače, potrošače, distributere i posrednike koji trguju kemikalijama, plastikom, papirom, sapunima, deterdžentima, 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aditivima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, uljem i plino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Riječ je o 60.000 različitih proizvo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2004. – ostvarene su transakcije od 5,4 milijarde $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7D6-8F63-4E2E-A1D6-7953F231C4D8}" type="slidenum">
              <a:t>11</a:t>
            </a:fld>
          </a:p>
        </p:txBody>
      </p:sp>
    </p:spTree>
  </p:cSld>
  <p:transition spd="slow" advTm="121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rednički modeli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 dražbe (aukcije)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jpopularniji oblik u kome sudjeluju tvrtke i pojedinci, jednom kao prodavači a drugi put kao kupc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okeri u modelu dražbe naplaćuju proviziju. Provizija se naplaćuje u različitim oblicima prema usvojenim pravilima. U pravilu najčešće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avač prihvaća najpovoljniju cijenu kupca koja je veća ili jednaka unaprijed utvrđenoj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093-C998-4F42-BCFE-FE3EBA215F85}" type="slidenum">
              <a:t>12</a:t>
            </a:fld>
          </a:p>
        </p:txBody>
      </p:sp>
    </p:spTree>
  </p:cSld>
  <p:transition spd="slow" advTm="121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govački model e-poslovanj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Trgovci na malo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Veletrgovci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Virtualne trgov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Cijene su fiksne, odvija se samo kupovina i prodaj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rema obilježjima to je elektroničko tržište u širem smisl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Elektronička prodavaonica (e-shop, storefront) – samo jedan trgovac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Elektronički prodajni centar (e-mall) – više prodavaonica na jednom Web mjest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Prema načinu plaćanja poznat j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odel kataloga 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rodaja on-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20C-2343-42C5-908D-908F91FF8755}" type="slidenum">
              <a:t>13</a:t>
            </a:fld>
          </a:p>
        </p:txBody>
      </p:sp>
    </p:spTree>
  </p:cSld>
  <p:transition spd="slow" advTm="121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izvođački model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 ovom modelu proizvođači preuzimaju ulogu trgovaca i  pristupaju kupcima bez posrednika. U takvom pristupu mogu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uditi niže cijene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raće rokove isporuke, ali 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ati problema s određenim brojem prijašnjih poslovnih partnera koje su povezivali u nabavni lanac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326-7D09-47C2-8F80-0B7FC6BD3078}" type="slidenum">
              <a:t>14</a:t>
            </a:fld>
          </a:p>
        </p:txBody>
      </p:sp>
    </p:spTree>
  </p:cSld>
  <p:transition spd="slow" advTm="121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glašivački model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Model predstavlja proširenje tradicionalnog oblika oglašavanja u kom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Distributer Web mjesto – portal- predstavlja “početno” mjesto na Webu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Se nalaze programi za pretraživanje (AltaVista, Lycos..) ili katalog (Yahoo) koji se i sami transformiraju u porta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Tamo gdje je puno posjetitelja oglašavanje postaje profitabiln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83F-62E3-446A-B941-77A864889E11}" type="slidenum">
              <a:t>15</a:t>
            </a:fld>
          </a:p>
        </p:txBody>
      </p:sp>
    </p:spTree>
  </p:cSld>
  <p:transition spd="slow" advTm="121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glašivački model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Cilj oglašavanja je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Nuditi sadržaje potrebne korisniku s dodatnim uslugama, diverzifikacije usluga: forum, chat, e-mail, ankete, aukcije, burzovne informacije, prognoza vremena, i s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oslati promidžbene poruke i ostvariti prihod od iznajmljivanja prostora na Webu (banner, button,…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Elektronički marketing – način ostvarivanja marketinških aktivnosti uz primjenu 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916-2A1E-4492-A755-3F596DF89F14}" type="slidenum">
              <a:t>16</a:t>
            </a:fld>
          </a:p>
        </p:txBody>
      </p:sp>
    </p:spTree>
  </p:cSld>
  <p:transition spd="slow" advTm="121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glašivački model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Horizontalna oglašivačka Web mjesta su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Yahoo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Altavista i d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Vertikalna oglašivačka (specijalizirana) Web mjesta oglašavaju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Industrijske grane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Imaju manji broj posjetitelja, koj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Traže kvalitetne, specijalizirane, informacij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D4A-5F14-4372-B601-9D73762837F5}" type="slidenum">
              <a:t>17</a:t>
            </a:fld>
          </a:p>
        </p:txBody>
      </p:sp>
    </p:spTree>
  </p:cSld>
  <p:transition spd="slow" advTm="121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glašivački model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ersonalizirani portali predstavljaju prilagodbu korisničkog sučelja i informacijskog sadržaja a oblikuju ih sami korisnici koji ulažu vlastito vrijeme i trud u   definiranje takvih porta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Riječ je o entuzijastima i zaljubljenicima u IT-u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oznati primjeri: MyYahoo, MyNetscape, MyFami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183-6FBE-4264-996F-E474C090C338}" type="slidenum">
              <a:t>18</a:t>
            </a:fld>
          </a:p>
        </p:txBody>
      </p:sp>
    </p:spTree>
  </p:cSld>
  <p:transition spd="slow" advTm="121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radnički model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uradnički modeli imaju za cilj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Kupovanje roba ili usluga izravno od tvrtke proizvođača odnosno davatelja uslug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roizvođači daju financijski poticaj članovima suradničke zajednice u obliku postotka od prihod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Suradnici izravno preusmjeravaju (engl. “Click-Through”) zahtjeve kupaca prema proizvođaču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laća se po učinku (engl. “Pay-per-service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Izumitelj modela Jeff Bez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6A0-9848-451C-805F-5E7D70D7FF20}" type="slidenum">
              <a:t>19</a:t>
            </a:fld>
          </a:p>
        </p:txBody>
      </p:sp>
    </p:spTree>
  </p:cSld>
  <p:transition spd="slow" advTm="121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držaj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icija e-poslovanja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rste e-poslovan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 e-poslovan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blici e-poslovan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mjeri e-poslovan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ED8-04FA-4B03-BF8F-8CA5F9CF2ACB}" type="slidenum">
              <a:t>2</a:t>
            </a:fld>
          </a:p>
        </p:txBody>
      </p:sp>
    </p:spTree>
  </p:cSld>
  <p:transition spd="slow" advTm="121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virtualnih zajedn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Model polazi od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Neprofitabilnosti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Lojalnosti korisnik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rikupljanja dragovoljnih prilog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Besplatnih savjet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Određenih ekspertiza 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Razmjene iskustav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imjeri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ExpertCentral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AllExpe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458-F963-4F6B-A818-6B95DD0A99C3}" type="slidenum">
              <a:t>20</a:t>
            </a:fld>
          </a:p>
        </p:txBody>
      </p:sp>
    </p:spTree>
  </p:cSld>
  <p:transition spd="slow" advTm="121000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virtualnih zajedn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Često neprofitne organizacije rade dobrotvorne poslov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CharityNet – dobrotvorne akcije, prihod od članarin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WebCharity- prikuplja korisne predmete od donatora i poklanja ih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CharityBanner – daje usluge oglašavanja, ostvareni prihod ide za borbu protiv AIDS-a, raka i gladi u svijetu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CharityVillage – pomoć pri zapošljavanju, volonterski rad, pomoć pri učenju i s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3A2-2BD7-4CA1-988C-39CA63ACB920}" type="slidenum">
              <a:t>21</a:t>
            </a:fld>
          </a:p>
        </p:txBody>
      </p:sp>
    </p:spTree>
  </p:cSld>
  <p:transition spd="slow" advTm="121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virtualnih zajedn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Mogu i organiziraju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Mreže znanj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Ekspertna Web mjest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Stručne ekspertize i korisnička iskustv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Stručnjaci su: zaposlenici Web mjesta ili dobrovoljci koji žele odgovarati na postavljena pitanja  u obliku foruma, savjeti: besplatni (ExpertCentral, Xpertise) ili se naplaćuj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itanje je pouzdanosti i autentičnosti odgovo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8BE-783F-4A32-9908-7406E20C08E0}" type="slidenum">
              <a:t>22</a:t>
            </a:fld>
          </a:p>
        </p:txBody>
      </p:sp>
    </p:spTree>
  </p:cSld>
  <p:transition spd="slow" advTm="121000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informacijskih posredn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Internetske se tvrtke specijaliziraju za prikupljanje, obradu i davanje na korištenje (prodaju) podataka o  potrošači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Cilj im j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Usmjeravanje marketinških aktivnosti i poslovne strategije, kojim se korisnici privlače određenim pogodnostima: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Besplatnim pristupom Internetu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Poklonima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uponima nagradnih igara i s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oblem su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Spam-ov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96D5-DCE3-4D27-A7F9-9CE0A58EBE1B}" type="slidenum">
              <a:t>23</a:t>
            </a:fld>
          </a:p>
        </p:txBody>
      </p:sp>
    </p:spTree>
  </p:cSld>
  <p:transition spd="slow" advTm="121000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informacijskih posredn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i preporuk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zmjena informacija o kakvoći   proizvoda i/ili usluga, prodavača i kupac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gistracije i slobodno pregledavanje sadržaja Web mjesta uz uvjet prethodne registracij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F99-03C9-4962-88DF-507A31160330}" type="slidenum">
              <a:t>24</a:t>
            </a:fld>
          </a:p>
        </p:txBody>
      </p:sp>
    </p:spTree>
  </p:cSld>
  <p:transition spd="slow" advTm="121000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tplatnički mode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U ovim modelima korisnic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laćaju za pristup Web mjestu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Web mjesta vode ka kvalitetnim informacijam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Često je kombinacija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ijela besplatnog sadržaja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ijela ekskluzivnog sadržaja za koji se usluga naplaćuje, usluge su dostupne samo pretplatnicim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imjeri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International Data Corporation (IDC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Gartner Group, Wall Street Journal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rema Jupiter Media Matrix (2003)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49% korisnika nije željelo plaćati naknadu za pristup bilo kakvim sadržajima na Web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B71-A4A3-4848-9F0C-2B6C707B6270}" type="slidenum">
              <a:t>25</a:t>
            </a:fld>
          </a:p>
        </p:txBody>
      </p:sp>
    </p:spTree>
  </p:cSld>
  <p:transition spd="slow" advTm="121000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pomoćnih uslug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del predstavlja i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ačica pretplatničkog modela, pristup “Pay-as-You-Go”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Tradicionalno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lefonske kartice davatelji internetskih usluga (ISPs) – naplat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ema broju impulsa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ema broju prenesenih bitova ili količini obrađenih podatak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Primjer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lashdot - jedno od najvećih Web mjesta  koje ima  novosti o najnovijoj IT-i. to mjesto posjećuje više od 50.000.000 posjetitelja i plaćaju mjesečnu pretplatu od 5$ za 1000 stran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C31-BA12-4A3E-8044-E1087AB6FF1D}" type="slidenum">
              <a:t>26</a:t>
            </a:fld>
          </a:p>
        </p:txBody>
      </p:sp>
    </p:spTree>
  </p:cSld>
  <p:transition spd="slow" advTm="121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lektroničko poslovanje – definicij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ktroničko poslovanje predstavlj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ektroničku isporuku informacija, proizvoda i usluga, te elektroničko plaćanje u kome se koriste računalne i druge komunikacijske mrež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poslovanje obuhvaća sve oblike poslovnih transakcija ili razmjene informacija koje se izvode pomoću informacijske i komunikacijske tehnologije (IKT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net, bankomati, mobiteli,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212-4F16-4153-8F20-119C4A92AEE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rste e-poslovanj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2B – poslovanje tvrtke s tvrtkom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2C – poslovanje tvrtke s krajnjim potrošač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2C – poslovanje krajnjeg potrošača s krajnjim potrošač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2B – poslovanje krajnjeg potrošača s tvrtk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BC4-7965-472A-BA79-265191BD900E}" type="slidenum">
              <a:t>4</a:t>
            </a:fld>
          </a:p>
        </p:txBody>
      </p:sp>
    </p:spTree>
  </p:cSld>
  <p:transition spd="slow" advTm="121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e-poslovanj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 e-poslovanja je metoda kojom se obavlja i vodi poslovanja usmjereno na ostvarivanje profita. U tom se modelu razrađuj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ko je kupac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Što kupac želi i kakvu cijenu može platiti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ako se stvaraju novci potrebni poduzeću i zaposlenicima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akvi su odnosi troškova i zarade poduzeća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2E1-E01E-4812-AE17-761BC84747CE}" type="slidenum">
              <a:t>5</a:t>
            </a:fld>
          </a:p>
        </p:txBody>
      </p:sp>
    </p:spTree>
  </p:cSld>
  <p:transition spd="slow" advTm="121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poslovanj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 poslovanja poduzeća je dobar ako njime nud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izvode i/ili usluge koji zadovoljavaju potrebe kupaca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izvode i usluge proizvedene na inovativan način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izvode i/ili usluga po nižim cijenama od konkurencije iste ili bolje kakvoć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2E3-840D-4BFE-ACB4-5734BB87E3E9}" type="slidenum">
              <a:t>6</a:t>
            </a:fld>
          </a:p>
        </p:txBody>
      </p:sp>
    </p:spTree>
  </p:cSld>
  <p:transition spd="slow" advTm="12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Što je model e-poslovanja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Metoda pomoću koje poduzeće ostvaruje profit primjenom informacijske i komunikacijske tehnologije, koristeći  pritom prednosti Interneta kao distribucijskog kana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ostoje 2 pristup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Potpuni početnici (“startups”) – Amazon, grade sve iznov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ogradnja IT u postojeći, tradicionalni način   poslovanja (“bricks-and-mortar”) – Barns &amp; Noble, dograđuju prednosti u postojeći sustav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198-AFF7-4FF9-AD6E-632BBA857018}" type="slidenum">
              <a:t>7</a:t>
            </a:fld>
          </a:p>
        </p:txBody>
      </p:sp>
    </p:spTree>
  </p:cSld>
  <p:transition spd="slow" advTm="121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lici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ema oblicima razlikujem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osrednički, brokerski (brokerage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Trgovački (merchant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roizvođački (manufacturing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Oglašivački (advertising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Suradnički (affiliate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Virtualnih zajednica (community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Informacijskih posrednika (infomediar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retplatnički (subscription) 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omoćnih usluga (utility) mod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B1F-E3ED-4119-BEF0-277ECBF780A7}" type="slidenum">
              <a:t>8</a:t>
            </a:fld>
          </a:p>
        </p:txBody>
      </p:sp>
    </p:spTree>
  </p:cSld>
  <p:transition spd="slow" advTm="121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rednički modeli E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rokeri su posrednici koji povezuju kupce i prodavače i javljaju se u oblicima: B2B, B2C i C2C. Interes brokera je naplatiti naknadu za svaku realiziranu transakcij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stoji više vrsta posredničkih model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 robne burz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 dražbe i s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ilježj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ktroničko tržište u užem smislu osim kupovine i prodaje obuhvaća i sve ostale elemente trgovanja (pregovori, posredništvo, procjena, ugovaranje, nadmetanj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12F-59F7-423A-9FDC-3267D06A533D}" type="slidenum">
              <a:t>9</a:t>
            </a:fld>
          </a:p>
        </p:txBody>
      </p:sp>
    </p:spTree>
  </p:cSld>
  <p:transition spd="slow" advTm="121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4:01:36Z</dcterms:created>
  <dc:creator>Ivan Škoro</dc:creator>
  <dc:description/>
  <dc:language>en-US</dc:language>
  <cp:lastModifiedBy>VBZ</cp:lastModifiedBy>
  <dcterms:modified xsi:type="dcterms:W3CDTF">2005-12-15T13:10:20Z</dcterms:modified>
  <cp:revision>11</cp:revision>
  <dc:subject/>
  <dc:title>ELEKTRONIČKO POSLOVANJE</dc:title>
</cp:coreProperties>
</file>