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47C-594A-4532-9332-A45A63CB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86C-F925-4B9A-96D2-994E0759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3F3-0D7A-450E-A7CF-96F7DBE4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E37-8C96-4CB2-B5DF-CECE61EF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ABCC-00BF-47EB-B8EE-085D552D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274F-D2ED-4F05-A6D6-2A0DBEAD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778F-C9C2-4F61-9322-CBE6D8DA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9DD-5A99-42DD-9777-93AF6D9E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BD80-8084-4973-8B8F-54636CD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729-7D27-4AB0-B2B7-495002AF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0C1D-6128-49DB-913F-A604AB2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4D2-B655-42BB-A386-8A44CB1D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5E3-D809-4E80-897D-69AF05F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0F6A-A8B5-48BD-8908-6B026F2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7C2E-E209-4FB0-91A7-67415DE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CB9-2D7F-4F59-8CBC-D3360907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9D8C-CF8F-40F8-B023-82CABB96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F67-9B52-4397-8C76-D7F98C4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159-B03E-444F-BE06-D5B6221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762-850B-4803-BB42-6EF8E18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827-9917-4AA7-90E0-A097767A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7DB-88B9-4FEE-BC24-3343EAD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467-C76F-4E5F-966D-FD33EF3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C12-6ADE-4AD0-933C-40260B0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1BFB-E4B0-4EEA-ABB8-6B9276D1C451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1B09-63D8-46FA-B3CC-630AA3D7FF41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KORISNIKA@ADRESA" TargetMode="External"/><Relationship Id="rId2" Type="http://schemas.openxmlformats.org/officeDocument/2006/relationships/hyperlink" Target="mailto:KORISNIKA@ADRESA" TargetMode="External"/><Relationship Id="rId3" Type="http://schemas.openxmlformats.org/officeDocument/2006/relationships/hyperlink" Target="mailto:IME@ORGANIZACIJ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99"/>
                </a:solidFill>
                <a:latin typeface="Verdana"/>
              </a:rPr>
              <a:t>6 PR Interne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030E-1E82-44C8-8703-C4894AF6C31A}" type="slidenum">
              <a:t>1</a:t>
            </a:fld>
          </a:p>
        </p:txBody>
      </p:sp>
    </p:spTree>
  </p:cSld>
  <p:transition advTm="12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ored spomenutih razvijalo se još nekoliko mrež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Najznačajnija je bila NSFNET, 1988. pripojila se ARPAnet-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Ubrzo su priključene nove mreže, koristi se pojam Internet, “mreža nad mrežama”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U tome je vladala stihijnost. Ni danas nema središnje kontrole, autoriteta, s pregledom i mogućim nadzorom, to je prihvaćeno kao stvarnos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D10-2997-451E-8D0C-0E3EC9979250}" type="slidenum">
              <a:t>10</a:t>
            </a:fld>
          </a:p>
        </p:txBody>
      </p:sp>
    </p:spTree>
  </p:cSld>
  <p:transition advTm="1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0-ih je Internet prekoračio granice SAD-a a 1992. ga je koristilo više od milijun korisnik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štvo za Internet proglašava ga “općim dobrom čovječanstva”, kao voda, zrak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 Internetom naglo raste zanimanje, prate ga veći broj softverskih kuća usmjeravanjem svojih aplikacija prema mrež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očena prednost uzrokuje pojavu nezaobilazne, World Wide Web, paukove mreže, spremne na prihvat svih vrsta i oblika informacij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02B-1FEA-4596-8E23-3274D4B3DA9B}" type="slidenum">
              <a:t>11</a:t>
            </a:fld>
          </a:p>
        </p:txBody>
      </p:sp>
    </p:spTree>
  </p:cSld>
  <p:transition advTm="1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ww postaje aktivni poslovni čimbenik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preuzima ulogu novog globalnog gospodarskog prostor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širi kulture i u tome ne poznaje vjerske ni nacionalne grani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net nameće nezapamćeno takmičenje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spodarski subjekti i pojedinci pripremljeni za Internet naglo se bogate, druge, nepripremljene, uništavaju, a ostale tjeraju da se prilagode novim tržišnim uvjeti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3AC-5C35-49D8-9CB3-28D6771902EE}" type="slidenum">
              <a:t>12</a:t>
            </a:fld>
          </a:p>
        </p:txBody>
      </p:sp>
    </p:spTree>
  </p:cSld>
  <p:transition advTm="12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teraktivni odn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114640"/>
            <a:ext cx="12193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preglednik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02320" y="2171880"/>
            <a:ext cx="12193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Davatelj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uslug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computr2"/>
          <p:cNvSpPr/>
          <p:nvPr/>
        </p:nvSpPr>
        <p:spPr>
          <a:xfrm>
            <a:off x="1117440" y="4000680"/>
            <a:ext cx="2006640" cy="92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4057560"/>
            <a:ext cx="1218960" cy="971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imes New Roman"/>
              </a:rPr>
              <a:t>PODAC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3454560" y="1828800"/>
            <a:ext cx="2438280" cy="11430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2228760"/>
            <a:ext cx="37591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743200" y="2457360"/>
            <a:ext cx="37591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13680" y="2571840"/>
            <a:ext cx="0" cy="1485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2514600"/>
            <a:ext cx="0" cy="1486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30320" y="2514600"/>
            <a:ext cx="0" cy="14860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65560" y="2000160"/>
            <a:ext cx="22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zahtjev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60640" y="2286000"/>
            <a:ext cx="20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Informaci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5920" y="3314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zahtjev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543480"/>
            <a:ext cx="26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99"/>
                </a:solidFill>
                <a:latin typeface="Times New Roman"/>
              </a:rPr>
              <a:t>informaci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0840" y="4971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imes New Roman"/>
              </a:rPr>
              <a:t>KLIJEN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459-E127-4B01-B26F-D8BF9FCDACCD}" type="slidenum">
              <a:t>13</a:t>
            </a:fld>
          </a:p>
        </p:txBody>
      </p:sp>
    </p:spTree>
  </p:cSld>
  <p:transition advTm="12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loge klijenta i poslužitelja se mijenjaj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 Internet su priključeni milijuni snažnih računala, kao klijenti ili poslužitelji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lijent ne zna tko pruža, a davatelj kome pruža uslug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to se govori o virtualnom prostoru u kome se pružaju raznovrsne uslug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nas se govori o nekoliko standardnih internetskih servis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78E-104C-4390-92E8-41BAB9D98392}" type="slidenum">
              <a:t>14</a:t>
            </a:fld>
          </a:p>
        </p:txBody>
      </p:sp>
    </p:spTree>
  </p:cSld>
  <p:transition advTm="12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Standardni I- servis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ronološka pojav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aljinski prijenos datoteka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Elektronička pošta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World Wide Web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ombinacijom spomenutih iz njih su izveden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ostavne list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Diskusijske skupin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Čavrljanje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Internetska telefonija/videotelefonija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99"/>
                </a:solidFill>
                <a:latin typeface="Verdana"/>
              </a:rPr>
              <a:t>Telekonferencije/videokonferencij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609-2156-4D85-908B-D321F6DFD6D8}" type="slidenum">
              <a:t>15</a:t>
            </a:fld>
          </a:p>
        </p:txBody>
      </p:sp>
    </p:spTree>
  </p:cSld>
  <p:transition advTm="12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-servis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14560"/>
            <a:ext cx="1727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Daljinsk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rijeno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odata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60640" y="200016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Internetsk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servis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59120" y="2914560"/>
            <a:ext cx="1727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Elektronič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pošt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076640"/>
            <a:ext cx="201780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Dostav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lis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4057560"/>
            <a:ext cx="1994040" cy="8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Korisnič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Diskusijs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imes New Roman"/>
              </a:rPr>
              <a:t>skupin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97196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telefonij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971800"/>
            <a:ext cx="15242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16440" y="3860280"/>
            <a:ext cx="204300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avrlj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57" name=""/>
          <p:cNvCxnSpPr>
            <a:stCxn id="250" idx="2"/>
            <a:endCxn id="251" idx="0"/>
          </p:cNvCxnSpPr>
          <p:nvPr/>
        </p:nvCxnSpPr>
        <p:spPr>
          <a:xfrm>
            <a:off x="4622400" y="2457360"/>
            <a:ext cx="1080" cy="457920"/>
          </a:xfrm>
          <a:prstGeom prst="straightConnector1">
            <a:avLst/>
          </a:prstGeom>
          <a:ln w="9360">
            <a:solidFill>
              <a:srgbClr val="006699"/>
            </a:solidFill>
            <a:miter/>
          </a:ln>
        </p:spPr>
      </p:cxnSp>
      <p:cxnSp>
        <p:nvCxnSpPr>
          <p:cNvPr id="258" name=""/>
          <p:cNvCxnSpPr>
            <a:stCxn id="249" idx="0"/>
            <a:endCxn id="255" idx="0"/>
          </p:cNvCxnSpPr>
          <p:nvPr/>
        </p:nvCxnSpPr>
        <p:spPr>
          <a:xfrm flipH="1" rot="16200000">
            <a:off x="4593960" y="-207720"/>
            <a:ext cx="57960" cy="6300000"/>
          </a:xfrm>
          <a:prstGeom prst="bentConnector3">
            <a:avLst>
              <a:gd name="adj1" fmla="val -400000"/>
            </a:avLst>
          </a:prstGeom>
          <a:ln w="9360">
            <a:solidFill>
              <a:srgbClr val="006699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>
            <a:off x="1332000" y="3860280"/>
            <a:ext cx="6114240" cy="2520"/>
          </a:xfrm>
          <a:prstGeom prst="bentConnector3">
            <a:avLst>
              <a:gd name="adj1" fmla="val 49985"/>
            </a:avLst>
          </a:prstGeom>
          <a:ln w="9360">
            <a:solidFill>
              <a:srgbClr val="006699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4572000" y="3486240"/>
            <a:ext cx="0" cy="3744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4" idx="0"/>
          </p:cNvCxnSpPr>
          <p:nvPr/>
        </p:nvCxnSpPr>
        <p:spPr>
          <a:xfrm flipH="1">
            <a:off x="7466760" y="4405320"/>
            <a:ext cx="172440" cy="567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4978440" y="5715000"/>
            <a:ext cx="2946240" cy="9144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imes New Roman"/>
              </a:rPr>
              <a:t>Klasičn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imes New Roman"/>
              </a:rPr>
              <a:t>telefonij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908760" y="5428800"/>
            <a:ext cx="609480" cy="514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386064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3860640"/>
            <a:ext cx="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8F3-8AF9-4621-87D8-FA4838D0FF75}" type="slidenum">
              <a:t>16</a:t>
            </a:fld>
          </a:p>
        </p:txBody>
      </p:sp>
    </p:spTree>
  </p:cSld>
  <p:transition advTm="120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96960" y="24768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ljinski prijenos datotek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Mreže su građene za prijenos datoteke s jednog na drugo računal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toteke se prenose po FTP (File Transfer Protocol) protokolu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i privatna FTP mjesta ograničenog pristupa, poslužitelji anonimnih korisnik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ljinski prijeno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Binarnih datoteka između udaljenih računal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ekstualnih datotek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reuzimanja progr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Multimedijskih datote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Nezgoda su mogući virusi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4BE-9B02-48B6-8415-9F00C89AD8C3}" type="slidenum">
              <a:t>17</a:t>
            </a:fld>
          </a:p>
        </p:txBody>
      </p:sp>
    </p:spTree>
  </p:cSld>
  <p:transition advTm="120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lektronička pošt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mbinacija telefonske ekspeditivnosti i pisane trajnosti, koncipirana 1971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utuje brže i sigurnije i ne traži istodobnu aktivnost komunikator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ma nepredviđenih zastoja u radu, neželjenih prekida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 usporedbi s ostalim pisanim oblicima ima veliku prednost, a u odnosu na druge načine komuniciranja i cijena joj je pristupačna. Dolazi  posebno do izražaja kod komunikacija s velikim obujmom podatak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B80-910C-4F68-9E41-9AAFC4665846}" type="slidenum">
              <a:t>18</a:t>
            </a:fld>
          </a:p>
        </p:txBody>
      </p:sp>
    </p:spTree>
  </p:cSld>
  <p:transition advTm="12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dresiranje u E-pošti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šta se može slati između dva komunikatora ako su prijavljeni kod davatelja usluga koji im je dodijelio standardizirane adres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ME </a:t>
            </a: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KORISNIKA@INTERNETSKA</a:t>
            </a: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ADRESA</a:t>
            </a: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ODNOS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IME@ORGANIZACIJA</a:t>
            </a: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 PODRUČ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Ime i naziv organizacije određuje korisnik proizvoljno a oznaku područja određuje davatelj uslug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dručja se razlikuju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 SAD-u su: com, org, net, edu, gov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Ostale zemlje koriste oznaku zemlje gdje su korisnici registriran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hr-Hrvatska, si-Slovenija, it-Italija, uk-Velika Britanija i it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48D-D4CC-4BE9-96EB-4C7F3812C4B6}" type="slidenum">
              <a:t>19</a:t>
            </a:fld>
          </a:p>
        </p:txBody>
      </p:sp>
    </p:spTree>
  </p:cSld>
  <p:transition advTm="1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formacij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1916280"/>
            <a:ext cx="5689800" cy="3673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9280" y="4848120"/>
            <a:ext cx="54259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Analiz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6680" y="4178160"/>
            <a:ext cx="41911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Sintez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6680" y="2849400"/>
            <a:ext cx="419112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Odlučivanj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oralne norm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Iskustv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87640" y="5173560"/>
            <a:ext cx="5030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2600" y="4846680"/>
            <a:ext cx="452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81200" y="4532400"/>
            <a:ext cx="40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6520" y="417348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6800" y="3849840"/>
            <a:ext cx="300348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6840" y="2849400"/>
            <a:ext cx="1455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6960" y="5202360"/>
            <a:ext cx="1330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Podata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89160" y="4500720"/>
            <a:ext cx="302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Informacij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21160" y="3797280"/>
            <a:ext cx="2162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Znanj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0" y="2492280"/>
            <a:ext cx="173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ahoma"/>
              </a:rPr>
              <a:t>Mudro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6092640"/>
            <a:ext cx="8124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ijerarhijska organizacija osnovnih elemenata informacijske zna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68F-8971-4522-BF0E-68F31651240B}" type="slidenum">
              <a:t>2</a:t>
            </a:fld>
          </a:p>
        </p:txBody>
      </p:sp>
    </p:spTree>
  </p:cSld>
  <p:transition advTm="12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Servis E pošt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lanje počinje pokretanjem programa i upisom podataka u masku zaslona, koju nudi progra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Maske mogu biti različite ali sve sadrž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o: adresa primatelja, odvajaju se (;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Cc: adrese kojim se šalju kopi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From: adresa pošiljatel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ubject: kratki opis, sažetak poru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Body: proizvoljni tekst, pridružena datote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ada je sve napisano prijenos se aktivira pritiskom na dugme Sen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Poruka dolazi u poštanski pretinac primatelja i tamo ga čeka dok je on ne pozove na svoje računal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243-CE02-4EAF-B66A-EE17EDDE0CB4}" type="slidenum">
              <a:t>20</a:t>
            </a:fld>
          </a:p>
        </p:txBody>
      </p:sp>
    </p:spTree>
  </p:cSld>
  <p:transition advTm="12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Konvencije u E pošti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bog lakšeg komuniciranja i snalaženja razvijene su autentične konvencije, bez obvez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misleno naslovljavanje nudi sam program a poruka olakšava svrstavanje svom primatelju: molba, žalba, račun, prigovor i s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tiranje navoda iz primljene poruke: pismom od.., pošiljkom ..od,  it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pisivanje poruke je uljudno jer iza nje mogu stajati različite namjere, pa joj se neće možda pokloniti odgovarajuća pažnja ako nije potpisan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0A5-DBE9-4E17-9B2A-E54D7E2C345B}" type="slidenum">
              <a:t>21</a:t>
            </a:fld>
          </a:p>
        </p:txBody>
      </p:sp>
    </p:spTree>
  </p:cSld>
  <p:transition advTm="120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zbjegavanje nesporazu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ma ljudi što su shvatili E poštu kao mogućnost nekulturnog iživljavanja i istodobne anonimnosti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vijek treba izbjegavati moguće nesporazume i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e treba pisati ono što kasnije treba nijekati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azmisliti o intoniranju poruke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a treba biti nedvosmislena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u prije slanja treba pročitati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 komuniciranju treba biti uglađen, vrata ostavljati otvorena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uka mora zvučati argumentirano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reba poštivati, kulturne, religijske, nacionalne i druge razlike i posebnosti primatel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ez obzira što omogućuje anonimnost komuniciranje mora biti pristojno i mora pristajati prilic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8EE-42BA-4979-9979-8FDBD808354E}" type="slidenum">
              <a:t>22</a:t>
            </a:fld>
          </a:p>
        </p:txBody>
      </p:sp>
    </p:spTree>
  </p:cSld>
  <p:transition advTm="12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orld Wide Web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tvaranje, prijenos i pregledavanje multimedijskih dokumenat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CERN - European Laboratory for Particle Physic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1989. - Tim Berners-Lee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1993. - prvi grafički orijentirani WWW pregledni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NCSA Mozaic prvi komercijalni preglednik – Netscap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World Wide Web Consortiu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B81-223E-443D-907F-5C753E99FC5E}" type="slidenum">
              <a:t>23</a:t>
            </a:fld>
          </a:p>
        </p:txBody>
      </p:sp>
    </p:spTree>
  </p:cSld>
  <p:transition advTm="12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Svojstv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orisničko-poslužiteljski model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poslužitelj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HTTP - HyperText Transfer Protoc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preglednici ili browser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dokumenti u HTML formatu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HyperTextMarkup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91160" y="1619280"/>
            <a:ext cx="3952800" cy="44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8BB-2820-40A5-9114-A07692010F87}" type="slidenum">
              <a:t>24</a:t>
            </a:fld>
          </a:p>
        </p:txBody>
      </p:sp>
    </p:spTree>
  </p:cSld>
  <p:transition advTm="12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Elemen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tehnika hiperteksta – izravan prijelaz na drugu Web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tranicu aktiviranjem hiperpoveznice (engl. hyperlink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hiperpoveznice (linkovi, veze, pokazivači) – sadrž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adresu Web strani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veze, pokazivači – hiperlinkov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vigaci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poslužitelji se aktiviraju na zahtjev korisn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zahtjev za pristup Web stranicama postavlja s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orištenjem pregledn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F0F-1AE6-4987-8C2D-F91CDBAF6938}" type="slidenum">
              <a:t>25</a:t>
            </a:fld>
          </a:p>
        </p:txBody>
      </p:sp>
    </p:spTree>
  </p:cSld>
  <p:transition advTm="12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Elementi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eb stranica (engl. Web Page) – dokumenti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ublicirani na Webu (uglavnom HTML datotek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eb mjesto (engl. Web Site) – kolekcij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multimedijskih strani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očetna stranica Web mjesta – engl. home pag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metastranice (kazala, indeksi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259-D5A7-4DDC-864C-5427E10010CB}" type="slidenum">
              <a:t>26</a:t>
            </a:fld>
          </a:p>
        </p:txBody>
      </p:sp>
    </p:spTree>
  </p:cSld>
  <p:transition advTm="12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URL – Uniform Resource Loca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jedinstvena adresa za označavanje Web stranic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http://organizacija.područ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poruča se korištenje malih slov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registracija URL adresa uz napla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7F-A609-43E8-BD1F-50B607E794AC}" type="slidenum">
              <a:t>27</a:t>
            </a:fld>
          </a:p>
        </p:txBody>
      </p:sp>
    </p:spTree>
  </p:cSld>
  <p:transition advTm="12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WEB – razvoj i principi ra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glednik – engl. brows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Microsoft Internet Explorer i Netscape Naviga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pretraživanje informacija na Web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rad sa elektroničkom pošt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6699"/>
                </a:solidFill>
                <a:latin typeface="Verdana"/>
              </a:rPr>
              <a:t>korištenje usluge foruma, diskusijskih lis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94-D376-4C16-83D1-8860B10B8701}" type="slidenum">
              <a:t>28</a:t>
            </a:fld>
          </a:p>
        </p:txBody>
      </p:sp>
    </p:spTree>
  </p:cSld>
  <p:transition advTm="12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orld Wide Web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trebno je naglasiti da WWW i Internet nisu isto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WWW je rasprostranjeni i vrlo popularni internetski servi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Osnovica www-a je hipertekst, odnosno hipermedijski dokument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Hipertekstualni dokumenti su skupovi informacija izraženi u tekstualnom obliku i logički umreženi na brojnim računalim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lični su i hipermedijski dokumenti, koji se mogu povezivati  sa dijelovima sličnih dokumenat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Veze (linkovi) su u svakom dokumentu vidno označene, podcrtane ili uokviren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Veze se mogu ostvariti bez znanja davatelja uslug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Radi se na novom snažnijem jeziku XML (eXtended Markup Language), koji bi zamijenio uhodani HTML (HyperText Markup Language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54B-3499-4071-B3C0-7B076B851E65}" type="slidenum">
              <a:t>29</a:t>
            </a:fld>
          </a:p>
        </p:txBody>
      </p:sp>
    </p:spTree>
  </p:cSld>
  <p:transition advTm="1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488360" y="3746520"/>
            <a:ext cx="68256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45320" y="3746520"/>
            <a:ext cx="68256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808280"/>
            <a:ext cx="77724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C. Shannon i W. Weawer, </a:t>
            </a:r>
            <a:r>
              <a:rPr b="0" i="1" lang="hr-HR" sz="2400" spc="-1" strike="noStrike">
                <a:solidFill>
                  <a:srgbClr val="006699"/>
                </a:solidFill>
                <a:latin typeface="Verdana"/>
              </a:rPr>
              <a:t>The Mathematical Theory of Communication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, University of Illinois Press, Urbana, 1949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917640" y="3745080"/>
            <a:ext cx="682560" cy="6825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188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8880" y="3745080"/>
            <a:ext cx="682920" cy="6825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348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0480" y="3745080"/>
            <a:ext cx="682560" cy="682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6520" y="4086360"/>
            <a:ext cx="92556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58120" y="4086360"/>
            <a:ext cx="925200" cy="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41760" y="4414320"/>
            <a:ext cx="0" cy="925560"/>
          </a:xfrm>
          <a:prstGeom prst="line">
            <a:avLst/>
          </a:prstGeom>
          <a:ln cap="sq"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00480" y="5383080"/>
            <a:ext cx="682560" cy="68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560" y="3119400"/>
            <a:ext cx="17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ZV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NFORMAC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4784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PREDAJ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0160" y="327348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PRIJEM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6840" y="32734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ODREDIŠT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541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8600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9320" y="44514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rimljen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4451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poru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23960" y="6072120"/>
            <a:ext cx="40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IZVOR ŠUM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(buka u komunikacijskom kanalu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370400" y="2328480"/>
            <a:ext cx="319320" cy="2506680"/>
          </a:xfrm>
          <a:custGeom>
            <a:avLst/>
            <a:gdLst>
              <a:gd name="textAreaLeft" fmla="*/ 0 w 319320"/>
              <a:gd name="textAreaRight" fmla="*/ 115200 w 319320"/>
              <a:gd name="textAreaTop" fmla="*/ 65160 h 2506680"/>
              <a:gd name="textAreaBottom" fmla="*/ 2441520 h 250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95720" y="2987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Komunikacijski kan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861-34E0-4963-A1CD-3680AAF5B2F0}" type="slidenum">
              <a:t>3</a:t>
            </a:fld>
          </a:p>
        </p:txBody>
      </p:sp>
    </p:spTree>
  </p:cSld>
  <p:transition advTm="12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eb prostor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Računala imaju programe pomoću kojih nude stranice na uporabu, ali je osnovni alat web preglednik. To se doima kao jednadžba stanja ravnotež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nas se koriste: Netscape Navigator i Microsoft Internet Explorer u omjeru 40 : 60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Aktiviranje preglednika otvara početnu stranicu s mnogo povezica prema drugim web stranic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ostupna stranica vidi se na ekranu ili poruka da nije dostupn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da korisnik zna adresu onoga što traži tada je lako pronaći stranicu ali uvijek nije tak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da nije tako koristi se URL adresa (Uniform Resource Locator) a to je sinonim za punu adresu, jer se zanemaruje HTTP (HyperTexxt Transfer Protocol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806-F4B1-4B08-9992-73D06E744224}" type="slidenum">
              <a:t>30</a:t>
            </a:fld>
          </a:p>
        </p:txBody>
      </p:sp>
    </p:spTree>
  </p:cSld>
  <p:transition advTm="12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Traženje u Web prostoru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5564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Šetnja Internetom je opravdana ako vodi k cilju, surfanje i nije nekada produktivno kako zvuči. Dok se stječu iskustva ono je opravdan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Cilj je pronaći potrebnu informaciju, pa su neki shvatili poruku i razvili moćne alate za upućivanje na Web mjesta s traženim informacij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dvije osnovne skup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menici ili direktoriji 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retraživači, tražilic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Danas se smanjuju razlike između njih i pretraživački sustavi se približavaju jedni drugim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Postoje na stotine pretraživačkih sustava a najpoznatiji je Yahoo!, ali su tu još i Alta Vista, HotBot, Licos i drug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E25-1058-48AB-BAF3-865017605E7E}" type="slidenum">
              <a:t>31</a:t>
            </a:fld>
          </a:p>
        </p:txBody>
      </p:sp>
    </p:spTree>
  </p:cSld>
  <p:transition advTm="12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etraživački alati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YAHOO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ALTAVISTA.DIGIRTAL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HOTBOT.COM/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LYCOS.C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WWW.EXCITE.COM/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etraživanja se mogu ubrzavati Booleovim operatorima (AND, OR i NOT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Na taj se način preciznije dolazi do informa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E82-2D20-43CD-AB4F-79B79B57B9BC}" type="slidenum">
              <a:t>32</a:t>
            </a:fld>
          </a:p>
        </p:txBody>
      </p:sp>
    </p:spTree>
  </p:cSld>
  <p:transition advTm="12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Vlastita Web stranic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Svatko može imati svoju stranicu ponukan različitim potreba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kon odluke o stranici, treba je kreirati, sam ili platiti profesionalcu koji to rad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Web stranice su HTML dokumenti (HyperText Markup Language), koje se oblikuju softverskim alatima, kojih ima dosta i lako se njima rukuj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Važno je imati na umu kreativnost ljudi koji oblikuju atraktivne stranice, jer o tome ovisi broj pristupa korisnik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slovnice imaju svoje tipične sadržaje, informacije o vlasniku, djelatnosti, broju posjetitelja, područja interesa posjetitelja, adresu elektroničke pošte i drug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635-14B4-44C3-A6F6-F05534BA54D5}" type="slidenum">
              <a:t>33</a:t>
            </a:fld>
          </a:p>
        </p:txBody>
      </p:sp>
    </p:spTree>
  </p:cSld>
  <p:transition advTm="12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zvedeni internetski servisi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oluirali su iz određenih standarda servisa i u pravilu čine njihovu svrhovitu i učinkovitu kombinacij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rvis dostavnih list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služitelj je zadužen za prosljeđivanje svim pretplatnici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skusijske skup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kupljaju se na osnovi zajedničkih interesa, od idola glumačkih imena do vlasnika određenih pasmina pas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avrlj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stvaruje se tako što davatelj usluga prihvaća pozive korisnika koji žele stupiti u izravne kontakte sa drugim poznatim i nepoznatim korisnicim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2B8-D0A9-471F-A8AD-9CB1463E0598}" type="slidenum">
              <a:t>34</a:t>
            </a:fld>
          </a:p>
        </p:txBody>
      </p:sp>
    </p:spTree>
  </p:cSld>
  <p:transition advTm="120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obilna telefonij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zi rast komunikacija uzrokovao je pojavu mobilne telefonije, koja je doživjela nagli razvoj s brojnim prednostima i pristupačnim cijen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dnost je u dostupnosti na svakom mjestu za razliku od fiksne telefonije, osoba koja posjeduje mobilnu stanicu stalno je dostupn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glo raste broj ponuđača mobilne telefonije zbog niskih ulaganja u stani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predak u tehnologiji vodi je u širu primjenu, priključkom na Internet u u nove gospodarske dimenzije, koje tek dolaz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BDF-CA72-4BF7-BB0A-01C613BE83FE}" type="slidenum">
              <a:t>35</a:t>
            </a:fld>
          </a:p>
        </p:txBody>
      </p:sp>
    </p:spTree>
  </p:cSld>
  <p:transition advTm="12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Verdana"/>
              </a:rPr>
              <a:t>Intranet i Ekstrane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ojne koristi od Interneta navela su mnoga poduzeća na razmišljanje da svoje mreže koncipiraju kao klijentsko-poslužiteljsku arhitekturu, primjena standardnih Internetskih protokola, na jedan od slijedećih nači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državaju se postojeće LAN i WAN mreže i dodaju elementi Internetskih principa il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rade novi mrežni sustavi, funkcionalno i konceptualno kompatibilni s Interneto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F5A-0692-4154-AB5B-28741DF6BE08}" type="slidenum">
              <a:t>36</a:t>
            </a:fld>
          </a:p>
        </p:txBody>
      </p:sp>
    </p:spTree>
  </p:cSld>
  <p:transition advTm="120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Koncepcija intranet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Intranet je unutarnja mreža računala koja funkcionira kao Internet, a njegova uloga varira ovisno o potrebi i može biti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mjena lokalne mrež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Kao veza više lokalnih mrež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mjena za rasprostranjenu mrež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Povezica lokalne s rasprostranjenom mrežom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red toga može povezivati IS poduzeća s okruženje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spostava Intraneta unapređuje primjenu UIS-a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Razmjenom informacija među djelatnicim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Sudjelovanje u upravljanj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Razvojnim aktivnostima proizvoda i uslug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Obrazovnih aktiv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Neformalne komunikacije, čavrljanje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Unutar postoje informacije koje predstavljaju poslovne tajne poduzeća i njih treba čuvat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F01-C7CF-4A9E-9BB6-A19E0F6E9F18}" type="slidenum">
              <a:t>37</a:t>
            </a:fld>
          </a:p>
        </p:txBody>
      </p:sp>
    </p:spTree>
  </p:cSld>
  <p:transition advTm="120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99"/>
                </a:solidFill>
                <a:latin typeface="Verdana"/>
              </a:rPr>
              <a:t>Koncepcija ekstranet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Ekstranet povezuje računalne mreže više poslovnih sustava u poslovnom udruženju, a to su obično složene kompanije s većim brojem tvrtki, istog vlasnika, sa visokim stupnjem samostalnosti, različiti predmeti poslovanja, ali interesa vlasnika da usko surađuju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Njihove mreže povezani po principima Interneta daju ekstranet, više neovisnih privatnih mrež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Pored prednosti koje pruža intranet, ekstranet pruža mogućnost telekonferencija u kojim sudionici postaju vremenski integriran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Može se uspostavljati zajednički Web servis i tzv. višekorisnička domena, više tvrtki zainteresirano za tržišt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Ekstranet ima smisla ako njegovi sudionici imaju uspostavljene vlastite intranet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Aktivnostima ekstraneta prethode aktivnosti intraneta, modifikacija postojećih ili gradnja novih mreža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59C-8FD8-4BE3-BDEA-904632A9FB54}" type="slidenum">
              <a:t>38</a:t>
            </a:fld>
          </a:p>
        </p:txBody>
      </p:sp>
    </p:spTree>
  </p:cSld>
  <p:transition advTm="1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pćeni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šiljatelj (izvo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dij i kanal (potpor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atelj (interpretato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4EE-0D6F-4C14-BBFD-B1D6FC286072}" type="slidenum">
              <a:t>4</a:t>
            </a:fld>
          </a:p>
        </p:txBody>
      </p:sp>
    </p:spTree>
  </p:cSld>
  <p:transition advTm="1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ne komunikacijskog proces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 Tehnič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Točnost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renesenih simbol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ehnička kvaliteta medija (komunikacijskih 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uređaja) i kanal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 Semantič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preciznos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dentičan ili približno identičan smisao poruke pošiljatelja i njezine interpretacije kod primatel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379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 Bihevioristička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djelotvornos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981080" indent="-45720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16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Učinak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ruke na primatelja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240-0B13-426E-A902-A9DFF98404E8}" type="slidenum">
              <a:t>5</a:t>
            </a:fld>
          </a:p>
        </p:txBody>
      </p:sp>
    </p:spTree>
  </p:cSld>
  <p:transition advTm="1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 postizanje djelotvorne komunikacije 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 potrebno 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 medij i kanal 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 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šiljatelj  i primatelj 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aju ili postignu zadovoljavajuću razinu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kapacitet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CBE-447C-4545-A408-F2F09FF90E6F}" type="slidenum">
              <a:t>6</a:t>
            </a:fld>
          </a:p>
        </p:txBody>
      </p:sp>
    </p:spTree>
  </p:cSld>
  <p:transition advTm="1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Komunikacijski pro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Kapacit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Mo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gućnost medija i kanala da uspješno prenesu </a:t>
            </a:r>
            <a:br>
              <a:rPr sz="1600"/>
            </a:b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poruk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Mogućnost pošiljatelja i primatelja da uspješno </a:t>
            </a:r>
            <a:br>
              <a:rPr sz="1600"/>
            </a:b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kodiraju / dekodiraju poruk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Verdana"/>
              </a:rPr>
              <a:t>Na kapacitet utječ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tehnički šum (medij / kanal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emantički šum (pošiljatelj / primatelj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Komunikacijski proc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Cilj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Smanjenje šuma i povećanje kapacitet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99"/>
                </a:solidFill>
                <a:latin typeface="Verdana"/>
              </a:rPr>
              <a:t>Shannon i Weawer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Zalihost (engl. redundancy) (predvidljivost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62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Verdana"/>
              </a:rPr>
              <a:t>Entropija (engl. entropy) (neizvjesnost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5B1-9722-4B2B-B3A3-DFEF38256556}" type="slidenum">
              <a:t>7</a:t>
            </a:fld>
          </a:p>
        </p:txBody>
      </p:sp>
    </p:spTree>
  </p:cSld>
  <p:transition advTm="1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Intern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60-ih ARPA, Agencija za napredne istraživačke projekte, eksperimentalno je povezivala računala na širokim prostorima i stvorila jedinstvenu mrež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režu je nazvala ARPANET, a služila je vojnim potrebam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ljnji razvoj se odvija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. Faza - mješovita vojno-civilna mreža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Faza – preobrazba u “mrežu nad mrežama”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. Faza – Internet kao “opće dobro čovječanstva”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4. Faza – Internet kao novi gospodarski prosto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1A4-9431-47BF-8EC1-E46119843262}" type="slidenum">
              <a:t>8</a:t>
            </a:fld>
          </a:p>
        </p:txBody>
      </p:sp>
    </p:spTree>
  </p:cSld>
  <p:transition advTm="1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Faza 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vim korakom povezana 2, a koncem 1969. 4 računala, kraj 1971. 22, 1972 više od 3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Bojazan za nacionalnu sigurnost prisilila je na razdvajanje mreže na MILNET i ARPAne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Razlog nemoguća kontrola mreže u njezinom stihijskom razvitka i neizrađenom protokolu komuniciran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A16-2ABA-429B-8874-7010CA16EBDF}" type="slidenum">
              <a:t>9</a:t>
            </a:fld>
          </a:p>
        </p:txBody>
      </p:sp>
    </p:spTree>
  </p:cSld>
  <p:transition advTm="1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12:30Z</dcterms:created>
  <dc:creator>Ivan Škoro</dc:creator>
  <dc:description/>
  <dc:language>en-US</dc:language>
  <cp:lastModifiedBy>VBZ</cp:lastModifiedBy>
  <dcterms:modified xsi:type="dcterms:W3CDTF">2005-12-15T13:08:08Z</dcterms:modified>
  <cp:revision>4</cp:revision>
  <dc:subject/>
  <dc:title>6 PR Internet</dc:title>
</cp:coreProperties>
</file>