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25C0-E54B-4510-A717-11DD72FD0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8A68-6422-451D-B6A8-F83FF0A0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521E-D66D-48A8-8CA6-6C3E82CEE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64BB-1552-46BE-ADE0-07E180372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7B1D-CB4B-421A-AE2B-DEAF8AE84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0F84-CE66-40FE-BE23-A8B4AB1F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8990-1966-49EE-9093-9E022723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46BB-20F8-482E-8FD8-98931973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F287-0195-44E8-B610-3055F974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6459-77E2-4C09-96AC-6AC53DE2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D28F-9490-498C-9479-91D7290C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F4A3-17B5-4212-AFD3-DD89BB93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A932-21B5-419D-8C56-85065A23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B833-6AE7-4271-988E-296E9FB1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DE5F-CFE9-414B-96FD-1066509B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0E8B-D672-4E83-94E1-9FA235275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4543-AE8F-40C1-9CE4-837109BE6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E654-E2C3-472C-B974-751F88EA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8F2D-AF45-46B4-8950-C59C57F1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A56F-8573-434D-B0F2-C15A6AEF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6911-3580-4169-924A-9D31A7DB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EC5A-7A10-4EE5-964D-9B434AA5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21EF-D37E-4500-BA75-62F654E6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6C5A-059D-4951-8FF0-EE1D6BA7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F884-00C8-4D97-88B9-43BACADEDA6C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F794-254F-428F-8112-33903F68B824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FARMAKOLOGIJA BUBREGA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m.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mr. sc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sip Čulig, dr. m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OSMOTSKI DIURETICI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443320"/>
            <a:ext cx="8229600" cy="31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NIT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 tubulima se slabo reapsorbira &gt; povećani osmotski tlak primarnog urina &gt; inhibirana reapsorpcija vo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.V. primjena:- forsirana diureza razrjeđenog uri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zo sniženje intrakranijalnog te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intraokularnog tla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INHIBITORI BUBREŽNOG TUBULARNOG TRANSPORTA ORGANSKIH TVARI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560" y="2895480"/>
            <a:ext cx="8381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OBENEC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0440" indent="-1904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transport drugih organskih kiseli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0440" indent="-1904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okira bubrežni tubularni ekskrecijski prijenos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enicilina,    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cefalospori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0440" indent="-1904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ULFINPIRAZ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0440" indent="-1904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hibira ponovnu reapsorpciju mokraćne kisel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dbbd71"/>
                </a:solidFill>
                <a:latin typeface="Arial"/>
              </a:rPr>
              <a:t>Sretno na ispitu!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132000" y="2133720"/>
            <a:ext cx="2384640" cy="257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FUNKCIJA BUBREG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419280" y="1412640"/>
            <a:ext cx="554508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filtrira plazmu, odvaja i eliminira suvišne tvar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regulira volumen i tlak krvi eliminacijom/zadržavanjem vo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regulira osmolarnost tjelesnih tekući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luči enzim renin koji sudjeluje u kontroli krvnog tlaka i elektrolitne ravnotež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luči hormon eritropoet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sudjeluje u kontroli homeostaze 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......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2160720" cy="25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NEFRON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svaki bubreg sadrži oko 1.2 miliona funkcionalnih jedinica:nefro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sastoji se od: krvnih žila, renalnog tjelešca i renalnog tubu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renalni tubul se dijeli u 4 dijela:proksimalni tubul, nefronsku petlju, distalni tubul i sabirni kanali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26920" y="1846440"/>
            <a:ext cx="2921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Nefron - nastavak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6912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77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IURETICI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981000"/>
            <a:ext cx="861048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kupina lijekova koja se primjenjuje kako bi se promijenio volumen ili sastav tjelesnih tekući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jelovanje: uglavnom smanjuju tubularnu reapsorpciju natrijevih iona, a gubitak vode i tvari otopljenih u njoj je onda pasivan pro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djela: prema mjestu njihova djelovanja duž nefrona ili prema načinu djelovan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činak ostvaruju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akcijom sa spec. membranskim transportnim proteini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smotskim učinkom - smanjuje se reapsorpcija vo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akcijom s enzimi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akcijom s hormonskim receptori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INHIBITORI KARBOANHIDRAZE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91120" y="2819160"/>
            <a:ext cx="4572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ksimalni tubu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zivno izlučivanje 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natrija, kalija, smanjeno izlučivanje klorida &gt; povećanje volumena uri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ETAZOLAM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35200" y="2238480"/>
            <a:ext cx="2823840" cy="32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TIAZIDSKI DIURETICI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81280" y="1483920"/>
            <a:ext cx="556272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jelaz završnog dijela uzlaznog kraka Henleove petlje u distalni tubu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hibiraju aktivnu reapsorpciju Na &gt; natriureza, izlučivanje klorida te kal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IDROKLOROTIAZID, CIKLOPENTAZ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 farmakološkom djelovanju slični nizu diuretika koji nisu tiazidi: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LORTALIDON, MEFRUZID, INDAPAM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60320" y="2238480"/>
            <a:ext cx="2516400" cy="30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DIURETICI HENLEOVE PETLJE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86200" y="1844280"/>
            <a:ext cx="50292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UROSEMI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BUMETAN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mpetira kao anion za vezna mjesta klorida iz lumena tubula (blokator kloridnih ion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ličina urina raste i do 30-40 ml/m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ago vazodilatatorno djelovanje u bubrezima (povećana sinteza P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nearan odnos doze i učin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60320" y="2238480"/>
            <a:ext cx="2557440" cy="30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DIURETICI KOJI ČUVAJU KALIJ</a:t>
            </a:r>
            <a:br>
              <a:rPr sz="3600"/>
            </a:b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- čuvaju kalij u organizmu, obično u kombinaciji s tiazidima ili diureticima Henleove petlje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2205000"/>
            <a:ext cx="41148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TRIAMTEREN, AMILORI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lokatori Na kanala s luminalne strane distalnog tubula i sabirnih kanalića (inhibicija reapsorpcije Na u zamjenu za K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+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 H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u kombinaciji s hidroklorotiazidom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ugodjelujući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1640" y="2060640"/>
            <a:ext cx="434340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SPIRONOLAKTON, KANRENOA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teroidna jezgr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kompetitivni inhibitor aldosterona čime sprečava njegove učinke na sintezu proteina ionskih kanala te nekih enzim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lab diuretički učinak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astup učinka je spor (do 72 h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16:20:38Z</dcterms:created>
  <dc:creator>KERAMEIKOS d.o.o.</dc:creator>
  <dc:description/>
  <dc:language>en-US</dc:language>
  <cp:lastModifiedBy>Zlatokosa</cp:lastModifiedBy>
  <dcterms:modified xsi:type="dcterms:W3CDTF">2003-04-25T19:15:39Z</dcterms:modified>
  <cp:revision>7</cp:revision>
  <dc:subject/>
  <dc:title>FARMAKOLOGIJA BUBREGA</dc:title>
</cp:coreProperties>
</file>