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6054-3566-4C5E-BAA9-7572DF002F7C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38412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888840" y="8916840"/>
            <a:ext cx="4884840" cy="67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88840" y="8834400"/>
            <a:ext cx="488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marL="119160" indent="-119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rott S, Godfrey C, Raw M 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Thorax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1998;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(Suppl 5): S1-3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ichmond, RL. 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Int J Tuberc Lung Di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100-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yal College of Physicians of London. 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Nicotine addiction in Britain: A report of the Tobacco Advisory Group of the Royal College of Physician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 London: Royal College of Physicians, 200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FC3-6E55-4992-A33C-A792C789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C84-CD43-4F0E-B561-EFD9E07E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D43-FFEB-4B2B-A8CD-4982577B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399-3215-4C2C-B630-957F58F7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F0A3-B84D-4095-B642-522B8D46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237D-D862-4C52-B6D4-4FA575F6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B661-BD3B-4E90-8FDC-266D9D1A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3A3C-D921-4705-9A17-5EEB8B72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51D2-6EDA-440A-B63F-C4E1F2EA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1445-5A2D-4EC0-A90B-CEE0518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92A3-1A82-448D-8B72-54710C6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3C4-9F01-43C4-9DFD-3C28F824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0692-04DE-4637-BA12-AEAB2FC2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96F5-E138-48EF-8582-1FA8DCC6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7890-0DFE-4794-8EFE-D9943ACA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0726-95BC-4A43-B31A-32B0D1DA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340B-1E50-4BDF-A18D-2552F1D7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A70-5372-44A6-A993-C0F9DBB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D44-34D0-4A28-92A7-BD47B136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C63-96B7-4DB5-B8EE-B46A4F3E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BE2-7D84-4621-AE20-683EEEF0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371-8E19-4188-866C-12974477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357-2AE4-4A46-9F30-3B19FA8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050-D2B3-44FD-8FBB-A63D409B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C056-08A3-432F-B0FF-BEE78BA1FB6B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D926-B5E5-4324-A4E8-FF88F96D5312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1557000"/>
            <a:ext cx="701172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LIJEČENJE BOLI I PRIMJENA ANALGETIK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9280" y="3657240"/>
            <a:ext cx="66866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AVOD ZA KLINIČKU FARMAKOLOGIJU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NTERNE KLINIKE REB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BC ZAGRE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4745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NSAR </a:t>
            </a:r>
            <a:r>
              <a:rPr b="1" lang="hr-HR" sz="2400" spc="-1" strike="noStrike">
                <a:solidFill>
                  <a:srgbClr val="006666"/>
                </a:solidFill>
                <a:latin typeface="Arial Black"/>
              </a:rPr>
              <a:t>(nesteroidni antireumatici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0720" y="1955880"/>
            <a:ext cx="83329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 u="sng">
                <a:solidFill>
                  <a:srgbClr val="000000"/>
                </a:solidFill>
                <a:uFillTx/>
                <a:latin typeface="Arial"/>
              </a:rPr>
              <a:t>Lijekovi s analgetskim i blagim do umjerenim protuupalnim učink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33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81160" indent="-457200">
              <a:lnSpc>
                <a:spcPct val="13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ERIVATI PROPIONSKE KISELIN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r-HR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2286000" indent="-34272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ibuprofen, fenoprofen, ketoprofen, neprox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181160" indent="-457200">
              <a:lnSpc>
                <a:spcPct val="2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ERIVATI FENAMINSKE KISELIN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286000" indent="-34272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efenaminska kise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33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NSAR </a:t>
            </a:r>
            <a:r>
              <a:rPr b="1" lang="hr-HR" sz="2400" spc="-1" strike="noStrike">
                <a:solidFill>
                  <a:srgbClr val="006666"/>
                </a:solidFill>
                <a:latin typeface="Arial Black"/>
              </a:rPr>
              <a:t>(nesteroidni antireumatici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0720" y="1676520"/>
            <a:ext cx="833292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09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 u="sng">
                <a:solidFill>
                  <a:srgbClr val="000000"/>
                </a:solidFill>
                <a:uFillTx/>
                <a:latin typeface="Arial"/>
              </a:rPr>
              <a:t>Lijekovi s analgetskim i jakim protuupalnim učink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9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9560" indent="-60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DERIVATI SALICILNE KISELINE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828800" indent="-457200">
              <a:lnSpc>
                <a:spcPct val="11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cetilsalicilna kis, natrijev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ali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la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aminosalicil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09560" indent="-609480">
              <a:lnSpc>
                <a:spcPct val="12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DERIVATI PIRAZOLON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828800" indent="-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pifenazon, aminofenazo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lbutazo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metamiz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09560" indent="-609480">
              <a:lnSpc>
                <a:spcPct val="13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DERIVATI OCTENE KISELINE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828800" indent="-4572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iklofenak, etodola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09560" indent="-609480">
              <a:lnSpc>
                <a:spcPct val="13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DERIVATI INDOLA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828800" indent="-4572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dometacin, sulinda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09560" indent="-609480">
              <a:lnSpc>
                <a:spcPct val="13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OKSIKAMI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828800" indent="-4572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iroksikam, tenoksikam, meloksika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09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09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3080" y="6043680"/>
            <a:ext cx="7335720" cy="576360"/>
            <a:chOff x="973080" y="6043680"/>
            <a:chExt cx="7335720" cy="576360"/>
          </a:xfrm>
        </p:grpSpPr>
        <p:sp>
          <p:nvSpPr>
            <p:cNvPr id="122" name=""/>
            <p:cNvSpPr/>
            <p:nvPr/>
          </p:nvSpPr>
          <p:spPr>
            <a:xfrm>
              <a:off x="973080" y="6043680"/>
              <a:ext cx="7335720" cy="576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52440" y="6143760"/>
              <a:ext cx="664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x-2 Inhibitor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 Melo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ks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, Cele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ks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b, Rofe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ks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66"/>
                </a:solidFill>
                <a:latin typeface="Arial Black"/>
              </a:rPr>
              <a:t>LIJEČENJE SOMATSKE BOL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5000" y="1844640"/>
            <a:ext cx="728820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VRLO VAŽNO JE PROCJENITI DA LI JE BOL UPALNE ILI NEUPALNE GENEZ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LIJEČENJE SOMATSKE BOL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8360" y="1844640"/>
            <a:ext cx="73152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MIROVAN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FIZIKALNA TERAPIJ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TOPIČKA PRIMJENA LIJEKOV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3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SALICILATI, NSAR, MENTOL, KAMFOR, ULJE EUKALIPTUS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3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NEDOVOLJNO RAZJAŠNJEN MEHANIZAM DJELOVANJ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ANALGETIC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LOKALNO INJICIRANJE ANESTETIKA I STEROID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LIJEČENJE SOMATSKE BOLI</a:t>
            </a:r>
            <a:br>
              <a:rPr sz="2400"/>
            </a:br>
            <a:br>
              <a:rPr sz="2400"/>
            </a:b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ANALGETIC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8360" y="1844640"/>
            <a:ext cx="73152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6666"/>
                </a:solidFill>
                <a:latin typeface="Verdana"/>
              </a:rPr>
              <a:t>NEUPALNA SOMATSKA B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PARACETAMOL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 –  prva linija (maks. 4 g dnevno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NSAR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 – oralni pripravci jednako učinkoviti kao paracetam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hr-HR" sz="1300" spc="-1" strike="noStrike">
                <a:solidFill>
                  <a:srgbClr val="000000"/>
                </a:solidFill>
                <a:latin typeface="Arial"/>
              </a:rPr>
              <a:t>parenteralni pripravci kratkotrajnog učinka ponekad bolji iz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nema sinergističkog učinka paracetamola i NSAR</a:t>
            </a: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6666"/>
                </a:solidFill>
                <a:latin typeface="Arial"/>
              </a:rPr>
              <a:t>Neadekvatan analgetski učina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TRAMADOL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 – brzo djelujući 50 mg 4 x dnevn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KODEIN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 - 30 do 60mg svakih 4-6 s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OKSIKODON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 -  brzo-djelujući 5 do 10mg svakih 4-6 s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LIJEČENJE</a:t>
            </a:r>
            <a:r>
              <a:rPr b="0" lang="hr-HR" sz="20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0" lang="hr-HR" sz="2000" spc="-1" strike="noStrike">
                <a:solidFill>
                  <a:srgbClr val="006666"/>
                </a:solidFill>
                <a:latin typeface="Arial Black"/>
              </a:rPr>
              <a:t>SOMATSKE BOLI</a:t>
            </a:r>
            <a:br>
              <a:rPr sz="2000"/>
            </a:br>
            <a:br>
              <a:rPr sz="1600"/>
            </a:br>
            <a:r>
              <a:rPr b="0" lang="hr-HR" sz="1600" spc="-1" strike="noStrike">
                <a:solidFill>
                  <a:srgbClr val="006666"/>
                </a:solidFill>
                <a:latin typeface="Arial Black"/>
              </a:rPr>
              <a:t>ANALGETICI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8360" y="1844640"/>
            <a:ext cx="73152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6666"/>
                </a:solidFill>
                <a:latin typeface="Verdana"/>
              </a:rPr>
              <a:t>UPALNA SOMATSKA B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NSAR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–  prva linij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PARACETAMOL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– ukoliko postoje kontraindikacije za NS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6666"/>
                </a:solidFill>
                <a:latin typeface="Arial"/>
              </a:rPr>
              <a:t>Neadekvatan analgetski učina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30000"/>
              </a:lnSpc>
              <a:spcBef>
                <a:spcPts val="1199"/>
              </a:spcBef>
              <a:spcAft>
                <a:spcPts val="150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KORTIKOSTEROIDI -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kratkotraj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TRAMADOL</a:t>
            </a:r>
            <a:r>
              <a:rPr b="1" lang="hr-HR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– brzo djelujući 50 mg 4 x dnevn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KODEIN</a:t>
            </a:r>
            <a:r>
              <a:rPr b="1" lang="hr-HR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- 30 do 60mg svakih 4-6 s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OKSIKODON</a:t>
            </a:r>
            <a:r>
              <a:rPr b="1" lang="hr-HR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-  brzo-djelujući 5 do 10mg svakih 4-6 s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1089000" y="5156280"/>
            <a:ext cx="6735960" cy="1078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33cccc"/>
                </a:solidFill>
                <a:latin typeface="Arial"/>
              </a:rPr>
              <a:t>MIORELAKSAN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lonazepam, diazepam, midazol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lorzoksazon, baklo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25200" y="1980720"/>
            <a:ext cx="810252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Najvažnija nuspojava NSAR je krvarenje iz GI trak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38"/>
              </a:spcBef>
              <a:spcAft>
                <a:spcPts val="238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Najmanju incidenciju GI krvarenja (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aktički kao paracetamol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) ima </a:t>
            </a:r>
            <a:r>
              <a:rPr b="0" i="1" lang="hr-HR" sz="1900" spc="-1" strike="noStrike">
                <a:solidFill>
                  <a:srgbClr val="000000"/>
                </a:solidFill>
                <a:latin typeface="Arial"/>
              </a:rPr>
              <a:t>IBUPROFEN (u dozi &lt; 1500 mg/da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88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Najjače protuupalno i analgetsko, uz to i produženo, djelovanje imaju </a:t>
            </a:r>
            <a:r>
              <a:rPr b="0" i="1" lang="hr-HR" sz="1900" spc="-1" strike="noStrike">
                <a:solidFill>
                  <a:srgbClr val="000000"/>
                </a:solidFill>
                <a:latin typeface="Arial"/>
              </a:rPr>
              <a:t>INDOMETACIN I OKSIKAM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88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COX-2 inhibitori </a:t>
            </a:r>
            <a:r>
              <a:rPr b="0" i="1" lang="hr-HR" sz="1900" spc="-1" strike="noStrike">
                <a:solidFill>
                  <a:srgbClr val="000000"/>
                </a:solidFill>
                <a:latin typeface="Arial"/>
              </a:rPr>
              <a:t>(koksibi)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66"/>
                </a:solidFill>
                <a:latin typeface="Arial Black"/>
              </a:rPr>
              <a:t>NSAR </a:t>
            </a:r>
            <a:r>
              <a:rPr b="1" lang="hr-HR" sz="1800" spc="-1" strike="noStrike">
                <a:solidFill>
                  <a:srgbClr val="006666"/>
                </a:solidFill>
                <a:latin typeface="Arial Black"/>
              </a:rPr>
              <a:t>(neke važne napomene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58920" y="1827360"/>
            <a:ext cx="74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6666"/>
                </a:solidFill>
                <a:uFillTx/>
                <a:latin typeface="Arial"/>
              </a:rPr>
              <a:t>ABDOMINALNA VISCERALNA B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000000"/>
                </a:solidFill>
                <a:uFillTx/>
                <a:latin typeface="Arial"/>
              </a:rPr>
              <a:t>BUBREŽNE / BILIJARNE KOLI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PAZMOLITICI   (hioscin butilbromid, trospij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SAR (parenteralno, čepić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RAMADOL - 50-100 iv/sc svakih 4-6 sa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RFIN – 10-15 mg sc svakih 4-6 sa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000000"/>
                </a:solidFill>
                <a:uFillTx/>
                <a:latin typeface="Arial"/>
              </a:rPr>
              <a:t>AKUTNI PANKREATIT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RAMADOL - 50-100 iv/sc svakih 4-6 sa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RFIN – 10-15 mg sc svakih 4-6 sa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000000"/>
                </a:solidFill>
                <a:uFillTx/>
                <a:latin typeface="Arial"/>
              </a:rPr>
              <a:t>AKUTNI ABDOME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perforacija šupljeg organa, strangulacija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11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djeljen stav dati opioidni analgetik ili 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iše je ZA! Lakša daljnja dijagnostika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ada je donešena odluka o op. zahvatu svakako opioidni analgeti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66"/>
                </a:solidFill>
                <a:latin typeface="Arial Black"/>
              </a:rPr>
              <a:t>LIJEČENJE VISCERALNE BOL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TORAKALNA VISCERALNA B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INFARKT MIOKARD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MORFIN – 2 - 5 mg iv polagano, svakih 4-6 sat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           – </a:t>
            </a: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po potrebi ponoviti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DISEKCIJA AOR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MORFIN – 5 - 10 mg iv polagano, svakih 4-6 sat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           – </a:t>
            </a: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postepeno titrirati dozu povisujući po 1-2 mg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Arial"/>
              </a:rPr>
              <a:t>PNEUMONIJA, PLEURALNA B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87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NSAR ILI PARACETAMO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KODEIN – 30-60 mg svakih 4-6 sat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MORFIN – 5-10 mg sc polagano, svakih 4-6 sat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LIJEČENJE VISCERALNE BOLI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TRI STUPNJA U LIJEČENJU BOL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35000" y="2782800"/>
            <a:ext cx="5127840" cy="2643120"/>
            <a:chOff x="1935000" y="2782800"/>
            <a:chExt cx="5127840" cy="2643120"/>
          </a:xfrm>
        </p:grpSpPr>
        <p:sp>
          <p:nvSpPr>
            <p:cNvPr id="141" name=""/>
            <p:cNvSpPr/>
            <p:nvPr/>
          </p:nvSpPr>
          <p:spPr>
            <a:xfrm>
              <a:off x="1935000" y="4102200"/>
              <a:ext cx="1712880" cy="1323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41760" y="3481200"/>
              <a:ext cx="1714320" cy="1341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48160" y="2782800"/>
              <a:ext cx="1714680" cy="1341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79640" y="4244760"/>
              <a:ext cx="1660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BLAGI ANALGETICI (paracetamol, NSAR) +           ADJUVANTNA TERAP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60840" y="3608280"/>
              <a:ext cx="16603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BLAGI OPIOIDI (tramadol, kodein, oksikodon)                +           ADJUVANTNA TERAP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73720" y="2943000"/>
              <a:ext cx="16603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JAKI OPIOIDI  (morfij, petidin, metadon, fentanil)     +           ADJUVANTNA TERAP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7462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Arial Black"/>
              </a:rPr>
              <a:t>DEFINICIJA</a:t>
            </a:r>
            <a:r>
              <a:rPr b="0" lang="hr-HR" sz="28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0" lang="hr-HR" sz="2800" spc="-1" strike="noStrike">
                <a:solidFill>
                  <a:srgbClr val="006666"/>
                </a:solidFill>
                <a:latin typeface="Arial Black"/>
              </a:rPr>
              <a:t>BOL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14440" y="2198520"/>
            <a:ext cx="7175520" cy="16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 Unicode MS"/>
              </a:rPr>
              <a:t>BOL JE NEUGODAN OSJETILNI I EMOTIVNI DOŽIVLJAJ POVEZAN SA STVARNIM ILI POTENCIJALNIM OŠTEĆENJEM TKIVA.</a:t>
            </a:r>
            <a:r>
              <a:rPr b="0" lang="hr-HR" sz="2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981080"/>
            <a:ext cx="812808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3"/>
              </a:spcBef>
              <a:spcAft>
                <a:spcPts val="213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6666"/>
                </a:solidFill>
                <a:latin typeface="Arial"/>
              </a:rPr>
              <a:t>Prvi oralni oblik morfija kod nas je registriran 1997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213"/>
              </a:spcBef>
              <a:spcAft>
                <a:spcPts val="213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6666"/>
                </a:solidFill>
                <a:latin typeface="Arial"/>
              </a:rPr>
              <a:t>Morfin - zlatni standar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213"/>
              </a:spcBef>
              <a:spcAft>
                <a:spcPts val="213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 u="sng">
                <a:solidFill>
                  <a:srgbClr val="006666"/>
                </a:solidFill>
                <a:uFillTx/>
                <a:latin typeface="Arial"/>
              </a:rPr>
              <a:t>Pentazocin</a:t>
            </a:r>
            <a:r>
              <a:rPr b="1" lang="hr-HR" sz="1700" spc="-1" strike="noStrike">
                <a:solidFill>
                  <a:srgbClr val="006666"/>
                </a:solidFill>
                <a:latin typeface="Arial"/>
              </a:rPr>
              <a:t> se ne preporučuje zbog čitavog niza loših karakteristik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213"/>
              </a:spcBef>
              <a:spcAft>
                <a:spcPts val="213"/>
              </a:spcAft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6666"/>
                </a:solidFill>
                <a:latin typeface="Arial"/>
              </a:rPr>
              <a:t>Antagonizira analgetske učinke ostalih opioidnih analgetik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213"/>
              </a:spcBef>
              <a:spcAft>
                <a:spcPts val="213"/>
              </a:spcAft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6666"/>
                </a:solidFill>
                <a:latin typeface="Arial"/>
              </a:rPr>
              <a:t>Može precipitirati simptome sustezanja kod bolesnika s opijatskom ovisnost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213"/>
              </a:spcBef>
              <a:spcAft>
                <a:spcPts val="213"/>
              </a:spcAft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6666"/>
                </a:solidFill>
                <a:latin typeface="Arial"/>
              </a:rPr>
              <a:t>Sistemska primjena može dovesti do povišenja krvnog tlaka i frekvencije srca, a više doze izazivaju disforiju i halucinacij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213"/>
              </a:spcBef>
              <a:spcAft>
                <a:spcPts val="213"/>
              </a:spcAft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6666"/>
                </a:solidFill>
                <a:latin typeface="Arial"/>
              </a:rPr>
              <a:t>Subkutano i im primjenjen ima iritativno djelovanje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213"/>
              </a:spcBef>
              <a:spcAft>
                <a:spcPts val="213"/>
              </a:spcAft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6666"/>
                </a:solidFill>
                <a:latin typeface="Arial"/>
              </a:rPr>
              <a:t>Ponavljano davanje može uzrokovati stvaranje fibroz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Aft>
                <a:spcPts val="10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66"/>
                </a:solidFill>
                <a:latin typeface="Arial Black"/>
              </a:rPr>
              <a:t>OPIOIDNI ANALGETICI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56600" y="0"/>
            <a:ext cx="178740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636640"/>
            <a:ext cx="70200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66"/>
                </a:solidFill>
                <a:latin typeface="Arial"/>
              </a:rPr>
              <a:t>Availability of Opioid Analgesics for Palliative Care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1720" y="352440"/>
            <a:ext cx="4094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udapest, 25-27 Februauy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26320" y="0"/>
            <a:ext cx="1993680" cy="191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677880"/>
            <a:ext cx="7848720" cy="555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6666"/>
                </a:solidFill>
                <a:latin typeface="Arial"/>
              </a:rPr>
              <a:t>OPIOIDI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133720"/>
            <a:ext cx="7391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orfin (parenteralni)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Morphine MERCK, Morphini hydrochlorid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orfin (peroralni)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Kapanol, MST Continus, MST U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fentanil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Durogesic T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entazoc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For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ode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Codeini phosphat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etado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Heptan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uprenorf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Subute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etid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Dolant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tramadol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Lumidol, Protadon, Tramadol, Tramal, 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Tramundin reta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6666"/>
                </a:solidFill>
                <a:latin typeface="Arial"/>
              </a:rPr>
              <a:t>OPIOIDI </a:t>
            </a:r>
            <a:r>
              <a:rPr b="0" lang="hr-HR" sz="2800" spc="-1" strike="noStrike">
                <a:solidFill>
                  <a:srgbClr val="006666"/>
                </a:solidFill>
                <a:latin typeface="Arial"/>
              </a:rPr>
              <a:t>– nuspojav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1916280"/>
            <a:ext cx="73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učnina i povrać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onstip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osp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teškoće mokrenja (spazam ure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spazam Oddijevog sfink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bronhospa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hipotenz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suha 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epresija dis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60480" y="372960"/>
            <a:ext cx="81835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72960"/>
                <a:tab algn="r" pos="29606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6666"/>
                </a:solidFill>
                <a:latin typeface="Verdana"/>
              </a:rPr>
              <a:t>GLAVNI RAZLOZI POKRETANJA PROGRAMA SZO O POTROŠNJI I RASPOLOŽIVOSTI OPIOIDNIH ANALGETIK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72960"/>
                <a:tab algn="r" pos="29606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014560"/>
            <a:ext cx="807732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25% BOLESNIKA U SVIJETU UMIRE S JAKIM BOLO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5 MILIJUNA BOLESNIKA S KARCINOMOM SVAKI DAN TRPI  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JAKE BOL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SVEGA OKO 30% BOLESNIKA DOBIVA ADEKVATNU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ANALGETSKU TERAP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VIŠE OD 97% SVIH BOLI MOŽE SE USPJEŠNO LIJEČ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OKO 31% BOLESNIKA (ČEST SLUČAJ U ISTOČNOJ EUROPI 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PA TAKO I KOD NAS) POČINJE DOBIVATI ANALGETIKE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(NAROČITO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OPIOIDNE) TEK KADA PROGNOZA ŽIVOTA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BOLESNIKA PADNE NA </a:t>
            </a:r>
            <a:r>
              <a:rPr b="1" lang="hr-HR" sz="2000" spc="-1" strike="noStrike" u="sng">
                <a:solidFill>
                  <a:srgbClr val="006666"/>
                </a:solidFill>
                <a:uFillTx/>
                <a:latin typeface="Arial"/>
              </a:rPr>
              <a:t>&lt;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 6 MJESE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79640" y="1974960"/>
            <a:ext cx="6235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0920" y="2060640"/>
            <a:ext cx="808380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00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hr-HR" sz="2800" spc="-1" strike="noStrike">
                <a:solidFill>
                  <a:srgbClr val="006666"/>
                </a:solidFill>
                <a:latin typeface="Arial"/>
              </a:rPr>
              <a:t>U bolesnika sa jakom ozbiljnom boli, </a:t>
            </a:r>
            <a:r>
              <a:rPr b="0" i="1" lang="hr-HR" sz="2800" spc="-1" strike="noStrike" u="sng">
                <a:solidFill>
                  <a:srgbClr val="006666"/>
                </a:solidFill>
                <a:uFillTx/>
                <a:latin typeface="Arial"/>
              </a:rPr>
              <a:t>morfin</a:t>
            </a:r>
            <a:r>
              <a:rPr b="0" i="1" lang="hr-HR" sz="2800" spc="-1" strike="noStrike">
                <a:solidFill>
                  <a:srgbClr val="006666"/>
                </a:solidFill>
                <a:latin typeface="Arial"/>
              </a:rPr>
              <a:t> – jaki opioid – lijek je izbor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206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549360"/>
            <a:ext cx="81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1986. – WHO Meeting on the comprehensive 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    management of cancer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79640" y="1974960"/>
            <a:ext cx="6235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133720"/>
            <a:ext cx="841068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10000"/>
              </a:lnSpc>
              <a:spcBef>
                <a:spcPts val="1749"/>
              </a:spcBef>
              <a:buClr>
                <a:srgbClr val="00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hr-HR" sz="2800" spc="-1" strike="noStrike">
                <a:solidFill>
                  <a:srgbClr val="006666"/>
                </a:solidFill>
                <a:latin typeface="Arial"/>
              </a:rPr>
              <a:t>Osloboditi svakog bolesnika sa karcinomom boli treba smatrati pravom svakoga, a dostupnost liječenja bola kao mjera poštivanja tog prav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7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2840" y="635040"/>
            <a:ext cx="78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1990. – WHO Expert committee on cancer 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    pain relief and active supportiv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79640" y="1974960"/>
            <a:ext cx="6235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32000" y="1197000"/>
          <a:ext cx="7408800" cy="4465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74088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71560" y="1704960"/>
            <a:ext cx="6235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4040" y="911160"/>
            <a:ext cx="858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375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ČINJENICE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O POTROŠNJI MORFINA U SVIJE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240" y="2254320"/>
            <a:ext cx="821376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VEĆANJE  POTROŠNJE  MORFINA GOTOVO U  POTPUNOSTI OTPADA NA 10  RAZVIJENIH ZEMALJA (&gt;85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Austral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Kanad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panjo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Dan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Francu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Velika Britan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Njemač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S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980640"/>
            <a:ext cx="7462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Arial Black"/>
              </a:rPr>
              <a:t>VRSTE BOL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2760" y="1844640"/>
            <a:ext cx="740088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Arial Unicode MS"/>
              <a:buAutoNum type="arabicPeriod"/>
              <a:tabLst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  <a:tab algn="l" pos="621648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 Unicode MS"/>
              </a:rPr>
              <a:t>NOCICEPTIVNA </a:t>
            </a:r>
            <a:r>
              <a:rPr b="1" lang="hr-HR" sz="2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Arial Unicode MS"/>
              </a:rPr>
              <a:t>1.</a:t>
            </a:r>
            <a:r>
              <a:rPr b="1" lang="hr-HR" sz="19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POVRŠINSK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25"/>
              </a:spcBef>
              <a:buNone/>
              <a:tabLst>
                <a:tab algn="l" pos="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  <a:tab algn="l" pos="621648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Arial Unicode MS"/>
              </a:rPr>
              <a:t>2.</a:t>
            </a:r>
            <a:r>
              <a:rPr b="0" lang="hr-HR" sz="19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DUBOK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1276"/>
              </a:spcBef>
              <a:buNone/>
              <a:tabLst>
                <a:tab algn="l" pos="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  <a:tab algn="l" pos="621648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1. SOMATSK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  <a:tab algn="l" pos="621648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Arial Unicode MS"/>
              </a:rPr>
              <a:t>2. VISCERAL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  <a:tab algn="l" pos="62164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 Unicode MS"/>
              <a:buAutoNum type="arabicPeriod" startAt="2"/>
              <a:tabLst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  <a:tab algn="l" pos="621648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 Unicode MS"/>
              </a:rPr>
              <a:t>NEUROPATSKA</a:t>
            </a:r>
            <a:r>
              <a:rPr b="0" lang="hr-HR" sz="2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  <a:tab algn="l" pos="62164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 Unicode MS"/>
              <a:buAutoNum type="arabicPeriod" startAt="2"/>
              <a:tabLst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  <a:tab algn="l" pos="621648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 Unicode MS"/>
              </a:rPr>
              <a:t>KOMBINIRA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71560" y="1704960"/>
            <a:ext cx="6235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040" y="950760"/>
            <a:ext cx="858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375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ČINJENICE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O POTROŠNJI MORFINA U SVIJE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28880" y="2166840"/>
            <a:ext cx="6840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VEGA  OKO  13%  UKUPNE  POTROŠNJE  MORFINA  U  1999.  OTPADA  NA  OSTALE  ZEMLJE,  KOJE  PREDSTAVLJAJU  OKO  85%  SVJETSKE  POPUL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60520" y="725400"/>
            <a:ext cx="85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66"/>
                </a:solidFill>
                <a:latin typeface="Arial"/>
              </a:rPr>
              <a:t>POTROŠNJA MORFINA PO GLAVI STANOVNIKA </a:t>
            </a:r>
            <a:r>
              <a:rPr b="0" lang="hr-HR" sz="2000" spc="-1" strike="noStrike">
                <a:solidFill>
                  <a:srgbClr val="006666"/>
                </a:solidFill>
                <a:latin typeface="Arial"/>
              </a:rPr>
              <a:t>(mg/glavi)</a:t>
            </a:r>
            <a:r>
              <a:rPr b="1" lang="hr-HR" sz="2400" spc="-1" strike="noStrike">
                <a:solidFill>
                  <a:srgbClr val="006666"/>
                </a:solidFill>
                <a:latin typeface="Arial"/>
              </a:rPr>
              <a:t>  U ZEMLJAMA ISTOČNE EUROPE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3880" y="20336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20336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368440" y="5521320"/>
            <a:ext cx="525780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8160" y="4440240"/>
            <a:ext cx="14554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Mađarska 7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14800" y="6108840"/>
            <a:ext cx="1455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Poljska 6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1200" y="4875120"/>
            <a:ext cx="1455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Litva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02400" y="6512040"/>
            <a:ext cx="1455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Bugarska 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40640" y="5888160"/>
            <a:ext cx="1455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Hrvatska 0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6920" y="483552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005520" y="5751000"/>
            <a:ext cx="0" cy="3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5272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961320" y="5792400"/>
            <a:ext cx="18720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418160" y="5770440"/>
            <a:ext cx="20772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4040" y="5346720"/>
            <a:ext cx="1455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5f5f5f"/>
                </a:solidFill>
                <a:latin typeface="Arial"/>
              </a:rPr>
              <a:t>Prosjek 5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92520" y="2036880"/>
            <a:ext cx="14554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Danska 7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700360" y="2424240"/>
            <a:ext cx="603360" cy="20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46360" y="2543040"/>
            <a:ext cx="15606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Australija 5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186000" y="2994120"/>
            <a:ext cx="603360" cy="20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642840" y="3263760"/>
            <a:ext cx="43668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71960" y="3006720"/>
            <a:ext cx="15606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Kanada 5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38160" y="372960"/>
            <a:ext cx="8205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66"/>
                </a:solidFill>
                <a:latin typeface="Arial"/>
              </a:rPr>
              <a:t>PREPREKE ADEKVATNOJ PRIMJENI I RASPOLOŽIVOSTI OPIOIDNIH ANALGE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79640" y="1974960"/>
            <a:ext cx="6235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81000" y="2228760"/>
            <a:ext cx="698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D STRANE LIJEČ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D STRANE BOLE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D STRANE ZDRAVSTVENOG S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11160" y="955800"/>
            <a:ext cx="79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1. PREPREKE OD STRANE LIJEČ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3640" y="2068560"/>
            <a:ext cx="80215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edostatak iskustva u procjeni bo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edovoljno znanje o novijim pristupima u liječenju bo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edovoljno znanje o opioidnim analgetic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trah od stvaranja ovis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trah od pojave toleranc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trah od nuspo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trah od administrativnih mj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50760" y="995400"/>
            <a:ext cx="79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hr-H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PREPREKE</a:t>
            </a:r>
            <a:r>
              <a:rPr b="1" lang="hr-H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OD STRANE BOLES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6840" y="2147760"/>
            <a:ext cx="81471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astojanje neodvlačenja pažnje od liječenja osnovnog tum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toiciz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Želja da se ugodi osobl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trah da bol signalizira progresiju bole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trah od stvaranja ovis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trah od nuspo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30160" y="549360"/>
            <a:ext cx="831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3. PREPREKE OD STRANE ZDRAVSTVE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SU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84160" y="2127240"/>
            <a:ext cx="802188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sredotočenost na liječenje tumora i produženje živo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ala važnost pridana liječenju boli i ublažavanju simpt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eadekvatna raspoloživost opioidnih analget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edostupnost specijalizirane skr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oblemi s medicinskim osiguranjem i pokrivanjem trošk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Financijski aspekt liječenja bo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3960" y="636480"/>
            <a:ext cx="831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66"/>
                </a:solidFill>
                <a:latin typeface="Tempus Sans ITC"/>
              </a:rPr>
              <a:t>PREDRAS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2637000"/>
            <a:ext cx="248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PREDRASUDA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284640"/>
            <a:ext cx="567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8140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"/>
              </a:rPr>
              <a:t>Medicinska  primjena  opioida  ne  dovodi do  stvaranja  ovisnosti,  ukoliko  kod bolesnika od ranije ne postoji zlouporaba lijekova ili sredstava ovisnosti </a:t>
            </a:r>
            <a:r>
              <a:rPr b="0" i="1" lang="hr-HR" sz="2000" spc="-1" strike="noStrike">
                <a:solidFill>
                  <a:srgbClr val="006666"/>
                </a:solidFill>
                <a:latin typeface="Arial"/>
              </a:rPr>
              <a:t>(&lt;1% slučajeva</a:t>
            </a:r>
            <a:r>
              <a:rPr b="0" lang="hr-HR" sz="24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4480" y="2565360"/>
            <a:ext cx="51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"/>
              </a:rPr>
              <a:t>Opioidi stvaraju ovisnost (addiction</a:t>
            </a:r>
            <a:r>
              <a:rPr b="0" lang="hr-HR" sz="2200" spc="-1" strike="noStrike">
                <a:solidFill>
                  <a:srgbClr val="006666"/>
                </a:solidFill>
                <a:latin typeface="Arial"/>
              </a:rPr>
              <a:t>)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240" y="3357720"/>
            <a:ext cx="199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ČINJENICA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74840" y="636480"/>
            <a:ext cx="83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66"/>
                </a:solidFill>
                <a:latin typeface="Tempus Sans ITC"/>
              </a:rPr>
              <a:t>PREDRAS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781360"/>
            <a:ext cx="248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PREDRASUDA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7720" y="3716280"/>
            <a:ext cx="567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8140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"/>
              </a:rPr>
              <a:t>Nikad nije prikazana povezanost uzimanja opioida s ranijim smrtnim ishodom. Dapače, u nekim slučajevima mogu produžiti živ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60240" y="2751120"/>
            <a:ext cx="56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"/>
              </a:rPr>
              <a:t>Opioidi brže dovode do smrtnog ishoda</a:t>
            </a:r>
            <a:r>
              <a:rPr b="0" lang="hr-HR" sz="2200" spc="-1" strike="noStrike">
                <a:solidFill>
                  <a:srgbClr val="006666"/>
                </a:solidFill>
                <a:latin typeface="Arial"/>
              </a:rPr>
              <a:t>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4160" y="3716280"/>
            <a:ext cx="199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ČINJENICA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73120" y="716040"/>
            <a:ext cx="831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66"/>
                </a:solidFill>
                <a:latin typeface="Tempus Sans ITC"/>
              </a:rPr>
              <a:t>PREDRAS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2708280"/>
            <a:ext cx="248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PREDRASUDA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51320" y="4359240"/>
            <a:ext cx="54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8140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"/>
              </a:rPr>
              <a:t>Opioidi ne stvaraju toleranciju i mogu se sigurno i učinkovito uzimati u svim fazama bole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5840" y="2678040"/>
            <a:ext cx="568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"/>
              </a:rPr>
              <a:t>Bolje ne uzimati opioide sada jer posli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"/>
              </a:rPr>
              <a:t>kada stvarno budu potrebni neće vi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"/>
              </a:rPr>
              <a:t>djelovati </a:t>
            </a:r>
            <a:r>
              <a:rPr b="0" lang="hr-HR" sz="2200" spc="-1" strike="noStrike">
                <a:solidFill>
                  <a:srgbClr val="006666"/>
                </a:solidFill>
                <a:latin typeface="Arial"/>
              </a:rPr>
              <a:t>! (</a:t>
            </a:r>
            <a:r>
              <a:rPr b="0" i="1" lang="hr-HR" sz="2200" spc="-1" strike="noStrike">
                <a:solidFill>
                  <a:srgbClr val="006666"/>
                </a:solidFill>
                <a:latin typeface="Arial"/>
              </a:rPr>
              <a:t>tolerancija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240" y="4359240"/>
            <a:ext cx="199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ČINJENICA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9520" y="378000"/>
            <a:ext cx="76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66"/>
                </a:solidFill>
                <a:latin typeface="Arial"/>
              </a:rPr>
              <a:t>MJERE  SZO  PODUZETE  U SVRHU  POBOLJŠANJA  DOSTUPNOSTI OPIOIDNIH ANALGETIKA U SVIJ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34920" y="2070000"/>
            <a:ext cx="8209080" cy="34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375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Utvrđivanje problema u dostupnosti opioidnih analget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375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Upoznavanje vlada pojedinih zemalja s važnošću probl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375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Sastavljanje smjer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375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6666"/>
                </a:solidFill>
                <a:latin typeface="Arial"/>
              </a:rPr>
              <a:t>Osiguranje tehničke pomoći vladama pojedinih zemalja u identificiranju zapreka dostupnosti opioidnih analgetika i stvaranju mjera za njihovo uklanjan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79640" y="1974960"/>
            <a:ext cx="6235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0560" y="53352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EHANIZAM NASTANKA B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51240" y="1262160"/>
            <a:ext cx="4136760" cy="538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METAMIZOL </a:t>
            </a:r>
            <a:r>
              <a:rPr b="1" lang="hr-HR" sz="2000" spc="-1" strike="noStrike">
                <a:solidFill>
                  <a:srgbClr val="006666"/>
                </a:solidFill>
                <a:latin typeface="Arial"/>
              </a:rPr>
              <a:t>(DIPYRONE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191628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vrlo dobar analgetski uči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vrlo dobar antipire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pripravak za paenteralnu primj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niska ci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agranulocit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Švedska – 1:1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Bugarska – 1: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Prosjek – 1: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AKLJUČA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Verdana"/>
              </a:rPr>
              <a:t>Blagu do umjerenu bol gotovo svi analgetici dobro uklanjaj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Verdana"/>
              </a:rPr>
              <a:t>Razlikuju se po svojoj toksičnos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Verdana"/>
              </a:rPr>
              <a:t>Paracetamol i ibuprofen su najmanje toksičn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Verdana"/>
              </a:rPr>
              <a:t>Prema tome prvi izbor u liječenju blage do umjerene boli je paracetamol ili ibuprofen. Svakako tu su i ostali NSAR, prvenstveno diklofenak i ketoprof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f5f5f"/>
                </a:solidFill>
                <a:latin typeface="Verdana"/>
              </a:rPr>
              <a:t>Zbog svoje protuupalne komponente u djelovanju ibuprofen je ponekad učinkovitiji od paracetamo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KARAKTERISTIKE NEUROPATSKE BOL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2003400"/>
            <a:ext cx="7704000" cy="28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poznat mehanizam nastanka, tj. poznato oštećenje živ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karakter boli – često se opisuje kao </a:t>
            </a:r>
            <a:r>
              <a:rPr b="1" i="1" lang="hr-HR" sz="1800" spc="-1" strike="noStrike">
                <a:solidFill>
                  <a:srgbClr val="000000"/>
                </a:solidFill>
                <a:latin typeface="Tahoma"/>
              </a:rPr>
              <a:t>žarenje, probadanje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hr-HR" sz="1800" spc="-1" strike="noStrike">
                <a:solidFill>
                  <a:srgbClr val="000000"/>
                </a:solidFill>
                <a:latin typeface="Tahoma"/>
              </a:rPr>
              <a:t>si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neurološki ispadi – senzorni ili motorni deficiti koji upućuju na oštećenje živ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odgovor na konvencionalni način liječenja je uglavnom samo djelomi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6666"/>
                </a:solidFill>
                <a:latin typeface="Arial Black"/>
              </a:rPr>
              <a:t>BOLNA STANJA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38360" y="1827360"/>
            <a:ext cx="704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Muskuloskeletna b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Spinalna b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Traumatska b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Maligna b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Visceralna b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Bol u prsim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Bol kod opekotin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Glavobolj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Bol u uhu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Bol u oku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Obstetrička b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Postoperativna b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Neuropatska b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Kompleksni regionalni bolni sindro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Herpes zo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SOMATSKA BO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1874520"/>
            <a:ext cx="716256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ANATOMSKI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ovršin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ubok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rtikularn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eartikular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TIOLOŠKI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Traumat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etraumatsk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PATOGENETSKI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pal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eupal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308320" y="2805120"/>
            <a:ext cx="1846080" cy="0"/>
          </a:xfrm>
          <a:prstGeom prst="line">
            <a:avLst/>
          </a:prstGeom>
          <a:ln w="158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Arial Black"/>
              </a:rPr>
              <a:t>ANALGETIC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2138400"/>
            <a:ext cx="726120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NEOPIOIDN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5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ERIVATI ANILINA –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racetam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3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S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OPIOIDN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6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LAGI –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ramadol, kodein, oksikodon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JAKI –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morfin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tadon, fentanil, dolantin, pentazoc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0520" y="1119240"/>
            <a:ext cx="442296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07:18:24Z</dcterms:created>
  <dc:creator>Marinko Bilusic</dc:creator>
  <dc:description/>
  <dc:language>en-US</dc:language>
  <cp:lastModifiedBy>Vrhovac</cp:lastModifiedBy>
  <dcterms:modified xsi:type="dcterms:W3CDTF">2004-01-08T07:28:43Z</dcterms:modified>
  <cp:revision>22</cp:revision>
  <dc:subject/>
  <dc:title>ANTIMICROBIALS IN CLINICAL HOSPITAL CENTRE ZAGREB, CROAT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70668663</vt:r8>
  </property>
  <property fmtid="{D5CDD505-2E9C-101B-9397-08002B2CF9AE}" pid="3" name="_AuthorEmail">
    <vt:lpwstr>tamara@zkf.hr</vt:lpwstr>
  </property>
  <property fmtid="{D5CDD505-2E9C-101B-9397-08002B2CF9AE}" pid="4" name="_AuthorEmailDisplayName">
    <vt:lpwstr>Tamara Herceg Bojković</vt:lpwstr>
  </property>
  <property fmtid="{D5CDD505-2E9C-101B-9397-08002B2CF9AE}" pid="5" name="_EmailSubject">
    <vt:lpwstr>Studentski seminari</vt:lpwstr>
  </property>
  <property fmtid="{D5CDD505-2E9C-101B-9397-08002B2CF9AE}" pid="6" name="_PreviousAdHocReviewCycleID">
    <vt:r8>-670668663</vt:r8>
  </property>
</Properties>
</file>