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D0D3-657A-4A44-A713-A13117078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1A8C-A21D-4006-8D9D-64B91203E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3ED7-8417-436C-B4A5-D6EE37EFD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50DA-C3D7-4DFE-8BE3-DEFB3CA4D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1FE41-1B62-4CFD-9760-B74210D96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2C6E3-2E0F-43FB-9688-294B29C8F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74F51-0C8A-441C-80B0-11B9C26C2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DA42C-7902-4702-A75E-E01E5224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EA1CB-8B5A-47E2-BE88-6A81C5770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F1330-2A9E-400B-ABD1-CC76ABE86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D92F6-1E7E-4D4C-85FF-C38C4816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B98D-CBCD-46B1-A14D-3A1F1FE9B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40440-3ACE-4D00-9042-1E1CDD42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3DA4D-8594-4587-BB70-0F62F329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64D2A-25F4-4DE3-9638-71D43C812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D4AB4-79B5-413C-8E39-F770E179A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FFDAA-461F-4305-841A-420C0C063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44DC-721F-44EA-A81C-05670DB5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F2AC-7271-4DEF-844B-B6021CF16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EAB0-1DF2-48ED-BB6D-5A2DB2763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43A8-0D98-44BA-A57A-2BD7D93C1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C94F-6B25-489D-8F3C-3AC894B6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668F-A452-4A05-ABBB-ED7A30DC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A066-49A6-48EA-B223-F02AD3C3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2f2e"/>
              </a:gs>
              <a:gs pos="50000">
                <a:srgbClr val="008080"/>
              </a:gs>
              <a:gs pos="100000">
                <a:srgbClr val="002f2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2f2e"/>
              </a:gs>
              <a:gs pos="50000">
                <a:srgbClr val="008080"/>
              </a:gs>
              <a:gs pos="100000">
                <a:srgbClr val="002f2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2f2e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5250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5250"/>
              </a:gs>
              <a:gs pos="50000">
                <a:srgbClr val="008080"/>
              </a:gs>
              <a:gs pos="100000">
                <a:srgbClr val="0052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5250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5250"/>
              </a:gs>
              <a:gs pos="50000">
                <a:srgbClr val="008080"/>
              </a:gs>
              <a:gs pos="100000">
                <a:srgbClr val="0052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38900-797C-4678-98F0-49E6189697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2f2e"/>
              </a:gs>
              <a:gs pos="50000">
                <a:srgbClr val="008080"/>
              </a:gs>
              <a:gs pos="100000">
                <a:srgbClr val="002f2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2f2e"/>
              </a:gs>
              <a:gs pos="50000">
                <a:srgbClr val="008080"/>
              </a:gs>
              <a:gs pos="100000">
                <a:srgbClr val="002f2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2f2e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5250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5250"/>
              </a:gs>
              <a:gs pos="50000">
                <a:srgbClr val="008080"/>
              </a:gs>
              <a:gs pos="100000">
                <a:srgbClr val="0052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5250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5250"/>
              </a:gs>
              <a:gs pos="50000">
                <a:srgbClr val="008080"/>
              </a:gs>
              <a:gs pos="100000">
                <a:srgbClr val="0052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B1BD7-D31E-4AD4-9985-46CC244E5900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cc"/>
                </a:solidFill>
                <a:latin typeface="Bookman Old Style"/>
              </a:rPr>
              <a:t>FARMAKOLOGIJA PROBAVNOG SUSTAVA</a:t>
            </a:r>
            <a:endParaRPr b="0" lang="en-US" sz="36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657600"/>
            <a:ext cx="7619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Prim. mr. sc. Josip Čulig, dr. m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5EF21-40B2-445A-B825-53315C64E890}" type="slidenum">
              <a:t>1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066680" y="380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	</a:t>
            </a: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	</a:t>
            </a:r>
            <a:r>
              <a:rPr b="1" lang="en-US" sz="3000" spc="-1" strike="noStrike">
                <a:solidFill>
                  <a:srgbClr val="66ffcc"/>
                </a:solidFill>
                <a:latin typeface="Bookman Old Style"/>
              </a:rPr>
              <a:t>ANTIEMETIC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Metoklopramid 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je blokator centralnih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dopaminskih receptora. Povećava prag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osjetljivosti za povraćanj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3000" spc="-1" strike="noStrike">
                <a:solidFill>
                  <a:srgbClr val="66ffcc"/>
                </a:solidFill>
                <a:latin typeface="Bookman Old Style"/>
              </a:rPr>
              <a:t>ANTAGONISTI SEROTONINA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cc"/>
                </a:solidFill>
                <a:latin typeface="Bookman Old Style"/>
              </a:rPr>
              <a:t>(5HT3)</a:t>
            </a: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su selektivni kompetitori 5HT3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receptora u perifernim neuronima i SŽS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Onemogućuju podražaj aferentnih vagalnih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završetaka u probavnom sustavu i centru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za povraćanje u produženoj moždini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57150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Ondasetron, Tropisetron, Granisetr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66680" y="533520"/>
            <a:ext cx="838440" cy="228600"/>
          </a:xfrm>
          <a:custGeom>
            <a:avLst/>
            <a:gdLst>
              <a:gd name="textAreaLeft" fmla="*/ 104760 w 838440"/>
              <a:gd name="textAreaRight" fmla="*/ 733680 w 8384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2590920"/>
            <a:ext cx="838440" cy="228600"/>
          </a:xfrm>
          <a:custGeom>
            <a:avLst/>
            <a:gdLst>
              <a:gd name="textAreaLeft" fmla="*/ 104760 w 838440"/>
              <a:gd name="textAreaRight" fmla="*/ 733680 w 8384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0EEF-9870-4664-9C31-49A00677028A}" type="slidenum">
              <a:t>10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914400" y="175248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OPSTIPACIJA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- odsutnos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spontane stoli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KONSTIPACIJA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- rijetka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mala i suha stolic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66680" y="1905120"/>
            <a:ext cx="762120" cy="228600"/>
          </a:xfrm>
          <a:custGeom>
            <a:avLst/>
            <a:gdLst>
              <a:gd name="textAreaLeft" fmla="*/ 118800 w 762120"/>
              <a:gd name="textAreaRight" fmla="*/ 667080 w 7621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66680" y="3657600"/>
            <a:ext cx="762120" cy="228600"/>
          </a:xfrm>
          <a:custGeom>
            <a:avLst/>
            <a:gdLst>
              <a:gd name="textAreaLeft" fmla="*/ 118800 w 762120"/>
              <a:gd name="textAreaRight" fmla="*/ 667080 w 7621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6165-483A-4791-B783-5009E78CFCDE}" type="slidenum">
              <a:t>11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cc"/>
                </a:solidFill>
                <a:latin typeface="Bookman Old Style"/>
              </a:rPr>
              <a:t>KONTAKTNI LAKSATIVI</a:t>
            </a:r>
            <a:endParaRPr b="0" lang="en-US" sz="36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stimulacija propulzije lokalnom iritacijom sluzn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povišenje koncentracije cAMP u endotelu crije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14600" y="3733920"/>
            <a:ext cx="4419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cc"/>
                </a:solidFill>
                <a:latin typeface="Bookman Old Style"/>
              </a:rPr>
              <a:t> </a:t>
            </a: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BISAKODIL - DULCOLA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 </a:t>
            </a: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SENOZIDI - COLOCLE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3880" y="502920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Priprema i pražnjenje crijeva prije radioloških i endoskopskih pregled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DD1E-A9B3-4237-A3D8-4F22EF4D0D72}" type="slidenum">
              <a:t>12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OSMOTSKI LAKSATIVI </a:t>
            </a: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se ne resorbiraju iz probavnog sustava. U kolonu se djelovanjem crijevnih bakterija razgrađuju u octenu i mliječnu kiselinu, snižavaju pH crijeva. Na taj se način izaziva lokalni hiperosmotski učinak i stimulira pražnjenje crijeva.</a:t>
            </a:r>
            <a:r>
              <a:rPr b="1" lang="en-US" sz="30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502920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LAKTULOZA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(Portala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C151-48CF-413D-88A6-E05B932891D8}" type="slidenum">
              <a:t>13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8483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ffcc"/>
                </a:solidFill>
                <a:uFillTx/>
                <a:latin typeface="Bookman Old Style"/>
              </a:rPr>
              <a:t>ULKUSNA BOLEST</a:t>
            </a: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 je ograničeno oštećenje sluznice koje prodire u mišićni sloj. Pojavljuje se u onim dijelovima probavnog sustava gdje postoji želučana kiselina.</a:t>
            </a:r>
            <a:endParaRPr b="0" lang="en-US" sz="28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52320" y="3123720"/>
            <a:ext cx="38862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jednja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želuda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dvanaesni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početni dio jejunu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F52A-0FD5-4548-A9ED-D282FEB35B5C}" type="slidenum">
              <a:t>2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cc"/>
                </a:solidFill>
                <a:latin typeface="Bookman Old Style"/>
              </a:rPr>
              <a:t>Faktori koji doprinose razvoju </a:t>
            </a:r>
            <a:br>
              <a:rPr sz="3000"/>
            </a:br>
            <a:r>
              <a:rPr b="1" lang="en-US" sz="3000" spc="-1" strike="noStrike">
                <a:solidFill>
                  <a:srgbClr val="66ffcc"/>
                </a:solidFill>
                <a:latin typeface="Bookman Old Style"/>
              </a:rPr>
              <a:t>ulkusne bolesti</a:t>
            </a:r>
            <a:endParaRPr b="0" lang="en-US" sz="30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pušen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lkoh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jako začinjena hr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43200" y="2133720"/>
            <a:ext cx="609480" cy="228600"/>
          </a:xfrm>
          <a:custGeom>
            <a:avLst/>
            <a:gdLst>
              <a:gd name="textAreaLeft" fmla="*/ 95040 w 609480"/>
              <a:gd name="textAreaRight" fmla="*/ 533520 w 6094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43200" y="2514600"/>
            <a:ext cx="609480" cy="228600"/>
          </a:xfrm>
          <a:custGeom>
            <a:avLst/>
            <a:gdLst>
              <a:gd name="textAreaLeft" fmla="*/ 95040 w 609480"/>
              <a:gd name="textAreaRight" fmla="*/ 533520 w 6094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43200" y="2971800"/>
            <a:ext cx="609480" cy="228600"/>
          </a:xfrm>
          <a:custGeom>
            <a:avLst/>
            <a:gdLst>
              <a:gd name="textAreaLeft" fmla="*/ 95040 w 609480"/>
              <a:gd name="textAreaRight" fmla="*/ 533520 w 6094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38098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Mlijeko stimulira izlučivanje želučane kiseli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46483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ULKUS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su povezani s infekcijom Helicobacter pylori ili uzimanjem nesteroidnih antireumatik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4F0C-53C4-41AB-BB2C-B7CD3B3249BE}" type="slidenum">
              <a:t>3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ANTACIDI</a:t>
            </a: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ublažavaju simptome dispepsije, gastroezofagealnog refluksa i ulkusne bolesti. Daju s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u obliku tableta i suspenzija. Suspenzije su djelotvornij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3733920"/>
            <a:ext cx="7391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ALUMINIJEV HIDROKSID</a:t>
            </a: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nakon reakcije sa želučanom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kiselinom stvara aluminijev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klorid i vod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B31C-5DFA-4253-A033-C1CEA8C648B1}" type="slidenum">
              <a:t>4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62120" y="12193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ALUMINIJEV HIDROKSID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u crijevu veže fosfate. Zbog hipofosfatemije javlja se mišićna slabost i anoreksija. Izaziva opstipacij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304812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MAGNEZIJEV HIDROKSID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e u želucu pretvara u magnezijev klorid. U tankom crijevu djeluje kao osmotski laksativ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472428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KOMBINACIJA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je vrlo popularna (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GASTAL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). Dozira se 4 - 6 puta dnevn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3CA2-30B1-46F2-B465-D195C79077B9}" type="slidenum">
              <a:t>5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8487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cc"/>
                </a:solidFill>
                <a:latin typeface="Bookman Old Style"/>
              </a:rPr>
              <a:t>ANTAGONISTI H</a:t>
            </a:r>
            <a:r>
              <a:rPr b="1" lang="en-US" sz="3600" spc="-1" strike="noStrike" baseline="-25000">
                <a:solidFill>
                  <a:srgbClr val="66ffcc"/>
                </a:solidFill>
                <a:latin typeface="Bookman Old Style"/>
              </a:rPr>
              <a:t>2</a:t>
            </a:r>
            <a:r>
              <a:rPr b="1" lang="en-US" sz="3600" spc="-1" strike="noStrike">
                <a:solidFill>
                  <a:srgbClr val="66ffcc"/>
                </a:solidFill>
                <a:latin typeface="Bookman Old Style"/>
              </a:rPr>
              <a:t> RECEPTORA</a:t>
            </a:r>
            <a:br>
              <a:rPr sz="3600"/>
            </a:br>
            <a:r>
              <a:rPr b="0" lang="en-US" sz="2800" spc="-1" strike="noStrike">
                <a:solidFill>
                  <a:srgbClr val="66ffcc"/>
                </a:solidFill>
                <a:latin typeface="Bookman Old Style"/>
              </a:rPr>
              <a:t>inhibiraju lučenje želučane kiseline mehanizmom kompetitivne blokade H</a:t>
            </a:r>
            <a:r>
              <a:rPr b="0" lang="en-US" sz="2800" spc="-1" strike="noStrike" baseline="-25000">
                <a:solidFill>
                  <a:srgbClr val="66ffcc"/>
                </a:solidFill>
                <a:latin typeface="Bookman Old Style"/>
              </a:rPr>
              <a:t>2</a:t>
            </a:r>
            <a:r>
              <a:rPr b="0" lang="en-US" sz="2800" spc="-1" strike="noStrike">
                <a:solidFill>
                  <a:srgbClr val="66ffcc"/>
                </a:solidFill>
                <a:latin typeface="Bookman Old Style"/>
              </a:rPr>
              <a:t> receptora na razini parijentalne stanice.</a:t>
            </a:r>
            <a:endParaRPr b="0" lang="en-US" sz="28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895480" y="3657240"/>
            <a:ext cx="28195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CIMETID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RANITID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FAMOTID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2D75-D8B8-4FFE-BD94-5F1F1149B6F4}" type="slidenum">
              <a:t>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8487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INHIBITORI PROTONSKE PUMPE</a:t>
            </a: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 djeluju na H-K-ATPazu na staničnoj membrani parijetalne stanice i potpuno inhibiraju lučenje želučane kiseline. Produkcija želučane kiseline obnavlja se 3 - 4 dana nakon prestanka terapije.</a:t>
            </a:r>
            <a:endParaRPr b="0" lang="en-US" sz="28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14600" y="3962160"/>
            <a:ext cx="4038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OMEPRAZ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PANTOPRAZ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LANSOPRAZ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CBAD-0BF3-469A-94CF-1D454FF2DE08}" type="slidenum">
              <a:t>7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cc"/>
                </a:solidFill>
                <a:latin typeface="Bookman Old Style"/>
              </a:rPr>
              <a:t>ANTIFLATULANSI</a:t>
            </a:r>
            <a:endParaRPr b="0" lang="en-US" sz="36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  </a:t>
            </a: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DIMETIKON </a:t>
            </a: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smanjuje površinsku napetost plinskih mjehurića pa se plinovi na prirodan način odstranjuju iz crijeva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81080" y="4191120"/>
            <a:ext cx="6019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aerofagi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meteoriz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priprema za dijagnostičke pregle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8C5A-E424-4C6B-A720-0597EACFF6EE}" type="slidenum">
              <a:t>8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cc"/>
                </a:solidFill>
                <a:latin typeface="Bookman Old Style"/>
              </a:rPr>
              <a:t>ANTIKOLINERGICI I SPAZMOLITICI </a:t>
            </a:r>
            <a:endParaRPr b="0" lang="en-US" sz="36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Smanjuju motilitet, sekretornu aktivnos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probavnog sustava, tonus ureter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mokraćnog mjehura, relaksiraju žučn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mjehur i vodov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00200" y="419112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14600" y="4114800"/>
            <a:ext cx="5410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ATROP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MEBEVER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TROSPIJ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- nije topljiv u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lipidima pa ne prodire u SŽ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8718-F81D-42D1-B0A9-5EC848F74A50}" type="slidenum">
              <a:t>9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9:09:19Z</dcterms:created>
  <dc:creator>Jelena</dc:creator>
  <dc:description/>
  <dc:language>en-US</dc:language>
  <cp:lastModifiedBy>KERAMEIKOS d.o.o.</cp:lastModifiedBy>
  <dcterms:modified xsi:type="dcterms:W3CDTF">2003-01-28T12:35:16Z</dcterms:modified>
  <cp:revision>17</cp:revision>
  <dc:subject/>
  <dc:title>FARMAKOLOGIJA PROBAVNOG SUSTAVA</dc:title>
</cp:coreProperties>
</file>