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8F4-B7B1-452E-81AB-5D72EF54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DB0-717A-4FA8-9963-6B7BE5A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17E-818A-45C8-9826-FA2CD11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0A2-EC51-453C-8BCA-F36E43CE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84FC-0501-4C86-AA51-6D239B03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6F25-0F8D-4CA9-BD75-779B1CD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1DB-76B6-411F-867C-D1D3954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7AD-2C62-4810-A44E-0C4DA76D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44A-C28F-44D7-9AF1-FFA37EB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1058-549B-4639-B2CD-D9615756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7F50-75DC-448E-A74F-47BEF6A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301-E7FF-444D-BDB2-2455232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D796-7FA1-4FF1-B410-8CA4679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AC9-2557-4EE1-AF9A-EDC40AE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265B-8A17-4500-82E2-CD38788F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7A0-7EF5-4D7A-A520-7DFBF095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A9B1-3A0A-4E04-A06F-974DF401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382-4E74-4255-861E-2C69E49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FB1-E318-4072-BFF6-C3493B8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D77-9267-4AEC-80ED-80FBFDE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063-01CD-4E7D-A865-0EE34A1E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D89-FF56-4AF7-A489-4E863EE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A45-FD9B-4687-A9E8-1B09A239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40A-326C-4782-8D6F-FB8869E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BD6-4806-400A-AEC7-190AF3B20B72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EFF-EA76-4345-A91B-16E15C74A013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8428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Verdana"/>
              </a:rPr>
              <a:t>Utjecaj bolesti na farmakokinetiku i farmakodinamiku lijek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4005000"/>
            <a:ext cx="7416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7271"/>
                </a:solidFill>
                <a:latin typeface="Verdana"/>
              </a:rPr>
              <a:t>Zavod za kliničku farmakolog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7271"/>
                </a:solidFill>
                <a:latin typeface="Verdana"/>
              </a:rPr>
              <a:t>Klinika za unutrašnje bolesti KBC Re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744200"/>
            <a:ext cx="8534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od oštećene funkcije bubrega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Verdana"/>
              </a:rPr>
              <a:t>propisivanje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lijekova j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Verdana"/>
              </a:rPr>
              <a:t>teže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zb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smanjene mogućnosti izlučivanja lijeka ili njegovog metabolita – moguća toksičn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osjetljivost organizma može biti povećana na lijek iako njegovo izlučivanje nije smanj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260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1520" y="2087640"/>
          <a:ext cx="8280360" cy="3070080"/>
        </p:xfrm>
        <a:graphic>
          <a:graphicData uri="http://schemas.openxmlformats.org/drawingml/2006/table">
            <a:tbl>
              <a:tblPr/>
              <a:tblGrid>
                <a:gridCol w="2687760"/>
                <a:gridCol w="2620800"/>
                <a:gridCol w="29718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brežna insuficijencij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merularna filtracija (GF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eatinin u serum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g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–50 ml/m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–300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µ</a:t>
                      </a: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l/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jere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20 ml/m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–700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µ</a:t>
                      </a: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l/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š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 10 ml/m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 700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µ</a:t>
                      </a: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l/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7271"/>
                      </a:solidFill>
                    </a:lnL>
                    <a:lnR w="5760">
                      <a:solidFill>
                        <a:srgbClr val="4b7271"/>
                      </a:solidFill>
                    </a:lnR>
                    <a:lnT w="5760">
                      <a:solidFill>
                        <a:srgbClr val="4b7271"/>
                      </a:solidFill>
                    </a:lnT>
                    <a:lnB w="5760">
                      <a:solidFill>
                        <a:srgbClr val="4b727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55736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b7271"/>
                </a:solidFill>
                <a:latin typeface="Verdana"/>
              </a:rPr>
              <a:t>Izračunavanje klirensa kreatinina bez skupljanja mokra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86568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Arial Unicode MS"/>
                <a:ea typeface="Arial Unicode MS"/>
              </a:rPr>
              <a:t>♀</a:t>
            </a:r>
            <a:r>
              <a:rPr b="0" lang="hr-HR" sz="2200" spc="-1" strike="noStrike">
                <a:solidFill>
                  <a:srgbClr val="4b7271"/>
                </a:solidFill>
                <a:latin typeface="Arial"/>
                <a:ea typeface="Arial Unicode MS"/>
              </a:rPr>
              <a:t> 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- 15% = (x 0.8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93840" y="2914560"/>
            <a:ext cx="8138880" cy="732240"/>
            <a:chOff x="393840" y="2914560"/>
            <a:chExt cx="8138880" cy="732240"/>
          </a:xfrm>
        </p:grpSpPr>
        <p:grpSp>
          <p:nvGrpSpPr>
            <p:cNvPr id="101" name=""/>
            <p:cNvGrpSpPr/>
            <p:nvPr/>
          </p:nvGrpSpPr>
          <p:grpSpPr>
            <a:xfrm>
              <a:off x="393840" y="2914560"/>
              <a:ext cx="8138880" cy="732240"/>
              <a:chOff x="393840" y="2914560"/>
              <a:chExt cx="8138880" cy="732240"/>
            </a:xfrm>
          </p:grpSpPr>
          <p:sp>
            <p:nvSpPr>
              <p:cNvPr id="102" name=""/>
              <p:cNvSpPr/>
              <p:nvPr/>
            </p:nvSpPr>
            <p:spPr>
              <a:xfrm>
                <a:off x="393840" y="3043080"/>
                <a:ext cx="3601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4b7271"/>
                    </a:solidFill>
                    <a:latin typeface="Verdana"/>
                  </a:rPr>
                  <a:t>Klirens kreatinina (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Arial Unicode MS"/>
                    <a:ea typeface="Arial Unicode MS"/>
                  </a:rPr>
                  <a:t>♂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Arial"/>
                    <a:ea typeface="Arial Unicode MS"/>
                  </a:rPr>
                  <a:t>)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Times New Roman"/>
                  </a:rPr>
                  <a:t> 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Verdana"/>
                  </a:rPr>
                  <a:t>=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35280" y="2914560"/>
                <a:ext cx="4897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4b7271"/>
                    </a:solidFill>
                    <a:latin typeface="Verdana"/>
                  </a:rPr>
                  <a:t>1.2 x (140-god. života)x TT (kg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35280" y="3217680"/>
                <a:ext cx="47530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4b7271"/>
                    </a:solidFill>
                    <a:latin typeface="Verdana"/>
                  </a:rPr>
                  <a:t>kreatinin u plazmi (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Symbol"/>
                    <a:ea typeface="Symbol"/>
                  </a:rPr>
                  <a:t></a:t>
                </a:r>
                <a:r>
                  <a:rPr b="0" lang="hr-HR" sz="2200" spc="-1" strike="noStrike">
                    <a:solidFill>
                      <a:srgbClr val="4b7271"/>
                    </a:solidFill>
                    <a:latin typeface="Verdana"/>
                  </a:rPr>
                  <a:t>mol/L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780000" y="3298680"/>
              <a:ext cx="4608360" cy="0"/>
            </a:xfrm>
            <a:prstGeom prst="line">
              <a:avLst/>
            </a:prstGeom>
            <a:ln cap="sq" w="19080">
              <a:solidFill>
                <a:srgbClr val="4b72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8360" y="518796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6666"/>
                </a:solidFill>
                <a:latin typeface="Verdana"/>
              </a:rPr>
              <a:t>Netočno: 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u pretilih, edematoznih, brzih promjena 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   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     funkcije bubre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5680" y="13809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b7271"/>
                </a:solidFill>
                <a:latin typeface="Verdana"/>
              </a:rPr>
              <a:t>Pravila primjene lijekova u insuficijenciji bubre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565360"/>
            <a:ext cx="813600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b7271"/>
                </a:solidFill>
                <a:latin typeface="Verdana"/>
              </a:rPr>
              <a:t>Prva doza se ne modific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b7271"/>
                </a:solidFill>
                <a:latin typeface="Verdana"/>
              </a:rPr>
              <a:t>Zavisno o klirensu kreatinina interval između sljedećih doza se produžuje ili se doza smanju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b7271"/>
                </a:solidFill>
                <a:latin typeface="Verdana"/>
              </a:rPr>
              <a:t>Po mogućnosti kontrolirati koncentraciju lijeka u ser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b7271"/>
                </a:solidFill>
                <a:latin typeface="Verdana"/>
              </a:rPr>
              <a:t>Po mogućnosti izbjegavati lijekove koji se isključivo izlučuju bubrez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34136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b7271"/>
                </a:solidFill>
                <a:latin typeface="Verdana"/>
              </a:rPr>
              <a:t>Lijekovi u insuficijenciji bubre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844640"/>
            <a:ext cx="8136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Paziti na lijekove koji sadrže natrij i/ili kal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Aluminijev hidroksid za antacidnu terapiju izbjega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Oprez na intoksikaciju digitali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Antihipertenzivi mogu pogoršati insuficijenciju bubrega – umjesto blokatora adrenergičkog neurona dati blokator beta-recep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Furosemid je diuretik izb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Urikozurici i uroantiseptici kontraindicir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Sedacija lijekovima koji se metaboliziraju u je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b7271"/>
                </a:solidFill>
                <a:latin typeface="Verdana"/>
              </a:rPr>
              <a:t>Fenotiazini i antiemetici kumulir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bub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30032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b7271"/>
                </a:solidFill>
                <a:latin typeface="Verdana"/>
              </a:rPr>
              <a:t>Lijekovi u insuficijenciji bubrega</a:t>
            </a:r>
            <a:r>
              <a:rPr b="0" lang="hr-HR" sz="2600" spc="-1" strike="noStrike">
                <a:solidFill>
                  <a:srgbClr val="4b7271"/>
                </a:solidFill>
                <a:latin typeface="Verdana"/>
              </a:rPr>
              <a:t> (nas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7120" y="1773360"/>
            <a:ext cx="842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Antikonvulzivi: fenitoin, diazep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Razgradnja </a:t>
            </a:r>
            <a:r>
              <a:rPr b="0" lang="hr-HR" sz="2200" spc="-1" strike="noStrike">
                <a:solidFill>
                  <a:srgbClr val="4b7271"/>
                </a:solidFill>
                <a:latin typeface="Symbol"/>
                <a:ea typeface="Symbol"/>
              </a:rPr>
              <a:t></a:t>
            </a: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, no više slob. lijeka pa niže konc.djelotvor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Dijabetes: potreba za antidijabeticima manja. Dati one s kraćim t½ (bigvanidi su kontraindicira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Bolesnici na kroničnoj dijalizi: superspecijalističko područje farmakoterapije. Ne kloramf., ne uroantisept., ne tetracikli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Citostatici-metotreksat (kumuliranj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Analgetici ASK – krvarenje; od opijata petidin se najbolje podno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Kortikosteroidi antianabolički uči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9966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b7271"/>
                </a:solidFill>
                <a:latin typeface="Verdana"/>
              </a:rPr>
              <a:t>Neki antiaritmici (prokainamid), odnosno njihovi metaboliti kumulira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j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31800" y="1413000"/>
            <a:ext cx="7216920" cy="3960720"/>
            <a:chOff x="1531800" y="1413000"/>
            <a:chExt cx="7216920" cy="3960720"/>
          </a:xfrm>
        </p:grpSpPr>
        <p:sp>
          <p:nvSpPr>
            <p:cNvPr id="118" name=""/>
            <p:cNvSpPr/>
            <p:nvPr/>
          </p:nvSpPr>
          <p:spPr>
            <a:xfrm>
              <a:off x="1531800" y="141300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4b7271"/>
                  </a:solidFill>
                  <a:latin typeface="Verdana"/>
                </a:rPr>
                <a:t>Poremećena farmakokineti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1800" y="393372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4b7271"/>
                  </a:solidFill>
                  <a:latin typeface="Verdana"/>
                </a:rPr>
                <a:t>Poremećena farmakodinami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5080" y="1916280"/>
              <a:ext cx="5761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Symbol"/>
                  <a:ea typeface="Symbol"/>
                </a:rPr>
                <a:t></a:t>
              </a: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 </a:t>
              </a: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protok krvi kroz jetr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Symbol"/>
                  <a:ea typeface="Symbol"/>
                </a:rPr>
                <a:t></a:t>
              </a: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 </a:t>
              </a: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aktivnost mikrosomnih enz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disproteinemija, poremećeno vezanje na bjelančevine plaz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poremećena raspodjela v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35080" y="4349880"/>
              <a:ext cx="576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promijenjena osjetljivost recept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100000"/>
                </a:lnSpc>
                <a:buClr>
                  <a:srgbClr val="9966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4b7271"/>
                  </a:solidFill>
                  <a:latin typeface="Verdana"/>
                </a:rPr>
                <a:t>promijenjen broj recept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40640" y="2955960"/>
              <a:ext cx="1108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4b7271"/>
                  </a:solidFill>
                  <a:latin typeface="Verdana"/>
                </a:rPr>
                <a:t>promij. djelov. lije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1840" y="1612800"/>
              <a:ext cx="384120" cy="3760920"/>
            </a:xfrm>
            <a:custGeom>
              <a:avLst/>
              <a:gdLst>
                <a:gd name="textAreaLeft" fmla="*/ 0 w 384120"/>
                <a:gd name="textAreaRight" fmla="*/ 138600 w 384120"/>
                <a:gd name="textAreaTop" fmla="*/ 97920 h 3760920"/>
                <a:gd name="textAreaBottom" fmla="*/ 3663000 h 376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908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41240" y="553572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b7271"/>
                </a:solidFill>
                <a:latin typeface="Verdana"/>
              </a:rPr>
              <a:t>Imajući u vidu važnost jetre u metabolizmu lijekova, utjecaj njene bolesti na učinak lijekova iznenađujuće je ma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1920" y="1844640"/>
            <a:ext cx="1647720" cy="2376360"/>
            <a:chOff x="331920" y="1844640"/>
            <a:chExt cx="1647720" cy="2376360"/>
          </a:xfrm>
        </p:grpSpPr>
        <p:sp>
          <p:nvSpPr>
            <p:cNvPr id="126" name=""/>
            <p:cNvSpPr/>
            <p:nvPr/>
          </p:nvSpPr>
          <p:spPr>
            <a:xfrm>
              <a:off x="331920" y="305100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4b7271"/>
                  </a:solidFill>
                  <a:latin typeface="Verdana"/>
                </a:rPr>
                <a:t>disfunkcija je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042920" y="1844640"/>
              <a:ext cx="936720" cy="1224000"/>
            </a:xfrm>
            <a:prstGeom prst="line">
              <a:avLst/>
            </a:prstGeom>
            <a:ln cap="sq" w="19080">
              <a:solidFill>
                <a:srgbClr val="66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42920" y="3645000"/>
              <a:ext cx="865080" cy="576000"/>
            </a:xfrm>
            <a:prstGeom prst="line">
              <a:avLst/>
            </a:prstGeom>
            <a:ln cap="sq" w="19080">
              <a:solidFill>
                <a:srgbClr val="66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29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imjena lijekova u bolesti j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b7271"/>
                </a:solidFill>
                <a:latin typeface="Verdana"/>
              </a:rPr>
              <a:t>Lijekovi pri oštećenoj funkciji j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308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b7271"/>
                </a:solidFill>
                <a:latin typeface="Verdana"/>
              </a:rPr>
              <a:t>B.R.= bioraspolož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938240"/>
          <a:ext cx="8064720" cy="4227480"/>
        </p:xfrm>
        <a:graphic>
          <a:graphicData uri="http://schemas.openxmlformats.org/drawingml/2006/table">
            <a:tbl>
              <a:tblPr/>
              <a:tblGrid>
                <a:gridCol w="2376720"/>
                <a:gridCol w="5688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depresori SŽS (opioidi i dr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koma,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resp. depresije; smanjenje doze za 50% (iv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klometiaz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b.r.; izbjegava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diuretic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encefalopatija (deplecija tekućine natrija, kalija); oprezno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lidok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metaboliza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neurotoksičnost smanjiti doz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propranolon, verapam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učinak prvog prolaza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depresija s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996666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teofil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metabolizam, 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hr-HR" sz="2200" spc="-1" strike="noStrike">
                          <a:solidFill>
                            <a:srgbClr val="4b7271"/>
                          </a:solidFill>
                          <a:latin typeface="Verdana"/>
                        </a:rPr>
                        <a:t> nuspojave, smanjiti doz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3:52:35Z</dcterms:created>
  <dc:creator>user</dc:creator>
  <dc:description/>
  <dc:language>en-US</dc:language>
  <cp:lastModifiedBy>Tamara</cp:lastModifiedBy>
  <dcterms:modified xsi:type="dcterms:W3CDTF">2004-01-07T07:53:34Z</dcterms:modified>
  <cp:revision>30</cp:revision>
  <dc:subject/>
  <dc:title>Utjecaj bolesti na farmakokinetiku i farmakodinamiku lijeko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7271712</vt:r8>
  </property>
  <property fmtid="{D5CDD505-2E9C-101B-9397-08002B2CF9AE}" pid="3" name="_AuthorEmail">
    <vt:lpwstr>tamara@zkf.hr</vt:lpwstr>
  </property>
  <property fmtid="{D5CDD505-2E9C-101B-9397-08002B2CF9AE}" pid="4" name="_AuthorEmailDisplayName">
    <vt:lpwstr>Tamara Herceg Bojković</vt:lpwstr>
  </property>
  <property fmtid="{D5CDD505-2E9C-101B-9397-08002B2CF9AE}" pid="5" name="_EmailSubject">
    <vt:lpwstr>Studentski seminari</vt:lpwstr>
  </property>
  <property fmtid="{D5CDD505-2E9C-101B-9397-08002B2CF9AE}" pid="6" name="_PreviousAdHocReviewCycleID">
    <vt:r8>877271712</vt:r8>
  </property>
</Properties>
</file>