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1A3-A04A-4DE8-8B1E-E970338E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B4C-6CB8-4781-AB74-113C4D7E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A2408-90B1-4E0E-BABE-D5D3D16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578D9-4834-4CD0-B06A-2713611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084DE-5515-47C1-94A6-E808589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91337-1C72-4C1A-8FEF-FC5C860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8AC0-C0ED-455C-A08B-56E976F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EA07E-6161-4838-BC37-085D391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E928-CC26-4A35-8DF5-7E55B1CA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F1B0-68FF-44E2-947F-446797BC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734A5-A5F9-4DFA-AC8A-B22A1A82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67E-347F-4499-8D22-95FFA0FA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59C-E8CA-4B9C-9F90-89CF543D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AC33-8C21-4561-B952-3B5311D5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19D7-EDF3-484D-9DED-DA376F1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B9A-814B-4833-AFAF-DC48E099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C721-66C4-44B7-87B2-1AE2A25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1AF-D4BB-40BF-8CE2-59912694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E6D6-E98A-4E0A-A55A-DC0916C1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564-F100-4228-A605-A29042D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3A1-03E8-438D-AE04-6BB16391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EDB-96C9-43F2-BDDE-33E1E12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702D-CBFF-4C47-8C1F-A4BE596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1FBD-9702-4200-996A-20F3A3B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826-235F-4256-891A-C247A364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22D1-C940-487E-991E-7B26212A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F3DF-4A63-4968-8924-4DACE3E5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EB4E-D9B9-47FD-881A-E3627C1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8463-ABE6-479C-AC13-4336B03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9AA8-9690-457E-A6CF-BBE012EB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CD11-2CD9-4570-BE7B-5426EED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334-7F35-4D69-A2A2-678C4A4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289D-5A09-41C5-9409-6BC779D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C845-09A6-47B4-AD8B-6C75164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8DBA-96EA-48F4-8B6D-E7AF60B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6D01-A342-4D9C-8CBD-3A99F1C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76CC-EC33-45BB-840D-AE249AE3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0444-617A-4D97-B0AB-BB67FB08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4D31-2DD2-4ACA-9BAD-EBB42E1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005D-EAC1-49F1-8338-D49F9482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3F2B-7F50-4B72-B420-D991C2F6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4993-3A5A-4F52-B041-B2D1488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AF1-CDFC-43CD-B16C-FD0737C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C4F8-B2E0-4A71-AB63-88F18CD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62B7-6195-41D6-A167-78F461C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55CE-9C42-4065-96BB-701A3E9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EF14-6179-45F2-8AE2-EC54968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4419-F78C-4F72-9C2B-6549CB2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01D6-8D86-4BC1-BD67-9E3DF31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6303-0FC9-4F1C-A8F0-DC3B0C5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B0A9-8BAA-4529-8096-1BCE9536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A93C-40E8-4CA5-9FF9-797B2112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6EB9-3781-4302-93C6-5A0CD2B3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155-D121-47B7-9B12-4E28706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7469-8E33-45AF-B7F5-E4875DE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7CD3F-9318-4B1C-94BD-DB6BC94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A402-AD79-4B97-917A-FAB35A65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CA8A-6B9E-455F-B7A5-A0BCC99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CB1C-D99B-4F90-8D1E-5663F46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151D-4488-4695-9733-647FB59B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DA35-2854-4C02-B68F-B668CFA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CF42-44F5-4C10-B737-873C3A70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366C-1735-4BAD-9A9D-6DDECF4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7B91-6444-40F9-8816-D7DF1340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121-6456-40C5-BD57-3BF9F2C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97B5-3D72-42FB-8E02-F5E5C545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7F52-80F3-49D7-8A46-D1FAE07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D035-7E95-4BB1-A7A0-50F0D42A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F8AA-EF21-4EDB-B0FC-8EC97FA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D4EF-0074-41BB-8164-9184499A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1972-A1D5-42F0-A5E1-CDE0882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38E4-E8D5-4996-9A2D-1F2B3EF8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99CB-E7C3-4155-9968-7327417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7E41-8A13-4F55-BB7A-AC509BE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E487D-B71B-42B9-823F-366E14D9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4A0-03DB-480D-BD6C-C04EE98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6002-C3E2-4BC9-955D-478A7A84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7233-85E3-4954-BBF4-E9DBDD6F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98FE-ADCA-44E6-A45C-80B2068B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6CA6-3056-4C2E-9A49-6C905DD4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83D2-983D-4EB8-8295-45E05F4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D11B-231D-49BA-825B-C352DFC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EA82-85E2-4815-9A6C-B6809CF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62B30-F40E-4477-A4AA-D7EC7DA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9DE1-B137-4C2B-9ADB-9C296697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CAF0-62B0-4440-8853-76101890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E4B-97C1-4DC7-A256-29AEA36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6842-7264-4E59-AB36-C18AE72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5054-76DF-4012-B803-0B1D7C91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FFD5-037E-4DDC-84F8-ACAAF681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1B7A-ED2F-495C-8A20-87B4777C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D5F0-C797-4D07-A3F6-05A6FD56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F297-5FC9-4C22-8B9E-E0AC4C78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D30D8-AE53-40E8-86DF-21AE5B0F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D521B-2179-4A00-9885-EF067283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FC7F6-61B5-4E45-B50F-E6CB3DD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E097-0A2A-4B6C-B122-826260EC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3FB-78AA-4727-A3FE-7241DD4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BFDF-D2CB-49D9-89BC-CB4C03D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C311-E9D9-4E82-8168-BF63DB36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ADF5-7250-45C4-9BC0-2452FEDC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4AEFE-BE38-498D-A26F-5AB5309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762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99E55-EAFE-47D1-9201-7C89D3D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71240" y="3964320"/>
            <a:ext cx="37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20BAC-F599-465D-A8C3-61A0734E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428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193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314A-5175-4349-A57A-D226C7E5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66560-6536-49BE-856A-05DDFF3C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C565-CFA2-4B72-814F-F412413B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113B-2B78-4B57-B88A-329CE3D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688-6ED6-486E-A534-86CED27D3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F36-34C2-45ED-B16F-1B1F2780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4299-A3CA-494E-AB46-60E37092A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671C-134C-471C-BF87-F0844C6EE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CAB-8970-4BCF-8E07-041DD6D0C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5B2-CA54-44C9-B03D-217D30A3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CDC8-0A69-4700-ABFD-80BCA1D12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742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019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B23-B6D6-4BDE-AD7B-3026B9CA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1CE-C82F-43C5-8924-E25D12CB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es.ivicic@pilar.hr" TargetMode="External"/><Relationship Id="rId2" Type="http://schemas.openxmlformats.org/officeDocument/2006/relationships/hyperlink" Target="mailto:ines.ivicic@pilar.hr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7600" y="2707920"/>
            <a:ext cx="852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900" spc="-1" strike="noStrike">
                <a:solidFill>
                  <a:srgbClr val="c0c0c0"/>
                </a:solidFill>
                <a:latin typeface="Verdana"/>
              </a:rPr>
              <a:t>FORENZIČKA PSIHOLOGIJA</a:t>
            </a:r>
            <a:r>
              <a:rPr b="1" lang="hr-HR" sz="5400" spc="-1" strike="noStrike">
                <a:solidFill>
                  <a:srgbClr val="c0c0c0"/>
                </a:solidFill>
                <a:latin typeface="Bauhaus 93"/>
              </a:rPr>
              <a:t> </a:t>
            </a:r>
            <a:endParaRPr b="0" lang="en-US" sz="5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33"/>
                </a:solidFill>
                <a:latin typeface="Arial Black"/>
              </a:rPr>
              <a:t>Istraživanja, konferencije, diplomski radovi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79280" y="792000"/>
          <a:ext cx="8820360" cy="5950080"/>
        </p:xfrm>
        <a:graphic>
          <a:graphicData uri="http://schemas.openxmlformats.org/drawingml/2006/table">
            <a:tbl>
              <a:tblPr/>
              <a:tblGrid>
                <a:gridCol w="2405160"/>
                <a:gridCol w="4579920"/>
                <a:gridCol w="183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STRAŽIVAN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18720">
                      <a:solidFill>
                        <a:srgbClr val="993366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IPLOMSKI RADO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18720">
                      <a:solidFill>
                        <a:srgbClr val="993366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ONFEREN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18720">
                      <a:solidFill>
                        <a:srgbClr val="993366"/>
                      </a:solidFill>
                    </a:lnB>
                    <a:solidFill>
                      <a:srgbClr val="9933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09/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1872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elena Rašić (2011)  – </a:t>
                      </a: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hološki profil muškaraca koji su pokušali ubiti svoje partner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hana Đumić – sugestibilnost kod dje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1872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1872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jerodostojnost svjedočen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rinka Zovak (2012) – Poznavanje čimbenika vjerodostojnosti svjedoka kod sudskih vještaka i studenata psiholog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8. godišnja konferencija hrvatskih psihologa, Opatija, 201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Zrinka Zovak i Tea Brezinšćak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everbalni pokazatelji lagan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a Brezinšć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/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Elena Matjanovski – fizička atraktivnost i atribucija krivn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čnost prepoznavanja ovisno o vrsti linije za prepoznavanje, prisutnosti ciljne osobe u liniji za prepoznavanj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jana Raičković- linija za prepoznavanj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jana Ivešić- prisutnost osob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decdd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dnos stupnjeva sigurnosti i točnosti prepoznavan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jela Toki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ef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33"/>
                </a:solidFill>
                <a:latin typeface="Arial Black"/>
              </a:rPr>
              <a:t>OCJENJIVANJE</a:t>
            </a:r>
            <a:r>
              <a:rPr b="0" lang="hr-HR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258920" y="1989000"/>
          <a:ext cx="6408720" cy="3108600"/>
        </p:xfrm>
        <a:graphic>
          <a:graphicData uri="http://schemas.openxmlformats.org/drawingml/2006/table">
            <a:tbl>
              <a:tblPr/>
              <a:tblGrid>
                <a:gridCol w="3529080"/>
                <a:gridCol w="28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66cc"/>
                          </a:solidFill>
                          <a:latin typeface="Tahoma"/>
                          <a:ea typeface="Times New Roman"/>
                        </a:rPr>
                        <a:t>RASPON BODOV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66cc"/>
                          </a:solidFill>
                          <a:latin typeface="Tahoma"/>
                          <a:ea typeface="Times New Roman"/>
                        </a:rPr>
                        <a:t>OCJ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 – 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edovoljan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2 - 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voljan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4 - 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bar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6 – 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rlo dobar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8 –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zvrstan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16000" y="1701360"/>
            <a:ext cx="6913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Predavač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3366"/>
                </a:solidFill>
                <a:latin typeface="Tahoma"/>
              </a:rPr>
              <a:t>dr. sc. Ines Suč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nstitut društvenih znanosti Ivo Pilar, soba 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Marulićev trg 19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10 000 Zagr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el: 01/ 4886-8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ines.sucic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@pilar.h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rijeme konzultacij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3366"/>
                </a:solidFill>
                <a:latin typeface="Tahoma"/>
              </a:rPr>
              <a:t>prije/poslije predavanja, ili putem telefona/e-ma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-36360" y="0"/>
            <a:ext cx="93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c0c0c0"/>
                </a:solidFill>
                <a:latin typeface="Arial Black"/>
              </a:rPr>
              <a:t>OSNOVNE INFORMACIJE O NASTAVNICIMA</a:t>
            </a:r>
            <a:r>
              <a:rPr b="0" lang="hr-HR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c0c0"/>
                </a:solidFill>
                <a:latin typeface="Arial Black"/>
              </a:rPr>
              <a:t>LITERATURA ZA KOLEGIJ</a:t>
            </a:r>
            <a:endParaRPr b="0" lang="en-US" sz="36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14240" y="1643040"/>
            <a:ext cx="792972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2251"/>
              </a:spcBef>
              <a:buClr>
                <a:srgbClr val="ffcc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ccc"/>
                </a:solidFill>
                <a:latin typeface="Tahoma"/>
              </a:rPr>
              <a:t>Skrip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buClr>
                <a:srgbClr val="ffcc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ccc"/>
                </a:solidFill>
                <a:latin typeface="Tahoma"/>
              </a:rPr>
              <a:t>PPT prezentaci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buClr>
                <a:srgbClr val="ffcc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ccc"/>
                </a:solidFill>
                <a:latin typeface="Tahoma"/>
              </a:rPr>
              <a:t>Seminar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buClr>
                <a:srgbClr val="ffcc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ccc"/>
                </a:solidFill>
                <a:latin typeface="Tahoma"/>
              </a:rPr>
              <a:t>Dodatno: znanstveni rad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buClr>
                <a:srgbClr val="ffcc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1280" y="-6984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cccc"/>
                </a:solidFill>
                <a:latin typeface="Arial Black"/>
              </a:rPr>
              <a:t>ORGANIZACIJA KOLEGIJA</a:t>
            </a:r>
            <a:r>
              <a:rPr b="0" lang="en-US" sz="4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cc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50920" y="846000"/>
          <a:ext cx="8642160" cy="5896080"/>
        </p:xfrm>
        <a:graphic>
          <a:graphicData uri="http://schemas.openxmlformats.org/drawingml/2006/table">
            <a:tbl>
              <a:tblPr/>
              <a:tblGrid>
                <a:gridCol w="1258920"/>
                <a:gridCol w="933480"/>
                <a:gridCol w="2149200"/>
                <a:gridCol w="2151360"/>
                <a:gridCol w="21492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6600"/>
                          </a:solidFill>
                          <a:latin typeface="Arial Narrow"/>
                          <a:ea typeface="Times New Roman"/>
                        </a:rPr>
                        <a:t>mjes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6600"/>
                          </a:solidFill>
                          <a:latin typeface="Arial Narrow"/>
                          <a:ea typeface="Times New Roman"/>
                        </a:rPr>
                        <a:t>dat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6600"/>
                          </a:solidFill>
                          <a:latin typeface="Arial Narrow"/>
                          <a:ea typeface="Times New Roman"/>
                        </a:rPr>
                        <a:t>sadrža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6600"/>
                          </a:solidFill>
                          <a:latin typeface="Arial Narrow"/>
                          <a:ea typeface="Times New Roman"/>
                        </a:rPr>
                        <a:t>d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6600"/>
                          </a:solidFill>
                          <a:latin typeface="Arial Narrow"/>
                          <a:ea typeface="Times New Roman"/>
                        </a:rPr>
                        <a:t>vrijeme - dvor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VELJAČ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3.0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uvodno predava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20.0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8.0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OŽU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05.0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redava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.0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9.0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semina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26.0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semina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TRAVAN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02.04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KOLOKVIJ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.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6.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4.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SVIBAN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08.0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4.0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redav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Arial"/>
                        </a:rPr>
                        <a:t>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18:30 - Dubro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2.0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KOLOKVIJ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0000"/>
                          </a:solidFill>
                          <a:latin typeface="Arial Narrow"/>
                          <a:ea typeface="Arial"/>
                        </a:rPr>
                        <a:t>09:35 – Slavonski Br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 Black"/>
              </a:rPr>
              <a:t>OBAVEZE STUDENATA I BODOV</a:t>
            </a:r>
            <a:r>
              <a:rPr b="1" lang="hr-HR" sz="3600" spc="-1" strike="noStrike">
                <a:solidFill>
                  <a:srgbClr val="c0c0c0"/>
                </a:solidFill>
                <a:latin typeface="Arial Black"/>
              </a:rPr>
              <a:t>I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71640" y="1773360"/>
          <a:ext cx="7272360" cy="3565440"/>
        </p:xfrm>
        <a:graphic>
          <a:graphicData uri="http://schemas.openxmlformats.org/drawingml/2006/table">
            <a:tbl>
              <a:tblPr/>
              <a:tblGrid>
                <a:gridCol w="3730680"/>
                <a:gridCol w="354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ff66cc"/>
                          </a:solidFill>
                          <a:latin typeface="Tahoma"/>
                          <a:ea typeface="Times New Roman"/>
                        </a:rPr>
                        <a:t>Obaveze studenat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66cc"/>
                          </a:solidFill>
                          <a:latin typeface="Tahoma"/>
                          <a:ea typeface="Arial"/>
                        </a:rPr>
                        <a:t>Maksimalan b</a:t>
                      </a:r>
                      <a:r>
                        <a:rPr b="1" lang="hr-HR" sz="2000" spc="-1" strike="noStrike">
                          <a:solidFill>
                            <a:srgbClr val="ff66cc"/>
                          </a:solidFill>
                          <a:latin typeface="Tahoma"/>
                          <a:ea typeface="Times New Roman"/>
                        </a:rPr>
                        <a:t>roj bodov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ini kolokviji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(5 boda svak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straživanj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imjena upitnik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olokvij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e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olokvij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6600ff"/>
                          </a:solidFill>
                          <a:latin typeface="Tahoma"/>
                          <a:ea typeface="Arial"/>
                        </a:rPr>
                        <a:t>(Završni ispi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6600ff"/>
                          </a:solidFill>
                          <a:latin typeface="Tahoma"/>
                          <a:ea typeface="Arial"/>
                        </a:rPr>
                        <a:t>6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993366"/>
                          </a:solidFill>
                          <a:latin typeface="Tahoma"/>
                          <a:ea typeface="Times New Roman"/>
                        </a:rPr>
                        <a:t>Ukupan broj bodov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993366"/>
                          </a:solidFill>
                          <a:latin typeface="Tahoma"/>
                          <a:ea typeface="Times New Roman"/>
                        </a:rPr>
                        <a:t>1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33"/>
                </a:solidFill>
                <a:latin typeface="Arial Black"/>
              </a:rPr>
              <a:t>Mini kolokvij</a:t>
            </a:r>
            <a:r>
              <a:rPr b="1" lang="hr-HR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ljučuje pitanja iz znanstvenih radova koje treba proči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javljuje se tjedan dana unaprijed kad se studentima i daje literatura za mini kolokv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tudenti se tijekom pisanja mini kolokvija mogu služiti radovima i/ili bilješ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33"/>
                </a:solidFill>
                <a:latin typeface="Arial Black"/>
              </a:rPr>
              <a:t>Kolokviji</a:t>
            </a:r>
            <a:r>
              <a:rPr b="1" lang="hr-HR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lokviji će uključivati gradivo ispredavano do tog datuma (kolokvij 2 ne uključuje gradivo obuhvaćeno kolokvijem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tudenti imaju pravo pristupiti pisanju kolokvija samo jeda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oliko student/-ica na bilo kojem od kolokvija ima manje od 17 bodova treba pristupiti završnom isp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33"/>
                </a:solidFill>
                <a:latin typeface="Arial Black"/>
              </a:rPr>
              <a:t>Seminari</a:t>
            </a: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55280" y="1123560"/>
            <a:ext cx="76201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33"/>
                </a:solidFill>
                <a:latin typeface="Tahoma"/>
              </a:rPr>
              <a:t>seminari su grupni i uključuj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PT prezentaciju u trajanju od 10 minuta  i tekst iz kojeg se može učiti za kolokv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1933"/>
                </a:solidFill>
                <a:latin typeface="Tahoma"/>
              </a:rPr>
              <a:t>TEMA SEMINARA – psihološki profili</a:t>
            </a:r>
            <a:r>
              <a:rPr b="0" lang="hr-HR" sz="2000" spc="-1" strike="noStrike">
                <a:solidFill>
                  <a:srgbClr val="4d19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Hacke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Masovni uboj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ilovatel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iroma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erijski uboj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33"/>
                </a:solidFill>
                <a:latin typeface="Arial Black"/>
              </a:rPr>
              <a:t>Istraživanje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1560" y="119700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svi studenti sudjeluju u provedbi istraži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  <a:ea typeface="Tahoma"/>
              </a:rPr>
              <a:t>dodatne mogućnos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sudjelovanja na konferencij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a.1. Zadar 24. 05. – prijava sažetaka 01. 03., kotizacija 0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a.2.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 Alps Adria Psychology Conference 27.-29. 09. (Lignano Sabbiadoro, Italija) – prijava sažetaka 31. 03., kotizacija 70-100 E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a.3. 20. godišnja konferencija hrvatskih psihologa (Dubrovnik) – 7.-10.11. – prijava sažetaka ???, kotizacija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isanje znanstvenih rad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izrada diplomskog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EME 2011/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efekt oruž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sihološki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0:16:06Z</dcterms:created>
  <dc:creator>ivicic</dc:creator>
  <dc:description/>
  <dc:language>en-US</dc:language>
  <cp:lastModifiedBy>Ines Ivicic</cp:lastModifiedBy>
  <dcterms:modified xsi:type="dcterms:W3CDTF">2012-02-22T20:13:02Z</dcterms:modified>
  <cp:revision>264</cp:revision>
  <dc:subject/>
  <dc:title>Uvod u psihologiju</dc:title>
</cp:coreProperties>
</file>