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3E4-2783-4792-9CB5-93DB839A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BDB1-AE5F-4421-8A88-BF8D3C17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EC0-594D-4C7B-AA4B-70D97D90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1672-DA5A-4EE8-B0BC-EDFA0CA6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FBFA-E296-4640-9511-A2E547CE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369F-14C1-4547-91B2-2400352E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0822-255B-4686-8D4E-0E4B23A1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A2E1-2342-4166-83A1-3410C685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0195-F507-448B-A0F5-C36DD2BD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ABA8-54F1-4C28-B310-771510D6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58E4-CA3F-4131-8EBB-871333FC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590-612F-4622-9D24-5910F1E4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041C-D90E-4F4B-BA4B-89144855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264B-D898-42E3-AC7A-C52D4100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762F-1E5B-4B6B-9335-D70694E5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EF33-FB43-4A81-98D7-A237E955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09F4-7B3A-49F0-B5A4-93E66361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C308-FB4E-4560-B581-5CCB95B6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2D97-3368-4744-9233-34C0079A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CA6-E303-478E-9E7B-D6AB6D65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12F-2256-4AC9-9AB6-50090415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089-9744-4692-A3D9-EE31059B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FE8C-5A32-42B1-9063-706EF462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C14-F82E-4479-8417-9DD7D6B8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D141-5905-4628-A8D4-1E6C1549AC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4724-64FC-47CA-9BB5-A0CAE0277C0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FARMAKOLOGIJA SREDIŠNJEG ŽIVČANOG SUSTAVA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Prim. mr. sc. Josip Čulig, dr. m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BF61-2B0A-4A61-A060-BCBB6ACCC9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ETANOL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u malim dozama uvjetuje psihičku relaksaciju, blagu sedaciju, vazodilataciju, tahikardiju i porast lučenja solne kiseline u želucu, usporava reakcij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U većim je dozama motorna koordinacija poremećena, dolazi do poremećaja govora, smanjene sekrecije vazopresina i pojačane pospa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Još veće doze uzrokuju depresiju disanja, analgezije, anestezije i ko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mrt nastupa zbog depresije disan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1066680"/>
            <a:ext cx="761760" cy="304920"/>
          </a:xfrm>
          <a:custGeom>
            <a:avLst/>
            <a:gdLst>
              <a:gd name="textAreaLeft" fmla="*/ 118800 w 761760"/>
              <a:gd name="textAreaRight" fmla="*/ 666720 w 761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4724280"/>
            <a:ext cx="761760" cy="304920"/>
          </a:xfrm>
          <a:custGeom>
            <a:avLst/>
            <a:gdLst>
              <a:gd name="textAreaLeft" fmla="*/ 118800 w 761760"/>
              <a:gd name="textAreaRight" fmla="*/ 666720 w 761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2895480"/>
            <a:ext cx="761760" cy="304920"/>
          </a:xfrm>
          <a:custGeom>
            <a:avLst/>
            <a:gdLst>
              <a:gd name="textAreaLeft" fmla="*/ 118800 w 761760"/>
              <a:gd name="textAreaRight" fmla="*/ 666720 w 761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2136-1963-4EFF-A8F4-9106AF3508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  </a:t>
            </a: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ETANOL - CH</a:t>
            </a:r>
            <a:r>
              <a:rPr b="1" lang="en-US" sz="4400" spc="-1" strike="noStrike" baseline="-25000">
                <a:solidFill>
                  <a:srgbClr val="66ffcc"/>
                </a:solidFill>
                <a:latin typeface="Bookman Old Style"/>
              </a:rPr>
              <a:t>3</a:t>
            </a: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CH</a:t>
            </a:r>
            <a:r>
              <a:rPr b="1" lang="en-US" sz="4400" spc="-1" strike="noStrike" baseline="-25000">
                <a:solidFill>
                  <a:srgbClr val="66ffcc"/>
                </a:solidFill>
                <a:latin typeface="Bookman Old Style"/>
              </a:rPr>
              <a:t>2</a:t>
            </a: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OH</a:t>
            </a:r>
            <a:br>
              <a:rPr sz="4400"/>
            </a:b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Izrazito topljiv u lipid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Razgrađuje se u jetri posredovanjem alkoholne dehidrogene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CETALDEHID       OCTE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KISELINA (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OOH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Kinetika nultog re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10 g ETANOLA NA SA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35812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3581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5F68-AB69-4619-B558-783AD9F35C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720" y="1523880"/>
            <a:ext cx="60958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Male doze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(do 2 dl v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psihička relaks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blaga sed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porast solne kiseline u želuc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“pojačano” raspolože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6094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ETANOL - toksič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3809880"/>
            <a:ext cx="5867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Velike doze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(više od 100 mg 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poremećena motorna koordin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poremećaji u govo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pojačana diurez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pospa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C398-ECA6-4EBD-B980-4AA8E1B649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ETANOL - OTROVANJE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Koncentracije 350 - 600 mg %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MR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epresija disanja     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KOMA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Liječen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ispiranje želuca, održavanje disanja, krvnog tlaka i temperature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dok se etanol ne ragradi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27432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42670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1791-2213-4AC7-85B7-8EBEEAD7DB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ANTIPARKISONICI i</a:t>
            </a:r>
            <a:r>
              <a:rPr b="0" lang="en-US" sz="36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lijekovi protiv spastičnosti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Parkinsonova bolest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tremor, rigidnost, bradikinezija, poremećaj stajanja i hodanja      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nedostatak dopamina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Liječenje Parkinsonove bolest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1. Lijekovi koji povisuju razinu dopamina -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EVODO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2. Dopaminergički agonisti -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ROMOKRIP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ijekovi koji oslobađaju dopamin -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MANTA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4. Antagonisti acetilkolina - muskarinski blokato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3048120"/>
            <a:ext cx="533520" cy="152280"/>
          </a:xfrm>
          <a:custGeom>
            <a:avLst/>
            <a:gdLst>
              <a:gd name="textAreaLeft" fmla="*/ 83160 w 533520"/>
              <a:gd name="textAreaRight" fmla="*/ 466920 w 5335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616-614F-4299-A67A-FA72E5E9FE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ANTIEPILEPTICI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EPILEPSIJA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je posljedica naglog stvaranja akcijskih potencijala u skupini neur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Klinička slik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stereotipne paroksizmalne promjene ponaš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ntiepileptic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povisuju prag podražaja zdravih neurona i tako sprečavaju napadaje. Potenciraju učinak GABA-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B19E-15F2-4489-BD7B-52510F8C8C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ANTIEPILEPTICI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3352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Fenito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Fenobarbi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Valproič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kisel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Karbamazep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Lamotri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20574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266688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327672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441972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50292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0B35-229D-414A-8308-DF352E80BE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Lijekovi koji se upotrebljavaju za liječenje središnjeg živčanog sustava nazivaju se:</a:t>
            </a:r>
            <a:endParaRPr b="0" lang="en-US" sz="28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Opći anesteti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nksioliti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Sedativi (hipnotici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ntipsihoti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ntidepresiv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ntiepilepti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Neurofarmaci djeluju n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sinaptičku transmisiju živčanih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impulsa, tako da modificiraju učinak pojedinih neurotransmitora.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C2A-B769-4CC4-99A3-31CE0C582D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NEUROTRANSMITORI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u tvari prisutne u presinaptičkim okončinama aksona, oslobađaju se u sinaptičkim pukotinama, sintetiziraju se u presinaptičkoj okončini. Nakon djelovanja na sinapsi, inaktiviraju se enzimima ili se povratnim transportom vraćaju u presinaptički završeta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F90D-28DF-4E35-B8CF-63D5D2F401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676160" y="14479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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CETILKOL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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DOPA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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NORADRENAL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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SEROTONIN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5-hidroksitripta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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GAMA - AMINOMASLAČ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   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KISELINA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(GAB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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GLIC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E896-25A9-4602-B71D-9232EC843A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FENOMEN KRVNO - MOŽDANE BARIJERE </a:t>
            </a:r>
            <a:br>
              <a:rPr sz="2800"/>
            </a:b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za prolaz lijekova iz krvi u mozak</a:t>
            </a: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  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olaz lijekova ovisi o liposolubilnosti tj. particijskom koeficijentu lijeka između ulja i vode. Lijekovi s visokom liposolubilnošću lakše i brže ulaze u mozak.</a:t>
            </a:r>
            <a:endParaRPr b="0" lang="en-US" sz="24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133720" y="2706840"/>
          <a:ext cx="4790880" cy="415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706840"/>
                    <a:ext cx="479088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699-E573-467F-8AD4-8E7FF927B8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NESTETICI 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uzrokuju gubitak 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svijesti i osje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INHALACIJSKI ANESTETICI 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plinovi (dušični oksidu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hlapljive tekućine (eter, halot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INTRAVENSKI ANESTETI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tiopenton, propanidid, keta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52388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4191120"/>
            <a:ext cx="457200" cy="304560"/>
          </a:xfrm>
          <a:custGeom>
            <a:avLst/>
            <a:gdLst>
              <a:gd name="textAreaLeft" fmla="*/ 71280 w 457200"/>
              <a:gd name="textAreaRight" fmla="*/ 400320 w 457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590920"/>
            <a:ext cx="457200" cy="304560"/>
          </a:xfrm>
          <a:custGeom>
            <a:avLst/>
            <a:gdLst>
              <a:gd name="textAreaLeft" fmla="*/ 71280 w 457200"/>
              <a:gd name="textAreaRight" fmla="*/ 400320 w 457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ECF-FBA4-49FE-A353-5A9C55B487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NTIPSIHOTICI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su lijekovi za liječenje duševnih bolesti (psihoze)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66ffcc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FENOTIAZINI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klorpromaz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IOKSANTENI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klorprotiks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Wingdings"/>
                <a:ea typeface="Wingdings"/>
              </a:rPr>
              <a:t>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BUTIROFENONI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haloperido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IBENZODIAZEPINI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klozap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Wingdings"/>
                <a:ea typeface="Wingdings"/>
              </a:rPr>
              <a:t>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RISPERID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ntipsihotici su specifični blokator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opaminergičkih receptora, djelomičn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lokiraju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adrenergičke, muskarinske 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histaminske recepto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A136-851E-4C90-9C17-1D1ABDBF6A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NTIDEPRESIVI - povećavaju koncentraciju nekih neurotransmitora u sinaptičkoj pukotini.</a:t>
            </a:r>
            <a:endParaRPr b="0" lang="en-US" sz="28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lokiraju povratni mehanizam 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esinaptičku okončinu (serotonin 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noradrenalin). Serotonin i noradrenal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jeluju produženo na recepto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Triciklički antidepresivi</a:t>
            </a:r>
            <a:r>
              <a:rPr b="0" lang="en-US" sz="28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amitriptil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Ciklički antidepresivi</a:t>
            </a:r>
            <a:r>
              <a:rPr b="0" lang="en-US" sz="28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maprotil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Inhibitori monoaminooksidaze</a:t>
            </a:r>
            <a:r>
              <a:rPr b="0" lang="en-US" sz="28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moklobemi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Selektivni inhibitori ponovne pohrane serotonina</a:t>
            </a:r>
            <a:r>
              <a:rPr b="0" lang="en-US" sz="28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fluokset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4BD-1854-4C6E-A205-7715E326E4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NKSIOLITICI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uklanjaju psihičku napetost, osjećaj tjeskobe i straha.</a:t>
            </a:r>
            <a:br>
              <a:rPr sz="2800"/>
            </a:b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BENZODIAZEPINI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tenciraju učinak GABA-e u SŽS povećavanjem učestalosti otvaranja kloridnih kanala.</a:t>
            </a:r>
            <a:endParaRPr b="0" lang="en-US" sz="28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33720" y="3123720"/>
            <a:ext cx="6400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nksiolitičk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Hipnotičk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manjuju mišićni to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ntikonvulzivno djelov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DIAZEPAM, OKSAZEP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66B8-B5F6-451D-9669-7708A5CE91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09:09:08Z</dcterms:created>
  <dc:creator>Jelena</dc:creator>
  <dc:description/>
  <dc:language>en-US</dc:language>
  <cp:lastModifiedBy>KERAMEIKOS d.o.o.</cp:lastModifiedBy>
  <dcterms:modified xsi:type="dcterms:W3CDTF">2003-01-31T09:21:15Z</dcterms:modified>
  <cp:revision>20</cp:revision>
  <dc:subject/>
  <dc:title>FARAMKOLOGIJA SREDIŠNJEG ŽIVČANOG SUSTAVA</dc:title>
</cp:coreProperties>
</file>