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B5C-3EDD-4983-9235-D151CA74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EAA-7542-45EF-BD2B-F95C08B5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63B-D8F0-4240-A46E-C2480928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597-C5A1-4EB1-BF97-0AFA886D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775D-BADB-4119-A146-C8A919CC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A028-E830-43E6-984B-AA891649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ED71-DE91-413A-96BC-7D84185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8141-9027-410A-8743-861E390A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F860-37E3-4C50-B7CC-328B9B34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9EC4-47CF-4E15-9DE7-5AD1A68D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E286-86D4-4E7D-ADCD-CF1500D8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45B-F1E9-4807-989C-24552262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6798-C199-44D4-A8C1-1D43357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0AC1-4074-4630-9439-9F5A4555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D2CA-27C5-4CB3-B89C-FA1A35A0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3D31-5CB1-49AC-B9F6-0B3F48A1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8357-65EF-472F-AA85-046444A4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616-6090-4E4A-9284-1F850D0B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527-8B29-4669-A495-507DE25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153-C535-4C01-8414-A8C347F1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6BC-B11F-43CC-9DEB-64759488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6C7-9E71-45AC-BDFB-44DDE4F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A76-0A18-4A6A-8487-F408F8FF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339-C3F9-49E7-8F3C-767BDC6D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3544-6641-4620-A4D1-97EC7916C678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6FBB-CF95-4F14-B30B-34F1EF798054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addington-galleries.com/ARTIST/PHOT/SGURS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cc"/>
                </a:solidFill>
                <a:latin typeface="Times New Roman"/>
              </a:rPr>
              <a:t>HONG KONG EXCHANG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na Ru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etra Tol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anja Vraž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ndrina Žil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ROIZVOD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RŽIŠTE IZVEDE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Fu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ibor Fu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hree – Year Exchange Fu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MEHANIZAM TRGOVANJ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RDER-DRIVEN” SUSTA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 cijene se mijenjaju ovisno o naredbama koje dolaze od brokera i dealera na aukcijama, koji pak primaju naredbe od investito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ve narudžbe se izvršavaju preko AMS-a (Automatic Order Matching and Execution Syst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MEHANIZAM TRGOVANJ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dvija se na 2 mjest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eko terminala u velikoj dvorani na HKSE – FLOOR BROKERI i FLOOR DEALE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eko “off-floor” terminala trgovanja, u uredima brokera – OFF-FLOOR BROKE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 povećanje kapacit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 povećanje učinkovi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INDEKS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eec94"/>
                </a:solidFill>
                <a:latin typeface="Times New Roman"/>
              </a:rPr>
              <a:t>HANG SENG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najvažniji indik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adrži 33 dionice koje pokrivaju oko 70 % kapitalizacije tržišta od svih dionica koja su uvrštene na “Main Board” HK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dijeli se na 4 podindex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FINANCE”, “UTILITIES”, “PROPERTIES”, “COMMERCE &amp; INDUSTR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eec94"/>
                </a:solidFill>
                <a:latin typeface="Times New Roman"/>
              </a:rPr>
              <a:t>HANG SENG INDEX (11/05/2005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Today's Hang Seng Index movement chart"/>
          <p:cNvPicPr/>
          <p:nvPr/>
        </p:nvPicPr>
        <p:blipFill>
          <a:blip r:embed="rId1"/>
          <a:stretch/>
        </p:blipFill>
        <p:spPr>
          <a:xfrm>
            <a:off x="1258920" y="2492280"/>
            <a:ext cx="6481800" cy="380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57200" y="1600200"/>
          <a:ext cx="8229600" cy="487440"/>
        </p:xfrm>
        <a:graphic>
          <a:graphicData uri="http://schemas.openxmlformats.org/drawingml/2006/table">
            <a:tbl>
              <a:tblPr/>
              <a:tblGrid>
                <a:gridCol w="792000"/>
                <a:gridCol w="1656000"/>
                <a:gridCol w="1452600"/>
                <a:gridCol w="1488960"/>
                <a:gridCol w="1490760"/>
                <a:gridCol w="1349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vious cl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nge 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ily hig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ily lo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urnov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S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085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112,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991,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611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INDEX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eec94"/>
                </a:solidFill>
                <a:latin typeface="Times New Roman"/>
              </a:rPr>
              <a:t>HANG SENG KOMPOZITNI INDEX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okrivaju preko 95 % tržišne kapital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GEOGRAFSKI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( Hang Seng Mainland Composite Index, Hang Seng Hong Kong Composite Index, Hang Seng China Enerprises Index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INDUSTRIJSKI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( “nafta i resursi”, “ind. roba”, “potrošna roba”, “usluge”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77472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sted companies (Main Board)</a:t>
            </a:r>
            <a:br>
              <a:rPr sz="1600"/>
            </a:b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up to end of April 200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700280"/>
          <a:ext cx="8864640" cy="3914640"/>
        </p:xfrm>
        <a:graphic>
          <a:graphicData uri="http://schemas.openxmlformats.org/drawingml/2006/table">
            <a:tbl>
              <a:tblPr/>
              <a:tblGrid>
                <a:gridCol w="2216160"/>
                <a:gridCol w="2216160"/>
                <a:gridCol w="2216160"/>
                <a:gridCol w="2216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 of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listed compan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no. of listed secur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8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9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H sha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Red-chip Stock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Equity Warra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Derivatives Warra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E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Unit Tru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Debt Secur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market capitalisation</a:t>
                      </a:r>
                      <a:br>
                        <a:rPr sz="1200"/>
                      </a:b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HK$Mil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619,5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299,2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629,1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P/E ratio (Tim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yield 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0" y="543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05228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rnover (Main Boar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1125360"/>
          <a:ext cx="8642160" cy="4751280"/>
        </p:xfrm>
        <a:graphic>
          <a:graphicData uri="http://schemas.openxmlformats.org/drawingml/2006/table">
            <a:tbl>
              <a:tblPr/>
              <a:tblGrid>
                <a:gridCol w="3284640"/>
                <a:gridCol w="1071360"/>
                <a:gridCol w="1071720"/>
                <a:gridCol w="1071360"/>
                <a:gridCol w="1071360"/>
                <a:gridCol w="1071720"/>
              </a:tblGrid>
              <a:tr h="14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over 1 mon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n. to Apr.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relative to corresponding period last ye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turnover in value(HK$Mil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8,5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79,4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48,3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daily turnover by value(HK$Mil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,9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46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8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turnover in shares(Mil. Shar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9,8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862,3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84,7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share traded per trading d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4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,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number of tra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1,6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815,2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631,4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no. of trades per d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4,5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9,5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7,1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trading da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8920" y="69156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dex perform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765000"/>
          <a:ext cx="8497800" cy="5154480"/>
        </p:xfrm>
        <a:graphic>
          <a:graphicData uri="http://schemas.openxmlformats.org/drawingml/2006/table">
            <a:tbl>
              <a:tblPr/>
              <a:tblGrid>
                <a:gridCol w="2322360"/>
                <a:gridCol w="1530360"/>
                <a:gridCol w="2322720"/>
                <a:gridCol w="2322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 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over</a:t>
                      </a:r>
                      <a:br>
                        <a:rPr sz="1200"/>
                      </a:b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mon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over</a:t>
                      </a:r>
                      <a:br>
                        <a:rPr sz="1200"/>
                      </a:b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12 month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&amp;P/HKEx LargeCap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579.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&amp;P/HKEx GEM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5.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,908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Fin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810.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Ut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598.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Proper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252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Commerce &amp; Indust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61.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Composite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792.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China Enterprises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657.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China-Affiliated Corporations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62.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TOP 10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BC Multi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Universe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mnicor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uabao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onavox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0" y="191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K 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ssex Bio-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outh China 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sia Teleme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Northern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eec94"/>
                </a:solidFill>
                <a:latin typeface="Times New Roman"/>
              </a:rPr>
              <a:t>HVALA 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eec94"/>
                </a:solidFill>
                <a:latin typeface="Times New Roman"/>
              </a:rPr>
              <a:t>PITANJA 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eec94"/>
                </a:solidFill>
                <a:latin typeface="Times New Roman"/>
              </a:rPr>
              <a:t>posjetite </a:t>
            </a:r>
            <a:r>
              <a:rPr b="1" lang="hr-HR" sz="2800" spc="-1" strike="noStrike">
                <a:solidFill>
                  <a:srgbClr val="feec94"/>
                </a:solidFill>
                <a:latin typeface="Times New Roman"/>
              </a:rPr>
              <a:t>www.hkex.com.h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Logo-HKEx"/>
          <p:cNvPicPr/>
          <p:nvPr/>
        </p:nvPicPr>
        <p:blipFill>
          <a:blip r:embed="rId1"/>
          <a:stretch/>
        </p:blipFill>
        <p:spPr>
          <a:xfrm>
            <a:off x="900000" y="900000"/>
            <a:ext cx="266400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SADRŽAJ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POVIJ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SUDION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PROIZVO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MEHANIZAM TRGO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INDEK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STAT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ong Kong Exchanges and Cl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Limited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Zadatak: transparentnost, pošteno tržišt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učinkovita regulacija, rast tvrtki i s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OVIJE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891. - prvo formalno tržište vrijednosn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47. – spajanje dvije najvažnije bu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70te - formirane još 3 bu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86. – spajanjem formirana “The Stock Exchange of Hong Ko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87. – “market crash” - promj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omjen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snovana SFC (Securities and Futures Commission) – regu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93. osnovan AMS (Automatic Order Matching and Execution System) – glavna tehnička osnov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96. stvaraju se “off- floor” termin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2000. spajanjem stvorena “Hong Kong Exchanges and Clearing Limit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SUDIONIC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Exchange (SEHK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Futures Exchange (HKFE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Options Exchange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ong Kong Securities Clearing Company (HKSCC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KFE Clearing Corporation (HKCC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he SEHK Options Clearing House (SEOCH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ROIZVOD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RŽIŠTE VRIJEDNOS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Derivative warr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xchange Traded F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Bon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ROIZVOD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IMJ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TF koji kotiraju na burzi u HK uključuj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racker Fund 2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China Tracker 28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50 China Tracker 28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ang Seng H-Share Index ETF 28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ang Seng HSI ETF 28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0:38:31Z</dcterms:created>
  <dc:creator>Studenski dom - ucionice</dc:creator>
  <dc:description/>
  <dc:language>en-US</dc:language>
  <cp:lastModifiedBy>Studenski dom - ucionice</cp:lastModifiedBy>
  <dcterms:modified xsi:type="dcterms:W3CDTF">2005-05-10T18:24:54Z</dcterms:modified>
  <cp:revision>7</cp:revision>
  <dc:subject/>
  <dc:title>BURZA U HONG KONGU</dc:title>
</cp:coreProperties>
</file>