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8997-C8EF-4968-AA7F-9A7647458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C673-9D6B-4DB7-A56A-D19DE18FE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0AF8-13E1-46AA-B3F6-D1C7254AB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8441-036C-4590-9B0F-2A27B459A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CE47-EAC7-4E4A-A3BF-29F299474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5F8A-2CCE-4757-A4CE-10CF51A9E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409C-8740-4D4A-8CAA-272CB85CE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5F4C-0B64-4F6E-A650-74CB5C981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DA99-55B4-4CA2-A07D-94B6BFC85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9BF7-67BD-45D2-B4B2-9BB9116C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6A0B-1388-43F5-8A55-A6C007CF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CE5A-8B64-42CE-B785-757E5218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BB69F-912C-4539-A47C-598F2953D00A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Posljedice tranzicije na ruralni razvoj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estanak poljoprivrednih kombinata koji su bili gospodarska i socijalna potpora lokalnim zajednicama, uništavanje materijalnih dob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porost u pretvorbi i privatizaciji državnog zemljišt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lutanja u određivanju strateških priorit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esustavna potrošnja poljoprivrednog zemljiš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azaranje modela “mješovitosti” u ruralnoj gospodarskoj strukturi bez istovremenog razvijanja uspješnijih socio-ekonomskih modela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arušavanje raznolike tradicionalne kulture, porast međureligijskih i međuetničkih netrepeljivosti, porast individualiz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ve su to utjecaji koji smanjuje stupanj kohezije, odnosno povezanosti i suradnje u društv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Tranzicijski trok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spješnost transformacije (restrukturiranje) ovisi o tri bitne sastavnice strategije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1979280" y="2133720"/>
            <a:ext cx="2305080" cy="28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50920" y="5013360"/>
            <a:ext cx="43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4284360" y="2204640"/>
            <a:ext cx="2158920" cy="28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8463200">
            <a:off x="1832400" y="3143520"/>
            <a:ext cx="18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demokratiz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7080" y="5157720"/>
            <a:ext cx="17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moderniz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3034800">
            <a:off x="4482720" y="3286080"/>
            <a:ext cx="27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ekonstrukcija kapitaliz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Budući pravci ruralnog razvo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4360" y="2276640"/>
            <a:ext cx="360036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Strategija dovolj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skromnost, umjerenost i samoograničav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19280" y="4149720"/>
            <a:ext cx="413532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Strategija poveć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produktivnosti resur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recikliranje, čiste tehnologij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subvencioniranje, ekološki porez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2421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18080" y="2565360"/>
            <a:ext cx="35056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Strategija ekološk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metaboliz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kretanje materiijala i energ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sukladno onom u prirod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050920" y="1268280"/>
            <a:ext cx="7207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76720" y="1268280"/>
            <a:ext cx="50328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3924000" y="1197000"/>
            <a:ext cx="64764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9999"/>
                </a:solidFill>
                <a:latin typeface="Arial"/>
              </a:rPr>
              <a:t>Integrirani pristup ruralnom razvoj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51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laniranje ruralnog razvoja u budućnosti treba sadržavati tri aspekta modernizacijskih pitanj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ulturne promjene – poticanje procesa osnaživanja endogenih (unutarnjih) čimbenika, politika oslanjanja na vlastite sn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ocijalno-ekološki metabolizam ruralnog društva – imitiranje ekološkog metabolizma uz socijalnu regulaci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Vizija agrarne proizvodnje i agrarne polit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Danas je poželjno da se ruralne promjene događaju što je moguće više kao planirane promjene u skladu s konceptom  održivog razvoja na nacionalnoj i globalnoj razini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kteri - pokretači promjena u hrvatskom se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  vitalna gospodarstva i poduzetni selja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vanjski poduzetn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zaštitari” kulture i prir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la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eoska društ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litičke organiza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crk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bnovitelji poratnog s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lokalna i mjesna samou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nteresne zajedn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ovi selja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lokalne razvojne agen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Tri scenarija budućeg razvo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elo – socijalni azil za stare, nemoćne i odbjegle iz grada uz razvitak okućnog poljodjelstva. Ovaj je scenarij rezultat krute modernizacije (industijalizacije), a prisutan je u mnogim ruralnim područj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elo – pomoćna adresa u subregionalnoj alokaciji industrije. To je proces interne tehničke modernizacije u kombinaciji s mješovitim kućanstvom kao glavnim socijalnim sudionikom. Komplementarna inačica navedenom procesu je stvaranje moderne poljoprivrede s tendencijom okrupnjavanja posje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stmoderno selo – prema ideji postsekularnog svijeta o očuvanju i obrani života (prirode) zbog njegove svetosti – samo je manjina pripremna poduprijeti takav scenarij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2:30:51Z</dcterms:created>
  <dc:creator>Snježana Tolić</dc:creator>
  <dc:description/>
  <dc:language>en-US</dc:language>
  <cp:lastModifiedBy>WinXP User</cp:lastModifiedBy>
  <dcterms:modified xsi:type="dcterms:W3CDTF">2006-12-15T13:37:40Z</dcterms:modified>
  <cp:revision>12</cp:revision>
  <dc:subject/>
  <dc:title>Slide 1</dc:title>
</cp:coreProperties>
</file>