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A71-C1D7-4D29-AD15-FC72A9A0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21D-4699-4D56-89B0-277E9F3D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2DD-BA34-47AE-8C9B-AAF9D279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70F-4B31-4696-9986-DA3CC240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5DAF-C006-4013-8EAD-60D90FC2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2DF9-4925-4E3C-A6AB-303C480C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6D8E-497D-4D9C-90BE-8205C4BF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EC16-3ADD-44EC-82CE-17BFBF09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AB08-5B63-4F4C-9B6B-22B4C6D7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4A66-B319-490E-B18F-4399CA84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5930-FB69-4225-8A83-46F95463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623-9C87-464C-A239-7C856D58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8E28-98C6-4DC7-9042-6FF01967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6003-1C62-427D-942E-9B104611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E306-CD8E-45E3-91F2-4CD1C702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9129-E0D1-4866-B3BF-A7424BB3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EB03-13CE-426A-866B-A560EE63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F99-7638-4DD0-996B-A6D2653C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A46-3872-46E6-AF3B-D9CFE5F8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C8E-4FFA-445F-BEB7-907AE77A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5D7-2574-40EF-BE7B-B5E09140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031-C235-4F87-8A8E-B054750E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B41-62B7-4BAC-864F-A45F9848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535-E6FE-49F4-BA8D-718B06ED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4C86-8BD4-4DDF-BCC1-4F857974687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89F7-170E-4158-A07F-525068867C8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200" spc="-1" strike="noStrike">
                <a:solidFill>
                  <a:srgbClr val="999900"/>
                </a:solidFill>
                <a:latin typeface="Garamond"/>
              </a:rPr>
              <a:t>SREDNJE VRIJEDNOSTI STATISTIČKOG NIZA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872400" cy="30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edijan. Kvantil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Aritmetička sred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Geometrijska sred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Harmonijska sred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omenti numeričkih nizo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9CBE-28E3-41C8-850C-CF349D89E1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765440"/>
            <a:ext cx="8820000" cy="320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70880" y="189000"/>
            <a:ext cx="4996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Primjer 3.4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Živorođena djeca u RH 1999. g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prema </a:t>
            </a:r>
            <a:r>
              <a:rPr b="1" lang="hr-HR" sz="1800" spc="-1" strike="noStrike">
                <a:solidFill>
                  <a:srgbClr val="ff9900"/>
                </a:solidFill>
                <a:latin typeface="Verdana"/>
              </a:rPr>
              <a:t>navršenim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godinama života maj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1360" y="5373720"/>
            <a:ext cx="336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Urediti gran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Veličine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Korigirane frekv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5080" y="486252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Izvor: prema SLJRH-2000, str. 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F64-BB38-4882-9A91-B72CFDBF15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77400" y="623088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Izvor: prema SLJRH-2000, str. 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560" y="847800"/>
            <a:ext cx="68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00"/>
                </a:solidFill>
                <a:latin typeface="Verdana"/>
              </a:rPr>
              <a:t>Grafičko određivanje moda – na hist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415880"/>
            <a:ext cx="7991280" cy="467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911480" y="17874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Verdana"/>
              </a:rPr>
              <a:t>Najviši stup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993-45A7-4C54-AC28-70840C5682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11280" y="620640"/>
            <a:ext cx="7869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6600"/>
                </a:solidFill>
                <a:latin typeface="Verdana"/>
              </a:rPr>
              <a:t>SVOJSTVA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a njega ne utječu ekstremno male ni velike vrijednosti obilježja (kao kod aritmetičke sredine) jer je određen položajem podatka u niz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Može se odrediti za kvalitativne i kvantitativne podat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Procjena granica otvorenih razreda ne može utjecati na vrijednost mo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6600"/>
                </a:solidFill>
                <a:latin typeface="Verdana"/>
              </a:rPr>
              <a:t>NEDOSTACI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pouzdana mjera kod izrazito asimetričnih distribucija, kada je modalni razred otv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Problem višedimenzionalnih distribucija (bimodalna i sl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osjetljiv je na način grupiranja (formiranja razre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10A-5EF9-4B7E-AF3D-8540D48CDC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765000"/>
            <a:ext cx="81374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0000"/>
                </a:solidFill>
                <a:latin typeface="Verdana"/>
              </a:rPr>
              <a:t>MEDIJAN I KVANT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 u="sng">
                <a:solidFill>
                  <a:srgbClr val="cc0000"/>
                </a:solidFill>
                <a:uFillTx/>
                <a:latin typeface="Verdana"/>
              </a:rPr>
              <a:t>Medijan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položajna srednja vrijednost koja numerički niz </a:t>
            </a:r>
            <a:r>
              <a:rPr b="1" i="1" lang="hr-HR" sz="2000" spc="-1" strike="noStrike">
                <a:solidFill>
                  <a:srgbClr val="ff9900"/>
                </a:solidFill>
                <a:latin typeface="Verdana"/>
              </a:rPr>
              <a:t>uređen po veličini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dijeli na dva </a:t>
            </a:r>
            <a:r>
              <a:rPr b="1" lang="hr-HR" sz="2000" spc="-1" strike="noStrike">
                <a:solidFill>
                  <a:srgbClr val="ff9900"/>
                </a:solidFill>
                <a:latin typeface="Verdana"/>
              </a:rPr>
              <a:t>jednakobrojna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dije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Izražen je u istim mjernim jedinicama kao i obiljež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može se odrediti i za redosljedni n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Ubraja se u kvant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 u="sng">
                <a:solidFill>
                  <a:srgbClr val="cc0000"/>
                </a:solidFill>
                <a:uFillTx/>
                <a:latin typeface="Verdana"/>
              </a:rPr>
              <a:t>Kvantili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dijele niz uređenih podataka na 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dijelo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Kvantili su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kvartili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(na četiri dijel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decili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(na deset dijelov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percentili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(na 100 dijelov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9E2-92F2-40F9-9FD5-C5E50BB805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2700360"/>
            <a:ext cx="6840720" cy="2097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49520" y="907920"/>
            <a:ext cx="78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Medijan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54360" y="142704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Podaci moraju biti poredani po veliči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580536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600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39840" y="6108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70480" y="3333600"/>
                <a:ext cx="20304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95480" y="6251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249800" y="5691240"/>
                <a:ext cx="393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65164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627280" y="5661000"/>
                <a:ext cx="3049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724360" y="5661000"/>
                <a:ext cx="3175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42920" y="5661000"/>
                <a:ext cx="523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236000" y="5589720"/>
                <a:ext cx="5428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692360" y="6093000"/>
            <a:ext cx="71892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6093000"/>
            <a:ext cx="71928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093000"/>
            <a:ext cx="71928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00720" y="6093000"/>
            <a:ext cx="71928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33400" y="602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76640" y="602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03920" y="602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45360" y="602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6AE-FCD0-4276-B0FE-E07E0C5433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64200" cy="20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42920" y="4424400"/>
            <a:ext cx="7345440" cy="1812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9400" y="692280"/>
            <a:ext cx="670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Prvi kvar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366408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Treći  kvar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FD8-39AF-485B-9BDE-FF9DA20365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86040" y="1719360"/>
            <a:ext cx="5854680" cy="1515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908000" y="4351320"/>
            <a:ext cx="5904000" cy="1525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69228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Deci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375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Percenti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B0B-BA0E-43ED-9AC6-E9436F64D8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404640"/>
            <a:ext cx="8135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Primjer: Negrupirani numerički pod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Mjesečna proizvodnja istovrsnog proizvoda na 10 dislociranih proizvodnih mjesta (u tonam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lain" startAt="7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81  74  85  88  74  86  94  79 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iz uređen po veliči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lain" startAt="7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74  74  79  81  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◊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85  86  88  90  9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 =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00000" y="3594240"/>
            <a:ext cx="7272360" cy="287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E77-BFEA-4096-8D09-5B5A7918EC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71640" y="843120"/>
            <a:ext cx="6840360" cy="2730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00000" y="3673440"/>
            <a:ext cx="7272360" cy="2581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135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Niz uređen po veliči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74  74  79  81  85  86  88  90  94</a:t>
            </a:r>
            <a:r>
              <a:rPr b="0" lang="hr-HR" sz="2000" spc="-1" strike="noStrike">
                <a:solidFill>
                  <a:srgbClr val="ff0066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115920"/>
            <a:ext cx="5111640" cy="765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B74-2016-4C7B-8A3F-E90A1E93F5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26028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Za numerički niz (distribuciju frekvencija) gdje je obilježje dano u razredima MEDIJAN  treba </a:t>
            </a:r>
            <a:r>
              <a:rPr b="1" i="1" lang="hr-HR" sz="2000" spc="-1" strike="noStrike">
                <a:solidFill>
                  <a:srgbClr val="ff9900"/>
                </a:solidFill>
                <a:latin typeface="Verdana"/>
              </a:rPr>
              <a:t>izračunati.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595520"/>
            <a:ext cx="7705800" cy="47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2D0-CE7E-4DE7-BBC3-775FFF32CD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692280"/>
            <a:ext cx="853272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0000"/>
                </a:solidFill>
                <a:latin typeface="Verdana"/>
              </a:rPr>
              <a:t>Srednje vrijednosti (mjere centralne tenden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konstante kojima se predočuju nizovi varijabilnih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99900"/>
                </a:solidFill>
                <a:latin typeface="Verdana"/>
              </a:rPr>
              <a:t>Potpune srednje vrijednosti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( u njihovom izračunavanju sudjeluju sve vrijednosti varij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Aritmetička sredi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Harmonijska sredi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Geometrijska sred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99900"/>
                </a:solidFill>
                <a:latin typeface="Verdana"/>
              </a:rPr>
              <a:t>Položajne (pozicione) srednje vrijednosti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(određene su položajem podatka u niz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Medi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879-5633-49B5-A466-727D7AD084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705800" cy="3887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98920" y="692280"/>
            <a:ext cx="664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Primj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Distribucija frekvencija, obilježje dano u razred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3480" y="5460840"/>
            <a:ext cx="77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Statistički skup: 225268 </a:t>
            </a:r>
            <a:r>
              <a:rPr b="1" lang="hr-HR" sz="1800" spc="-1" strike="noStrike">
                <a:solidFill>
                  <a:srgbClr val="666600"/>
                </a:solidFill>
                <a:latin typeface="Verdana"/>
              </a:rPr>
              <a:t>korisnika obiteljske mirovine sa zaštitnim dodatkom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ff9900"/>
                </a:solidFill>
                <a:latin typeface="Verdana"/>
              </a:rPr>
              <a:t>u RH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, isplata </a:t>
            </a:r>
            <a:r>
              <a:rPr b="1" lang="hr-HR" sz="1800" spc="-1" strike="noStrike">
                <a:solidFill>
                  <a:srgbClr val="ff0066"/>
                </a:solidFill>
                <a:latin typeface="Verdana"/>
              </a:rPr>
              <a:t>u travnju 2004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. godine, N=22526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516-18F8-434B-BF19-EFAA831C16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8200" y="981000"/>
            <a:ext cx="8497800" cy="441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C3C-280B-44B4-BFAF-BE2BF6B00E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4360" y="469800"/>
            <a:ext cx="8459640" cy="576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2637000"/>
            <a:ext cx="8496360" cy="2736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BC2-E46C-4E67-8AF6-9E7F7BEBB7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524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3573360"/>
            <a:ext cx="8424720" cy="2232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1EB-8238-4AF0-941D-E26B397A4E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235080"/>
            <a:ext cx="7921800" cy="6622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55640" y="3284640"/>
            <a:ext cx="7848720" cy="2305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BD9-7DD7-4EEA-B299-3F0EABFFDF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98160" cy="6381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0960" y="4456080"/>
            <a:ext cx="106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Verdana"/>
              </a:rPr>
              <a:t>N/2=170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4653000"/>
            <a:ext cx="576360" cy="144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5157720"/>
            <a:ext cx="17287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51280" y="5157720"/>
            <a:ext cx="0" cy="1150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09440"/>
            <a:ext cx="18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PRIMJER 3.53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71280"/>
            <a:ext cx="1942920" cy="5493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EE3-751D-4FD2-A7DD-F695B2B8AE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71640" y="816120"/>
            <a:ext cx="7848360" cy="513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C6E-C596-4F4B-A1FD-A332585194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865080" y="1839960"/>
          <a:ext cx="766764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839960"/>
                    <a:ext cx="766764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D3C-F7B6-4337-A6B2-F7BE112FF3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189000"/>
            <a:ext cx="82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Verdana"/>
              </a:rPr>
              <a:t>Položajne srednje vrije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Verdana"/>
              </a:rPr>
              <a:t>Mod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-  vrijednost ili modalitet varijable koji se najčešće pojavljuje u nizu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- modalitet kvalitativne ili numeričke varijable 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s najvećom frekvencij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- Izražen je u mjernim jedinicama varijable. Postoji ako su u nizu barem dva jednaka podat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Za nominalni niz, redosljedni  niz i numerički niz bez razreda se mod </a:t>
            </a:r>
            <a:r>
              <a:rPr b="1" i="1" lang="hr-HR" sz="2400" spc="-1" strike="noStrike">
                <a:solidFill>
                  <a:srgbClr val="ff9900"/>
                </a:solidFill>
                <a:latin typeface="Verdana"/>
              </a:rPr>
              <a:t>odredi.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840-DB1F-4936-ABBD-89BCCE1C4F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44280"/>
            <a:ext cx="7343640" cy="529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3120" y="5589720"/>
            <a:ext cx="851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ff9900"/>
                </a:solidFill>
                <a:uFillTx/>
                <a:latin typeface="Verdana"/>
              </a:rPr>
              <a:t>Mod = društvene zna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9900"/>
                </a:solidFill>
                <a:latin typeface="Verdana"/>
              </a:rPr>
              <a:t>Modalno (najčešće) područje znanosti magistara u RH, 2005. g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B79-17D4-472C-8D0F-4DBFAFC66B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441360"/>
            <a:ext cx="7488000" cy="608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E1A-77E0-4721-9635-C4A86A22E0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748720" cy="5688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26028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ff"/>
                </a:solidFill>
                <a:latin typeface="Verdana"/>
              </a:rPr>
              <a:t>Ukupni troškovi 120 anketiranih tur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ff"/>
                </a:solidFill>
                <a:latin typeface="Verdana"/>
              </a:rPr>
              <a:t>Negrupirani numerički podaci; prikaz S- L dijagra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Mod = 10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4508640"/>
            <a:ext cx="2305080" cy="3603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5A2-1A42-40B7-9BBB-83268BF7F0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560520"/>
            <a:ext cx="8280360" cy="578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B94F-9658-47A0-8818-1327E1E458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28720" y="2602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Za numerički niz (distribuciju frekvencija) gdje je obilježje dano u razredima MOD treba </a:t>
            </a:r>
            <a:r>
              <a:rPr b="1" i="1" lang="hr-HR" sz="2400" spc="-1" strike="noStrike">
                <a:solidFill>
                  <a:srgbClr val="ff9900"/>
                </a:solidFill>
                <a:latin typeface="Verdana"/>
              </a:rPr>
              <a:t>izračunati.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413000"/>
          <a:ext cx="77565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7565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038240" y="6127920"/>
            <a:ext cx="71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99900"/>
                </a:solidFill>
                <a:latin typeface="Verdana"/>
              </a:rPr>
              <a:t>Modalni razred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– sadrži najveću 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korigiranu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frekvenc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74F-26D2-4342-9477-4786D941F3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01:15:29Z</dcterms:created>
  <dc:creator>Mirjana Čižmešija</dc:creator>
  <dc:description/>
  <dc:language>en-US</dc:language>
  <cp:lastModifiedBy>mcizmesija</cp:lastModifiedBy>
  <dcterms:modified xsi:type="dcterms:W3CDTF">2007-03-08T14:47:36Z</dcterms:modified>
  <cp:revision>17</cp:revision>
  <dc:subject/>
  <dc:title>SREDNJE VRIJEDNOSTI STATISTIČKOG NIZA</dc:title>
</cp:coreProperties>
</file>