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3CA-9E00-469B-A289-EA85F70F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BEA-0811-4436-B05F-2F3F3021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D18-0CC1-4BFD-A0C3-8E44BAC4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1810-53D3-49F7-A00E-0BA8D548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DFB4-9036-46D6-92BC-0A2FA905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244B-BDFD-4EFC-B41E-85F6015A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071B-1EFF-4269-B2C7-91FD8062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AB4B-1ADF-4373-9649-B45C8583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7B8E-2677-4A0C-92FD-976DE82C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D75D-D867-481B-A1CF-C4214859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A3F4-A230-40EA-8F19-9BBBDB4B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0F3-2846-4D14-90C9-222167CF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016E-EAB7-41F4-90B7-8114D0C1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1B47-E27F-4427-8CD2-21898F82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92AA-C163-4130-8A45-CF24E98B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B9D1-326A-4C3E-8F58-A9386EBD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822B-ED9C-4E19-A2BC-0F5210DC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595-98B4-4B0A-8AD8-A4688AE4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BAC-2B67-448A-834D-06ED04A2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95C3-59C8-485B-A489-801E773C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2A4-0F5A-400A-A3F7-3C7EB4EF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963-CB4D-408B-A5D0-10A56E85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1BB-38EF-4DB7-9379-092558A0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9AD-6A19-42D5-A8B0-FDA74D77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B88A-6183-42F5-A727-B4DF99E48E9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21EF-CB72-4EF0-9474-39F89F213B8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200" spc="-1" strike="noStrike">
                <a:solidFill>
                  <a:srgbClr val="999900"/>
                </a:solidFill>
                <a:latin typeface="Garamond"/>
              </a:rPr>
              <a:t>SREDNJE VRIJEDNOSTI STATISTIČKOG NIZA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872400" cy="30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edijan. Kvantil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Aritmetička sred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Geometrijska sred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Harmonijska sred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omenti numeričkih nizo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AE77-027A-45B1-86BF-53DE863EAC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765440"/>
            <a:ext cx="8820000" cy="320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70880" y="189000"/>
            <a:ext cx="4996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Primjer 3.4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Živorođena djeca u RH 1999. go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prema </a:t>
            </a:r>
            <a:r>
              <a:rPr b="1" lang="hr-HR" sz="1800" spc="-1" strike="noStrike">
                <a:solidFill>
                  <a:srgbClr val="ff9900"/>
                </a:solidFill>
                <a:latin typeface="Verdana"/>
              </a:rPr>
              <a:t>navršenim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godinama života maj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1360" y="5373720"/>
            <a:ext cx="336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Urediti gran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Veličine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Korigirane frekv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55080" y="486252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Izvor: prema SLJRH-2000, str. 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407-B2EC-4747-A698-8FAB684A3D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77400" y="623088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Izvor: prema SLJRH-2000, str. 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560" y="847800"/>
            <a:ext cx="68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00"/>
                </a:solidFill>
                <a:latin typeface="Verdana"/>
              </a:rPr>
              <a:t>Grafičko određivanje moda – na hist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415880"/>
            <a:ext cx="7991280" cy="467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911480" y="17874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Verdana"/>
              </a:rPr>
              <a:t>Najviši stup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0B37-CAAA-4804-BB50-4A34713436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11280" y="620640"/>
            <a:ext cx="7869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6600"/>
                </a:solidFill>
                <a:latin typeface="Verdana"/>
              </a:rPr>
              <a:t>SVOJSTVA 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a njega ne utječu ekstremno male ni velike vrijednosti obilježja (kao kod aritmetičke sredine) jer je određen položajem podatka u niz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Može se odrediti za kvalitativne i kvantitativne podat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Procjena granica otvorenih razreda ne može utjecati na vrijednost mo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6600"/>
                </a:solidFill>
                <a:latin typeface="Verdana"/>
              </a:rPr>
              <a:t>NEDOSTACI 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pouzdana mjera kod izrazito asimetričnih distribucija, kada je modalni razred otv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Problem višedimenzionalnih distribucija (bimodalna i sl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osjetljiv je na način grupiranja (formiranja razre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0B2-3192-4FAE-8363-82E0B4F23A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765000"/>
            <a:ext cx="81374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0000"/>
                </a:solidFill>
                <a:latin typeface="Verdana"/>
              </a:rPr>
              <a:t>MEDIJAN I KVANT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 u="sng">
                <a:solidFill>
                  <a:srgbClr val="cc0000"/>
                </a:solidFill>
                <a:uFillTx/>
                <a:latin typeface="Verdana"/>
              </a:rPr>
              <a:t>Medijan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položajna srednja vrijednost koja numerički niz </a:t>
            </a:r>
            <a:r>
              <a:rPr b="1" i="1" lang="hr-HR" sz="2000" spc="-1" strike="noStrike">
                <a:solidFill>
                  <a:srgbClr val="ff9900"/>
                </a:solidFill>
                <a:latin typeface="Verdana"/>
              </a:rPr>
              <a:t>uređen po veličini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dijeli na dva </a:t>
            </a:r>
            <a:r>
              <a:rPr b="1" lang="hr-HR" sz="2000" spc="-1" strike="noStrike">
                <a:solidFill>
                  <a:srgbClr val="ff9900"/>
                </a:solidFill>
                <a:latin typeface="Verdana"/>
              </a:rPr>
              <a:t>jednakobrojna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dije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Izražen je u istim mjernim jedinicama kao i obiljež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može se odrediti i za redosljedni n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Ubraja se u kvant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 u="sng">
                <a:solidFill>
                  <a:srgbClr val="cc0000"/>
                </a:solidFill>
                <a:uFillTx/>
                <a:latin typeface="Verdana"/>
              </a:rPr>
              <a:t>Kvantili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dijele niz uređenih podataka na 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dijelo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Kvantili su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kvartili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(na četiri dijela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decili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(na deset dijelova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percentili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(na 100 dijelov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909-F6B2-43D9-9DF9-98010CF650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2700360"/>
            <a:ext cx="6840720" cy="2097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49520" y="907920"/>
            <a:ext cx="78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Medijan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54360" y="142704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Podaci moraju biti poredani po veliči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580536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600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39840" y="6108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70480" y="3333600"/>
                <a:ext cx="20304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95480" y="6251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249800" y="5691240"/>
                <a:ext cx="393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65164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627280" y="5661000"/>
                <a:ext cx="3049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724360" y="5661000"/>
                <a:ext cx="3175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042920" y="5661000"/>
                <a:ext cx="5238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236000" y="5589720"/>
                <a:ext cx="5428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692360" y="6093000"/>
            <a:ext cx="71892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6093000"/>
            <a:ext cx="71928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093000"/>
            <a:ext cx="71928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00720" y="6093000"/>
            <a:ext cx="71928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33400" y="6021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76640" y="6021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03920" y="6021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45360" y="6021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CCF-E39E-4ACD-AD13-3EA4F8D9DF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64200" cy="20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42920" y="4424400"/>
            <a:ext cx="7345440" cy="1812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89400" y="692280"/>
            <a:ext cx="670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Prvi kvar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366408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Treći  kvar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F1AA-C424-4CE8-962B-D3D1AE173C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86040" y="1719360"/>
            <a:ext cx="5854680" cy="1515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908000" y="4351320"/>
            <a:ext cx="5904000" cy="1525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69228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Deci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375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Percenti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DD1-3519-4417-91A3-4EDA4D98B3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404640"/>
            <a:ext cx="8135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Primjer: Negrupirani numerički pod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Mjesečna proizvodnja istovrsnog proizvoda na 10 dislociranih proizvodnih mjesta (u tonam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lain" startAt="7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81  74  85  88  74  86  94  79 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iz uređen po veliči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lain" startAt="7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74  74  79  81  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◊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85  86  88  90  9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 =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00000" y="3594240"/>
            <a:ext cx="7272360" cy="287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17D-74C7-4F19-9AC4-55A321CD26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71640" y="843120"/>
            <a:ext cx="6840360" cy="2730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00000" y="3673440"/>
            <a:ext cx="7272360" cy="2581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135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Niz uređen po veliči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74  74  79  81  85  86  88  90  94</a:t>
            </a:r>
            <a:r>
              <a:rPr b="0" lang="hr-HR" sz="2000" spc="-1" strike="noStrike">
                <a:solidFill>
                  <a:srgbClr val="ff0066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115920"/>
            <a:ext cx="5111640" cy="765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6F1-A49F-499D-98C2-B21C6FBB55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26028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Za numerički niz (distribuciju frekvencija) gdje je obilježje dano u razredima MEDIJAN  treba </a:t>
            </a:r>
            <a:r>
              <a:rPr b="1" i="1" lang="hr-HR" sz="2000" spc="-1" strike="noStrike">
                <a:solidFill>
                  <a:srgbClr val="ff9900"/>
                </a:solidFill>
                <a:latin typeface="Verdana"/>
              </a:rPr>
              <a:t>izračunati.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1595520"/>
            <a:ext cx="7705800" cy="47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F22-97B3-4B88-AF6C-864FCEEA85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692280"/>
            <a:ext cx="853272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0000"/>
                </a:solidFill>
                <a:latin typeface="Verdana"/>
              </a:rPr>
              <a:t>Srednje vrijednosti (mjere centralne tendenc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konstante kojima se predočuju nizovi varijabilnih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99900"/>
                </a:solidFill>
                <a:latin typeface="Verdana"/>
              </a:rPr>
              <a:t>Potpune srednje vrijednosti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( u njihovom izračunavanju sudjeluju sve vrijednosti varij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Aritmetička sredi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Harmonijska sredi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Geometrijska sred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99900"/>
                </a:solidFill>
                <a:latin typeface="Verdana"/>
              </a:rPr>
              <a:t>Položajne (pozicione) srednje vrijednosti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(određene su položajem podatka u niz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Medi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0DC-E45F-47DC-AFDE-BC53AD5CCD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705800" cy="3887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98920" y="692280"/>
            <a:ext cx="664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Primj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Distribucija frekvencija, obilježje dano u razred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3480" y="5460840"/>
            <a:ext cx="77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Statistički skup: 225268 </a:t>
            </a:r>
            <a:r>
              <a:rPr b="1" lang="hr-HR" sz="1800" spc="-1" strike="noStrike">
                <a:solidFill>
                  <a:srgbClr val="666600"/>
                </a:solidFill>
                <a:latin typeface="Verdana"/>
              </a:rPr>
              <a:t>korisnika obiteljske mirovine sa zaštitnim dodatkom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1800" spc="-1" strike="noStrike">
                <a:solidFill>
                  <a:srgbClr val="ff9900"/>
                </a:solidFill>
                <a:latin typeface="Verdana"/>
              </a:rPr>
              <a:t>u RH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, isplata </a:t>
            </a:r>
            <a:r>
              <a:rPr b="1" lang="hr-HR" sz="1800" spc="-1" strike="noStrike">
                <a:solidFill>
                  <a:srgbClr val="ff0066"/>
                </a:solidFill>
                <a:latin typeface="Verdana"/>
              </a:rPr>
              <a:t>u travnju 2004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. godine, N=22526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EAC8-A4E0-4BB8-B3E7-F170D75098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8200" y="981000"/>
            <a:ext cx="8497800" cy="441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848-141E-4D94-AE04-05DFAC01CF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4360" y="469800"/>
            <a:ext cx="8459640" cy="576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2637000"/>
            <a:ext cx="8496360" cy="2736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51E-BA9F-459D-B72F-26A8C903EC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524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3573360"/>
            <a:ext cx="8424720" cy="2232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4D7-2404-4A32-8FDF-5B25E573FB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235080"/>
            <a:ext cx="7921800" cy="6622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55640" y="3284640"/>
            <a:ext cx="7848720" cy="2305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F19-59A6-40B9-A151-71BD03256B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98160" cy="6381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0960" y="4456080"/>
            <a:ext cx="106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Verdana"/>
              </a:rPr>
              <a:t>N/2=170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4653000"/>
            <a:ext cx="576360" cy="144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5157720"/>
            <a:ext cx="172872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51280" y="5157720"/>
            <a:ext cx="0" cy="1150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09440"/>
            <a:ext cx="18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PRIMJER 3.53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71280"/>
            <a:ext cx="1942920" cy="5493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6AF-E5A0-4F0C-B05D-B33145D044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71640" y="816120"/>
            <a:ext cx="7848360" cy="513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0C0-3032-485E-B6E7-B44040D146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865080" y="1839960"/>
          <a:ext cx="766764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839960"/>
                    <a:ext cx="766764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A3C-F737-4740-9A41-B5E5176C1D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189000"/>
            <a:ext cx="820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Verdana"/>
              </a:rPr>
              <a:t>Položajne srednje vrije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Verdana"/>
              </a:rPr>
              <a:t>Mod 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-  vrijednost ili modalitet varijable koji se najčešće pojavljuje u nizu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- modalitet kvalitativne ili numeričke varijable 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s najvećom frekvencij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- Izražen je u mjernim jedinicama varijable. Postoji ako su u nizu barem dva jednaka podat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Za nominalni niz, redosljedni  niz i numerički niz bez razreda se mod </a:t>
            </a:r>
            <a:r>
              <a:rPr b="1" i="1" lang="hr-HR" sz="2400" spc="-1" strike="noStrike">
                <a:solidFill>
                  <a:srgbClr val="ff9900"/>
                </a:solidFill>
                <a:latin typeface="Verdana"/>
              </a:rPr>
              <a:t>odredi.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32A-B8CA-4C77-9D15-C70AE4128E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44280"/>
            <a:ext cx="7343640" cy="529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3120" y="5589720"/>
            <a:ext cx="851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ff9900"/>
                </a:solidFill>
                <a:uFillTx/>
                <a:latin typeface="Verdana"/>
              </a:rPr>
              <a:t>Mod = društvene zna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9900"/>
                </a:solidFill>
                <a:latin typeface="Verdana"/>
              </a:rPr>
              <a:t>Modalno (najčešće) područje znanosti magistara u RH, 2005. g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774-9FB0-4D7D-9A44-A6C601A887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441360"/>
            <a:ext cx="7488000" cy="608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4D30-5632-42CA-A0B2-DE56F617B9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748720" cy="5688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26028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ff"/>
                </a:solidFill>
                <a:latin typeface="Verdana"/>
              </a:rPr>
              <a:t>Ukupni troškovi 120 anketiranih tur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ff"/>
                </a:solidFill>
                <a:latin typeface="Verdana"/>
              </a:rPr>
              <a:t>Negrupirani numerički podaci; prikaz S- L dijagra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Mod = 10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4508640"/>
            <a:ext cx="2305080" cy="3603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DE2-CDCE-45CD-A0E8-ADC4CC5B4B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560520"/>
            <a:ext cx="8280360" cy="578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798-9D68-45BF-9720-13211330E1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28720" y="2602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Za numerički niz (distribuciju frekvencija) gdje je obilježje dano u razredima MOD treba </a:t>
            </a:r>
            <a:r>
              <a:rPr b="1" i="1" lang="hr-HR" sz="2400" spc="-1" strike="noStrike">
                <a:solidFill>
                  <a:srgbClr val="ff9900"/>
                </a:solidFill>
                <a:latin typeface="Verdana"/>
              </a:rPr>
              <a:t>izračunati.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413000"/>
          <a:ext cx="77565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7565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038240" y="6127920"/>
            <a:ext cx="71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99900"/>
                </a:solidFill>
                <a:latin typeface="Verdana"/>
              </a:rPr>
              <a:t>Modalni razred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– sadrži najveću 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korigiranu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frekvenc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FAE-7C5D-4ADD-B7D3-CB4B948AD2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01:15:29Z</dcterms:created>
  <dc:creator>Mirjana Čižmešija</dc:creator>
  <dc:description/>
  <dc:language>en-US</dc:language>
  <cp:lastModifiedBy>mcizmesija</cp:lastModifiedBy>
  <dcterms:modified xsi:type="dcterms:W3CDTF">2007-03-08T14:47:36Z</dcterms:modified>
  <cp:revision>17</cp:revision>
  <dc:subject/>
  <dc:title>SREDNJE VRIJEDNOSTI STATISTIČKOG NIZA</dc:title>
</cp:coreProperties>
</file>