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C7E-8247-4F45-8635-19198778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564-6AFF-455F-8F34-CCC9330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ABF-991A-4FFE-B0B5-30AAA29D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F12-4488-4A5A-86C7-FF4C784E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8FA9-BA4A-4959-B9F4-6095DC0C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A1DC-D507-4092-BD2F-E5E17C96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E633-20EA-49B3-9B4B-D43F10EA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E774-169E-461D-826B-A87AD5D7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AC7-0B5E-48B2-89EB-D0E1C318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E7DD-3982-4B64-BC1F-3EDC13B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1F7-FAA6-4F32-903E-569C1C2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9A4-99AD-4163-BE71-C14A47D8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B60-280C-4553-B0B2-06CD3B51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2CC2-C6E1-4086-8BA3-45193BDE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7B46-140A-46DC-BA70-F43C7EA6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1F33-5B20-466C-9D7B-7AF7D0C1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2D08-D6C1-408D-88EA-951A097A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4E6-B330-479E-AF9C-0F1672EE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AF7-4439-41BC-8E82-4DEE3CC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C4B-59E9-4C71-8774-25F6F7A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1B5-B92A-4584-B883-D1CBCD0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338-D97A-4ACE-9503-EB51EF0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238-1EEC-4848-89FE-94E6F8A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688-705C-44B5-8DAE-818109CC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C377-CCB2-4833-81F5-E8D86DE827E3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DBE-FE01-4CD3-9693-F9BC76D1FCA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ARMAKOLOGIJA BUBREG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.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r. sc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ip Čulig, dr. m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OSMOTSKI DIURETIC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4332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T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tubulima se slabo reapsorbira &gt; povećani osmotski tlak primarnog urina &gt; inhibirana reapsorpcija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.V. primjena:- forsirana diureza razrjeđenog u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zo sniženje intrakranijalnog te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intraokularnog tl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NHIBITORI BUBREŽNOG TUBULARNOG TRANSPORTA ORGANSKIH TVAR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ENE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transport drugih organskih kisel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kira bubrežni tubularni ekskrecijski prijenos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enicilina,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efalospo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LFINPIRAZ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ibira ponovnu reapsorpciju mokraćne kise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dbbd71"/>
                </a:solidFill>
                <a:latin typeface="Arial"/>
              </a:rPr>
              <a:t>Sretno na ispitu!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384640" cy="25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FUNKCIJA BUBREG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19280" y="1412640"/>
            <a:ext cx="55450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filtrira plazmu, odvaja i eliminira suvišne tv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gulira volumen i tlak krvi eliminacijom/zadržavanjem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gulira osmolarnost tjelesnih tekuć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uči enzim renin koji sudjeluje u kontroli krvnog tlaka i elektrolitne ravnote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uči hormon eritropoe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udjeluje u kontroli homeostaze 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16072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NEFR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vaki bubreg sadrži oko 1.2 miliona funkcionalnih jedinica:nefro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astoji se od: krvnih žila, renalnog tjelešca i renalnog tubu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nalni tubul se dijeli u 4 dijela:proksimalni tubul, nefronsku petlju, distalni tubul i sabirni kanal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846440"/>
            <a:ext cx="2921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Nefron - nastavak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IURETIC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98100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upina lijekova koja se primjenjuje kako bi se promijenio volumen ili sastav tjelesnih tekuć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jelovanje: uglavnom smanjuju tubularnu reapsorpciju natrijevih iona, a gubitak vode i tvari otopljenih u njoj je onda pasivan pro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jela: prema mjestu njihova djelovanja duž nefrona ili prema načinu djelo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činak ostvaruju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a spec. membranskim transportnim protein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motskim učinkom - smanjuje se reapsorpcija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 enzim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 hormonskim receptor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INHIBITORI KARBOANHIDRAZ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91120" y="28191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ksimalni tub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zivno izlučivanj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atrija, kalija, smanjeno izlučivanje klorida &gt; povećanje volumena u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ETAZOL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5200" y="2238480"/>
            <a:ext cx="282384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TIAZIDSKI DIURETIC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81280" y="1483920"/>
            <a:ext cx="55627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jelaz završnog dijela uzlaznog kraka Henleove petlje u distalni tub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ibiraju aktivnu reapsorpciju Na &gt; natriureza, izlučivanje klorida te ka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DROKLOROTIAZID, CIKLOPENTAZ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 farmakološkom djelovanju slični nizu diuretika koji nisu tiazidi: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LORTALIDON, MEFRUZID, INDAP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0320" y="2238480"/>
            <a:ext cx="25164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DIURETICI HENLEOVE PETLJ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6200" y="1844280"/>
            <a:ext cx="50292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UROSEM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BUMETAN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mpetira kao anion za vezna mjesta klorida iz lumena tubula (blokator kloridnih io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ičina urina raste i do 30-40 ml/m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go vazodilatatorno djelovanje u bubrezima (povećana sinteza P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earan odnos doze i uči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0320" y="2238480"/>
            <a:ext cx="255744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DIURETICI KOJI ČUVAJU KALIJ</a:t>
            </a:r>
            <a:br>
              <a:rPr sz="36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- čuvaju kalij u organizmu, obično u kombinaciji s tiazidima ili diureticima Henleove petlje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2205000"/>
            <a:ext cx="4114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RIAMTEREN, AMILOR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okatori Na kanala s luminalne strane distalnog tubula i sabirnih kanalića (inhibicija reapsorpcije Na u zamjenu za K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 kombinaciji s hidroklorotiazid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ugodjelujuć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2060640"/>
            <a:ext cx="43434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PIRONOLAKTON, KANRENO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eroidna jezgr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ompetitivni inhibitor aldosterona čime sprečava njegove učinke na sintezu proteina ionskih kanala te nekih enzi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lab diuretički učina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stup učinka je spor (do 72 h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16:20:38Z</dcterms:created>
  <dc:creator>KERAMEIKOS d.o.o.</dc:creator>
  <dc:description/>
  <dc:language>en-US</dc:language>
  <cp:lastModifiedBy>Zlatokosa</cp:lastModifiedBy>
  <dcterms:modified xsi:type="dcterms:W3CDTF">2003-04-25T19:15:39Z</dcterms:modified>
  <cp:revision>7</cp:revision>
  <dc:subject/>
  <dc:title>FARMAKOLOGIJA BUBREGA</dc:title>
</cp:coreProperties>
</file>