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88A-DFD1-4021-AB60-4D71CBCE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818-86F0-424B-9177-D45DDCEC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8ADA-0B89-4E44-B58F-10A9B69C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F54-8885-42E2-8DF1-C749F8D7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837-35B5-4B8F-BF0A-6ED106AB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0A5-AE9D-426B-BE10-1F7BA272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17D-E331-4DBE-A75F-A2AF464B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8FFF-A5C2-4D30-B603-6B663F67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D15-71D2-4192-BC64-05CB0D90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4823-43EE-47AC-84AF-D093579B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834-F510-42DA-A20A-BF2BC3F7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9044-26BE-446C-9A69-B20E903F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5C3B-9596-4C77-A79E-5EAC9B08382A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IKECI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JEGAVAC (typhus exanthematicu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Brill-Zinsserova bol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sni recidiv pjegav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laža klinička sl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sta terap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ŠTAKORSKI PJEGAV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Rickettsia typ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laga akutna bol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lm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Štakori, miševi –štakorska bu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ŠTAKORSKI PJEGAV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kubacija 6-14 d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lavobolja i febrilitet (10-14 da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rvenilo lica, konjuktiv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ip 6. dan (makulozni, trup, unutarnje strane ru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laže zahvaćanje mozga i sr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ŠTAKORSKI PJEGAV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g –serologija (IF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h –tetraciklini, kloramfenik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DITERANSKA PJEGAVA GROZ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Rickettsia con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diteranske, suptropske zem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lm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as, pseći krpel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DITERANSKA PJEGAVA GROZ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kubacija 5-7 d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gli početak, izraženi opći simpto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ip 3.-5. dan, makulozni po cijelom tij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marna lezija –mali ulkus sa crnim nekrotičnim središtem na mjestu ub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gionalni limfaden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ajanje 7-14 d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DITERANSKA PJEGAVA GROZ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g –serologija (Weil-Feli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h: tetracikl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OSTALE RIKECI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Šikarski tifus –JI Az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jevernoazijska krpeljnja rikeci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islandski krpeljni tifus –Austra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ovovska groz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kecijske bogi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jegava groznica Stjenovitog gor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Q groznica (bez osi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IKECI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utne zarazne bole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oonoze (osim pjegavca i rovovske grozn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j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s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Q-groznica –direktno sa životinja, aero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IKECI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. bolesti uzrokovane bakterijama roda rike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. šikarski tifus (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Orientia tsutsugamush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3. erlihioze (HME, H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4. Q-groz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IKECI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erobni pleomorfni bacili ili kokobac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nutarstanični paraz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Hranilišta sa živim stanicama (pileći emb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množavanje u endotelu kapilara i manjih krvnih žila (koža, srce, mozak, bubrez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JEGAVAC (typhus exanthematicu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ckettsia prowaze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terhumani prijenos –prtena uš (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Pediculus humanis corporis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 –unos češanjem, rjeđe inhalacija, konjuk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pidemije za II svjetskog r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ndemično –I Europa, Indija, J Amer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JEGAVAC (typhus exanthematicu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kubacija 11-14 d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I faza (gripoz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gli početak, izraženi opći algički sindrom, bolovi u leđima i udovima, febrilitet do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ujanje u ušima, klonu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tar  GRT, konjuk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JEGAVAC (typhus exanthematicu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II faza (osip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5. do 7. 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jed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akule na postraničnim djelovima trupa, šire se na cijelo tijelo (osim lica, dlanova, taba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užičast pa livi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JEGAVAC (typhus exanthematicu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III faza (cerebral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raj 2. tje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omnolencija, slab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elirij, rijetko coma vig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erozni mening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puštanje sr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JEGAVAC (typhus exanthematicu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plikacije –gangre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rtnost 40-60% (neliječe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g –serologija (Weil-Felix, IHA, ELI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h: tetraciklini, kloramfenik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2:14:10Z</dcterms:created>
  <dc:creator>korisnik</dc:creator>
  <dc:description/>
  <dc:language>en-US</dc:language>
  <cp:lastModifiedBy>korisnik</cp:lastModifiedBy>
  <dcterms:modified xsi:type="dcterms:W3CDTF">2009-04-07T11:24:59Z</dcterms:modified>
  <cp:revision>16</cp:revision>
  <dc:subject/>
  <dc:title>RIKECIOZE</dc:title>
</cp:coreProperties>
</file>