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3EA-B1AF-4B94-8437-77F3F929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EA4-5487-449F-AD22-5DE3152B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E92B-B801-48C6-A9BE-DC73E7E0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0799-11AA-4AB5-87AC-5B9F3C6D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42A9-EAC2-424C-B8E3-80027495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F1B-02F6-427D-BBD5-A26CC9EC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CBB4-66AA-48DF-B211-215D0CD8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878B-274A-4D57-ACCC-779D38AA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7CB9-7B82-41F7-BE57-540F5D5A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467A-5E95-42A3-BF97-3C601B4B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BFC-B265-4EF7-9703-25CED17F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C1A-8055-4308-B89E-7939E689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1173-8D37-427A-B54A-CE22340A8107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IKECI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JEGAVAC (typhus exanthematic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Brill-Zinsserova bol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sni recidiv pjegav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laža klinička sl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sta terap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ŠTAKORSKI PJEGAV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Rickettsia typ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laga akutna bol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lm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takori, miševi –štakorska bu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ŠTAKORSKI PJEGAV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kubacija 6-14 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avobolja i febrilitet (10-14 d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rvenilo lica, konjuktiv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ip 6. dan (makulozni, trup, unutarnje strane ru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Blaže zahvaćanje mozga i sr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ŠTAKORSKI PJEGAV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g –serologija (IF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h –tetraciklini, kloramfenik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DITERANSKA PJEGAVA GROZ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Rickettsia con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diteranske, suptropske zeml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lm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as, pseći krpel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DITERANSKA PJEGAVA GROZ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kubacija 5-7 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gli početak, izraženi opći simpto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ip 3.-5. dan, makulozni po cijelom tije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arna lezija –mali ulkus sa crnim nekrotičnim središtem na mjestu ub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egionalni limfaden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rajanje 7-14 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MEDITERANSKA PJEGAVA GROZ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g –serologija (Weil-Feli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h: tetracikl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OSTALE RIKECI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Šikarski tifus –JI Az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jevernoazijska krpeljnja rikeci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vislandski krpeljni tifus –Austral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ovovska groz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kecijske bogi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jegava groznica Stjenovitog gor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Q groznica (bez osi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IKECI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kutne zarazne bole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oonoze (osim pjegavca i rovovske grozn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j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s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Q-groznica –direktno sa životinja, aeros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IKECI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. bolesti uzrokovane bakterijama roda rike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2. šikarski tifus (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Orientia tsutsugamush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3. erlihioze (HME, H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4. Q-groz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IKECI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erobni pleomorfni bacili ili kokobac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nutarstanični paraz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Hranilišta sa živim stanicama (pileći emb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množavanje u endotelu kapilara i manjih krvnih žila (koža, srce, mozak, bubre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JEGAVAC (typhus exanthematic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ickettsia prowaze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terhumani prijenos –prtena uš (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Pediculus humanis corporis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) –unos češanjem, rjeđe inhalacija, konjuk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pidemije za II svjetskog r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ndemično –I Europa, Indija, J Amer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JEGAVAC (typhus exanthematic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kubacija 11-14 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 faza (gripoz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gli početak, izraženi opći algički sindrom, bolovi u leđima i udovima, febrilitet do 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ujanje u ušima, klonu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atar  GRT, konjuk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JEGAVAC (typhus exanthematic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I faza (osip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5. do 7. 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jedn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kule na postraničnim djelovima trupa, šire se na cijelo tijelo (osim lica, dlanova, tab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užičast pa livi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JEGAVAC (typhus exanthematic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II faza (cerebral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raj 2. tje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omnolencija, slab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elirij, rijetko coma vig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erozni mening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puštanje sr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PJEGAVAC (typhus exanthematic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plikacije –gangre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rtnost 40-60% (neliječ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g –serologija (Weil-Felix, IHA, ELI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h: tetraciklini, kloramfenik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2:14:10Z</dcterms:created>
  <dc:creator>korisnik</dc:creator>
  <dc:description/>
  <dc:language>en-US</dc:language>
  <cp:lastModifiedBy>korisnik</cp:lastModifiedBy>
  <dcterms:modified xsi:type="dcterms:W3CDTF">2009-04-07T11:24:59Z</dcterms:modified>
  <cp:revision>16</cp:revision>
  <dc:subject/>
  <dc:title>RIKECIOZE</dc:title>
</cp:coreProperties>
</file>