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D0162-02AF-4A2F-B493-DA99DFC71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3FC84-270F-49F4-8D30-06313CC9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C0880-45D1-4E89-806D-D394B69BD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0771F-7DE3-4DD1-870B-E429A2FE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980FA-DD70-4DF7-A2ED-CD956AA37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9E88-EF9D-4C04-A572-4BA1E86C1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F06E-8FB1-434D-8F26-5F4105F33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6B3F-32E2-4628-9ECF-639D5C90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CFCB6-E0B6-4878-8C1E-9FDD494C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D1F40-2721-4BE3-8EC5-A57FDAFFB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226CC-D5BB-4311-9C7C-40DAB2CE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BAA4E-CD75-4F8B-80A5-683BEC5B2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D1B9-010C-4E6E-A227-FFA62629C1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476280"/>
            <a:ext cx="7993080" cy="3713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RAZVOJ MODELIRANJA U POVIJESNOM KONTEKST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tj. “strateško razmišljanje za akciju” ima ponositu tradiciju u misli Zap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lijedeća tablica pokazuje nekoliko velikih graditelja modela, od antičkih vremena, počevši s Aristotelovim kvalitativnim pogledom na svijet koji je dominirao zapadnom mišlju više od dvadeset stoljeća do kvantitativnog pogleda na svijet danas.</a:t>
            </a:r>
            <a:endParaRPr b="0" lang="en-US" sz="2000" spc="-1" strike="noStrike">
              <a:solidFill>
                <a:srgbClr val="000000"/>
              </a:solidFill>
              <a:latin typeface="Arial"/>
            </a:endParaRPr>
          </a:p>
        </p:txBody>
      </p:sp>
      <p:sp>
        <p:nvSpPr>
          <p:cNvPr id="42" name=""/>
          <p:cNvSpPr/>
          <p:nvPr/>
        </p:nvSpPr>
        <p:spPr>
          <a:xfrm>
            <a:off x="1258920" y="26028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modeliranja</a:t>
            </a:r>
            <a:endParaRPr b="0" lang="en-US" sz="2000" spc="-1" strike="noStrike">
              <a:solidFill>
                <a:srgbClr val="000000"/>
              </a:solidFill>
              <a:latin typeface="Arial"/>
            </a:endParaRPr>
          </a:p>
        </p:txBody>
      </p:sp>
      <p:graphicFrame>
        <p:nvGraphicFramePr>
          <p:cNvPr id="43" name=""/>
          <p:cNvGraphicFramePr/>
          <p:nvPr/>
        </p:nvGraphicFramePr>
        <p:xfrm>
          <a:off x="395280" y="4653000"/>
          <a:ext cx="8075520" cy="1460520"/>
        </p:xfrm>
        <a:graphic>
          <a:graphicData uri="http://schemas.openxmlformats.org/drawingml/2006/table">
            <a:tbl>
              <a:tblPr/>
              <a:tblGrid>
                <a:gridCol w="2692440"/>
                <a:gridCol w="2690640"/>
                <a:gridCol w="2692440"/>
              </a:tblGrid>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ristot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alile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Descar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K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ewt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inoz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m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Einste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rw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Nietzsch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836640"/>
            <a:ext cx="8642160" cy="5616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Ikonski modeli</a:t>
            </a:r>
            <a:r>
              <a:rPr b="0" lang="hr-HR" sz="2000" spc="-1" strike="noStrike">
                <a:solidFill>
                  <a:srgbClr val="000000"/>
                </a:solidFill>
                <a:latin typeface="Arial"/>
              </a:rPr>
              <a:t> su obično statični u prirodi, poput dolarske novčan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Analogni modeli</a:t>
            </a:r>
            <a:r>
              <a:rPr b="0" lang="hr-HR" sz="2000" spc="-1" strike="noStrike">
                <a:solidFill>
                  <a:srgbClr val="000000"/>
                </a:solidFill>
                <a:latin typeface="Arial"/>
              </a:rPr>
              <a:t> su fizički, međutim oni su napravljeni tako da djeluju kao stvarnost, ali obično ne izgledaju kao stvarno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ni su uglavnom </a:t>
            </a:r>
            <a:r>
              <a:rPr b="1" lang="hr-HR" sz="2000" spc="-1" strike="noStrike">
                <a:solidFill>
                  <a:srgbClr val="000000"/>
                </a:solidFill>
                <a:latin typeface="Arial"/>
              </a:rPr>
              <a:t>mehanički modeli</a:t>
            </a:r>
            <a:r>
              <a:rPr b="0" lang="hr-HR" sz="2000" spc="-1" strike="noStrike">
                <a:solidFill>
                  <a:srgbClr val="000000"/>
                </a:solidFill>
                <a:latin typeface="Arial"/>
              </a:rPr>
              <a:t>. Međutim, poslovne aktivnosti su dinamični procesi. Poslovanje je proces koji slijedi matematičke uzorke. Prema tome, on može biti predstavljen simboličkim (algebarskim, numeričkim, logičkim) modeli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Simbolički modeli </a:t>
            </a:r>
            <a:r>
              <a:rPr b="0" lang="hr-HR" sz="2000" spc="-1" strike="noStrike">
                <a:solidFill>
                  <a:srgbClr val="000000"/>
                </a:solidFill>
                <a:latin typeface="Arial"/>
              </a:rPr>
              <a:t>uključuju veliku skupinu modela poznatih kao matematički i računalno - simulacijski model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Mehanički modeli</a:t>
            </a:r>
            <a:r>
              <a:rPr b="0" lang="hr-HR" sz="2000" spc="-1" strike="noStrike">
                <a:solidFill>
                  <a:srgbClr val="000000"/>
                </a:solidFill>
                <a:latin typeface="Arial"/>
              </a:rPr>
              <a:t>: model koji uzima fizičku pojavnost objekta zove se fizički mode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Ovaj tip modela se koristi za prikaz ili testiranje dizajna pojedinih predmeta, u rasponu od novih zgrada do novih proizvod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 zrakoplovnoj industriji, razmjerni modeli novih zrakoplova se grade i testiraju  u  tunelima  vjetra,  da  se  zabilježi  aerodinamika  dizaj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50920" y="475920"/>
            <a:ext cx="8642160" cy="6048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verbaln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balni model je prijevod mentalnog mod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ma tome mentalni/verbalni model izražava sve funkcionalne odnose između varijabli u prolazu riječ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itički model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itički modeli su matematički modeli koji teže pojednostavljenju, apstrakciji realnih sustava da pruže uvid i razumijevanje nekih zanimljivih aspekata stvar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đutim, modeliranje stvarnosti apstrakcijom trebalo bi biti povezano sa stvarnim problemima, domenama i praksom, sredstvima verifikacije i/ili valjanost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strakcija se s jedne strane može gledati kao sažimanje mnogih slučajeva u jednu općenitost, ili sa druge strane kao moćan alat posebne svrhe koji daje rješenje za mnoge problem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i tipovi modela se većinom primjenjuju na statične i/ili determinističke sust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333360"/>
            <a:ext cx="8207280" cy="61200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 rješavanja</a:t>
            </a:r>
            <a:r>
              <a:rPr b="0" lang="en-US" sz="2000" spc="-1" strike="noStrike">
                <a:solidFill>
                  <a:srgbClr val="000000"/>
                </a:solidFill>
                <a:latin typeface="Arial"/>
              </a:rPr>
              <a:t> mogu biti jednosmjerne ili iterativn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ednosmjerna procedura rješavanja je ona u kojoj se konačne vrijednosti svih varijabli odlučivanja utvrđuju simultano prema dobro utvrđenoj proceduri.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ivna tehnika rješavanja, sa druge strane, je ona u kojoj je potreban određeni broj koraka da se dođe do konačnog rješenja i gdje se djelomična ili kompletna rješenja razmatraju na svakom koraku. Diskretne ili kontinuirane varijable su često neophodne za određeni problem. Konačno, optimalno rješenje je ono za koje se može utvrditi da je najmanje jednako dobro kao bilo koje drugo, uz dane pretpostavke modela, dok je zadovoljavajuće rješenje ono koje smatra "dobrim" uz uvažavanje ciljeva i ograničenja, ali se ipak ne može pokazati kao najbolje.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cijski modeli:</a:t>
            </a:r>
            <a:r>
              <a:rPr b="0" lang="en-US" sz="2000" spc="-1" strike="noStrike">
                <a:solidFill>
                  <a:srgbClr val="000000"/>
                </a:solidFill>
                <a:latin typeface="Arial"/>
              </a:rPr>
              <a:t>. Simulacijski modeli su kompjutorizirane duplikacije stvarnih sustava i daleko su realističnije, posebno za modeliranje dinamičnih i/ili probabilističkih sustava kao što je međunarodna zračna luka. </a:t>
            </a:r>
            <a:r>
              <a:rPr b="1" lang="en-US" sz="2000" spc="-1" strike="noStrike">
                <a:solidFill>
                  <a:srgbClr val="000000"/>
                </a:solidFill>
                <a:latin typeface="Arial"/>
              </a:rPr>
              <a:t>Dinamično modeliranje</a:t>
            </a:r>
            <a:r>
              <a:rPr b="0" lang="en-US" sz="2000" spc="-1" strike="noStrike">
                <a:solidFill>
                  <a:srgbClr val="000000"/>
                </a:solidFill>
                <a:latin typeface="Arial"/>
              </a:rPr>
              <a:t> u organizacijama je kolektivna sposobnost razumijevanja utjecaja promjena kroz vrijeme. Ova vještina leži u srži uspješnog procesa strateškog odlučivanj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vi modeli za odlučivanje mogu se klasificirati ili kao </a:t>
            </a:r>
            <a:r>
              <a:rPr b="1" lang="en-US" sz="2000" spc="-1" strike="noStrike">
                <a:solidFill>
                  <a:srgbClr val="000000"/>
                </a:solidFill>
                <a:latin typeface="Arial"/>
              </a:rPr>
              <a:t>deterministički modeli</a:t>
            </a:r>
            <a:r>
              <a:rPr b="0" lang="en-US" sz="2000" spc="-1" strike="noStrike">
                <a:solidFill>
                  <a:srgbClr val="000000"/>
                </a:solidFill>
                <a:latin typeface="Arial"/>
              </a:rPr>
              <a:t> ili kao </a:t>
            </a:r>
            <a:r>
              <a:rPr b="1" lang="en-US" sz="2000" spc="-1" strike="noStrike">
                <a:solidFill>
                  <a:srgbClr val="000000"/>
                </a:solidFill>
                <a:latin typeface="Arial"/>
              </a:rPr>
              <a:t>probabilistički model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KOLINA DONOSITELJA ODLUKE</a:t>
            </a:r>
            <a:endParaRPr b="0" lang="en-US" sz="3200" spc="-1" strike="noStrike">
              <a:solidFill>
                <a:srgbClr val="000000"/>
              </a:solidFill>
              <a:latin typeface="Arial"/>
            </a:endParaRPr>
          </a:p>
        </p:txBody>
      </p:sp>
      <p:pic>
        <p:nvPicPr>
          <p:cNvPr id="72" name="" descr=""/>
          <p:cNvPicPr/>
          <p:nvPr/>
        </p:nvPicPr>
        <p:blipFill>
          <a:blip r:embed="rId1"/>
          <a:stretch/>
        </p:blipFill>
        <p:spPr>
          <a:xfrm>
            <a:off x="1042920" y="2133720"/>
            <a:ext cx="7058160" cy="4413240"/>
          </a:xfrm>
          <a:prstGeom prst="rect">
            <a:avLst/>
          </a:prstGeom>
          <a:ln w="0">
            <a:noFill/>
          </a:ln>
        </p:spPr>
      </p:pic>
      <p:sp>
        <p:nvSpPr>
          <p:cNvPr id="73" name=""/>
          <p:cNvSpPr/>
          <p:nvPr/>
        </p:nvSpPr>
        <p:spPr>
          <a:xfrm>
            <a:off x="468360" y="981000"/>
            <a:ext cx="8351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ijedeća slika pokazuje OR/MS/DS strukturirani pristup procesu odlučivanj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jetimo se, kada su strukture i sustavi poravnati, oni omogućuju poboljšanje. Kada nisu oni rade protiv tog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836640"/>
            <a:ext cx="82296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R/MS/DS modeli imaju cilj pomoći donositelju odluke u njegovu procesu odlučivanj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 procesu modeliranja odlučivanja mi istražujemo efekt predstavljanja različitih odluka retrospektivno, to znači, kao da je odluka već donesena za drugačiji smjer akcij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to se slijed koraka u procesu modeliranja mora razmatrati u obrnutom redoslijed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output (koji je rezultat naše akcije) mora se prvi razmotrit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Razumijevanju prirode problema pomaže postavljanje pitanja "tko?", "što?", "zašto?", "gdje?", "kad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o razbijte ih u tri grupe: nekontrolabilni, kontrolabilni (skup svih naših mogućih izbora) i parametri (to definira probl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PROCES ANALITIČKOG MODELIRANJA ZA ODLUČIVANJ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odlučivanja ima sljedeće elemente (faze i podfaz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1. Formulacija,  odnosno  definir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očavanje problema-simpto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Utvrđivanje uzroka problemu (dijagnoz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ačna formulacija proble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2. Prikupljanje podataka i informac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lang="hr-HR" sz="2000" spc="-1" strike="noStrike">
                <a:solidFill>
                  <a:srgbClr val="000000"/>
                </a:solidFill>
                <a:latin typeface="Arial"/>
              </a:rPr>
              <a:t>3. Rješavanje problema sa sljedećim podfazam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raženje alternativnih rješenja koje se može razdvojiti n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Generiranje alternativa,</a:t>
            </a:r>
            <a:endParaRPr b="0" lang="en-US" sz="2000" spc="-1" strike="noStrike">
              <a:solidFill>
                <a:srgbClr val="000000"/>
              </a:solidFill>
              <a:latin typeface="Arial"/>
            </a:endParaRPr>
          </a:p>
          <a:p>
            <a:pPr lvl="3" marL="16002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cjenjivanje (evaluacija) alternativa;</a:t>
            </a:r>
            <a:endParaRPr b="0" lang="en-US" sz="2000" spc="-1" strike="noStrike">
              <a:solidFill>
                <a:srgbClr val="000000"/>
              </a:solidFill>
              <a:latin typeface="Arial"/>
            </a:endParaRPr>
          </a:p>
          <a:p>
            <a:pPr lvl="1" marL="762120" indent="-30492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bor alternative (donošenje odlu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služi stvarnosti, a ne obratno. George Bernard Shaw je rekao: "Jedini koji se razumno ponašao bio je moj krojač; on je nanovo uzimao moje mjere svaki put kad me vidio, dok su mi svi ostali dolazili sa starim mjerilima i očekivali da mi budu prikla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74320"/>
            <a:ext cx="8496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 UTVRĐIVANJA VALJANOSTI MODELA </a:t>
            </a:r>
            <a:endParaRPr b="0" lang="en-US" sz="2800" spc="-1" strike="noStrike">
              <a:solidFill>
                <a:srgbClr val="000000"/>
              </a:solidFill>
              <a:latin typeface="Arial"/>
            </a:endParaRPr>
          </a:p>
        </p:txBody>
      </p:sp>
      <p:sp>
        <p:nvSpPr>
          <p:cNvPr id="78"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raku utvrđivanja valjanosti modela najmanje pozornosti pridaj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četnici u građenju modela. U ovom koraku testiraju se pretpostavke i</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logika u odnosima da se vidi odgovaraju li stvarnosti. Validacija model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 proces sa dva koraka. Prvi korak je utvrđivanje da li je model intern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spravan u logičkom smislu. Iako testovi za ovo ovise o tipu modela z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ji se utvrđuje valjanost, može se dati nekoliko sugestij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računajte neke ishode za model koji mogu biti verificirani ručnim kalkulacijama, kada moraju biti upotrijebljena računala za rješavanje problema.</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ojedine segmente modela koji je složen radite odvojeno, tako da rezultati mogu biti verificiran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Eliminirajte nasumične elemente iz stohastičnih modela radi olakšavanja verifikacije esencijalne logik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Zamijenite složene probabilističke funkcije sa elementarnima, tako da se rezultati mogu lakše verificirati.</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onstruirajte jednostavne test situacije koje testiraju što više kombinacija okolnosti u model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9280" y="1197000"/>
            <a:ext cx="3816360" cy="46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84720" y="5589720"/>
            <a:ext cx="39592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2484360" y="0"/>
            <a:ext cx="8713800" cy="5808600"/>
          </a:xfrm>
          <a:prstGeom prst="rect">
            <a:avLst/>
          </a:prstGeom>
          <a:ln w="0">
            <a:noFill/>
          </a:ln>
        </p:spPr>
      </p:pic>
      <p:sp>
        <p:nvSpPr>
          <p:cNvPr id="47" name=""/>
          <p:cNvSpPr/>
          <p:nvPr/>
        </p:nvSpPr>
        <p:spPr>
          <a:xfrm>
            <a:off x="179280" y="1197000"/>
            <a:ext cx="3745080" cy="4880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Ljudska figura</a:t>
            </a:r>
            <a:r>
              <a:rPr b="0" lang="hr-HR" sz="1200" spc="-1" strike="noStrike">
                <a:solidFill>
                  <a:srgbClr val="000000"/>
                </a:solidFill>
                <a:latin typeface="Arial"/>
              </a:rPr>
              <a:t> prikazuje povijesni razvoj znanja počevši od kvalitativnih pa sve do kvantitativnih pogleda na svij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RUK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Renesansa – umjetnost i književnost cvatu, ljudi vjeruju što im vlast govor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Prosvjetiteljstvo – sloboda mišlje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VRAT</a:t>
            </a:r>
            <a:r>
              <a:rPr b="0" lang="hr-HR" sz="1200" spc="-1" strike="noStrike">
                <a:solidFill>
                  <a:srgbClr val="000000"/>
                </a:solidFill>
                <a:latin typeface="Arial"/>
              </a:rPr>
              <a:t> predstavlja logiku koja je potrebna da podrži mišljenj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GLAVA</a:t>
            </a:r>
            <a:r>
              <a:rPr b="0" lang="hr-HR" sz="1200" spc="-1" strike="noStrike">
                <a:solidFill>
                  <a:srgbClr val="000000"/>
                </a:solidFill>
                <a:latin typeface="Arial"/>
              </a:rPr>
              <a:t> predstavlja kvantitativnu eru koju je započeo </a:t>
            </a:r>
            <a:r>
              <a:rPr b="1" lang="hr-HR" sz="1200" spc="-1" strike="noStrike">
                <a:solidFill>
                  <a:srgbClr val="000000"/>
                </a:solidFill>
                <a:latin typeface="Arial"/>
              </a:rPr>
              <a:t>NEWT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wton je upotrijebio kvantitativne metode da dokaže da se sve želi kretat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a Newtonom, Aristotelovski pogled je nesta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a:t>
            </a:r>
            <a:r>
              <a:rPr b="1" lang="hr-HR" sz="1200" spc="-1" strike="noStrike">
                <a:solidFill>
                  <a:srgbClr val="000000"/>
                </a:solidFill>
                <a:latin typeface="Arial"/>
              </a:rPr>
              <a:t>Newtonovog doba</a:t>
            </a:r>
            <a:r>
              <a:rPr b="0" lang="hr-HR" sz="1200" spc="-1" strike="noStrike">
                <a:solidFill>
                  <a:srgbClr val="000000"/>
                </a:solidFill>
                <a:latin typeface="Arial"/>
              </a:rPr>
              <a:t>, ne samo sve stvari fizičke naravi, već i najsuptilnije tajne života i organizacije, pa čak i intelekta i moralnog bića bile su predočene matematičkim jezikom i alatima procesa matematičkog modeliranj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
          <p:cNvSpPr/>
          <p:nvPr/>
        </p:nvSpPr>
        <p:spPr>
          <a:xfrm>
            <a:off x="4356000" y="5661000"/>
            <a:ext cx="388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padno znanje je počelo s Aristotelom. Srednjovjekovno doba oslanjalo se na ove dvije noge – Aristotelovoj metafizici i kršćanskoj teologiji.</a:t>
            </a:r>
            <a:endParaRPr b="0" lang="en-US" sz="1200" spc="-1" strike="noStrike">
              <a:solidFill>
                <a:srgbClr val="000000"/>
              </a:solidFill>
              <a:latin typeface="Arial"/>
            </a:endParaRPr>
          </a:p>
        </p:txBody>
      </p:sp>
      <p:sp>
        <p:nvSpPr>
          <p:cNvPr id="49" name=""/>
          <p:cNvSpPr/>
          <p:nvPr/>
        </p:nvSpPr>
        <p:spPr>
          <a:xfrm>
            <a:off x="1476360" y="26028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vijesni razvoj znanja</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052640"/>
            <a:ext cx="7848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više od skupa analitičkih metod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j OR/MS/DS modela je pomoći donositelju odluke u njegovom procesu odlučivanj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jučni dio OR/MS/DS modeliranja je </a:t>
            </a:r>
            <a:r>
              <a:rPr b="1" lang="en-US" sz="2000" spc="-1" strike="noStrike">
                <a:solidFill>
                  <a:srgbClr val="000000"/>
                </a:solidFill>
                <a:latin typeface="Arial"/>
              </a:rPr>
              <a:t>"sustavni pristup"</a:t>
            </a:r>
            <a:r>
              <a:rPr b="0" lang="en-US" sz="2000" spc="-1" strike="noStrike">
                <a:solidFill>
                  <a:srgbClr val="000000"/>
                </a:solidFill>
                <a:latin typeface="Arial"/>
              </a:rPr>
              <a:t> rješavanja problema. Ovaj pristup pokazuje da je kontekst organizacijskih problema jednako važan kao i sam probl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MS/DS proces modeliranja je primjena znanstvenih metoda na složene organizacijske probleme ili prilike. </a:t>
            </a:r>
            <a:endParaRPr b="0" lang="en-US" sz="20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 PERSPEKTIVNI PROCES MODELIRANJ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modeliranja je vrlo usmjereno strateško razmišljanje uz praćenje nekih logičkih sljedova. Prema tome, u ovom smislu, strateško razmišljanje mora se naučiti, isto kako se i plesanje mora nauči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Često korišteni </a:t>
            </a:r>
            <a:r>
              <a:rPr b="1" lang="hr-HR" sz="2000" spc="-1" strike="noStrike">
                <a:solidFill>
                  <a:srgbClr val="000000"/>
                </a:solidFill>
                <a:latin typeface="Arial"/>
              </a:rPr>
              <a:t>modeli su živi jezici</a:t>
            </a:r>
            <a:r>
              <a:rPr b="0" lang="hr-HR" sz="2000" spc="-1" strike="noStrike">
                <a:solidFill>
                  <a:srgbClr val="000000"/>
                </a:solidFill>
                <a:latin typeface="Arial"/>
              </a:rPr>
              <a:t>. Svjesnost i jezik su usko povezani. Mi iznosimo svoja svjesna iskustva upotrebom jezika i ta verbalna iznošenja su glavni model za ljudsku svjesnost. Mi svjesno doživljavamo lingvističke podražaje kao što su riječi i rečenice i procesuiramo ih nesvjesno. Jezik nam pomaže da strukturiramo naša svjesna iskustva oblikovanjem mentalnih mode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Jezik je model koji se sastoji od niza metafora za prenošenje naših osjećaja, želja, strasti itd. drugim osobama. Jezik je sustav kodiranih misli. Nemogući je pokušaj izaći iz naših ljudskih uvjeta - običan jezik i njegova lingvistička pravila, posebice gramatika, unutar kojih moramo strateški razmišljati, ograničavaju naše strateško razmišljanje i njegovu komunikaciju s drugi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što se</a:t>
            </a:r>
            <a:r>
              <a:rPr b="0" lang="en-US" sz="3200" spc="-1" strike="noStrike">
                <a:solidFill>
                  <a:srgbClr val="000000"/>
                </a:solidFill>
                <a:latin typeface="Arial"/>
              </a:rPr>
              <a:t> </a:t>
            </a:r>
            <a:r>
              <a:rPr b="1" lang="en-US" sz="3200" spc="-1" strike="noStrike">
                <a:solidFill>
                  <a:srgbClr val="000000"/>
                </a:solidFill>
                <a:latin typeface="Arial"/>
              </a:rPr>
              <a:t>modeli u modi zovu model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4" name="PlaceHolder 2"/>
          <p:cNvSpPr>
            <a:spLocks noGrp="1"/>
          </p:cNvSpPr>
          <p:nvPr>
            <p:ph/>
          </p:nvPr>
        </p:nvSpPr>
        <p:spPr>
          <a:xfrm>
            <a:off x="468000" y="1628280"/>
            <a:ext cx="8351640" cy="396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Odgovor je u tome da oni pokušavaju prikazati stvarnost o tome kako ćete izgledati u npr. istoj odjeći. Kao što znamo, na kraju se sve svodi na modeliranj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su predstavljena stvarnost, koji mogu, ali i ne moraju, točno predstavljati stvarnost. U osnovi, svi modeli su netočni, međutim, neki su korisniji od drugih.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mi radimo modele o ljudima u svojoj glavi. Kada djelujemo, tada saznajemo da li je model točan! Mnogi ljudi griješe pretpostavljajući da je njihov model stvarnost, oni krive druge i govore "nešto nije u redu". "Valjani" model je onaj koji predstavlja stvarno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868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8000" y="692280"/>
            <a:ext cx="8351640" cy="54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 je predstavljanje stvarnosti iz perspektive modelara. Prema tome, moramo razviti multi-perspektivni model zadanog problema da ga razumijem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eorija znanja Friedricha Nietzschea dolazi do zaključka: "Postoji samo perspektiva gledanja, samo perspektiva znanja i sa što više afekta uspijemo misliti o jednoj stvari, to će biti potpuniji naš koncept o toj stvari, naša objektivno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 vidimo cjelinu problema odlučivanj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ramo gledati na problem iz više kutova i razmotriti kako se dijelovi slažu zajedno da</a:t>
            </a:r>
            <a:r>
              <a:rPr b="0" lang="hr-HR" sz="2800" spc="-1" strike="noStrike">
                <a:solidFill>
                  <a:srgbClr val="000000"/>
                </a:solidFill>
                <a:latin typeface="Arial"/>
              </a:rPr>
              <a:t> </a:t>
            </a:r>
            <a:r>
              <a:rPr b="0" lang="hr-HR" sz="2000" spc="-1" strike="noStrike">
                <a:solidFill>
                  <a:srgbClr val="000000"/>
                </a:solidFill>
                <a:latin typeface="Arial"/>
              </a:rPr>
              <a:t>vidimo cjelinu problema odlučivanja.</a:t>
            </a:r>
            <a:r>
              <a:rPr b="0" lang="hr-H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mmanuel Kant i Arthur Schopenhauer, između ostalih, zvali su ovaj model "svijet kao predstavljanje" o našem razumijevanju kroz Vrijeme, Prostor i Uzročnos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k je uzrok i posljedica koristan alat za razumijevanje fizičkog svijeta, Spinoza je uveo koncept Motivacije da objasni ljudske postupke i izjavio da "ne postoji opasnija greška od zamjenjivanja posljedice sa uzrokom: To zovemo stvarnom korupcijom zaključivanja." Štoviše moramo prihvatiti razliku između "etike puštanja na miru" i "uživanja u razlikama" dok se posvećujemo našoj perspektiv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ces promatranja sustava je aktivnost koja se može naučiti - prema tome to je tripartitni koncept, poimence, mislilac, učenje i sustav. Postoji mnoštvo rasporeda u koji se tri koncepta mogu složiti. Na primjer, "sustavi za učenje" što su uglavnom naše obrazovne instituci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odeli objašnjavaju probleme i pružaju rješenja. Kao sto je Ludwig Wittgenstein rekao: "Tajna ne postoji. Ako se pitanje uopće može postaviti, tada može biti i odgovor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Matematiku su izmislili ljudi u pokušaju da definiraju život po svojim uvjetima. Matematika se koristila u svim granama fizik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Na primjer, prilikom modeliranja svemira Galileo Galilej je rekao: "Ova veličanstvena knjiga - mislim na svemir - neprekidno stoji otvorena našem pogledu, ali se ne može razumjeti osim ako prvo ne naučimo razumijevati jezik i interpretirati znakove sa kojima je napisana. Ona je napisana u jeziku matematik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imarna upotreba matematike u odlučivanju je ona u jeziku zvanom   matematičko   modeliranje   kojim   razmatramo  one  dijelove problema odlučivanja koji mogu biti opisani brojevima ili sličnim odnosima reda. Matematički modeli mogu opisati složene probleme odlučivanja, uključujući interakcije između njegovih komponenti koje su presložene da bi bile izražene svakodnevnim jezikom.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ema tome, matematičko modeliranje je znanost o operacijama punim vještine sa konceptima i pravilima izmišljenim samo za ovu svrh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D MENTALNOG DO ANALITIČKOG MODELIRANJA </a:t>
            </a:r>
            <a:endParaRPr b="0" lang="en-US" sz="3200" spc="-1" strike="noStrike">
              <a:solidFill>
                <a:srgbClr val="000000"/>
              </a:solidFill>
              <a:latin typeface="Arial"/>
            </a:endParaRPr>
          </a:p>
        </p:txBody>
      </p:sp>
      <p:sp>
        <p:nvSpPr>
          <p:cNvPr id="60"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talni modeli</a:t>
            </a:r>
            <a:r>
              <a:rPr b="0" lang="en-US" sz="2000" spc="-1" strike="noStrike">
                <a:solidFill>
                  <a:srgbClr val="000000"/>
                </a:solidFill>
                <a:latin typeface="Arial"/>
              </a:rPr>
              <a:t> oblikuju akcije poduzeća, zato jer utječu na ono što donositelji odluke vide i obraćaju pažnju. Drugim riječima, mentalni modeli određuju koja će informacija zaokupiti pažnju donositelja odluka, a koja će biti ignorirana.</a:t>
            </a:r>
            <a:endParaRPr b="0" lang="en-US" sz="2000" spc="-1" strike="noStrike">
              <a:solidFill>
                <a:srgbClr val="000000"/>
              </a:solidFill>
              <a:latin typeface="Arial"/>
            </a:endParaRPr>
          </a:p>
        </p:txBody>
      </p:sp>
      <p:sp>
        <p:nvSpPr>
          <p:cNvPr id="61" name=""/>
          <p:cNvSpPr/>
          <p:nvPr/>
        </p:nvSpPr>
        <p:spPr>
          <a:xfrm>
            <a:off x="971640" y="429264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i</a:t>
            </a:r>
            <a:endParaRPr b="0" lang="en-US" sz="1800" spc="-1" strike="noStrike">
              <a:solidFill>
                <a:srgbClr val="000000"/>
              </a:solidFill>
              <a:latin typeface="Arial"/>
            </a:endParaRPr>
          </a:p>
        </p:txBody>
      </p:sp>
      <p:sp>
        <p:nvSpPr>
          <p:cNvPr id="62" name=""/>
          <p:cNvSpPr/>
          <p:nvPr/>
        </p:nvSpPr>
        <p:spPr>
          <a:xfrm>
            <a:off x="3924360" y="51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rmin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abilis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čisto nesigurni</a:t>
            </a:r>
            <a:endParaRPr b="0" lang="en-US" sz="1400" spc="-1" strike="noStrike">
              <a:solidFill>
                <a:srgbClr val="000000"/>
              </a:solidFill>
              <a:latin typeface="Arial"/>
            </a:endParaRPr>
          </a:p>
        </p:txBody>
      </p:sp>
      <p:sp>
        <p:nvSpPr>
          <p:cNvPr id="63" name=""/>
          <p:cNvSpPr/>
          <p:nvPr/>
        </p:nvSpPr>
        <p:spPr>
          <a:xfrm>
            <a:off x="3924360" y="422100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č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amički</a:t>
            </a:r>
            <a:endParaRPr b="0" lang="en-US" sz="1400" spc="-1" strike="noStrike">
              <a:solidFill>
                <a:srgbClr val="000000"/>
              </a:solidFill>
              <a:latin typeface="Arial"/>
            </a:endParaRPr>
          </a:p>
        </p:txBody>
      </p:sp>
      <p:sp>
        <p:nvSpPr>
          <p:cNvPr id="64" name=""/>
          <p:cNvSpPr/>
          <p:nvPr/>
        </p:nvSpPr>
        <p:spPr>
          <a:xfrm>
            <a:off x="3924360" y="3357720"/>
            <a:ext cx="143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ikonsk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analogn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00000"/>
                </a:solidFill>
                <a:latin typeface="Arial"/>
              </a:rPr>
              <a:t>simbolički</a:t>
            </a:r>
            <a:endParaRPr b="0" lang="en-US" sz="1400" spc="-1" strike="noStrike">
              <a:solidFill>
                <a:srgbClr val="000000"/>
              </a:solidFill>
              <a:latin typeface="Arial"/>
            </a:endParaRPr>
          </a:p>
        </p:txBody>
      </p:sp>
      <p:sp>
        <p:nvSpPr>
          <p:cNvPr id="65" name=""/>
          <p:cNvSpPr/>
          <p:nvPr/>
        </p:nvSpPr>
        <p:spPr>
          <a:xfrm flipV="1">
            <a:off x="2627280" y="3715920"/>
            <a:ext cx="1008000" cy="576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56000" y="4653000"/>
            <a:ext cx="1152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556000" y="4869000"/>
            <a:ext cx="1224000" cy="57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20:14:29Z</dcterms:created>
  <dc:creator>.</dc:creator>
  <dc:description/>
  <dc:language>en-US</dc:language>
  <cp:lastModifiedBy>Korisnik</cp:lastModifiedBy>
  <dcterms:modified xsi:type="dcterms:W3CDTF">2010-05-10T09:50:20Z</dcterms:modified>
  <cp:revision>12</cp:revision>
  <dc:subject/>
  <dc:title>MULTI PERSPEKTIVNI PROCES MODELIRANJA </dc:title>
</cp:coreProperties>
</file>