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2DBB-9982-401A-A7CE-7B8B2C78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10FB-1634-4964-A0C5-1AB3749D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3C8-8870-418A-AC69-CBE566D5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159D-7C20-4914-8B20-9F3C684A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26C9-1001-4565-9458-320E3AF1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2ADE-0554-4BB5-8DCA-E804CF74B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B20-79FD-4465-B5B6-745B3181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A4D-5D69-4FCA-B283-A887576E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66E2-996E-4A94-AA22-44392403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941-982A-4047-9E82-754BD5A6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EB80-B561-4FA5-B68F-84FADB60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B69-CB11-49A9-8632-B28228EA8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25DE-FF08-48F4-8F20-573DB6E97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mtpr.hr/UserDocsImages/nn-88-07-Pravilnikorazvrstavanju-hoteli.mht" TargetMode="External"/><Relationship Id="rId2" Type="http://schemas.openxmlformats.org/officeDocument/2006/relationships/hyperlink" Target="http://www.mmtpr.hr/UserDocsImages/nn-88-07-Pravilnikorazvrstavanju-domacinstva.mht" TargetMode="External"/><Relationship Id="rId3" Type="http://schemas.openxmlformats.org/officeDocument/2006/relationships/hyperlink" Target="http://www.mmtpr.hr/UserDocsImages/nn-82-07-Pravilnik-razvrst-ugostitelj.mht" TargetMode="External"/><Relationship Id="rId4" Type="http://schemas.openxmlformats.org/officeDocument/2006/relationships/hyperlink" Target="http://www.mmtpr.hr/UserDocsImages/nn-84-05-Pravilnik-razvrst-kampovi.htm" TargetMode="External"/><Relationship Id="rId5" Type="http://schemas.openxmlformats.org/officeDocument/2006/relationships/hyperlink" Target="http://www.mmtpr.hr/UserDocsImages/nn-48-02-Pravilnik%20o%20razvrt-kateg-stand-HOTELI.htm" TargetMode="External"/><Relationship Id="rId6" Type="http://schemas.openxmlformats.org/officeDocument/2006/relationships/hyperlink" Target="http://www.mmtpr.hr/UserDocsImages/2004-1499.htm" TargetMode="External"/><Relationship Id="rId7" Type="http://schemas.openxmlformats.org/officeDocument/2006/relationships/hyperlink" Target="http://www.mmtpr.hr/UserDocsImages/nn-57-95Pravilnik%20o%20razvrstavanjukateg-ugostiteljski-objekti.htm" TargetMode="External"/><Relationship Id="rId8" Type="http://schemas.openxmlformats.org/officeDocument/2006/relationships/hyperlink" Target="http://www.mmtpr.hr/UserDocsImages/nn-57-95Pravilnik%20o%20razvrstavanjukateg-ugostiteljski-objekti.htm" TargetMode="External"/><Relationship Id="rId9" Type="http://schemas.openxmlformats.org/officeDocument/2006/relationships/hyperlink" Target="http://www.mmtpr.hr/UserDocsImages/nn-110-96-Pravilnik%20izmjdop%20o%20razvrstavanju-ugostiteljski.htm" TargetMode="External"/><Relationship Id="rId10" Type="http://schemas.openxmlformats.org/officeDocument/2006/relationships/hyperlink" Target="http://www.mmtpr.hr/UserDocsImages/nn-24-97IspravakPravilnika%20izmjdop-ugostiteljski.htm" TargetMode="External"/><Relationship Id="rId11" Type="http://schemas.openxmlformats.org/officeDocument/2006/relationships/hyperlink" Target="http://www.mmtpr.hr/UserDocsImages/nn-61-98Pravilnik-izmjdopugostiteljski.htm" TargetMode="External"/><Relationship Id="rId12" Type="http://schemas.openxmlformats.org/officeDocument/2006/relationships/hyperlink" Target="http://www.mmtpr.hr/UserDocsImages/nn-137-98Pravilnik%20izmjdopPravilnika-ugostitelj.htm" TargetMode="External"/><Relationship Id="rId13" Type="http://schemas.openxmlformats.org/officeDocument/2006/relationships/hyperlink" Target="http://www.mmtpr.hr/UserDocsImages/nn-19-99-Pravilnikizmjdop-ugostiteljski.htm" TargetMode="External"/><Relationship Id="rId14" Type="http://schemas.openxmlformats.org/officeDocument/2006/relationships/hyperlink" Target="http://www.mmtpr.hr/UserDocsImages/nn-39-99Pravilnikizmjdop-ugostiteljski.htm" TargetMode="External"/><Relationship Id="rId15" Type="http://schemas.openxmlformats.org/officeDocument/2006/relationships/hyperlink" Target="http://www.mmtpr.hr/UserDocsImages/nn-52-99Pravilnik%20izmjdop-ugostiteljski.htm" TargetMode="External"/><Relationship Id="rId16" Type="http://schemas.openxmlformats.org/officeDocument/2006/relationships/hyperlink" Target="http://www.mmtpr.hr/UserDocsImages/nn-43-00Pravilnik%20izmjdop-ugostiteljski.htm" TargetMode="External"/><Relationship Id="rId17" Type="http://schemas.openxmlformats.org/officeDocument/2006/relationships/hyperlink" Target="http://www.mmtpr.hr/UserDocsImages/nn-52-00Pravilnik-dopune-ugostiteljski.htm" TargetMode="External"/><Relationship Id="rId18" Type="http://schemas.openxmlformats.org/officeDocument/2006/relationships/hyperlink" Target="http://www.mmtpr.hr/UserDocsImages/nn-57-00Pravilnik%20izmj-ugostiteljski.htm" TargetMode="External"/><Relationship Id="rId19" Type="http://schemas.openxmlformats.org/officeDocument/2006/relationships/hyperlink" Target="http://www.mmtpr.hr/UserDocsImages/nn-63-00-Pravilnik%20izmjdop-ugostitesljki.htm" TargetMode="External"/><Relationship Id="rId20" Type="http://schemas.openxmlformats.org/officeDocument/2006/relationships/hyperlink" Target="http://www.mmtpr.hr/UserDocsImages/nn-18-01Pravilnik%20izmjdop-ugostiteljski.htm" TargetMode="External"/><Relationship Id="rId21" Type="http://schemas.openxmlformats.org/officeDocument/2006/relationships/hyperlink" Target="http://www.mmtpr.hr/UserDocsImages/nn-33-01Ispravak%20Pravilnika%20izmjdop-ugostiteljski.htm" TargetMode="External"/><Relationship Id="rId22" Type="http://schemas.openxmlformats.org/officeDocument/2006/relationships/hyperlink" Target="http://www.mmtpr.hr/UserDocsImages/nn-52-04-Pravilnik%20izmj-ugostiteljski.htm" TargetMode="External"/><Relationship Id="rId23" Type="http://schemas.openxmlformats.org/officeDocument/2006/relationships/hyperlink" Target="http://www.mmtpr.hr/UserDocsImages/nn-106-04Pravilnik%20izmjdop-ugostiteljski.htm" TargetMode="External"/><Relationship Id="rId2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mtpr.hr/UserDocsImages/nn-175-03Pravilnik%20o%20razuvjtkat-kampovi.htm" TargetMode="External"/><Relationship Id="rId2" Type="http://schemas.openxmlformats.org/officeDocument/2006/relationships/hyperlink" Target="http://www.mmtpr.hr/UserDocsImages/nn-175-03Pravilnik%20o%20razuvjtkat-kampovi.htm" TargetMode="External"/><Relationship Id="rId3" Type="http://schemas.openxmlformats.org/officeDocument/2006/relationships/hyperlink" Target="http://www.mmtpr.hr/UserDocsImages/nn-106-04Pravilnik%20izmjdop-o%20razuvjtkat-kampovi.htm" TargetMode="External"/><Relationship Id="rId4" Type="http://schemas.openxmlformats.org/officeDocument/2006/relationships/hyperlink" Target="http://www.mmtpr.hr/UserDocsImages/12-06-Pravilnik-kampovi.htm" TargetMode="External"/><Relationship Id="rId5" Type="http://schemas.openxmlformats.org/officeDocument/2006/relationships/hyperlink" Target="http://www.mmtpr.hr/UserDocsImages/nn-3-96-Pravilnik-vo&#273;enja%20upisnika-ugostiteljskih.htm" TargetMode="External"/><Relationship Id="rId6" Type="http://schemas.openxmlformats.org/officeDocument/2006/relationships/hyperlink" Target="http://www.mmtpr.hr/UserDocsImages/nn-14-96Pravilnik%20o%20Upisniku%20o%20minuvjetugostobjek-ne-kategorz%20i%20obrascu.htm" TargetMode="External"/><Relationship Id="rId7" Type="http://schemas.openxmlformats.org/officeDocument/2006/relationships/hyperlink" Target="http://www.mmtpr.hr/UserDocsImages/1996-0629.htm" TargetMode="External"/><Relationship Id="rId8" Type="http://schemas.openxmlformats.org/officeDocument/2006/relationships/hyperlink" Target="http://www.mmtpr.hr/UserDocsImages/1997-1321.htm" TargetMode="External"/><Relationship Id="rId9" Type="http://schemas.openxmlformats.org/officeDocument/2006/relationships/hyperlink" Target="http://www.mmtpr.hr/UserDocsImages/nn-14-96Pravilnik%20o%20obrascu%20prijave%20i%20Upisniku-objekti-zatvorenog%20tipa.htm" TargetMode="External"/><Relationship Id="rId10" Type="http://schemas.openxmlformats.org/officeDocument/2006/relationships/hyperlink" Target="http://www.mmtpr.hr/UserDocsImages/1996-0630.htm" TargetMode="External"/><Relationship Id="rId11" Type="http://schemas.openxmlformats.org/officeDocument/2006/relationships/hyperlink" Target="http://www.mmtpr.hr/UserDocsImages/1997-1320.htm" TargetMode="External"/><Relationship Id="rId12" Type="http://schemas.openxmlformats.org/officeDocument/2006/relationships/hyperlink" Target="http://www.mmtpr.hr/UserDocsImages/1996-0227.htm" TargetMode="External"/><Relationship Id="rId13" Type="http://schemas.openxmlformats.org/officeDocument/2006/relationships/hyperlink" Target="http://www.mmtpr.hr/UserDocsImages/1996-0414.htm" TargetMode="External"/><Relationship Id="rId14" Type="http://schemas.openxmlformats.org/officeDocument/2006/relationships/hyperlink" Target="http://www.mmtpr.hr/UserDocsImages/1998-1678.htm" TargetMode="External"/><Relationship Id="rId15" Type="http://schemas.openxmlformats.org/officeDocument/2006/relationships/hyperlink" Target="http://www.mmtpr.hr/UserDocsImages/2002-2503.htm" TargetMode="External"/><Relationship Id="rId16" Type="http://schemas.openxmlformats.org/officeDocument/2006/relationships/hyperlink" Target="http://www.mmtpr.hr/UserDocsImages/1996-0413.htm" TargetMode="External"/><Relationship Id="rId17" Type="http://schemas.openxmlformats.org/officeDocument/2006/relationships/hyperlink" Target="http://www.mmtpr.hr/UserDocsImages/1997-0684.htm" TargetMode="External"/><Relationship Id="rId18" Type="http://schemas.openxmlformats.org/officeDocument/2006/relationships/hyperlink" Target="http://www.mmtpr.hr/UserDocsImages/1996-0779.htm" TargetMode="External"/><Relationship Id="rId19" Type="http://schemas.openxmlformats.org/officeDocument/2006/relationships/hyperlink" Target="http://www.mmtpr.hr/UserDocsImages/1999-0532.htm" TargetMode="External"/><Relationship Id="rId20" Type="http://schemas.openxmlformats.org/officeDocument/2006/relationships/hyperlink" Target="http://www.mmtpr.hr/UserDocsImages/2000-0603.htm" TargetMode="External"/><Relationship Id="rId2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PRUŽANJE UGOSTITELJSKIH USLUG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legij: Pravo u turiz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UVJETI ZA OBAVLJANJE UGOSTITELJSKE DJELAT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 bi mogao početi obavljati djelatnost u ugostiteljskom objektu ugostitelj mora ishoditi rješenje nadležnog ureda državne uprave u županiji ili Ministarstva mora, turizma, prometa i razvitka kojim se utvrđuje da ispunjava propisane uvjete (čl.19.st.1. ZUD) (rješenje se upisuje u odgovarajući upisnik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 uvjeti se dijele 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inimalne uvjet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ći minimalni uvjeti i uvjeti za vrs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vjete za kategoriju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Minimalni uvje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će minimalne uvjete moraju ispunjavati svi ugostiteljski objek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pći minimalni uvjeti odnose se 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ređenje i opremu  samog objek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značavanje objekat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spravnost i funkcionalnost uređaja i oprem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štitu od buke (zvučna izolacij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pskrbu vodom i električnom energijom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telefonski priključa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aštitu od požar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rijanj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ređenje i opremljenost sanitarij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inimalni uvjeti za vrstu propisuju ugostiteljske sadržaje, a ovise o vrsti usluga koje se u pružaju u ugostiteljskom objektu. Npr. zdravljak mora imati prostoriju za usluživanje gostiju, točionik, rashladnu vitrinu za slastice ako ih uslužuje, kuhinju ili prostor za pripremanje jela i slastica s odgovarajućim termičkim blokom, te priručni prostor za čuvanje hrane i bezalkoholnih pića (čl. 11. Pravilnik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Uvjeti za kategori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ik dio objekata u kojima se pružaju usluge smještaja za sve vrijeme rada, osim minimalnih, moraju u cijelosti ispunjavati i uvjete propisane za kategoriju koja im je utvrđen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dnose se n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od)vrste određene skupine ugostiteljskih objek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rste koje se kategoriziraju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alne ugostiteljske uslu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vjete za vrste i kategorije ugostiteljskih objekata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egorij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znake za vrste i kategorij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čin označavanja vrsta i kategori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vrha kategorizacije je gostu pružiti informaciju i garanciju kvalitete (minimum opremljenosti i usluga) u vezi s uslugama koje u određenoj vrsti i kategoriji smještajnog objekta može i mora dobiti i na taj način štititi goste-potrošače. Veći broj zvjezdica, (odnosno oznaka komfor) znači višu kategoriju, a time i veću kvalitetu i veći broj uslu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rsta i kategorija smještajnih objekata se označavaju standardiziranom pločom koju je ugostitelj dužan istaknuti na ulazu u objek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ategorizirani hoteli mogu imati i poseban standard i oznaku kvalit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otelima koji imaju dodatne sadržaje, opremu i uređaje, te pružaju dodatne usluge usmjerene na zadovoljenje potreba određenog tržišnog segmenta MMTPR može utvrditi </a:t>
            </a:r>
            <a:r>
              <a:rPr b="0" lang="hr-HR" sz="2400" spc="-1" strike="noStrike">
                <a:solidFill>
                  <a:srgbClr val="800080"/>
                </a:solidFill>
                <a:latin typeface="Arial"/>
              </a:rPr>
              <a:t>posebni standard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business, meetings, club, casino, family, SPA i dr.). Jednom hotelu može se utvrditi najviše četiri od ukupno 16 vrsta posebnih standar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otelu koji pruža više sadržaja, uređaja, opreme i usluga od propisanih za određenu kategoriju, te koji se posebno ističe razinom usluga i kvalitetom usluživanja, MMTPR dodijeliti </a:t>
            </a:r>
            <a:r>
              <a:rPr b="0" lang="hr-HR" sz="2400" spc="-1" strike="noStrike">
                <a:solidFill>
                  <a:srgbClr val="800080"/>
                </a:solidFill>
                <a:latin typeface="Arial"/>
              </a:rPr>
              <a:t>oznaku kvalitet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oznaka “Q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Ugostiteljske usluge u domaćinstv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 uvjetima propisanim ZUD i drugim propisima, fizička osoba koja nije obrtnik ili trgovac pojedinac – iznajmljivač, smije pružati sljedeće ugostiteljske usluge u domaćinstv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luge smještaja u sobi, apartmanu i kući za odmor, do ukupno najviše 8 soba, odnosno 16 postelja u što se ne ubrajaju pomoćni krev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luge smještaja u kampu s najviše 7 smještajnih jedinica, odnosno za 25 gostiju istodobno, u koji broj se ne ubrajaju djeca do 12 god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luge doručka, polupansiona i pansiona za svoje goste iz prve alinej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m ovih usluga ugostiteljskim uslugama u domaćinstvu smatraju se i usluge u seljačkom domaćinstvu koje na koje se osim u dijelu usluga koje mogu pružati primjenjuju odredbe ZUD o iznajmljivač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Zaštita zdravlja korisnika ugostiteljskih uslug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pružanju ugostiteljskih usluga treba osigurati zdravstvenu ispravnost hrane, pića i napitaka koja  podrazumijeva i njihovu pripremu i konzumaciju u skladu s njihovom namje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To se osigurava odredbama brojnih propisa kojima se detaljno uređuje poslovanje tim proizvodima - proizvodnja, prerada, skladištenje, kakvoća, uvjeti stavljanja na tržište i sl.</a:t>
            </a:r>
            <a:r>
              <a:rPr b="0" lang="hr-B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BA" sz="2400" spc="-1" strike="noStrike">
                <a:solidFill>
                  <a:srgbClr val="000000"/>
                </a:solidFill>
                <a:latin typeface="Arial"/>
              </a:rPr>
              <a:t>Najznačajniji propisi su: Zakon o hrani, Zakon o vinu, Zakon o veterinarstvu, Zakon o morskom ribarstvu, Zakon o slatkovodnom ribarstvu, Zakon o vodama (u dijelu koji se odnosi na zdravstvenu ispravnost i opskrbu vodom za piće i odvodnju otpadnih voda), Zakon o zaštiti pučanstva od zaraznih bolesti,  Zakon o sanitarnoj inspekc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vedeni propisi odnose se na sve subjekte koji posluju tim proizvodima, uključujući i subjekte koji pružaju ugostiteljske uslu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subjekte koji pružaju ugostiteljske usluge ministar zdravstva uz suglasnost ministra nadležnog za turizam donio je i poseban pravilnik o uvjetima higijene u ugostiteljskoj djelat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ako propisi i nadalje imaju centralnu ulogu u kontroli sigurnosti hrane, u porastu je i donošenje različitih kodeksa ponašanja (code of conduct, code of practi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brigu o sigurnosti hrane na razini EU 2002.g. osnovano je i posebno tijelo: European Food Safety Authority (EFS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 zdravlje i fizički integritet ljudi utječu i brojni drugi čimbenici koji su također uređeni posebnim propisi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 sigurno pružanje ugostiteljskih usluga od iznimne su važnosti i drugi sanitarni propisi, propisi vezani uz sigurnost građevina i protupožarnu zašti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đu tim propisima potrebno je posebno istaknuti Zakon o buci i Zakon o gradnji. Naime, prema čl.25.st.1.t.6. ZUD  uvjet za dobivanje rješenja o ispunjavanju uvjeta za ugostiteljski objekt je da građevina u kojoj se obavlja ugostiteljska djelatnost ispunjava uvjete sukladno posebnim propisima, a to se dokazuje odgovarajućim suglasnostima i rješenjima donesenim temeljem navedenih propisa (npr. sanitarna suglasnost o zaštiti od buke, uporabna dozvol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OSNOVNI PROPI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Zakon o ugostiteljskoj djelatnost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(NN, br. 138/06, ZU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cc"/>
                </a:solidFill>
                <a:latin typeface="Arial"/>
              </a:rPr>
              <a:t>provedbeni propisi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doneseni temeljem tog Zakona -  pravilnici – njih 1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 o razvrstavanju, kategorizaciji i posebnim standardima ugostiteljskih objekata iz skupine hoteli (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NN 88/07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o razvrstavanju i kategorizaciji objekata u kojima se pružaju ugostiteljske usluge u domaćinstvu (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NN 88/07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o razvrstavanju i minimalnim uvjetima ugostiteljskih objekata iz skupina »restorani«, »barovi«, »catering objekti« i »objekti jednostavnih usluga« (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NN 82/07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o razvrstavanju, minimalnim uvjetima i kategorizaciji drugih vrsta smještajnih objekata iz skupine »Kampovi i druge vrste objekata za smještaj« (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NN 84/05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o razvrstavanju, kategorizaciji, posebnim standardima i posebnoj kvaliteti smještajnih objekata iz skupine hoteli (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NN 48/02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– pročišćeni tekst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73/04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67/06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o razvrstavanju, minimalnim uvjetima i kategorizaciji ugostiteljskih objekata (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NN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57/95</a:t>
            </a:r>
            <a:r>
              <a:rPr b="0" lang="hr-HR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110/96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 24/97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61/98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137/98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19/99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39/99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52/99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 43/00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52/00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8"/>
              </a:rPr>
              <a:t> 57/00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19"/>
              </a:rPr>
              <a:t>63/00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20"/>
              </a:rPr>
              <a:t>18/0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21"/>
              </a:rPr>
              <a:t>33/01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22"/>
              </a:rPr>
              <a:t>52/04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hr-HR" sz="1800" spc="-1" strike="noStrike" u="sng">
                <a:solidFill>
                  <a:srgbClr val="3333cc"/>
                </a:solidFill>
                <a:uFillTx/>
                <a:latin typeface="Arial"/>
                <a:hlinkClick r:id="rId23"/>
              </a:rPr>
              <a:t>106/04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razvrstavanju, minimalnim uvjetima i kategorizaciji smještajnih objekata, kampova iz skupine 'Kampovi i druge vrste objekata za smještaj' (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N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175/03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106/04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12/06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obliku, sadržaju i načinu vođenja upisnika o minimalnim uvjetima i uvjetima za kategoriju ugostiteljskih objekata, te o obrascima zahtjeva ugostitelja i o obliku, sadržaju i načinu vođenja upisnika o minimalnim uvjetima i uvjetima za kategoriju objekata za pružanje ugostiteljskih usluga građana u domaćinstvu, te o obrascima zahtjeva građana (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NN 3/96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Upisniku o minimalnim uvjetima ugostiteljskih objekata koji se ne kategoriziraju i obrascu zahtjeva ugostitelja (N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14/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30/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75/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obrascu prijave i Upisniku o pružanju ugostiteljskih usluga u objektima zatvorenog tipa (N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14/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39/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75/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obliku, sadržaju i načinu vođenja knjige gostiju i popisa gostiju (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NN 14/96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pružanju ugostiteljskih usluga u pokretnim objektima (N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22/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137/9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153/0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pružanju ugostiteljskih usluga u seljačkom domaćinstvu (NN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22/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47/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8"/>
              </a:rPr>
              <a:t>38/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19"/>
              </a:rPr>
              <a:t>25/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  <a:hlinkClick r:id="rId20"/>
              </a:rPr>
              <a:t>29/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96/0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 i  42/04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avilni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 obliku, sadržaju i načinu vođenja knjige žalbe (N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2/9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7/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4/9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Arial"/>
              </a:rPr>
              <a:t>DEFINI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gostiteljska djelatnost je (čl.2.ZUD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premanje hrane i pružanje usluga prehran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premanje i usluživanje pića i napitak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užanje usluga smještaj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ipremanje hrane za potrošnju na drugom mjestu sa ili bez usluživanja (u prijevoznom sredstvu, na priredbama i sl.) i opskrba tom hranom (cater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Subjekti koji mogu pružati ugostiteljske usluge (čl.3.ZUD)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gostitelji - profesionalc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javne ustanove koje upravljaju NP i PP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ugostiteljske obrazovne ustanove, đački i studentski domov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građani - u domaćinstvu i u seljačkom domaćinstv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dravstvene ustanove lječiliš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vatski ferijalni i hostelski savez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rvatski planinarski savez i njegove članice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vačke udrug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druge pripadnika nacionalnih manjin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tanove koje obavljaju kazališnu djelatn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vez izviđača Hrvatsk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aterske sportske udrug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vne osobe koje nisu ugostitelj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marališta za djecu (ugostiteljski objekt zatvorenog tipa) (čl.4.ZU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NA KOGA SE ZUD NE PRIMJENJUJ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Obveze ugostitelja u obavljanju ugostiteljske djelatnosti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no istaknuti na ulazu u ugostiteljski objekt oznaku vrste i kategorije objek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no istaknuti obavijest o radnom vremenu i pridržavati se radnog vreme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vrditi kućni red u ugostiteljskim objektima za smještaj i istaknuti ga na recepciji te izvadak iz kućnog reda istaknuti u svim sobama i apartmanima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vrditi normative o utrošku namirnica, pića i napita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no i dostupno istaknuti cijene usluga i pridržavati se tih cijen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dati gostu specificirani račun za svaku pruženu uslug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mogućiti iznošenje pića i napita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diti knjigu gostiju i knjigu žalbi, a prigovore dostavljati Državnom inspektoratu u roku od pet dana te odgovoriti na prigovor u roku od 15 da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ugostiteljskom objektu za smještaj osigurati goste od posljedica nesretnog slučaj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veza ispunjavanja uvjeta koji se odnose na higijenu i zdravstvenu ispravnost hrane, te ostali zdravstveni uvjeti za rad sukladno posebnim propisi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znaka da se usluge pružaju naturisti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brana korištenja oznake vrste i kategorije objekta koja nije utvrđena rješenjem u promidžbi i komercijalnom poslovanju (čl.10. ZUD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brana pružanja usluga za koje nije doneseno odgovarajuće rješenje (čl.11.st.1. ZUD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brana usluživanja i dopuštanja konzumiranja alkohola maloljetnicima (čl.12.ZU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PROSTORI ZA OBAVLJANJE UGOSTITELJSKE DJELATN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gostiteljska djelatnost obavlja u objektima namijenjenim, uređenim i opremljenim za pružanje ugostiteljskih usluga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koji može biti u (čl.6.ZU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đevini, odnosno zasebnom dijelu građevine (zgrada, kiosk, kontejner, plutajući objekt i sl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lovnom prostoru u kojem se obavlja druga djelatnost (npr. trgovački centar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pokretnom vozilu i priključnom vozilu, željezničkom vagonu i plovnom objektu kojim se obavlja prijevoz put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atoru, na klupi, kolicima i sličnim napravama opremljenim za pružanje ugostiteljskih uslug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VRSTE UGOSTITELJSKIH OBJEK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kupine ugostiteljskih objeka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hotel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mpovi i druge vrste ugostiteljskih objekata za smještaj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estoran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arov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atering objek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jekti jednostavnih uslu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ve se skupine nadalje pravilnicima razvrstavaju u pojedine vrste ovisno o načinu usluživanja i pretežitosti usluga koje se pružaju u objek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20:25:09Z</dcterms:created>
  <dc:creator>Pesutic</dc:creator>
  <dc:description/>
  <dc:language>en-US</dc:language>
  <cp:lastModifiedBy>Andrea Pešutić</cp:lastModifiedBy>
  <dcterms:modified xsi:type="dcterms:W3CDTF">2007-11-16T15:45:20Z</dcterms:modified>
  <cp:revision>7</cp:revision>
  <dc:subject/>
  <dc:title>PRUŽANJE UGOSTITELJSKIH USLUGA </dc:title>
</cp:coreProperties>
</file>