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0A9-2DBF-4264-B9AB-A8F8CC5AF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8822-B12E-42B7-94DE-A4FACAD8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FCE-9AD9-4931-9A46-2A46CB6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1538-B98B-4F9D-AAE3-0F44303D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E9DB-CECD-43EA-A4D5-F626194BB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814B0-ED88-48F2-883F-6DCF8C4BB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121DA-3414-42B8-A847-142F9413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59E-FDCC-4104-9FB8-42E0D691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FDAE-8FAF-44FC-8EBA-F028189B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5800-2C24-4D83-A37D-D8A9F387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8CF-3511-4C56-BBC0-4EDCCF38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CB3-BE35-4BE0-BB4E-65A6AB57E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16F9-975C-4247-A839-C23C85AF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5E5F-DB38-485D-83D1-003905D7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0549-B792-4C5D-AE25-D85EB66B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C26B-C589-433B-AA2D-83003952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5CA-AC57-4CAA-A323-A18134A92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65FA-2F77-4795-92D7-CDD88EC6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B52E-5A7C-43EF-91DE-97001D64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3156-389D-4615-959B-8C6D2E83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F1C-7345-46CD-9F7B-74549064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1A10-D70A-4B81-AF44-505B9BFE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1D6F-C744-4B9A-B371-C623969F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771-ECEB-4C0D-BE53-7C2F5651E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459A-3361-4B91-9614-A5B329ED93AA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C78-E17C-4D15-9CDF-AF32E207FB63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35280" y="1828800"/>
            <a:ext cx="692784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cc6600"/>
                </a:solidFill>
                <a:latin typeface="Times New Roman"/>
              </a:rPr>
              <a:t>ZAKON O PRUŽANJU USLUGA U TURIZMU – pojam, definicija i pravni status turističke agencij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908000" y="515736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cc6600"/>
                </a:solidFill>
                <a:latin typeface="Times New Roman"/>
              </a:rPr>
              <a:t>Definicije turističke agencije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91856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3200" spc="-1" strike="noStrike">
                <a:solidFill>
                  <a:srgbClr val="ccb374"/>
                </a:solidFill>
                <a:latin typeface="Tahoma"/>
              </a:rPr>
              <a:t>«Putnička agencija je ono privredno poduzeće koje usluge trećih poduzeća, koje su (usluge) potrebne za putovanje i boravak, posreduje turistima, ili te usluge nudi u posebnim kombinacijama kao nove 'vlastite usluge'.» 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Klatt i Fisch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hr-HR" sz="3200" spc="-1" strike="noStrike">
                <a:solidFill>
                  <a:srgbClr val="ccb374"/>
                </a:solidFill>
                <a:latin typeface="Tahoma"/>
              </a:rPr>
              <a:t>Turistička agencija je «gospodarstveni organizam (organizacija) čija se osnovna djelatnost sastoji od organiziranja i prodaje putovanja i boravka te pružanja drugih usluga putnicima i sudionicima turističkog prometa.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(Vukonić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cc6600"/>
                </a:solidFill>
                <a:latin typeface="Times New Roman"/>
              </a:rPr>
              <a:t>...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ccb374"/>
                </a:solidFill>
                <a:latin typeface="Tahoma"/>
              </a:rPr>
              <a:t>Turistička agencija je trgovačko društvo, trgovac pojedinac, obrtnik ili njihova organizacijska jedinica koji pružaju usluge organiziranja putovanja ili posredovanja usluga vezanih uz putovanje i boravak turista</a:t>
            </a: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 (čl. 5.st.1. podstavak 1. Zakona o pružanju usluga u turizmu)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cc6600"/>
                </a:solidFill>
                <a:latin typeface="Times New Roman"/>
              </a:rPr>
              <a:t>PRAVNI STATUS TURISTIČKE AGENCIJE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Mijenjao se s njenim razvoj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Do kraja 2. svjetskog rata tretirala se kao trgovačko poduzeć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1963. Konferencija UN u Rimu: treba i pravno priznati posebnost profesionalne aktivnosti turističkog agen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Od tada intenzivira zakonodavno uređenje obavljanja djelatnosti turističkih agencij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acionalna zakonodavstva su prilično ujednače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cc6600"/>
                </a:solidFill>
                <a:latin typeface="Times New Roman"/>
              </a:rPr>
              <a:t>UOBIČAJENE ZAKONSKE ODREDBE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6600"/>
                </a:solidFill>
                <a:latin typeface="Tahoma"/>
              </a:rPr>
              <a:t>Posebni uvjeti (garancije) za dobivanje koncesije za osnivanje turističke agencije (zaštita klijenata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arancija moralne poćudnosti (dokaz o nekažnjavanj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arancija solventnosti (financijski polog za nadoknadu eventualne štete klijent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garancija da su ispunjene materijalne pretpostavke za obavljanje profesije (radno iskustvo osoblja, minimalni tehnički uvjeti za prostor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cc6600"/>
                </a:solidFill>
                <a:latin typeface="Tahoma"/>
              </a:rPr>
              <a:t>Posebne odredbe kojima se štiti profesionalnost agenata i sprečava nelojalna konkurencij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utničke agencije niže kategorije ne smiju obavljati djelatnost (pružati usluge) agencija više kategorij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rijevoznicima se iznimno dopušta obavljanje poslova putničke agencij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neprivrednim organizacijama dopušta se obavljanje nekih, izričito navedenih, poslova iz djelokruga putničke agencij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cc6600"/>
                </a:solidFill>
                <a:latin typeface="Times New Roman"/>
              </a:rPr>
              <a:t>Zakon o pružanju usluga u turizmu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Donesen 15.6.200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Tahoma"/>
              </a:rPr>
              <a:t>Usluge u turizmu su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pružanje uslug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turističke agencije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turističkog vodiča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turističkog pratitelja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turističkog animatora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Tahoma"/>
              </a:rPr>
              <a:t>turističkog zastupnika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urističke usluge u nautičkom turizmu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urističke usluge u seljačkom gospodarstvu ili obiteljskom poljoprivrednom gospodarstvu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turističke usluge u ostalim oblicima turističke ponu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SzPct val="1199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Tahoma"/>
              </a:rPr>
              <a:t>ostale usluge koje se pružaju turistima u svezi s njihovim putovanjem i boravkom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000" spc="-1" strike="noStrike">
                <a:solidFill>
                  <a:srgbClr val="cc6600"/>
                </a:solidFill>
                <a:latin typeface="Times New Roman"/>
              </a:rPr>
              <a:t>Subjekti koji mogu pružati usluge u turizmu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rofesionalc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Javne ustanove koje upravljaju zaštićenim područjima prir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Lječiliš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stanove u kultu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druge, škole, odgojno-obrazovne ustan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Građa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Brodar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rvatski ferijalni i hostelski sa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400" spc="-1" strike="noStrike">
                <a:solidFill>
                  <a:srgbClr val="cc6600"/>
                </a:solidFill>
                <a:latin typeface="Times New Roman"/>
              </a:rPr>
              <a:t>Teorija posredovanja u turizmu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Agenti i agencije su posredovali između davatelja i korisnika usluga u potrošnji vezanoj uz putovan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eorija turističkog posredovanja izvodi se iz pojmova posredovanja u trgovi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rednici” su subjekti koji uz određenu naknadu dovode u vezu proizvođača i kupca (davatelja i korisnika usluga) čime se ostvaruje brža i sigurnija razmjena dobara (usluga) na tržiš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rednici su u neposrednom pravnom odnosu i s proizvođačima i s kupc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i pravni odnosi reguliraju se ugovor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trgovini su se razvili ugovori o zastupanju, o posredovanju, komisijski ugov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turizmu su ti ugovori, zbog specifičnosti poslovanja, modificirani i razvili su se novi ugovori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cc6600"/>
                </a:solidFill>
                <a:latin typeface="Times New Roman"/>
              </a:rPr>
              <a:t>Posredovanje u turizmu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38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U masovnim oblicima turizma posrednici su nužni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Posredovanje u turizmu obavljaju turističke agencij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Turistička agencija bit svog postojanja pronalazi u potrebam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davatelja usluga da prodaju svoje uslu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orisnika da zadovolje svoje turističke potre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činjenici da i jedni i drugi zbog golemog tržišnog prostora moraju koristiti uslugama posredni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4000" spc="-1" strike="noStrike">
                <a:solidFill>
                  <a:srgbClr val="cc6600"/>
                </a:solidFill>
                <a:latin typeface="Times New Roman"/>
              </a:rPr>
              <a:t>Pojmovno određenje turističkih agencija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Putnička ili turistička agencij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Turistička agencija je “najizrazitiji predstavnik turističkog poduzeća”, “jedino pravo turističko poduzeće”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Tahoma"/>
              </a:rPr>
              <a:t>Što je turističko poduzeć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Hunzik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klasificirao sve aktivnosti na turističkom tržiš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Razradom klasifikacije definirao “tipsko” turističko poduzeć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Pod turističkim poduzećem podrazumijeva se svaka ona privredna jedinica posebne ili pojedinačne privredne grane koja putem trajne povezanosti prikladnih proizvodnih sredstava na privredni način i u privrednom smislu stavlja na raspolaganje robne i nerobne turističke uslug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4400" spc="-1" strike="noStrike">
                <a:solidFill>
                  <a:srgbClr val="cc6600"/>
                </a:solidFill>
                <a:latin typeface="Times New Roman"/>
              </a:rPr>
              <a:t>…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7846920" cy="47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I turističku privredu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Tahoma"/>
              </a:rPr>
              <a:t>turistička privreda obuhvaća one odnose i pojave koje proizlaze iz zajedničkog djelovanja pojedinih turističkih poduzeć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Kritike ovih definicija:Bernecker, Waletrspiel, Joschke: “ privredna poduzeća na području turizma mogu se logički i organski uklopiti u postojeći sustav privrednih poduzeć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Tahoma"/>
              </a:rPr>
              <a:t>Nema dovoljno znanstvenih argumenata za tvrdnje da postoji posebno turističko poduzeće, turistička privreda, turističko gospodarstv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 Pešutić</cp:lastModifiedBy>
  <dcterms:modified xsi:type="dcterms:W3CDTF">2007-10-23T09:17:23Z</dcterms:modified>
  <cp:revision>8</cp:revision>
  <dc:subject/>
  <dc:title>PowerPoint Presentation</dc:title>
</cp:coreProperties>
</file>