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2B14-D1A7-4DB0-84AE-834CBB6F3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8F3-EE00-4D55-88EA-E63A0148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D841-C4A7-4E3D-BCD6-66CF61D7D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018-7EBA-4427-A154-CE85C42F2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9D3E-7877-4084-811F-068F02F7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937E-05A8-4AFC-BF8F-7B9C3FF8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7A75-43DB-4321-9A89-A7352AE7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164C-285A-4CE9-86CD-03949127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8E10-C281-404E-9EF1-2A6439FE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65D6-5F19-465B-9A79-73995297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B159-BAA4-4B4A-846F-6CA0315C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B43-755E-42DF-9788-A26E98DA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4D12-812C-43F5-B8A2-B98F7935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C8EB0-3C41-4CDC-B791-3430EE4D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EE2A-4ED9-46CF-A633-48737B00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ACB0-A0DA-40F4-9F25-41384BA1D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FCFC-2CEA-4029-B415-183864924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B896-5127-46C8-B849-8845E10C6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B1D6-465E-4389-9134-F53C31A6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4605-D8B8-44FD-95D7-E835D99D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64CF-BEC3-462B-91AA-3A2E39F7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449-4C1F-46E8-9791-B0FDADF9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9F4-BF97-4F49-AD98-3F4BC6BA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C6CC-EEE2-427E-956C-1E86C927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7116-D8A2-41AE-ACA9-03C41B54EF08}" type="slidenum">
              <a:rPr b="0" lang="hr-HR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B871-3FA1-4503-9B80-0D5DE04BEF3A}" type="slidenum">
              <a:rPr b="0" lang="hr-HR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5400" spc="-1" strike="noStrike">
                <a:solidFill>
                  <a:srgbClr val="482400"/>
                </a:solidFill>
                <a:latin typeface="Times New Roman"/>
              </a:rPr>
              <a:t>TURISTIČKE ZAJEDNICE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993300"/>
                </a:solidFill>
                <a:latin typeface="Times New Roman"/>
              </a:rPr>
              <a:t>Kolegij: Pravo u turiz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82400"/>
                </a:solidFill>
                <a:latin typeface="Times New Roman"/>
              </a:rPr>
              <a:t>Turističko mjesto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dručje općine ili grada sa svim naseljima u sastavu ili pojedino naselje koje je proglašeno turističkim mjesto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glašavanje i razvrstavanje u razrede vrši ministar nadležan za turizam donošenjem  pravilnika na temelju kriterija utvrđenih u ZČZ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etogodišnji prosjek broja noćen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broj noćenja po stanov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vrijednost prometa u ugostiteljskoj djelatnosti po  stanovni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82400"/>
                </a:solidFill>
                <a:latin typeface="Times New Roman"/>
              </a:rPr>
              <a:t>Zajednički ciljevi TZ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napređivanje općih uvjeta boravka turis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dizanje kvalitete uslu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čuvanje i stvaranje prepoznatljivog i privlačnog turističkog okruž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siguranje gostoprims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mocija turističkog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Razvijanje svijesti o učincima turizma te o potrebi i važnosti očuvanja i unapređenja svih elemenata turističkog proizvoda, a osobito zaštite okoliš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82400"/>
                </a:solidFill>
                <a:latin typeface="Times New Roman"/>
              </a:rPr>
              <a:t>Organizacijska struktura TZ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ijela upravljanja – kroz članstvo u tijelima ostvaruje se suradnja javnog i privatnog sekto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kupština (u HTZ – Sabor HT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urističko vijeć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edsjednik turističke zajedn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dzorni odb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uristički ured (Glavni ured u HTZ) -  stručne službe: direktor turističkog ureda i zaposlenic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uristička društ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urističko informativni ce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82400"/>
                </a:solidFill>
                <a:latin typeface="Times New Roman"/>
              </a:rPr>
              <a:t>Zadaće TZ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izlaze iz zajedničkih ciljeva, a propisane su posebno za svaki oblik turističkih zajednica (čl. 26., 39 i 49 ZTZ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Možemo grupirati u sljedeće skup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organizacijs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razvojne i poticaj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ordinacijs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midžb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formativ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edukativ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adz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82400"/>
                </a:solidFill>
                <a:latin typeface="Times New Roman"/>
              </a:rPr>
              <a:t>Poslovanje TZ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gram rada i financijski plan – donosi ih skupština na prijedlog TV (do kraja tekuće godine za sljedeću poslovnu godinu), a sadrže pojedinačno utvrđene planirane zadatke i potrebna financijska sredstva za njihovo izvršen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Godišnje financijsko izvješće - donosi skupština na prijedlog TV (do kraja veljače za prethodnu godin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vi dokumenti dostavljaju se i TZ više raz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hr-HR" sz="4400" spc="-1" strike="noStrike">
                <a:solidFill>
                  <a:srgbClr val="482400"/>
                </a:solidFill>
                <a:latin typeface="Times New Roman"/>
              </a:rPr>
              <a:t>Izvori prihoda TZ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boravišna pristojb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članar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sredstva iz proraču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</a:rPr>
              <a:t>dragovoljni priloz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00"/>
                </a:solidFill>
                <a:latin typeface="Times New Roman"/>
              </a:rPr>
              <a:t>Boravišna pristojb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7691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Times New Roman"/>
              </a:rPr>
              <a:t>Boravišna pristojba je naknada za pogodnosti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482400"/>
                </a:solidFill>
                <a:latin typeface="Times New Roman"/>
              </a:rPr>
              <a:t>turističkom mjestu koju plaća svaki turist za svako ostvareno noć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Times New Roman"/>
              </a:rPr>
              <a:t>Iznimno boravišnu pristojbu u paušalnom iznosu plaćaj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Times New Roman"/>
              </a:rPr>
              <a:t>Vlasnici kuća i stanova za odm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Times New Roman"/>
              </a:rPr>
              <a:t>Nautičari na stalnom vezu u luci nautičkog turiz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Times New Roman"/>
              </a:rPr>
              <a:t>Iznajmljivači - za svaki krevet i smještajnu jedinicu u kam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Times New Roman"/>
              </a:rPr>
              <a:t>Visinu boravišne pristojbe svake godine ju utvrđuje Vlada RH, a ovisi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Times New Roman"/>
              </a:rPr>
              <a:t>O razredu turističkog mjes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482400"/>
                </a:solidFill>
                <a:latin typeface="Times New Roman"/>
              </a:rPr>
              <a:t>O razdoblju turističke sezone,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Smještajni objekt je dužan TZ prijaviti i odjaviti svakog gost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82400"/>
                </a:solidFill>
                <a:latin typeface="Times New Roman"/>
              </a:rPr>
              <a:t>UVO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Turizam je determiniran brojnim raznovrsnim čimbenic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Razvoj turizma ovisi o međusobnim odnosima i koordinaciji tih čimben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Za upravljanje destinacijom iznimno je važan odnos javnog i privatnog sektor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Upravljanje razvojem turizam zahtjeva specifičnu i efikasnu organizacij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482400"/>
                </a:solidFill>
                <a:latin typeface="Times New Roman"/>
              </a:rPr>
              <a:t>POVIJESNI RAZVOJ ORGANIZACIJE U DESTINACIJI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vi oblici organiziranja u turizmu bile su lokalne turističke društvene organizaci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čele su se osnivati sredinom 19.st. na lokalnoj razini, na privatnoj, dragovoljnoj, nelukrativnoj osnovi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Osnovne aktivnos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ovezuju turističke privlač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ordiniraju nositelje turističkih akti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Formiraju cjelovitu turističku ponu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ezentiraju tu ponudu potencijalnim turi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Funkcij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reiranje i unapređenje turističke pon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nformativ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koordinativ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promotiv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S porastom turističkog prometa lokalne turističke organizacije se počinju horizontalno i vertikalno povezivati – stvara se mreža destinacijskih organizacija (lokalnih, regionalnih, nacionalni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82400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ed početak Prvog svjetskog rata – prve mjere državne intervencije u turiz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ržava utječe na postojeće destinacijske društvene organiz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ržava ustrojava vlastita tijela nadležna za turiz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oslovi razvoja turizma raspodijeljeni izmeđ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društvenih destinacijskih organizacij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neposrednih tijela državne upr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i paradržavnih organizac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993300"/>
                </a:solidFill>
                <a:latin typeface="Times New Roman"/>
              </a:rPr>
              <a:t>SUVREMENE DESTINACIJSKE ORGANIZACIJ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Članovi iz privatnog i javnog sekto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Nacionalne turističke organizacij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ustrojavaju se kao paradržavne organiz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etežno zadužene za mark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Lokalna razina – mreža paradržavnih ili društvenih organiza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Problemi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– neučinkovitost, prevelika birokratiziranost, zastarjeli: struktura, način rada, princip neprofi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993300"/>
                </a:solidFill>
                <a:latin typeface="Times New Roman"/>
              </a:rPr>
              <a:t>UPRAVLJANJE RAZVOJEM TURIZMA U HRVATSKOJ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808000"/>
                </a:solidFill>
                <a:latin typeface="Times New Roman"/>
              </a:rPr>
              <a:t>Državna vlast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Hrvatski sabor – zakonodavno tije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Državna upr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808000"/>
                </a:solidFill>
                <a:latin typeface="Times New Roman"/>
              </a:rPr>
              <a:t>Lokalne i regionalne vlasti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(urbanistički planovi, infrastruktura, komunalni poslovi)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808000"/>
                </a:solidFill>
                <a:latin typeface="Times New Roman"/>
              </a:rPr>
              <a:t>Sustav turističkih zajed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3300"/>
                </a:solidFill>
                <a:latin typeface="Times New Roman"/>
              </a:rPr>
              <a:t>TURISTIČKE ZAJEDNIC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Propisi: </a:t>
            </a:r>
            <a:r>
              <a:rPr b="0" lang="hr-HR" sz="2000" spc="-1" strike="noStrike">
                <a:solidFill>
                  <a:srgbClr val="000000"/>
                </a:solidFill>
                <a:latin typeface="Times New Roman"/>
              </a:rPr>
              <a:t>Zakon o turističkim zajednicama i promicanju hrvatskog turizma (ZTZ), Zakon o boravišnoj pristojbi (ZBP), Zakon o članarinama u turističkim zajednicama (ZČT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uristička zajednica je neprofitna pravna osoba koja se osniva radi jačanja i promicanj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urizma R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gospodarskih interesa pravnih i fizičkih osoba u djelatnostima ugostiteljstva i turizma i s tim djelatnostima neposredno povezanih djelat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82400"/>
                </a:solidFill>
                <a:latin typeface="Times New Roman"/>
              </a:rPr>
              <a:t>Oblici turističkih zajednic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Lokalna raz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uristička zajednica općine ili g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uristička zajednica oto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uristička zajednica mj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turistička zajednica područ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uristička zajednica Grada Zagre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urističke zajednice župan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Turističke zajednice područ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Hrvatska turistička zajedn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 Pešutić</cp:lastModifiedBy>
  <dcterms:modified xsi:type="dcterms:W3CDTF">2007-11-26T11:30:08Z</dcterms:modified>
  <cp:revision>15</cp:revision>
  <dc:subject/>
  <dc:title>PowerPoint Presentation</dc:title>
</cp:coreProperties>
</file>