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6CD9F-52B4-462C-BBF6-5352A4CAE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D7017-6C63-437B-8EFD-A93B970D6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A9521-91D8-45E6-8F8B-82BE408E9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9B417-CB3A-4FE9-A3A1-D984531F1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C2BC1-4AC9-4D53-BDC1-9316137F7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6E3B5-032A-414C-91A1-B7C4B22E3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99C74-4642-450D-8ECE-A5281DE10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5DD02-D38E-4A08-B487-C9BF6769B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799A5-3951-44EE-9ED7-23D24CAAE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D8283-89E7-48CA-8FCD-998F1548D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19A7C-A953-48D4-89C7-D856F2050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6FEC9-494C-4979-8BD1-D13ACECB0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50258-4680-47C2-9AD5-0D1DD3202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6C0CC-87E0-4928-A6B5-574DB3988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E2811-6E92-4B81-9744-EB49D538B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0571C-EC0C-4646-9453-DCCF055AB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16AF7-C6AA-4437-AF6B-18D97BADC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2D5B7-BF7C-4979-8A94-615FFED2F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2093F-1DE2-4F1B-8D9E-61C07B229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D8D62-12F0-433E-B3AC-99C7D031B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72A5B-9C4C-45B8-807D-AB4327601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1D9DD-3FA9-443B-B447-F4C1038AE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93DED-8C15-447A-B737-270D2CFA2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A7A90-860F-4364-AE2C-4B2E33476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9875A-CB5D-4882-B4B8-E24A28F3CDFA}" type="slidenum">
              <a:rPr b="0" lang="hr-H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2AFDC-2458-4D0D-AE0E-A99EA5F23EB7}" type="slidenum">
              <a:rPr b="0" lang="hr-H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240" y="1509480"/>
            <a:ext cx="7467480" cy="253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600" spc="-1" strike="noStrike">
                <a:solidFill>
                  <a:srgbClr val="9999ff"/>
                </a:solidFill>
                <a:latin typeface="Arial"/>
              </a:rPr>
              <a:t>PRAVNI OKVIR ZA PRUŽANJE USLUGA U UGOSTITELJSTVU I TURIZMU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52388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666699"/>
                </a:solidFill>
                <a:latin typeface="Arial"/>
              </a:rPr>
              <a:t>UPRAVLJANJE RAZVOJEM TURIZMA U HRVATSKOJ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5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Turizam je determiniran brojnim raznovrsnim čimbenic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Razvoj turizma ovisi o međusobnim odnosima i koordinaciji tih čimben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pravljanje razvojem turizma zahtjeva specifičnu i efikasnu organizacij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666699"/>
                </a:solidFill>
                <a:latin typeface="Arial"/>
              </a:rPr>
              <a:t>TKO UPRAVLJA RAZVOJEM TURIZM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42560" y="213336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ržavna vla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rvatski sabor – zakonodavno tije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žavna upr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kalne i regionalne vlast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rbanistički planovi, infrastruktura, komunalni poslovi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stav turističkih zajedn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žavna uprava u području turiz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starstvo mora, turizma, prometa i razvitka – središnje tijelo, poslov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reiranje turističke polit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zvoj i investicije u turiz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zvitak specifičnih oblika turiz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istička i ugostiteljska statistik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đunarodna suradnja i d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edi državne uprave u županijama: registracija i evidencija gospodarskih subjekata u turizmu, statistika i dr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žavni inspektorat – nadzor provedbe propisa od strane gospodarskih subjek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098720"/>
            <a:ext cx="8229600" cy="73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ff"/>
                </a:solidFill>
                <a:latin typeface="Arial"/>
              </a:rPr>
              <a:t>TURISTIČKO PRA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ačin i uvjeti pružanja usluga u ugostiteljstvu i turizmu regulirani su brojnim pravnim norm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ustav pravnih normi kojima se stvara pravni okvir za pružanje usluga u ugostiteljstvu i turizmu čini zasebnu pravnu granu – 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turističko prav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ravne norme nalaze se u općim i posebnim propisima, autonomnim i drugim izvorima prav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99ff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Turističko zakonodavstvo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je skup propisa koji uređuju odnose u području turizma, koje su donijela nadležna državna tijela, a čija je svrha stvaranje pravnih okvira unutar kojih se omogućava ostvarenje funkcija turiz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9999ff"/>
                </a:solidFill>
                <a:latin typeface="Arial"/>
              </a:rPr>
              <a:t>Pravni izvori turističkog prava</a:t>
            </a: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isi koji se odnose na subjekte u turiz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isi kojima se uređuju osnivanje i djelovanje gospodarskih subjekata – Zakon o trgovačkim društvima, Zakon o obr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isi kojima se uređuju uvjeti i način obavljanja ugostiteljske i turističke djelatnosti te inspekcijski nadz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kon o pružanju usluga u turizmu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kon o ugostiteljskoj djelatnosti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kon o Državnom inspektoratu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098720"/>
            <a:ext cx="82296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Pravne norme kojima se uređuju odnosi između subjekata u turiz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Zakon o obveznim odnos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osebne uzance u ugostiteljstv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Propisi kojima se stvaraju uvjeti za razvoj turizma u destinacij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Zakon o turističkim zajednicama i promicanju   hrvatskog turiz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Zakon o boravišnoj pristojb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Zakon o članarinama u turističkim zajednic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DRŽAVA I PRA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ržava je formalna organizacija i instrument za ostvarivanje općih interesa i interesa glavne (glavnih) društvene skup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ržava mora na jedinstven način obavljati  poslove od općeg (javnog) znač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Za to su joj potrebna: pravne norme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tijela vlasti, vlast (prisila kojom će tijela provoditi pravne norme te javna kontrola vlast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098720"/>
            <a:ext cx="82296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vna nor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bvezatna norma ponašanja koju donosi nadležno tijelo ili drugi subjekti, a čije pridržavanje osigurava država primjenom zapriječenih sank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Sastojci: hipoteza, dispozicija, sank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odjela prema adresatima (osobama kojima su upućene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pće – primjenjuju se na sve (ako nije posebnom normom nešto drugo propisan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osebne – primjenjuju se na određene skupine nepoznatih adresata (npr. smještajne objek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ojedinačne – primjenjuju se na poznate adresate (npr. Hotel “Dubrovni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098720"/>
            <a:ext cx="82296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odjela prema intenzitetu (obveznosti) primjen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risilne – ponašanje mora biti u skladu s normom; primjenjuju se uvije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Dispozitivne – pravni odnos (ponašanje)  se može urediti i drugačije (prema volji adresata, ali ne suprotno prisilnim normama); primjenjuju se kada nije drugačije ili nije ništa dogovore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Alternatinve – ponašanje mora biti u skladu s jednom od propisanih alternativa; adresati mogu birati između ponuđenih alternativ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098720"/>
            <a:ext cx="82296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PRAVNI ODN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dnos između najmanje dva subjekta uređen pravnim norm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Sastojc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ubjekti: pravne i fizičke osobe koje imaju pravnu, a prema potrebi i poslovnu sposob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adržaj: obveza jedne strane da nešto ispuni i ovlaštenje druge strane da traži to ispunje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098720"/>
            <a:ext cx="82296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Fizička osoba = naravna osoba: građanin, obrtnik, trgovac pojedin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avna osoba = organizacija ljudi kojima pravni poredak priznaje svojstvo osobe (da bi mogla poduzimati pravne poslov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avna sposobnost = sposobnost stjecanja prava i obve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oslovna sposobnost = sposobnost stjecanja prava i obveza vlastitom voljom; potrebna ubrojivost kod fizičkih osoba, kod pravnih se pretpostavl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098720"/>
            <a:ext cx="82296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CIJA PRA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PRAVO JE SUSTAV MEĐUSOBNO POVEZANIH PRAVNIH NORMI KOJE VRIJEDE U JEDNOJ DRŽAVI I ČIJE PRIDRŽAVANJE OSIGURAVA DRŽAVA PRIMJENOM SANKCIJA PUTEM MJERODAVNIH TIJE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098720"/>
            <a:ext cx="82296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VNI SUSTA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avne norme usustavljuju se u određene skupine kako bi se olakša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jihova primjen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zakonodavne aktivnos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zučavanje i unapređenje pr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Elementi pravnog sust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ravna no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ravni institut – skup srodnih pravnih nor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ravna grana – skup srodnih pravnih institu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Javno (štiti državne, opće interese, normu donosi javna vlast) i privatno pra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vori pra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Oblici u kojima se izražavaju pravna pravi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opisi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usta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zak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odzakonski ak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Autonomni izvori pr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udska prak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ravna zna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Akti pojedinih nezakonodavnih tije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9T05:43:47Z</dcterms:created>
  <dc:creator>Pesutic</dc:creator>
  <dc:description/>
  <dc:language>en-US</dc:language>
  <cp:lastModifiedBy>Pesutic</cp:lastModifiedBy>
  <dcterms:modified xsi:type="dcterms:W3CDTF">2007-10-19T06:24:32Z</dcterms:modified>
  <cp:revision>5</cp:revision>
  <dc:subject/>
  <dc:title>PRAVNI OKVIR ZA PRUŽANJE USLUGA U UGOSTITELJSTVU I TURIZMU</dc:title>
</cp:coreProperties>
</file>