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06C8-4243-4692-92BF-C68983603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9306B-C1D3-4DC5-96E3-DD59CE03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2018B-821F-4C5E-AB6F-5B9C7048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E7C4-11AB-4DC8-818F-7F693258D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166A-4D49-474C-B084-BFFD28A2F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3508-C473-4AB5-BE95-4A0D06E4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CBD1-7000-41C3-877F-BABA8975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89DB7-2822-4E6A-BA83-C5435E335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1E5B-39FE-4554-98C5-B48C84EA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9132-2F26-480C-ACA6-AE4220B9D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E122-3D05-4055-ABD6-AB4C97B9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E08A1-C7FF-4B2E-AC18-F3A141AC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5F6B-452D-41CE-B78C-C4CC65A6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1A5E-8B9D-45C3-9017-191CE45E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67C5-CA33-4453-9D3A-A20B2F89D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38BC-953F-4B82-86C7-20F4956D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7ED2-D71F-4A06-8686-44CC3AB2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86A0-4309-4F8A-99EE-997D4F47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B8E7A-D35D-4A93-ADB9-CC17623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71F10-86F3-4F1A-BAA4-B5F2E96B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79AEB-4612-4D08-937E-39A107AF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266C5-E7E3-4034-98FB-96F68EB6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B59BA-E48A-4180-A25C-5F97B13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E6E6-C069-4430-8731-044E21AC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5E56-25A1-4FAD-998A-EB1ADDAABEE3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41D-77C8-448A-9418-9518476EDA6F}" type="slidenum">
              <a:rPr b="0" lang="hr-H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Arial"/>
              </a:rPr>
              <a:t>OBAVLJANJE DJELATNOSTI U TURIZMU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Kolegij: Pravo u ugostiteljstvu i turizmu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vjeti za voditelja poslovn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-541440" y="1125360"/>
            <a:ext cx="968544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oditelj poslovnice mora ispunjavati sljedeće uvj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biti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poslovno sposoban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ati najmanj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rednju stručnu spremu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tivno znati najmanje jedan i poznavati još jedan svjetski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jezik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te poznavati hrvatski jezik u mjeri dostatoj za obavljanje poslova rukovoditelja poslovn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ati položen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stručni ispit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jmanje dvije godine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radnog staža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na odgovarajućim poslov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 smije mu trajati </a:t>
            </a: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mjera sigurnosti ili mjera zabrane obavljanje poslova voditelja poslovn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r-HR" sz="1800" spc="-1" strike="noStrike">
                <a:solidFill>
                  <a:srgbClr val="000000"/>
                </a:solidFill>
                <a:latin typeface="Arial"/>
              </a:rPr>
              <a:t>državljanstvo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hrvatski državlja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ržavljani država članica Europske unije i Europskog ekonomskog prostora, ako ispunjavaju uvjete propisane u ZP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7d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rugi stranci ako uz uvjete za voditelja poslovnice ispunjavaju uvjet da su u Hrvatskoj osnovali trgovačko društvo ili obrt za pružanje usluga turističke agencije ili imaju odobren stalni boravak u Hrvatskoj te su ishodili suglasnost ministarstva nadležnog za turizam za obavljanje poslova voditelja poslovn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uristički: vodič, pratitelj, zastupnik, anim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Turistički vodi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čl. 26. do 36. ZPUT) je osoba koja pruža turistima usluge pokazivanja i stručnog objašnjavanja prirodnih i društvenih turističkih resursa te gospodarskih i političkih tijekova i zbi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Turistički pratitel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čl. 37. do 40. ZPUT) je osoba koja obavlja operativno-tehničke poslove u vođenju i praćenju turista, a može im, osim za turističke cjeline (lokalitete) davati i osnovne informacije o područjima obuhvaćenim putovanje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Turistički zastupni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čl.42. i 43. ZPUT) je osoba koja zastupa organizatora putovanja u odredištima putovanja pred davateljima usluga i klijen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666699"/>
                </a:solidFill>
                <a:latin typeface="Arial"/>
              </a:rPr>
              <a:t>Turistički anima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e osoba koja osmišljava i izvodi programe provođenja slobodnog vremena turista, a koji se odnose na športsko-rekreativne, zabavne i kulturno-društvene sadržaje (čl.41.ZP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Ostale turističke uslu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znajmljivanje pribora i opreme za šport i rekreaciju, kao što su sandoline, daske za jedrenje, bicikli na vodi, suncobrani, ležaljke i dr. (čl.55.st.1.ZPU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žatelj ovih usluga obvezan je osigurati korisnike usluga od posljedica nesretnog slučaja (čl.55.st.2. ZPU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jete i mjesta za pružanje ovih usluga može propisati predstavničko tijelo jedinice lokalne samouprave temeljem ovlaštenja iz čl. 65.st.3. ZP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urističke usluge u specifičnim oblicima turiz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avni motiv putovanja turista specifičnim oblicima turizma je baviti se određenom aktivnošću i time zadovoljiti turističku potreb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pravilu se radi o aktivnostima koje su predmet posebnih djelatnosti i čije je obavljanje uređeno posebnim propisima, jer primarna svrha obavljanja tih djelatnosti nije pružanje usluga turistima već neka druga – plovidba, poljoprivredna proizvodnja, zdravstvena zaštita, zaštita prirode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pružaju usluge turistima (u cijelosti ili djelomično), subjekti koji obavljaju te djelatnosti na tržištu nastupaju kao poduzetnici u turizmu i svoje poslovanje organiziraju u cilju zadovoljenja potreba tu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isi iz turizma (i ugostiteljstva) normiraju samo najnužnije – subjekte i uvjete pod kojima se te usluge mogu pružati  turis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PUT propisuje tko i koje turističke usluge može pružati u nautičkom turizmu (čl. 44. do 48.), u seljačkom gospodarstvu ili obiteljskom poljoprivrednom gospodarstvu (čl.49. do 53. ZPUT) te u ostalim oblicima turističke ponude (čl.54. ZPU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Pružanje sportsko-rekreacijskih usluga u turizm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vjeti za pružanje usluga koje uključuju sportsko-rekreacijske i pustolovne aktiv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snika usluga pismeno i usmeno upoznati s vrstama rizika kojem se izlaž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igurati korisnike od posljedica nesretnog sluča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odobnicima uslugu može pružiti samo uz pisanu suglasnost roditelja, odnosno skrbnika, ali i uz tu suglasnost može odbiti pružiti malodobniku uslugu (čl.56.ZPU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star nadležan za turizam može (uz suglasnost ministra nadležnog za obrazovanje i/ili sport) pravilnikom propisa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vjete za pružanje tih uslu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hničke uvjete za sredstva kojima se pružaju te uslu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čin i program stručnog osposobljavanja osoba koje ih pružaju, ako programi nisu uređeni posebnim propis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Usluge turističke agencije su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iranje paket-aranžmana, sklapanje i provedba ugovora o paket-aranžmanu, organiziranje izleta, sklapanje i provedba ugovora o izlet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iranje kongre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ovanje u sklapanju ugovora o organiziranom putovanju (paket-aranžman i izle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ovanje ugostiteljskih usluga (prodaja i rezervacija smještaja i drugih ugostiteljskih uslug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ovanje usluga prijevoza (prodaja putnih karata i rezervacija mjesta za sva prijevozna sredstv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iranje prihvata i transfera putni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ovanje u pružanju usluga u posebnim oblicima turistič­ke i ugostiteljske ponu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iranje i posredovanje u pružanju usluga turističkih vodiča, turističkih pratitelja i usluga upravljanja plovnim objektima nautičara (skipera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stupanje domaćih i stranih putničkih agen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35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avanje turističkih obavijesti i promidžbenog materijal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redovanje u sklapanju ugovora o osiguranju putnika i prtljag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moć u pribavljanju putnih isprava, viza i drugih isprava potrebnih za prijelaz granice i boravak u inozemstvu, isprava za lov, ribolov, ronjenje, plovidbu nautičara te drugih isprava potrebnih za organizaciju i provođenje različitih oblika turističke ponud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rezervacija, nabava i prodaja ulaznica za sve vrste priredbi, muzeja i dr., te prodaja robe vezane za potrebe putovanja (razne putne potrepštine, suveniri, turističke publikacije i sl.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cija i pružanje usluga u svezi s poslovanjem karticama i putničkim čekovima, te pružanje mjenjačkih usluga sukladno posebnim propisim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znajmljivanje i posredovanje u iznajmljivanju vozila, letjelica i plovnih objek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gencijsko-pomorske usluge za prihvat i opremu plovnih objekata u nautičkom turiz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Uvjeti za pružanje usluga </a:t>
            </a:r>
            <a:br>
              <a:rPr sz="4000"/>
            </a:br>
            <a:r>
              <a:rPr b="1" lang="en-US" sz="4000" spc="-1" strike="noStrike">
                <a:solidFill>
                  <a:srgbClr val="00007d"/>
                </a:solidFill>
                <a:latin typeface="Arial"/>
              </a:rPr>
              <a:t>turističke agencij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istička agencija može započeti pružati usluge tek nakon što od ureda državne uprave u županiji nadležnog za turizam pribavi rješenje kojim se utvrđuje da udovoljava propisanim uvjetima (čl.10.st.1. Z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ješenje se donosi za svaku poslovnicu i to prema mjestu poslovnice, odnosno poslovnog prostor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istička agencija može pružati samo usluge utvrđene u tom rješenju (čl.10.st.8.ZPU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 odredbama članaka 10. do 12. ZPUT utvrđuje rok za donošenje rješenja, vođenje Upisnika turističkih agencija, sadržaj zahtjeva za izdavanje rješenja te sadržaj samog rješen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Arial"/>
              </a:rPr>
              <a:t>Obveze turističkih agencij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Obveze svih subjekata koji pružaju usluge u turizmu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čl.4. ZPUT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aviti uvjete, sadržaj i cijenu svake pojedine usluge i pridržavati ih 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zdavanje računa ili drugog dokaza o primitku uplate i čuvanje tih dokumenata tri g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upati s povećanom pažnjom, prema pravilima struke i običaj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đenje knjige žalbe, dostavljanje prigovora Državnom inspektoratu u roku od pet dana te odgovaranje na svaku upisanu žalbu u roku od 15 dana (Udruge i odgojno-obrazovne ustanove nemaju obvezu vođenja knjige žalb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Obveze svih turističkih agencij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ulazu u poslovnicu, odnosno poslovni prostor vidno izložiti natpisnu ploču na kojoj su istaknuti tvrtka i sjedište turističke agencije (čl. 13. t.1. ZPU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ulazu u poslovnicu, odnosno poslovni prostor vidno istaknuti radno vrijeme i pridržavati se tako istaknutog radnog vremena (čl. 13. t.2. ZPU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zastupa druge turističke agencije, izjasniti se o svojstvu u kojem nastupa ovlaštenjima koja ima (čl. 13. t.3. ZPU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svim reklamnim i promidžbenim materijalima te poslovnim dokumentima vidljivo naznačiti tvrtku i sjedište te identifikacijski kod turističke agencije (čl. 13. t.4. ZPU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o poslovnu tajnu čuvati sve što je saznala o klijentu, te osim u zakonom predviđenim slučajevima, bez odobrenja putnika nikome ne priopćiti: njegovu adresu, mjesto i vrijeme putovanja, boravka, uplaćenu cijenu kao ni imena njegovih suputnika (čl. 13. t.5. ZPU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8686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utniku pružiti usluge utvrđene u ugovoru (čl. 13. t.6. ZPU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poznati putnika sa sadržajem važećeg ugovora o osiguranju od odgovornosti za štetu koju prouzroči putniku neispunjenjem, djelomičnim ispunjenjem ili neurednim ispunjenjem obveza koje se odnose na paket aranžman (čl. 13. t.7. ZPU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nuditi putniku osiguranje od posljedica nesretnog slučaja i bolesti na putovanju, oštećenja i gubitka prtljage, dragovoljno zdravstveno osiguranje za vrijeme puta i boravka u inozemstvu, osiguranje od otkaza putovanja te osiguranje kojim se osiguravaju troškovi pomoći i povratka putnika u mjesto polazišta u slučaju nesreće i bolesti, te ga upoznati sa sadržajem tih osiguranja (čl. 13. t.8. ZPUT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 ragledavanje turističkih cjelina (lokaliteta) koristiti usluge ovlaštenog turističkog vodiča (čl.16.st.2.ZPU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ijevoz obavljati vlastitim prijevoznim sredstvima ili prijevoznim sredstvima drugih prijevoznika sukladno posebnim propisima koji uređuju prijevoz putnika (čl.15. ZPU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oristiti prijevozna sredstva u kojima su putnici osigurani od posljedica nesretnog slučaja, a prtljaga od gubitka i oštećenja, te ugostiteljske objekte u kojima su korisnici usluga osigurani od posljedica nesretnog slučaja (čl. 14. st.1. ZPU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6699"/>
                </a:solidFill>
                <a:latin typeface="Arial"/>
              </a:rPr>
              <a:t>Posebne obveze turističkih agencija koje organiziraju puto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stička agencija koja organizira putovanje (paket aranžman ili izlet) obvezna je za svaku grupu od 15 – 75 putnika osigurati turističkog pratitelja koji ispunjava uvjete propisane u ZP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stička agencija koja organizira putovanje (paket aranžman ili izlet) obvezna je za svako putovanje izdati program, prospekt ili katalo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stička agencija koja organizira paket-aranžman je dužna osigurati jamčevinu (u obliku police osiguranja, gotovinskog pologa ili bankovne garancije) za slučaj insolvent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likom uplate paket-aranžmana turistička agencija je dužna izdati putniku potvrdu o osiguranju jamčev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da organizira paket-aranžman (ne i kada organizira izlet) turistička agencija dužna je s osiguravateljem sklopiti ugovor o osiguranju od odgovornosti koju putniku prouzroči neispunjenjem, djelomičnim ispunjenjem ili neurednim ispunjenjem obveza koje se odnose na paket-aranžman (čl.19.ZPU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99"/>
                </a:solidFill>
                <a:latin typeface="Arial"/>
              </a:rPr>
              <a:t>Obveze turističke agencije koja korisnicima neposredno pruža uslug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lovnica (čl.20.st.1. Z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sebna poslovna cjel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vjeti  propisani u posebnom pravilniku - ovise o vrsti usluga koje turistička agencija pruž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jmanje jedan zaposleni voditelj poslovnice u punom radnom vremenu (čl.21.st.1.ZPU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 nema poslovnicu najmanje jednu zaposlenu osobu koja ispunjava uvjete za voditelja poslov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ko je voditelj poslovnice opravdano spriječen obavljati svoj posao agencija može za vrijeme njegove spriječenosti – privremeno i ne duže od šest mjeseci u tri godine – odrediti vršitelja dužnosti za obavljanje tih poslova (čl.21.st.2.ZPU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5:12:12Z</dcterms:created>
  <dc:creator>Pesutic</dc:creator>
  <dc:description/>
  <dc:language>en-US</dc:language>
  <cp:lastModifiedBy>Andrea Pešutić</cp:lastModifiedBy>
  <dcterms:modified xsi:type="dcterms:W3CDTF">2007-10-30T14:15:48Z</dcterms:modified>
  <cp:revision>4</cp:revision>
  <dc:subject/>
  <dc:title>OBAVLJANJE DJELATNOSTI U TURIZMU</dc:title>
</cp:coreProperties>
</file>