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0840" y="-36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6800" y="734760"/>
            <a:ext cx="4908600" cy="36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0840" y="9318240"/>
            <a:ext cx="2870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3180-50A3-4E0F-B4F1-B64B9A350698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U tom smislu o trodimenzionalnosti turističko-pravnih odnosa. Riječ je samo o turističkopravnim odnosima, ali osim tih odnosa agencije u cilju obavljanja svoje djelatnosti ulaze u pravne odnose i s drugim gospodarskim subjekti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8960" y="735120"/>
            <a:ext cx="4905360" cy="36795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62040" y="4660560"/>
            <a:ext cx="52992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Agencije sklapaju i ugovore s drugim agencijama: o subagenturi, poslovnoj suradnji itd., drugim gospodarskim subjektima: bankama, osiguravateljima itd. Koji omogućavaju ili okakšavaju njihovo poslovan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6A1-BBC7-4022-B4E4-591953E54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06D-FF74-48B5-86CE-ACC2596B5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6F86-9A3D-4C3B-9121-587D4E37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3E0-2326-466C-B8A7-4ECBE8EC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EF4F-8D51-4CDD-AD7E-32A2E608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CB2A-E77F-4BE7-9904-2E4F63C7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91A2-AA15-4DBC-94FC-2426C7DE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15B-C154-4A0B-8325-838050DF5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642E-375D-4D55-B8CA-AB5ED968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24E0-BC54-424B-AB8B-58D741FE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D462-8589-46EF-AFC5-B6D9F13C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D34-AC91-4BDA-868C-08CB5EC2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2894-6E9C-4B52-9484-03E36C8F49DA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Arial"/>
              </a:rPr>
              <a:t>UGOVORI KOJE SKLAPAJU TURISTIČKE AGEN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92360" y="5013000"/>
            <a:ext cx="488952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40458c"/>
                </a:solidFill>
                <a:latin typeface="Arial"/>
              </a:rPr>
              <a:t>Dr.sc. Andrea Pešuti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0458c"/>
                </a:solidFill>
                <a:latin typeface="Arial"/>
              </a:rPr>
              <a:t>Obveze organizatora prije sklapanja ugov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5694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promidžbeni materijali</a:t>
            </a:r>
            <a:r>
              <a:rPr b="0" lang="hr-HR" sz="2400" spc="-1" strike="noStrike">
                <a:solidFill>
                  <a:srgbClr val="cd05a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e smije sadržavat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zavaravajuće obavije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ora sadržavati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jasne, potpune i točne obavijesti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 putovanju i boravku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(cijeni, odredištu, sredstvu, karakteristikama i kategoriji prijevoza, smještajnom objektu i d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adržaj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bvezuje organizator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i može se mijenjati s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ko je putnik o izmjenama obaviješten prije sklapanja ugovo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ko je mogućnost izmjene izričito navedena u promidžbenim materija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a temelju sporazuma s putnik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prethodna obavijes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rganizator je dužan prije sklapanja ugovora putnika obavijestiti o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raničnim, viznim i zdravstvenim formalnostima koje se odnose na  putovanje i boravak 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vremenu potrebnom za ispunjavanje tih formalno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9900cc"/>
                </a:solidFill>
                <a:latin typeface="Arial"/>
              </a:rPr>
              <a:t>I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ga uputiti na program putovanja ili promidžbeni materijal koji je putniku već uručen a koji sadrži navedene podatk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0458c"/>
                </a:solidFill>
                <a:latin typeface="Arial"/>
              </a:rPr>
              <a:t>Sadržaj ugovora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podaci o organizatoru putovanja i njegovom osiguravatelj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vrt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sjedišt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333399"/>
                </a:solidFill>
                <a:latin typeface="Arial"/>
              </a:rPr>
              <a:t>podaci o odredištu i boravku</a:t>
            </a:r>
            <a:r>
              <a:rPr b="0" lang="hr-HR" sz="24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drediš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ijeme i datum boravka u odrediš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podaci o smještajnom objektu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rs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lok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kategor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snovne karakterist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uristička klasifikaci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60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broj dnevnih obr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plan put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druge usluge uključene u cijen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(izleti, obilasc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podaci o cijen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cijena i mogućnosti izmjene cij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način i vrijeme plaćanja cij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posebni zahtjevi pu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najmanji broj putnika i rok otkazivanj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ako se nije prijavio dovoljan broj pu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rok za podnošenje prigovor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zbog neispunjenja ili neurednog ispunjenja ugov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0458c"/>
                </a:solidFill>
                <a:latin typeface="Arial"/>
              </a:rPr>
              <a:t>Obveze organizatora putovanj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40458c"/>
                </a:solidFill>
                <a:latin typeface="Arial"/>
              </a:rPr>
              <a:t>zaštita prava i interesa putn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užiti ugovorene usluge kako je ugovor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brinuti o pravima i interesima putn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ješiti prigovor putnika zbog neispunjenja ili neurednog ispunjenja istaknut tijekom puto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0458c"/>
                </a:solidFill>
                <a:latin typeface="Arial"/>
              </a:rPr>
              <a:t>obavještavanje putnik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o svim činjenicama i okolnostima put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0458c"/>
                </a:solidFill>
                <a:latin typeface="Arial"/>
              </a:rPr>
              <a:t>podatke o putniku čuvati kao poslovnu taj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naknaditi putniku šte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uzrokovanu neispunjenjem, djelomičnim ili neurednim ispunjenjem obveza (ugovornih i zakonski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retrpljenu u povodu izvršenja obveza davatelja usluga zbog toga što organizator davatelja usluga nije izabrao pažnjom dobrog organizatora put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sklopiti ugovor o osiguranju od odgovornosti  za štetu</a:t>
            </a:r>
            <a:r>
              <a:rPr b="0" lang="hr-HR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svako organizirano putovanje </a:t>
            </a: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osigurati jamčevinu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za slučaj stečaja ili insolventnosti u svrhu: povrata plaćene cijene ako putovanje nije poduzeto ili naknade troškova povratka putnika (prema čl.18.st.3. ZPUT, prilikom uplate paket-aranžmana turistička agencija je dužna izdati putniku potvrdu o osiguranju jamčev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Obveze prema Zakonu o pružanju </a:t>
            </a:r>
            <a:br>
              <a:rPr sz="3200"/>
            </a:b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sluga u turizmu (ZPU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utniku pružiti usluge utvrđene u ugovoru (čl. 13. t.6. ZPU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poznati putnika sa sadržajem važećeg ugovora o osiguranju od odgovornosti za štetu koju prouzroči putniku neispunjenjem, djelomičnim ispunjenjem ili neurednim ispunjenjem obveza koje se odnose na paket aranžman (čl. 13. t.7. ZPUT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nuditi putniku osiguranje od posljedica nesretnog slučaja i bolesti na putovanju, oštećenja i gubitka prtljage, dragovoljno zdravstveno osiguranje za vrijeme puta i boravka u inozemstvu, osiguranje od otkaza putovanja te osiguranje kojim se osiguravaju troškovi pomoći i povratka putnika u mjesto polazišta u slučaju nesreće i bolesti, te ga upoznati sa sadržajem tih osiguranja (čl. 13. t.8. ZPUT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 za izlet i za paket aranžman koristiti prijevozna sredstva u kojima su putnici osigurani od posljedica nesretnog slučaja, a prtljaga od gubitka i oštećenja, te ugostiteljske objekte u kojima su korisnici usluga osigurani od posljedica nesretnog slučaja (čl. 14. st.1. ZP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ko usluge uključuju sportsko-rekreacijske i pustolovne aktivnosti (čl.56.ZPUT)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orisnika usluga pismeno i usmeno upoznati s vrstama rizika kojem se izlaž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osigurati korisnike od posljedica nesretnog sluča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alodobnicima može takvu uslugu pružiti samo uz pisanu suglasnost roditelja, odnosno skrbnika (ali i uz tu suglasnost može odbiti pružiti malodobniku uslug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0458c"/>
                </a:solidFill>
                <a:latin typeface="Arial"/>
              </a:rPr>
              <a:t>Obveze putn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latiti ugovorenu cije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ostaviti podatke potrebne za organiziranje putova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rinuti da on osobno, njegove isprave i prtljaga ispunjavaju uvjete koje zahtijevaju propi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knaditi organizatoru štetu uzrokovanu neizvršenjem obve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obavještavanje o nedostacima ispunjen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0458c"/>
                </a:solidFill>
                <a:latin typeface="Arial"/>
              </a:rPr>
              <a:t>Odgovornost organizato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 svu štetu koju prouzroči neispunjenjem, djelomičnim ili neurednim ispunjenjem svojih obveza – </a:t>
            </a:r>
            <a:r>
              <a:rPr b="0" lang="hr-HR" sz="2400" spc="-1" strike="noStrike">
                <a:solidFill>
                  <a:srgbClr val="9900cc"/>
                </a:solidFill>
                <a:latin typeface="Arial"/>
              </a:rPr>
              <a:t>objektivna odgovor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ko usluge koje čine sadržaj aranžmana pruža sam – za štetu nastalu u svezi s tim uslugama odgovara prema </a:t>
            </a:r>
            <a:r>
              <a:rPr b="0" lang="hr-HR" sz="2400" spc="-1" strike="noStrike">
                <a:solidFill>
                  <a:srgbClr val="9900cc"/>
                </a:solidFill>
                <a:latin typeface="Arial"/>
              </a:rPr>
              <a:t>kriteriju utvrđenom za davatelja uslu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da je izvršenje usluga koje čine sadržaj aranžmana povjerio trećima - za štetu nastalu u svezi s tim uslugama odgovara za izbor trećeg prema </a:t>
            </a:r>
            <a:r>
              <a:rPr b="0" lang="hr-HR" sz="2400" spc="-1" strike="noStrike">
                <a:solidFill>
                  <a:srgbClr val="9900cc"/>
                </a:solidFill>
                <a:latin typeface="Arial"/>
              </a:rPr>
              <a:t>kriteriju pretpostavljene kriv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rganizator putovanja </a:t>
            </a:r>
            <a:r>
              <a:rPr b="0" lang="hr-HR" sz="2400" spc="-1" strike="noStrike">
                <a:solidFill>
                  <a:srgbClr val="9900cc"/>
                </a:solidFill>
                <a:latin typeface="Arial"/>
              </a:rPr>
              <a:t>ne može unaprijed isključiti svoju odgovornost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iz ugovora, ali može (pisano) ugovoriti s putnikom najviši iznos naknade ako taj iznos nije u očitom nerazmjeru sa štetom, osim ako je štetu uzrokovao s nakanom ili iz grube nepozor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0458c"/>
                </a:solidFill>
                <a:latin typeface="Arial"/>
              </a:rPr>
              <a:t>Posebna prava i obve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22960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zamjena putni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putnik uz obavij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promjena cijen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– uvje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slučaju promjene tečaja valute, povećanja troškova prijevoza ili pristoj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Do 20 dana prije početka put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ko je ta mogućnost predviđena ugovorom (fakultativna odredba ugovor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odustanak od ugovora (jednostrani raskid)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Putni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ravodoban raskid – naknada administrativnih troško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nepravodoban raskid</a:t>
            </a:r>
            <a:r>
              <a:rPr b="0" i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– plaća ugovoreni postotak cij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Organizator: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u slučaju izvanrednih i nepredvidivih okolnost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ako se nije prijavio minimalni broj putnika (obavijest 5 dana prij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zbog razloga na strani putnika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40458c"/>
                </a:solidFill>
                <a:latin typeface="Arial"/>
              </a:rPr>
              <a:t>izmjena sadržaja ugovor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rganizator mora odmah obavijestiti putnika, putnik može zbog toga raskinuti ugo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00cc"/>
                </a:solidFill>
                <a:latin typeface="Arial"/>
              </a:rPr>
              <a:t>Posrednički ugovor o putovanju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(čl. 904. do 908.ZO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Posredničkim ugovorom o putovanju posrednik se obvezuje u ime i za račun putnika sklopiti  </a:t>
            </a:r>
            <a:r>
              <a:rPr b="1" lang="hr-HR" sz="2800" spc="-1" strike="noStrike">
                <a:solidFill>
                  <a:srgbClr val="9900cc"/>
                </a:solidFill>
                <a:latin typeface="Arial"/>
              </a:rPr>
              <a:t>ugovor o organiziranju putovanja ili ugovor o izvršenju jedne ili više posebnih usluga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 koje omogućuju ostvarenje nekog putovanja ili boravka, a putnik se obvezuje za to platiti </a:t>
            </a:r>
            <a:r>
              <a:rPr b="1" lang="hr-HR" sz="2800" spc="-1" strike="noStrike">
                <a:solidFill>
                  <a:srgbClr val="9900cc"/>
                </a:solidFill>
                <a:latin typeface="Arial"/>
              </a:rPr>
              <a:t>naknadu</a:t>
            </a:r>
            <a:r>
              <a:rPr b="1" lang="hr-HR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od ovog ugovora je i organizirano putovanje jedna usluga (posrednik putovanja posreduje između putnika i organizatora putovan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333399"/>
                </a:solidFill>
                <a:latin typeface="Arial"/>
              </a:rPr>
              <a:t>UV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Zakonodavci redovito samo djelomično uređuju materiju ugovora u turizm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lovni svijet sam pronalazi rješenja kojima se u obliku uzanci, poslovnih običaja, općih uvjeta, standardnih i adhezijskih ugovora i poštujući profesionalnu etiku (moral), izgrađuje autonomno pravo u kojemu su se razvili pojedini tipizirani ugov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avni izvori za ugovore u turizmu u Hrvatsko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Zakon o obveznim odnos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Posebne uzance u ugostiteljstv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djelomice u tu materiju zadire i Zakon o pružanju usluga u turizm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Važan izvor i Zakon o zaštiti potrošača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0458c"/>
                </a:solidFill>
                <a:latin typeface="Arial"/>
              </a:rPr>
              <a:t>Obveze turističke agencij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Obaviti povjereni posao 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ibaviti uslu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Postupati prema uputama putn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Obavijestiti putnika o tijeku izvršenja ugovor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dnosno o smetnjama u izvršenju (obveza polaganja raču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40458c"/>
                </a:solidFill>
                <a:latin typeface="Arial"/>
                <a:ea typeface="Times New Roman"/>
              </a:rPr>
              <a:t>Skrbiti o pravima i interesima putnika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obaviti posao pažnjom dobrog gospodarstvenika – agenta, naročito pri izboru davatelja usluge (odgovara prema kriteriju pretpostavljene krivnj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333399"/>
                </a:solidFill>
                <a:latin typeface="Arial"/>
              </a:rPr>
              <a:t>Izdati putniku potvrdu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posreduje organizirano putovanje potvrda mora sadržava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sadržaj organiziranog put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ime odnosno tvrtku i adresu posrednika putova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podatak da istupa u svojstvu posrednika putovanja – inače se smatra organizatorom putovanja (prema čl. 13. t.3. ZPUT obavijestiti putnika o ovlaštenjima koja im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kada posreduje druge pojedinačne potvrda mora sadržavati opis usluge s naznakom cij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0458c"/>
                </a:solidFill>
                <a:latin typeface="Arial"/>
                <a:ea typeface="Times New Roman"/>
              </a:rPr>
              <a:t>Obveze putnika</a:t>
            </a:r>
            <a:r>
              <a:rPr b="0" lang="hr-HR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0458c"/>
                </a:solidFill>
                <a:latin typeface="Arial"/>
                <a:ea typeface="Times New Roman"/>
              </a:rPr>
              <a:t>Suradnja s posrednikom putovanja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dostava potrebnih i točnih podataka, briga o ispunjavanju uvjeta za korištenje usl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40458c"/>
                </a:solidFill>
                <a:latin typeface="Arial"/>
                <a:ea typeface="Times New Roman"/>
              </a:rPr>
              <a:t>Snositi troškove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koje nastaju za agenciju: predujam, troškovi i naknada štete u slučaju raskida ugov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akon obavljenog posla, prema ugovoru, tarifi agencije ili trgovačkim običajima </a:t>
            </a:r>
            <a:r>
              <a:rPr b="1" lang="hr-HR" sz="2800" spc="-1" strike="noStrike">
                <a:solidFill>
                  <a:srgbClr val="40458c"/>
                </a:solidFill>
                <a:latin typeface="Arial"/>
                <a:ea typeface="Times New Roman"/>
              </a:rPr>
              <a:t>platiti agenciji naknad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za njezin trud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 praksi se ne plaća naknada nego agencija dobiva proviziju od davatelja uslug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0458c"/>
                </a:solidFill>
                <a:latin typeface="Arial"/>
              </a:rPr>
              <a:t>Temeljne skupine pravnih odno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Odnosi između turističke agencije i izravnih korisnika uslug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Odnosi između davatelja usluga i izravnih korisnika turističkih uslug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333399"/>
                </a:solidFill>
                <a:latin typeface="Arial"/>
              </a:rPr>
              <a:t>Odnosi između davatelja usluga i turističke agencije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40458c"/>
                </a:solidFill>
                <a:latin typeface="Arial"/>
              </a:rPr>
              <a:t>Skupine ugovora koje sklapa turistička agencija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152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58c"/>
                </a:solidFill>
                <a:latin typeface="Arial"/>
              </a:rPr>
              <a:t>ugovori između korisnika usluga i turističke agen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govor o organiziranju putov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srednički ugovor o putovanj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58c"/>
                </a:solidFill>
                <a:latin typeface="Arial"/>
              </a:rPr>
              <a:t>ugovori između ugostitelja i turističke agen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gencijski ugovor o hotelskim uslugama (ugovor o rezervacij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govor o zakupu ugostiteljskih kapacit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govor o alotma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govor o zastupanju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40458c"/>
                </a:solidFill>
                <a:latin typeface="Arial"/>
              </a:rPr>
              <a:t>ostali ugovori 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(npr. ugovori s prijevoznicima, osiguravajućim društvima, drugim agencija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260280"/>
            <a:ext cx="8229600" cy="56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hr-HR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2205000"/>
            <a:ext cx="12031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gen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205000"/>
            <a:ext cx="15112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gostitel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2205000"/>
            <a:ext cx="1224000" cy="865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agen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2133720"/>
            <a:ext cx="156204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uris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116000" y="1052640"/>
            <a:ext cx="4299120" cy="7189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azličiti ugovori o zastupanju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osredovanju i s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47636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56400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78000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5364000" y="1989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76360" y="1989000"/>
            <a:ext cx="20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484360" y="177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80000" y="1989000"/>
            <a:ext cx="158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00720" y="177300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58920" y="3500280"/>
            <a:ext cx="2376360" cy="936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govor o alotma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govor o zaku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40360" y="3500280"/>
            <a:ext cx="3671640" cy="1008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govor o organiziranju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utov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osrednički ugovor o putovanj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4941720"/>
            <a:ext cx="3384720" cy="93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govor o rezervac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govor o uslugama prehr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i točenja pić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2920" y="3141720"/>
            <a:ext cx="0" cy="15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3068640"/>
            <a:ext cx="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1964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7640" y="3284640"/>
            <a:ext cx="18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84360" y="3284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44000" y="2924280"/>
            <a:ext cx="0" cy="324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500720" y="5300640"/>
            <a:ext cx="374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4724280"/>
            <a:ext cx="288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4724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3068640"/>
            <a:ext cx="0" cy="309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5300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9272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67640" y="306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92720" y="3284640"/>
            <a:ext cx="2374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43640" y="328464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932360" y="5661000"/>
            <a:ext cx="2879640" cy="79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Izravni ugovor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hotelskim uslug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6165720"/>
            <a:ext cx="4176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12000" y="61657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vijek se sklapaju (najmanje) dva ugovora, nastaju (najmanje) tri odnosa, ali nisu svi u izravnom ugovornom odnos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ugovori između korisnika usluga i turističke agencije su</a:t>
            </a:r>
            <a:r>
              <a:rPr b="0" lang="hr-HR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40458c"/>
                </a:solidFill>
                <a:latin typeface="Arial"/>
              </a:rPr>
              <a:t>temeljni ugovori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ovisno o vremenu sklapanja pojedinih ugovor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→ parovi ugov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40458c"/>
                </a:solidFill>
                <a:latin typeface="Arial"/>
              </a:rPr>
              <a:t>Parovi ugovora</a:t>
            </a: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402560" y="3068640"/>
            <a:ext cx="2808360" cy="934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govor o organiziranj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utova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3068640"/>
            <a:ext cx="288000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govor o alotman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govor o zaku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1628640"/>
            <a:ext cx="3600360" cy="86364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utnik i turistička agenci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1628640"/>
            <a:ext cx="3887640" cy="91440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Turistička agencija i ugostitel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03280" y="4941720"/>
            <a:ext cx="280836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Posrednički ugov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o putovanj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4941720"/>
            <a:ext cx="2881440" cy="935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Ugovor o rezervacij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6920" y="2205000"/>
            <a:ext cx="0" cy="331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920" y="551664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11640" y="551664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459640" y="2349360"/>
            <a:ext cx="0" cy="316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85080" y="5516640"/>
            <a:ext cx="574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56000" y="24922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77080" y="249228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357336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3399"/>
                </a:solidFill>
                <a:latin typeface="Arial"/>
              </a:rPr>
              <a:t>ODNOS TURISTIČKIH AGENCIJA I IZRAVNIH KORISNIK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spostavlja se sklapanjem ugovora o organiziranju putovanja ili posredničkog ugovora o putovan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ije propisana pisana forma, ali se mora sklopiti u trajnom, klijentu dostupnom i razumljivom obl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onudu za sklapanje ugovora mogu da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lij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gencij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dhezijski ugov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tipski ugo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9900cc"/>
                </a:solidFill>
                <a:latin typeface="Arial"/>
              </a:rPr>
              <a:t>Ugovor o organiziranju putovanja 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(čl. 881. do 903. ZO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Ugovorom o organiziranju putovanja obvezuje se organizator putovanja pribaviti putniku najmanje </a:t>
            </a:r>
            <a:r>
              <a:rPr b="1" lang="hr-HR" sz="3200" spc="-1" strike="noStrike">
                <a:solidFill>
                  <a:srgbClr val="9900cc"/>
                </a:solidFill>
                <a:latin typeface="Arial"/>
              </a:rPr>
              <a:t>dvije usluge</a:t>
            </a: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 koje se sastoje od prijevoza, boravka ili drugih usluga koje čine </a:t>
            </a:r>
            <a:r>
              <a:rPr b="1" lang="hr-HR" sz="3200" spc="-1" strike="noStrike">
                <a:solidFill>
                  <a:srgbClr val="9900cc"/>
                </a:solidFill>
                <a:latin typeface="Arial"/>
              </a:rPr>
              <a:t>cjelinu</a:t>
            </a: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 i traju </a:t>
            </a:r>
            <a:r>
              <a:rPr b="1" lang="hr-HR" sz="3200" spc="-1" strike="noStrike">
                <a:solidFill>
                  <a:srgbClr val="9900cc"/>
                </a:solidFill>
                <a:latin typeface="Arial"/>
              </a:rPr>
              <a:t>duže od 24 sata ili uključuju najmanje jedno noćenje</a:t>
            </a:r>
            <a:r>
              <a:rPr b="1" lang="hr-HR" sz="3200" spc="-1" strike="noStrike">
                <a:solidFill>
                  <a:srgbClr val="333399"/>
                </a:solidFill>
                <a:latin typeface="Arial"/>
              </a:rPr>
              <a:t>, a putnik se obvezuje za to organizatoru platiti jednu </a:t>
            </a:r>
            <a:r>
              <a:rPr b="1" lang="hr-HR" sz="3200" spc="-1" strike="noStrike">
                <a:solidFill>
                  <a:srgbClr val="9900cc"/>
                </a:solidFill>
                <a:latin typeface="Arial"/>
              </a:rPr>
              <a:t>ukupnu (paušalnu) cijen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ndrea Pešutić</cp:lastModifiedBy>
  <dcterms:modified xsi:type="dcterms:W3CDTF">2007-12-14T15:36:07Z</dcterms:modified>
  <cp:revision>29</cp:revision>
  <dc:subject/>
  <dc:title>PowerPoint Presentation</dc:title>
</cp:coreProperties>
</file>