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084-7E50-4A92-A766-0C6EAC01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252-9084-4CB4-AEFF-FEC35070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9D5A6-6CCC-4BD2-B848-61780B08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02C32-7072-4581-ACBC-FB240C1D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399D6-C9E0-4B34-825C-FE78CE4E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32F34-A5E0-4C59-81B1-30C4E473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FBC6A-C31E-46EE-B48F-17210864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D3E62-E9EC-4425-85C5-FF654F8C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65981-F630-4B12-A44B-8378A444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FE5C0-C3F7-4B12-A274-BB6C6CFF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E42CC-9CBD-42BB-81D1-D844EF20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B2984-A46F-4872-BDBB-AEEC0CA0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4D9-7BB7-4FFC-9AED-76DD564B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85362-34AA-4699-9C10-C9D3749D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07652-2C81-420F-BF09-00E6AFAB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C992A-1512-4C7A-A4DE-F92DAB11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B2E37-C686-4C1B-9668-6860842E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613F3-2329-4C43-A60A-67C909DB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45030-54F0-4C3C-AB08-726BFE0B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AC193-F8BE-4618-A342-30C91C99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1227A-75C2-40DF-B730-6AD5FD89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A694C-03D8-4998-8594-A601771F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F9B64-5AB0-4DC5-89A3-37F93930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3AB-84BC-49D2-9CE1-01FA68EF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6E0CA-A6AD-4291-93B7-27508444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FAE83-571F-4AA2-AC5E-D5C06D34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C3D9C-FC56-40BE-B31A-A28DBC61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D2865-BFBC-4863-BA49-3A1683D1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585DA-ECBC-484B-BD3B-47FFFC3E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023F9-1864-4F89-A10F-3AA2AA9E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28ED9-6A68-45B2-9069-03CBDF9F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4B39D-41AB-45CC-AFE6-41DE51D6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4E9CA-1C9F-405C-982F-4B8E6C6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FC58F-7167-40DA-81E1-29447D62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9779-C678-4310-9BFF-51842593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A0FF8-1A49-4DFA-941B-885D6E00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5AF84-F250-4CA6-A2A5-B0C7A0EE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E0AAD-FF3E-41A7-A744-B67942F4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A1EC6-7FF1-4CF5-8EFC-0BDBF016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61DB1-1889-4974-93B9-5C4B50F7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AD1E1-A811-4B15-B2E2-D9C828A1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2600F-C9E1-47E2-8734-47D2ED2F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D160C-9455-4800-A9B4-6449DBB5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D9A25-FE7F-4B0E-9657-2290AD2E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46C33-7198-4B2F-8DD5-A2D476A3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4511-C714-4405-8FBB-CBDF56F5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091EB-D37C-4903-BE41-FABD634F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8B953-ADC0-4224-B527-24A5FEE7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8E972-5D9B-4540-8227-581E84CF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BFD16-DADC-4B63-9675-76EA1A2D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C09BB-6B60-4230-ACB2-8D670E09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1B24-A504-4438-AEC0-AF33C453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7B34-B6B9-4FB8-807C-1FB8E849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A9F8-E523-43BE-AF95-8BB58A84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F0C7-B411-4A00-99B2-C8F1B049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813A-7342-4249-B32F-D7BAC9F9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7B9-7FAC-4D3C-94FD-BD0B7CBC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B4E1-D909-43A4-94C0-C8529376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6EE8-76DB-4E0B-9A2D-28ED017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4D60-4E92-4052-BFC3-0F57130E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33E7-0932-4519-B30C-D1AE4E0D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8805-A747-4D04-B270-A88AAEE7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3A15-12F0-446C-BC07-885C07EB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3475-665F-4F60-B2E1-5EC74491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574B5-2512-4FFE-A3C9-5F3B638F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2A1D2-B4BA-4673-ABA8-47270ECB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6600-9CC8-4046-A7C9-AE76F6A9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EEA-D874-47FC-810A-F5FA7AE0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B1E7-5A05-43CD-A261-014E02E8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12D3C-4858-48DF-A13A-DFCAD860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794E-0DBA-4EE1-AC9E-A2AC07C8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83944-0AC4-4A32-B212-F1AD583C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5ED33-C79D-4F13-B128-65804A82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3548A-3FF1-49DD-8BCC-0BD495C4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CB4B-B5C0-479D-ABD5-7CF53778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A6DCD-FC45-4B47-B6F9-B5FF3CB8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8ACDC-7ECF-4266-A4D5-DE8EACF3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AFBE-E3F1-4114-AF23-AE58F228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C96-C36C-473F-817E-406D9BE4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3DE68-6340-4418-9941-FFBDBBA8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1423-3440-4074-A335-B05C8282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27E1-449F-455D-AB3B-92ACE696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8D20-89E5-4333-8F08-298E8DA5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F9EAD-03E2-414E-AFC0-0033944D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D8AD6-0737-49BE-940D-6C7BBEC4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0CD6F-6B34-4E15-8B87-33608332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A5328-40E2-40AB-A663-F8494F69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68AD9-D42A-45D8-B496-764D9FB8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59C55-CC07-41BA-A6CC-DF0D167A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977-DFBB-45A0-9F7C-1FE8581F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78B64-E854-4D52-A7D2-F88488BD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6A8BD-EB89-4462-9BE3-F67D98CE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C5154-5A95-4FBE-A8D0-CDEBB7E9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A1D85-BF03-4EF8-A6F3-B9D5BC74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52035-EB63-45E0-B2F6-368855B8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B40B1-A583-4833-A94E-A15E0CB2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0A1EB-DD25-4227-8CE3-90E68D9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0D25C-4047-422C-AB4F-78675496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298C0-3836-466E-864E-6B4E7D6E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30F7B-6E14-449E-8F52-C4FF2281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C60-2570-43FC-A925-E2590514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A7A76-506D-4C86-8DF6-8FCE9A14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FE816-FA61-4968-AF8B-317E40CF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47D67-6B0B-4477-B88C-2E39FAA5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EC827-0906-4CFB-BCFE-43FBBBDB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9F76A-3D3D-430E-8581-3F3CE003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EA9F7-D69A-4F97-BC88-DBAFF256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E6F91-1BBD-4CBD-8540-8E2C16B2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1D537-C230-4C1A-9D21-FC4FDFEC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7F738-811D-4117-8626-959CF432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4FE2C-4779-4927-B655-4BFE5835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E8B-BD9E-45EE-9842-15BB2AD4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82F07-9DA5-4656-89C2-CBDDE541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112F8-0D83-421B-B833-CD480DD2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23D76-0801-485B-BC71-DCFA54FE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9D73E-5ED0-4EBE-A998-6183D4E5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B1E16-8041-4778-8A8B-D7D2EE04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21576-C001-4BB7-A450-1D981EB3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AC70C-4531-4C0E-A9CF-51EB51B9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A0277-9617-4999-BE42-81FC8C09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5B289-3F96-4F6A-9E4F-678544FF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397B9-C7BF-4775-A684-E4C76B92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80C-83DE-4D46-ACCB-893F519F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70145-53B1-4B05-984D-004F3EE4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52D7A-E099-4DD5-9025-F8E0D57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CC1A3-8129-426C-881B-F0D32D40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63AF0-0962-4CA3-9385-DD066CF6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5ED4D-64B0-402C-B507-98A96493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D9BE0-6762-463E-8285-7B56CED4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CA428-408B-4C93-B34E-7D677807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CFF98-7982-458F-932C-1821FCBB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4E111-F314-4D21-BCC2-D33DA51A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28ED2-73A9-48FD-8212-B723FD58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170-C628-445B-9E36-E638448B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BE089-0BF4-425E-B663-F4A02575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373A5-E09C-420D-A634-DEA75006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26667-0249-4C03-9048-14CC39D8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204DD-051C-42E0-9EB3-FB66AD3C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64BF3-6800-490E-A240-C52FFE49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EA26E-D4FC-41A8-9A8F-BF794FAD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5442F-8B66-4708-A09D-7768A174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CF06A-532E-46F7-9B1E-B48EECF3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A5F88-96E4-4210-A397-EB6CAD33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BFD82-1BF0-4504-89DD-8B0D8D3C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A729-D934-4291-A078-BA3BAD9A00A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avokutni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Pravokutnik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Dijagram toka: Postupak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Dijagram toka: Postupak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1C85-0338-40D6-A3DB-2E30FBA723C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7BA9-B01F-410F-AC15-502859DB28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AF13-CA91-42CA-B97A-F76FEBD87BE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C2D5-6DCF-4961-AE2F-844227D3F3E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C692-A6BC-443B-BBE0-8649D8F43A4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avokutni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avokutni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8C7E-9D9F-4B52-80D8-83F781334D2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B077-B668-4F04-BC20-BB814CD9747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A5B2-394A-433C-B91C-85135860285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BC8C-857C-40AE-B349-733D6970BDA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avokutni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avokutni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D324-4B32-41B1-B268-8BA5FEBC13F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6536-48F5-48C5-9374-7E20A9D7285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ETVARANJE MODELA PODATAKA U RELA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Vježb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Zadana je normalizirana relacij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UčesnikUtrke (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Gill Sans MT"/>
              </a:rPr>
              <a:t>ŠifraUtrke, OlimpijskiBroj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, NazivUtrke, ImePrezimeTrkača, ŠifraDržave, NazivDržave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i slijedeće funkcionalne zavisnosti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Utrke, OlimpijskiBroj -&gt; NazivUtrke, ImePrezimeTrkača, ŠifraDržave, NazivDržav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Utrke -&gt;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Utrk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limpijskiBroj -&gt;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ImePrezimeTrkača, ŠifraDržave, NazivDržav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Države -&gt;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Držav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ormalizirati zadanu relaciju do 3NF (Obavezno objasniti postupak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395360" y="1714680"/>
            <a:ext cx="6772320" cy="41828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TekstniOkvir 6"/>
          <p:cNvSpPr/>
          <p:nvPr/>
        </p:nvSpPr>
        <p:spPr>
          <a:xfrm>
            <a:off x="1519560" y="15001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n je model objekti-vez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kstniOkvir 7"/>
          <p:cNvSpPr/>
          <p:nvPr/>
        </p:nvSpPr>
        <p:spPr>
          <a:xfrm>
            <a:off x="1749960" y="592920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vorite prikazani model objekti-veze u relacijski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TekstniOkvir 6"/>
          <p:cNvSpPr/>
          <p:nvPr/>
        </p:nvSpPr>
        <p:spPr>
          <a:xfrm>
            <a:off x="1519560" y="15001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n je model objekti-vez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kstniOkvir 7"/>
          <p:cNvSpPr/>
          <p:nvPr/>
        </p:nvSpPr>
        <p:spPr>
          <a:xfrm>
            <a:off x="1749960" y="592920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vorite prikazani model objekti-veze u relacijski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1857240" y="1785960"/>
            <a:ext cx="69548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TekstniOkvir 6"/>
          <p:cNvSpPr/>
          <p:nvPr/>
        </p:nvSpPr>
        <p:spPr>
          <a:xfrm>
            <a:off x="1519560" y="15001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n je model objekti-vez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kstniOkvir 7"/>
          <p:cNvSpPr/>
          <p:nvPr/>
        </p:nvSpPr>
        <p:spPr>
          <a:xfrm>
            <a:off x="1749960" y="592920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vorite prikazani model objekti-veze u relacijski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7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9292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TekstniOkvir 6"/>
          <p:cNvSpPr/>
          <p:nvPr/>
        </p:nvSpPr>
        <p:spPr>
          <a:xfrm>
            <a:off x="1519560" y="15001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n je model objekti-vez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kstniOkvir 7"/>
          <p:cNvSpPr/>
          <p:nvPr/>
        </p:nvSpPr>
        <p:spPr>
          <a:xfrm>
            <a:off x="1749960" y="592920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vorite prikazani model objekti-veze u relacijski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1500120" y="2000160"/>
            <a:ext cx="6854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ORMALIZA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Vježb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adana je relacij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Edukacija (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Gill Sans MT"/>
              </a:rPr>
              <a:t>Đak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, Škola,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Gill Sans MT"/>
              </a:rPr>
              <a:t>Učitelj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retpostavimo da postoje slijedeće funkcionalne zavisnosti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Đak, Učitelj --&gt; Ško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čitelj --&gt; Ško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spitati u kojoj je normalnoj formi zadana relacija (odnosno u kojima nije), te izvršiti potrebnu normalizaciju da se relacija prevede u 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3NF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Zadana je slijedeća normalizirana relaci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KOKTEL (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Gill Sans MT"/>
              </a:rPr>
              <a:t>KoktelID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, NazivKoktela, NačinPripreme, TipČašeID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NazivTipaČaše,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Gill Sans MT"/>
              </a:rPr>
              <a:t>RedBrSastojka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, SastojakID, NazivSastojka, Količina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JedMjereID, NazivJedMjer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Pretpostavimo da postoje slijedeće funkcionalne zavisnosti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KoktelID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Koktela, NačinPripreme, TipČašeID, NazivTipaČaš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TipČašeID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TipaČaš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KoktelID,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Gill Sans MT"/>
              </a:rPr>
              <a:t>RedBrSastoj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 -&gt; SastojakID, NazivSastojka, Količina, JedMjere, 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JedMj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stojakID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Sastojka, JedMjereID, NazivJedMj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JedMjereID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JedMj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 kojoj je normalnoj formi zadana relacija? Normalizirajte zadanu relaciju postupno do 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BCNF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Zadana je normalizirana relaci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RasporedVozila (ŠifraGaraže, RegBroj, NazivGaraže, GaražnoMesto, ŠifraTipaVozila, NazivTipaVozila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i slijedeće funkcionalne zavisnosti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Garaže, RegBroj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 NazivGaraže, GaražnoMesto, ŠifraTipaVozila,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TipaVozil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Garaže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Garaž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RegBroj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ŠifraTipaVozila, NazivTipaVozil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TipaVozila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TipaVozil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TipaVozila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ŠifraTipaVozil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ormalizirajte zadanu relaciju direktnom primjenom BCNF  i objasnite postupak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47:19Z</dcterms:created>
  <dc:creator>Marasović Renco</dc:creator>
  <dc:description/>
  <dc:language>en-US</dc:language>
  <cp:lastModifiedBy>Marasović Renco</cp:lastModifiedBy>
  <dcterms:modified xsi:type="dcterms:W3CDTF">2009-04-09T12:53:13Z</dcterms:modified>
  <cp:revision>23</cp:revision>
  <dc:subject/>
  <dc:title>MODELIRANJE PODATAKA</dc:title>
</cp:coreProperties>
</file>