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431-E258-4C8E-8643-738A83AE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392-67A6-4489-9515-5A3E95F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ABE56-E8E0-475A-886D-DCC1C504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C7A35-EE33-46C5-919C-A124DA47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38B43-7415-4875-84EF-22BBB8D7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96B97-B70D-427C-8895-9C52C9EF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D5D2C-4C2E-48C9-8426-1A755BF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A2E05-DE7F-4310-9F73-E6D973FE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C9DAD-04F9-4C7D-920B-889FC61A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51CB0-34BF-4A3E-A703-00C4174D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B48AF-77F9-4073-9685-634C6C8F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2380F-D6CA-4710-93AD-43D4FEBE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C91-9822-447C-AFBF-7C45FE8C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B3C52-C8F5-41F1-952B-51E59D06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F0809-9EE9-4F65-AA04-55475156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48407-6C86-485C-B7A0-9816464C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8A95C-31A1-4266-A8B3-BB931B3D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E27D7-128F-41B0-ABB1-C00778DB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837E1-DAFD-4F2E-BC37-CD3133E8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7F514-5C62-4911-BBB5-1081CB55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780E8-C5E3-462E-881E-48265ED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AF11B-2278-45C8-87B5-5CD07CF0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B3C84-7A53-423C-8047-B306B54E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2C3-3F2E-40E9-9F35-B56B80C8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D1241-3611-4421-B31B-860D7483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07706-6C96-401E-8138-82DBDC6B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88AB5-BCE9-4879-81D8-F3354606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69772-1B8A-40C1-B626-0140A8C0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CFC00-8BFC-47C5-862C-990FEB04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9EF7B-EDE0-420D-B9DD-9A2E0F3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E0A27-A3D1-4F4E-AA2A-9DDCF421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6959D-4997-4BBE-8547-5C0CB00B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E7663-68E3-468A-9FEB-32DC69A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370BF-1001-4C75-8DF8-7FDB05CF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83ED-AFAC-40D5-9AC4-E84969F5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B348C-EBF4-4F2C-9356-553FD1EE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4DAFB-7BF5-45D2-B263-9A5B4CCE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49853-83FE-4BB2-BB7C-15A6D7A7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F0E6D-26A1-495B-AD88-F4B33ABF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F792B-881F-4361-8F8F-70F1415E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96E5A-A92D-4F9B-920F-E39543E7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DAD7F-76FE-44C2-BC38-19A49DD0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EA655-4728-40B2-AA8C-D1B65D4B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41452-7B6B-484E-8767-992BD43F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AE88D-4180-4F8C-A112-8F3F1F5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83F2-E104-48A4-A3CF-F2C8CF9E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A9C72-C639-4589-9ED4-6CD84691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F3729-5C1B-44F9-A394-E7A7B1E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C412D-2A15-4A70-B4C6-A8436555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7AA09-F200-4B5E-A083-26F1833F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7109F-B2B1-4BF4-81DC-B7C0776F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D145-1D41-42AF-A7A9-F72EEDD4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3DDB-3132-4729-B7FB-CC21DC06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C647-D8BE-4FEA-A6C8-757CD43A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4AA2-880F-486C-9B60-74CABAF0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3774-578A-4AE3-8F61-A59C0A54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BA2-FB4D-4DC9-A93C-6BFC240F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B544-BDB6-4B78-B891-F6F5B3C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8AC8-237A-4703-B7B1-C198FA7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A4D8-74F6-43C3-B8AA-3B6CDDCE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E62-58B7-4137-A8D8-607A9581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1A1-2864-47AD-97CF-EAEE3A73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189B7-4803-41AC-BA44-C41026DE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BC14-3113-46E7-8415-DCD80D1A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8B03-3243-438A-BB78-82E3963F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DE0EE-70D3-4A24-A67B-9F018D0B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4645-4414-4653-ACFD-B49E46F2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5E8-723F-481F-B84F-151675E0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EF71-13A5-4461-8E90-83ACC3B7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9D63-B575-49D2-8CD1-DE4AF525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8169-4BBB-4AC6-B271-69FA8A2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7BE2-325C-47D6-A82A-CA23FDF4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9889-733B-472B-8A89-6E7D36CA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2C35-B9EE-4309-B864-22115E54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9F6B-2EDE-4C93-B7D1-9B820AFD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6AF7-EFD2-439F-8F60-55A9EF28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F5161-C397-47AE-BC12-3F697FC8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7AEC-13CC-42BB-B668-269F9D19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130-941E-4799-87C2-51DABA3E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2B81-B7CB-467E-86CF-C51A6360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6911C-81E1-4181-AE61-0E3FE78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06BD-7709-47FB-AC0E-47CE4335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2E7A2-761B-4F3C-91D5-E2A7DCA7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3358-12D2-48F7-BE58-57408B6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004B-282D-40CB-B9F3-F9A2FA8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FC631-57DB-4B94-902F-2140F726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727A3-71DD-43D9-96EE-CD328B4F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87B36-7C5B-40E6-8AFD-89F4E3D3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8C0AD-EE16-4077-8C77-196EF61C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B9E-CCA2-4077-AC24-088B6389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105E-DB07-4AE4-B216-47F3F245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2C45-6BD3-4B2E-882B-0817F320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FA94F-BB40-4B6E-9162-5AEB4712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D909-7405-4B83-BCBF-2652FCE4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08A17-60FD-40AF-A280-5AFED54A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4DA0F-4B83-4780-BE14-429DED99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050A9-003F-4A6B-B538-DCDA0692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A0374-CDA4-4B62-9C19-D82AA853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8D8CF-B155-45DC-B190-ED4ABF51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982B-58BF-45BF-B17B-EAD5D5B6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387-61CF-4B63-8CC6-74C9FEC2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1C4B-AFCC-4ED8-B5E6-92BD1D07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C862-3ABF-4D95-BC18-CF23226D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5E084-DEBA-4DDC-8090-3569B65B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F56E7-D102-4FC3-9FA5-EF3295EB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5194F-B375-4483-BDAE-DA45B8CC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1EF18-E868-4671-BA98-91F8F9A7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2585-7E0F-4D85-885D-68D725C0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A6E39-EB74-4D25-A87D-B7717D78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560C9-19E9-47B5-953D-F0D07375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F5B8A-D672-489D-8475-49EFFC88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706-308B-49D1-AE73-370DFE70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B352-13C4-43F1-81EC-AA203CD1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F203A-FE2A-484B-93F1-788CF1A8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CF9FE-D8A0-4F93-8C01-9C452770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D8123-EE62-4726-A685-852028F5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59C4-65A9-4BB9-86B2-A8CF0E68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AA15-18C7-4A75-AC42-1D564B80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0CF2B-4E31-43FF-A56E-FEAAFB76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E0C35-D204-448B-AC5C-C8E121A0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77977-EB8E-4BEC-80B8-604D55D0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EC641-AE75-4F61-A9E0-B5F1E8AB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0A35-A86C-4B1A-9DB0-393A3DC7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BE0E1-6069-4B04-B9D9-5827E3CF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D97CE-83EF-438C-9BE9-58542D13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93AC9-4C78-4FA8-9173-04C9BFD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D732-7EE5-4253-A816-CA14F88A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DB2EE-CBF1-4C17-B209-84F1B980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ACCCF-206C-466D-BA6B-28B91CB0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01D87-1F36-4FF2-8660-86E3B4E8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BD16F-64F3-4818-9695-577D37C3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60C5-3C24-4252-8935-8758316B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2C057-1834-4B62-A0A9-BAE2AD1B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02A-D0BD-4247-8E1C-26A0672A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C1D51-EA90-49B9-851C-7DC1D453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D783B-CBFE-482C-A65F-E6493A61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45700-D80E-4D13-8B48-4698B199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0CB9A-0272-46A7-85E5-F2564D68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AF6DE-6769-4A4E-984B-70194A80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FE0FE-5D86-405A-A3F9-AFAE5976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B1398-4579-4B29-A949-3BA1BD93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D9D23-58A2-4649-ACC7-9AE464EB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72CC9-2057-42E9-A566-64C2B082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FA796-524C-4CB1-AF4D-1B51F6D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8939-FBFC-4AE8-8C7F-13E6073D76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avokutnik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Pravokutnik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Dijagram toka: Postupak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Dijagram toka: Postupak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A0B9-805C-42AA-B581-CFCD1ED9186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D1D-2705-4624-BAE1-E756066272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AB7B-8756-4C4C-8690-EECF263D771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8618-5EA0-4518-9A1A-1D2E811AF78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D91C-DAFB-4731-8536-B1C1991F7F5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avokutni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avokutni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B799-4840-4652-AC83-2E6E2A050A3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FA5A-AD29-4FD1-BE88-EFA42CD60D6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A4F4-F936-42C2-B5B4-408FB1B2C19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rsten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Prsten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avokutni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avokutni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FA40-1FC1-4F33-9F78-69F22F40764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avokutni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avokutni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64CF-514B-498A-B774-EBFB261AAF5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46EA-BEAD-4A98-8F6E-D091FABF27B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ETVARANJE MODELA PODATAKA U RELACI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Vježb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Zadana je normalizirana relacij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UčesnikUtrke (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ŠifraUtrke, OlimpijskiBroj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, NazivUtrke, ImePrezimeTrkača, ŠifraDržave, NazivDržave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i slijedeće funkcionalne zavisnosti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Utrke, OlimpijskiBroj -&gt; NazivUtrke, ImePrezimeTrkača, ŠifraDržave, NazivDržav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Utrke -&gt;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Utrk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limpijskiBroj -&gt;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ImePrezimeTrkača, ŠifraDržave, NazivDržav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Države -&gt;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Držav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ormalizirati zadanu relaciju do 3NF (Obavezno objasniti postupak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395360" y="1714680"/>
            <a:ext cx="6772320" cy="41828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5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1857240" y="1785960"/>
            <a:ext cx="69548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7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9292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3" name="TekstniOkvir 6"/>
          <p:cNvSpPr/>
          <p:nvPr/>
        </p:nvSpPr>
        <p:spPr>
          <a:xfrm>
            <a:off x="1519560" y="15001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dan je model objekti-vez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kstniOkvir 7"/>
          <p:cNvSpPr/>
          <p:nvPr/>
        </p:nvSpPr>
        <p:spPr>
          <a:xfrm>
            <a:off x="1749960" y="5929200"/>
            <a:ext cx="60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vorite prikazani model objekti-veze u relacijski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1500120" y="2000160"/>
            <a:ext cx="6854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ORMALIZ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Vježb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Zadana je relacij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Edukacija (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Gill Sans MT"/>
              </a:rPr>
              <a:t>Đak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, Škola,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Gill Sans MT"/>
              </a:rPr>
              <a:t>Učitelj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Pretpostavimo da postoje slijedeće funkcionalne zavisnosti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Đak, Učitelj --&gt; Šk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čitelj --&gt; Ško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spitati u kojoj je normalnoj formi zadana relacija (odnosno u kojima nije), te izvršiti potrebnu normalizaciju da se relacija prevede u </a:t>
            </a: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3NF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Zadana je slijedeća normalizirana relaci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KOKTEL (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KoktelID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, NazivKoktela, NačinPripreme, TipČašeID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NazivTipaČaše,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RedBrSastojka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, SastojakID, NazivSastojka, Količina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JedMjereID, NazivJedMjer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Pretpostavimo da postoje slijedeće funkcionalne zavisnosti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KoktelID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Koktela, NačinPripreme, TipČašeID, NazivTipaČaš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TipČašeID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TipaČaš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KoktelID,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Gill Sans MT"/>
              </a:rPr>
              <a:t>RedBrSastoj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 -&gt; SastojakID, NazivSastojka, Količina, JedMjere, 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JedMj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stojakID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Sastojka, JedMjereID, NazivJedMj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JedMjereID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JedMj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 kojoj je normalnoj formi zadana relacija? Normalizirajte zadanu relaciju postupno do </a:t>
            </a: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BCNF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Zadana je normalizirana relacija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ill Sans MT"/>
              </a:rPr>
              <a:t>RasporedVozila (ŠifraGaraže, RegBroj, NazivGaraže, GaražnoMesto, ŠifraTipaVozila, NazivTipaVozila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i slijedeće funkcionalne zavisnosti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Garaže, RegBroj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 NazivGaraže, GaražnoMesto, ŠifraTipaVozila,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Garaže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Garaž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RegBroj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ŠifraTipaVozila, Naziv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ŠifraTipaVozila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Naziv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azivTipaVozila 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-&gt; ŠifraTipaVozil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Normalizirajte zadanu relaciju direktnom primjenom BCNF  i objasnite postupak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47:19Z</dcterms:created>
  <dc:creator>Marasović Renco</dc:creator>
  <dc:description/>
  <dc:language>en-US</dc:language>
  <cp:lastModifiedBy>Marasović Renco</cp:lastModifiedBy>
  <dcterms:modified xsi:type="dcterms:W3CDTF">2009-04-09T12:53:13Z</dcterms:modified>
  <cp:revision>23</cp:revision>
  <dc:subject/>
  <dc:title>MODELIRANJE PODATAKA</dc:title>
</cp:coreProperties>
</file>