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87B0-4348-48F5-8606-F4073A6EFD37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9C55-ED5F-44AB-946E-03B639D4E888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EAC7-6C56-4E1F-BDAA-35E53B5A40A7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EC1F-2BAB-4ADE-8F3D-4E5EADC4130A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E0A-5219-4D73-B969-E3025CDB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33A-4EFC-400A-A9D4-2A1806B5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F09-46A0-440F-A8FC-82E18242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49F-1FB9-4683-BCC9-7B93433A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90BA-E3A6-4016-93E9-6D1B2C16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6C20-22EE-46D7-9FD8-0F79AF5A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95C3-142D-42B1-B666-98932472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E6A0-9A11-41D4-A321-3409CE09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D495-7DFD-4207-A28B-534DBF05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B911-7900-440F-853A-AE98DAFA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4D14-6EAE-49EA-BC65-D096259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B46-712E-444E-AE92-ABF0A80A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E8B5-4759-426D-9883-87803597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2ABE-AA3B-4198-A96F-E59BD86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2D40-30A3-439C-895B-44D97F5A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1A48-F70F-49DC-8514-C72F80D7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7157-B520-4B18-94D7-136DFA22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645-1E3B-4FF8-8C14-F9A65EBE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639-FEEC-4652-BBFB-705A1D5A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FD7-22B4-47B2-AC6C-2FFD35DB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BCB-35F7-485A-8980-0F257B39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40A-9F99-4504-8F29-CA2D010C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04D-1D36-4A6D-A167-E90447D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441-AF8E-4D86-969A-56BA6E56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JENA RAČUN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904C-70FE-4A74-99F9-C6DEA88D4110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0703-86B9-4188-9C20-D331089085D4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9 PR Elektronički marke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7AAC-7811-4BF4-AF01-911EAA5F0F92}" type="slidenum">
              <a:t>1</a:t>
            </a:fld>
          </a:p>
        </p:txBody>
      </p:sp>
    </p:spTree>
  </p:cSld>
  <p:transition advTm="120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idžba na Internet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 4-6. mj. 2005. potrošeno je više od 2 milijardi dolara na promidžbu putem Internet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4% više nego lani u istom razdoblj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Arial"/>
              </a:rPr>
              <a:t>Večernji list, 02.11.200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0B1-6A14-44D5-BC13-A5B7B5C1E35D}" type="slidenum">
              <a:t>10</a:t>
            </a:fld>
          </a:p>
        </p:txBody>
      </p:sp>
    </p:spTree>
  </p:cSld>
  <p:transition advTm="150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Marketinške funkcij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straživanje tržišt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azvojna politika proizvoda i/ili uslug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olitika  prodaj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romidžba  i javno  oglašavan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2DC-D979-486E-A4AE-6C827C39E46F}" type="slidenum">
              <a:t>11</a:t>
            </a:fld>
          </a:p>
        </p:txBody>
      </p:sp>
    </p:spTree>
  </p:cSld>
  <p:transition advTm="150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514600"/>
            <a:ext cx="7421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72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471-F521-4470-AD2D-3F4D1695ECE5}" type="slidenum">
              <a:t>12</a:t>
            </a:fld>
          </a:p>
        </p:txBody>
      </p:sp>
    </p:spTree>
  </p:cSld>
  <p:transition advTm="150000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straživanje tržišta na Interne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imarno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– obavještavanje o tržištu - pretraživanje Web-a i diskusijskih skupina, pretplata na servise za praćenje određenih sadržaja u diskusijskim skupina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kundarno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- korištenje rezultata do kojih su istraživanjem došle druge organiz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7E4-DE29-412F-AFC1-D62860EE7B1D}" type="slidenum">
              <a:t>13</a:t>
            </a:fld>
          </a:p>
        </p:txBody>
      </p:sp>
    </p:spTree>
  </p:cSld>
  <p:transition advTm="150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zvojna politika proizvoda i/ili usluga predstavlj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iz marketinških aktivnosti usmjerenih na planiranje asortimana proizvodnje i/ili usluga, ispitivanjem postojećih ili potencijalnih kupa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litika prodaje j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nošenje niza odluka vezanih uz izbor načina prodaje, kanala distribucije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27F-8908-47CB-AE15-EC2B704C73E2}" type="slidenum">
              <a:t>14</a:t>
            </a:fld>
          </a:p>
        </p:txBody>
      </p:sp>
    </p:spTree>
  </p:cSld>
  <p:transition advTm="150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midžba i javno oglašavanje na Internetu je efikasno j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net predstavlja interaktivni medij koji omogućuje masovno i pojedinačno priopćavanj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adicionalni pristup oglašavanja  “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jedan-prema-mnog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”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netski model omogućuje i “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jedan-prema-jeda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94B-3553-4B35-A3B7-4654AA3C2F87}" type="slidenum">
              <a:t>15</a:t>
            </a:fld>
          </a:p>
        </p:txBody>
      </p:sp>
    </p:spTree>
  </p:cSld>
  <p:transition advTm="150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blici oglašavanja na Internet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avljaju se k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banne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”, pravokutnici (prozori) u kojim se nalaze tekstovi promidžbenih poruka. Obično se pojavljuje se na vrhu ili u dnu ekr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butto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” – stalni “banner”, stalno prisutni, treba ih samo aktivir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op under a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” – pravokutnici koji sadržavaju tekstove promidžbenih poruka, a pojavljuje se tek kada korisnik zatvori aktivni pro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op-up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” – prozori koji se pojavljuje uvijek u vrhu učitane stra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C11-CB04-42F2-88C3-D286E4D7B225}" type="slidenum">
              <a:t>16</a:t>
            </a:fld>
          </a:p>
        </p:txBody>
      </p:sp>
    </p:spTree>
  </p:cSld>
  <p:transition advTm="150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blici oglašavanja na Internet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e multimedijske promidžbene poruk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las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HTM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a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udio-video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e i poruka koja zauzimaju cijele Web stranice, a pojavljuje sa kada korisnici prelazi s jednih na druge Web stranice i same nestaje kada prođe vrijeme u kome se može pročitati tek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E0C-BC6F-4316-A64D-ACAD4B1C8849}" type="slidenum">
              <a:t>17</a:t>
            </a:fld>
          </a:p>
        </p:txBody>
      </p:sp>
    </p:spTree>
  </p:cSld>
  <p:transition advTm="150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blici oglašavanja na Internet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On-line promocije, organizirane kao nagradne igre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Izravna elektronička pošta,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nformacije upućene skupini zainteresiranih za proizvode i usluge. Tipično niski troškovi po poruci(90 lipa do 3 ovisno kvaliteti liste). Od takvih poruka se očekuje se 3-10% odgo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2001. – poslano je 44 milijarde komercijalnih poru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ma procjenama 2005. se očekuje 268 milijar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oblem predstavljaju “spam-ov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55C-D939-4EA0-9085-9312EAD4D4F0}" type="slidenum">
              <a:t>18</a:t>
            </a:fld>
          </a:p>
        </p:txBody>
      </p:sp>
    </p:spTree>
  </p:cSld>
  <p:transition advTm="150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Times New Roman"/>
              </a:rPr>
              <a:t>Problem sigurnosti, zloupotrebe, krađ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Aspekti sigurnosti treba promatrati kro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Autorizaciju, 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igurnost podataka i transak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Osnovni pojmovi sigu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Dokazivanje autentičnos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Integrit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ouzdano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riptiran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igurnosni  zid (engl fire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7EE-69DC-4830-ABCE-83E76C40B294}" type="slidenum">
              <a:t>19</a:t>
            </a:fld>
          </a:p>
        </p:txBody>
      </p:sp>
    </p:spTree>
  </p:cSld>
  <p:transition advTm="150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36440" y="1599840"/>
            <a:ext cx="7497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ktronički market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nosti, nedostac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ndov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kcij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lici oglašavanja na Interne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47B-2FBA-42AD-AFC5-D88CF7361A77}" type="slidenum">
              <a:t>2</a:t>
            </a:fld>
          </a:p>
        </p:txBody>
      </p:sp>
    </p:spTree>
  </p:cSld>
  <p:transition advTm="150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KRIPTIRANJE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(šifriranje) je izmjena informacija u oblike koje mogu pročitati samo oni koji imaju ključeve dektriptir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ŠIFRIRANJE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je proces transformacije podataka u oblik nerazumljiv svima osim osobama koje međusobno komuniciraj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DEŠIFRIRANJE 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je obratan proces, proces transformacije šifriranog teksta u korisniku prepoznatljiv obl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576-6FEF-4DE3-8396-C8811BD9F146}" type="slidenum">
              <a:t>20</a:t>
            </a:fld>
          </a:p>
        </p:txBody>
      </p:sp>
    </p:spTree>
  </p:cSld>
  <p:transition advTm="150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U plaćanju se koristi ključ, koji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Jako veliki broj izražen u binarnom obliku, 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iz  alfanumeričkih znakova koji se koristi kod svih modernijih metoda kriptografskih algoritama pomoću kojih se određuju izlazi iz funkcija kriptiranja i dekriptir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Kriptiranje s tajnim ključem je simetrično kripztiranje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Kriptiranje s javnim ključem asimetrično. Ovo se koristi u digitalnom potpi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662-8D4C-48C0-B858-FD0335BB1064}" type="slidenum">
              <a:t>21</a:t>
            </a:fld>
          </a:p>
        </p:txBody>
      </p:sp>
    </p:spTree>
  </p:cSld>
  <p:transition advTm="150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22440" y="2190600"/>
            <a:ext cx="3889440" cy="1132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06640" y="4091040"/>
            <a:ext cx="3889440" cy="12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6A3-EFE7-4453-B7FE-65BCA1249CBA}" type="slidenum">
              <a:t>22</a:t>
            </a:fld>
          </a:p>
        </p:txBody>
      </p:sp>
    </p:spTree>
  </p:cSld>
  <p:transition advTm="150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Da bi se moglo obavljati elektroničko plaćanje potrebno se koristiti digitalnim potpis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Digitalni potpis služi za provjeru identiteta pošiljatelja poruke i osiguranje da se poruka ne mijenja nakon potpisivanja. Digitalni potpis ima postupak u kome sudjeluj:= asimetrični ključ + algorit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Korištenjem javno poznatog algoritma izračuna se sažetak poruke (engl. message digest), i sažetak kriptira tajnim ključem pošiljatelja i zatim dodaje poruci kao jedinstveni potpis. Cijela se poruka kriptira tajnim ključem pošiljatelja, a primatelj koristi javni ključ pomoću koga dektirptira poruku. Pomoću algoritma generira se sažetak poruke koji se uspoređuje s digitalnim potpisom, prethodno dekriptiranim javnim ključ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C78-5AF6-450E-AAA1-CF9297C9BCB1}" type="slidenum">
              <a:t>23</a:t>
            </a:fld>
          </a:p>
        </p:txBody>
      </p:sp>
    </p:spTree>
  </p:cSld>
  <p:transition advTm="150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Stoga digitalnog potpis ima slijedeće karakterist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e može se krivotvori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Autentičan je (svojstven jednoj osob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e može se ponovno koristi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otpisani dokument se ne može mijenjati i potpis poric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Nedostat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Troškov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otrebna je zakonska regulativa za njegovu primj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ECF-ACAC-4884-9F38-C4BC77B68768}" type="slidenum">
              <a:t>24</a:t>
            </a:fld>
          </a:p>
        </p:txBody>
      </p:sp>
    </p:spTree>
  </p:cSld>
  <p:transition advTm="150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vjera vjerodostojnosti digitalnog potpi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vezuje se javni ključ sa vlasnikom i u tu svrhu izdaju CERTIFIKATI (potvrda), a prije izdavanja certifikat moraju biti generirani i javni i tajni klju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ertifikat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ektronički dokument koji identificira pojedinca, računalo ili neki drugi entitet koji posjeduje javni ključ, a zadatak mu je povezati ključeve s njihovim vlasnik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zdaju ih ovlaštene institu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C83-5621-4E69-BAAC-8CDF7650E202}" type="slidenum">
              <a:t>25</a:t>
            </a:fld>
          </a:p>
        </p:txBody>
      </p:sp>
    </p:spTree>
  </p:cSld>
  <p:transition advTm="150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Arial"/>
              </a:rPr>
              <a:t>U plaćanjima se kori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Protokoli koji predstavljaju niz pravila i procedura koje treba poštivati i prove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Cilj protokola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Autentifikaci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Sigurnost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Privat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AEC-BA6F-4BF9-872D-B5E0E041868A}" type="slidenum">
              <a:t>26</a:t>
            </a:fld>
          </a:p>
        </p:txBody>
      </p:sp>
    </p:spTree>
  </p:cSld>
  <p:transition advTm="150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ktroničko plaćanje –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imjena SET protokol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68480" y="2066760"/>
            <a:ext cx="5207040" cy="3484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69D-A095-4336-B990-C09ABACB300C}" type="slidenum">
              <a:t>27</a:t>
            </a:fld>
          </a:p>
        </p:txBody>
      </p:sp>
    </p:spTree>
  </p:cSld>
  <p:transition advTm="150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Elektroničko plaćanje predstavlja financijsku razmjenu koja se odvija između kupca i prodavača u sustavu elektroničkog poslov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U elektroničkom plaćanju koriste 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Digitalni financijski instrum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Gotovi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Ček 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Kreditna kar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Zajednički element im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Elektronički žeton (engl. token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Žetoni u stvarnom vremen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Žetoni koji se naplaćuju naknad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B5E-7E27-4948-A6B4-F9592B30BE53}" type="slidenum">
              <a:t>28</a:t>
            </a:fld>
          </a:p>
        </p:txBody>
      </p:sp>
    </p:spTree>
  </p:cSld>
  <p:transition advTm="150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Elektronička gotovina je popularna u svojstvu elektroničkog plaćanja j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Ima monetarnu vrijedno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Se može pohranjivati i pretraživat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Mora biti sigurna, korištenjem kriptiranja javnim ključem i digitalnog potp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Primjer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eCas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DigiC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947-FAFC-4936-902F-02C086EA4F21}" type="slidenum">
              <a:t>29</a:t>
            </a:fld>
          </a:p>
        </p:txBody>
      </p:sp>
    </p:spTree>
  </p:cSld>
  <p:transition advTm="150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Elektronički marketing</a:t>
            </a: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 (E-marketing, telemarketing) je način ostvarivanja marketinških aktivnosti tvrtke uz intenzivnu primjenu </a:t>
            </a:r>
            <a:r>
              <a:rPr b="0" lang="hr-HR" sz="3200" spc="-1" strike="noStrike" u="sng">
                <a:solidFill>
                  <a:srgbClr val="000066"/>
                </a:solidFill>
                <a:uFillTx/>
                <a:latin typeface="Arial"/>
              </a:rPr>
              <a:t>informacijske i komunikacijske (internetske) tehnologije</a:t>
            </a: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</a:rPr>
              <a:t>Internetski marketing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korištenje Interneta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anas: elektronički marketing = internetski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4F2-34F0-47B5-B916-27D8EED6CCFE}" type="slidenum">
              <a:t>3</a:t>
            </a:fld>
          </a:p>
        </p:txBody>
      </p:sp>
    </p:spTree>
  </p:cSld>
  <p:transition advTm="150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Elektronički ček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oriste se po uzoru na tradicionalne čekov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orisnike registriraju odgovarajuće institu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ada se koriste primjenjuje se digitalni potpis i digitalni certifikati, koje korisnici mogu primati telefonom ili Interne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rimjer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NetChec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Secure P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F77-2CFF-4B30-B4F9-68E1AF78D8BE}" type="slidenum">
              <a:t>30</a:t>
            </a:fld>
          </a:p>
        </p:txBody>
      </p:sp>
    </p:spTree>
  </p:cSld>
  <p:transition advTm="150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ktroničko plaćan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n-line sustavi s kreditnim karticama odvijaju se tako da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laćanje izvodi kriptiranim podacima o kreditnoj kartici uz pomoć Web preglednika,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laćanje kreditnom karticom odvija uz pomoć treće st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rimj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First Virtual Holding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Smart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SmartCard ima mikročip (pametnu karticu) programibilna je i ima svoju memorija i proces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Osnovna ide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Jednom karticom zamijeniti sve kar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MasterCar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Mondex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Visa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martcard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867280" y="4221000"/>
            <a:ext cx="2695680" cy="164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318-3E2E-4B15-A8E1-9FCBD3C535EC}" type="slidenum">
              <a:t>31</a:t>
            </a:fld>
          </a:p>
        </p:txBody>
      </p:sp>
    </p:spTree>
  </p:cSld>
  <p:transition advTm="150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sljedice el. plaćanj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GREB, 5. trav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bog sumnje u pranje novca, lani je u hrvatskim bankama blokirano više od 60 milijuna kuna, a još je 50 slučajeva, vrijednih više od pola milijarde kuna, prijavljeno kao sumnjivo, podaci su to Ureda za sprječavanje pranja nov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ed je lani obrađivao sumnjive, nelogične i ekonomski neopravdane transakcije vrijedne više od 1,4 milijarde kuna. Državnom odvjetništvu, MUP-u, USKOK-u i nadzornim službama Ministarstva financija uputio je potom obavijesti o 50 slučajeva u kojima je sumnjivim transakcijama obuhvaćeno više od pola milijarde k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665-D845-41E1-A64D-BC2A23DD720E}" type="slidenum">
              <a:t>32</a:t>
            </a:fld>
          </a:p>
        </p:txBody>
      </p:sp>
    </p:spTree>
  </p:cSld>
  <p:transition advTm="150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upno je od 1999. Ured posumnjao u 120 slučajeva pranja novca i više od 1,3 milijarde »sumnjivih« kuna. U dva navrata Ured je lani bankama naložio odgodu obavljanja sumnjivih transakcija na 72 sata. O tome je obavijestio Državno odvjetništvo na čiji su prijedlog sudovi blokirali više od 60 milijuna kuna za koje se sumnja da su »oprani«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o jedan od nositelja borbe protiv financiranja međunarodnog terorizma, Ured je 2002. pretražio svoje baze podataka, kao i financijski sustav Hrvatske, i provjerio više od 900 fizičkih i 200 pravnih osoba s raznih međunarodnih lista osoba osumnjičenih za povezanost s terorizm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690-B729-4B91-B221-075D9DBB9F19}" type="slidenum">
              <a:t>33</a:t>
            </a:fld>
          </a:p>
        </p:txBody>
      </p:sp>
    </p:spTree>
  </p:cSld>
  <p:transition advTm="150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»Na žalost, ni nakon više od četiri godine rada Ureda neki ne shvaćaju njegove zadaće i ulogu u sustavu prevencije pranja novca«, kaže predstojnik Ureda Ivica Ma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ao i većina takvih ureda u svijetu, Ured je samostalna financijsko-obavještajna jedinica administrativnog tipa osnovana pri Ministarstvu financija. »Prikupljamo podatke o gotovinskim i sumnjivim transakcijama, ali nemamo istražne ovlasti i ne podnosimo kaznene prijave, već o svemu obavještavamo druga nadležna tijela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697-DC24-452F-9F66-3A6BBC38B3C8}" type="slidenum">
              <a:t>34</a:t>
            </a:fld>
          </a:p>
        </p:txBody>
      </p:sp>
    </p:spTree>
  </p:cSld>
  <p:transition advTm="150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red se bavi samo složenijim slučajevima pranja novca, odnosno sumnjivim transakcijama s visokim iznosima u kojima je riječ o složenim shemama prikrivanja pravog izvora nov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takvim slučajevima u pravilu je uključen veći broj osoba i tvrtki. Hrvatska je rijetka tranzicijska zemlja u kojoj je donesena pravomoćna presuda zbog pranja novca. Slučaj je to supružnika Kalebić iz Splita koji su »prali« novac od prodaje dro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BCC-9948-46F2-A642-1E9FA9556C12}" type="slidenum">
              <a:t>35</a:t>
            </a:fld>
          </a:p>
        </p:txBody>
      </p:sp>
    </p:spTree>
  </p:cSld>
  <p:transition advTm="150000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9040" y="1196640"/>
            <a:ext cx="77659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Uredu ističu da im je za još učinkovitiji rad potrebno više stručnjaka (npr. za financijsko tržište, vrijednosnice i fondove), te nadogradnja informatičkog sust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užnim smatraju i povećanje ovlasti Ureda za borbu protiv novih načina pranja novca - putem Interneta i ostalih elektronskih bankarskih uslu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»Bez odgovarajućeg praćenja kompjutorskog novca otvara se veliki prostor za prikrivanje kriminala«, kaž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govor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(H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F9B-23D7-423C-81DD-376470F4D4B5}" type="slidenum">
              <a:t>36</a:t>
            </a:fld>
          </a:p>
        </p:txBody>
      </p:sp>
    </p:spTree>
  </p:cSld>
  <p:transition advTm="15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7925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nosti i nedostac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poredba s drugim medij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v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jnost informacija, sporost u objavljivanj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levizij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ika, zvuk, trenutačno javljan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iskani oglas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kupi za oglašiva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82D-40D0-469F-8156-8944ACD6BBC0}" type="slidenum">
              <a:t>4</a:t>
            </a:fld>
          </a:p>
        </p:txBody>
      </p:sp>
    </p:spTree>
  </p:cSld>
  <p:transition advTm="15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514600"/>
            <a:ext cx="7421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1413000"/>
          <a:ext cx="8353440" cy="48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353440" cy="48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21040" y="476280"/>
            <a:ext cx="85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Vrijeme u kojem su pojedini mediji dosegli 50 mil.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559-A3F8-4887-A1B3-D255AF9F4B04}" type="slidenum">
              <a:t>5</a:t>
            </a:fld>
          </a:p>
        </p:txBody>
      </p:sp>
    </p:spTree>
  </p:cSld>
  <p:transition advTm="15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Pred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24 satna dostupnost, sedam dana u tjedn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Informacije su uvijek svjež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komunikacija s korisnicima je dvosmj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dosta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Potreba za telefonskom linijom i računal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Cije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Razina tehničkog predznanja o računalima i We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704-FC7E-47F2-A969-A85FCC3A0E53}" type="slidenum">
              <a:t>6</a:t>
            </a:fld>
          </a:p>
        </p:txBody>
      </p:sp>
    </p:spTree>
  </p:cSld>
  <p:transition advTm="15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79250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ELEKTRONIČKI MARKETING J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ogodan kad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upci koriste Intern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izvode nije potrebno fizički vidjeti i probati prije kupov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izvod spada u visoku tehnologij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 proizvod ili usluga nalaze u srednjem rangu cije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upci žele ostati anonim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015-ACF7-40D2-92E6-848FD9BFA690}" type="slidenum">
              <a:t>7</a:t>
            </a:fld>
          </a:p>
        </p:txBody>
      </p:sp>
    </p:spTree>
  </p:cSld>
  <p:transition advTm="150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lektronički mark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endo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45 % “on-line” korisnika kupuje na Web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45% “on-line” korisnika pretražuje Web, ali kupuje na tradicionalan nač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snici uglavnom kupuju jeftine proizv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nji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grač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ftv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3AF-E03A-4B39-A0AA-0663582EA121}" type="slidenum">
              <a:t>8</a:t>
            </a:fld>
          </a:p>
        </p:txBody>
      </p:sp>
    </p:spTree>
  </p:cSld>
  <p:transition advTm="15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514600"/>
            <a:ext cx="7421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90068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1320" y="533520"/>
            <a:ext cx="299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izvodi koji se 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Svijetu kupuju na We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8A3-22A2-41AB-9C78-7700C29F09CF}" type="slidenum">
              <a:t>9</a:t>
            </a:fld>
          </a:p>
        </p:txBody>
      </p:sp>
    </p:spTree>
  </p:cSld>
  <p:transition advTm="150000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45:38Z</dcterms:created>
  <dc:creator>Ivan Škoro</dc:creator>
  <dc:description/>
  <dc:language>en-US</dc:language>
  <cp:lastModifiedBy>VBZ</cp:lastModifiedBy>
  <dcterms:modified xsi:type="dcterms:W3CDTF">2005-12-15T13:11:22Z</dcterms:modified>
  <cp:revision>7</cp:revision>
  <dc:subject/>
  <dc:title>6 INFORMATICS</dc:title>
</cp:coreProperties>
</file>