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923-885F-403C-B8DD-82B73710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F3C-1A67-4509-A04F-4352AD8E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694-3950-47EA-B792-78A08EDF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2A2-5A3D-4B8A-A081-FF5C844A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35C9-036A-4373-AF99-80346E7C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3727-6849-44CB-A189-E77A2503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7D99-D63C-47D7-B6CB-94986BBA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63DF-7717-421C-B5B1-1F53D09C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FB11-C138-4673-85C1-A5D7AAE2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C228-B3B3-4D84-BC8D-B031FCE1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CA40-1E66-4409-9DA5-3545639C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73E-0A5B-4E41-A3A8-C4E8A9BB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7CCA-D068-4976-B6DE-B3C98AAF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7C36-24DA-44E5-84AC-6A1F61DD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CCE4-7301-4231-9379-86F43C0C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71AA-7736-435E-BBDC-C01C95B9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F891-0FDD-4068-8F5F-913CD8D2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D2C-3128-43CC-AEAC-02BA018F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1FB-D75C-49D2-878D-9E6FBAE4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4D2-1ECE-4E63-8EB5-F5F22A0D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EBB-686B-44BF-918E-34EB70C2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ADA-24A5-4F18-86ED-789C0D31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FD6-9B48-42E5-9251-7A195E91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7F1-9C05-4219-A051-263D5422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2005/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ZAB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40C0-5A54-45DD-9027-B724535BAADC}" type="slidenum">
              <a:rPr b="0" lang="hr-H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2005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ZABOK PPRIMJENA RAČUN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A602-D0F8-413D-BA39-189C8641073F}" type="slidenum">
              <a:rPr b="0" lang="hr-H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960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Informacijska znanos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b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08.12.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ED04-6C3A-4EB3-90A2-39E3F1986F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1916280"/>
            <a:ext cx="5689800" cy="3673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89280" y="4848120"/>
            <a:ext cx="542592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6680" y="4178160"/>
            <a:ext cx="419112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t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6680" y="2849400"/>
            <a:ext cx="419112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dluči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alne n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ku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87640" y="5173560"/>
            <a:ext cx="5030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52600" y="4846680"/>
            <a:ext cx="4523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81200" y="4532400"/>
            <a:ext cx="40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6520" y="4173480"/>
            <a:ext cx="3504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06800" y="3849840"/>
            <a:ext cx="300348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6840" y="2849400"/>
            <a:ext cx="14554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36960" y="5202360"/>
            <a:ext cx="13302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dat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9160" y="4500720"/>
            <a:ext cx="302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orm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21160" y="3797280"/>
            <a:ext cx="2162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n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6800" y="2492280"/>
            <a:ext cx="173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udr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5884560"/>
            <a:ext cx="812484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jerarhijska organizacija osnovnih elemenata informacijske zna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08C-CECB-4711-970A-BB158182B7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je komunikacij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182600" y="2546280"/>
            <a:ext cx="777240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munikacija je odašiljanje poruke iz jedne točke i njezino točno ili približno točno reproduciranje u dugoj toč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9880" y="4726080"/>
            <a:ext cx="282600" cy="282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0760" y="4726080"/>
            <a:ext cx="282600" cy="282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82840" y="4869000"/>
            <a:ext cx="4336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EB3-C312-4833-B4CE-E52C47B2149F}" type="slidenum">
              <a:t>1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488360" y="3746520"/>
            <a:ext cx="682560" cy="6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45320" y="3746520"/>
            <a:ext cx="682560" cy="6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807920"/>
            <a:ext cx="77724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C. Shannon i W. Weawer, Urbana, 1949., ovako vide komunikacijski pro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917640" y="3745080"/>
            <a:ext cx="682560" cy="68256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31880" y="4086360"/>
            <a:ext cx="9255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8880" y="3745080"/>
            <a:ext cx="682920" cy="68256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3480" y="4086360"/>
            <a:ext cx="9255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00480" y="3745080"/>
            <a:ext cx="682560" cy="682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16520" y="4086360"/>
            <a:ext cx="9255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8120" y="4086360"/>
            <a:ext cx="92520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541760" y="4414320"/>
            <a:ext cx="0" cy="92556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00480" y="5383080"/>
            <a:ext cx="682560" cy="68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9560" y="3119400"/>
            <a:ext cx="17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Z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NFORM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327348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EDAJ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10160" y="327348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IJEM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16840" y="327348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ODREDIŠ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5412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por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8600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9320" y="4451400"/>
            <a:ext cx="12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primlj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8972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por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23960" y="6072120"/>
            <a:ext cx="40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ZVOR Š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(buka u komunikacijskom kanal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4370400" y="2328480"/>
            <a:ext cx="319320" cy="2506680"/>
          </a:xfrm>
          <a:custGeom>
            <a:avLst/>
            <a:gdLst>
              <a:gd name="textAreaLeft" fmla="*/ 0 w 319320"/>
              <a:gd name="textAreaRight" fmla="*/ 115200 w 319320"/>
              <a:gd name="textAreaTop" fmla="*/ 65160 h 2506680"/>
              <a:gd name="textAreaBottom" fmla="*/ 2441520 h 250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11"/>
                </a:lnTo>
                <a:cubicBezTo>
                  <a:pt x="10800" y="9811"/>
                  <a:pt x="16200" y="10711"/>
                  <a:pt x="21600" y="10711"/>
                </a:cubicBezTo>
                <a:cubicBezTo>
                  <a:pt x="16200" y="10711"/>
                  <a:pt x="10800" y="11611"/>
                  <a:pt x="10800" y="125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95720" y="298764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Komunikacijski k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3E6-3C11-4E24-A37E-146EA219D206}" type="slidenum">
              <a:t>12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ahoma"/>
              </a:rPr>
              <a:t>Im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Pošiljatelja (izvo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Medij i kanal (potporu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Primatelja (interpretator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AA0-F16B-4A4C-BF24-51B49DCE2F5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zine komunikacijskog proce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3794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lphaUcPeriod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Tehničk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točnost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nesenih simbol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– tehnička kvaliteta medija (komunikacijskih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uređaja) i kan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3794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lphaUcPeriod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emantičk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preciznost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– identičan ili približno identičan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smisao poruke pošiljatelja i njezine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interpretacije kod primatel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3794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lphaUcPeriod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Biheviorističk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djelotvornost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učinak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oruke na primatel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287-7FAE-4EFE-83EC-17028FECB8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Za postizanje djelotvorne komunikacije (</a:t>
            </a:r>
            <a:r>
              <a:rPr b="1" lang="hr-HR" sz="36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) potrebno j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a medij i kanal (</a:t>
            </a: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) 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šiljatelj i primatelj (</a:t>
            </a: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maju ili postignu zadovoljavajuću razinu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kapacitet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4E0-3DC9-4CDA-A7C3-49518ED12B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apacit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gućnost medija i kanala da uspješno prenesu poruku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gućnost pošiljatelja i primatelja da uspješno kodiraju i dekodiraju poru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 kapacitet utječ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ehnički šum (medij / kanal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emantički šum (pošiljatelj / primatelj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A81-BBE1-4B59-A834-53134CF9D92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munikacijski kanal ima cilj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manjiti šum 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većati kapacit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hannon i Weawer to gledaju kroz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lihost (engl. redundancy) (predvidljivo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Entropiju (engl. entropy) (neizvjesno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0AE-EE0D-401D-9569-7D190616EFE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munikacijski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Sadržaj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lihost i entropija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levantnost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avodobnost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formacijski susta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0EF-8811-4618-BB4F-EEFE0732162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lihost i entrop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 cilju smanjenja šuma i povećanja kapaciteta Shannon i Weawer uveli su  termin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lihost (predvidljiv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ntropija (neizvjesno, nepredvidljiv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lihost i entropija u porukama se razlikuj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 primatelja do primatel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d jednog primatelja od poruke do poru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E2E-75F4-48FA-B0AA-61AED5FC383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erminologij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form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munikacijski proce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31B-420A-4DE2-88BA-48F3F3F9175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lihost i entrop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ahoma"/>
              </a:rPr>
              <a:t>Zalihost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Konvencionalna (st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Na razini k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ô</a:t>
            </a: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da (način zapis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Na razini sadržaja (ponavljanj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B79-87DD-4163-B821-D6744C4A7A5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lihost i entrop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hannon i Weawer su utvrdili da z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stizanje djelotvorne komunikacije treba pronaći prikladan odnos zalihosti i entrop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iska zalihost + visoka entropija = niska djelotvornos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Visoka zalihost + niska entropija = visoka djelotvornost,  ali i niska informativnost poruk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dealan odnos, često, pola po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711-5225-4014-83F2-3B7588DFA24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lihost i entrop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Za djelotvornu komunikaciju treba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dovezivati poruke na prethodno znanje/poruk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blikovati poruke u skladu s kapacitetom medija/kanala i primatelja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stići relevantn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209-501F-4F27-947C-C6A5E494DFD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Relevant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Je mjera djelotvornosti između izvora i odredišta u komunikacijskom procesu. relevantnost je od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aktično uspostavljanje selektivnih mehanizama u komunikacijskom proces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stav za pretraživanje informacija =  sustav za pretraživanje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Tahoma"/>
              </a:rPr>
              <a:t>relevantnih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informacija =&gt; selekcija unutar sustava, činitelj koji najviše utječe na relevantn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749-9FE2-4677-A30B-0270529CB3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Relevant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e pronađene informacije nisu relevant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kad nisu pronađene sve relevantne inform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47640" y="4292640"/>
          <a:ext cx="6095880" cy="1581120"/>
        </p:xfrm>
        <a:graphic>
          <a:graphicData uri="http://schemas.openxmlformats.org/drawingml/2006/table">
            <a:tbl>
              <a:tblPr/>
              <a:tblGrid>
                <a:gridCol w="1584360"/>
                <a:gridCol w="1463760"/>
                <a:gridCol w="1633320"/>
                <a:gridCol w="1414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ku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evant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relevant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nađe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pronađe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A90-EE4D-44F6-9335-8F4339C1DB2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riklad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formacijski upit ≠ informacijska potreb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levantnost povezuje dokumente s informacijskim upito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kladnost povezuje dokumente s informacijskom potrebo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5A8-7E7E-4D4B-A155-0FBED2DC829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riklad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32720" y="229248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nformacijska potr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8720" y="31399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nformacijski up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01680" y="39322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na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74080" y="47242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etraž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4880" y="5516640"/>
            <a:ext cx="266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rezultat pretraži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(pronađeni dokum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66360" y="44370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relevant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65640" y="27813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ikla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74920" y="270828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4920" y="350028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4920" y="4292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4920" y="508464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2492280"/>
            <a:ext cx="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914200" y="249228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914200" y="335772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914200" y="580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92640" y="2017440"/>
            <a:ext cx="39513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26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dgovo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levantni i priklad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levantni i neprikladni prikladni i nerelevantn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E5A-3C9C-428C-BAA1-E466E1B5F8A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ski susta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ustav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je skup elemenata (odnosno komponenata sustava) organiziranih na određen način, koji zajedno postižu određeni cilj ili daju određeni rezult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Informacijski sustav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kuplja, pohranjuje, čuva, obrađuje i isporučuje informacije važne za organizaciju i društvo, tako da budu dostupne i upotrebljive za svakog tko se želi njima koristiti. Informacijski sustav aktivni je sustav tvrtke, institucije, koji se može, ali ne mora, koristiti informacijskom tehnologij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ED2-BF58-40DA-8065-6BB0FDF8011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619280" y="2228760"/>
            <a:ext cx="5977080" cy="28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ski susta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039920" y="2568600"/>
            <a:ext cx="104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z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69640" y="4297320"/>
            <a:ext cx="1389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fina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12480" y="3360600"/>
            <a:ext cx="1663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84440" y="3360600"/>
            <a:ext cx="1867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oizvo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492360" y="3035160"/>
            <a:ext cx="648000" cy="32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3035160"/>
            <a:ext cx="432000" cy="32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08360" y="3597120"/>
            <a:ext cx="1638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72000" y="3020760"/>
            <a:ext cx="0" cy="127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63640" y="3812760"/>
            <a:ext cx="431640" cy="484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060880" y="3812760"/>
            <a:ext cx="374760" cy="484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50920" y="3597120"/>
            <a:ext cx="1022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89840" y="3597120"/>
            <a:ext cx="1022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89800" y="53784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granica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7146720" y="5176800"/>
            <a:ext cx="363240" cy="37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5597640"/>
            <a:ext cx="454824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ki elementi – podsusta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kružje – elementi izvan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679320" y="2584440"/>
            <a:ext cx="35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188200" y="2584440"/>
            <a:ext cx="35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57520" y="2340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BB4-D530-47F0-88FB-2713FA49261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33360" y="2570040"/>
            <a:ext cx="7188120" cy="38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ski susta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57387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truktura informacijskog sust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345120" y="2733840"/>
            <a:ext cx="1331280" cy="6426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RAČU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86240" y="5178600"/>
            <a:ext cx="1634760" cy="642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MARKET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38160" y="5124600"/>
            <a:ext cx="1334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KADRO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2160" y="3557520"/>
            <a:ext cx="1142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OD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2960" y="3533760"/>
            <a:ext cx="1060200" cy="642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NAB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1623600" y="4449240"/>
            <a:ext cx="492120" cy="729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470320" y="3375000"/>
            <a:ext cx="1393560" cy="1803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038400" y="4198680"/>
            <a:ext cx="2906640" cy="979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38400" y="5475240"/>
            <a:ext cx="1623960" cy="103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879560" y="3050640"/>
            <a:ext cx="1782720" cy="6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79560" y="3965400"/>
            <a:ext cx="4065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79560" y="4199040"/>
            <a:ext cx="2782800" cy="1137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9240" y="3051000"/>
            <a:ext cx="1585800" cy="482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84640" y="3375000"/>
            <a:ext cx="754200" cy="1749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533920" y="4199040"/>
            <a:ext cx="787680" cy="925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47360" y="2654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IS TVRT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304040" y="3279600"/>
            <a:ext cx="45720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38F-2F8A-4450-BE65-E9A9FC06629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898200"/>
            <a:ext cx="77929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 terminologi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stoji više pojmova u upotrebi, koji se odnose na informacijske znanos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formatik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formacijska znanos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formatologij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formacijska tehnologij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čunalst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5AD-2DB2-41ED-896D-56B39E8FC48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Elektronički - informacijski sustav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aze podatak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stavi za elektroničko upravljanje dokumentim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kladišta podatak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udarenje podatak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aze znan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stavi za upravljanje znanjem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kspertni susta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880-0F1D-4B58-A2A6-6E5113EBDCD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a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stavlja skup podataka tako organiziran da je podacima moguće brzo pristupiti i raspoloživim ih metodama pretraživati, sortirati ili filtrira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daci su organizirani 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l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pi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tote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D62-7D38-4A3D-B9C9-2DA020FC558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a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l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stavlja najmanju jedinicu BP ili prostor rezerviran za pojedine podatke (ime, prezime, godina rođenja ...), ime + atributi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lja prema vrsti podataka mogu bi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bavezna  (engl. required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obavezna  (engl. optional)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računata  (engl. calculat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D9F-9475-4D2C-9FAE-5BBD633A1F8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a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p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e sastoji se od polja u kojim je logički povezan niz podat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atotek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e sastoji se od zapisa u kojoj su zapisi logički poveza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C70-0ABF-4FB0-BA94-797E08FB761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e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Hipertekstualne B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vezuju disparatne objek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isu pogodne za numeričke anal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aze podata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oguće je koristiti s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stavom za upravljanje, (engl. Database Management System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kupom programa kojim se spremaju, mijenjaju i izlučuju podac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BF7-7CEA-4272-AE21-C23C8DE6CDE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755280" y="1989000"/>
            <a:ext cx="7961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Engleski Electronic Document Management System (EDMS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Većina dokumenata danas je u e-oblic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-katalozi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D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okumenti moraju bi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jerodostojni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tpuni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utentični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1440" indent="-19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adržaj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stavi za elektroničko upravljanje dokument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4005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60A-BC9D-4F0D-B6DD-06F002EF554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ustavi za elektroničko upravljanje dokument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Dokumenti su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bilježena komunikacija prepoznatljive strukture na bilo kojem mediju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zumljiva bez daljnjeg procesiranja osim prikaza na ekranu ili ispisa na pap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eđutim, nisu svi dokumenti zapisi u arhivističkom ili pravnom smisl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16C-BF09-4D00-8B88-8FE1BBEA2ED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ustavi za elektroničko upravljanje dokument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pisi s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Zabilježeni dokazi funkcija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Djelovanja i transakcija tvrtki ili pojedina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ako bi bili dokazi zapisi moraj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mati sadržaj, strukturu i kontek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Biti dijelovi sustava za upravljanje zapis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4E4-9B80-4D4A-A721-B4AF1456C64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kladišta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Engleski (Data Warehous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kladište podataka pruža potporu pri odlučivanju a sastoji 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 više objedinjenih BP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stava za upravljanje skladištem podataka (engl. Warehouse Database Management System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0CE-9747-4B4A-9212-94FBDA2CE47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Rudarenje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Često nazvano i podatkovno rudarenje (engl. Data Mining), a to je postupak po kome se otkrivaju skriveni odnosi u podaci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ncip rad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dvajanj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naliz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ključivanj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F67-1901-417B-B3C6-614C92C9F91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 terminologij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Informatik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inonim za AOP, koji se često poistovjećuje s informacijskom znanosti, a podrazumijeva sve vezano uz informacije i računal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Informacijska znano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nanstvena disciplina o informacijama u najširem smislu za koju je primjena kompjutora samo jedna od metoda i tehnika obrade informacij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28A-306E-4DC3-B363-BF05BF7CE33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Rudarenje podata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naliza, ponekad modificiranje redoslijeda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=&gt; baza izdvojenih podataka (engl. Data Mart -&gt; hrv. “tržište podataka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odel predviđanja uspješnosti koji precizno formulira problem i njegovo rješenje pod uvjetom da ima dovoljno relevantnih podata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312-CDB8-4391-A16B-11436E26552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e zn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Z (KB) pretpostavlja postojanje dokumenata u elektroničkom oblik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stavljaju “skupove zabilježenih podataka, istinitih tvrdnji i modela (zajedno s metapodcima o njihovoj provjeri), neistinitih tvrdnji i modela (zajedno s metapodcima o njihovom odbacivanju), metamodela i programa za upravljanje nji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90E-EFEE-42D8-9F93-A405E448539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aze zn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Dokumenti + metapodaci + logičke tvrdnje =&gt; logički modeli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Analitička mreža istinitih i neistinitih tvrdnji i model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403-046A-4808-8854-801D2AF33C7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ustavi za upravljanje znanj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ngleski Knowledge Management System (KMS) ima cilj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ržavati ravnotežu između implicitnog i eksplicitnog znanj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smjeravati ta znanja tako da se postigne više inovacija i njima ostvari veća profitabilnost u institucij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F71-212A-419D-85F8-3BF7B123616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ustavi za upravljanje znanj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ces upravljanja znanjem tvori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talno i postojano međudjelovanje između agenata (djelatnika) čiji je cilj integracija raznih drugih agenata, komponenti i aktivnosti sustava za upravljanje znanjem u planirani i vođeni proces koji rezultira stvaranjem, održavanjem i poboljšanjem baze znanja samog sustava za upravljanje znanj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B91-14D9-4648-8539-CEAECCB5DBD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Ekspertni sustav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 računalni sustavi koji zamjenjuju eksperte ili im pomažu, pružaju potporu pri odlučivanju a pretpostavljaju postojanje sustava za upravljanjem znanja (KM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padaju području umjetne inteligenc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maju široku primjen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edicinska dijagnostik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Financijska predviđan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ređivanje ruta dostavnih vozila i s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459-BD5E-493B-9A54-44065348AA4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ključa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4429080" y="5734080"/>
            <a:ext cx="914400" cy="609480"/>
          </a:xfrm>
          <a:prstGeom prst="flowChartMagneticDisk">
            <a:avLst/>
          </a:prstGeom>
          <a:solidFill>
            <a:srgbClr val="0033cc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56000" y="4510080"/>
            <a:ext cx="1062000" cy="757080"/>
          </a:xfrm>
          <a:prstGeom prst="flowChartMultidocument">
            <a:avLst/>
          </a:prstGeom>
          <a:solidFill>
            <a:srgbClr val="0033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D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888080" y="5301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87640" y="5734080"/>
            <a:ext cx="914400" cy="609480"/>
          </a:xfrm>
          <a:prstGeom prst="flowChartMagneticDisk">
            <a:avLst/>
          </a:prstGeom>
          <a:solidFill>
            <a:srgbClr val="0033cc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14560" y="4510080"/>
            <a:ext cx="1062000" cy="757080"/>
          </a:xfrm>
          <a:prstGeom prst="flowChartMultidocument">
            <a:avLst/>
          </a:prstGeom>
          <a:solidFill>
            <a:srgbClr val="0033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D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446640" y="5301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5734080"/>
            <a:ext cx="914400" cy="609480"/>
          </a:xfrm>
          <a:prstGeom prst="flowChartMagneticDisk">
            <a:avLst/>
          </a:prstGeom>
          <a:solidFill>
            <a:srgbClr val="0033cc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2920" y="4510080"/>
            <a:ext cx="1062000" cy="757080"/>
          </a:xfrm>
          <a:prstGeom prst="flowChartMultidocument">
            <a:avLst/>
          </a:prstGeom>
          <a:solidFill>
            <a:srgbClr val="0033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D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254640" y="5301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27640" y="3429000"/>
            <a:ext cx="914400" cy="609480"/>
          </a:xfrm>
          <a:prstGeom prst="flowChartMagneticDisk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888080" y="40780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995640" y="4078440"/>
            <a:ext cx="57636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5219280" y="4078440"/>
            <a:ext cx="6476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87640" y="3429000"/>
            <a:ext cx="914400" cy="609480"/>
          </a:xfrm>
          <a:prstGeom prst="flowChartMagneticDisk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3789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2205000"/>
            <a:ext cx="1062000" cy="757440"/>
          </a:xfrm>
          <a:prstGeom prst="flowChartMultidocument">
            <a:avLst/>
          </a:prstGeom>
          <a:solidFill>
            <a:srgbClr val="0033cc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888080" y="2997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200640" y="2997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69000" y="3429000"/>
            <a:ext cx="914400" cy="609480"/>
          </a:xfrm>
          <a:prstGeom prst="flowChartMagneticDisk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97360" y="2205000"/>
            <a:ext cx="1062360" cy="757440"/>
          </a:xfrm>
          <a:prstGeom prst="flowChartMultidocument">
            <a:avLst/>
          </a:prstGeom>
          <a:solidFill>
            <a:srgbClr val="0033cc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K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227640" y="40780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780000" y="2997360"/>
            <a:ext cx="57600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200640" y="177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97360" y="981000"/>
            <a:ext cx="1062360" cy="757440"/>
          </a:xfrm>
          <a:prstGeom prst="flowChartMultidocumen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C78-C09F-4153-A3F0-43D5B79D49C4}" type="slidenum">
              <a:t>4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 terminologi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Informatologij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eorija i praksa emisije, transmisije, akumulacije, selekcije i apsorpcije informaci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Informacijska tehnolog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prega mikroelektronike, računala, telekomunikacija i kompjutorskih programa koja omogućuje unos, obradu i prijenos informacij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BA8-93C2-4B3B-9206-86C869DFAF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 terminologi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Računalstvo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(računalna znanost) se bav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oučavanjem prikaza i strukturiranja informacij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lgoritamskim procesima za obradu informacij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čunalnim sklopovljem (hardverom)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ogramskom opremom (softverom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C7E-EFD2-4A3C-951E-9DC96CCE42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O terminologi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912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ežišt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nformacijske znanost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nije na softverskim i hardverskim problemima obrade i pretraživanja podataka, već 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blemima razmjene i organizacije znanja općenit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dnosno na problemima nabav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rganizacij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brad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odjel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Korištenja i vrednovanja obavijesti,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čunala su samo jedna od metoda i tehnika obrade informaci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72D-9329-48F1-B63E-28D0B4D5D7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je informacij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što se govori o zatrpanosti informacijam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što su informacija u centru pažnj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što su potrebni informacijski stručnjaci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etode klasifikacije podatak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rganizacija, prikaz informacija i znan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što se polazi od podaka i preko informacija dolazi do znanja, mudros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420-C8F4-46C9-89A2-9E9A7B117FD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form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odac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redstavljaju opažanja ili činjenice izvan konteksta, te stoga sami po sebi ne prenose značenj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nformacij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nastaju kad se podaci stave u značenjski kontekst, često u obliku poru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Znanj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redstavljaju naša vjerovanja i vrednovanja koja se zasnivaju na smisleno organiziranom skupu informacija (poruka) do kojih dolazimo iskustvom, komunikacijom ili zaključivanj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Mudrost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je pametna uporaba znanja i odlučivanje na temelju sinteze znanja i iskustva, utemeljenih na moralnim norm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473-B67F-45C3-82F9-575640BE951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5:25:46Z</dcterms:created>
  <dc:creator>VBZ</dc:creator>
  <dc:description/>
  <dc:language>en-US</dc:language>
  <cp:lastModifiedBy>Ivan Skoro</cp:lastModifiedBy>
  <dcterms:modified xsi:type="dcterms:W3CDTF">2005-12-08T10:48:24Z</dcterms:modified>
  <cp:revision>3</cp:revision>
  <dc:subject/>
  <dc:title>Informacijska znanost</dc:title>
</cp:coreProperties>
</file>