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14F6-0D8E-4C19-B1DE-BACD41A1EA9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92B-47B2-4ED8-86D8-E795AAA678B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50E8-A93F-484C-BC42-954B75653E5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793-C88E-40AB-8A6B-C950D69984E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AA4-1523-4566-B632-CE24F7F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5D7-737C-4020-B151-89D83D7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427-EDB2-4EDE-BEFB-DF2156B7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008-9129-440F-A528-0F166158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1A8E-1BC2-47D8-9028-8C1786FB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4449-461F-4376-97E1-5BFC6434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79A6-3E8C-4D6F-ADF0-388718E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5D8-2465-4541-82CE-94E88E9D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755-71DC-4A0B-A661-A73407C5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C858-6342-4E22-98E9-C7373C00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F99C-E70D-4B5A-BB5B-1E44BA1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933-F10E-4D58-83EB-3F46BB11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3C0E-D8AF-4D9A-BB39-FD07B01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659-B1F3-4A32-8185-93C817B2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98D1-881F-446E-9ACC-3D20F4EC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E907-3F6C-4A96-9FF4-11C86B0F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E9E7-3869-4DAC-8608-C02B17C4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B9A-4E16-47E5-9ECD-F79FBA46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9CD-090E-4522-A9DD-0D2D521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A44-054F-46D7-94ED-B662DD2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346-872C-4492-8AB9-DEC94D3D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D00-8A84-45E5-8D41-241FDEFD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A6-218D-4BE6-8D49-1BF5D9D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C64-8DD1-471A-A8E3-E56081C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JENA RAČU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378-AF00-4BF3-8957-60D0A1E21B08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A923-4C5D-4399-9988-ED16A125DD26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9 PR Elektronički marke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F7F-89BA-4BE1-8BB7-EECBED0D56CA}" type="slidenum">
              <a:t>1</a:t>
            </a:fld>
          </a:p>
        </p:txBody>
      </p:sp>
    </p:spTree>
  </p:cSld>
  <p:transition advTm="12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idžba na Internet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 4-6. mj. 2005. potrošeno je više od 2 milijardi dolara na promidžbu putem Internet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4% više nego lani u istom razdoblj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Večernji list, 02.11.200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000-D62A-4609-9D14-B5BA234B2EEC}" type="slidenum">
              <a:t>10</a:t>
            </a:fld>
          </a:p>
        </p:txBody>
      </p:sp>
    </p:spTree>
  </p:cSld>
  <p:transition advTm="15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arketinške funkcij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straživanje tržišt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azvojna politika proizvoda i/ili uslug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olitika  prodaj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romidžba  i javno  oglašavan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A69-98A7-4DF0-9C8D-D125D05059DB}" type="slidenum">
              <a:t>11</a:t>
            </a:fld>
          </a:p>
        </p:txBody>
      </p:sp>
    </p:spTree>
  </p:cSld>
  <p:transition advTm="15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72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58B-2303-4C54-813C-FB36F657C973}" type="slidenum">
              <a:t>12</a:t>
            </a:fld>
          </a:p>
        </p:txBody>
      </p:sp>
    </p:spTree>
  </p:cSld>
  <p:transition advTm="150000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traživanje tržišta na Intern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marno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– obavještavanje o tržištu - pretraživanje Web-a i diskusijskih skupina, pretplata na servise za praćenje određenih sadržaja u diskusijskim skupin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kundarno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 korištenje rezultata do kojih su istraživanjem došle druge organiz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E91-C789-4DD5-BE49-8362EE909B04}" type="slidenum">
              <a:t>13</a:t>
            </a:fld>
          </a:p>
        </p:txBody>
      </p:sp>
    </p:spTree>
  </p:cSld>
  <p:transition advTm="15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zvojna politika proizvoda i/ili usluga predstavlj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iz marketinških aktivnosti usmjerenih na planiranje asortimana proizvodnje i/ili usluga, ispitivanjem postojećih ili potencijalnih kupa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litika prodaje j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ošenje niza odluka vezanih uz izbor načina prodaje, kanala distribucij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01B-BF31-428D-A0E9-0314918ED486}" type="slidenum">
              <a:t>14</a:t>
            </a:fld>
          </a:p>
        </p:txBody>
      </p:sp>
    </p:spTree>
  </p:cSld>
  <p:transition advTm="15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midžba i javno oglašavanje na Internetu je efikasno j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 predstavlja interaktivni medij koji omogućuje masovno i pojedinačno priopćavan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dicionalni pristup oglašavanja  “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jedan-prema-mno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”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ski model omogućuje i “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jedan-prema-jeda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6BF-3898-46F5-96A4-C1B0A17F9B5F}" type="slidenum">
              <a:t>15</a:t>
            </a:fld>
          </a:p>
        </p:txBody>
      </p:sp>
    </p:spTree>
  </p:cSld>
  <p:transition advTm="15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vljaju se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banne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, pravokutnici (prozori) u kojim se nalaze tekstovi promidžbenih poruka. Obično se pojavljuje se na vrhu ili u dnu ek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butto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stalni “banner”, stalno prisutni, treba ih samo aktivi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p under a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pravokutnici koji sadržavaju tekstove promidžbenih poruka, a pojavljuje se tek kada korisnik zatvori aktivni pro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p-up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prozori koji se pojavljuje uvijek u vrhu učitane stra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610-59D2-4B59-A793-CF420C7D1249}" type="slidenum">
              <a:t>16</a:t>
            </a:fld>
          </a:p>
        </p:txBody>
      </p:sp>
    </p:spTree>
  </p:cSld>
  <p:transition advTm="15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multimedijske promidžbene poru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las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HTM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a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udio-video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i poruka koja zauzimaju cijele Web stranice, a pojavljuje sa kada korisnici prelazi s jednih na druge Web stranice i same nestaje kada prođe vrijeme u kome se može pročitati tek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877-DFC2-448C-822F-3870D338DB78}" type="slidenum">
              <a:t>17</a:t>
            </a:fld>
          </a:p>
        </p:txBody>
      </p:sp>
    </p:spTree>
  </p:cSld>
  <p:transition advTm="15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On-line promocije, organizirane kao nagradne igr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Izravna elektronička pošta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formacije upućene skupini zainteresiranih za proizvode i usluge. Tipično niski troškovi po poruci(90 lipa do 3 ovisno kvaliteti liste). Od takvih poruka se očekuje se 3-10% odgo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001. – poslano je 44 milijarde komercijalnih poru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ma procjenama 2005. se očekuje 268 milijar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blem predstavljaju “spam-ov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370-B2B0-4D45-944A-326BEDB553F0}" type="slidenum">
              <a:t>18</a:t>
            </a:fld>
          </a:p>
        </p:txBody>
      </p:sp>
    </p:spTree>
  </p:cSld>
  <p:transition advTm="15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imes New Roman"/>
              </a:rPr>
              <a:t>Problem sigurnosti, zloupotrebe, krađ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spekti sigurnosti treba promatrati kro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utorizaciju, 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igurnost podataka i trans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Osnovni pojmovi sigu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okazivanje autentič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ntegrit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uzda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riptir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igurnosni  zid (engl 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073-3315-4D31-9534-B026706346AF}" type="slidenum">
              <a:t>19</a:t>
            </a:fld>
          </a:p>
        </p:txBody>
      </p:sp>
    </p:spTree>
  </p:cSld>
  <p:transition advTm="15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36440" y="1599840"/>
            <a:ext cx="749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ktronički market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nosti, nedostac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ov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F7A-5ADB-4760-A8CA-4E0D36B2C5B3}" type="slidenum">
              <a:t>2</a:t>
            </a:fld>
          </a:p>
        </p:txBody>
      </p:sp>
    </p:spTree>
  </p:cSld>
  <p:transition advTm="15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KRIPTIRANJ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(šifriranje) je izmjena informacija u oblike koje mogu pročitati samo oni koji imaju ključeve dektripti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ŠIFRIRANJ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je proces transformacije podataka u oblik nerazumljiv svima osim osobama koje međusobno komuniciraj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DEŠIFRIRANJE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je obratan proces, proces transformacije šifriranog teksta u korisniku prepoznatljiv ob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C7B-0908-4253-98CA-3911C15CD916}" type="slidenum">
              <a:t>20</a:t>
            </a:fld>
          </a:p>
        </p:txBody>
      </p:sp>
    </p:spTree>
  </p:cSld>
  <p:transition advTm="15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U plaćanju se koristi ključ, koji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Jako veliki broj izražen u binarnom obliku,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iz  alfanumeričkih znakova koji se koristi kod svih modernijih metoda kriptografskih algoritama pomoću kojih se određuju izlazi iz funkcija kriptiranja i dekript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riptiranje s tajnim ključem je simetrično kripztiranje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riptiranje s javnim ključem asimetrično. Ovo se koristi u digitalnom pot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D63-017B-4F01-9719-2EA38BBB6630}" type="slidenum">
              <a:t>21</a:t>
            </a:fld>
          </a:p>
        </p:txBody>
      </p:sp>
    </p:spTree>
  </p:cSld>
  <p:transition advTm="15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22440" y="2190600"/>
            <a:ext cx="3889440" cy="1132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06640" y="4091040"/>
            <a:ext cx="3889440" cy="12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EE2-B73A-4008-83C2-AF6C9D8D47FB}" type="slidenum">
              <a:t>22</a:t>
            </a:fld>
          </a:p>
        </p:txBody>
      </p:sp>
    </p:spTree>
  </p:cSld>
  <p:transition advTm="15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a bi se moglo obavljati elektroničko plaćanje potrebno se koristiti digitalnim potpis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igitalni potpis služi za provjeru identiteta pošiljatelja poruke i osiguranje da se poruka ne mijenja nakon potpisivanja. Digitalni potpis ima postupak u kome sudjeluj:= asimetrični ključ + algorit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Korištenjem javno poznatog algoritma izračuna se sažetak poruke (engl. message digest), i sažetak kriptira tajnim ključem pošiljatelja i zatim dodaje poruci kao jedinstveni potpis. Cijela se poruka kriptira tajnim ključem pošiljatelja, a primatelj koristi javni ključ pomoću koga dektirptira poruku. Pomoću algoritma generira se sažetak poruke koji se uspoređuje s digitalnim potpisom, prethodno dekriptiranim javnim ključ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2EE-2A6C-4CCA-87C7-92A01F5929C0}" type="slidenum">
              <a:t>23</a:t>
            </a:fld>
          </a:p>
        </p:txBody>
      </p:sp>
    </p:spTree>
  </p:cSld>
  <p:transition advTm="15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toga digitalnog potpis ima slijedeće karakterist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 može se krivotvori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utentičan je (svojstven jednoj osob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 može se ponovno koristi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tpisani dokument se ne može mijenjati i potpis poric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Nedostat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Troško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trebna je zakonska regulativa za njegovu primj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9B9-1DC3-4606-89FB-265CB0A68E52}" type="slidenum">
              <a:t>24</a:t>
            </a:fld>
          </a:p>
        </p:txBody>
      </p:sp>
    </p:spTree>
  </p:cSld>
  <p:transition advTm="15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vjera vjerodostojnosti digitalnog potpi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vezuje se javni ključ sa vlasnikom i u tu svrhu izdaju CERTIFIKATI (potvrda), a prije izdavanja certifikat moraju biti generirani i javni i tajni klju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rtifikat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ktronički dokument koji identificira pojedinca, računalo ili neki drugi entitet koji posjeduje javni ključ, a zadatak mu je povezati ključeve s njihovim vlasnik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zdaju ih ovlaštene institu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BE1-E478-4ED1-B7FE-5D5D5F7F32EE}" type="slidenum">
              <a:t>25</a:t>
            </a:fld>
          </a:p>
        </p:txBody>
      </p:sp>
    </p:spTree>
  </p:cSld>
  <p:transition advTm="15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U plaćanjima se kori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Protokoli koji predstavljaju niz pravila i procedura koje treba poštivati i prov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Cilj protokola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utentifikaci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igurnost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rivat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20A-0A93-49C7-947A-F1625820E5BD}" type="slidenum">
              <a:t>26</a:t>
            </a:fld>
          </a:p>
        </p:txBody>
      </p:sp>
    </p:spTree>
  </p:cSld>
  <p:transition advTm="15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ktroničko plaćanje –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imjena SET protokol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68480" y="2066760"/>
            <a:ext cx="5207040" cy="348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F9A-4BDE-45EC-BC66-2350A06BC1D6}" type="slidenum">
              <a:t>27</a:t>
            </a:fld>
          </a:p>
        </p:txBody>
      </p:sp>
    </p:spTree>
  </p:cSld>
  <p:transition advTm="15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Elektroničko plaćanje predstavlja financijsku razmjenu koja se odvija između kupca i prodavača u sustavu elektroničkog poslo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U elektroničkom plaćanju koriste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igitalni financijski instru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Gotovi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Ček 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reditna kar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Zajednički element im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Elektronički žeton (engl. token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Žetoni u stvarnom vremen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Žetoni koji se naplaćuju naknad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A7D-019A-4266-A703-3532A71572D7}" type="slidenum">
              <a:t>28</a:t>
            </a:fld>
          </a:p>
        </p:txBody>
      </p:sp>
    </p:spTree>
  </p:cSld>
  <p:transition advTm="15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Elektronička gotovina je popularna u svojstvu elektroničkog plaćanja j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Ima monetarnu vrijedn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e može pohranjivati i pretraživa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Mora biti sigurna, korištenjem kriptiranja javnim ključem i digitalnog potp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rimjer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eCa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igiC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4A9-B25F-4614-97AC-00A31379068C}" type="slidenum">
              <a:t>29</a:t>
            </a:fld>
          </a:p>
        </p:txBody>
      </p:sp>
    </p:spTree>
  </p:cSld>
  <p:transition advTm="15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Elektronički marketing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(E-marketing, telemarketing) je način ostvarivanja marketinških aktivnosti tvrtke uz intenzivnu primjenu </a:t>
            </a:r>
            <a:r>
              <a:rPr b="0" lang="hr-HR" sz="3200" spc="-1" strike="noStrike" u="sng">
                <a:solidFill>
                  <a:srgbClr val="000066"/>
                </a:solidFill>
                <a:uFillTx/>
                <a:latin typeface="Arial"/>
              </a:rPr>
              <a:t>informacijske i komunikacijske (internetske) tehnologije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Internetski marketing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korištenje Interneta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anas: elektronički marketing = internetski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52A-A0B5-4B7E-B952-D5684D7073E3}" type="slidenum">
              <a:t>3</a:t>
            </a:fld>
          </a:p>
        </p:txBody>
      </p:sp>
    </p:spTree>
  </p:cSld>
  <p:transition advTm="15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Elektronički če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iste se po uzoru na tradicionalne čekov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isnike registriraju odgovarajuće institu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ada se koriste primjenjuje se digitalni potpis i digitalni certifikati, koje korisnici mogu primati telefonom ili Interne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imje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etChe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ecure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82C-E6FF-4D77-B2CB-BBEECD5CEC6E}" type="slidenum">
              <a:t>30</a:t>
            </a:fld>
          </a:p>
        </p:txBody>
      </p:sp>
    </p:spTree>
  </p:cSld>
  <p:transition advTm="15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n-line sustavi s kreditnim karticama odvijaju se tako da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laćanje izvodi kriptiranim podacima o kreditnoj kartici uz pomoć Web preglednika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laćanje kreditnom karticom odvija uz pomoć treće st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rimj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First Virtual Holding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Smart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martCard ima mikročip (pametnu karticu) programibilna je i ima svoju memorija i proce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snovna ide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Jednom karticom zamijeniti sve kar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MasterCar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Monde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Visa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martcard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867280" y="4221000"/>
            <a:ext cx="2695680" cy="16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CA7-60A9-40CD-B7F8-D1004EF7E8AA}" type="slidenum">
              <a:t>31</a:t>
            </a:fld>
          </a:p>
        </p:txBody>
      </p:sp>
    </p:spTree>
  </p:cSld>
  <p:transition advTm="15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sljedice el. plaćanj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GREB, 5. trav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bog sumnje u pranje novca, lani je u hrvatskim bankama blokirano više od 60 milijuna kuna, a još je 50 slučajeva, vrijednih više od pola milijarde kuna, prijavljeno kao sumnjivo, podaci su to Ureda za sprječavanje pranja nov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ed je lani obrađivao sumnjive, nelogične i ekonomski neopravdane transakcije vrijedne više od 1,4 milijarde kuna. Državnom odvjetništvu, MUP-u, USKOK-u i nadzornim službama Ministarstva financija uputio je potom obavijesti o 50 slučajeva u kojima je sumnjivim transakcijama obuhvaćeno više od pola milijarde k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4C6-0CE8-45AE-9C53-7217A972BAC2}" type="slidenum">
              <a:t>32</a:t>
            </a:fld>
          </a:p>
        </p:txBody>
      </p:sp>
    </p:spTree>
  </p:cSld>
  <p:transition advTm="15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no je od 1999. Ured posumnjao u 120 slučajeva pranja novca i više od 1,3 milijarde »sumnjivih« kuna. U dva navrata Ured je lani bankama naložio odgodu obavljanja sumnjivih transakcija na 72 sata. O tome je obavijestio Državno odvjetništvo na čiji su prijedlog sudovi blokirali više od 60 milijuna kuna za koje se sumnja da su »oprani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o jedan od nositelja borbe protiv financiranja međunarodnog terorizma, Ured je 2002. pretražio svoje baze podataka, kao i financijski sustav Hrvatske, i provjerio više od 900 fizičkih i 200 pravnih osoba s raznih međunarodnih lista osoba osumnjičenih za povezanost s terorizm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E5B-A144-47E2-B5DA-65817E0B51BA}" type="slidenum">
              <a:t>33</a:t>
            </a:fld>
          </a:p>
        </p:txBody>
      </p:sp>
    </p:spTree>
  </p:cSld>
  <p:transition advTm="15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Na žalost, ni nakon više od četiri godine rada Ureda neki ne shvaćaju njegove zadaće i ulogu u sustavu prevencije pranja novca«, kaže predstojnik Ureda Ivica Ma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i većina takvih ureda u svijetu, Ured je samostalna financijsko-obavještajna jedinica administrativnog tipa osnovana pri Ministarstvu financija. »Prikupljamo podatke o gotovinskim i sumnjivim transakcijama, ali nemamo istražne ovlasti i ne podnosimo kaznene prijave, već o svemu obavještavamo druga nadležna tijela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F48-065E-4DCE-810D-DD7484E4BD53}" type="slidenum">
              <a:t>34</a:t>
            </a:fld>
          </a:p>
        </p:txBody>
      </p:sp>
    </p:spTree>
  </p:cSld>
  <p:transition advTm="15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red se bavi samo složenijim slučajevima pranja novca, odnosno sumnjivim transakcijama s visokim iznosima u kojima je riječ o složenim shemama prikrivanja pravog izvora nov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takvim slučajevima u pravilu je uključen veći broj osoba i tvrtki. Hrvatska je rijetka tranzicijska zemlja u kojoj je donesena pravomoćna presuda zbog pranja novca. Slučaj je to supružnika Kalebić iz Splita koji su »prali« novac od prodaje dr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7B8-83C4-4A7F-BB19-5DAD0CC752A4}" type="slidenum">
              <a:t>35</a:t>
            </a:fld>
          </a:p>
        </p:txBody>
      </p:sp>
    </p:spTree>
  </p:cSld>
  <p:transition advTm="15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9040" y="1196640"/>
            <a:ext cx="77659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Uredu ističu da im je za još učinkovitiji rad potrebno više stručnjaka (npr. za financijsko tržište, vrijednosnice i fondove), te nadogradnja informatičkog sust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užnim smatraju i povećanje ovlasti Ureda za borbu protiv novih načina pranja novca - putem Interneta i ostalih elektronskih bankarskih uslu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Bez odgovarajućeg praćenja kompjutorskog novca otvara se veliki prostor za prikrivanje kriminala«, ka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(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954-DBE0-42C3-9D90-24DB72766498}" type="slidenum">
              <a:t>36</a:t>
            </a:fld>
          </a:p>
        </p:txBody>
      </p:sp>
    </p:spTree>
  </p:cSld>
  <p:transition advTm="15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925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nosti i nedostac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poredba s drugim medij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v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jnost informacija, sporost u objavljivanj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evizij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ika, zvuk, trenutačno javlj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iskani ogla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kupi za oglašiv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FEE-54BB-432A-8936-0BB4594BF55B}" type="slidenum">
              <a:t>4</a:t>
            </a:fld>
          </a:p>
        </p:txBody>
      </p:sp>
    </p:spTree>
  </p:cSld>
  <p:transition advTm="15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413000"/>
          <a:ext cx="835344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35344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1040" y="476280"/>
            <a:ext cx="85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Vrijeme u kojem su pojedini mediji dosegli 50 mil.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1F2-39DA-44AF-9833-942AC43DEDAE}" type="slidenum">
              <a:t>5</a:t>
            </a:fld>
          </a:p>
        </p:txBody>
      </p:sp>
    </p:spTree>
  </p:cSld>
  <p:transition advTm="15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Pred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24 satna dostupnost, sedam dana u tjed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Informacije su uvijek svjež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omunikacija s korisnicima je dvosmj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dost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otreba za telefonskom linijom i račun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Cije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Razina tehničkog predznanja o računalima i We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837-8FE4-4B5D-A736-EF422808A1B5}" type="slidenum">
              <a:t>6</a:t>
            </a:fld>
          </a:p>
        </p:txBody>
      </p:sp>
    </p:spTree>
  </p:cSld>
  <p:transition advTm="15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ELEKTRONIČKI MARKETING J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ogodan ka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upci koriste Inter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izvode nije potrebno fizički vidjeti i probati prije kupov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izvod spada u visoku tehnologi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 proizvod ili usluga nalaze u srednjem rangu cij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upci žele ostati anonim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CE8-7343-4882-B2D6-B6B3C8416E8C}" type="slidenum">
              <a:t>7</a:t>
            </a:fld>
          </a:p>
        </p:txBody>
      </p:sp>
    </p:spTree>
  </p:cSld>
  <p:transition advTm="15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nd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5 % “on-line” korisnika kupuje na Web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5% “on-line” korisnika pretražuje Web, ali kupuje na tradicionalan nač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nici uglavnom kupuju jeftine proizv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ji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grač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ft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315-78E6-46C9-A912-85D685738BB7}" type="slidenum">
              <a:t>8</a:t>
            </a:fld>
          </a:p>
        </p:txBody>
      </p:sp>
    </p:spTree>
  </p:cSld>
  <p:transition advTm="15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90068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1320" y="533520"/>
            <a:ext cx="29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izvodi koji se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vijetu kupuju na W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48A-DCD0-4E75-8246-B99071B86656}" type="slidenum">
              <a:t>9</a:t>
            </a:fld>
          </a:p>
        </p:txBody>
      </p:sp>
    </p:spTree>
  </p:cSld>
  <p:transition advTm="150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45:38Z</dcterms:created>
  <dc:creator>Ivan Škoro</dc:creator>
  <dc:description/>
  <dc:language>en-US</dc:language>
  <cp:lastModifiedBy>VBZ</cp:lastModifiedBy>
  <dcterms:modified xsi:type="dcterms:W3CDTF">2005-12-15T13:11:22Z</dcterms:modified>
  <cp:revision>7</cp:revision>
  <dc:subject/>
  <dc:title>6 INFORMATICS</dc:title>
</cp:coreProperties>
</file>