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C77-E3B5-4BC8-A98F-D6763231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5C2-710B-42F0-99AB-D8D2FA1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987-B3B3-4346-9D01-052947F6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632-99CA-44DD-86A7-F3EB55C4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714-D8D0-4483-850A-BEB7C63F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F73-08ED-47B0-A72E-CC21DA60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7DD0-E173-4744-817A-D0637B9A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4F74-B1F8-4A67-AA87-F92BA36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6C6A-18DB-4019-9FB8-CD0D5D8A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118-9993-4DDD-AD4E-998CC307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6C56-D1AE-4CB6-BBB6-B0DDD5A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F57-67B0-46E5-8E4F-2CD8B392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A71B-E054-4686-B4B5-D40A700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9955-E632-46B4-A17A-E9C1FA8F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156E-9D77-40EA-8C3B-F28D891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766-B7C6-46DA-8A4F-AF5F07F5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3D4-A4F0-4D1D-AB6B-A4CB1AAD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74A-3448-4117-8BB4-66CDEB2B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3E6-F480-4F7C-B1DB-882F085C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A27-9D3E-4AC4-84E2-37772EE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0AE-C3A7-47FD-969F-6EA34893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113-F3BF-46F0-9BC3-8A06FD0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41E-BDFD-4411-8D63-1A1FCC2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249-E74B-47E4-BB8D-5DC9B29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7EA-D878-4F07-90DF-5719A14813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4CB7-E416-4ED5-B561-2677551415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mjena računa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odaci i informacij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AD5D-D2C5-465C-B471-FE2E6001EF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DELIRANJE PODAT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9120" y="1915920"/>
            <a:ext cx="7556400" cy="40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gađaji i podaci o njima vezani vezani su vremensko-logičkim odnosim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učajan događaj prati slučajan podatak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jerarhijski i logički odnosi podataka ostvaruju 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strakcijom 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cijom podata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353-185E-4E96-AD8F-B5C6F2B487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Apstrakcija podatak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je logički postupak stvaranja logički nadređenih podataka u kome se iz logički nižih razina stvaraju logički više razine, razlikujem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Agregaciju 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Generalizacija podatak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Agregacija podatak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je izvođenje podataka višeg logičkog reda iz većeg broja međusobno srodnih podataka nižeg logičkog reda, uglavnom jednakih svojsta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Generalizacija podatak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je izvođenje podataka višeg logičkog reda iz većeg broja podataka nižeg logičkog reda iz zajedničkog ključnog svojst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Klasifikacija podatak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je postupak obrnut postupku apstrakcije, odnosno postupak raščlambe podataka višeg reda na neka zajednička svojstva ali i na neka bitno različi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654-9205-48BD-AA10-BF3429374F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8231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I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9120" y="1844640"/>
            <a:ext cx="75564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podataka predstavlja simbolički prikaz logičkih i hijerarhijskih odnosa u nekom sustavu. Modeliranje podataka izvodi u procesu razvoja IS-a. stoga govorimo 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ceptualnim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čkim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zičkim modelima podatak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ceptualni odražavaju način kako korisnici shvaćaju događaje u sustav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čke stvaraju informatičari kao osnovicu za razvoj IS-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zički su prilagođeni računal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AB7-870E-4A6A-87D0-B87AD9A9CA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1160" y="537840"/>
            <a:ext cx="784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PTUALNI MODE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orisnici IS zahtijevaju od informatičara kakav žele sustav pa definiraju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željnu strukturu podataka 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čine njihovog korišten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ruktura mora odražavati strukturu događaja, a način korištenja prihvatljive podatk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9DF-B026-4FC2-B051-5ECBBA56E23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ceptualni model treba biti cjelovit, konzistentan i neredundantan opis podataka koji se nalaze u IS-u, što znač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jelovito obuhvaćeni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sljedno preslikani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z ponavlj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nas se često koris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i entiteta veza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ktni model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021-154B-4508-AAB7-FE89F625C11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1160" y="920520"/>
            <a:ext cx="78469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I ENTITETA V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titet je ključni pojam konceptualnih modela podataka. Različito se definira, ispravno j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titet je sve što se može definirat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entiteta veza je grafički model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itet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za 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ribu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6E1-4F1E-4E9C-9E0B-89F72EA5D8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nosi između navedenih elemenata utvrđuju se apstrakcijom i klasifikacijo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zrada modela polazi od informacijskih zahtjeva korisni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se izrađuje u 3 korak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kupljanjem i analizom korisničkih zahtjev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kovanjem 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solidacijom mode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kupljanje i analiza polazi od zatečenog stanja i očekivanja korisni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83B-B4EC-4240-BFEF-2420209D2E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blikovanje modela polazi od utvrđivanja entiteta, veza, ključeva entiteta, ograničenja unosa, brisanja i promjene ključeva i na kraju pridodavanja naziva atribut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onsolidiranje predstavlja izradu konačne verzije, koja u IS može imati više podmodela, ali svi vjerno opisuju zahtjeve korisnika glede strukture budućeg IS-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ED6-5192-412E-99E4-191E7B8903C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520" y="383760"/>
            <a:ext cx="78976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KTNI MODE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9120" y="1779120"/>
            <a:ext cx="7556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žene obrade sve više slične umjetnoj inteligenciji, koje se provode u poslovnom odlučivanju i za koju se pripremaju takvi poda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ječ je o složenim podacima, koji odražavaju vrlo složene događaje,  objek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kt je apstrakcija iz problemske domene, o kome se prikupljaju podaci, obilježja i ponaša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C3C-8560-46EE-986A-A4309D3669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1160" y="460080"/>
            <a:ext cx="7846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ATOTEKE PODATA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atotek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 skup istovrsnih podataka obuhvaćenih zajedničkim kriterijem i smještenih u memoriju računa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oteka sadrži podatke o skupu istovrsnih objekata: studenata, računa, kupaca, dobavljača i sl., razvila se iz kartote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nas se rijetko koriste, a spominjemo ih zato što su preteča baza i skladišta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EC4-A196-416E-A0DF-94B5F91D8A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DACI U RAČUNA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aci su nematerijalni, njihova trajnost ovisi o nositeljim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pir je trajan nositelj, podložan kemijskim procesima, teško kompjutorski čitljivi poda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zvijene su masovne memorije, računalima čitlji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aci se pripremaju za lagano pronalaženje, organiziraju se u jedinice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EAF-1AFD-48F0-A7D2-BA9D0096F5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Koristile su s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lijedne (sekvencijalne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ktne (relativne)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eksne datotek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 slijedno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 slogovi upisuju jedan do drugoga, mogu biti fizički i logički povezani, logičko povezivanje se odvija pomoću pokazivač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5A7-DA66-491C-92C1-ED00DBF738D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9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9120" y="1628640"/>
            <a:ext cx="7556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lativn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oteke pohranjuju slogove na relativnim adresama od 1 do n, koji se ključevima uvijek memoriraju na predviđenim adresa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rese ne počinju s brojem 1 već se transformiraju matematičkom operacijom, najčešće dijeljenje s ostatkom pomoću čega se utvrdi direktna adre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ljevi se rješavaju prilagođavanjem blokovima vanjskih memori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285-4817-464E-85BF-8238C4D473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7858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eksn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oteka ima indeksno i područje slogo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ksno sadrži indekse koji služe kao kazala u knjigama. Uz ključ u indeksu nalazi se adresa sloga koji se nalazi u području podatak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govi se organiziraju slijedno zbog uštede memori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e se formirati više indeksa za više različitih ključeva. Osobe po prezimenu i jedinstvenom matičnom broj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752-B0BA-4309-B685-A504F14D878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eksno slijed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toteka istodobno omogućuje pojedinačne i skupne obrade pod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vedeni načini organiziranja datoteka imaju svojih prednosti i nedost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ijedna za pristup koristi N/2 koraka, potpuno koristi memorijski prostor i pogodna je skupnoj obradi pod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F77-ACFF-41A9-8CB5-E5D8F8E70B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direktnoj se do podatke pristupa u 1-2 koraka, slabo se koristi memorijski prostor, prikladna je za pojedinačne obr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indeksno-slijednoj treba napraviti 2 i više koraka, prikladna je za pojedinačne i skupne obrade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ko se zaključi da je organizacijski oblik datoteke određivao način obrade podataka, te da su se poduzeća odlučivala za one oblike koji su zadovoljavali njihovu najčešću obrad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C88-E391-4B2E-8ABB-554957DBD16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ZE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Baza podataka,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skup podataka nekog IS-a, podaci o različitim objekatima poslovnog susta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eđutim, više je definicija izvedenih iz potreba promatranih sa različitih aspekata problema na koji se odno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ije presudan medij na kome su memorirane, suvremeni koristi magnetske memori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DA9-8C48-4C8C-9140-DEBF5D2807F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RSTE BAZA PODATA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nas postoje tekstne i multimedijalne baze podataka, a ovisno o vrsti i namjeni razlikujem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ze formatiranih podatak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ze neformatiranih podataka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ze znan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558-AE13-4BBB-BD7A-E4D54E5BE1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poslovnim se primjenama najčešće koriste baze formatiranih podataka, o svim objektima se bilježe iste podaci i memoriraju na istom mjestu u slogu radi lakšeg nalaže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zgradnja suvremenih baza podataka koriste relacijski, objektni ili dimenzijski mod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nas se najčešće koriste relacijske organizacije, u njima su zorno prikazani podaci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D47-B7DD-4F52-8346-EC7E5FF4476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aze neformatiranih podatak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adrže tekstne, različite multimedijske podatk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kada se o njima govori kao o bazama dokumenata. HINA, REUTERS i mnoge druge agencije grade i koriste takve baze podataka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njima se podaci traže navođenjem ključnih riječi koje mogu biti u traženim dokument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E31-62E5-46B5-AD77-143883976A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ZE ZNA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ze znanja prikazuju znanje u različitim oblicima, pravila, semantičkih mreža, okvira ili scenarij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kazano znanje prikladno je za korištenje u različitim mehanizmima zaključiva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kspertni sustavi probleme iz svoje domene rješavaju na taj način, različite probleme složenih poslovnih sustava rješavaju približno optimal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9D3-A901-4214-AEDB-F5B6467A0A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307800"/>
            <a:ext cx="784728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DINICE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vaki događaj prate podaci, promatrani sa stajališt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čkih 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zičkih ob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Čovjek vrši misaone procese dovodeći ih u vezu s pojmovima, koji se u informatici prikazuju kao polja podataka i promatraju kao logičke jedinice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82B-0092-41A4-8872-B33C12C078E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JSKA BAZA PODATA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aci se nalaze u tablicama, skupova relacija, tablic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cija relacije naziva se relacijskom shemom a ima naziv relacije i popisa atributa koji joj pripadaj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cijskom baza podataka sastoji se od svih relacija koje ulaze u njezin sastav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8A2-2385-40E2-9F82-7B98BF24D61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4255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9120" y="2458800"/>
            <a:ext cx="755640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Relacije ili tablice imaju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etke ili n-toraka te stupce ili atribute osnovnih značajk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 postoje 2 jednaka stupc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edoslijed stupaca nije bita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 postoje 2 jednaka retk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edoslijed redaka nije bit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Atribut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li skup atributa kojim se može identificirati svaki redak naziva se ključem. Izabire se minimalni ključ i naziva primarnim. Primarni ključ obično je šif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F44-67C1-418F-BB1C-6C164A9B8C3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JEZICI Z RELACIJSKE BAZE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84608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Verdana"/>
              </a:rPr>
              <a:t>SQL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je upitni jezik a ima naredbe za sveobuhvatan rad s relacijskom bazom podataka, naredbe za definicije, za manipulacije i upravljačke naredb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Verdana"/>
              </a:rPr>
              <a:t>Query-By-Example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, je zanimljiv grafički upitni jezik i koristi se u sustavima za upravljanje bazama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92F-7BAF-4946-8470-A2379F3D389D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001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gičke jedinice podata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nak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lje podatak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ment podatak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g podataka 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ička datoteka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nak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je element nekog sustava, a služi u standardnim komunikacijama i prikazuje se standardnim kodovim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F09-7150-4ED2-BBF2-DB6D05FAC4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lje podatak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dstavlja niz znakova  od jednog do više, a Informatika se služi i izrazom prazno polje. Podaci u poljima mogu biti brojčani, alfabetski i alfanumeričk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gment podataka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edstavlja broj logičkih podataka o nekom objektu, svi podaci koji opisuju neki objekt, bilo fiksne ili promjenjive duž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gička datoteka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rganizirani skup istovrsnih slogova podataka, datoteke: kupaca, dobavljača, kadrova, osnovnih sredstava i s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D75-335D-4142-9120-5054382BF2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FIZIČKE JEDINICE PODATA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Teorija informacija ima nezaobilazno ime Claude Shannon-a, utvrdio je osnovnu fizičku jedinicu podataka, nazvao je bit, jedinicu koja može poprimiti jedno od 2 moguća stanja, pa ima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i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aj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lok podataka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Fizičku datoteku podata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EF6-BF2B-4AF5-8DD0-445C36F85C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9158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Bi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 najmanja jedinica koja se može zapisati i pronaći u memoriji računal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Bajt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 niz fizičkih znakova potrebnih za prikazivanje jednog logičkog znak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Blok podataka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je pojam koga određuju tehničke karakteristike uređaja za obradu i memoriranje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C8D-4B74-4769-943E-6C6CD55C28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Verdana"/>
              </a:rPr>
              <a:t>Fizička datoteka podataka,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je logička datoteka prevedena u oblike prilagođene memorijskom prostoru i načinu rada računal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Verdana"/>
              </a:rPr>
              <a:t>Strojne riječi,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su 32 i više bitne. Koriste se i druge jedinice: kilo, mega, giga, tera itd., 2*10 </a:t>
            </a:r>
            <a:r>
              <a:rPr b="0" lang="hr-HR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10*3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3F4-C7BC-46B5-8704-259A77E73C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poredba fizičkih i logičkih jedin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79250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8A6-D9C0-4DB4-9C7B-DDBD5C80F9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6:24:00Z</dcterms:created>
  <dc:creator>VBZ</dc:creator>
  <dc:description/>
  <dc:language>en-US</dc:language>
  <cp:lastModifiedBy>VBZ</cp:lastModifiedBy>
  <dcterms:modified xsi:type="dcterms:W3CDTF">2005-12-15T13:13:28Z</dcterms:modified>
  <cp:revision>4</cp:revision>
  <dc:subject/>
  <dc:title>Primjena računala podaci i informacije</dc:title>
</cp:coreProperties>
</file>