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99A-FEF3-4F7E-A772-E5DCF025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AB7-9FA1-4BFD-82F3-5E8770E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74F-1125-4FBF-8D51-60B8071C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F56-97B0-4521-ADC7-10DCF794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72F7-97F5-4815-9EB6-C095DB40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F44A-F809-47D9-873D-32C856F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1552-1A71-4CE1-88B9-AA55666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28E3-AA68-44C9-AEA0-69AF40A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AAA-B1E0-4F6C-8C10-2177EBC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14A-5778-4CB3-B65B-8305F2E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6AAE-8D78-40CA-BCBF-7437099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93E-BADA-4C59-AFBE-C18E989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AFD-4693-494F-A073-E0C031B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05C0-47BA-40E5-B01E-1F7E000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AFE-2358-49B2-BE5E-10203AC8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379F-74B9-4B5F-8D03-0CC4974E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6FA0-3818-48FA-A1B5-CDFCB9F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81E-C8A8-4AF0-8DF2-CF04F97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39-EA89-4F28-8B39-82C5AD62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4E4-82D2-4067-9204-98CAE7C9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265-12C9-4166-A8CD-4EAD288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A44-8D31-4348-8285-8BF900F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171-82B0-4C77-A4BC-0A55B9E0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572-56EA-4E33-8A5E-DFE11E1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D3F-40A6-42DD-98AB-92D23C4241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82D-C03D-4883-9D92-3C75B14D02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MJENA RAČUNAL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6F0D-1114-4C90-B9D6-F5896D1472F9}" type="slidenum">
              <a:t>1</a:t>
            </a:fld>
          </a:p>
        </p:txBody>
      </p:sp>
    </p:spTree>
  </p:cSld>
  <p:transition advTm="12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ssembl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 mnemonički jezik koji ima (rezervirane ključne riječi i njima zamjenjuju nizove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binarnih znako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mjer: binarni niz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10001011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redstavlja naredbu za zbrajanje =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AD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grami prevoditelji – prepoznaju elemente izvornog programa i prevode ih (sklapaju, engl. to assemble) u strojni jezik i time se stvara odnos prema strojnom jeziku 1: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E1B-AEBF-4717-B713-BF0B09DD9B94}" type="slidenum">
              <a:t>10</a:t>
            </a:fld>
          </a:p>
        </p:txBody>
      </p:sp>
    </p:spTree>
  </p:cSld>
  <p:transition advTm="12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371600"/>
            <a:ext cx="2068560" cy="2079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49840" y="1371600"/>
            <a:ext cx="2102040" cy="2155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6480" y="2003400"/>
            <a:ext cx="1600200" cy="9907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82760" y="1851120"/>
            <a:ext cx="1038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t x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d 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re Z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802480" y="1851120"/>
            <a:ext cx="16761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001000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11001000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0010110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668760" y="2308320"/>
            <a:ext cx="11523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sembl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5116680" y="246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246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64800" y="378936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gram u stroj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ez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objektni k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7560" y="3809880"/>
            <a:ext cx="32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program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semblerskom jez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(izvorni k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55D-FADB-46DA-93AC-D360A5777A9E}" type="slidenum">
              <a:t>11</a:t>
            </a:fld>
          </a:p>
        </p:txBody>
      </p:sp>
    </p:spTree>
  </p:cSld>
  <p:transition advTm="12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iši programski jezici – 3. genera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vi su programi bliži ljudskom načinu razmišljanja i u njima nema odnosa 1:1 prema kao u strojnom jez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mjeri: Basic, Fortran, COBOL, Pascal,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jihova se pretvorba u strojni jezik provodi pomoću programa prevoditelja a poznati s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ompajleri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nterprete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547-4C57-4DE0-A433-DECF4ACD3586}" type="slidenum">
              <a:t>12</a:t>
            </a:fld>
          </a:p>
        </p:txBody>
      </p:sp>
    </p:spTree>
  </p:cSld>
  <p:transition advTm="12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nosti 3 generacije programskih jezika su u tome š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ovise o računalu na kome se izvod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jednostavni za izmjenu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u njima lako pronalaze greš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dostaci su š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že poznavanje semantike i sintak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visoko proceduralni (primjer: COBO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EDF-A749-495A-97E4-7F10D2F726B0}" type="slidenum">
              <a:t>13</a:t>
            </a:fld>
          </a:p>
        </p:txBody>
      </p:sp>
    </p:spTree>
  </p:cSld>
  <p:transition advTm="12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43440" y="189000"/>
            <a:ext cx="4879800" cy="666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2666880"/>
            <a:ext cx="50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Primjer pretvorbe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simboličkog obl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Tahoma"/>
              </a:rPr>
              <a:t>u strojni jezik (izvršni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812-E284-4606-8A06-287DE1B8F3A1}" type="slidenum">
              <a:t>14</a:t>
            </a:fld>
          </a:p>
        </p:txBody>
      </p:sp>
    </p:spTree>
  </p:cSld>
  <p:transition advTm="12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4. generacija programskih jezika bliska je ljudskom načinu razmišljanja, nije strogo procedural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ipični predstavnici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QBE - Query By Exampl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QL - Structured Query Langu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17E-741C-461E-AA16-1121EDD0587C}" type="slidenum">
              <a:t>15</a:t>
            </a:fld>
          </a:p>
        </p:txBody>
      </p:sp>
    </p:spTree>
  </p:cSld>
  <p:transition advTm="12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Jezici 5. generacije ili “Natural language programming languages - NLP” su programi  koji prevode prirodni jezik u strukturalni, računalu razumljivi jezi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edstavnici su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NTELLECT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ELF i drug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Jezici 6. generacije ili “Machine learning languages” su jezici zasnovani n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euralnim mrežama 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umjetnoj inteligencij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182-A6D2-4D85-8B09-1FB7B3D24496}" type="slidenum">
              <a:t>16</a:t>
            </a:fld>
          </a:p>
        </p:txBody>
      </p:sp>
    </p:spTree>
  </p:cSld>
  <p:transition advTm="12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toje i brojni drugi novi programski jezici razvijenu u zadnjih 10-tak godi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o su u pravilu objektno orijentirani programski jezici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isual Bas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maltal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B0F-BA55-46BB-B9E7-68FBFA04D436}" type="slidenum">
              <a:t>17</a:t>
            </a:fld>
          </a:p>
        </p:txBody>
      </p:sp>
    </p:spTree>
  </p:cSld>
  <p:transition advTm="12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ve se više razvijaju programski jezici orijentirani Internetu ka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HTML (Hypertext Markup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XML (eXtensible Markup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ava (applets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ctiveX (Microsoft) – niz pravila o razmjeni podataka između različitih programa i programskih je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ML (Virtual Reality Modeling Languag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drug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900-5D80-4B6F-96D9-282E708D782D}" type="slidenum">
              <a:t>18</a:t>
            </a:fld>
          </a:p>
        </p:txBody>
      </p:sp>
    </p:spTree>
  </p:cSld>
  <p:transition advTm="12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istupi razvoju program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radicionalni (systems development life cycle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totipiranj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upovina gotovih softverskih paket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grami koje razvijaju krajnji korisnici sami 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anjske usluge (outsourc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348-D854-46AB-83C6-4CD3B8FCE034}" type="slidenum">
              <a:t>19</a:t>
            </a:fld>
          </a:p>
        </p:txBody>
      </p:sp>
    </p:spTree>
  </p:cSld>
  <p:transition advTm="12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ftver- PROMRAMSKA POTPO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Što su program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1B3-CC6F-428C-9BF6-3E2E39B1A63D}" type="slidenum">
              <a:t>2</a:t>
            </a:fld>
          </a:p>
        </p:txBody>
      </p:sp>
    </p:spTree>
  </p:cSld>
  <p:transition advTm="12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1600" y="1208160"/>
            <a:ext cx="30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voj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4120" y="251460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Tradicional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64240" y="251460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iza zaht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124080"/>
            <a:ext cx="2133720" cy="381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cifikacija zad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73392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zajn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41972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s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5029200"/>
            <a:ext cx="213372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pitiv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5791320"/>
            <a:ext cx="2210040" cy="3808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državanje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89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505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70800" y="4021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800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5410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40720" y="5877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501336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guć povratak u sv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d faza postup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3284640"/>
            <a:ext cx="407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četak postupka: za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kraj postupka: gotov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C8D-D38A-489D-ABEC-3FB07C29A14D}" type="slidenum">
              <a:t>20</a:t>
            </a:fld>
          </a:p>
        </p:txBody>
      </p:sp>
    </p:spTree>
  </p:cSld>
  <p:transition advTm="12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ototipiranje je poseban način razvoja programa u kome s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efinira projekt, postavljaju zahtjevi i izrađuje prototip (program koji se može izvršavati) a zatim koristi i ako je korisnik zadovoljan prototipom postupak je završ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protivnom slijede izmjene i poboljšanja prototip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47B-F301-4D22-A028-4845599B1C5E}" type="slidenum">
              <a:t>21</a:t>
            </a:fld>
          </a:p>
        </p:txBody>
      </p:sp>
    </p:spTree>
  </p:cSld>
  <p:transition advTm="12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dući da se na tržištu nude gotovi softverski paketi tvrtke se mogu odlučiti i za takve progra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u tom se slučaju definira projekt, postavljaju zahtjevi, vrši odabir softvera, prilagodba potrebam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odi redizajn organizacijskih proces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učavaju korisnici i koriste nabavljeni program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62920" y="4419720"/>
          <a:ext cx="111924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19720"/>
                    <a:ext cx="111924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C79-3969-4859-8D77-B4417513AF8D}" type="slidenum">
              <a:t>22</a:t>
            </a:fld>
          </a:p>
        </p:txBody>
      </p:sp>
    </p:spTree>
  </p:cSld>
  <p:transition advTm="12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ver razvija krajnji korisni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risnik definira svoje zahtjeve i odabire odgovarajući softver te ga zatim razvija i primjenjuje ponavljajući postupak dok ne zadovolji svoje potreb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ljaju se i stanoviti problemi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graničene mogućnosti izbora poželjnog softver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tanje kvalitete i standarda odabrane programske potp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359-E69F-421E-B19A-E7123744CEC5}" type="slidenum">
              <a:t>23</a:t>
            </a:fld>
          </a:p>
        </p:txBody>
      </p:sp>
    </p:spTree>
  </p:cSld>
  <p:transition advTm="12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njske uslu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lovi izrade potrebnih programa povjeravaju se specijaliziranim davateljima usluga. Međutim, treba postaviti pitanj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ko provoditi kontrolu i održavanj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štite tajnosti strateških informacij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isnosti o odabranom dobavljač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85E-A271-489B-A3C5-409D5CFF2682}" type="slidenum">
              <a:t>24</a:t>
            </a:fld>
          </a:p>
        </p:txBody>
      </p:sp>
    </p:spTree>
  </p:cSld>
  <p:transition advTm="12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ze razvoja progra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naliza zahtjeva (ciljevi, zadaci, opisivanje riječima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pecifikacija zadataka – opis uvjeta koje budući program mora zadovoljiti (kojeg su oblika i vrijednosti ulazni, odnosno izlazni podac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mora izgledati korisničko sučelje,..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izajn programa – definicija podataka (modula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trukture programa, algoritama i načina razmjene podataka između njih (često se koristi Unified Modelling Language - UM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E63-9091-4814-B68B-53283DA3E8BE}" type="slidenum">
              <a:t>25</a:t>
            </a:fld>
          </a:p>
        </p:txBody>
      </p:sp>
    </p:spTree>
  </p:cSld>
  <p:transition advTm="12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zvoj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aze razvoja progra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sanje program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spitivanje programa: 3 skupine mogućih   pogrešak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prepoznate u toku prevođenja (compile-time errors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prepoznate u toku izvođenja (run-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ime errors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greške koje se ne mogu ustanoviti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iti u toku prevođenja, niti u toku izvođenja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krivo postavljen problem, upotrijebljen krivi algoritam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F57-5BCE-4D99-846F-1340DDF32AB3}" type="slidenum">
              <a:t>26</a:t>
            </a:fld>
          </a:p>
        </p:txBody>
      </p:sp>
    </p:spTree>
  </p:cSld>
  <p:transition advTm="12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70200" y="189000"/>
            <a:ext cx="556092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F4B-D0D8-478F-A913-E01E65AB493C}" type="slidenum">
              <a:t>27</a:t>
            </a:fld>
          </a:p>
        </p:txBody>
      </p:sp>
    </p:spTree>
  </p:cSld>
  <p:transition advTm="12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novne skupine programa 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sustavni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aplikacijski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komunikacijski (mrež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0E9-50D6-4F9D-BBE9-AF96B2A5BE03}" type="slidenum">
              <a:t>28</a:t>
            </a:fld>
          </a:p>
        </p:txBody>
      </p:sp>
    </p:spTree>
  </p:cSld>
  <p:transition advTm="12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STAVSKI PROGRA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dstavljaju programska potpora za upravljanje strojnim resursima sustava (hardv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toje 3 skupine sustavskih progra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peracijski susta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moćni programi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grami prevoditelji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EDD-3B50-4B13-B06D-CEC872BDE2AB}" type="slidenum">
              <a:t>29</a:t>
            </a:fld>
          </a:p>
        </p:txBody>
      </p:sp>
    </p:spTree>
  </p:cSld>
  <p:transition advTm="12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Što su program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u  nematerijalne komponente elektroničkih računala a predstavlja ih nizovi instrukcija unaprijed pripremljenih i pohranjenih u glavnoj memoriji računala tako da ih procesor može nesmetano izvodi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e čuvaju u obliku jedne ili više datoteka na vanjskim memorijama računa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i su, odnosno sadrže, znanje o metodama, i postupcima rješavanja određenih proble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A98-CBF4-44F2-B35B-E3AEFD6D28CF}" type="slidenum">
              <a:t>3</a:t>
            </a:fld>
          </a:p>
        </p:txBody>
      </p:sp>
    </p:spTree>
  </p:cSld>
  <p:transition advTm="12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STAVSKI PROGRAM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peracijski sustav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pravlja svim strojnim komponentama računal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mogućuje izvršavanje korisničkih aplikacij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peracijski sustavi mogu bit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dnokorisnički/višekorisničk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jednoprogramski/višeprogramsk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88E-E244-4FC4-B059-8A961E5B5C13}" type="slidenum">
              <a:t>30</a:t>
            </a:fld>
          </a:p>
        </p:txBody>
      </p:sp>
    </p:spTree>
  </p:cSld>
  <p:transition advTm="12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S za mikroračunal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indow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ni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inux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ac 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7B1-2684-49EA-A228-825242D242B8}" type="slidenum">
              <a:t>31</a:t>
            </a:fld>
          </a:p>
        </p:txBody>
      </p:sp>
    </p:spTree>
  </p:cSld>
  <p:transition advTm="12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72640" cy="2625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84200" y="12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8317080" cy="45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E7B-F034-4EF0-8EBE-E113BB997067}" type="slidenum">
              <a:t>32</a:t>
            </a:fld>
          </a:p>
        </p:txBody>
      </p:sp>
    </p:spTree>
  </p:cSld>
  <p:transition advTm="12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318960"/>
          <a:ext cx="914400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8960"/>
                    <a:ext cx="91440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DB8-0611-437A-85D8-2E2F98BEB5C4}" type="slidenum">
              <a:t>33</a:t>
            </a:fld>
          </a:p>
        </p:txBody>
      </p:sp>
    </p:spTree>
  </p:cSld>
  <p:transition advTm="12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905440" cy="4707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48800" y="55897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linux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Linux Penguin"/>
          <p:cNvPicPr/>
          <p:nvPr/>
        </p:nvPicPr>
        <p:blipFill>
          <a:blip r:embed="rId2"/>
          <a:stretch/>
        </p:blipFill>
        <p:spPr>
          <a:xfrm>
            <a:off x="6172200" y="228600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00C-30AA-45F9-9512-278635870F5F}" type="slidenum">
              <a:t>34</a:t>
            </a:fld>
          </a:p>
        </p:txBody>
      </p:sp>
    </p:spTree>
  </p:cSld>
  <p:transition advTm="12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TAV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moćni programi obavljaju različite zadać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sanje programskog koda (editori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rtiranje datote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viranje podata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ravljanje bazama podata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9DE-18DB-4661-92EC-E12835C45ED6}" type="slidenum">
              <a:t>35</a:t>
            </a:fld>
          </a:p>
        </p:txBody>
      </p:sp>
    </p:spTree>
  </p:cSld>
  <p:transition advTm="12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34520" cy="47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C50-D542-4559-A00D-EE45A3EDD3FF}" type="slidenum">
              <a:t>36</a:t>
            </a:fld>
          </a:p>
        </p:txBody>
      </p:sp>
    </p:spTree>
  </p:cSld>
  <p:transition advTm="12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TAV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i prevoditelj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uže kao posrednici između programiranja i rada računal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avljaju funkciju prevođenja s nekog simboličkog jezika kojim se služi korisnik na stroju razumljiv jezi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DAA-4615-48E2-8D0F-39DDFA3D4CF5}" type="slidenum">
              <a:t>37</a:t>
            </a:fld>
          </a:p>
        </p:txBody>
      </p:sp>
    </p:spTree>
  </p:cSld>
  <p:transition advTm="120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APLIKACIJ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ovu grupu spadaju svi korisnički programi kojima oni rješavaju svoje zahtjeve obrade podatak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novne vr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lastiti i tuđi (paketi, gotova rješenja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mercijalni i nekomercijal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23F-8963-416E-9F0E-75BDFF446056}" type="slidenum">
              <a:t>38</a:t>
            </a:fld>
          </a:p>
        </p:txBody>
      </p:sp>
    </p:spTree>
  </p:cSld>
  <p:transition advTm="120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ma namjen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za osobnu produktivnost (MS Office, Corel, IBM Lotus)  aplikacije za upravljanje poslovanjem i poslovnim resursima poduzeć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plikacije za elektroničku poštu i suradnju na mrež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plikacije za rad u skupin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7F2-9C22-4015-80F7-74A7AF23C9A4}" type="slidenum">
              <a:t>39</a:t>
            </a:fld>
          </a:p>
        </p:txBody>
      </p:sp>
    </p:spTree>
  </p:cSld>
  <p:transition advTm="12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ktronička računala “razumiju” samo strojni jezik, odnosno ona mogu izvršavati zadaće samo kada su im napisane u jednostavnim strojnim instrukcijama, na osnovi kojih se obavljaju samo najjednostavnije operacij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moću jednostavnih programa rješavaju se vrlo složeni poslovni problem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dući da je pisanje programa u strojnom jeziku postalo vrlo teško razvijeni su programski jezic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9E2-0826-4885-9CB7-80F7F92A3A92}" type="slidenum">
              <a:t>4</a:t>
            </a:fld>
          </a:p>
        </p:txBody>
      </p:sp>
    </p:spTree>
  </p:cSld>
  <p:transition advTm="120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rsta i namjena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KOMUNIKACIJSKI SOFT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adatak komunikacijskog softvera je upravljanje prijenosom podataka na daljin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vojem tehnologije dolazi do stapanja računala i telekomunikacija - stvaraju se složeni sustavi - računalne mrež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528-9EC1-4488-A4BC-7B8813FABC32}" type="slidenum">
              <a:t>40</a:t>
            </a:fld>
          </a:p>
        </p:txBody>
      </p:sp>
    </p:spTree>
  </p:cSld>
  <p:transition advTm="120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503160" y="43344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4. pred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84200" y="12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053-43B5-4781-AC54-82E3DF63E6E2}" type="slidenum">
              <a:t>41</a:t>
            </a:fld>
          </a:p>
        </p:txBody>
      </p:sp>
    </p:spTree>
  </p:cSld>
  <p:transition advTm="12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čunala izvode programe slijedno, logičkim redom instrukciju po instrukcij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kcije se izvode u strojnom ciklusu – u strojnom se ciklusu potpuno obavi jedna instrukcij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ojni se ciklus i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kcijski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zvršni 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4E7-54D9-478B-8FD5-77540D9CB294}" type="slidenum">
              <a:t>5</a:t>
            </a:fld>
          </a:p>
        </p:txBody>
      </p:sp>
    </p:spTree>
  </p:cSld>
  <p:transition advTm="12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zvođenje pro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nstrukcijski dio strojnog ciklusa odvija se tak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pravljačka jedinica dohvaća instrukciju iz memorije (programsko brojilo pamti adresu instrukcije koja je na redu za izvođenje), zatim dekodira instrukciju, odnosno prepoznaje njezinu funkcij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zvršni dio strojnog ciklusa odvija se tako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pravljačka jedinica generira upravljačke signale prema kojima drugi uređaji (aritm.log.jedinica, memorija i periferne jedinice) izvršavaju specifične operaci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zultat obavljenih operacija sprema se u memorij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203-52D2-45D0-84E0-C2CE3AB5BE9D}" type="slidenum">
              <a:t>6</a:t>
            </a:fld>
          </a:p>
        </p:txBody>
      </p:sp>
    </p:spTree>
  </p:cSld>
  <p:transition advTm="12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2280" y="13716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gramski jez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761080" cy="41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B8A-60DF-4605-BEE7-19BCA3736398}" type="slidenum">
              <a:t>7</a:t>
            </a:fld>
          </a:p>
        </p:txBody>
      </p:sp>
    </p:spTree>
  </p:cSld>
  <p:transition advTm="12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ki jez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jni jezik nije ništa drugo do binarnog brojevnog sustava kojim se mogu napisati vrlo jednostavne strojne instrukcij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osnovi strojnog jezika obavljaju se samo osnovne aritmetičke i logičke operacije nad skupinama bitova koja se interpretira kao cijeli ili realni broj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jni jezik koristi jednostavne tipove podataka i ovisi o računalu na kome se izvode operacij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8E-4B1D-405F-B330-F517F804F6F7}" type="slidenum">
              <a:t>8</a:t>
            </a:fld>
          </a:p>
        </p:txBody>
      </p:sp>
    </p:spTree>
  </p:cSld>
  <p:transition advTm="12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4760" y="126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gramski jez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72120" cy="533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398840" y="404640"/>
            <a:ext cx="4745160" cy="377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33840" y="5445000"/>
            <a:ext cx="76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vi kratki korisnički program pohranjen u račun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he Baby” -  University of Manchester, 194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646-A88C-4D0E-B26D-DF1835F91305}" type="slidenum">
              <a:t>9</a:t>
            </a:fld>
          </a:p>
        </p:txBody>
      </p:sp>
    </p:spTree>
  </p:cSld>
  <p:transition advTm="12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55:51Z</dcterms:created>
  <dc:creator>VBZ</dc:creator>
  <dc:description/>
  <dc:language>en-US</dc:language>
  <cp:lastModifiedBy>VBZ</cp:lastModifiedBy>
  <dcterms:modified xsi:type="dcterms:W3CDTF">2005-12-15T13:12:39Z</dcterms:modified>
  <cp:revision>4</cp:revision>
  <dc:subject/>
  <dc:title>PRIMJENA RAČUNALA</dc:title>
</cp:coreProperties>
</file>