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A9A-9161-49C9-B01C-BC61A086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19A-1962-45B5-B142-1B711EB7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081-1DFF-476C-8C18-B9E69F09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F2D-8D3D-44D8-9A8C-B1B10B8A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6C21-366E-42C7-80E9-ECC49F3D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F4C2-68B4-4D2A-97C6-E11657F3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0109-D696-4F5D-B566-F4747DE8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1286-355C-4CE9-B7B9-620DB883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0D1E-49B1-41DF-B25D-895F9727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70AB-17D8-4B2E-9F2F-5C79A8E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E450-488B-4C27-8852-83189575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09F-5EC5-4756-BF5D-48328F3E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EA96-4B00-4D0A-8887-D143DFE3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9C4C-C1FC-4E32-9535-CD4D63A4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2200-159A-4F1B-A5A3-B819562F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C1CD-BDC3-4AE9-91BC-9625D163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2864-26D8-4D92-ACFA-9AA50DAF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544-A809-4B52-B9A4-814C59A8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CAA-0460-4BA4-AF73-9AE720E1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AF4-8138-4768-8CDB-6AEF0F29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A61-9E1C-4514-A3F3-E795BF3F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815-44BB-4B2F-8CA5-E734A13E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488-6ACD-4BAA-BE2F-D4EFB7A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41A-3655-4762-A1FA-0DE9AE33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4725-D14A-4BC7-A97C-0C9936CDBE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FEF-B710-400B-99D9-548CBF5AB0C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MJENA RAČUNAL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0E76-8AB6-4F49-A027-AE7C33D8C546}" type="slidenum">
              <a:t>1</a:t>
            </a:fld>
          </a:p>
        </p:txBody>
      </p:sp>
    </p:spTree>
  </p:cSld>
  <p:transition advTm="120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ssemblerski jez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Je mnemonički jezik koji ima (rezervirane ključne riječi i njima zamjenjuju nizove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binarnih znakov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imjer: binarni niz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10001011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redstavlja naredbu za zbrajanje =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AD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grami prevoditelji – prepoznaju elemente izvornog programa i prevode ih (sklapaju, engl. to assemble) u strojni jezik i time se stvara odnos prema strojnom jeziku 1: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58BA-D348-44DA-8013-3AC0AF86DD07}" type="slidenum">
              <a:t>10</a:t>
            </a:fld>
          </a:p>
        </p:txBody>
      </p:sp>
    </p:spTree>
  </p:cSld>
  <p:transition advTm="120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1371600"/>
            <a:ext cx="2068560" cy="2079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49840" y="1371600"/>
            <a:ext cx="2102040" cy="2155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16480" y="2003400"/>
            <a:ext cx="1600200" cy="9907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82760" y="1851120"/>
            <a:ext cx="10382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t x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d 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ore Z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802480" y="1851120"/>
            <a:ext cx="167616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0010001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11001000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00101100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668760" y="2308320"/>
            <a:ext cx="115236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sembl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5116680" y="246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2460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64800" y="3789360"/>
            <a:ext cx="31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ogram u stroj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ezi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objektni k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7560" y="3809880"/>
            <a:ext cx="32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program 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asemblerskom jez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(izvorni k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050-9AA1-42C6-B97E-4CEDCD7E58DE}" type="slidenum">
              <a:t>11</a:t>
            </a:fld>
          </a:p>
        </p:txBody>
      </p:sp>
    </p:spTree>
  </p:cSld>
  <p:transition advTm="120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Viši programski jezici – 3. generaci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vi su programi bliži ljudskom načinu razmišljanja i u njima nema odnosa 1:1 prema kao u strojnom jez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imjeri: Basic, Fortran, COBOL, Pascal,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jihova se pretvorba u strojni jezik provodi pomoću programa prevoditelja a poznati s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ompajleri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nterpreter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B04-2E76-4BE9-A51D-24EDEAFFA7E5}" type="slidenum">
              <a:t>12</a:t>
            </a:fld>
          </a:p>
        </p:txBody>
      </p:sp>
    </p:spTree>
  </p:cSld>
  <p:transition advTm="12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nosti 3 generacije programskih jezika su u tome š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 ovise o računalu na kome se izvod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 jednostavni za izmjenu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 u njima lako pronalaze grešk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dostaci su š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že poznavanje semantike i sintak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 visoko proceduralni (primjer: COBO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EE2-0AF4-4A88-BAF6-43AF86B41494}" type="slidenum">
              <a:t>13</a:t>
            </a:fld>
          </a:p>
        </p:txBody>
      </p:sp>
    </p:spTree>
  </p:cSld>
  <p:transition advTm="120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43440" y="189000"/>
            <a:ext cx="4879800" cy="666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33520" y="2666880"/>
            <a:ext cx="50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a50021"/>
                </a:solidFill>
                <a:latin typeface="Tahoma"/>
              </a:rPr>
              <a:t>Primjer pretvorbe 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a50021"/>
                </a:solidFill>
                <a:latin typeface="Tahoma"/>
              </a:rPr>
              <a:t>simboličkog obl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a50021"/>
                </a:solidFill>
                <a:latin typeface="Tahoma"/>
              </a:rPr>
              <a:t>u strojni jezik (izvršni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48D-01A8-46CC-BA7C-6F12A59A2DE5}" type="slidenum">
              <a:t>14</a:t>
            </a:fld>
          </a:p>
        </p:txBody>
      </p:sp>
    </p:spTree>
  </p:cSld>
  <p:transition advTm="120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4. generacija programskih jezika bliska je ljudskom načinu razmišljanja, nije strogo proceduraln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Tipični predstavnici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QBE - Query By Exampl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QL - Structured Query Langua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2A5-6E31-43C3-9009-CCAC28EE6FFF}" type="slidenum">
              <a:t>15</a:t>
            </a:fld>
          </a:p>
        </p:txBody>
      </p:sp>
    </p:spTree>
  </p:cSld>
  <p:transition advTm="120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Jezici 5. generacije ili “Natural language programming languages - NLP” su programi  koji prevode prirodni jezik u strukturalni, računalu razumljivi jezi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edstavnici su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INTELLECT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ELF i drug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Jezici 6. generacije ili “Machine learning languages” su jezici zasnovani n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neuralnim mrežama i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umjetnoj inteligencij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D4B-6E04-42A7-AE65-2CB489573603}" type="slidenum">
              <a:t>16</a:t>
            </a:fld>
          </a:p>
        </p:txBody>
      </p:sp>
    </p:spTree>
  </p:cSld>
  <p:transition advTm="120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ostoje i brojni drugi novi programski jezici razvijenu u zadnjih 10-tak godi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To su u pravilu objektno orijentirani programski jezici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Visual Bas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maltal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941-55CC-4D4F-83E1-A837DC386258}" type="slidenum">
              <a:t>17</a:t>
            </a:fld>
          </a:p>
        </p:txBody>
      </p:sp>
    </p:spTree>
  </p:cSld>
  <p:transition advTm="120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ve se više razvijaju programski jezici orijentirani Internetu ka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HTML (Hypertext Markup Language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XML (eXtensible Markup Language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Java (applets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ctiveX (Microsoft) – niz pravila o razmjeni podataka između različitih programa i programskih je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VRML (Virtual Reality Modeling Language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drug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279-3C42-4E6F-9147-A5590717FE26}" type="slidenum">
              <a:t>18</a:t>
            </a:fld>
          </a:p>
        </p:txBody>
      </p:sp>
    </p:spTree>
  </p:cSld>
  <p:transition advTm="120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istupi razvoju program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Tradicionalni (systems development life cycle)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ototipiranj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Kupovina gotovih softverskih paketa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ogrami koje razvijaju krajnji korisnici sami 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Vanjske usluge (outsourc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D07-7534-431A-8073-AE2398096B38}" type="slidenum">
              <a:t>19</a:t>
            </a:fld>
          </a:p>
        </p:txBody>
      </p:sp>
    </p:spTree>
  </p:cSld>
  <p:transition advTm="120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ftver- PROMRAMSKA POTPO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Što su programi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zvođenje progr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71B-2FC7-4AD8-BD1A-9F3A30C1E0CF}" type="slidenum">
              <a:t>2</a:t>
            </a:fld>
          </a:p>
        </p:txBody>
      </p:sp>
    </p:spTree>
  </p:cSld>
  <p:transition advTm="120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1600" y="1208160"/>
            <a:ext cx="30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zvoj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04120" y="251460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Tradicionalni pri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64240" y="2514600"/>
            <a:ext cx="2133720" cy="3808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liza zahtj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124080"/>
            <a:ext cx="2133720" cy="381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ecifikacija zada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733920"/>
            <a:ext cx="2133720" cy="3808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zajn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4419720"/>
            <a:ext cx="2133720" cy="3808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sanje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5029200"/>
            <a:ext cx="2133720" cy="3808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pitivanje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5791320"/>
            <a:ext cx="2210040" cy="3808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državanje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89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3505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70800" y="4021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48006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5410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740720" y="5877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5013360"/>
            <a:ext cx="40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oguć povratak u sva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d faza postup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3284640"/>
            <a:ext cx="407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očetak postupka: zada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kraj postupka: gotov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81A-C0DA-47BF-BB6D-18705EDC79FA}" type="slidenum">
              <a:t>20</a:t>
            </a:fld>
          </a:p>
        </p:txBody>
      </p:sp>
    </p:spTree>
  </p:cSld>
  <p:transition advTm="120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ototipiranje je poseban način razvoja programa u kome se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efinira projekt, postavljaju zahtjevi i izrađuje prototip (program koji se može izvršavati) a zatim koristi i ako je korisnik zadovoljan prototipom postupak je završ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 protivnom slijede izmjene i poboljšanja prototip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2A4-C912-4D80-9158-3DC87AFF3939}" type="slidenum">
              <a:t>21</a:t>
            </a:fld>
          </a:p>
        </p:txBody>
      </p:sp>
    </p:spTree>
  </p:cSld>
  <p:transition advTm="120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dući da se na tržištu nude gotovi softverski paketi tvrtke se mogu odlučiti i za takve progra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u tom se slučaju definira projekt, postavljaju zahtjevi, vrši odabir softvera, prilagodba potrebam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odi redizajn organizacijskih proces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učavaju korisnici i koriste nabavljeni program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162920" y="4419720"/>
          <a:ext cx="1119240" cy="20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419720"/>
                    <a:ext cx="111924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5C5-900F-4711-B521-171C17CF1107}" type="slidenum">
              <a:t>22</a:t>
            </a:fld>
          </a:p>
        </p:txBody>
      </p:sp>
    </p:spTree>
  </p:cSld>
  <p:transition advTm="120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ver razvija krajnji korisnik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orisnik definira svoje zahtjeve i odabire odgovarajući softver te ga zatim razvija i primjenjuje ponavljajući postupak dok ne zadovolji svoje potreb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ljaju se i stanoviti problemi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graničene mogućnosti izbora poželjnog softver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tanje kvalitete i standarda odabrane programske potpo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D0A-A7AE-421D-8D9E-D51C57F2FD84}" type="slidenum">
              <a:t>23</a:t>
            </a:fld>
          </a:p>
        </p:txBody>
      </p:sp>
    </p:spTree>
  </p:cSld>
  <p:transition advTm="120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njske uslu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lovi izrade potrebnih programa povjeravaju se specijaliziranim davateljima usluga. Međutim, treba postaviti pitanj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ko provoditi kontrolu i održavanj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aštite tajnosti strateških informacij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isnosti o odabranom dobavljač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04E-91BD-42F5-B857-FB2A747633A1}" type="slidenum">
              <a:t>24</a:t>
            </a:fld>
          </a:p>
        </p:txBody>
      </p:sp>
    </p:spTree>
  </p:cSld>
  <p:transition advTm="120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aze razvoja program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analiza zahtjeva (ciljevi, zadaci, opisivanje riječima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pecifikacija zadataka – opis uvjeta koje budući program mora zadovoljiti (kojeg su oblika i vrijednosti ulazni, odnosno izlazni podac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ako mora izgledati korisničko sučelje,..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Dizajn programa – definicija podataka (modula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trukture programa, algoritama i načina razmjene podataka između njih (često se koristi Unified Modelling Language - UM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ED9-CD7C-442C-870E-8FBE317B9CC3}" type="slidenum">
              <a:t>25</a:t>
            </a:fld>
          </a:p>
        </p:txBody>
      </p:sp>
    </p:spTree>
  </p:cSld>
  <p:transition advTm="120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aze razvoja program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isanje program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spitivanje programa: 3 skupine mogućih   pogrešak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greške prepoznate u toku prevođenja (compile-time errors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greške prepoznate u toku izvođenja (run-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time errors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greške koje se ne mogu ustanoviti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iti u toku prevođenja, niti u toku izvođenja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krivo postavljen problem, upotrijebljen krivi algoritam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EB7-69DE-490F-9067-FE41EB454EDE}" type="slidenum">
              <a:t>26</a:t>
            </a:fld>
          </a:p>
        </p:txBody>
      </p:sp>
    </p:spTree>
  </p:cSld>
  <p:transition advTm="120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870200" y="189000"/>
            <a:ext cx="556092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CC0-C1B7-4195-9193-A7894D30C845}" type="slidenum">
              <a:t>27</a:t>
            </a:fld>
          </a:p>
        </p:txBody>
      </p:sp>
    </p:spTree>
  </p:cSld>
  <p:transition advTm="120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novne skupine programa su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sustavni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aplikacijski 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komunikacijski (mrežn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F46-2C0E-48B2-864D-7AD42AFA5991}" type="slidenum">
              <a:t>28</a:t>
            </a:fld>
          </a:p>
        </p:txBody>
      </p:sp>
    </p:spTree>
  </p:cSld>
  <p:transition advTm="120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USTAVSKI PROGRA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dstavljaju programska potpora za upravljanje strojnim resursima sustava (hardve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ostoje 3 skupine sustavskih program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peracijski susta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moćni programi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grami prevoditelji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F4E-BD82-44E3-A797-884EB4D99527}" type="slidenum">
              <a:t>29</a:t>
            </a:fld>
          </a:p>
        </p:txBody>
      </p:sp>
    </p:spTree>
  </p:cSld>
  <p:transition advTm="120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Što su programi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i su  nematerijalne komponente elektroničkih računala a predstavlja ih nizovi instrukcija unaprijed pripremljenih i pohranjenih u glavnoj memoriji računala tako da ih procesor može nesmetano izvodi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i se čuvaju u obliku jedne ili više datoteka na vanjskim memorijama računal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i su, odnosno sadrže, znanje o metodama, i postupcima rješavanja određenih problem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78D-86C9-4957-A98D-CC02E8F911A4}" type="slidenum">
              <a:t>3</a:t>
            </a:fld>
          </a:p>
        </p:txBody>
      </p:sp>
    </p:spTree>
  </p:cSld>
  <p:transition advTm="120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USTAVSKI PROGRAM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Operacijski sustav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pravlja svim strojnim komponentama računal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mogućuje izvršavanje korisničkih aplikacij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Operacijski sustavi mogu bit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jednokorisnički/višekorisničk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jednoprogramski/višeprogramsk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3B8-B7B5-4305-BABC-A3655FD7F6CB}" type="slidenum">
              <a:t>30</a:t>
            </a:fld>
          </a:p>
        </p:txBody>
      </p:sp>
    </p:spTree>
  </p:cSld>
  <p:transition advTm="120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S za mikroračunal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Window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ni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inux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Mac 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450-8FFB-4FAE-BBAC-59E6485492CF}" type="slidenum">
              <a:t>31</a:t>
            </a:fld>
          </a:p>
        </p:txBody>
      </p:sp>
    </p:spTree>
  </p:cSld>
  <p:transition advTm="120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72640" cy="26258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384200" y="12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gr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8317080" cy="454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6CE-A31E-4A8C-8098-3C570BE4B12A}" type="slidenum">
              <a:t>32</a:t>
            </a:fld>
          </a:p>
        </p:txBody>
      </p:sp>
    </p:spTree>
  </p:cSld>
  <p:transition advTm="120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318960"/>
          <a:ext cx="9144000" cy="60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8960"/>
                    <a:ext cx="914400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0DB-4964-4E8A-A31E-FE9AD9FC787B}" type="slidenum">
              <a:t>33</a:t>
            </a:fld>
          </a:p>
        </p:txBody>
      </p:sp>
    </p:spTree>
  </p:cSld>
  <p:transition advTm="120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905440" cy="4707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48800" y="55897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linux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Linux Penguin"/>
          <p:cNvPicPr/>
          <p:nvPr/>
        </p:nvPicPr>
        <p:blipFill>
          <a:blip r:embed="rId2"/>
          <a:stretch/>
        </p:blipFill>
        <p:spPr>
          <a:xfrm>
            <a:off x="6172200" y="2286000"/>
            <a:ext cx="2448000" cy="28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672-5D19-4F27-9787-5EC42CCB43EC}" type="slidenum">
              <a:t>34</a:t>
            </a:fld>
          </a:p>
        </p:txBody>
      </p:sp>
    </p:spTree>
  </p:cSld>
  <p:transition advTm="120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STAVSKI SOFT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moćni programi obavljaju različite zadać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sanje programskog koda (editori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rtiranje datote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hiviranje podata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ravljanje bazama podata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2CD-5DB8-4A5D-A823-337415035E2A}" type="slidenum">
              <a:t>35</a:t>
            </a:fld>
          </a:p>
        </p:txBody>
      </p:sp>
    </p:spTree>
  </p:cSld>
  <p:transition advTm="120000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534520" cy="474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184-AA72-495C-95E2-2DAF4A98CA01}" type="slidenum">
              <a:t>36</a:t>
            </a:fld>
          </a:p>
        </p:txBody>
      </p:sp>
    </p:spTree>
  </p:cSld>
  <p:transition advTm="120000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STAVSKI SOFT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i prevoditelj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uže kao posrednici između programiranja i rada računal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avljaju funkciju prevođenja s nekog simboličkog jezika kojim se služi korisnik na stroju razumljiv jezi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2AA-2DA0-40F7-B80B-657B7CD5DC21}" type="slidenum">
              <a:t>37</a:t>
            </a:fld>
          </a:p>
        </p:txBody>
      </p:sp>
    </p:spTree>
  </p:cSld>
  <p:transition advTm="120000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APLIKACIJSKI SOFT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 ovu grupu spadaju svi korisnički programi kojima oni rješavaju svoje zahtjeve obrade podatak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novne vrs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lastiti i tuđi (paketi, gotova rješenja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omercijalni i nekomercijal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7F4-FB35-427D-BA48-DA0FD1D5F25C}" type="slidenum">
              <a:t>38</a:t>
            </a:fld>
          </a:p>
        </p:txBody>
      </p:sp>
    </p:spTree>
  </p:cSld>
  <p:transition advTm="120000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ema namjeni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za osobnu produktivnost (MS Office, Corel, IBM Lotus)  aplikacije za upravljanje poslovanjem i poslovnim resursima poduzeća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plikacije za elektroničku poštu i suradnju na mreži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plikacije za rad u skupin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706-F063-42E2-BEAB-6553DD6395E0}" type="slidenum">
              <a:t>39</a:t>
            </a:fld>
          </a:p>
        </p:txBody>
      </p:sp>
    </p:spTree>
  </p:cSld>
  <p:transition advTm="12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ktronička računala “razumiju” samo strojni jezik, odnosno ona mogu izvršavati zadaće samo kada su im napisane u jednostavnim strojnim instrukcijama, na osnovi kojih se obavljaju samo najjednostavnije operacij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moću jednostavnih programa rješavaju se vrlo složeni poslovni problem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dući da je pisanje programa u strojnom jeziku postalo vrlo teško razvijeni su programski jezic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618-29BD-4C37-A5DC-C7C6B038315D}" type="slidenum">
              <a:t>4</a:t>
            </a:fld>
          </a:p>
        </p:txBody>
      </p:sp>
    </p:spTree>
  </p:cSld>
  <p:transition advTm="120000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KOMUNIKACIJSKI SOFT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adatak komunikacijskog softvera je upravljanje prijenosom podataka na daljinu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zvojem tehnologije dolazi do stapanja računala i telekomunikacija - stvaraju se složeni sustavi - računalne mrež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265-E466-42D6-8BCF-68D9ADA7701E}" type="slidenum">
              <a:t>40</a:t>
            </a:fld>
          </a:p>
        </p:txBody>
      </p:sp>
    </p:spTree>
  </p:cSld>
  <p:transition advTm="120000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503160" y="43344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4. pred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84200" y="12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gr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554-C004-4689-A486-F486B87227AE}" type="slidenum">
              <a:t>41</a:t>
            </a:fld>
          </a:p>
        </p:txBody>
      </p:sp>
    </p:spTree>
  </p:cSld>
  <p:transition advTm="12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zvođenje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čunala izvode programe slijedno, logičkim redom instrukciju po instrukciju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kcije se izvode u strojnom ciklusu – u strojnom se ciklusu potpuno obavi jedna instrukcij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ojni se ciklus im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kcijski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zvršni d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703-F1B7-4039-8E4E-EEA473D15FB9}" type="slidenum">
              <a:t>5</a:t>
            </a:fld>
          </a:p>
        </p:txBody>
      </p:sp>
    </p:spTree>
  </p:cSld>
  <p:transition advTm="120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zvođenje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nstrukcijski dio strojnog ciklusa odvija se tako 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Upravljačka jedinica dohvaća instrukciju iz memorije (programsko brojilo pamti adresu instrukcije koja je na redu za izvođenje), zatim dekodira instrukciju, odnosno prepoznaje njezinu funkcij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zvršni dio strojnog ciklusa odvija se tako 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Upravljačka jedinica generira upravljačke signale prema kojima drugi uređaji (aritm.log.jedinica, memorija i periferne jedinice) izvršavaju specifične operacij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ezultat obavljenih operacija sprema se u memorij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F2C-3666-4B68-9ACE-B59D1772C95B}" type="slidenum">
              <a:t>6</a:t>
            </a:fld>
          </a:p>
        </p:txBody>
      </p:sp>
    </p:spTree>
  </p:cSld>
  <p:transition advTm="12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02280" y="137160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ogramski jez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5761080" cy="418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9CD-FE20-4A0F-8AC4-2D7D244BF005}" type="slidenum">
              <a:t>7</a:t>
            </a:fld>
          </a:p>
        </p:txBody>
      </p:sp>
    </p:spTree>
  </p:cSld>
  <p:transition advTm="120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jni jezik nije ništa drugo do binarnog brojevnog sustava kojim se mogu napisati vrlo jednostavne strojne instrukcij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osnovi strojnog jezika obavljaju se samo osnovne aritmetičke i logičke operacije nad skupinama bitova koja se interpretira kao cijeli ili realni broj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jni jezik koristi jednostavne tipove podataka i ovisi o računalu na kome se izvode operacij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347-9119-4A70-8170-27BDD844B754}" type="slidenum">
              <a:t>8</a:t>
            </a:fld>
          </a:p>
        </p:txBody>
      </p:sp>
    </p:spTree>
  </p:cSld>
  <p:transition advTm="12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4760" y="126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gramski jez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72120" cy="5334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398840" y="404640"/>
            <a:ext cx="4745160" cy="3775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33840" y="5445000"/>
            <a:ext cx="76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vi kratki korisnički program pohranjen u računa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he Baby” -  University of Manchester, 194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FE7-23FA-46E4-909B-909FA333252A}" type="slidenum">
              <a:t>9</a:t>
            </a:fld>
          </a:p>
        </p:txBody>
      </p:sp>
    </p:spTree>
  </p:cSld>
  <p:transition advTm="12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8:55:51Z</dcterms:created>
  <dc:creator>VBZ</dc:creator>
  <dc:description/>
  <dc:language>en-US</dc:language>
  <cp:lastModifiedBy>VBZ</cp:lastModifiedBy>
  <dcterms:modified xsi:type="dcterms:W3CDTF">2005-12-15T13:12:39Z</dcterms:modified>
  <cp:revision>4</cp:revision>
  <dc:subject/>
  <dc:title>PRIMJENA RAČUNALA</dc:title>
</cp:coreProperties>
</file>