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A88-B787-42E5-B691-519C6079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3E3-DCA8-4BA2-85B0-0ED4D1ED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F496-3C0C-4E45-855E-E52F6DA7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69F-0B6B-474B-BB1C-D7D853EB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2791-8AAF-4EF2-A6F7-C14861B5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1F28-B895-4ED5-A94D-5ABEA78D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6592-830C-4E17-81E5-1AC3BB83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3930-BD5F-4ED6-B8E3-C2A1930C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91BF-DF5A-4236-BADF-69A4E769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14CF-97EA-4A5C-88ED-1B4B9984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8719-1077-4052-A074-AB19925B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656-607E-4401-9F79-354F24AD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8110-5E08-491D-8E59-1E12C141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31F3-0D67-4B6F-9465-B9D925C3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46B2-1F41-4890-A773-D89624A2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9433-EE77-4B0A-92BB-82CFA3B7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AAB6-0174-47E1-9E09-B676620F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1F4-0459-4ED7-A152-919BEDA4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C7BC-7A84-46C4-AAE5-AA506A96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53F-0452-4AFF-84B3-83DB12AE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149-8D44-4827-A488-396ECD32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B14-C333-4A65-9093-B9552FBE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16B-19E2-4A58-9F83-8114D9AB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A30-F928-4295-AB2C-C27767BE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929E-0134-4AE1-A937-448EDD66CC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EACE-4B3B-4D01-8D9E-CEFA63DFDB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imjena računal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odaci i informacij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81B0-571A-4013-93DA-1FC25F40F31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DELIRANJE PODATA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89120" y="1915920"/>
            <a:ext cx="7556400" cy="40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gađaji i podaci o njima vezani vezani su vremensko-logičkim odnosima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učajan događaj prati slučajan podatak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jerarhijski i logički odnosi podataka ostvaruju s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strakcijom 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lasifikacijom podata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1F3-6396-4BE8-AB8E-27539E6E8E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Apstrakcija podataka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 je logički postupak stvaranja logički nadređenih podataka u kome se iz logički nižih razina stvaraju logički više razine, razlikujemo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Agregaciju 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Generalizacija podatak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Agregacija podataka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 je izvođenje podataka višeg logičkog reda iz većeg broja međusobno srodnih podataka nižeg logičkog reda, uglavnom jednakih svojstav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Generalizacija podataka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 je izvođenje podataka višeg logičkog reda iz većeg broja podataka nižeg logičkog reda iz zajedničkog ključnog svojstv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Verdana"/>
              </a:rPr>
              <a:t>Klasifikacija podataka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je postupak obrnut postupku apstrakcije, odnosno postupak raščlambe podataka višeg reda na neka zajednička svojstva ali i na neka bitno različit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15CA-056F-4EE4-B619-0B619BD40AC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78231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I PODATA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9120" y="1844640"/>
            <a:ext cx="755640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l podataka predstavlja simbolički prikaz logičkih i hijerarhijskih odnosa u nekom sustavu. Modeliranje podataka izvodi u procesu razvoja IS-a. stoga govorimo 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onceptualnim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gičkim 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zičkim modelima podatak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onceptualni odražavaju način kako korisnici shvaćaju događaje u sustavu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gičke stvaraju informatičari kao osnovicu za razvoj IS-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zički su prilagođeni računalu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57F-0B33-4B31-8FC5-9D588443010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1160" y="537840"/>
            <a:ext cx="78469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NCEPTUALNI MODEL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89120" y="1699920"/>
            <a:ext cx="7556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orisnici IS zahtijevaju od informatičara kakav žele sustav pa definiraju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željnu strukturu podataka 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čine njihovog korištenj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ruktura mora odražavati strukturu događaja, a način korištenja prihvatljive podatk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9129-5484-4A6A-8FA4-0BFEB8678EB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onceptualni model treba biti cjelovit, konzistentan i neredundantan opis podataka koji se nalaze u IS-u, što znač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jelovito obuhvaćeni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sljedno preslikani 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z ponavljanj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nas se često korist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eli entiteta veza 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ktni model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D2C-F79C-4B11-8DDA-6C539B22932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1160" y="920520"/>
            <a:ext cx="784692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DELI ENTITETA VEZ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89120" y="1773360"/>
            <a:ext cx="7556400" cy="42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titet je ključni pojam konceptualnih modela podataka. Različito se definira, ispravno j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ntitet je sve što se može definirati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 entiteta veza je grafički model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titeta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za 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ribu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1E46-7BD1-41F9-8BD2-AF0F76FEC89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dnosi između navedenih elemenata utvrđuju se apstrakcijom i klasifikacijo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zrada modela polazi od informacijskih zahtjeva korisnik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l se izrađuje u 3 korak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ikupljanjem i analizom korisničkih zahtjev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likovanjem  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onsolidacijom mode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ikupljanje i analiza polazi od zatečenog stanja i očekivanja korisnik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968-86EC-4682-A674-68A5FB622DB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Oblikovanje modela polazi od utvrđivanja entiteta, veza, ključeva entiteta, ograničenja unosa, brisanja i promjene ključeva i na kraju pridodavanja naziva atributi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Konsolidiranje predstavlja izradu konačne verzije, koja u IS može imati više podmodela, ali svi vjerno opisuju zahtjeve korisnika glede strukture budućeg IS-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AAB-CB9C-4467-975B-DD010E26F51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1520" y="383760"/>
            <a:ext cx="78976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KTNI MODE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89120" y="1779120"/>
            <a:ext cx="75564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ožene obrade sve više slične umjetnoj inteligenciji, koje se provode u poslovnom odlučivanju i za koju se pripremaju takvi podac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iječ je o složenim podacima, koji odražavaju vrlo složene događaje,  objek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bjekt je apstrakcija iz problemske domene, o kome se prikupljaju podaci, obilježja i ponašanj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2DE-6E20-4F1C-837B-B9D1786ED4F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1160" y="460080"/>
            <a:ext cx="78469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ATOTEKE PODATA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89120" y="1773360"/>
            <a:ext cx="7556400" cy="42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atoteka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 skup istovrsnih podataka obuhvaćenih zajedničkim kriterijem i smještenih u memoriju računal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oteka sadrži podatke o skupu istovrsnih objekata: studenata, računa, kupaca, dobavljača i sl., razvila se iz kartotek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nas se rijetko koriste, a spominjemo ih zato što su preteča baza i skladišta podatak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0893-2AFA-4E93-826E-47329BA216E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DACI U RAČUNA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844640"/>
            <a:ext cx="80010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daci su nematerijalni, njihova trajnost ovisi o nositeljim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pir je trajan nositelj, podložan kemijskim procesima, teško kompjutorski čitljivi podac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zvijene su masovne memorije, računalima čitljiv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daci se pripremaju za lagano pronalaženje, organiziraju se u jedinice podatak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0B59-F579-404D-BD6F-FDE872CEEE2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Koristile su se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lijedne (sekvencijalne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rektne (relativne) 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deksne datotek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U slijednoj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 slogovi upisuju jedan do drugoga, mogu biti fizički i logički povezani, logičko povezivanje se odvija pomoću pokazivač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046-3AA3-46DB-84F5-841D6666D5A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697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9120" y="1628640"/>
            <a:ext cx="7556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lativn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oteke pohranjuju slogove na relativnim adresama od 1 do n, koji se ključevima uvijek memoriraju na predviđenim adresa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rese ne počinju s brojem 1 već se transformiraju matematičkom operacijom, najčešće dijeljenje s ostatkom pomoću čega se utvrdi direktna adres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ljevi se rješavaju prilagođavanjem blokovima vanjskih memorij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77E6-09B3-4420-A6C8-172AF899CE2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78588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89120" y="1699920"/>
            <a:ext cx="7556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deksna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oteka ima indeksno i područje slogov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eksno sadrži indekse koji služe kao kazala u knjigama. Uz ključ u indeksu nalazi se adresa sloga koji se nalazi u području podatak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ogovi se organiziraju slijedno zbog uštede memorij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že se formirati više indeksa za više različitih ključeva. Osobe po prezimenu i jedinstvenom matičnom broju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CCC-C6B8-4FDA-989F-2E95646B28A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deksno slijed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atoteka istodobno omogućuje pojedinačne i skupne obrade podatak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vedeni načini organiziranja datoteka imaju svojih prednosti i nedostatak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ijedna za pristup koristi N/2 koraka, potpuno koristi memorijski prostor i pogodna je skupnoj obradi podatak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D37-7B7C-4F21-88CE-610D7ADA35B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 direktnoj se do podatke pristupa u 1-2 koraka, slabo se koristi memorijski prostor, prikladna je za pojedinačne obrad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 indeksno-slijednoj treba napraviti 2 i više koraka, prikladna je za pojedinačne i skupne obrade podatak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ko se zaključi da je organizacijski oblik datoteke određivao način obrade podataka, te da su se poduzeća odlučivala za one oblike koji su zadovoljavali njihovu najčešću obradu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357-4DE6-4230-8F8B-57E2D685CFB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981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ZE PODATA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9120" y="1773360"/>
            <a:ext cx="7556400" cy="42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Baza podataka,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 skup podataka nekog IS-a, podaci o različitim objekatima poslovnog sustav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Međutim, više je definicija izvedenih iz potreba promatranih sa različitih aspekata problema na koji se odno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Nije presudan medij na kome su memorirane, suvremeni koristi magnetske memorij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E3E5-C11F-4DBB-BD35-0D3EBB32873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RSTE BAZA PODATA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nas postoje tekstne i multimedijalne baze podataka, a ovisno o vrsti i namjeni razlikujem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aze formatiranih podataka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aze neformatiranih podataka 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aze znanj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946-4646-496E-90A4-FE87A597290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1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9120" y="1699920"/>
            <a:ext cx="7556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 poslovnim se primjenama najčešće koriste baze formatiranih podataka, o svim objektima se bilježe iste podaci i memoriraju na istom mjestu u slogu radi lakšeg nalaženj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zgradnja suvremenih baza podataka koriste relacijski, objektni ili dimenzijski mode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nas se najčešće koriste relacijske organizacije, u njima su zorno prikazani podaci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144-5819-475B-A087-21AF97F22D2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aze neformatiranih podatak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adrže tekstne, različite multimedijske podatk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kada se o njima govori kao o bazama dokumenata. HINA, REUTERS i mnoge druge agencije grade i koriste takve baze podataka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 njima se podaci traže navođenjem ključnih riječi koje mogu biti u traženim dokumenti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9C2-19BB-434D-B941-B5EE1391C59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05228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ZE ZNAN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89120" y="1773360"/>
            <a:ext cx="7556400" cy="42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ze znanja prikazuju znanje u različitim oblicima, pravila, semantičkih mreža, okvira ili scenarij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ikazano znanje prikladno je za korištenje u različitim mehanizmima zaključivanj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kspertni sustavi probleme iz svoje domene rješavaju na taj način, različite probleme složenih poslovnih sustava rješavaju približno optimal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7B7-96C5-4652-9F92-C0A07216DD8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307800"/>
            <a:ext cx="784728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DINICE PODATA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89120" y="1699920"/>
            <a:ext cx="7556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vaki događaj prate podaci, promatrani sa stajališt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gičkih 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zičkih obli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Čovjek vrši misaone procese dovodeći ih u vezu s pojmovima, koji se u informatici prikazuju kao polja podataka i promatraju kao logičke jedinice podatak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C2F-0380-4BC8-967F-F2E26F6B454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LACIJSKA BAZA PODATAK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00000" y="234936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daci se nalaze u tablicama, skupova relacija, tablica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icija relacije naziva se relacijskom shemom a ima naziv relacije i popisa atributa koji joj pripadaju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lacijskom baza podataka sastoji se od svih relacija koje ulaze u njezin sastav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5D0-4A01-4C3D-9847-D178C020EEE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1360" y="-42552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89120" y="2458800"/>
            <a:ext cx="7556400" cy="35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-4179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Relacije ili tablice imaju 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retke ili n-toraka te stupce ili atribute osnovnih značajk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ne postoje 2 jednaka stupc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redoslijed stupaca nije bitan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ne postoje 2 jednaka retk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redoslijed redaka nije bita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Atribut 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ili skup atributa kojim se može identificirati svaki redak naziva se ključem. Izabire se minimalni ključ i naziva primarnim. Primarni ključ obično je šifr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061-43E1-44D6-B677-6BEEEEF8F9A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JEZICI Z RELACIJSKE BAZE PODATA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84608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Verdana"/>
              </a:rPr>
              <a:t>SQL 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je upitni jezik a ima naredbe za sveobuhvatan rad s relacijskom bazom podataka, naredbe za definicije, za manipulacije i upravljačke naredb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Verdana"/>
              </a:rPr>
              <a:t>Query-By-Example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, je zanimljiv grafički upitni jezik i koristi se u sustavima za upravljanje bazama podatak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ADF-8676-4FE1-9262-FB1195D03754}" type="slidenum">
              <a:t>32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557360"/>
            <a:ext cx="80010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ogičke jedinice podatak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nak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lje podataka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gment podataka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g podataka 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gička datoteka podatak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Znak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je element nekog sustava, a služi u standardnim komunikacijama i prikazuje se standardnim kodovima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314-092A-4CC2-BADA-8CD008291EC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olje podataka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dstavlja niz znakova  od jednog do više, a Informatika se služi i izrazom prazno polje. Podaci u poljima mogu biti brojčani, alfabetski i alfanumeričk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egment podataka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edstavlja broj logičkih podataka o nekom objektu, svi podaci koji opisuju neki objekt, bilo fiksne ili promjenjive dužin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ogička datoteka,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rganizirani skup istovrsnih slogova podataka, datoteke: kupaca, dobavljača, kadrova, osnovnih sredstava i s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B10F-175C-47FE-9C66-D60E7470489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FIZIČKE JEDINICE PODATAK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Teorija informacija ima nezaobilazno ime Claude Shannon-a, utvrdio je osnovnu fizičku jedinicu podataka, nazvao je bit, jedinicu koja može poprimiti jedno od 2 moguća stanja, pa imam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Bi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Baj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Blok podataka 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Fizičku datoteku podatak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540D-4722-4E3A-AB18-F587043A61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9158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Bit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 najmanja jedinica koja se može zapisati i pronaći u memoriji računal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Bajt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 niz fizičkih znakova potrebnih za prikazivanje jednog logičkog znaka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Blok podataka,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je pojam koga određuju tehničke karakteristike uređaja za obradu i memoriranje podatak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2F4C-57CB-4903-A7EC-C8780BE79F7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000000"/>
                </a:solidFill>
                <a:latin typeface="Verdana"/>
              </a:rPr>
              <a:t>Fizička datoteka podataka,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je logička datoteka prevedena u oblike prilagođene memorijskom prostoru i načinu rada računal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000000"/>
                </a:solidFill>
                <a:latin typeface="Verdana"/>
              </a:rPr>
              <a:t>Strojne riječi,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su 32 i više bitne. Koriste se i druge jedinice: kilo, mega, giga, tera itd., 2*10 </a:t>
            </a:r>
            <a:r>
              <a:rPr b="0" lang="hr-HR" sz="3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10*3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374-B8FB-4B42-A24A-6904692575A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poredba fizičkih i logičkih jedinic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7925040" cy="14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3B80-1D73-4736-BD8D-1354000AAFE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06:24:00Z</dcterms:created>
  <dc:creator>VBZ</dc:creator>
  <dc:description/>
  <dc:language>en-US</dc:language>
  <cp:lastModifiedBy>VBZ</cp:lastModifiedBy>
  <dcterms:modified xsi:type="dcterms:W3CDTF">2005-12-15T13:13:28Z</dcterms:modified>
  <cp:revision>4</cp:revision>
  <dc:subject/>
  <dc:title>Primjena računala podaci i informacije</dc:title>
</cp:coreProperties>
</file>