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DEC-F444-4859-9ACC-2C66A985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436-8675-4FD8-B7FD-6B74D79A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BEB-AA9F-4740-9A41-5C7AD4C7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319-82CC-4AE8-9070-EDFF0363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FFA9-87B6-4DDE-B621-040EE8A4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96BE-CC8E-42D8-8612-8E1938BF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F5BB-3CB7-484A-972E-569CFAD9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3CB8-1EB0-4959-ACE6-783EFE2D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BB1D-C3BD-48CC-90E9-183AE6A8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1655-CF0A-40A0-AD84-34679715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AD60-8FD3-4CD3-9EF8-EC1E9782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14E-5D98-40D0-B251-0139A0FA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C4AC-76B7-44B6-BA87-8875F9C9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4292-6CC3-4C70-AEEE-F1550ABB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C654-23D1-4FAF-A31A-C9396875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C7D5-8D76-4FCC-BD58-064C082A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84ED-1E1F-4C7C-BACF-3A843DE5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476-5C8E-4F6B-90C4-B524CC79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F51-0AB9-4F5C-81BF-3893C50E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88F-455E-425C-8664-1866A2D2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A7E-E027-4966-B44B-45CA39E9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F03-3ADA-4EBA-9C10-6F05E997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945-AA42-4262-BCE8-943ACB5C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D00-BF39-4BBD-BF92-3AA47854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3240-6373-4E08-A3C0-64354E01FA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005/200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AB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16B2-8CDE-465E-BB17-AB651A9026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imjena računal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vodno preda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A45F-01AC-43BB-A039-637A3997730D}" type="slidenum">
              <a:t>1</a:t>
            </a:fld>
          </a:p>
        </p:txBody>
      </p:sp>
    </p:spTree>
  </p:cSld>
  <p:transition advTm="180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ijalne opas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čunalni krimina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rus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loupotre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638680" y="2120760"/>
          <a:ext cx="227340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120760"/>
                    <a:ext cx="227340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3BF-102F-4FDA-A7E6-302BFA34ECEA}" type="slidenum">
              <a:t>10</a:t>
            </a:fld>
          </a:p>
        </p:txBody>
      </p:sp>
    </p:spTree>
  </p:cSld>
  <p:transition advTm="180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i uvođenja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hnički razloz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uštveni razloz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jena koristi od uvođenja IT-e je neprecizna, teško se kvantifici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čekivane kori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većanje prodaje, povećanje dobiti, lakše dostupne informa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0B0-35D1-4FB7-936C-A643407ED50B}" type="slidenum">
              <a:t>11</a:t>
            </a:fld>
          </a:p>
        </p:txBody>
      </p:sp>
    </p:spTree>
  </p:cSld>
  <p:transition advTm="180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jer: sustav London Ambulance Service's Computer Aided Dispat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započet 1991. godine, cijena programa 1,1 milijun fu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dat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uzimanje poziva za hitnu pomo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aćenje ambulatnih vozil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abir 3 najbliža vozi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cjena vremena za dolazak do cil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načna odluka o rasporedu vozila prepuštena je dispeče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stav je aktiviran u listopadu 19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amo 26. i27.10.1992. - 2900 poziva, zagušenje, netočne lokacije vozila, ponavljanje poz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ezultat 20-30 mrtvih zbog neadekvatnog sust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D76-0BF5-4516-9069-9691D129DF1D}" type="slidenum">
              <a:t>12</a:t>
            </a:fld>
          </a:p>
        </p:txBody>
      </p:sp>
    </p:spTree>
  </p:cSld>
  <p:transition advTm="18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moguć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boljšanje funkcije procesa i promjenu njihove organizacijske strukture (BPR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ključivanje informacijske tehnologije u proizvode i usluge (robotizirane proizvodne linije, CAD/CAM, bankomati, rezervacijski sustavi u zračnom prometu, rezervacijske sustave u turizm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E2E-157E-42AB-A66A-F5484387DD3D}" type="slidenum">
              <a:t>13</a:t>
            </a:fld>
          </a:p>
        </p:txBody>
      </p:sp>
    </p:spTree>
  </p:cSld>
  <p:transition advTm="180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T omogućuje povezivanje s drugim organizacij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EDI - electronic data interchange, elektronsko tržiš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kstranet, WWW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teraktivne, izravne veze s kupcima, uz povećavanje dodane vrijednosti u proizvodima i uslug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771-F102-4A62-9765-D1033B445036}" type="slidenum">
              <a:t>14</a:t>
            </a:fld>
          </a:p>
        </p:txBody>
      </p:sp>
    </p:spTree>
  </p:cSld>
  <p:transition advTm="180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6480" y="27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66760" y="2390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3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A1C-6C63-4D43-8F1D-33B55CF29339}" type="slidenum">
              <a:t>15</a:t>
            </a:fld>
          </a:p>
        </p:txBody>
      </p:sp>
    </p:spTree>
  </p:cSld>
  <p:transition advTm="180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80680" y="1466640"/>
            <a:ext cx="5982120" cy="156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Građa računal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F60E-DF88-4915-8728-7EC9E2BE7B7E}" type="slidenum">
              <a:t>16</a:t>
            </a:fld>
          </a:p>
        </p:txBody>
      </p:sp>
    </p:spTree>
  </p:cSld>
  <p:transition advTm="180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drža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to je računal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đa račun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čin rada račun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čunalo i obrada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ijest razvoja računala i raču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802-7983-4655-86FD-ADCD59FD23D5}" type="slidenum">
              <a:t>17</a:t>
            </a:fld>
          </a:p>
        </p:txBody>
      </p:sp>
    </p:spTree>
  </p:cSld>
  <p:transition advTm="180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računalo - računarski su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elektronička, digitalna napr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programibilna naprava – izvršava skup zadani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instr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niz instrukcija – računalni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namijenjeno obradi podataka u najširem smis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računske operacije, crtanje, igranje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Što je računalo 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A73-133D-4766-9EB1-B19067FE1538}" type="slidenum">
              <a:t>18</a:t>
            </a:fld>
          </a:p>
        </p:txBody>
      </p:sp>
    </p:spTree>
  </p:cSld>
  <p:transition advTm="180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Računarski sustav – složen, umjetni susta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Tri osnovna područja računarskog sustav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sklopovlje – </a:t>
            </a: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programska oprema – </a:t>
            </a: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odnos čovjek - računalo, postupci i nač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uporabe računala – </a:t>
            </a: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human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Hardver - sklopovska podršk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materijalni elementi računa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Što je računalo 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428-9851-4CEA-A99B-0D70B3430921}" type="slidenum">
              <a:t>19</a:t>
            </a:fld>
          </a:p>
        </p:txBody>
      </p:sp>
    </p:spTree>
  </p:cSld>
  <p:transition advTm="180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 Ivan Škoro soba 50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nzultac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onedjeljkom 17,30 – 19,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torkom         08,00 – 10,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44E-76C5-4CE4-9D0E-C9201BF109C5}" type="slidenum">
              <a:t>2</a:t>
            </a:fld>
          </a:p>
        </p:txBody>
      </p:sp>
    </p:spTree>
  </p:cSld>
  <p:transition advTm="180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Građa računal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von Neumannov model računal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94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4 osnovne funkcijske jedini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zmeđu funkcijskih jedinica prenose 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pravljački signali, podaci i instruk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ijenos se temelji na sabirnic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5A3-F78A-4E35-B81E-E11437957850}" type="slidenum">
              <a:t>20</a:t>
            </a:fld>
          </a:p>
        </p:txBody>
      </p:sp>
    </p:spTree>
  </p:cSld>
  <p:transition advTm="180000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8305920" cy="685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743440" cy="662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729-EF4B-41CE-BB9C-B61DFF47E721}" type="slidenum">
              <a:t>21</a:t>
            </a:fld>
          </a:p>
        </p:txBody>
      </p:sp>
    </p:spTree>
  </p:cSld>
  <p:transition advTm="180000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memorija memorij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luži za pamćenje podataka i programa (instruk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eracije: čitanje iz memorije (ne mijenja sadržaj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is u memoriju (mijenja sadržaj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rganizacija memorije u ćelije – ćelije služe za spremanje podatak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e su ćelije adresabilne - može im se pristupiti direktno preko njihove adr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rijeme dosega podataka u ns ( 10-9 sekund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F5E-5E44-4E83-B813-1BE3C1ACAECF}" type="slidenum">
              <a:t>22</a:t>
            </a:fld>
          </a:p>
        </p:txBody>
      </p:sp>
    </p:spTree>
  </p:cSld>
  <p:transition advTm="180000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42920" y="2492280"/>
            <a:ext cx="273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2492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47760" y="2514600"/>
            <a:ext cx="4794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Osnovna jedinica - </a:t>
            </a:r>
            <a:r>
              <a:rPr b="0" lang="hr-HR" sz="2200" spc="-1" strike="noStrike">
                <a:solidFill>
                  <a:srgbClr val="a50021"/>
                </a:solidFill>
                <a:latin typeface="Tahoma"/>
              </a:rPr>
              <a:t>b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1 bit je sadržaj svake ćelij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Može poprimiti 2 stanja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0 ili 1, tj. laž ili ist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Bitovi su grupirani u skupine po 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Skupina = 1 </a:t>
            </a:r>
            <a:r>
              <a:rPr b="0" lang="hr-HR" sz="2200" spc="-1" strike="noStrike">
                <a:solidFill>
                  <a:srgbClr val="a50021"/>
                </a:solidFill>
                <a:latin typeface="Tahoma"/>
              </a:rPr>
              <a:t>byte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 (256 kombinacij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18040" y="2362320"/>
            <a:ext cx="3225960" cy="352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59840" y="1052640"/>
            <a:ext cx="46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Građa računala - mem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BBF-3280-4B71-B893-A6883046672E}" type="slidenum">
              <a:t>23</a:t>
            </a:fld>
          </a:p>
        </p:txBody>
      </p:sp>
    </p:spTree>
  </p:cSld>
  <p:transition advTm="180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42920" y="2492280"/>
            <a:ext cx="273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2492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26920" y="2421000"/>
          <a:ext cx="7705800" cy="3649680"/>
        </p:xfrm>
        <a:graphic>
          <a:graphicData uri="http://schemas.openxmlformats.org/drawingml/2006/table">
            <a:tbl>
              <a:tblPr/>
              <a:tblGrid>
                <a:gridCol w="1379880"/>
                <a:gridCol w="1214280"/>
                <a:gridCol w="51116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ra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ičina (by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^10 = 1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^20 = 1,048,5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^30 = 1,073,741,8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^40 = 1,099,511,627,7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^50 = 1,125,899,906,842,6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^60 = 1,152,921,504,606,846,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t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^70 = 1,180,591,620,717,411,303,4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ot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^80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1,208,925,819,614,629,174,706,17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772560" y="981000"/>
            <a:ext cx="46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Građa računala - mem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1F8-6FDA-4FA5-B05A-D20605C55C73}" type="slidenum">
              <a:t>24</a:t>
            </a:fld>
          </a:p>
        </p:txBody>
      </p:sp>
    </p:spTree>
  </p:cSld>
  <p:transition advTm="180000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Građa računala – memorij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rste memor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a50021"/>
                </a:solidFill>
                <a:latin typeface="Arial"/>
              </a:rPr>
              <a:t>RAM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(random access mem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irektni pristup ćelija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Čitanje i pis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Brzo izmjenjivanje programa i podataka tokom izvođen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Briše se kada se računalo isključi iz stru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a50021"/>
                </a:solidFill>
                <a:latin typeface="Arial"/>
              </a:rPr>
              <a:t>ROM </a:t>
            </a: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(read only mem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Samo za čit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Sadrži često potrebne programe (operacijski sustavi, programi prevoditelji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8AF-5BB7-4242-8D34-365AD19BECD3}" type="slidenum">
              <a:t>25</a:t>
            </a:fld>
          </a:p>
        </p:txBody>
      </p:sp>
    </p:spTree>
  </p:cSld>
  <p:transition advTm="180000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Građa računala – proces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na procesorska jedinica – proce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vlja obradu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tmetičko-logička  jedinica i upravljačka jedinica zajedno čine proce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obnim računalima nalazi se –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ikroproce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jedan č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žna računala imaju više proces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2BC-AF74-4074-93CF-50552C312931}" type="slidenum">
              <a:t>26</a:t>
            </a:fld>
          </a:p>
        </p:txBody>
      </p:sp>
    </p:spTree>
  </p:cSld>
  <p:transition advTm="180000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osobna računal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redišnje jedinice osobnog računala smještene su </a:t>
            </a: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na matičnoj ploč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lavna memorija (ROM i RAM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ikroprocesor (upravljačka + aritmetičko logička jedin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birnica (engl. Bus) - adresna, upravljačka i sabirnica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lazno/izlazni međusklopovi (engl. Buff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7C8-FE62-47ED-BFE0-36E44727450D}" type="slidenum">
              <a:t>27</a:t>
            </a:fld>
          </a:p>
        </p:txBody>
      </p:sp>
    </p:spTree>
  </p:cSld>
  <p:transition advTm="180000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Građa računala – periferne jedinice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az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lazn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azno/izlaz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149-C033-4687-AAD5-51C9F5DA102B}" type="slidenum">
              <a:t>28</a:t>
            </a:fld>
          </a:p>
        </p:txBody>
      </p:sp>
    </p:spTree>
  </p:cSld>
  <p:transition advTm="180000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ulazno/izlazne jedinic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inice za memor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gnetski diskovi, diskete, trake, C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Diske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,5", 1,4 M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gnetski medij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gnetska glav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diruje disketu prilikom čitan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00 okretaja u sekundi, 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032-775A-4106-A35B-9B7DED9E00DB}" type="slidenum">
              <a:t>29</a:t>
            </a:fld>
          </a:p>
        </p:txBody>
      </p:sp>
    </p:spTree>
  </p:cSld>
  <p:transition advTm="180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drža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cijska tehnologija – osnovni pojmo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tegijski aspekti informacijske tehnolo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C62-5080-43A3-957C-2385B2BF63C0}" type="slidenum">
              <a:t>3</a:t>
            </a:fld>
          </a:p>
        </p:txBody>
      </p:sp>
    </p:spTree>
  </p:cSld>
  <p:transition advTm="180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ulazno/izlazne jedini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Čvrsti disk (hard dis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ve većeg kapaciteta, 20 MB, 500 MB, 10 GB, …100 GB,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3-4000 okretaja u sekundi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glava ne dodiruje 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iskovi u zatvorenim prostorima (zbog praš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BD3-F7E1-4542-B519-8902ABE9946C}" type="slidenum">
              <a:t>30</a:t>
            </a:fld>
          </a:p>
        </p:txBody>
      </p:sp>
    </p:spTree>
  </p:cSld>
  <p:transition advTm="180000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ulazno/izlazne jedini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mični disk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likog kapacite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i, ekster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IP 10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 M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z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, 10, 20 GB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7E7-5DDF-4B70-98B4-895B527E1A42}" type="slidenum">
              <a:t>31</a:t>
            </a:fld>
          </a:p>
        </p:txBody>
      </p:sp>
    </p:spTree>
  </p:cSld>
  <p:transition advTm="180000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ulazno/izlazne jedini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Optički disk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a50021"/>
                </a:solidFill>
                <a:latin typeface="Arial"/>
              </a:rPr>
              <a:t>CD-ROM (Compact Disk Read Only Mem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Piše se samo jedn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laser velike snage i preciznosti progorijeva točkice na površini  diska rupice: 1 mikron = 10-6 m, poredane u  spiralnom oblik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Čitanje se obavlja konstantnom linearnom brzinom (zahtjeva promjenjivu brzinu okretanja CD-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F20-F620-46ED-8E78-2E2C024FD361}" type="slidenum">
              <a:t>32</a:t>
            </a:fld>
          </a:p>
        </p:txBody>
      </p:sp>
    </p:spTree>
  </p:cSld>
  <p:transition advTm="180000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ulazno/izlazne jedini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Optički disk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a50021"/>
                </a:solidFill>
                <a:latin typeface="Arial"/>
              </a:rPr>
              <a:t>CD-ROM (Compact Disk Read Only Mem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struktura CD-a: aluminijski reflektivni sloj i plastična podlo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glatka površina sloja - dobro reflektira, gruba površina sloja (izbušena) rupica slabo reflektir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prilikom čitanja: ima ili nema refleksije  (0 ili 1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kapacitet: 650 MB (ekvivalent 500 3,5" disketa, 250.000  stranica teksta, 20.000 slika u boj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86A-964D-4887-8E11-055EFD84B2E6}" type="slidenum">
              <a:t>33</a:t>
            </a:fld>
          </a:p>
        </p:txBody>
      </p:sp>
    </p:spTree>
  </p:cSld>
  <p:transition advTm="180000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ulazno/izlazne jedini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CD-RW (rewri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redina 199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Mogućnost višekratnog pisanja na isti C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 u="sng">
                <a:solidFill>
                  <a:srgbClr val="000000"/>
                </a:solidFill>
                <a:uFillTx/>
                <a:latin typeface="Arial"/>
              </a:rPr>
              <a:t>Pisanje: </a:t>
            </a: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 zagrijavanje na visoku temperaturu (500-700 C),   i naglo hlađenj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 u="sng">
                <a:solidFill>
                  <a:srgbClr val="000000"/>
                </a:solidFill>
                <a:uFillTx/>
                <a:latin typeface="Arial"/>
              </a:rPr>
              <a:t>Brisanje: </a:t>
            </a: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zagrijavanje na temperaturu nižu nego kod pisanja, ali dovoljno visoku da se pokrene proces kristalizacije (iznad 200 stupnjeva C), metal prelazi u stanje kristala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Postupak se može ponoviti nekoliko tisuća put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0FB-742B-4631-A726-C07AFD42C24E}" type="slidenum">
              <a:t>34</a:t>
            </a:fld>
          </a:p>
        </p:txBody>
      </p:sp>
    </p:spTree>
  </p:cSld>
  <p:transition advTm="180000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ulazno/izlazne jedini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DV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 kapacitet 4,7 – 17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US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3F5-7B62-4528-83E5-1F4532B00910}" type="slidenum">
              <a:t>35</a:t>
            </a:fld>
          </a:p>
        </p:txBody>
      </p:sp>
    </p:spTree>
  </p:cSld>
  <p:transition advTm="180000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Građa računala – ulazne jedini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ipkov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i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jetlosno p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oyst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dir ek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afički ta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ovorni ul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dentifikacija pal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nz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čunalno gled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k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B46-AA14-439D-9E51-898CBEEC14C4}" type="slidenum">
              <a:t>36</a:t>
            </a:fld>
          </a:p>
        </p:txBody>
      </p:sp>
    </p:spTree>
  </p:cSld>
  <p:transition advTm="180000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a50021"/>
                </a:solidFill>
                <a:latin typeface="Arial"/>
              </a:rPr>
              <a:t>Ek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katodna cijev (snop elektrona u ekran - svijetla točka ide brzinom od 10 km u se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kući kristali - LCD - plosnati ek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onitori današnjih računala koriste RGB (red-green-blue) model bo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ekran je organiziran kao niz točaka sa kordinatama x,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vaka točka na ekranu = 1 pixel (picture ele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rezolu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280-A190-4275-9C54-015B8653F042}" type="slidenum">
              <a:t>37</a:t>
            </a:fld>
          </a:p>
        </p:txBody>
      </p:sp>
    </p:spTree>
  </p:cSld>
  <p:transition advTm="180000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2492280"/>
            <a:ext cx="273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2492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23888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AB6-CAF8-4EC8-8242-E95FB40D18FC}" type="slidenum">
              <a:t>38</a:t>
            </a:fld>
          </a:p>
        </p:txBody>
      </p:sp>
    </p:spTree>
  </p:cSld>
  <p:transition advTm="180000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Način rada računal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rojne instrukcije – razumljive račun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Strojni jezik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skup strojnih instrukcija koje procesor može obav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čiti tipovi procesora prema broju instrukcija strojnog je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ISC – Complex Instruction Set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SC – Reduced Instruction Set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10E-D1C8-48D5-8B27-477484F2CAD1}" type="slidenum">
              <a:t>39</a:t>
            </a:fld>
          </a:p>
        </p:txBody>
      </p:sp>
    </p:spTree>
  </p:cSld>
  <p:transition advTm="18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05320" y="853920"/>
            <a:ext cx="1218960" cy="97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09680" y="243828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581280" y="4572000"/>
            <a:ext cx="2210040" cy="1768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105520" y="2666880"/>
            <a:ext cx="1511280" cy="1524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324480" y="4724280"/>
            <a:ext cx="1828800" cy="1300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1447920" y="4572000"/>
            <a:ext cx="188568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49F-3CC1-4E49-89D6-0830FFEBDA44}" type="slidenum">
              <a:t>4</a:t>
            </a:fld>
          </a:p>
        </p:txBody>
      </p:sp>
    </p:spTree>
  </p:cSld>
  <p:transition advTm="180000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ro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skup instrukc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ličiti programski jez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rebno prevođenje na strojni jez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i prevoditel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941-4115-475D-A207-900A229F15B0}" type="slidenum">
              <a:t>40</a:t>
            </a:fld>
          </a:p>
        </p:txBody>
      </p:sp>
    </p:spTree>
  </p:cSld>
  <p:transition advTm="180000"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Uloga računala u obradi podatak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namjena računa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ć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jalizir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građena u druge tehničke uređaj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C59-7DEF-4DB9-A6E2-FD3E60385D29}" type="slidenum">
              <a:t>41</a:t>
            </a:fld>
          </a:p>
        </p:txBody>
      </p:sp>
    </p:spTree>
  </p:cSld>
  <p:transition advTm="180000"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naga računa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računa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avno računa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na sta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obno računa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jenosno računa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žepno računa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kroračunalo (pametna karti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5DC-D294-4687-919B-AE82AF8EF797}" type="slidenum">
              <a:t>42</a:t>
            </a:fld>
          </a:p>
        </p:txBody>
      </p:sp>
    </p:spTree>
  </p:cSld>
  <p:transition advTm="180000"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a50021"/>
                </a:solidFill>
                <a:latin typeface="Arial"/>
              </a:rPr>
              <a:t>povezanost računala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a50021"/>
                </a:solidFill>
                <a:latin typeface="Arial"/>
              </a:rPr>
              <a:t>klijentsko-poslužiteljski koncep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lužitel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lij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vorazinska arhitektura obrade: zadatak se pokreće na klijentskoj razini, a izvršava na poslužiteljsk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a50021"/>
                </a:solidFill>
                <a:latin typeface="Arial"/>
              </a:rPr>
              <a:t>klastersko poveziva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engl. cluster) – povezivanje i integracija više različitih računala čime se oni pretvaraju u jedinstven višeprocesorski su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B9B-2712-4309-8DDF-FE1370085612}" type="slidenum">
              <a:t>43</a:t>
            </a:fld>
          </a:p>
        </p:txBody>
      </p:sp>
    </p:spTree>
  </p:cSld>
  <p:transition advTm="180000"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Poslužitel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računalo koje upravlja nekim mrežnim računalnim resursom (bazom podataka, aplikacijama, mrežnim prometom, elektroničkom poštom,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Klij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labije računalo koje pokreće operacije koje se obavljaju na poslužitelju (koristi prostor i računarsku snagu poslužitel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ij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o (raspolaže klijentskom aplikacijom) 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ak (raspolaže samo preglednik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DCF-D3E4-4ED8-B870-2954C3127FF1}" type="slidenum">
              <a:t>44</a:t>
            </a:fld>
          </a:p>
        </p:txBody>
      </p:sp>
    </p:spTree>
  </p:cSld>
  <p:transition advTm="180000"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Grid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– računalna struktura koja osigurava pristup računalnim resursima prema trenutačnoj potrebi klasterski povezana računala  “blade” poslužiteljska tehn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 –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formacijski servis i posrednička služ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anas: samo u okviru istraživačkih projek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690-E5EC-46E2-AAC5-8EF8DC9101BB}" type="slidenum">
              <a:t>45</a:t>
            </a:fld>
          </a:p>
        </p:txBody>
      </p:sp>
    </p:spTree>
  </p:cSld>
  <p:transition advTm="180000"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ovijest razvoja računala i računanj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4 faz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aza ručne obrade podata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aza mehaničke obrade podata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aza elektromehaničke obrade podata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aza elektroničke obrade podata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DE8-6B64-4A42-99F1-4B1F78B17109}" type="slidenum">
              <a:t>46</a:t>
            </a:fld>
          </a:p>
        </p:txBody>
      </p:sp>
    </p:spTree>
  </p:cSld>
  <p:transition advTm="180000"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Faza ručne obrade podatak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oriste se samo um, ruke i predmeti iz prir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brada je spora, nepouzdan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oličina obrađenih podataka mal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iske razine to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B02-FD37-4D24-839C-73704B1AC407}" type="slidenum">
              <a:t>47</a:t>
            </a:fld>
          </a:p>
        </p:txBody>
      </p:sp>
    </p:spTree>
  </p:cSld>
  <p:transition advTm="180000"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Faza mehaničke obrade podatak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akon srednjeg vijeka - niz briljantnih izuma (sprav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snovna ideja - apstraktne simbole zamijeniti predme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 faze: rana i ka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714-7B6C-4BA9-ACA1-4AD5CACDF2F9}" type="slidenum">
              <a:t>48</a:t>
            </a:fld>
          </a:p>
        </p:txBody>
      </p:sp>
    </p:spTree>
  </p:cSld>
  <p:transition advTm="180000"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Rana faza mehaničke obra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66"/>
                </a:solidFill>
                <a:uFillTx/>
                <a:latin typeface="Arial"/>
              </a:rPr>
              <a:t>ABAKUS</a:t>
            </a: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 (računaljka)  Babilon 2-3000 g.pr.n.e. položaj kuglice na žici - broj različite žice - različite mjere vrijednosti (1,10,100…)  operacije + , - , * , : , x2 do novijeg vijeka: Rusija, Kina, Ja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1946. natjecanje Japanca s abakusom i računala, 2 dana zaredom, pobijedio Japan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552-B4C2-461E-AECF-F70C2EFAAA8B}" type="slidenum">
              <a:t>49</a:t>
            </a:fld>
          </a:p>
        </p:txBody>
      </p:sp>
    </p:spTree>
  </p:cSld>
  <p:transition advTm="180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osnovni pojmov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je i znanje - ključni faktori uspješnog poslov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zličiti pojmov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daci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cije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nanje  (upravljanje znanje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je moraju biti: potpune, kvalitetne i dostup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jska tehnologij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sprega mikroelektronike, računala, telekomunikacija i softvera koja omogućuje unos, obradu i prijenos informaci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A07-A111-428A-AE7E-2D51887922CD}" type="slidenum">
              <a:t>5</a:t>
            </a:fld>
          </a:p>
        </p:txBody>
      </p:sp>
    </p:spTree>
  </p:cSld>
  <p:transition advTm="180000"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6458040" cy="2224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038480" y="3733920"/>
            <a:ext cx="4267440" cy="259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06F-0755-4B7C-9413-1497DEFA2074}" type="slidenum">
              <a:t>50</a:t>
            </a:fld>
          </a:p>
        </p:txBody>
      </p:sp>
    </p:spTree>
  </p:cSld>
  <p:transition advTm="180000"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Kasnija faza mehaničke ob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66"/>
                </a:solidFill>
                <a:uFillTx/>
                <a:latin typeface="Arial"/>
              </a:rPr>
              <a:t>Pascalov aritmetički str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1642. God. - Blaise Pascal, matematičar, fizičar, filozof sastavio stroj od bubnjeva s brojevima, zupčanici se koriste za prijen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operacija: + (*  i : uz strašno mnogo truda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stroj je bio skup (za razliku od knjigovođ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29F-4EEF-4962-907A-322FF24A8C41}" type="slidenum">
              <a:t>51</a:t>
            </a:fld>
          </a:p>
        </p:txBody>
      </p:sp>
    </p:spTree>
  </p:cSld>
  <p:transition advTm="180000">
    <p:zoom dir="in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Kasnija faza mehaničke ob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66"/>
                </a:solidFill>
                <a:uFillTx/>
                <a:latin typeface="Arial"/>
              </a:rPr>
              <a:t>Leibnizov aritmetički stro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Gottfried Leibniz - matematičar, 17/18 s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stroj izumljen 167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zupčanik sa 9 zubaca različite deblj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operacije:  + , - , * ,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značajno povećana brz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AD23-05F9-4964-9403-823DCBEC5823}" type="slidenum">
              <a:t>52</a:t>
            </a:fld>
          </a:p>
        </p:txBody>
      </p:sp>
    </p:spTree>
  </p:cSld>
  <p:transition advTm="180000">
    <p:zoom dir="in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Kasnija faza mehaničke ob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0" lang="hr-HR" sz="2600" spc="-1" strike="noStrike" u="sng">
                <a:solidFill>
                  <a:srgbClr val="000066"/>
                </a:solidFill>
                <a:uFillTx/>
                <a:latin typeface="Arial"/>
              </a:rPr>
              <a:t>trojevi Charlesa Babbage-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Charles Babbage, 1791 - 1871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matematičar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izumitelj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"otac računala“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C49-0F67-4D5B-8D5B-91FD49810352}" type="slidenum">
              <a:t>53</a:t>
            </a:fld>
          </a:p>
        </p:txBody>
      </p:sp>
    </p:spTree>
  </p:cSld>
  <p:transition advTm="180000"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66"/>
                </a:solidFill>
                <a:uFillTx/>
                <a:latin typeface="Arial"/>
              </a:rPr>
              <a:t>Diferencijalni stroj C. Babbage-a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mehaničko računal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za rješavanje polinomnih jednadž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radilo na principu konačnih razl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koristilo samo zbrajanje i dekadski brojevni sust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primjen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fizika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inženjerstvo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navigacija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bankarst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227-C6AF-42B8-B6A1-E386A908EE84}" type="slidenum">
              <a:t>54</a:t>
            </a:fld>
          </a:p>
        </p:txBody>
      </p:sp>
    </p:spTree>
  </p:cSld>
  <p:transition advTm="180000">
    <p:zoom dir="in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66"/>
                </a:solidFill>
                <a:uFillTx/>
                <a:latin typeface="Arial"/>
              </a:rPr>
              <a:t>Analitički stroji C. Babbage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1833.  stroj opće namjene, na parni pog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isti dijelovi za različite namje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slijed operacija za određeni posao (programiranj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50000 dijelova, težak nekoliko tona, napravljeni samo nacrti po ideji: </a:t>
            </a:r>
            <a:r>
              <a:rPr b="0" lang="hr-HR" sz="2600" spc="-1" strike="noStrike" u="sng">
                <a:solidFill>
                  <a:srgbClr val="000066"/>
                </a:solidFill>
                <a:uFillTx/>
                <a:latin typeface="Arial"/>
              </a:rPr>
              <a:t>pravo digitalno računa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28D-518E-4DD8-810B-DACB98C1FA34}" type="slidenum">
              <a:t>55</a:t>
            </a:fld>
          </a:p>
        </p:txBody>
      </p:sp>
    </p:spTree>
  </p:cSld>
  <p:transition advTm="180000">
    <p:zoom dir="in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Faza elektromehaničke obrade podatak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66"/>
                </a:solidFill>
                <a:uFillTx/>
                <a:latin typeface="Arial"/>
              </a:rPr>
              <a:t>Stroj Hermana Hollerith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SAD - popis stanovništva svakih 10 godin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podaci obrađivani od 1880 - 188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Natječaj Statističkog zavoda SAD pobjedio H.Hollerith (stroj 10x brži od ostali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1890. god. popis obrađen za 2,5 god. (63  mil. ljud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7AD-5D8F-419D-8780-31546BAA8B08}" type="slidenum">
              <a:t>56</a:t>
            </a:fld>
          </a:p>
        </p:txBody>
      </p:sp>
    </p:spTree>
  </p:cSld>
  <p:transition advTm="180000">
    <p:zoom dir="in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66"/>
                </a:solidFill>
                <a:uFillTx/>
                <a:latin typeface="Arial"/>
              </a:rPr>
              <a:t>Stroj Hermana Hollerit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ulaz podataka pomoću bušene kar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kroz karticu prolaze igle koje se uranjaju u živinu kupku i tako zatvaraju strujni kr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obrada 50-70 kartica u minu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1896. Hollerith osniva kompaniju koja 1924. postaje I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979-E2AD-4F52-9120-B2468261417E}" type="slidenum">
              <a:t>57</a:t>
            </a:fld>
          </a:p>
        </p:txBody>
      </p:sp>
    </p:spTree>
  </p:cSld>
  <p:transition advTm="180000"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Faza elektroničke obrade podatak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66"/>
                </a:solidFill>
                <a:uFillTx/>
                <a:latin typeface="Arial"/>
              </a:rPr>
              <a:t>ENIAC računa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(Electronic Numerical Integrator &amp; Calcul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Mauchly i Eckert, 194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koristila ga vojska za proračun balističkih tablica  topo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temeljio se na decimalnom sustav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19000 elektronskih cijevi, 30 ton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U prostoriji od 1500 m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koristio vlastitu elektranu, jako se zagrijava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promjena programa = prespajanje ž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2E8-D212-497B-B431-9AB71E63772D}" type="slidenum">
              <a:t>58</a:t>
            </a:fld>
          </a:p>
        </p:txBody>
      </p:sp>
    </p:spTree>
  </p:cSld>
  <p:transition advTm="180000">
    <p:zoom dir="in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66"/>
                </a:solidFill>
                <a:uFillTx/>
                <a:latin typeface="Arial"/>
              </a:rPr>
              <a:t>UNIVAC - prvo komercijalno račun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Mauchly i Eckert, 1951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za obradu podataka izb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radilo je 12 godina, 24 sata na d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Tvrtka Remington R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Cijena, sitnica,:  ~ 1 milijun. $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C62-682B-4F85-9BDC-18C892C61A7D}" type="slidenum">
              <a:t>59</a:t>
            </a:fld>
          </a:p>
        </p:txBody>
      </p:sp>
    </p:spTree>
  </p:cSld>
  <p:transition advTm="180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formatika - od 1950 znanstvena disciplina, akronim francuskih riječ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'INFORMATIQUE = L'INFORmation + L'auto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formacijska znanost - proučava komunikaciju pomoću informacija u društvu, te pritom istražuje izvore informacija, njihovu ogranizaciju, pretraživanje i upravljanje informacij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čunarska znanost (računarstvo, sinonim: informatik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avi se proučavanjem prikaza i strukturiranja informacija, algoritamskim procesima, hardverom i softver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B52-69CC-414F-AA4E-A762F2436A4C}" type="slidenum">
              <a:t>6</a:t>
            </a:fld>
          </a:p>
        </p:txBody>
      </p:sp>
    </p:spTree>
  </p:cSld>
  <p:transition advTm="180000">
    <p:zoom dir="in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ovijest razvoja računala i računanj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Ako zamislimo razvoj računala u rasponu jednog radnog dana u trajanju d 09.00 - 17.00 sati, ona je 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09.00 izumljen abakusu 16.30 izrađeno mehaničko računalo B. Pasca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16.45 C. Babbage konstruira diferencijalni stro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16.51 izišla prva generacija računa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16.57 proizveden P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16.59 stvorena većina kompjuterskih ig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E9F-3569-494C-95C1-15097B128941}" type="slidenum">
              <a:t>60</a:t>
            </a:fld>
          </a:p>
        </p:txBody>
      </p:sp>
    </p:spTree>
  </p:cSld>
  <p:transition advTm="180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splozija znanja i informacijske tehnolog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na uloga znanja i informacij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judsko znanje udvostručeno od 1900-195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d tada se znanje udvostručuje svakih 5-8 god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ćenje znanja postaje nemoguće bez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u službi modernog poslov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zin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ezanos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ana vrijednost (zadovoljstvo, sigurno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823-B12E-4C0D-8B35-4DD5EEC4D6FB}" type="slidenum">
              <a:t>7</a:t>
            </a:fld>
          </a:p>
        </p:txBody>
      </p:sp>
    </p:spTree>
  </p:cSld>
  <p:transition advTm="180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rištenje informacijske tehnologije dovodi do promjena u načinu poslov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rad u skupini (workgroups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islociranost članova  radne grup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Rad na daljin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vjeravanje poslova vanjskim organizacij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51A-D307-474E-942A-77B2B2BE2490}" type="slidenum">
              <a:t>8</a:t>
            </a:fld>
          </a:p>
        </p:txBody>
      </p:sp>
    </p:spTree>
  </p:cSld>
  <p:transition advTm="180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vorena su nova područja ra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Elektroničko poslovanje (publikacija, prodaja,   održavanje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Elektroničko (svjetsko) tržište – virtualne    prodavaonice, u kojim informacije zamjenjuju fizičke proizvod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elektroničko izdavaštvo - pointcasting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ull/push tehnologi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EB1-1EE4-4387-8098-9F0830CA05DB}" type="slidenum">
              <a:t>9</a:t>
            </a:fld>
          </a:p>
        </p:txBody>
      </p:sp>
    </p:spTree>
  </p:cSld>
  <p:transition advTm="180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08:22:57Z</dcterms:created>
  <dc:creator>VBZ</dc:creator>
  <dc:description/>
  <dc:language>en-US</dc:language>
  <cp:lastModifiedBy>Mario</cp:lastModifiedBy>
  <dcterms:modified xsi:type="dcterms:W3CDTF">2006-01-22T11:43:28Z</dcterms:modified>
  <cp:revision>10</cp:revision>
  <dc:subject/>
  <dc:title>Primjena računala</dc:title>
</cp:coreProperties>
</file>