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127-8195-475D-BFFA-321D24CF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C38-5AE3-41B3-969F-1AAEB14F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0BB-A094-483C-AEC7-63E7005C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AB0-C806-4A8F-98A2-2EEDF483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973C-BEF2-4F1E-A198-D0328BD6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9A2A-5812-48AD-81B1-2E64D094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BB52-F4EC-414C-96F3-AD31B196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4A90-4E4A-4306-921E-1F05839C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CD4D-E3E1-479A-8747-A4AE30D0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6DC2-542B-45D5-A4CB-3BE47A0F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C81A-146C-4FBE-8AE2-F94CE99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24A-D577-499D-9DB8-FF420D8E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5F3E-9BC9-436B-AE29-54B3783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8370-709C-48B2-8B12-5D0A1AB6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D496-64DD-4AAA-A770-A21CD458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0CC8-9EDF-4887-8602-EE58F320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A152-8F54-4E07-A6B1-9EEB38D9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9D7-EE28-4429-8664-AB646488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C09-7913-4CFB-8543-D802C207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B3D-5AF6-47BB-8848-9810DC1E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373-DA95-4F4B-B22E-80EB7323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A91-1F08-447C-8A0A-A1E6BF7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E11-2A7B-48E2-84DA-BE06256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918-7FAB-4AB5-9FCB-E12C394F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6813-B543-4FB0-A11C-C6792065CC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005/20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AB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752-FB99-461D-98B9-1DDE91AC3B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imjena računal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dno pred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0FD7-8B80-4C06-BD54-03568159C86B}" type="slidenum">
              <a:t>1</a:t>
            </a:fld>
          </a:p>
        </p:txBody>
      </p:sp>
    </p:spTree>
  </p:cSld>
  <p:transition advTm="18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ijalne opa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čunalni krimin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rus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loupotre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638680" y="2120760"/>
          <a:ext cx="227340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20760"/>
                    <a:ext cx="227340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EE8-5C2C-4ECF-B85A-CB483B77F5C8}" type="slidenum">
              <a:t>10</a:t>
            </a:fld>
          </a:p>
        </p:txBody>
      </p:sp>
    </p:spTree>
  </p:cSld>
  <p:transition advTm="180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i uvođenja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hnički razloz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uštveni razloz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jena koristi od uvođenja IT-e je neprecizna, teško se kvantifici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ekivane kori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ećanje prodaje, povećanje dobiti, lakše dostupne informa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417-9565-40CE-B777-846B444E9863}" type="slidenum">
              <a:t>11</a:t>
            </a:fld>
          </a:p>
        </p:txBody>
      </p:sp>
    </p:spTree>
  </p:cSld>
  <p:transition advTm="18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: sustav London Ambulance Service's Computer Aided Dispat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započet 1991. godine, cijena programa 1,1 milijun fu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dat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uzimanje poziva za hitnu pomo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aćenje ambulatnih vozi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abir 3 najbliža vozi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cjena vremena za dolazak do cil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načna odluka o rasporedu vozila prepuštena je dispeč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stav je aktiviran u listopadu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mo 26. i27.10.1992. - 2900 poziva, zagušenje, netočne lokacije vozila, ponavljanje poz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zultat 20-30 mrtvih zbog neadekvatnog sust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2AF-0786-46E0-8DE2-B711A89D36AE}" type="slidenum">
              <a:t>12</a:t>
            </a:fld>
          </a:p>
        </p:txBody>
      </p:sp>
    </p:spTree>
  </p:cSld>
  <p:transition advTm="18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moguć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boljšanje funkcije procesa i promjenu njihove organizacijske strukture (BP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ključivanje informacijske tehnologije u proizvode i usluge (robotizirane proizvodne linije, CAD/CAM, bankomati, rezervacijski sustavi u zračnom prometu, rezervacijske sustave u turizm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2AC-80A4-4FB7-9075-B3810F3A7BB5}" type="slidenum">
              <a:t>13</a:t>
            </a:fld>
          </a:p>
        </p:txBody>
      </p:sp>
    </p:spTree>
  </p:cSld>
  <p:transition advTm="18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T omogućuje povezivanje s drugim organizacij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EDI - electronic data interchange, elektronsko tržiš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kstranet, WWW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teraktivne, izravne veze s kupcima, uz povećavanje dodane vrijednosti u proizvodima i uslug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0CB-E527-4E27-BC5C-B7812AE0F0CC}" type="slidenum">
              <a:t>14</a:t>
            </a:fld>
          </a:p>
        </p:txBody>
      </p:sp>
    </p:spTree>
  </p:cSld>
  <p:transition advTm="180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6480" y="27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66760" y="2390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3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B3F-CB21-4422-BFAF-A0188ECE0739}" type="slidenum">
              <a:t>15</a:t>
            </a:fld>
          </a:p>
        </p:txBody>
      </p:sp>
    </p:spTree>
  </p:cSld>
  <p:transition advTm="180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0680" y="1466640"/>
            <a:ext cx="5982120" cy="156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đa računal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9A52-ECD0-49C9-BEB4-1F2A74272707}" type="slidenum">
              <a:t>16</a:t>
            </a:fld>
          </a:p>
        </p:txBody>
      </p:sp>
    </p:spTree>
  </p:cSld>
  <p:transition advTm="180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to je računal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đa raču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in rada raču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čunalo i obrada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ijest razvoja računala i raču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C50-FEB1-4463-8BCD-9A68AFDA233C}" type="slidenum">
              <a:t>17</a:t>
            </a:fld>
          </a:p>
        </p:txBody>
      </p:sp>
    </p:spTree>
  </p:cSld>
  <p:transition advTm="180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računalo - računarski s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elektronička, digitalna napr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programibilna naprava – izvršava skup zadan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i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niz instrukcija – računalni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namijenjeno obradi podataka u najširem smi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računske operacije, crtanje, igranj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Što je računalo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97A-FE57-48BA-A1C1-A8DA8FA1495D}" type="slidenum">
              <a:t>18</a:t>
            </a:fld>
          </a:p>
        </p:txBody>
      </p:sp>
    </p:spTree>
  </p:cSld>
  <p:transition advTm="180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Računarski sustav – složen, umjetni susta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Tri osnovna područja računarskog sustav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sklopovlje – </a:t>
            </a: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programska oprema – </a:t>
            </a: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odnos čovjek - računalo, postupci i nač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330033"/>
                </a:solidFill>
                <a:latin typeface="Arial"/>
              </a:rPr>
              <a:t>uporabe računala – </a:t>
            </a: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human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Hardver - sklopovska podršk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aterijalni elementi račun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Što je računalo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B98-223C-4CAA-BCB4-9D8A56F9824B}" type="slidenum">
              <a:t>19</a:t>
            </a:fld>
          </a:p>
        </p:txBody>
      </p:sp>
    </p:spTree>
  </p:cSld>
  <p:transition advTm="180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 Ivan Škoro soba 50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nzulta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nedjeljkom 17,30 – 19,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torkom         08,00 – 10,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A60-B8E7-4DCE-B723-C75C9153E14A}" type="slidenum">
              <a:t>2</a:t>
            </a:fld>
          </a:p>
        </p:txBody>
      </p:sp>
    </p:spTree>
  </p:cSld>
  <p:transition advTm="180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von Neumannov model računal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9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4 osnovne funkcijske jedin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među funkcijskih jedinica prenose 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pravljački signali, podaci i instruk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jenos se temelji na sabirnic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4D3-54E4-495E-B7C6-BC1879A208F6}" type="slidenum">
              <a:t>20</a:t>
            </a:fld>
          </a:p>
        </p:txBody>
      </p:sp>
    </p:spTree>
  </p:cSld>
  <p:transition advTm="180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830592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43440" cy="66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846-00AD-400C-B86D-3A4C4DBA399C}" type="slidenum">
              <a:t>21</a:t>
            </a:fld>
          </a:p>
        </p:txBody>
      </p:sp>
    </p:spTree>
  </p:cSld>
  <p:transition advTm="180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memorija memorij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luži za pamćenje podataka i programa (instruk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eracije: čitanje iz memorije (ne mijenja sadržaj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is u memoriju (mijenja sadržaj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ganizacija memorije u ćelije – ćelije služe za spremanje podata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 su ćelije adresabilne - može im se pristupiti direktno preko njihove adr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ijeme dosega podataka u ns ( 10-9 sekund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1C2-05CC-4D93-969A-A77F5C88567E}" type="slidenum">
              <a:t>22</a:t>
            </a:fld>
          </a:p>
        </p:txBody>
      </p:sp>
    </p:spTree>
  </p:cSld>
  <p:transition advTm="180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2492280"/>
            <a:ext cx="27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2492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47760" y="2514600"/>
            <a:ext cx="4794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Osnovna jedinica - </a:t>
            </a:r>
            <a:r>
              <a:rPr b="0" lang="hr-HR" sz="2200" spc="-1" strike="noStrike">
                <a:solidFill>
                  <a:srgbClr val="a50021"/>
                </a:solidFill>
                <a:latin typeface="Tahoma"/>
              </a:rPr>
              <a:t>b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1 bit je sadržaj svake ćeli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Može poprimiti 2 stanja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0 ili 1, tj. laž ili ist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Bitovi su grupirani u skupine po 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Skupina = 1 </a:t>
            </a:r>
            <a:r>
              <a:rPr b="0" lang="hr-HR" sz="2200" spc="-1" strike="noStrike">
                <a:solidFill>
                  <a:srgbClr val="a50021"/>
                </a:solidFill>
                <a:latin typeface="Tahoma"/>
              </a:rPr>
              <a:t>byte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(256 kombinacij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18040" y="2362320"/>
            <a:ext cx="3225960" cy="352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59840" y="1052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Građa računala - 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45C-62C1-4249-9B9B-B7CDBDBDF439}" type="slidenum">
              <a:t>23</a:t>
            </a:fld>
          </a:p>
        </p:txBody>
      </p:sp>
    </p:spTree>
  </p:cSld>
  <p:transition advTm="180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42920" y="2492280"/>
            <a:ext cx="27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492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26920" y="2421000"/>
          <a:ext cx="7705800" cy="3649680"/>
        </p:xfrm>
        <a:graphic>
          <a:graphicData uri="http://schemas.openxmlformats.org/drawingml/2006/table">
            <a:tbl>
              <a:tblPr/>
              <a:tblGrid>
                <a:gridCol w="1379880"/>
                <a:gridCol w="1214280"/>
                <a:gridCol w="5111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ra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ličina (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10 = 1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20 = 1,048,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30 = 1,073,741,8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40 = 1,099,511,627,7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50 = 1,125,899,906,842,6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60 = 1,152,921,504,606,846,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70 = 1,180,591,620,717,411,303,4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^80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1,208,925,819,614,629,174,706,17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72560" y="98100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Građa računala - 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869-E36F-494A-A0EB-F7DB1A7771B8}" type="slidenum">
              <a:t>24</a:t>
            </a:fld>
          </a:p>
        </p:txBody>
      </p:sp>
    </p:spTree>
  </p:cSld>
  <p:transition advTm="180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 – memorij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ste memor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a50021"/>
                </a:solidFill>
                <a:latin typeface="Arial"/>
              </a:rPr>
              <a:t>RAM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(random access mem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irektni pristup ćelija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Čitanje i pis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Brzo izmjenjivanje programa i podataka tokom izvođe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Briše se kada se računalo isključi iz stru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a50021"/>
                </a:solidFill>
                <a:latin typeface="Arial"/>
              </a:rPr>
              <a:t>ROM 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(read only mem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amo za čit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adrži često potrebne programe (operacijski sustavi, programi prevoditelji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20E-E7C5-44E4-8334-4ECA1E58FBC6}" type="slidenum">
              <a:t>25</a:t>
            </a:fld>
          </a:p>
        </p:txBody>
      </p:sp>
    </p:spTree>
  </p:cSld>
  <p:transition advTm="180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 – proces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na procesorska jedinica – proc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vlja obradu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metičko-logička  jedinica i upravljačka jedinica zajedno čine proc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obnim računalima nalazi se –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ikroproce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jedan č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žna računala imaju više proces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22F-E551-42E1-A469-5E0CDE49B066}" type="slidenum">
              <a:t>26</a:t>
            </a:fld>
          </a:p>
        </p:txBody>
      </p:sp>
    </p:spTree>
  </p:cSld>
  <p:transition advTm="180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osobna računal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redišnje jedinice osobnog računala smještene su </a:t>
            </a: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na matičnoj ploč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avna memorija (ROM i RAM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kroprocesor (upravljačka + aritmetičko logička jedi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birnica (engl. Bus) - adresna, upravljačka i sabirnica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lazno/izlazni međusklopovi (engl. Buff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5BE-60E2-40A5-B069-A967C87192CE}" type="slidenum">
              <a:t>27</a:t>
            </a:fld>
          </a:p>
        </p:txBody>
      </p:sp>
    </p:spTree>
  </p:cSld>
  <p:transition advTm="180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 – periferne jedinic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az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lazn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azno/izla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0F2-2C07-4A96-8CFA-C50E8877EA70}" type="slidenum">
              <a:t>28</a:t>
            </a:fld>
          </a:p>
        </p:txBody>
      </p:sp>
    </p:spTree>
  </p:cSld>
  <p:transition advTm="180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inice za memor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netski diskovi, diskete, trake, C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Disk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,5", 1,4 M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gnetski medij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gnetska gla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diruje disketu prilikom čitan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00 okretaja u sekundi, 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EAB-4864-4C37-9B17-5D6762EDB644}" type="slidenum">
              <a:t>29</a:t>
            </a:fld>
          </a:p>
        </p:txBody>
      </p:sp>
    </p:spTree>
  </p:cSld>
  <p:transition advTm="18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cijska tehnologija – osnovni pojmo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jski aspekti informacijske tehnolo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2B3-010C-4173-BDC1-9F6CB8F612C7}" type="slidenum">
              <a:t>3</a:t>
            </a:fld>
          </a:p>
        </p:txBody>
      </p:sp>
    </p:spTree>
  </p:cSld>
  <p:transition advTm="180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Čvrsti disk (hard di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ve većeg kapaciteta, 20 MB, 500 MB, 10 GB, …100 GB,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3-4000 okretaja u sekundi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glava ne dodiruje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iskovi u zatvorenim prostorima (zbog praš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2FE-E15D-4DE1-BBA8-DBB80EC1267C}" type="slidenum">
              <a:t>30</a:t>
            </a:fld>
          </a:p>
        </p:txBody>
      </p:sp>
    </p:spTree>
  </p:cSld>
  <p:transition advTm="180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mični dis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likog kapacit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i, ekster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IP 10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 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z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, 10, 20 GB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958-720F-424C-BE1B-67498DA4781C}" type="slidenum">
              <a:t>31</a:t>
            </a:fld>
          </a:p>
        </p:txBody>
      </p:sp>
    </p:spTree>
  </p:cSld>
  <p:transition advTm="180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Optički dis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a50021"/>
                </a:solidFill>
                <a:latin typeface="Arial"/>
              </a:rPr>
              <a:t>CD-ROM (Compact Disk Read Only Mem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Piše se samo jedn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laser velike snage i preciznosti progorijeva točkice na površini  diska rupice: 1 mikron = 10-6 m, poredane u  spiralnom oblik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Čitanje se obavlja konstantnom linearnom brzinom (zahtjeva promjenjivu brzinu okretanja CD-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F51-CDAC-4D12-A611-59B7346ADF9C}" type="slidenum">
              <a:t>32</a:t>
            </a:fld>
          </a:p>
        </p:txBody>
      </p:sp>
    </p:spTree>
  </p:cSld>
  <p:transition advTm="180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Optički dis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a50021"/>
                </a:solidFill>
                <a:latin typeface="Arial"/>
              </a:rPr>
              <a:t>CD-ROM (Compact Disk Read Only Mem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struktura CD-a: aluminijski reflektivni sloj i plastična podlo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glatka površina sloja - dobro reflektira, gruba površina sloja (izbušena) rupica slabo reflekti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prilikom čitanja: ima ili nema refleksije  (0 ili 1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kapacitet: 650 MB (ekvivalent 500 3,5" disketa, 250.000  stranica teksta, 20.000 slika u boj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D2B-BDB2-4507-B21C-0A6B7A16428B}" type="slidenum">
              <a:t>33</a:t>
            </a:fld>
          </a:p>
        </p:txBody>
      </p:sp>
    </p:spTree>
  </p:cSld>
  <p:transition advTm="180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CD-RW (rewri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redina 199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Mogućnost višekratnog pisanja na isti C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 u="sng">
                <a:solidFill>
                  <a:srgbClr val="000000"/>
                </a:solidFill>
                <a:uFillTx/>
                <a:latin typeface="Arial"/>
              </a:rPr>
              <a:t>Pisanje: </a:t>
            </a: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 zagrijavanje na visoku temperaturu (500-700 C),   i naglo hlađenj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 u="sng">
                <a:solidFill>
                  <a:srgbClr val="000000"/>
                </a:solidFill>
                <a:uFillTx/>
                <a:latin typeface="Arial"/>
              </a:rPr>
              <a:t>Brisanje: </a:t>
            </a: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zagrijavanje na temperaturu nižu nego kod pisanja, ali dovoljno visoku da se pokrene proces kristalizacije (iznad 200 stupnjeva C), metal prelazi u stanje kristala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Postupak se može ponoviti nekoliko tisuća pu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B36-ACA0-4E56-8F4E-32316CF6C571}" type="slidenum">
              <a:t>34</a:t>
            </a:fld>
          </a:p>
        </p:txBody>
      </p:sp>
    </p:spTree>
  </p:cSld>
  <p:transition advTm="180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đa računala – ulazno/izlazne jedin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V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 kapacitet 4,7 – 17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US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087-FC2D-401F-B2BC-4BB09C8BFD7A}" type="slidenum">
              <a:t>35</a:t>
            </a:fld>
          </a:p>
        </p:txBody>
      </p:sp>
    </p:spTree>
  </p:cSld>
  <p:transition advTm="180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rađa računala – ulazne jedini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ipkov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jetlosno p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oyst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dir ek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fički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ovorni ul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dentifikacija pal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nz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čunalno gled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k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F10-2173-449A-B92E-FA817BC34B60}" type="slidenum">
              <a:t>36</a:t>
            </a:fld>
          </a:p>
        </p:txBody>
      </p:sp>
    </p:spTree>
  </p:cSld>
  <p:transition advTm="180000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50021"/>
                </a:solidFill>
                <a:latin typeface="Arial"/>
              </a:rPr>
              <a:t>Ek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atodna cijev (snop elektrona u ekran - svijetla točka ide brzinom od 10 km u s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kući kristali - LCD - plosnati ek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onitori današnjih računala koriste RGB (red-green-blue) model bo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ekran je organiziran kao niz točaka sa kordinatama x,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vaka točka na ekranu = 1 pixel (picture el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ezolu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A6A-792F-43B5-9DC5-3FE212509192}" type="slidenum">
              <a:t>37</a:t>
            </a:fld>
          </a:p>
        </p:txBody>
      </p:sp>
    </p:spTree>
  </p:cSld>
  <p:transition advTm="180000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2492280"/>
            <a:ext cx="27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492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23888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139-F172-41FB-8CA0-E8266F84E647}" type="slidenum">
              <a:t>38</a:t>
            </a:fld>
          </a:p>
        </p:txBody>
      </p:sp>
    </p:spTree>
  </p:cSld>
  <p:transition advTm="180000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Način rada računal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rojne instrukcije – razumljive račun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Strojni jezik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skup strojnih instrukcija koje procesor može obav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čiti tipovi procesora prema broju instrukcija strojnog je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SC – Complex Instruction Set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SC – Reduced Instruction Set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D3B-30F7-432F-A3A2-02FF5D94E63F}" type="slidenum">
              <a:t>39</a:t>
            </a:fld>
          </a:p>
        </p:txBody>
      </p:sp>
    </p:spTree>
  </p:cSld>
  <p:transition advTm="18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853920"/>
            <a:ext cx="1218960" cy="97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581280" y="4572000"/>
            <a:ext cx="2210040" cy="1768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105520" y="2666880"/>
            <a:ext cx="1511280" cy="1524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324480" y="4724280"/>
            <a:ext cx="1828800" cy="1300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447920" y="4572000"/>
            <a:ext cx="188568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DCF-2D1A-408B-A989-D0D6F9F40218}" type="slidenum">
              <a:t>4</a:t>
            </a:fld>
          </a:p>
        </p:txBody>
      </p:sp>
    </p:spTree>
  </p:cSld>
  <p:transition advTm="180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ro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skup instruk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ličiti programski jez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rebno prevođenje na strojni je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i prevoditel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756-90E3-4EFE-9E9B-0CF404EBE404}" type="slidenum">
              <a:t>40</a:t>
            </a:fld>
          </a:p>
        </p:txBody>
      </p:sp>
    </p:spTree>
  </p:cSld>
  <p:transition advTm="180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Uloga računala u obradi podata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namjena račun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ć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jalizir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građena u druge tehničke uređaj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FCE-50DE-44DF-BFFC-6C6B1788A451}" type="slidenum">
              <a:t>41</a:t>
            </a:fld>
          </a:p>
        </p:txBody>
      </p:sp>
    </p:spTree>
  </p:cSld>
  <p:transition advTm="180000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naga račun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v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na sta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ob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jenos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žep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kroračunalo (pametna kart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3E6-B95D-461F-BA66-C1E41E446E47}" type="slidenum">
              <a:t>42</a:t>
            </a:fld>
          </a:p>
        </p:txBody>
      </p:sp>
    </p:spTree>
  </p:cSld>
  <p:transition advTm="180000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a50021"/>
                </a:solidFill>
                <a:latin typeface="Arial"/>
              </a:rPr>
              <a:t>povezanost računala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a50021"/>
                </a:solidFill>
                <a:latin typeface="Arial"/>
              </a:rPr>
              <a:t>klijentsko-poslužiteljski koncep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lužitel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lij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vorazinska arhitektura obrade: zadatak se pokreće na klijentskoj razini, a izvršava na poslužiteljsk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a50021"/>
                </a:solidFill>
                <a:latin typeface="Arial"/>
              </a:rPr>
              <a:t>klastersko poveziv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engl. cluster) – povezivanje i integracija više različitih računala čime se oni pretvaraju u jedinstven višeprocesorski su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CC5-4602-48BC-BEC8-BE5BD3BCEDC1}" type="slidenum">
              <a:t>43</a:t>
            </a:fld>
          </a:p>
        </p:txBody>
      </p:sp>
    </p:spTree>
  </p:cSld>
  <p:transition advTm="180000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oslužitel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računalo koje upravlja nekim mrežnim računalnim resursom (bazom podataka, aplikacijama, mrežnim prometom, elektroničkom poštom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Klij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labije računalo koje pokreće operacije koje se obavljaju na poslužitelju (koristi prostor i računarsku snagu poslužitel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ij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o (raspolaže klijentskom aplikacijom) 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ak (raspolaže samo preglednik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90F-053A-43AC-98F5-2643643E7F04}" type="slidenum">
              <a:t>44</a:t>
            </a:fld>
          </a:p>
        </p:txBody>
      </p:sp>
    </p:spTree>
  </p:cSld>
  <p:transition advTm="180000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Grid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– računalna struktura koja osigurava pristup računalnim resursima prema trenutačnoj potrebi klasterski povezana računala  “blade” poslužiteljska tehn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 –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formacijski servis i posrednička služ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anas: samo u okviru istraživačkih projek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EED-F97C-4D56-A9EB-202385F5589A}" type="slidenum">
              <a:t>45</a:t>
            </a:fld>
          </a:p>
        </p:txBody>
      </p:sp>
    </p:spTree>
  </p:cSld>
  <p:transition advTm="180000"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ovijest razvoja računala i računanj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 faz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aza ručne obrad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aza mehaničke obrad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aza elektromehaničke obrad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aza elektroničke obrad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E58-4D5E-4953-85FB-FC43A8FC54EF}" type="slidenum">
              <a:t>46</a:t>
            </a:fld>
          </a:p>
        </p:txBody>
      </p:sp>
    </p:spTree>
  </p:cSld>
  <p:transition advTm="180000"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aza ručne obrade podata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oriste se samo um, ruke i predmeti iz prir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rada je spora, nepouzda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oličina obrađenih podataka ma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iske razine to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43A-A150-4F86-AC5A-DA45386CC581}" type="slidenum">
              <a:t>47</a:t>
            </a:fld>
          </a:p>
        </p:txBody>
      </p:sp>
    </p:spTree>
  </p:cSld>
  <p:transition advTm="180000"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aza mehaničke obrade podata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kon srednjeg vijeka - niz briljantnih izuma (sprav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snovna ideja - apstraktne simbole zamijeniti predme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 faze: rana i ka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ADA-DB94-4252-AA77-AA7E8EFFD15B}" type="slidenum">
              <a:t>48</a:t>
            </a:fld>
          </a:p>
        </p:txBody>
      </p:sp>
    </p:spTree>
  </p:cSld>
  <p:transition advTm="180000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Rana faza mehaničke obra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66"/>
                </a:solidFill>
                <a:uFillTx/>
                <a:latin typeface="Arial"/>
              </a:rPr>
              <a:t>ABAKUS</a:t>
            </a: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 (računaljka)  Babilon 2-3000 g.pr.n.e. položaj kuglice na žici - broj različite žice - različite mjere vrijednosti (1,10,100…)  operacije + , - , * , : , x2 do novijeg vijeka: Rusija, Kin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1946. natjecanje Japanca s abakusom i računala, 2 dana zaredom, pobijedio Japan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EE8-D47E-413D-8AD5-8201FC553CEE}" type="slidenum">
              <a:t>49</a:t>
            </a:fld>
          </a:p>
        </p:txBody>
      </p:sp>
    </p:spTree>
  </p:cSld>
  <p:transition advTm="18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osnovni pojmov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je i znanje - ključni faktori uspješnog poslov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ličiti pojmov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dac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cije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nanje  (upravljanje znanje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je moraju biti: potpune, kvalitetne i dostup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jska tehnologij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sprega mikroelektronike, računala, telekomunikacija i softvera koja omogućuje unos, obradu i prijenos informaci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401-D1D7-4773-B07F-F934A22F101E}" type="slidenum">
              <a:t>5</a:t>
            </a:fld>
          </a:p>
        </p:txBody>
      </p:sp>
    </p:spTree>
  </p:cSld>
  <p:transition advTm="180000"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458040" cy="2224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038480" y="3733920"/>
            <a:ext cx="4267440" cy="259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8F6-6AF7-406A-99B7-FCDCBA7D1E99}" type="slidenum">
              <a:t>50</a:t>
            </a:fld>
          </a:p>
        </p:txBody>
      </p:sp>
    </p:spTree>
  </p:cSld>
  <p:transition advTm="180000"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Kasnija faza mehaničke ob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Pascalov aritmetički 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42. God. - Blaise Pascal, matematičar, fizičar, filozof sastavio stroj od bubnjeva s brojevima, zupčanici se koriste za prijen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operacija: + (*  i : uz strašno mnogo trud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stroj je bio skup (za razliku od knjigovođ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EAB-E70B-4859-ACE8-231CE30BD47A}" type="slidenum">
              <a:t>51</a:t>
            </a:fld>
          </a:p>
        </p:txBody>
      </p:sp>
    </p:spTree>
  </p:cSld>
  <p:transition advTm="180000"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Kasnija faza mehaničke ob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66"/>
                </a:solidFill>
                <a:uFillTx/>
                <a:latin typeface="Arial"/>
              </a:rPr>
              <a:t>Leibnizov aritmetički stro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Gottfried Leibniz - matematičar, 17/18 s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stroj izumljen 16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zupčanik sa 9 zubaca različite deblj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operacije:  + , - , * ,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značajno povećana brz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F25-C07D-478C-8C8F-D547D283EADA}" type="slidenum">
              <a:t>52</a:t>
            </a:fld>
          </a:p>
        </p:txBody>
      </p:sp>
    </p:spTree>
  </p:cSld>
  <p:transition advTm="180000"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Arial"/>
              </a:rPr>
              <a:t>Kasnija faza mehaničke ob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0" lang="hr-HR" sz="2600" spc="-1" strike="noStrike" u="sng">
                <a:solidFill>
                  <a:srgbClr val="000066"/>
                </a:solidFill>
                <a:uFillTx/>
                <a:latin typeface="Arial"/>
              </a:rPr>
              <a:t>trojevi Charlesa Babbage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Charles Babbage, 1791 - 1871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matematičar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izumitelj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66"/>
                </a:solidFill>
                <a:latin typeface="Arial"/>
              </a:rPr>
              <a:t>"otac računala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319-5B7C-4E3B-95A5-5371DBF17CD7}" type="slidenum">
              <a:t>53</a:t>
            </a:fld>
          </a:p>
        </p:txBody>
      </p:sp>
    </p:spTree>
  </p:cSld>
  <p:transition advTm="180000"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"/>
              </a:rPr>
              <a:t>Diferencijalni stroj C. Babbage-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mehaničko računal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za rješavanje polinomnih jednadž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radilo na principu konačnih razl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koristilo samo zbrajanje i dekadski brojevni sust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primjen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fizik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inženjerstvo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navigacij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bankars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50C-759C-4B81-BD66-E608EF40989C}" type="slidenum">
              <a:t>54</a:t>
            </a:fld>
          </a:p>
        </p:txBody>
      </p:sp>
    </p:spTree>
  </p:cSld>
  <p:transition advTm="180000"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Analitički stroji C. Babbage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833.  stroj opće namjene, na parni pog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isti dijelovi za različite namj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slijed operacija za određeni posao (programiranj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50000 dijelova, težak nekoliko tona, napravljeni samo nacrti po ideji: </a:t>
            </a:r>
            <a:r>
              <a:rPr b="0" lang="hr-HR" sz="2600" spc="-1" strike="noStrike" u="sng">
                <a:solidFill>
                  <a:srgbClr val="000066"/>
                </a:solidFill>
                <a:uFillTx/>
                <a:latin typeface="Arial"/>
              </a:rPr>
              <a:t>pravo digitalno račun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1E3-E24D-4FC4-9AF4-E24AC79939D2}" type="slidenum">
              <a:t>55</a:t>
            </a:fld>
          </a:p>
        </p:txBody>
      </p:sp>
    </p:spTree>
  </p:cSld>
  <p:transition advTm="180000"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Faza elektromehaničke obrade podatak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Stroj Hermana Hollerit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SAD - popis stanovništva svakih 10 godin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podaci obrađivani od 1880 - 188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Natječaj Statističkog zavoda SAD pobjedio H.Hollerith (stroj 10x brži od ostal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890. god. popis obrađen za 2,5 god. (63  mil. ljud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92B-3C5A-4999-8611-E73DDEB73B9E}" type="slidenum">
              <a:t>56</a:t>
            </a:fld>
          </a:p>
        </p:txBody>
      </p:sp>
    </p:spTree>
  </p:cSld>
  <p:transition advTm="180000"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Stroj Hermana Holleri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ulaz podataka pomoću bušene kar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kroz karticu prolaze igle koje se uranjaju u živinu kupku i tako zatvaraju strujni kr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obrada 50-70 kartica u minu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1896. Hollerith osniva kompaniju koja 1924. postaje 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23B-75DF-45B4-B909-0E7B0AC78CAA}" type="slidenum">
              <a:t>57</a:t>
            </a:fld>
          </a:p>
        </p:txBody>
      </p:sp>
    </p:spTree>
  </p:cSld>
  <p:transition advTm="180000"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aza elektroničke obrade podata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"/>
              </a:rPr>
              <a:t>ENIAC račun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(Electronic Numerical Integrator &amp; Calcul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Mauchly i Eckert, 194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koristila ga vojska za proračun balističkih tablica  top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temeljio se na decimalnom sustav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19000 elektronskih cijevi, 30 ton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U prostoriji od 1500 m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koristio vlastitu elektranu, jako se zagrijava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66"/>
                </a:solidFill>
                <a:latin typeface="Arial"/>
              </a:rPr>
              <a:t>promjena programa = prespajanje ž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7C9-E635-4047-A0AD-4D9E78CA6F9A}" type="slidenum">
              <a:t>58</a:t>
            </a:fld>
          </a:p>
        </p:txBody>
      </p:sp>
    </p:spTree>
  </p:cSld>
  <p:transition advTm="180000"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66"/>
                </a:solidFill>
                <a:uFillTx/>
                <a:latin typeface="Arial"/>
              </a:rPr>
              <a:t>UNIVAC - prvo komercijalno račun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Mauchly i Eckert, 1951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za obradu podataka izb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radilo je 12 godina, 24 sata na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Tvrtka Remington R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Cijena, sitnica,:  ~ 1 milijun. 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D87-AB36-4A03-8DD8-626A99435504}" type="slidenum">
              <a:t>59</a:t>
            </a:fld>
          </a:p>
        </p:txBody>
      </p:sp>
    </p:spTree>
  </p:cSld>
  <p:transition advTm="180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formatika - od 1950 znanstvena disciplina, akronim francuskih riječ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'INFORMATIQUE = L'INFORmation + L'auto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formacijska znanost - proučava komunikaciju pomoću informacija u društvu, te pritom istražuje izvore informacija, njihovu ogranizaciju, pretraživanje i upravljanje informacij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čunarska znanost (računarstvo, sinonim: informatik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avi se proučavanjem prikaza i strukturiranja informacija, algoritamskim procesima, hardverom i softve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950-328F-4EB7-B950-CACB7F57761D}" type="slidenum">
              <a:t>6</a:t>
            </a:fld>
          </a:p>
        </p:txBody>
      </p:sp>
    </p:spTree>
  </p:cSld>
  <p:transition advTm="180000">
    <p:zoom dir="in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ovijest razvoja računala i računanj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Ako zamislimo razvoj računala u rasponu jednog radnog dana u trajanju d 09.00 - 17.00 sati, ona je 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09.00 izumljen abakusu 16.30 izrađeno mehaničko računalo B. Pasc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.45 C. Babbage konstruira diferencijalni stro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.51 izišla prva generacija račun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.57 proizveden 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66"/>
                </a:solidFill>
                <a:latin typeface="Arial"/>
              </a:rPr>
              <a:t>16.59 stvorena većina kompjuterskih ig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DD7-34FF-465E-A3C5-8991764860D9}" type="slidenum">
              <a:t>60</a:t>
            </a:fld>
          </a:p>
        </p:txBody>
      </p:sp>
    </p:spTree>
  </p:cSld>
  <p:transition advTm="18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splozija znanja i informacijske tehnolog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na uloga znanja i informaci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judsko znanje udvostručeno od 1900-195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 tada se znanje udvostručuje svakih 5-8 god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ćenje znanja postaje nemoguće bez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u službi modernog poslo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zin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zanos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na vrijednost (zadovoljstvo, sigurno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DE8-3E84-439A-9A9C-97C19277F021}" type="slidenum">
              <a:t>7</a:t>
            </a:fld>
          </a:p>
        </p:txBody>
      </p:sp>
    </p:spTree>
  </p:cSld>
  <p:transition advTm="180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štenje informacijske tehnologije dovodi do promjena u načinu poslov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d u skupini (workgroups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islociranost članova  radne grup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d na daljin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vjeravanje poslova vanjskim organizacij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E48-8DA0-43DB-9A5B-AE89ACA48B58}" type="slidenum">
              <a:t>8</a:t>
            </a:fld>
          </a:p>
        </p:txBody>
      </p:sp>
    </p:spTree>
  </p:cSld>
  <p:transition advTm="18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formacijska tehnologija – strategijski aspekt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vorena su nova područja r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lektroničko poslovanje (publikacija, prodaja,   održavanje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lektroničko (svjetsko) tržište – virtualne    prodavaonice, u kojim informacije zamjenjuju fizičke proizvod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lektroničko izdavaštvo - pointcasting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ull/push tehnolog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F6B-6D5F-4F75-8534-2491D69E6C46}" type="slidenum">
              <a:t>9</a:t>
            </a:fld>
          </a:p>
        </p:txBody>
      </p:sp>
    </p:spTree>
  </p:cSld>
  <p:transition advTm="18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08:22:57Z</dcterms:created>
  <dc:creator>VBZ</dc:creator>
  <dc:description/>
  <dc:language>en-US</dc:language>
  <cp:lastModifiedBy>Mario</cp:lastModifiedBy>
  <dcterms:modified xsi:type="dcterms:W3CDTF">2006-01-22T11:43:28Z</dcterms:modified>
  <cp:revision>10</cp:revision>
  <dc:subject/>
  <dc:title>Primjena računala</dc:title>
</cp:coreProperties>
</file>