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609-919F-4554-A043-0025AA9B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3B9-9640-405C-8CBC-CC64B533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2E7-3746-47A9-BE44-51D97CB8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4FD-8837-4DF8-97E1-CCED7789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7895-6F47-4270-B8F4-4B06FCE9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99A-B634-4909-9A6E-4B78E33B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0AE-4188-4F5B-A2B0-712F74ED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86AB-A0B9-403C-B9BE-168B6C1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AFA6-C956-48B3-AF6E-67F799D2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3443-12CC-4D1A-A858-87B8EC3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F571-6309-4832-BD11-D7CFB69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ADE-61DC-4C2A-986F-1FE7D8B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04EC-9FBD-4272-AFC7-9FE8E64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68C0-D426-4B42-BA63-B96F6FE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0D39-E4BF-479B-B22E-23D536F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157-7AD0-4C26-9B77-7636999D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EB8A-F344-4FF9-A528-F9ADF1E6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C21-0D4E-4C1D-A945-C141E22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31B-3F70-44AF-ADB3-7466528B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049-C842-4AA4-B7A3-50D300C1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ECA-01AB-4926-820A-D5282DB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FFE-9D47-4905-9552-79F00AE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CA3-007F-4948-A5F8-D6DF2A7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57B-75AA-4D27-8BD0-D2B8943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2005/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ZAB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37E-445F-4BD8-9238-58B9B12BF64C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2005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ZABOK PPRIMJENA RAČU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2F4-7E73-4016-932A-5A70C40C567D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960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Informacijska znanos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b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08.12.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C53-BC07-4CB9-AD81-628F25A104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916280"/>
            <a:ext cx="5689800" cy="3673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89280" y="4848120"/>
            <a:ext cx="54259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6680" y="4178160"/>
            <a:ext cx="41911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t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2849400"/>
            <a:ext cx="419112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luč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alne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5173560"/>
            <a:ext cx="5030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52600" y="4846680"/>
            <a:ext cx="452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81200" y="4532400"/>
            <a:ext cx="40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6520" y="417348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06800" y="3849840"/>
            <a:ext cx="300348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840" y="2849400"/>
            <a:ext cx="1455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6960" y="5202360"/>
            <a:ext cx="1330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da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9160" y="4500720"/>
            <a:ext cx="302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21160" y="3797280"/>
            <a:ext cx="2162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n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6800" y="2492280"/>
            <a:ext cx="173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dr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5884560"/>
            <a:ext cx="81248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jerarhijska organizacija osnovnih elemenata informacijske zna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1C9-F3F4-4303-A114-5250F6630C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je komunikacij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182600" y="2546280"/>
            <a:ext cx="777240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munikacija je odašiljanje poruke iz jedne točke i njezino točno ili približno točno reproduciranje u dugoj toč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9880" y="4726080"/>
            <a:ext cx="282600" cy="282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0760" y="4726080"/>
            <a:ext cx="282600" cy="282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82840" y="4869000"/>
            <a:ext cx="4336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701-DCE3-4273-82E4-F7B4BD36817B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88360" y="3746520"/>
            <a:ext cx="68256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45320" y="3746520"/>
            <a:ext cx="68256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807920"/>
            <a:ext cx="77724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. Shannon i W. Weawer, Urbana, 1949., ovako vide komunikacijski pro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17640" y="3745080"/>
            <a:ext cx="682560" cy="682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3188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8880" y="3745080"/>
            <a:ext cx="682920" cy="6825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348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0480" y="3745080"/>
            <a:ext cx="682560" cy="682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1652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8120" y="4086360"/>
            <a:ext cx="92520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41760" y="4414320"/>
            <a:ext cx="0" cy="92556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00480" y="5383080"/>
            <a:ext cx="682560" cy="68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9560" y="3119400"/>
            <a:ext cx="17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Z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EDAJ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IJEM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16840" y="32734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DREDI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600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9320" y="44514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rimlj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97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3960" y="6072120"/>
            <a:ext cx="40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ZVOR Š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(buka u komunikacijskom kana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370400" y="2328480"/>
            <a:ext cx="319320" cy="2506680"/>
          </a:xfrm>
          <a:custGeom>
            <a:avLst/>
            <a:gdLst>
              <a:gd name="textAreaLeft" fmla="*/ 0 w 319320"/>
              <a:gd name="textAreaRight" fmla="*/ 115200 w 319320"/>
              <a:gd name="textAreaTop" fmla="*/ 65160 h 2506680"/>
              <a:gd name="textAreaBottom" fmla="*/ 2441520 h 250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5720" y="2987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omunikacijski k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889-0333-485F-8726-385CC3CD1EB2}" type="slidenum">
              <a:t>12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ahoma"/>
              </a:rPr>
              <a:t>Im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ošiljatelja (izvo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Medij i kanal (potporu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rimatelja (interpretator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960-4EFE-4665-ACB8-F7742BA29DB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ine komunikacijskog proc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Tehničk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točnost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nesenih simbol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tehnička kvaliteta medija (komunikacijskih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uređaja) i kan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emantičk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precizn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– identičan ili približno identičan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smisao poruke pošiljatelja i njezine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interpretacije kod prima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Biheviorističk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djelotvornost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učinak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oruke na prima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C4B-439A-408F-B6CA-C53DFEFF65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Za postizanje djelotvorne komunikacije (</a:t>
            </a:r>
            <a:r>
              <a:rPr b="1" lang="hr-HR" sz="3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) potrebno j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a medij i kanal (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 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šiljatelj i primatelj (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maju ili postignu zadovoljavajuću razinu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kapacitet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FC3-FC85-44C2-971A-6537E38830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pacit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nost medija i kanala da uspješno prenesu poruk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nost pošiljatelja i primatelja da uspješno kodiraju i dekodiraju poru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kapacitet utječ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hnički šum (medij / kanal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emantički šum (pošiljatelj / primatelj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6CB-1F63-40D4-A8A4-0BB195B1CB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munikacijski kanal ima cilj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manjiti šum 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ti kapaci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nnon i Weawer to gledaju kroz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lihost (engl. redundancy) (predvidljiv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tropiju (engl. entropy) (neizvjesn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090-F404-4790-AB2C-BD75EFA562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lihost i entropija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avodob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ski susta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9F1-25DA-499C-B4C6-D76068B53DA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cilju smanjenja šuma i povećanja kapaciteta Shannon i Weawer uveli su  termi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lihost (predvidljiv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ntropija (neizvjesno, nepredvidljiv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lihost i entropija u porukama se razliku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primatelja do prima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d jednog primatelja od poruke do poru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C07-BE91-41B3-A0F2-71B3626203D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erminologi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munikacijski proc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52A-98A9-4A50-A460-A71A3FDD6F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ahoma"/>
              </a:rPr>
              <a:t>Zalihost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Konvencionalna (st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Na razini 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ô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a (način zapis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Na razini sadržaja (ponavljanj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F54-B5BE-4FB7-9E1E-AD32F600F8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nnon i Weawer su utvrdili da z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tizanje djelotvorne komunikacije treba pronaći prikladan odnos zalihosti i entrop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iska zalihost + visoka entropija = niska djelotvornos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isoka zalihost + niska entropija = visoka djelotvornost,  ali i niska informativnost poru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dealan odnos, često, pola po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3DA-9E86-445F-98A2-1B11206E98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Za djelotvornu komunikaciju treb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dovezivati poruke na prethodno znanje/poruk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likovati poruke u skladu s kapacitetom medija/kanala i primatelja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stići relevantn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DF6-CEB0-4663-B263-232952D886A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elevant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e mjera djelotvornosti između izvora i odredišta u komunikacijskom procesu. relevantnost je od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aktično uspostavljanje selektivnih mehanizama u komunikacijskom proces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stav za pretraživanje informacija =  sustav za pretraživanj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relevantnih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informacija =&gt; selekcija unutar sustava, činitelj koji najviše utječe na relevant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CDA-0C71-4F2F-8522-C6D9AFDCAF8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elevant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e pronađene informacije nisu relevant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ad nisu pronađene sve relevantne inform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47640" y="4292640"/>
          <a:ext cx="6095880" cy="1581120"/>
        </p:xfrm>
        <a:graphic>
          <a:graphicData uri="http://schemas.openxmlformats.org/drawingml/2006/table">
            <a:tbl>
              <a:tblPr/>
              <a:tblGrid>
                <a:gridCol w="1584360"/>
                <a:gridCol w="1463760"/>
                <a:gridCol w="1633320"/>
                <a:gridCol w="141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k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evant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relevant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nađe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pronađe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A07-30A3-4D71-89E6-63B087E608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klad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ski upit ≠ informacijska potreb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ost povezuje dokumente s informacijskim upit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kladnost povezuje dokumente s informacijskom potreb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087-B503-41BC-9C9F-E2F9CCF736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klad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32720" y="229248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ska potr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8720" y="31399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ski up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01680" y="39322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n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4080" y="4724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etraž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4880" y="5516640"/>
            <a:ext cx="26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ezultat pre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(pronađeni dokum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66360" y="44370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elevan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5640" y="2781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ikla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4920" y="270828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4920" y="350028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4920" y="4292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4920" y="508464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249228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14200" y="24922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914200" y="335772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914200" y="580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92640" y="201744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26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dgovo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i i priklad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i i neprikladni prikladni i nerelevant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96B-4A92-40CA-ADBC-5A5EC1D1381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ustav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skup elemenata (odnosno komponenata sustava) organiziranih na određen način, koji zajedno postižu određeni cilj ili daju određeni rezult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Informacijski sustav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kuplja, pohranjuje, čuva, obrađuje i isporučuje informacije važne za organizaciju i društvo, tako da budu dostupne i upotrebljive za svakog tko se želi njima koristiti. Informacijski sustav aktivni je sustav tvrtke, institucije, koji se može, ali ne mora, koristiti informacijskom tehnologij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F08-DF5A-4E79-88D4-16F1F3319B5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19280" y="2228760"/>
            <a:ext cx="5977080" cy="28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039920" y="2568600"/>
            <a:ext cx="104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69640" y="4297320"/>
            <a:ext cx="1389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na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12480" y="3360600"/>
            <a:ext cx="1663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84440" y="3360600"/>
            <a:ext cx="1867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izvo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92360" y="3035160"/>
            <a:ext cx="648000" cy="3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3035160"/>
            <a:ext cx="432000" cy="3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08360" y="3597120"/>
            <a:ext cx="1638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72000" y="3020760"/>
            <a:ext cx="0" cy="127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3640" y="3812760"/>
            <a:ext cx="431640" cy="484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60880" y="3812760"/>
            <a:ext cx="374760" cy="484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50920" y="3597120"/>
            <a:ext cx="102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9840" y="3597120"/>
            <a:ext cx="102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89800" y="5378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granica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146720" y="5176800"/>
            <a:ext cx="363240" cy="37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5597640"/>
            <a:ext cx="45482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ki elementi – podsust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kružje – elementi izvan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679320" y="2584440"/>
            <a:ext cx="3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88200" y="2584440"/>
            <a:ext cx="3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7520" y="2340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100-C69F-4FBB-B421-5CCC201D340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33360" y="2570040"/>
            <a:ext cx="7188120" cy="38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57387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truktura informacijskog sust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345120" y="2733840"/>
            <a:ext cx="133128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AČU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86240" y="5178600"/>
            <a:ext cx="163476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MARKET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38160" y="5124600"/>
            <a:ext cx="1334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ADRO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2160" y="3557520"/>
            <a:ext cx="1142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O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2960" y="3533760"/>
            <a:ext cx="1060200" cy="642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NAB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623600" y="4449240"/>
            <a:ext cx="492120" cy="72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70320" y="3375000"/>
            <a:ext cx="1393560" cy="180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38400" y="4198680"/>
            <a:ext cx="2906640" cy="979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38400" y="5475240"/>
            <a:ext cx="1623960" cy="103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879560" y="3050640"/>
            <a:ext cx="178272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79560" y="3965400"/>
            <a:ext cx="4065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79560" y="4199040"/>
            <a:ext cx="2782800" cy="1137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9240" y="3051000"/>
            <a:ext cx="1585800" cy="48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4640" y="3375000"/>
            <a:ext cx="754200" cy="174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533920" y="4199040"/>
            <a:ext cx="787680" cy="925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47360" y="2654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 TVRT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304040" y="3279600"/>
            <a:ext cx="45720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317-C0E1-4E83-824F-00BEE8C20A6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898200"/>
            <a:ext cx="77929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stoji više pojmova u upotrebi, koji se odnose na informacijske znan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tik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cijska znanos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tolog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cijska tehnolog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čunal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DD5-6ACE-495D-BE74-616E6C7C2E3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lektronički - informacijski susta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aze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i za elektroničko upravljanje dokumentim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ladišta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udarenje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aze zn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i za upravljanje znanjem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pertni sust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EC5-8222-4123-BDBD-A8AFBDB5270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 skup podataka tako organiziran da je podacima moguće brzo pristupiti i raspoloživim ih metodama pretraživati, sortirati ili filtrir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aci su organizirani 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l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pi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tote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3D0-5360-4F8F-BAE3-6FA21D01B83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l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 najmanju jedinicu BP ili prostor rezerviran za pojedine podatke (ime, prezime, godina rođenja ...), ime + atribu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lja prema vrsti podataka mogu bi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avezna  (engl. required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obavezna  (engl. optional)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računata  (engl. calculat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403-CCB7-4AC4-BF5A-32365AC457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p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sastoji se od polja u kojim je logički povezan niz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atote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sastoji se od zapisa u kojoj su zapisi logički poveza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3A7-951F-4893-9106-FEE24EA996C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ipertekstualne B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vezuju disparatne obje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su pogodne za numeričke anal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aze podata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guće je koristiti s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stavom za upravljanje, (engl. Database Management System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upom programa kojim se spremaju, mijenjaju i izlučuju poda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876-23E4-4379-BA19-83458AC7E2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7961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gleski Electronic Document Management System (EDMS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ećina dokumenata danas je u e-oblic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-kataloz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okumenti moraju bi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jerodostojn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tpun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utentični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ržaj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005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B9B-EA14-4DD1-A125-31980B2502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okumenti su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bilježena komunikacija prepoznatljive strukture na bilo kojem mediju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umljiva bez daljnjeg procesiranja osim prikaza na ekranu ili ispisa na pap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eđutim, nisu svi dokumenti zapisi u arhivističkom ili pravnom smisl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299-D1C6-4371-BF76-46C0796FCEC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pisi s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Zabilježeni dokazi funkcij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jelovanja i transakcija tvrtki ili pojedina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ko bi bili dokazi zapisi moraj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mati sadržaj, strukturu i kontek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Biti dijelovi sustava za upravljanje zapis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64C-0EA0-42B2-A810-FC414AB72D5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kladišt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gleski (Data Warehous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kladište podataka pruža potporu pri odlučivanju a sastoji 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više objedinjenih BP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a za upravljanje skladištem podataka (engl. Warehouse Database Management Syste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E92-D9E8-4B3B-B30D-B1C90A4B4F6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udarenj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Često nazvano i podatkovno rudarenje (engl. Data Mining), a to je postupak po kome se otkrivaju skriveni odnosi u podaci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ncip ra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dvajanj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naliz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ključiv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A1B-9AEB-481F-9063-024861309CC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tik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inonim za AOP, koji se često poistovjećuje s informacijskom znanosti, a podrazumijeva sve vezano uz informacije i računa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cijska znano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nanstvena disciplina o informacijama u najširem smislu za koju je primjena kompjutora samo jedna od metoda i tehnika obrade informacij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0EF-9CD6-490B-A73F-7DA6DC30DC8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udarenj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naliza, ponekad modificiranje redoslijed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=&gt; baza izdvojenih podataka (engl. Data Mart -&gt; hrv. “tržište podataka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del predviđanja uspješnosti koji precizno formulira problem i njegovo rješenje pod uvjetom da ima dovoljno relevantnih podata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E4B-F99C-4FF2-B6C5-B96EEED36F6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zn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Z (KB) pretpostavlja postojanje dokumenata u elektroničkom oblik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ju “skupove zabilježenih podataka, istinitih tvrdnji i modela (zajedno s metapodcima o njihovoj provjeri), neistinitih tvrdnji i modela (zajedno s metapodcima o njihovom odbacivanju), metamodela i programa za upravljanje nj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D61-F965-49CE-972C-A5BF000EE3F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zn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okumenti + metapodaci + logičke tvrdnje =&gt; logički modeli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Analitička mreža istinitih i neistinitih tvrdnji i mode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024-7020-4B00-9477-B774F0C1AE0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upravljanje znanj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ngleski Knowledge Management System (KMS) ima cilj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žavati ravnotežu između implicitnog i eksplicitnog znan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smjeravati ta znanja tako da se postigne više inovacija i njima ostvari veća profitabilnost u institucij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26D-34A5-47EF-B142-481FED49685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upravljanje znanj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ces upravljanja znanjem tvori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talno i postojano međudjelovanje između agenata (djelatnika) čiji je cilj integracija raznih drugih agenata, komponenti i aktivnosti sustava za upravljanje znanjem u planirani i vođeni proces koji rezultira stvaranjem, održavanjem i poboljšanjem baze znanja samog sustava za upravljanje znan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97D-BD62-48CF-82F8-44C2E531EE0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kspertni susta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 računalni sustavi koji zamjenjuju eksperte ili im pomažu, pružaju potporu pri odlučivanju a pretpostavljaju postojanje sustava za upravljanjem znanja (KM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padaju području umjetne inteligen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maju široku primjen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edicinska dijagnosti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nancijska predviđ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đivanje ruta dostavnih vozila i 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5FC-D86C-453F-83A4-F026233B12D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42908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88808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456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44664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292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25464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3429000"/>
            <a:ext cx="914400" cy="609480"/>
          </a:xfrm>
          <a:prstGeom prst="flowChartMagneticDisk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88080" y="40780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995640" y="4078440"/>
            <a:ext cx="576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219280" y="4078440"/>
            <a:ext cx="647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7640" y="3429000"/>
            <a:ext cx="914400" cy="609480"/>
          </a:xfrm>
          <a:prstGeom prst="flowChartMagneticDisk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2205000"/>
            <a:ext cx="1062000" cy="757440"/>
          </a:xfrm>
          <a:prstGeom prst="flowChartMultidocument">
            <a:avLst/>
          </a:prstGeom>
          <a:solidFill>
            <a:srgbClr val="0033c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8808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00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69000" y="3429000"/>
            <a:ext cx="914400" cy="609480"/>
          </a:xfrm>
          <a:prstGeom prst="flowChartMagneticDisk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97360" y="2205000"/>
            <a:ext cx="1062360" cy="757440"/>
          </a:xfrm>
          <a:prstGeom prst="flowChartMultidocument">
            <a:avLst/>
          </a:prstGeom>
          <a:solidFill>
            <a:srgbClr val="0033cc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227640" y="40780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780000" y="299736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200640" y="177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97360" y="981000"/>
            <a:ext cx="1062360" cy="757440"/>
          </a:xfrm>
          <a:prstGeom prst="flowChartMultidocumen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887-0B11-4374-BEC8-DB6ECB1C07EF}" type="slidenum">
              <a:t>4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tologi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orija i praksa emisije, transmisije, akumulacije, selekcije i apsorpcije informa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cijska tehnolo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prega mikroelektronike, računala, telekomunikacija i kompjutorskih programa koja omogućuje unos, obradu i prijenos informacij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C76-07B5-40C0-84B3-85B9FD5EE6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Računalstvo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(računalna znanost) se bav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učavanjem prikaza i strukturiranja informac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lgoritamskim procesima za obradu informac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čunalnim sklopovljem (hardverom)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gramskom opremom (softvero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96F-1BED-48FD-82AF-A39FAE00E7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91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ežišt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nformacijske znanos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ije na softverskim i hardverskim problemima obrade i pretraživanja podataka, već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blemima razmjene i organizacije znanja općenit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nosno na problemima nabav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rganizacij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brad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djel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rištenja i vrednovanja obavijesti,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čunala su samo jedna od metoda i tehnika obrade informa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BB1-A54D-4438-9686-2408DB3B62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je informacij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e govori o zatrpanosti informacija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u informacija u centru pažnj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u potrebni informacijski stručnjac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etode klasifikacije podatak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rganizacija, prikaz informacija i zn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e polazi od podaka i preko informacija dolazi do znanja, mudros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959-395B-4873-B2DC-A1D9037155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dac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edstavljaju opažanja ili činjenice izvan konteksta, te stoga sami po sebi ne prenose značenj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nformaci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astaju kad se podaci stave u značenjski kontekst, često u obliku poru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nan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edstavljaju naša vjerovanja i vrednovanja koja se zasnivaju na smisleno organiziranom skupu informacija (poruka) do kojih dolazimo iskustvom, komunikacijom ili zaključivanj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udr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pametna uporaba znanja i odlučivanje na temelju sinteze znanja i iskustva, utemeljenih na moralnim norm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F86-210D-4839-904C-914E141309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5:25:46Z</dcterms:created>
  <dc:creator>VBZ</dc:creator>
  <dc:description/>
  <dc:language>en-US</dc:language>
  <cp:lastModifiedBy>Ivan Skoro</cp:lastModifiedBy>
  <dcterms:modified xsi:type="dcterms:W3CDTF">2005-12-08T10:48:24Z</dcterms:modified>
  <cp:revision>3</cp:revision>
  <dc:subject/>
  <dc:title>Informacijska znanost</dc:title>
</cp:coreProperties>
</file>