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1C9-1CDD-402D-9EBB-BDB3BCF7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0C2-9191-4F0D-9BD0-35EF839F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6A6-34BF-4D5D-ADDB-6F93A7C7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1CF-15A5-4DA6-8908-FD202547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B958-7A3C-40D9-8D18-E221EC7B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1C37-6E1C-4274-8896-2485D9D2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5D5A-E290-453F-B55C-EE39F4CE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A961-76A4-421C-A917-12F84D13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BAC0-FB91-439F-BF69-B05B159F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7E67-0D4E-4114-9D3E-20B3368F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A983-4A87-484C-9F48-84EACDFB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E05-DB27-4A73-9379-17999E09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664F-FB22-414D-828B-987FE2BE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B64E-2AB0-474E-AC59-13E1BE1D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4ABF-D134-4B62-B48A-BBEC038D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0125-C2D4-4C79-8571-E96D3204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EE40-75F4-43B1-A755-47317A74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1F7-9040-4765-8EED-F48FFCD7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903-FA11-4C74-949A-0F20F06E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191-1B49-4A65-A945-2FF18170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D71-F2AD-411C-95B2-79FD54CA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2C6-4745-4D59-8FA8-10918BE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D64-2B55-4150-BFB2-A989AD55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901-D543-4E00-8551-D52F638E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8582-1A8E-4AA8-BC3D-7EE1BD077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2C9A-3ECC-4731-A3B2-938E060BDC1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RMAKOLOGIJA BOL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2590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ain-man-women%20copy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16400" cy="28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86BD-1815-4773-8431-C3545ED3C14F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Mjesto djelovanj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1752480"/>
            <a:ext cx="2666880" cy="7621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OSFOLIPI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895480"/>
            <a:ext cx="2666880" cy="7621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RAHIDONSK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KISEL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514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36196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3276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3276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4419720"/>
            <a:ext cx="3504960" cy="761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UKOTRI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419720"/>
            <a:ext cx="3429000" cy="761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PROSTAGLANDI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581280"/>
            <a:ext cx="2362320" cy="7621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pooksigena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3581280"/>
            <a:ext cx="2514600" cy="7621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klooksigena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5334120"/>
            <a:ext cx="3581280" cy="990360"/>
          </a:xfrm>
          <a:prstGeom prst="ellipse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G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PG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mboksan, prostacik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C92-EDE8-40EB-8C00-FB6C79141ED5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ARACETA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SALICIL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IRAZOL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DERIVATI OCTENE KISELINE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- indometacin, diklofe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DERIVATI PROPIONSKE KISELINE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- ibupro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OKSIKAM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- piroksik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FENAM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ELEOKSI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05D-E181-400B-BE79-B8302A30CA7D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INHIBITORI PROSTAGLANDIN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PROTUUPAL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- pretežno COX-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ALGETSKI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- pretežno COX-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TIPIRETSK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198108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Djeluju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732-075E-4074-993C-5F339739C419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Ciklooksigenaz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zofor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OX 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konstruktivni enzim (citoprotektivni učinak u sluznici želuca, inhibicija agregacije tromboci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OX 2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izomer, enzim koji induciraju medijatori upale (IL-1, TNF, mitogen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C43-0939-4499-B5CA-2A45E80D391F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Prednosti selektivne </a:t>
            </a:r>
            <a:br>
              <a:rPr sz="3600"/>
            </a:b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inhibicije COX-2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odjednaka djelotvornost kao klasični NS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manjena učestalost nuspojava vezanih uz gastrointestinalni trak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9DF-65FA-4391-A1D1-5F680E70A778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bol2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2476800" cy="2438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Sekundarni analgetic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520" y="20570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ntidepres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ntiepilept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da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sihotropni lijek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ntimigren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išićni relaksa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Hladnoć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201-52F8-4B27-9044-7A8870D81662}" type="slidenum">
              <a:t>15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Definicija bol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(lat. dolor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Bol je neugodan osjetilni i emocionalni doživljaj povezan sa stvarnim ili potencijalnim oštećenjem tki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114800"/>
            <a:ext cx="7848720" cy="4572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029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finicija međunarodnog udruženja za istraživanje b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500-A6AD-4268-8A80-DA68C08EA4F0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Bol u ljudskom životu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66% ljudi barem jednom tijekom života osjeti 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40% ljudi osjeća bol koja traje 6 mjese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1/3 populacije industrijskih zemalja boluje od kronične b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15 - 20%  ljudi ima dugotrajnu 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ajčešće se radi o populaciji između 45 - 64 godine živ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019-B08D-4FA5-8E3B-373578FAC5E6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162920" y="2666880"/>
            <a:ext cx="1143000" cy="10670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819520"/>
            <a:ext cx="1143000" cy="1066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rovođenje osjeta bol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86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ocicep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pinalni živ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Kralježnična možd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alam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oždana k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2133720"/>
            <a:ext cx="990720" cy="914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743200"/>
            <a:ext cx="9907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3657600"/>
            <a:ext cx="114300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4114800"/>
            <a:ext cx="1143000" cy="1066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724280"/>
            <a:ext cx="1143000" cy="1067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5334120"/>
            <a:ext cx="1143000" cy="10666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5943600"/>
            <a:ext cx="761760" cy="60948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5410080"/>
            <a:ext cx="1143000" cy="1067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D9A-4B91-4B43-8220-438C9CFEAEEB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Vrste bol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MEHANI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ciceptorska - pobuđivanje nocicep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uropatska - poremećaji živčano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st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POVRŠIN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utana, epikritič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DUBO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matska i potpornih tkiva, protopat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VISCERAL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z tjelesnih šupljina u unutrašnje organe,   neprecizno prezenti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53B-B96E-4D63-97F8-70658D61E358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1219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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NALGETIC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manjuju osjet boli, ali          ne mijenjaju značajnije stanje svije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OPIOID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inhibiraju ili modificiraju prijenos bolnih impulsa u SŽ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0384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EOPIOIDNI ANALGETIC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sprečavaju nastajanje bolnih impulsa na periferi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A5D-F105-4662-8373-9CF5DCC1FF1C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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NKEFALI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metionin enkefalin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eucin enkef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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NDORFINI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endorf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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INORFI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dinorfin A i B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i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eoendorf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762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ENDOGENI OPIOI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FF9-1ABD-4C52-85D2-B26A3CBB465F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OPIOIDNI RECEPTORI 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- </a:t>
            </a:r>
            <a:r>
              <a:rPr b="0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, </a:t>
            </a:r>
            <a:r>
              <a:rPr b="0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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, </a:t>
            </a:r>
            <a:r>
              <a:rPr b="0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5840" y="1143000"/>
          <a:ext cx="74376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143000"/>
                    <a:ext cx="7437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D59-9C55-4B91-BFD4-F2E9AD5C5EEB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MORFIN - učinc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Analgezi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Eufori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Depresija respiraci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Depresija refleksa kašl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Mučn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Povraćan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Mioz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onus glatkih mišića u G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pazam sfinktera Odd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onus mokraćnog mjehur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Hipotenzi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Oslobađanje histam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105520" y="2057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05520" y="38858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FB0-8FAF-409E-8E04-D07117721C0D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3:13:41Z</dcterms:created>
  <dc:creator>Jelena</dc:creator>
  <dc:description/>
  <dc:language>en-US</dc:language>
  <cp:lastModifiedBy>KERAMEIKOS d.o.o.</cp:lastModifiedBy>
  <dcterms:modified xsi:type="dcterms:W3CDTF">2003-01-31T09:00:25Z</dcterms:modified>
  <cp:revision>16</cp:revision>
  <dc:subject/>
  <dc:title>FARMAKOLOGIJA BOLI</dc:title>
</cp:coreProperties>
</file>