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19600" y="6162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853240" y="6162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86440" y="6162840"/>
            <a:ext cx="9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45480" y="6162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967960" y="5840280"/>
            <a:ext cx="9360" cy="32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967960" y="61628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67960" y="6162840"/>
            <a:ext cx="9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8560" y="6168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MORAGIJSKE VRUĆ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nička slika – teži obl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-Šok, generalizirana krvarenja po sluznic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-Neurološki simptomi, zahvaćenost pluća, hematološki poremeća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-oštećenje jetre (rijetko zatajivanje, žutica – Ebola, žuta grozn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471600"/>
            <a:ext cx="89917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rt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5% to 20%, nekad ve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50% do 90% -epidemije Ebole u Afr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jagnoz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Leukociti –sniženi, normalni ili blago povišeni, obično neutrofil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Trombociti –obično sniž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oteinurija, hematur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višene vrijednosti jetrenih enz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iološka dijagnoz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ultivacija (3-10 dana, laboratoriji visokog stupnja biološke zašti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T-P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otutij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ELISA -IgM, IgG dina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ap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imptomat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akoknada krvnih derivata (SSP, koncentrati faktora zgrušavanja, tromboci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Etiološ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ibavirin (arena i bunyaviru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munoglobulini (argentinska, bolivijsk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en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će mj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jeplj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žuta groznica (obavezno u endemskim krajevima Afrike i J Amerik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MORAGIJSK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RUĆIC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BUBREŽN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DROM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471600"/>
            <a:ext cx="89917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V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andinavski t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ži obl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jska H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ži obl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Hemoragijske vruć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rusne bole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kutne febrilne bole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naci krvar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labost, malaksa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većana vaskularna permeabi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tencijalno biološko oruž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i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rodica Bunya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od Hanta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ru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Dobrava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Puumala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,  Hantaan, Seo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demi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irodnožarišna zoono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ezervoar mišoliki glodavci (poljski miševi, voluharice, štakori) –kronična infek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sanje aerosola zaraženog izlučevinama glodavaca (mokraća, slina, feces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ema interhumanog prijen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demi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ezonska pojav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ofesionalna bolest (vojnici, šumski radnici, izletnic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ralni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(silvatični-kod nas)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rbani i laboratorij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boljavaju muškarci (70%), iznimno dj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prostranjenost - R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o Ogulina i Slunja, Plitvička jezer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grebačka 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ic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a, Dinar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pad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von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oč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von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drav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eđimur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Moslav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nička slika – blaži obl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ntan opći algički sindrom i prolazno zatajivanje bub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ično bez hemoragijskih manifes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umala (PUU) 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ndinavij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nička slika – teži obl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tenzij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ve do š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i hemoragijski simpto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ikacij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taan (HTN),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s Dobrava (DOB) viru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nička slika - počet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kubacija 5 do 42 dana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a tjedna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agli poče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ći simptom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ok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eratur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bolovi mišića, osobito u leđima i križima, te bolovi u trbuhu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ke glavobolje, umor i mučnina, povraćanje ili proljev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aralni respiratorni simptomi (hunjavica, blaža grlobolja ili promuklost, kašalj, konjunktivit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zno crvenilo lica i vrata, te gornjeg dijela prsnog koš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nička slika – razvijena bol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tenzija, oligurija i drugi znakovi bubrežnog zataj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hijaln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rvarenja u koži i sluznic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festna krvarenja u drugim orga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nzatorna poliur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no dugo rekonvalescentno razdobl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nička slika – fa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Febriln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(3-7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Hipotenzivn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(1-2 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Oliguri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oliuričn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( 2 tj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Rekonvalescentna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(nekoliko tj.-mj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jagno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zročn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NK viru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rodice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Flavivir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Bunyvir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renavir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Filovirid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ap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imptomat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ibavir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471600"/>
            <a:ext cx="89917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99136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zročn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Lipidna ovoj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tabilni u kr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isoko infektivni i stabilni u aeroso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demi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ezervoar životinje - glodav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ij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ero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nsekti (komarac, krpel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nterhumani (krimsko-kongoanska, Lassa, Ebola, Marbu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471600"/>
            <a:ext cx="89917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</a:rPr>
              <a:t>Patogene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štećenje malih krvnih ž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većana permeabilnost krvnih ž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nička sl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rućica, slabost, mial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njekcija konjuktiva, blaga hipotenzija, crvenilo, peteh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20:24:37Z</dcterms:created>
  <dc:creator>.</dc:creator>
  <dc:description/>
  <dc:language>en-US</dc:language>
  <cp:lastModifiedBy>korisnik</cp:lastModifiedBy>
  <dcterms:modified xsi:type="dcterms:W3CDTF">2009-04-28T06:38:29Z</dcterms:modified>
  <cp:revision>22</cp:revision>
  <dc:subject/>
  <dc:title>HEMORAGIJSKE VRUĆICE</dc:title>
</cp:coreProperties>
</file>