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F2B6-5C9B-4525-B22F-5D1FD416441E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9FE6-0E68-4FB8-B94F-6FEB837A2D33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39800"/>
                <a:tab algn="l" pos="2050920"/>
                <a:tab algn="l" pos="24606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703B-28DB-425C-98EA-F5130861A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C9D6-C24C-40DF-A73C-3C071F85D311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39800"/>
                <a:tab algn="l" pos="2050920"/>
                <a:tab algn="l" pos="24606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FB5A-FEF9-4F62-8443-7F023631C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56ED-9A34-4777-BA24-D7E954E34855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39800"/>
                <a:tab algn="l" pos="2050920"/>
                <a:tab algn="l" pos="24606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A67F-1C88-45F6-BB26-AE09E7135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4678-0B83-490D-9D90-F212EF18BBC6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39800"/>
                <a:tab algn="l" pos="2050920"/>
                <a:tab algn="l" pos="24606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EFDB-2C5F-4E48-9A5B-84EF1B407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0783-4423-46B4-B8A1-A1309982DE70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39800"/>
                <a:tab algn="l" pos="2050920"/>
                <a:tab algn="l" pos="24606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7742-2D70-4092-BC4D-65FDA52CE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DF5B-4240-4DE9-AE58-21DA84DEF5AD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39800"/>
                <a:tab algn="l" pos="2050920"/>
                <a:tab algn="l" pos="24606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F7D4-A0ED-491B-A3A6-D165088BB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61C2-0975-4448-A31B-F3B2ADC42BC7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39800"/>
                <a:tab algn="l" pos="2050920"/>
                <a:tab algn="l" pos="24606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2CAC-F3C2-42C8-9315-F00E1592C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48E7-934E-49FF-9A1A-1A149E45BD6C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39800"/>
                <a:tab algn="l" pos="2050920"/>
                <a:tab algn="l" pos="24606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ACB4-3D4E-4C31-BDA6-3CE279FCE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F288-5568-42AC-B758-831ED318E8A9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39800"/>
                <a:tab algn="l" pos="2050920"/>
                <a:tab algn="l" pos="24606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8676-F242-4BE7-9728-DA1F04903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4270-A49B-4714-BA88-6DA1CE9E616F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39800"/>
                <a:tab algn="l" pos="2050920"/>
                <a:tab algn="l" pos="24606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5B9A-1A01-45BD-9E90-ADAFE2F8B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7CDB-712A-481B-A513-74EE9888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0983-5729-4DF3-BAEC-A0B287E0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1619-4483-40F8-8F01-9A4ABBAA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57DA-FECC-446C-958B-B037CC1E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E5CE-30FC-4084-AAE4-A13A78C5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B4C7-17BC-4026-8838-7084090B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97C4-E883-4F33-ABC7-32D9203F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0E66-9EBB-463B-8B20-858710E5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6F37-5E7B-45CD-BD5F-3B342D14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1753-BE1F-43EE-9BCA-40DB7EFE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9C0A-64B2-461C-AB53-C0944383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0374-6AD7-4940-97F5-C7B15829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14BE-7D34-4DDE-8DBE-BC921AD7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3B23-7FDB-4BC1-A5F6-1284ECBF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6F7D-6C1C-4098-A727-531A09F4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9953-A697-45AF-BDD7-64743883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85B7-0235-474D-9464-9AAF1E0F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CCC9-9D92-493A-B994-293827D8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ECC1-4C59-4076-9CEB-D67A4FAB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253E-F754-42F6-B031-7590FB80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3FBC-8538-4665-AE4B-25533568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B12A-EC31-4930-AE4E-E19B28EE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05D2-71AF-4393-A227-22D5942A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CB7F-D689-4C27-9667-D4538A3F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B06A-84F7-467E-8EAF-E7B8440757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19E9-7398-4351-B88E-4898A88E6F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ravopis.hr/ajax/rules-meta.php?type=S&amp;marker=14&amp;category=2" TargetMode="External"/><Relationship Id="rId3" Type="http://schemas.openxmlformats.org/officeDocument/2006/relationships/hyperlink" Target="http://pravopis.hr/ajax/rules-meta.php?type=N&amp;marker=4&amp;category=2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Morfološka norma</a:t>
            </a:r>
            <a:br>
              <a:rPr sz="4800"/>
            </a:br>
            <a:r>
              <a:rPr b="0" lang="en-US" sz="4800" spc="-1" strike="noStrike">
                <a:solidFill>
                  <a:srgbClr val="f47222"/>
                </a:solidFill>
                <a:latin typeface="Arial"/>
              </a:rPr>
              <a:t>imenice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r. sc. Lana Hudeč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0" y="830160"/>
            <a:ext cx="9142560" cy="2602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8226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3102120"/>
            <a:ext cx="395136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spriječi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sprečavati i sprječava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sprečavanje i sprječavan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48240" y="3039840"/>
            <a:ext cx="3952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unaprijedi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unapređivati i unaprjeđiva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unapređenje i unaprjeđen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1174680" y="1927080"/>
            <a:ext cx="633564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r-HR" sz="25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hr-HR" sz="25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r-HR" sz="25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hr-HR" sz="25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hr-HR" sz="25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A6BD-41F8-461E-9125-BECDFF8CF0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Kraćenje jata u dugoj množini imenica muškog rod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rijeg – bregovi/brjegovi – brije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nijeg – snjegovi - snije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crijep – crepovi/crjep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lijek – lijek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1C3F-A8AB-47F4-817B-02F46829D0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Kraćenje jata u umanjenicama na –ić, -ic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jev –cjevč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vijet –cvjeti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47222"/>
                </a:solidFill>
                <a:latin typeface="Arial"/>
              </a:rPr>
              <a:t>AL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jevka, cvijeta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E24A-5182-410D-9A96-E9589BED79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0" y="830160"/>
            <a:ext cx="9142560" cy="26028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endParaRPr b="0" lang="en-US" sz="3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alibi – alibija, alibiju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bonsai – bonsaija, bonsaiju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taksi – taksija, taksiju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reiki – reikija, reikiju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žiri – žirija, žiriju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moai – moaija, moaiju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56A7-4720-4EC9-BBA1-5FB9ED58A4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0" y="830160"/>
            <a:ext cx="9142560" cy="2602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endParaRPr b="0" lang="en-US" sz="3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979200" y="1665000"/>
            <a:ext cx="71182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tlee – Atleeja, Atleeju..., Atleej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ubai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– Dubaija, Dubaij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ddie – Eddieja, Eddieju..., Eddiej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ennedy – Kennedyja, Kennedyju..., Kennedyj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akai – Sakaija, Sakaiju..., Sakaij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erdi – Verdija, Verdiju..., Verdij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0E03-0FA6-4F27-A988-B9FB25F85A3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0" y="830160"/>
            <a:ext cx="9142560" cy="2602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9" name="Rezervirano mjesto sadržaja 2" descr=""/>
          <p:cNvPicPr/>
          <p:nvPr/>
        </p:nvPicPr>
        <p:blipFill>
          <a:blip r:embed="rId2"/>
          <a:stretch/>
        </p:blipFill>
        <p:spPr>
          <a:xfrm>
            <a:off x="1285920" y="1600200"/>
            <a:ext cx="6384960" cy="7095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Slika 3"/>
          <p:cNvPicPr/>
          <p:nvPr/>
        </p:nvPicPr>
        <p:blipFill>
          <a:blip r:embed="rId3"/>
          <a:stretch/>
        </p:blipFill>
        <p:spPr>
          <a:xfrm>
            <a:off x="457200" y="2644920"/>
            <a:ext cx="8043840" cy="37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9063-A3EF-4427-8F92-0ABA5CF45E4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enice na –io i -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457200" y="1600200"/>
          <a:ext cx="8229600" cy="5257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, Tokio, Mar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iforn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ja, Tokija, Mari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ifornij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ju, Tokiju, Marij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ifornij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, Tokio, Mari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ifornij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, Tokio, Mar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iforn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ju, Tokiju, Marij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ifornij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m/radijem, Tokiom/Tokijem, Mariom/Marij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iforni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8FA3-5F4C-4AC6-AA4A-7ABCCC1383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Kad je i u samoglasničkom skupu samo pravopisni znak, ne umeće se j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1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ffff"/>
                </a:solidFill>
                <a:latin typeface="Arial"/>
              </a:rPr>
              <a:t>N Perugia, G Perugie, </a:t>
            </a:r>
            <a:r>
              <a:rPr b="0" lang="hr-HR" sz="4800" spc="-1" strike="noStrike">
                <a:solidFill>
                  <a:srgbClr val="f47222"/>
                </a:solidFill>
                <a:latin typeface="Arial"/>
              </a:rPr>
              <a:t>D Perugi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47222"/>
                </a:solidFill>
                <a:latin typeface="Arial"/>
              </a:rPr>
              <a:t> </a:t>
            </a:r>
            <a:r>
              <a:rPr b="0" lang="hr-HR" sz="4800" spc="-1" strike="noStrike">
                <a:solidFill>
                  <a:srgbClr val="ffffff"/>
                </a:solidFill>
                <a:latin typeface="Arial"/>
              </a:rPr>
              <a:t>Boccaccio, G Boccaccia, D Boccacci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6F2B-584C-472B-A5C0-D0FA501802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suđenice na -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47222"/>
                </a:solidFill>
                <a:latin typeface="Arial"/>
              </a:rPr>
              <a:t>N kapučino, G kapučina, D kapučinu …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(mn. Kapučini i kapuči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47222"/>
                </a:solidFill>
                <a:latin typeface="Arial"/>
              </a:rPr>
              <a:t>N dingo, G dinga, D dingu ….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(mn. ding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ko se naglasak u izvornome jeziku nalazi na zadnjemu slogu, nastavak se dodaje na završno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–o (sako, nivo, makr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47222"/>
                </a:solidFill>
                <a:latin typeface="Arial"/>
              </a:rPr>
              <a:t>N sako, G sakoa, D sakou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r-HR" sz="2800" spc="-1" strike="noStrike">
                <a:solidFill>
                  <a:srgbClr val="f47222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Računalni naziv makro koji je nastao skraćivanjem naziva makronaredba ne ulazi u tu kategoriju (nema naglasak na zadnjemu slogu te ga treba sklanjati makro – makra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2B90-4F49-4B6C-A8EF-3778E9B493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enice </a:t>
            </a: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mater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 </a:t>
            </a: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kć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menica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sklanja se u jednini: N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G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e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D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V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L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I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om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a u množini: N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e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G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D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am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e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V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e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L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am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I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teram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menica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sklanja se u jednini: N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G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D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V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L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I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a u množini: N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G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D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m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V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L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m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I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im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sklonidbi tih imenica najčešće se griješi tako da se umjesto nominativa upotrebljava akuzativ i obrnuto.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grješno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je: *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To mi je mater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 *Vidim njegovu mat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ravilno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je: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To mi je mati, Upoznao sam njegovu mater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. Također je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grješno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: *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To mi je kćer, *Upoznao sam njegovu kć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ravilno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je: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To mi je kćer, Upoznao sam njegovu kć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mjesto imenice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i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e treba upotrebljavati imenicu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erk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jer ta imenica ne pripada hrvatskome standardnom jeziku. Usp.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Kći / kćer / kćerk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581E-D3F5-4065-A397-AA6341FC33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0" y="830160"/>
            <a:ext cx="9142560" cy="260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997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Imenice na –tac, -tak, -dac, -dak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449080"/>
            <a:ext cx="395136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bi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hi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ja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ku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le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me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48240" y="2383920"/>
            <a:ext cx="39528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mla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pa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pe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svi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te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zaci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A4B2-FAAC-4787-8184-7DF4DA29615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enica zajutrak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371600" y="1600200"/>
          <a:ext cx="5486400" cy="4830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ra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k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aka, zajutrak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ci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ra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č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ci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k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utarci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2340-EF91-4096-8FDC-72D84236B9F6}" type="slidenum">
              <a:t>20</a:t>
            </a:fld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klanjanje ime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 Matea, Tea, G Matee, Tee, D Matei, T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 Mateo, G Matea, D Mat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 Marko, G Marka, D Mar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 Drago, G Drage, D Dra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 Mile, G Mile, D Mi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 Miro, G Mire, D Mi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AD6D-9E73-44FB-98E5-8E9F16F53C1D}" type="slidenum">
              <a:t>21</a:t>
            </a:fld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klanjanje ime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eka se višerječna imena mogu sklanjati bez ikakvih problema. To su uglavnom imena gradova i država (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New  Jersey, Santa Barbara, San Francisco, Fort North, West Point, New York, New Mexico, Rhode Island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, a neka, npr. imena nekih ustanova, časopisa i sl. dovode do nedoum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držao je predavanje na Department of Education // Departmentu of Education // </a:t>
            </a:r>
            <a:r>
              <a:rPr b="0" lang="hr-HR" sz="2400" spc="-1" strike="noStrike">
                <a:solidFill>
                  <a:srgbClr val="f47222"/>
                </a:solidFill>
                <a:latin typeface="Arial"/>
              </a:rPr>
              <a:t>odsjeku Department of Education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io je član Mathematical Society of Japan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// Mathematical Societyja of Japan  // </a:t>
            </a:r>
            <a:r>
              <a:rPr b="0" lang="hr-HR" sz="2800" spc="-1" strike="noStrike">
                <a:solidFill>
                  <a:srgbClr val="f47222"/>
                </a:solidFill>
                <a:latin typeface="Arial"/>
              </a:rPr>
              <a:t>društva Mathematical Society of Jap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22A8-8C1F-4301-AE6C-9712060F2B34}" type="slidenum">
              <a:t>22</a:t>
            </a:fld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klanjanje ime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Latinska se imena ne sklanjaju (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Fundamenta Mathematica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), np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47222"/>
                </a:solidFill>
                <a:latin typeface="Arial"/>
              </a:rPr>
              <a:t>Članak je objavljen u</a:t>
            </a:r>
            <a:r>
              <a:rPr b="0" i="1" lang="hr-HR" sz="3200" spc="-1" strike="noStrike">
                <a:solidFill>
                  <a:srgbClr val="f47222"/>
                </a:solidFill>
                <a:latin typeface="Arial"/>
              </a:rPr>
              <a:t> Fundamenta Mathematica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, ili bolj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47222"/>
                </a:solidFill>
                <a:latin typeface="Arial"/>
              </a:rPr>
              <a:t>Članak je objavljen u časopisu</a:t>
            </a:r>
            <a:r>
              <a:rPr b="0" i="1" lang="hr-HR" sz="3200" spc="-1" strike="noStrike">
                <a:solidFill>
                  <a:srgbClr val="f47222"/>
                </a:solidFill>
                <a:latin typeface="Arial"/>
              </a:rPr>
              <a:t> Fundamenta Mathematica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47222"/>
                </a:solidFill>
                <a:latin typeface="Arial"/>
              </a:rPr>
              <a:t>Slušao sam Carmina burana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3E9B-64C9-4711-B4B4-00DD5837B21A}" type="slidenum">
              <a:t>23</a:t>
            </a:fld>
          </a:p>
        </p:txBody>
      </p: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od imenic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l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h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u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kav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boj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jen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r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4087-0A79-4C62-8451-EC4D9083AEAD}" type="slidenum">
              <a:t>24</a:t>
            </a:fld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menice na -ar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362320" y="1752480"/>
          <a:ext cx="3657600" cy="438120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rib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 riba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 ribar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riba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 ribare, ribar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 ribar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ibarem, ribar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2115-0959-468B-9078-0880933AD2A7}" type="slidenum">
              <a:t>25</a:t>
            </a:fld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nstrumental imenica ženskog roda i-sklonidb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sti, košć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rvi, krvlj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ti, mašć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ječi, riječj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6ABD-4946-427E-B8DE-DB89FDDFF0C8}" type="slidenum">
              <a:t>26</a:t>
            </a:fld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itiv množine imenica na -k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ntelektualka, intelektual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resaka, breskva, bresk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rušaka, kruška, kruš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ljuljačaka, ljuljačka, ljuljač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8C2C-9B0C-4BB7-9826-2BC12C591EF1}" type="slidenum">
              <a:t>27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0" y="830160"/>
            <a:ext cx="9142560" cy="2602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8226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hr-HR" sz="2900" spc="-1" strike="noStrike">
                <a:solidFill>
                  <a:srgbClr val="dfdef6"/>
                </a:solidFill>
                <a:latin typeface="Arial"/>
              </a:rPr>
              <a:t>dvosložne riječi:</a:t>
            </a:r>
            <a:br>
              <a:rPr sz="2900"/>
            </a:br>
            <a:endParaRPr b="0" lang="en-US" sz="29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2449080"/>
            <a:ext cx="395136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bit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hit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jad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kut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let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met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48240" y="2383920"/>
            <a:ext cx="39528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3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lat(d)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pat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pet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svit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tetc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Arial"/>
              </a:rPr>
              <a:t>zadci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3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784B-1AD5-4AB7-81E3-E8378C18B4D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Imenice na –tac, -tak, -dac, -dak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hodak – dohodci, izvadak – izvadci, desetak – desetci, dobitak – dobitci, dodatak – dodatci, dovršetak – dovršetci, gubitak – gubitci, imetak – imetci, izuzetak – izuzetci 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napitak – napitci, nedostatak – nedostatci, ostatak – ostatci, otpadak – otpadci, podatak – podatci, probitak – probitci, svršetak – svršetci, trenutak – trenutci, užitak – užitci, zadatak – zadatci, zgoditak – zgoditci, želudac – želudci 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96BF-2B51-4AFC-83F9-CF5C88C032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od iznimno čestih višesložnih riječi zbog tradicijskih je razloga i čestoće uporabe dopušteno i izostavljanje t i d: deseci, dobici, dodaci, dohoci, dovršeci, gubici, imeci, izuzeci, izvaci, napici, nedostaci, ostaci, otpaci, podaci, probici, svršeci, trenuci, užici, zadaci, zgodici te želuci. Isto se pravilo odnosi i na izvedenice od tih riječi, npr. preostatak – preostaci, zaostatak – zaosta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čin na koji se riječ zapisuje ne utječe na izgovor riječ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BFA1-A7EF-4FBE-8011-3EB8B31913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0" y="830160"/>
            <a:ext cx="9142560" cy="2602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8226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(a ne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2449080"/>
            <a:ext cx="395136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brijeg: brežuljak, bregov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brijest: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brestić, brestov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rijep: crepić, crep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rijemati: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remljiv, dremuck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grijeh: greška, pogreš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krijepiti: krepak, krepost, okrepljivati, okre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naprijed: napredak, naprednost, napredovati, naprednjač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ijek: naprečac, prečica, opreka, prepreka, zapre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ivrijediti: privreda, privredni, privredn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48240" y="2383920"/>
            <a:ext cx="39528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strijela: strelica, streljaštvo, streljač, strelj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trijebiti: istrebljenje, istrebljiv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trijeska: trešč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upotrijebiti: upotreba, upotrebljiv, upotrebljivost, zloupotre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vrijediti: povređivati, povreda, uvreda, vredniji, vrednov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vrijeme: vremena; vremenski, poluvremena, nevrem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ždrijeb: ždreba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ždrijebe: ždrebeta; ždreb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31FA-3515-4BEF-93AB-28716A8427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0" y="830160"/>
            <a:ext cx="9142560" cy="26028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Picture 6" descr="Slika 6"/>
          <p:cNvPicPr/>
          <p:nvPr/>
        </p:nvPicPr>
        <p:blipFill>
          <a:blip r:embed="rId2"/>
          <a:stretch/>
        </p:blipFill>
        <p:spPr>
          <a:xfrm>
            <a:off x="457200" y="1805040"/>
            <a:ext cx="804384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1A62-BD17-4030-B3BE-A03E096B76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0" y="830160"/>
            <a:ext cx="9142560" cy="2602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8226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3102120"/>
            <a:ext cx="395136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brijeg – bregovi i brjegov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crijep – crepovi i crjepov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krijes – kresovi i krjesov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48240" y="3039840"/>
            <a:ext cx="3952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grijeh – grehovi i grjehovi (uz češće grijes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vrijes – vresovi i vrjesov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ždrijeb – ždrebovi i ždrjebov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1174680" y="1927080"/>
            <a:ext cx="633564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r-HR" sz="25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hr-HR" sz="25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r-HR" sz="25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hr-HR" sz="25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hr-HR" sz="25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18A0-AE73-4BBC-9DBB-D07D14F6AA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0" y="830160"/>
            <a:ext cx="9142560" cy="26028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8226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3102120"/>
            <a:ext cx="395136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ffff"/>
                </a:solidFill>
                <a:latin typeface="Arial"/>
              </a:rPr>
              <a:t>bezgrešan i bezgrješa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900" spc="-1" strike="noStrike">
                <a:solidFill>
                  <a:srgbClr val="ffffff"/>
                </a:solidFill>
                <a:latin typeface="Arial"/>
              </a:rPr>
              <a:t>grešan i grješa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552600"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06840" y="3105000"/>
            <a:ext cx="39528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ffff"/>
                </a:solidFill>
                <a:latin typeface="Arial"/>
              </a:rPr>
              <a:t>grešnica i grješnic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900" spc="-1" strike="noStrike">
                <a:solidFill>
                  <a:srgbClr val="ffffff"/>
                </a:solidFill>
                <a:latin typeface="Arial"/>
              </a:rPr>
              <a:t>grešnik i grješni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1174680" y="1927080"/>
            <a:ext cx="633564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r-HR" sz="25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hr-HR" sz="25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r-HR" sz="25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hr-HR" sz="25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hr-HR" sz="25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7CBA-7FD0-4F6A-BDBC-27B701CC0EA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1:58:06Z</dcterms:created>
  <dc:creator>Milica</dc:creator>
  <dc:description/>
  <dc:language>en-US</dc:language>
  <cp:lastModifiedBy>Damir Hudeček</cp:lastModifiedBy>
  <dcterms:modified xsi:type="dcterms:W3CDTF">2013-11-05T03:00:22Z</dcterms:modified>
  <cp:revision>131</cp:revision>
  <dc:subject/>
  <dc:title>Terminološki problemi pri prevođenju</dc:title>
</cp:coreProperties>
</file>